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D6BD-D56C-4C04-8FBA-173F463A48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машнее задание родителям: разработать безопасный маршрут от дома к школе, к библиотеке и прочее, изучить его вместе с ребёнком; обсудить «Дорожные ловуш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7DC-4671-4FCB-87A7-698A9EAF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A1C-22DA-42EB-A090-57E5C56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E89-4F8E-4122-85EC-4E40BCDE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633-7D79-4B77-8F5D-DB7855C5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C38F-7CB1-458B-AC1C-0FF3948A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9DB3-C0BE-43FC-B71E-7C5A6CB9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0873-AB01-409F-AE54-4C21442F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F782-FC63-4378-9CB3-75ACB0C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A280-A293-474C-9B32-3C4326C1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352-84B6-4F46-B5B1-E8F3C3F0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43BD-D901-4286-A545-9D1F6A9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545-D29E-43F7-8DC6-C96CC570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BEAE-A468-439C-9D70-F81390EF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01D7-7EED-4F20-A851-CF8457D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61C0-E9D3-4B79-B62A-2B9432B0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F2F8-E419-49D1-9A4D-51D1FF2D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42E3-9640-44B3-AD0C-B6C130DF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17D-C306-4DEB-BF17-D3C5CC8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183-E94D-4E49-A3D2-5E03603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36B-5BA6-491B-A392-82BA4A1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090-8537-4C8B-A823-E0266AA0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7DD-E773-4141-A07F-72077DEE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5FC-E489-40DE-BB5D-6D77935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CA7-0705-4D14-AE3C-20C3619E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3DDC-2511-4B4C-8F9C-0F1502831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23A3-C375-4DB4-8B3F-8EF809D30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7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Родители –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за безопасность движен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5157360"/>
            <a:ext cx="7488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ькина Анжела Владимировн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оспитательной рабо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клеина Елена Владимировн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4508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333360"/>
            <a:ext cx="849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с углубленным изучени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дельных предметов № 1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ода Кирово-Чепецка Киров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11280" y="2708280"/>
            <a:ext cx="828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ю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1844280"/>
            <a:ext cx="7850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напомнить о правилах безопасного движения на дорогах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и о роли родителей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в воспитании у детей уважительного отношения к ПДД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58920" y="404640"/>
            <a:ext cx="76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Цель собрания</a:t>
            </a:r>
            <a:r>
              <a:rPr b="1" i="1" lang="en-US" sz="4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799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лан собрания</a:t>
            </a:r>
            <a:br>
              <a:rPr sz="18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ровести анкетирование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казать подборку фотоматериалов дорожно – транспортных происшест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знакомить родителей с памяткой и дать советы по безопасности дорожного дви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ровести выставку детских плакатов, рисунков, сочинений по ПД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редложить различные дорожные ситуации, способствующие закреплению знаний, умений и навыков безопасного поведения детей на дор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ривести статистические данные по городу за последний месяц,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244440"/>
            <a:ext cx="7583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85080" y="4869000"/>
            <a:ext cx="107964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773360"/>
            <a:ext cx="73440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Зона остановки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опасное для ребёнка место.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тоящий автобус сокращает обзор дороги в этой зоне как водителям проходящих машин, так и пешеход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ешеходы часто спешат и ребёнка могут столкнуть на проезжую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2050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Зона остановки –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опасно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для ребёнка мест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244440"/>
            <a:ext cx="7583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При выходе из автобу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первыми всегда выходят взрослы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 принимают ребё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 противном случа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бёнок может упа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ли побежать на проезжую часть дор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11280" y="184464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При выход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из автобуса первыми всегда выходят взрослы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0074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Не выходите с ребёнком из-за машины, кустов, не осмотрев предварительно дороги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жно легко не заметить маши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 разными предметами на ули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асто скрывается опасност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844640"/>
            <a:ext cx="777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е выходите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с ребёнком из-за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машины, кустов,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е осмотрев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предварительно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дорог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1844640"/>
            <a:ext cx="7920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Привлекайте ребён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к участию в ваших наблюдения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за обстановкой на дорог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казывайте ему те машин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оторые готовятся поворачи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едут с большой скор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бстановка на дороге и ули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жет измен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бенок должен быстр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риентироваться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437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205000"/>
            <a:ext cx="8064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Привлекайте ребёнка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к участию в ваших наблюдениях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за обстановкой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а дорог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2276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имер родителей – один из основных факторов успешного воспитания у детей навыков безопасного поведения на ули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заботьтесь о своих детях, об их безопасн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учите их не допускать ошибок на улицах и дорогах жиз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они позаботятся о вашей спокойной старости в будущ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Домашнее задани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работать вместе с ребёнком  безопасный маршрут от дома до магазина, школы, библиотек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очитать и обсудить памятку и «Дорожные ловуш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3240360" cy="2154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8:24:15Z</dcterms:created>
  <dc:creator>АНДРЮХА</dc:creator>
  <dc:description/>
  <dc:language>en-US</dc:language>
  <cp:lastModifiedBy>АНДРЮХА</cp:lastModifiedBy>
  <dcterms:modified xsi:type="dcterms:W3CDTF">2007-10-17T17:21:50Z</dcterms:modified>
  <cp:revision>23</cp:revision>
  <dc:subject/>
  <dc:title>Слайд 1</dc:title>
</cp:coreProperties>
</file>