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C2C-4617-4C0A-83E5-BF6615575C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 родителям: разработать безопасный маршрут от дома к школе, к библиотеке и прочее, изучить его вместе с ребёнком; обсудить «Дорожные ловуш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989-D717-4CB0-BF9D-BDA7F6C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A8A-19E9-4A94-8F63-1B7BF83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1E6-6DD4-4D1E-B61D-2DC980E2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6C6-F77F-4CC7-91CB-6F56A45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AC2-C900-46A1-9C11-2A337DED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67FD-D3F0-4A61-B7BE-C4B3A2B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3CBB-1F2D-403A-91C7-4D92423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3F3A-BBC7-4E01-A8B0-BD4E2E23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D30-B2DF-432A-8C93-08782F1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FBA4-5840-4E9A-8AE2-E7870950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1C7-27A8-4988-9310-65B4D81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E8C-EB1F-43C2-8A58-B019916B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46EF-B197-49D4-8DC5-32220CA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7653-02AC-49DA-BCEC-2712A06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81CA-0AF2-4124-9F43-01F284C0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1814-413F-4011-8EF9-E5B38DE1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E90-AD55-4096-A449-D7E2D749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3C8-9D48-4BA6-8B2F-FDC3EE74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8E5-04A3-47CF-B37C-3DF7C4C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08E-77EF-4DD7-86C8-ACC3DC59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A88-B63D-458F-BA2B-39DD30A4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434-88EE-4A91-86CD-A8FAEC89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B03-5AD2-4373-92B9-EA5F38B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972-C518-42A2-921B-5B4E9644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E943-048A-471A-98CF-AD5CE75D4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797-30BD-44FA-81A0-2CC1A585F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7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Родители –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за безопасность движе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5157360"/>
            <a:ext cx="748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ькина Анжел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оспитательной рабо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клеина Елен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33336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с углубленным изучени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дельных предметов № 1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ода Кирово-Чепецка Киров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11280" y="2708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844280"/>
            <a:ext cx="7850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напомнить о правилах безопасного движения на дорогах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и о роли родителей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 воспитании у детей уважительного отношения к ПДД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40464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Цель собрания</a:t>
            </a:r>
            <a:r>
              <a:rPr b="1" i="1" lang="en-US" sz="4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799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 собрания</a:t>
            </a:r>
            <a:br>
              <a:rPr sz="18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овести анкетирование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казать подборку фотоматериалов дорожно – транспортных происшест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знакомить родителей с памяткой и дать советы по безопасности дорожного дви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овести выставку детских плакатов, рисунков, сочинений по ПД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едложить различные дорожные ситуации, способствующие закреплению знаний, умений и навыков безопасного поведения детей на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ривести статистические данные по городу за последний месяц,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85080" y="4869000"/>
            <a:ext cx="107964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773360"/>
            <a:ext cx="7344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опасное для ребёнка место.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оящий автобус сокращает обзор дороги в этой зоне как водителям проходящих машин, так и пешеход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ешеходы часто спешат и ребёнка могут столкнуть на проезжую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205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опасно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для ребёнка мест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ри выходе из автобу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ервыми всегда выходят взрослы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 принимают ребё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противном случа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ёнок может упа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ли побежать на проезжую часть дор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1280" y="184464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При выход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из автобуса первыми всегда выходят взросл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0074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Не выходите с ребёнком из-за машины, кустов, не осмотрев предварительно дорог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но легко не заметить маши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 разными предметами на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асто скрывается опасност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84464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выходите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с ребёнком из-з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машины, кустов,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осмотрев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едварительно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дор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а обстановкой на дорог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казывайте ему те машин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торые готовятся поворачи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дут с большой скор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становка на дороге и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ет измен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енок должен быст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риентироваться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43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205000"/>
            <a:ext cx="8064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за обстановкой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а дорог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227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 родителей – один из основных факторов успешного воспитания у детей навыков безопасного поведения на ул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заботьтесь о своих детях, об их безопас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учите их не допускать ошибок на улицах и дорогах жиз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они позаботятся о вашей спокойной старости в будущ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Домашнее зада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работать вместе с ребёнком  безопасный маршрут от дома до магазина, школы, библиоте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очитать и обсудить памятку и «Дорожные ловуш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15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8:24:15Z</dcterms:created>
  <dc:creator>АНДРЮХА</dc:creator>
  <dc:description/>
  <dc:language>en-US</dc:language>
  <cp:lastModifiedBy>АНДРЮХА</cp:lastModifiedBy>
  <dcterms:modified xsi:type="dcterms:W3CDTF">2007-10-17T17:21:50Z</dcterms:modified>
  <cp:revision>23</cp:revision>
  <dc:subject/>
  <dc:title>Слайд 1</dc:title>
</cp:coreProperties>
</file>