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74F7-ECAC-4FC2-B27B-9A9ED0EED2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машнее задание родителям: разработать безопасный маршрут от дома к школе, к библиотеке и прочее, изучить его вместе с ребёнком; обсудить «Дорожные ловуш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E2A3-47A0-46A8-947B-FE157425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CB11-17BB-4EE0-9465-DD278B67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BC9C-6566-4577-B4F0-90D430D7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4538-AED4-4A11-B3D3-3787FFA5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B520-0A64-4DE6-8917-7230EA2F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85EE-816D-4D35-B632-73D3CD48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0BD5-73F0-40D1-9F0E-A636C741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193E-5917-40B9-901C-EC126441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8081-99EF-4CC0-9D25-3ED6C423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D4F0-2C80-4878-831B-88135105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0428-A12C-439D-90F5-41BB5F98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0073-A205-4D1D-AD77-0228EF3F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9A76-E996-4C0E-A310-2651C2A0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515D-DB3A-46F7-883E-A6615CC5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D980-E75F-4F1F-A2B8-3010EE7D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0088-531A-4CF3-86AA-4861CAEB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2B2F-E910-4655-A8F7-2BCB6FC7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17D-8CD1-4ED0-9FD3-E3D7784F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DEF1-2F95-411D-809D-4E9B301F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FFC1-FA1D-4206-B115-77DDE282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593-2F8C-43E9-AA6D-8FDF59C5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62C-79EC-4656-820D-D68565BB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7FEC-DE6D-4BE1-A985-081C20ED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7436-D90A-4F2F-B35F-C9485468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3F95-BE74-498F-A432-DC156F2016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40E5-67A9-46EA-9F51-EC2871D8E3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77744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 Black"/>
              </a:rPr>
              <a:t>Родители – 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Arial Black"/>
              </a:rPr>
              <a:t>за безопасность движения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86920" y="5157360"/>
            <a:ext cx="7488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87760" indent="0">
              <a:lnSpc>
                <a:spcPct val="8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лькина Анжела Владимировна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меститель директо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87760" indent="0">
              <a:lnSpc>
                <a:spcPct val="8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воспитательной работ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87760" indent="0">
              <a:lnSpc>
                <a:spcPct val="8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587760" indent="0">
              <a:lnSpc>
                <a:spcPct val="8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аклеина Елена Владимировна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45086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дительское собр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333360"/>
            <a:ext cx="849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яя общеобразовательная школа с углубленным изучение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дельных предметов № 12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рода Кирово-Чепецка Кировской обла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11280" y="2708280"/>
            <a:ext cx="82803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агодарю 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1844280"/>
            <a:ext cx="7850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напомнить о правилах безопасного движения на дорогах </a:t>
            </a:r>
            <a:br>
              <a:rPr sz="3600"/>
            </a:b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и о роли родителей </a:t>
            </a:r>
            <a:br>
              <a:rPr sz="3600"/>
            </a:b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в воспитании у детей уважительного отношения к ПДД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560" cy="1557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58920" y="404640"/>
            <a:ext cx="76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</a:rPr>
              <a:t>Цель собрания</a:t>
            </a:r>
            <a:r>
              <a:rPr b="1" i="1" lang="en-US" sz="48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7799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План собрания</a:t>
            </a:r>
            <a:br>
              <a:rPr sz="18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Провести анкетирование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оказать подборку фотоматериалов дорожно – транспортных происшеств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Ознакомить родителей с памяткой и дать советы по безопасности дорожного движ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Провести выставку детских плакатов, рисунков, сочинений по ПД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Предложить различные дорожные ситуации, способствующие закреплению знаний, умений и навыков безопасного поведения детей на доро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Привести статистические данные по городу за последний месяц,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560" cy="155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244440"/>
            <a:ext cx="7583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</a:rPr>
              <a:t>Советы родителям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885080" y="4869000"/>
            <a:ext cx="1079640" cy="1800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1560" cy="1557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1773360"/>
            <a:ext cx="734400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Зона остановки –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опасное для ребёнка место.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тоящий автобус сокращает обзор дороги в этой зоне как водителям проходящих машин, так и пешеход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ешеходы часто спешат и ребёнка могут столкнуть на проезжую ча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220500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Arial"/>
              </a:rPr>
              <a:t>Зона остановки –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Arial"/>
              </a:rPr>
              <a:t>опасное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Arial"/>
              </a:rPr>
              <a:t>для ребёнка мест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8560" y="244440"/>
            <a:ext cx="7583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</a:rPr>
              <a:t>Советы родителям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При выходе из автобу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первыми всегда выходят взрослые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и принимают ребён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В противном случа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ребёнок может упа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или побежать на проезжую часть доро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560" cy="1557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11280" y="1844640"/>
            <a:ext cx="8351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Arial"/>
              </a:rPr>
              <a:t>При выходе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Arial"/>
              </a:rPr>
              <a:t>из автобуса первыми всегда выходят взрослы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7280" y="244440"/>
            <a:ext cx="765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</a:rPr>
              <a:t>Советы родителям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800748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Не выходите с ребёнком из-за машины, кустов, не осмотрев предварительно дороги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Можно легко не заметить маши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За разными предметами на улиц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часто скрывается опасность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560" cy="1557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1844640"/>
            <a:ext cx="77756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Не выходите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с ребёнком из-за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машины, кустов,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не осмотрев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предварительно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дорог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00000" y="1844640"/>
            <a:ext cx="7920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Привлекайте ребён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к участию в ваших наблюдения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за обстановкой на дороге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оказывайте ему те машин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оторые готовятся поворачива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едут с большой скор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бстановка на дороге и улиц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может измени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Ребенок должен быстр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ориентироваться в любой ситу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560" cy="1557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7280" y="244440"/>
            <a:ext cx="765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</a:rPr>
              <a:t>Советы родителям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443700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2205000"/>
            <a:ext cx="80647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Привлекайте ребёнка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к участию в ваших наблюдениях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за обстановкой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Arial"/>
              </a:rPr>
              <a:t>на дорог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2276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</a:rPr>
              <a:t>Внимание!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ример родителей – один из основных факторов успешного воспитания у детей навыков безопасного поведения на улиц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озаботьтесь о своих детях, об их безопасност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Научите их не допускать ошибок на улицах и дорогах жизн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И они позаботятся о вашей спокойной старости в будущ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56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7280" y="244440"/>
            <a:ext cx="765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</a:rPr>
              <a:t>Домашнее задани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азработать вместе с ребёнком  безопасный маршрут от дома до магазина, школы, библиотек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очитать и обсудить памятку и «Дорожные ловуш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3240360" cy="21542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1560" cy="155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8:24:15Z</dcterms:created>
  <dc:creator>АНДРЮХА</dc:creator>
  <dc:description/>
  <dc:language>en-US</dc:language>
  <cp:lastModifiedBy>АНДРЮХА</cp:lastModifiedBy>
  <dcterms:modified xsi:type="dcterms:W3CDTF">2007-10-17T17:21:50Z</dcterms:modified>
  <cp:revision>23</cp:revision>
  <dc:subject/>
  <dc:title>Слайд 1</dc:title>
</cp:coreProperties>
</file>