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C9D1-FC07-4AC1-83A8-E961085D3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067D-3BFF-433D-B733-4B1FBB60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EAFD-41A8-4479-AD3F-0099BCD7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E307-D6E0-45D9-8364-E656CE10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937B-DA1F-4A70-9EE1-4C1632B3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4406-9E04-4CC0-B54F-4EB8CB79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3DAB-3289-4357-A982-E837CEF8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136B-34EA-47BD-AA2F-9F97C9D5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4150-FBF0-4AEB-A883-747537B9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52DD-A673-4A5C-8AE5-563222E7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5089-896F-41FB-8AB9-465019AB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07CD-59E1-4331-9231-C0B60D99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1732-C564-4C76-9FB3-BDC93ADCC3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prezentacii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Поколение КОМП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Превращаем компьютер из врага в соратни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G:\собрания\28jpg.gif"/>
          <p:cNvPicPr/>
          <p:nvPr/>
        </p:nvPicPr>
        <p:blipFill>
          <a:blip r:embed="rId1"/>
          <a:stretch/>
        </p:blipFill>
        <p:spPr>
          <a:xfrm>
            <a:off x="1187280" y="2492280"/>
            <a:ext cx="6769440" cy="396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Чтобы не засосал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пустим, глаза, руки, ноги ребенка мы уберегли. Но остается еще и 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психика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сделать так, чтобы ребенок не ушел с головой в киберпространство и не променял родителей на виртуальных монстров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К сожалению, это – реальная опасность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" descr="G:\собрания\remont_kompyuterov_i_noutbukov_23169135_1_F.jpg"/>
          <p:cNvPicPr/>
          <p:nvPr/>
        </p:nvPicPr>
        <p:blipFill>
          <a:blip r:embed="rId1"/>
          <a:stretch/>
        </p:blipFill>
        <p:spPr>
          <a:xfrm>
            <a:off x="1908000" y="1600200"/>
            <a:ext cx="5328000" cy="4924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емь шагов к спасению от компьютероман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амим ориентироваться в том, что интересно ребенк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 можно больше времени проводить вмест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ервое время сидеть за компьютером вместе, тогда машина не станет для него большим авторитето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ольше разговаривайте с ребенко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ививайте ребенку «компьютерный вкус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 покупайте жестокие игр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 забывайте, что дети по-прежнему с удовольствием рисуют, раскрашивают, играют с друзьями, лепят, занимаются спорто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Кстат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125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сихологи, к которым обращаются родители компьютерных маньяков, часто советуют приобрести ребенку собаку – она как ничто другое помогает вырвать малыша из компьютерного ми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User\Desktop\200400806-001-410x230.jpg"/>
          <p:cNvPicPr/>
          <p:nvPr/>
        </p:nvPicPr>
        <p:blipFill>
          <a:blip r:embed="rId1"/>
          <a:stretch/>
        </p:blipFill>
        <p:spPr>
          <a:xfrm>
            <a:off x="2987640" y="3716280"/>
            <a:ext cx="5688000" cy="295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еальные минус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Diagram 5"/>
          <p:cNvGrpSpPr/>
          <p:nvPr/>
        </p:nvGrpSpPr>
        <p:grpSpPr>
          <a:xfrm>
            <a:off x="739800" y="1712880"/>
            <a:ext cx="7670160" cy="4140720"/>
            <a:chOff x="739800" y="1712880"/>
            <a:chExt cx="7670160" cy="4140720"/>
          </a:xfrm>
        </p:grpSpPr>
        <p:sp>
          <p:nvSpPr>
            <p:cNvPr id="71" name="_s1028"/>
            <p:cNvSpPr/>
            <p:nvPr/>
          </p:nvSpPr>
          <p:spPr>
            <a:xfrm flipH="1" flipV="1">
              <a:off x="3042720" y="3191760"/>
              <a:ext cx="768960" cy="33552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29"/>
            <p:cNvSpPr/>
            <p:nvPr/>
          </p:nvSpPr>
          <p:spPr>
            <a:xfrm>
              <a:off x="1303920" y="2320920"/>
              <a:ext cx="1954800" cy="10749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Бесконтрольная работа 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ухудшает зр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30"/>
            <p:cNvSpPr/>
            <p:nvPr/>
          </p:nvSpPr>
          <p:spPr>
            <a:xfrm flipH="1">
              <a:off x="2665800" y="3980160"/>
              <a:ext cx="955800" cy="12204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1"/>
            <p:cNvSpPr/>
            <p:nvPr/>
          </p:nvSpPr>
          <p:spPr>
            <a:xfrm>
              <a:off x="739800" y="3685680"/>
              <a:ext cx="1954800" cy="10749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Человек ведё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малоподвижный образ жизни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32"/>
            <p:cNvSpPr/>
            <p:nvPr/>
          </p:nvSpPr>
          <p:spPr>
            <a:xfrm flipH="1">
              <a:off x="3725280" y="4344480"/>
              <a:ext cx="423000" cy="48600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33"/>
            <p:cNvSpPr/>
            <p:nvPr/>
          </p:nvSpPr>
          <p:spPr>
            <a:xfrm>
              <a:off x="2329200" y="4778640"/>
              <a:ext cx="1954800" cy="10749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Отрицательн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воздейству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на нервную систему человек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34"/>
            <p:cNvSpPr/>
            <p:nvPr/>
          </p:nvSpPr>
          <p:spPr>
            <a:xfrm>
              <a:off x="4995000" y="4344480"/>
              <a:ext cx="426240" cy="48600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35"/>
            <p:cNvSpPr/>
            <p:nvPr/>
          </p:nvSpPr>
          <p:spPr>
            <a:xfrm>
              <a:off x="4871880" y="4776840"/>
              <a:ext cx="1954800" cy="10753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Большой процент информ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несёт в себе неэтическ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или аморальное  содержание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36"/>
            <p:cNvSpPr/>
            <p:nvPr/>
          </p:nvSpPr>
          <p:spPr>
            <a:xfrm>
              <a:off x="5522040" y="3981960"/>
              <a:ext cx="955800" cy="11844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37"/>
            <p:cNvSpPr/>
            <p:nvPr/>
          </p:nvSpPr>
          <p:spPr>
            <a:xfrm>
              <a:off x="6455160" y="3682440"/>
              <a:ext cx="1954800" cy="10749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Существуют вирусы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портящие компьютеры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38"/>
            <p:cNvSpPr/>
            <p:nvPr/>
          </p:nvSpPr>
          <p:spPr>
            <a:xfrm flipV="1">
              <a:off x="5335200" y="3191760"/>
              <a:ext cx="765720" cy="33552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39"/>
            <p:cNvSpPr/>
            <p:nvPr/>
          </p:nvSpPr>
          <p:spPr>
            <a:xfrm>
              <a:off x="5887800" y="2319120"/>
              <a:ext cx="1954800" cy="107532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Есть игры пропагандирующ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насилие. Игры поглощающ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в себя играющего человека.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040"/>
            <p:cNvSpPr/>
            <p:nvPr/>
          </p:nvSpPr>
          <p:spPr>
            <a:xfrm flipV="1">
              <a:off x="4572000" y="2786040"/>
              <a:ext cx="0" cy="54000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041"/>
            <p:cNvSpPr/>
            <p:nvPr/>
          </p:nvSpPr>
          <p:spPr>
            <a:xfrm>
              <a:off x="3595680" y="1712880"/>
              <a:ext cx="1954800" cy="10749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Желание общаться больше с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виртуальными ил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незнакомыми людьми, че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с живущими рядом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42"/>
            <p:cNvSpPr/>
            <p:nvPr/>
          </p:nvSpPr>
          <p:spPr>
            <a:xfrm>
              <a:off x="3595680" y="3326400"/>
              <a:ext cx="1954800" cy="107496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Компьютер в современном мир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емительное развитие новых информационных технологий оказывает многогранное воздействие на культурный уровень человека. Поэтому знание ПК имеет очень большое значение в современной жизни, т. к. компьютерная грамотность стала частью общей культуры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Компьютер – дру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ый помощник в учебе, работе и отдых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легчает поиск и получение необходимой и своевременной информ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огает в общении между людь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еальные плюс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Diagram 5"/>
          <p:cNvGrpSpPr/>
          <p:nvPr/>
        </p:nvGrpSpPr>
        <p:grpSpPr>
          <a:xfrm>
            <a:off x="541440" y="1726200"/>
            <a:ext cx="8069040" cy="4116240"/>
            <a:chOff x="541440" y="1726200"/>
            <a:chExt cx="8069040" cy="4116240"/>
          </a:xfrm>
        </p:grpSpPr>
        <p:sp>
          <p:nvSpPr>
            <p:cNvPr id="92" name="_s2052"/>
            <p:cNvSpPr/>
            <p:nvPr/>
          </p:nvSpPr>
          <p:spPr>
            <a:xfrm flipH="1" flipV="1">
              <a:off x="2964240" y="3196080"/>
              <a:ext cx="808200" cy="3337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2053"/>
            <p:cNvSpPr/>
            <p:nvPr/>
          </p:nvSpPr>
          <p:spPr>
            <a:xfrm>
              <a:off x="1135080" y="2330640"/>
              <a:ext cx="2057040" cy="10684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Доступнос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полезно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информации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054"/>
            <p:cNvSpPr/>
            <p:nvPr/>
          </p:nvSpPr>
          <p:spPr>
            <a:xfrm flipH="1">
              <a:off x="2567520" y="3980520"/>
              <a:ext cx="1005480" cy="12096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55"/>
            <p:cNvSpPr/>
            <p:nvPr/>
          </p:nvSpPr>
          <p:spPr>
            <a:xfrm>
              <a:off x="541440" y="3687840"/>
              <a:ext cx="2056320" cy="10684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Ес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развивающ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и обучающ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игры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056"/>
            <p:cNvSpPr/>
            <p:nvPr/>
          </p:nvSpPr>
          <p:spPr>
            <a:xfrm flipH="1">
              <a:off x="3682440" y="4342320"/>
              <a:ext cx="444960" cy="4831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057"/>
            <p:cNvSpPr/>
            <p:nvPr/>
          </p:nvSpPr>
          <p:spPr>
            <a:xfrm>
              <a:off x="2213280" y="4773600"/>
              <a:ext cx="2056320" cy="10688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Помощ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при стихий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бедствия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058"/>
            <p:cNvSpPr/>
            <p:nvPr/>
          </p:nvSpPr>
          <p:spPr>
            <a:xfrm>
              <a:off x="5018400" y="4342320"/>
              <a:ext cx="447480" cy="4831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059"/>
            <p:cNvSpPr/>
            <p:nvPr/>
          </p:nvSpPr>
          <p:spPr>
            <a:xfrm>
              <a:off x="4888080" y="4772160"/>
              <a:ext cx="2056320" cy="10684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Заказы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и покупк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через Интерне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060"/>
            <p:cNvSpPr/>
            <p:nvPr/>
          </p:nvSpPr>
          <p:spPr>
            <a:xfrm>
              <a:off x="5572800" y="3981960"/>
              <a:ext cx="1005480" cy="11808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2061"/>
            <p:cNvSpPr/>
            <p:nvPr/>
          </p:nvSpPr>
          <p:spPr>
            <a:xfrm>
              <a:off x="6553440" y="3684600"/>
              <a:ext cx="2057040" cy="10684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Существую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програм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улучшающ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зрение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062"/>
            <p:cNvSpPr/>
            <p:nvPr/>
          </p:nvSpPr>
          <p:spPr>
            <a:xfrm flipV="1">
              <a:off x="5375520" y="3196080"/>
              <a:ext cx="805680" cy="3337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2063"/>
            <p:cNvSpPr/>
            <p:nvPr/>
          </p:nvSpPr>
          <p:spPr>
            <a:xfrm>
              <a:off x="5957280" y="2328840"/>
              <a:ext cx="2056320" cy="10684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Можно храни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много информации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064"/>
            <p:cNvSpPr/>
            <p:nvPr/>
          </p:nvSpPr>
          <p:spPr>
            <a:xfrm flipV="1">
              <a:off x="4572720" y="2793240"/>
              <a:ext cx="0" cy="53676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2065"/>
            <p:cNvSpPr/>
            <p:nvPr/>
          </p:nvSpPr>
          <p:spPr>
            <a:xfrm>
              <a:off x="3546360" y="1726200"/>
              <a:ext cx="2056320" cy="106848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Быстрая 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дешёвая отправ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сообщени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2066"/>
            <p:cNvSpPr/>
            <p:nvPr/>
          </p:nvSpPr>
          <p:spPr>
            <a:xfrm>
              <a:off x="3546360" y="3330360"/>
              <a:ext cx="2056320" cy="106848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Компьютер в школ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явление ПК в образовательных учреждениях дает возможность формировать у детей стиль мышления, адекватный требованиям современного информационного общ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огает направить интерес к освоению компьютера детьми в нужное русло, сделать его орудием для познания и творчества реб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Новые образовательные стандар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ые стандарты обучения предполагают совершенствование образовательных программ, а также использование новых информационных средств обучения (средства ИКТ).  Эти средства необходимы для развития познавательной деятельности,  в современных условиях играют важную роль и в подготовке учащихся к продолжению образования в профессиональной шк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«Человек будет преобразовывать не только Землю, но и существо, не исключая самого себя… 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И человека неизбежно ждет эта судьба, это преобразование… 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Автоэволюция (саморазвитие), вплоть до превращения в космическое существо»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                                   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К.Э. Циолковск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Что может компьюте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052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формление открыток, приглашений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аботка и дизайн печатной продук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ление и оформление фотоальбом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ие видеоотчетов, видеофильм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ие презентаций и т. 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C:\Users\User\Desktop\Оформление фотоальбома.jpg"/>
          <p:cNvPicPr/>
          <p:nvPr/>
        </p:nvPicPr>
        <p:blipFill>
          <a:blip r:embed="rId1"/>
          <a:stretch/>
        </p:blipFill>
        <p:spPr>
          <a:xfrm>
            <a:off x="2340000" y="3645000"/>
            <a:ext cx="6192720" cy="302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Компьютер-ребенок-родител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вместная работа поможет не только сплотить детей и родителей, но и стать новой семейной традицией. Даст возможность почувствовать себя единым целым, что очень важно при воспитании ребенка. Поможет лучше узнать друг друга, так как сотворчество и сотрудничество – идеальный стиль взаимоотношений в семье, которые помогут воспитать самодостаточного, духовно богатого, творческого человек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</a:rPr>
              <a:t>Вывод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льзя забывать о том, что все хорошо в меру. Добрые замечательные игры, столь полезные для людей, могут стать и вредными для них. Слишком длительное нахождение перед компьютером может привести к ухудшению зрения, а также к психологической зависимости от виртуального мира. Но те, кто не пренебрегает правилом золотой середины во всем, таких проблем никогда не испытает. И компьютер для них будет только друго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сё в ваших руках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G:\собрания\8f63368f6d1b.jpg"/>
          <p:cNvPicPr/>
          <p:nvPr/>
        </p:nvPicPr>
        <p:blipFill>
          <a:blip r:embed="rId1"/>
          <a:stretch/>
        </p:blipFill>
        <p:spPr>
          <a:xfrm>
            <a:off x="684360" y="1773360"/>
            <a:ext cx="7775280" cy="482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Презентация подготовлена учителем начальных классов ГОУ СОШ №534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Calibri"/>
              </a:rPr>
              <a:t>Макаровой Ириной Валерьевно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Calibri"/>
              </a:rPr>
              <a:t>2011го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Рамка 3"/>
          <p:cNvSpPr/>
          <p:nvPr/>
        </p:nvSpPr>
        <p:spPr>
          <a:xfrm>
            <a:off x="3780000" y="6381720"/>
            <a:ext cx="2286000" cy="4287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rezentaci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реден ли ребенку компьюте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 на этот вопрос очевиден: компьютер ребенку вреден. Но поскольку жизнь сложилась так, что мы с вами уже не умеем обходиться без компьютера, давайте обсудим возможности сократить вред, причиняемый ребенку компьютером, и попытаемся научить своих детей помимо вреда извлекать из дружественной машины пользу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Здоровье ребенка и компьюте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удно представить современный обучающий процесс и досуг ребенка без этой чудо – маши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bandb.ru/news-foto-2008/Trigem-Lluon-B2.jpg"/>
          <p:cNvPicPr/>
          <p:nvPr/>
        </p:nvPicPr>
        <p:blipFill>
          <a:blip r:embed="rId1"/>
          <a:stretch/>
        </p:blipFill>
        <p:spPr>
          <a:xfrm>
            <a:off x="1547640" y="3141720"/>
            <a:ext cx="5905800" cy="3530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одителей волнует безопасность ребенка у монитора, влияние излучения на здоровье и развит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" descr="G:\собрания\i_001.png"/>
          <p:cNvPicPr/>
          <p:nvPr/>
        </p:nvPicPr>
        <p:blipFill>
          <a:blip r:embed="rId1"/>
          <a:stretch/>
        </p:blipFill>
        <p:spPr>
          <a:xfrm>
            <a:off x="971640" y="2330280"/>
            <a:ext cx="7200720" cy="426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Монитор и зре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изучении влияния электромагнитного излучения на орган зрения оператора, исследователи не обнаружили вредного воздействия этого излучения на гла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ден не столько монитор и его мифические излучения, сколько зрительное утомление, вызываемое работой за компьютер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Компьютер и позвоночни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ще всего страдают спины пользователей и их руки (кист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пятому классу 60 – 70% школьников имеют сколио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Поможет правильная посадка при работе за компьютер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граничения времени работы за компьютером в зависимости от возра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G:\собрания\36_31_02.jpg"/>
          <p:cNvPicPr/>
          <p:nvPr/>
        </p:nvPicPr>
        <p:blipFill>
          <a:blip r:embed="rId1"/>
          <a:stretch/>
        </p:blipFill>
        <p:spPr>
          <a:xfrm>
            <a:off x="1116000" y="148428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равила, которые обезопасят здоровье вашего юного г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людайте чувство ме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дыхайте не от ребенка, а с ребен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мя должно быть строго регламентирова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делай пауз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тимальные настройки монито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ильная частота обновления экра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8:10:31Z</dcterms:created>
  <dc:creator>Файл скачан с сайта http://psy.5igorsk.ru;Psy.5igorsk.ru - первый психологический портал г.Пятигорска</dc:creator>
  <dc:description/>
  <dc:language>en-US</dc:language>
  <cp:lastModifiedBy>Admin</cp:lastModifiedBy>
  <dcterms:modified xsi:type="dcterms:W3CDTF">2012-10-09T07:54:20Z</dcterms:modified>
  <cp:revision>43</cp:revision>
  <dc:subject/>
  <dc:title>Слайд 1</dc:title>
</cp:coreProperties>
</file>