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449-35E6-4189-BCEC-3EF982AD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97E-E0E0-4F55-90A5-A41C10E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A42-F6C8-42D4-A286-0792F998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56E-33FD-46FD-A8FD-E9DA4425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5DD-7A52-464D-926E-0908CF4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0E7-430F-4BF6-9D68-F288E2F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90C-F37C-4823-B03E-DEE2E0A9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E59-2F71-46CB-A020-8BA59D1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0E2-A9B6-4BA3-A381-E4556A54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90F-A932-4933-8CCA-149774A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0E4-931B-4995-8ED7-73B02EB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BE1-2592-41C5-B85C-9AEB678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4CD-98FB-4F72-A10B-FBE56180B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1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G:\собрания\remont_kompyuterov_i_noutbukov_23169135_1_F.jpg"/>
          <p:cNvPicPr/>
          <p:nvPr/>
        </p:nvPicPr>
        <p:blipFill>
          <a:blip r:embed="rId1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User\Desktop\200400806-001-410x230.jpg"/>
          <p:cNvPicPr/>
          <p:nvPr/>
        </p:nvPicPr>
        <p:blipFill>
          <a:blip r:embed="rId1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1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2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User\Desktop\Оформление фотоальбома.jpg"/>
          <p:cNvPicPr/>
          <p:nvPr/>
        </p:nvPicPr>
        <p:blipFill>
          <a:blip r:embed="rId1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G:\собрания\8f63368f6d1b.jpg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Рамка 3"/>
          <p:cNvSpPr/>
          <p:nvPr/>
        </p:nvSpPr>
        <p:spPr>
          <a:xfrm>
            <a:off x="3780000" y="638172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bandb.ru/news-foto-2008/Trigem-Lluon-B2.jpg"/>
          <p:cNvPicPr/>
          <p:nvPr/>
        </p:nvPicPr>
        <p:blipFill>
          <a:blip r:embed="rId1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G:\собрания\i_001.png"/>
          <p:cNvPicPr/>
          <p:nvPr/>
        </p:nvPicPr>
        <p:blipFill>
          <a:blip r:embed="rId1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я времени работы за компьютером в зависимости от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G:\собрания\36_31_02.jpg"/>
          <p:cNvPicPr/>
          <p:nvPr/>
        </p:nvPicPr>
        <p:blipFill>
          <a:blip r:embed="rId1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Файл скачан с сайта http://psy.5igorsk.ru;Psy.5igorsk.ru - первый психологический портал г.Пятигорска</dc:creator>
  <dc:description/>
  <dc:language>en-US</dc:language>
  <cp:lastModifiedBy>Admin</cp:lastModifiedBy>
  <dcterms:modified xsi:type="dcterms:W3CDTF">2012-10-09T07:54:20Z</dcterms:modified>
  <cp:revision>43</cp:revision>
  <dc:subject/>
  <dc:title>Слайд 1</dc:title>
</cp:coreProperties>
</file>