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634-7B08-45E8-AF6E-EC0023BF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E9C-4E59-45C0-9ADC-8C50C68F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039-B5A5-4EA3-9C3C-3C5E244C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14F-568D-4A58-BF97-2896D28D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35A-5B9E-48F2-87E2-EFECC6FB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F0E-D495-4F0C-9EA4-913F571F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C0A-DA3D-49D5-AF06-93F0A7E8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412-A12D-4CA1-A0E1-6D8F9B04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95D-947D-4B2E-A8F1-E74A6974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8A6-A361-493D-A216-7740244B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6A3-1B24-4E2F-AAE4-CE8A929B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815-35CF-4244-A363-2B61F8A9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441E-5C2A-4D7D-9F73-38F489764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80880" y="-39600"/>
            <a:ext cx="845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МУНАЛЬНОЕ ГОСУДАРСТВЕННОН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ОБРАЗОВАТЕЛЬНАЯ СРЕДНЯЯ ШКОЛА №19 Г.ТЕМИРТ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796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914400" y="457200"/>
            <a:ext cx="76960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ти повышен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ффективности уроков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ической культуры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724280" y="52578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 учителей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полнил: учитель физической культуры Дейнека И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4572000" y="642924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36440" y="11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1276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ИЗАЦИЯ И ПРОВЕДЕНИЕ УРОКО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УРЫ ИГРОВОЙ НАПРВЛЕН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-9216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-90720" y="1332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-90000" y="1484280"/>
            <a:ext cx="94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лавная направленность уроков, построенных на материале волейбол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действовать решению задач физического воспитания школьников сред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лейбола, обучить основам навыков этой игры и привить привычку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ятиям физическими упражнениями. При проведении уроков по волейболу дол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храняться черты, присущие игровому методу: сюжетная организация действ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вышенная заинтересованность, создание условий для самостоя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шений и проявления инициативы. При обучении игровым приёмам необходи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70% общего времени урока отводить упражнениям с мячом. И как закреп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военного материала проводить соревнования. Помимо соревнований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лейболу необходимо проводить соревнования по физической подготовке,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ершенствованию технике игры между группами и внутри гру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2127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914400" y="0"/>
            <a:ext cx="72961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РГАНИЗАЦИЯ ИССЛЕДОВА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228600" y="762120"/>
            <a:ext cx="8686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НАЛИЗ НАУЧНО-МЕТОДИЧЕСКОЙ ЛИТЕРАТУРЫ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-92160" y="125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-88920" y="1332000"/>
            <a:ext cx="921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анализе научно-методической литературы по изучаемой проблеме 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матривала мнения относительно мотивов и потребностей учащих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личных  (в том числе игровых) формах двигательной активности, изуч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зрастную динамику физической подготовленности и состояния здоров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ьников, а также вопросы распределения учебного материала по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льтуре в школьных программах, включая проблемы организации и постро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ков физкультуры игровой направленности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364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5"/>
          <p:cNvSpPr txBox="1"/>
          <p:nvPr/>
        </p:nvSpPr>
        <p:spPr>
          <a:xfrm>
            <a:off x="1752480" y="3429000"/>
            <a:ext cx="5181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НКЕТИРОВАНИ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62280" y="3922560"/>
            <a:ext cx="90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игательная активность, мотивации к занятиям физическими упражнен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учётом возраста, пола и уровня физической подготовленности учас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следования изучались с помощью анкетирования. Физическая актив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ьников изучалась по таким параметрам, как вид спорта, мотивация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ятиям, регулярность, частота занятий, организационные формы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амостоятельная, дома с родителями, в школьной секции и т.д. Так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ализировалось мнение учащихся о целесообразности занятий тем или и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идам 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127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457200" y="152280"/>
            <a:ext cx="8381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ОЕ НАБЛЮДЕНИЕ И ЭКСПЕРИМЕНТ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-92160" y="609480"/>
            <a:ext cx="938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ротяжении всего периода исследований были организованы система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блюдения за различными сторонами деятельности школьников во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бных занятий физической культурой. Учитывалось отношение учащихся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ятиям и различным методикам организации физических упражн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требность в уроках физической культуры, а также их объём и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ведения. Естественный педагогический эксперимент осуществлялся на б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ы с учащимися 6-7 классов. Проводился он с целью апробации полож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лученных в результате теоретического анализа и обобщения литератур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чников и данных педагогических наблюдений по проблеме организа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роения уроков физической культуры игровой направл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12760" y="34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9"/>
          <p:cNvSpPr txBox="1"/>
          <p:nvPr/>
        </p:nvSpPr>
        <p:spPr>
          <a:xfrm>
            <a:off x="304920" y="3429000"/>
            <a:ext cx="8534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ОЕ ТЕСТИРОВАНИ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-92160" y="4114800"/>
            <a:ext cx="911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учащихся использовал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яд контрольных испытаний: прыжок в длину с места, метание набивного мя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сом 1кг из положения сидя из-за головы, челночный бег. В исследованиях в качестве испытуемых принимали участие учащиеся 6-7 классов ОСШ №1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щиеся 6Б и 7Б классов проходили обучение по экспериментальной програм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щиеся 6А и 7А проходили обучение по обычной программе. В анкетировании приняли участие школьники, обучающиеся в 6-7 классах ОСШ №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28600" y="-39600"/>
            <a:ext cx="905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внительный анализ уровня физической подготовленности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-7 классов (девоч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0"/>
          <p:cNvSpPr/>
          <p:nvPr/>
        </p:nvSpPr>
        <p:spPr>
          <a:xfrm>
            <a:off x="387036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136440" y="722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914400"/>
          <a:ext cx="8610480" cy="484992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  <a:gridCol w="1447920"/>
                <a:gridCol w="1371600"/>
                <a:gridCol w="1447560"/>
                <a:gridCol w="14479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е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ые нормати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нимающиеся в с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занимающиеся в сек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начало учебного г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конец учебн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начало учебн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конец учебн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но-силов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жок в длину с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 выш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 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 выш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набивного мяча весом 1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 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 выш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 ниж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 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ционны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3*10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 сред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 выш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 ниже средн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 сред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413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35720" y="189000"/>
            <a:ext cx="9123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л взят средний показатель физической подготовленности у учащих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имающихся в секции волейбола в шко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средний показатель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ленности не занимающихся детей. Можно наблюдать положитель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нденцию в развитии физических качеств учащихся на начало учебного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на конец. Количественный анализ показал что школьницы-волейболис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метно превосходят своих сверстниц по всем основным параметрам. Однак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ть рост в физическом развитии и у сверстниц. Проведение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ческой культуры игровой направленности в средних классах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воляет существенно усиливать их развивающий и оздорови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фф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6"/>
          <p:cNvSpPr txBox="1"/>
          <p:nvPr/>
        </p:nvSpPr>
        <p:spPr>
          <a:xfrm>
            <a:off x="304920" y="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АПЫ ИССЛЕДОВ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0" y="1103400"/>
            <a:ext cx="9333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следование проводилось в три этапа. На первом этапе (апрель-август 20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водился теоретический анализ. Помимо этого осуществлялось наблю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 проведением уроков физкультуры, осуществлялось анкетирование учащих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также разрабатывались учебные планы-графики уроков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гровой направленности для 6-7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ходе второго этапа (сентябрь 11г. – май 2012г.) осуществлялась экспериментальная проверка эффективности разработанных учебных планов, а также устанавливался характер взаимосвязи между параметрами уро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ческой культуры игровой направленности и результатами выпол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трольных нормативов учащимися 6-7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етий этап был посвящён анализу, обобщению результатов исследо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недрению их в практ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>
            <a:off x="762120" y="304920"/>
            <a:ext cx="7619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ЛЮЧ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36440" y="1103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0" y="1143000"/>
            <a:ext cx="945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нным исследованием я попыталась преимущественно средствами волейбола (включая общеподготовительные и специальные упражнения) содействовать разностороннему физическому развитию учащихся в сочетании с формиров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них устойчивого интереса к систематическим занятиям физической культурой. Не последнюю роль в данном эксперименте сыграло желание самих детей заниматься волейбо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7"/>
          <p:cNvSpPr txBox="1"/>
          <p:nvPr/>
        </p:nvSpPr>
        <p:spPr>
          <a:xfrm>
            <a:off x="1600200" y="30492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890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0" y="186516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ременный этап социально-экономического развития Казахстана характеризуется повышением требований к уровню физической подготовленности и состоянию здоровья различных слоев населения и особенно учащейся молодеж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озрастает необходимость, начиная с самого раннего возраста, обеспечить воспитание у школьников устойчивого интереса, потребности к регулярным занятиям физическими упражнениями, ценностной мотивации к здоровому образу жизни. Наблюдаемый в настоящее время хронический дефицит двигательной активности детей, тормозит их нормальное физическое развитие, угрожает здоров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а из причин происходящего - излишняя зарегламентированность учебной программы, не позволяющая педагогу учитывать пожелания учащихся их интересы, а также возможности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74628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457200" y="304920"/>
            <a:ext cx="8153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latin typeface="Arial"/>
              </a:rPr>
              <a:t>ВВЕД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6440" y="1371600"/>
            <a:ext cx="9007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уществующие школьные программы физического воспитания не позволяют в полной мере учитывать особенности работы школы, запросы конкретного учителя и ребёнка. Поэтому, исследования, направленные на преобразование школьной физической культуры, связаны прежде всего с повышением творческой инициативы учителя, расширением состава используемых средств и методов, обеспечением вариативности содержания уроков, учитывающих условия их проведения, особенности контингента занимающихся, поиском нестандартных организационно-методических приемов, использованием опережающего и развивающего обучения и т.д. В многообразии средств физического воспитания школьников, особое место в силу своей универсальности, доступности, эмоциональности и привлекательности занимают подвижные и спортивные игры. Учитывая особенности организации физического воспитания и большую популярность волейбола у школьников, мною предложена экспериментальная идея его эффективного использования на уроках физической культуры в 6-7 клас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89080" y="112680"/>
            <a:ext cx="885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гра в волейбол по своей эмоциональной окраске и двигательной структуре доступна школьникам любого возраста, и позволяет решать основные задачи программы физического воспитания, так как не только обеспечивает развитие специальных навыков и двигательных качеств, но и закладывает фундамент общей физической подготовленности. Постоянно меняющаяся игровая ситуация, выбор наиболее рациональных технических средств, быстрый переход от одних действий к другим повышают подвижность нервных процессов. Достижение общей цели во время игры приучает к коллективизму, к сотрудничеству и взаимопомо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69960" y="3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1219320" y="30492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 РАБОТЫ</a:t>
            </a:r>
            <a:endParaRPr b="1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9907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исследования 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основать и экспериментально проверить эффективность организации и проведения уроков физической культуры игровой направленности в 6-7 классах общеобразовательно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достиже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авленной цели решались следующ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Выявить мотивы и потребность в занятиях физической культурой учащихся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Эксперементально определить характер воздействия уроков физической культуры игровой направленности на уровень физической подготовленности подростков 13-14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Разработать планы проведения уроков игровой направленности в 6-7 класс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ключающие обучение волейб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Организация и проведение уроков физической культуры игровой направленности, учитывающая особенности мотивов и потребностей подростков в двигательной активности позволяет повысить интерес учащихся к занятиям, способствует  успешному решению задач физического воспитания подрастающе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педагогическая технология построения годичных поурочных планов и проведения уроков игровой направленности в 6-7 клас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эффективность реализации годичных планов проведения уроков физической культуры, состоящих из средств волейб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0" y="1295280"/>
            <a:ext cx="9718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Анализ научно-методической литера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Анке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едагогические наблюдения и экспери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едагогическое тес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0" y="0"/>
            <a:ext cx="9144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ля решения поставленных задач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спользов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ледующие методы исследован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35576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685800" y="152280"/>
            <a:ext cx="7772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ы повышения</a:t>
            </a:r>
            <a:endParaRPr b="0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ффективности проведения </a:t>
            </a:r>
            <a:endParaRPr b="0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ов физической культуры</a:t>
            </a:r>
            <a:endParaRPr b="0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80880" y="2209680"/>
            <a:ext cx="847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Мотивы и потребности учащихся в занятиях физ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льтур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Влияние уроков физической культуры на уровень физической подготовленност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Содержание программы физического воспитания в школе, основанной на игре волейб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Организация и проведения уроков физической культуры игровой напра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65040" y="34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0" y="228600"/>
            <a:ext cx="9144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ТИВЫ И ПОТРЕБНОСТИ УЧАЩИХ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ЗАНЯТИЯХ ФИЗИЧЕСКОЙ КУЛЬТ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0480" y="1179360"/>
            <a:ext cx="9083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ганизация работы в школе базируется в основном на использовании спортивно-диагностических нормативов и почти не учитывает мотивы и потребности учащихся в регулярных занятиях тем или иным ви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игательной актив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младших школь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тивы занятия характеризуются неустойчивостью, зависят от внешних обстоятельств, от применяемых форм и методов воспитания и носят временный характер. Мотивы школьников средних и старших классов отличаются уравновешенностью, стабильностью и большой социальной значимостью. Работа по посещаемости учащихся школы уроков физической культуры за последние три года свидетельствует о том, что только 80,3% учащихся школы посещают уроки физкультуры. Причём этот показатель имеет тенденцию к снижению по мере перехода школьника в старшие классы. Если среди учащихся 5-х классов он составляет 98% у мальчиков и 97,4 у девочек, то в выпускных классах он снижается до 55,7 у мальчиков и 48,5 у девочек. Большое внимание нужно уделить факторам влияния на возникновение и развитие интересов. Работа учителя физической культуры имеет большое значение на формирование у школьников физкультурных и спортивных интересов. Но, деятельность по формированию потребности у школьников в физкультурном совершенствовании должна быть подчинена вся система учебно-воспитательной работы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65040" y="-39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УРОКОВ ФИЗКУЛЬТУРЫ НА УРОВЕН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ИЧЕСКОЙ ПОДГОТОВЛЕННОСТИ УЧАЩИХ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0" y="1179360"/>
            <a:ext cx="9513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годня весьма нелегко привлечь учащихся к регулярным занятиям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льтурой. Очевидно и то, что старые подходы к данной проблеме, осн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ринуждении ушли в прошлое. С поступлением в школу у детей двиг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ктивность  уменьшается на 50%, что вызывает ухудшение здоровья, быстр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томляемость, снижение риска уровня физической и умственной работоспособ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ьники с малой двигательной активностью имеют повыш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вен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болеваем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ледствие снижения функцион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иммунитета всего организма. Таким образом, три традиционных шко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ка в неделю не компенсируют дефицит двигательной активности дет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ростков. Они не в состоянии сформировать у учащихся ни потребности, 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вычки в физическом самосовершенствовании и, в конечном итоге, н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стоянии решать те задачи, которые ставятся перед школьной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льтурой на современном этапе. В целях содействия укреплению здоровь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ческому развитию школьников, учитель должен искать резервы и име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иду прямое воздействие физических нагрузок урока и его закаливающ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ктора, выработку практических навыков гигиенически правильного постро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ятий с использованием закаливающих средств. На мой взгляд, настал пери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возрастает целесообразность проведения уроков определё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правленности с преимущёственным использованием средств вида спор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иболее популярного в данно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65040" y="264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 ПРОГРАММЫ ФИЗИЧЕ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ПИТАНИЯ В ШКОЛЕ,ОСНОВАННОЙ НА ИГРЕ ВОЛЕЙБ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-92160" y="125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-92160" y="1447920"/>
            <a:ext cx="943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-9216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-9216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-89640" y="1332000"/>
            <a:ext cx="940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дел «Волейбол» включает в себя изучение и совершенствование ряда приём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упных для учащихся данного возраста. При изучении раздела осуществля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пережающее обучение игре, связанное не только с увеличением объёма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водимого на волейбол, но и с необходимостью устранения ряда метод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согласованностей, выявленных при анализе существующих учебн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ача мяча (нижняя прямая) по программе изучается с 6 класса, а приём пода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лько в 8 классе. Чтобы отмеченные несогласованности не нарушали принц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 в изучении учебного материала, я предусмотрела в 6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учение приёма мяча с подачи. Материал, рассчитанный программой на 7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ники изучат и закрепят за 4 года, обучаясь в 5-8 классах, а затем в 9-11 клас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удут совершенствовать навыки в игровых формах с применением так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риантов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6T17:17:0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