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EF9-68F8-41AE-B4CC-1871E36B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184-04CD-48C3-8993-FB000675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6F4-B033-48B4-AB68-114C7350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18C-9B98-421A-9965-A788A46A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778-E066-4F49-A59A-595E043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0E5-3246-42A1-A51F-8E1E741F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475-6DF0-43F2-9310-07F7B1B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575-6051-4375-9181-303F5A1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1EB-F15D-4705-A7E9-D14D91CF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579-0A60-4497-A611-0C6D381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66C-A595-48B2-8290-2F7F26B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0F8-2993-4028-9432-1B9969B2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5C73-5281-4B04-B9E3-E42ECBCC6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80880" y="-39600"/>
            <a:ext cx="84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МУНАЛЬНОЕ ГОСУДАРСТВЕННОН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ОБРАЗОВАТЕЛЬНАЯ СРЕДНЯЯ ШКОЛА №19 Г.ТЕМИРТ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796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914400" y="457200"/>
            <a:ext cx="76960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ти повыше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ффективности уроков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ической культуры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24280" y="5257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 учителей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полнил: учитель физической культуры Дейнека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457200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64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Я И ПРОВЕДЕНИЕ УРОК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УРЫ ИГРОВОЙ НАПРВЛЕ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-90720" y="1332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-90000" y="1484280"/>
            <a:ext cx="94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авная направленность уроков, построенных на материале волейбол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йствовать решению задач физического воспитания школьников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лейбола, обучить основам навыков этой игры и привить привычку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 физическими упражнениями. При проведении уроков по волейболу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храняться черты, присущие игровому методу: сюжетная организация действ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вышенная заинтересованность, создание условий для самостоя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шений и проявления инициативы. При обучении игровым приёмам необходи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70% общего времени урока отводить упражнениям с мячом. И как закреп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военного материала проводить соревнования. Помимо соревновани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лейболу необходимо проводить соревнования по физической подготовке,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ствованию технике игры между группами и внутри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914400" y="0"/>
            <a:ext cx="7296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РГАНИЗАЦИЯ ИССЛЕДОВА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228600" y="762120"/>
            <a:ext cx="8686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АЛИЗ НАУЧНО-МЕТОДИЧЕСКОЙ ЛИТЕРАТУРЫ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-9216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-88920" y="1332000"/>
            <a:ext cx="92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анализе научно-методической литературы по изучаемой проблеме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атривала мнения относительно мотивов и потребностей учащих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личных  (в том числе игровых) формах двигательной активности, изуч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растную динамику физической подготовленности и состояния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ов, а также вопросы распределения учебного материала по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е в школьных программах, включая проблемы организации и постро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ов физкультуры игровой направленности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364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1752480" y="3429000"/>
            <a:ext cx="5181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КЕТИРОВА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2280" y="3922560"/>
            <a:ext cx="90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гательная активность, мотивации к занятиям физическими упражне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чётом возраста, пола и уровня физической подготовленности 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следования изучались с помощью анкетирования. Физическая акти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ов изучалась по таким параметрам, как вид спорта, мотиваци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, регулярность, частота занятий, организационные формы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амостоятельная, дома с родителями, в школьной секции и т.д.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ализировалось мнение учащихся о целесообразности занятий тем или и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ам 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457200" y="15228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ОЕ НАБЛЮДЕНИЕ И ЭКСПЕРИМЕН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-92160" y="609480"/>
            <a:ext cx="938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ротяжении всего периода исследований были организованы систе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блюдения за различными сторонами деятельности школьников во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бных занятий физической культурой. Учитывалось отношение учащихс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ям и различным методикам организации физическ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требность в уроках физической культуры, а также их объём и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дения. Естественный педагогический эксперимент осуществлялся на б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ы с учащимися 6-7 классов. Проводился он с целью апробации поло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ученных в результате теоретического анализа и обобщения литерату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чников и данных педагогических наблюдений по проблеме организа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роения уроков физической культуры игровой направ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12760" y="34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304920" y="3429000"/>
            <a:ext cx="8534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ОЕ ТЕСТИРОВА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-92160" y="4114800"/>
            <a:ext cx="911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учащихся использова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яд контрольных испытаний: прыжок в длину с места, метание набивного мя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сом 1кг из положения сидя из-за головы, челночный бег. В исследованиях в качестве испытуемых принимали участие учащиеся 6-7 классов ОСШ №1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6Б и 7Б классов проходили обучение по экспериментальной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6А и 7А проходили обучение по обычной программе. В анкетировании приняли участие школьники, обучающиеся в 6-7 классах ОСШ №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28600" y="-39600"/>
            <a:ext cx="90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внительный анализ уровня физической подготовленности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-7 классов (девоч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387036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136440" y="72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914400"/>
          <a:ext cx="8610480" cy="484992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447920"/>
                <a:gridCol w="1371600"/>
                <a:gridCol w="1447560"/>
                <a:gridCol w="14479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е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ые нормати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имающиеся в с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занимающиеся в се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ачало учебного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онец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ачало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онец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но-сил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ок в длину с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набивного мяча весом 1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ниж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 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ционны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3*10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 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выше средн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 ниже средн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 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413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35720" y="189000"/>
            <a:ext cx="9123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взят средний показатель физической подготовленности у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имающихся в секции волейбола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средний показатель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ленности не занимающихся детей. Можно наблюдать положитель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нденцию в развитии физических качеств учащихся на начало учебного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на конец. Количественный анализ показал что школьницы-волейболис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метно превосходят своих сверстниц по всем основным параметрам. Однак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ь рост в физическом развитии и у сверстниц. Проведение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й культуры игровой направленности в средних классах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воляет существенно усиливать их развивающий и оздорови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ф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6"/>
          <p:cNvSpPr txBox="1"/>
          <p:nvPr/>
        </p:nvSpPr>
        <p:spPr>
          <a:xfrm>
            <a:off x="304920" y="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ПЫ 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1103400"/>
            <a:ext cx="9333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следование проводилось в три этапа. На первом этапе (апрель-август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одился теоретический анализ. Помимо этого осуществлялось наблю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 проведением уроков физкультуры, осуществлялось анкетирование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также разрабатывались учебные планы-графики уроков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ровой направленности для 6-7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ходе второго этапа (сентябрь 11г. – май 2012г.) осуществлялась экспериментальная проверка эффективности разработанных учебных планов, а также устанавливался характер взаимосвязи между параметрами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й культуры игровой направленности и результатами выпол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рольных нормативов учащимися 6-7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тий этап был посвящён анализу, обобщению результатов исслед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недрению их в практ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762120" y="304920"/>
            <a:ext cx="7619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36440" y="1103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0" y="1143000"/>
            <a:ext cx="945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нным исследованием я попыталась преимущественно средствами волейбола (включая общеподготовительные и специальные упражнения) содействовать разностороннему физическому развитию учащихся в сочетании с формир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них устойчивого интереса к систематическим занятиям физической культурой. Не последнюю роль в данном эксперименте сыграло желание самих детей заниматься волейбо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1600200" y="30492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890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186516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ременный этап социально-экономического развития Казахстана характеризуется повышением требований к уровню физической подготовленности и состоянию здоровья различных слоев населения и особенно учащейся молодеж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озрастает необходимость, начиная с самого раннего возраста, обеспечить воспитание у школьников устойчивого интереса, потребности к регулярным занятиям физическими упражнениями, ценностной мотивации к здоровому образу жизни. Наблюдаемый в настоящее время хронический дефицит двигательной активности детей, тормозит их нормальное физическое развитие, угрожает здоров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а из причин происходящего - излишняя зарегламентированность учебной программы, не позволяющая педагогу учитывать пожелания учащихся их интересы, а также возможности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4628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457200" y="304920"/>
            <a:ext cx="8153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2700000"/>
                </a:gradFill>
                <a:latin typeface="Arial"/>
              </a:rPr>
              <a:t>ВВЕД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6440" y="1371600"/>
            <a:ext cx="9007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ществующие школьные программы физического воспитания не позволяют в полной мере учитывать особенности работы школы, запросы конкретного учителя и ребёнка. Поэтому, исследования, направленные на преобразование школьной физической культуры, связаны прежде всего с повышением творческой инициативы учителя, расширением состава используемых средств и методов, обеспечением вариативности содержания уроков, учитывающих условия их проведения, особенности контингента занимающихся, поиском нестандартных организационно-методических приемов, использованием опережающего и развивающего обучения и т.д. В многообразии средств физического воспитания школьников, особое место в силу своей универсальности, доступности, эмоциональности и привлекательности занимают подвижные и спортивные игры. Учитывая особенности организации физического воспитания и большую популярность волейбола у школьников, мною предложена экспериментальная идея его эффективного использования на уроках физической культуры в 6-7 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89080" y="112680"/>
            <a:ext cx="885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ра в волейбол по своей эмоциональной окраске и двигательной структуре доступна школьникам любого возраста, и позволяет решать основные задачи программы физического воспитания, так как не только обеспечивает развитие специальных навыков и двигательных качеств, но и закладывает фундамент общей физической подготовленности. Постоянно меняющаяся игровая ситуация, выбор наиболее рациональных технических средств, быстрый переход от одних действий к другим повышают подвижность нервных процессов. Достижение общей цели во время игры приучает к коллективизму, к сотрудничеству и взаимо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699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1219320" y="30492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РАБОТЫ</a:t>
            </a:r>
            <a:endParaRPr b="1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9907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исследования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сновать и экспериментально проверить эффективность организации и проведения уроков физической культуры игровой направленности в 6-7 классах общеобразовательно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достиж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авленной цели решались следующ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Выявить мотивы и потребность в занятиях физической культурой учащихся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Эксперементально определить характер воздействия уроков физической культуры игровой направленности на уровень физической подготовленности подростков 13-14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Разработать планы проведения уроков игровой направленности в 6-7 класс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ключающие обучение волейб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Организация и проведение уроков физической культуры игровой направленности, учитывающая особенности мотивов и потребностей подростков в двигательной активности позволяет повысить интерес учащихся к занятиям, способствует  успешному решению задач физического воспитания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педагогическая технология построения годичных поурочных планов и проведения уроков игровой направленности в 6-7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ффективность реализации годичных планов проведения уроков физической культуры, состоящих из средств волейб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1295280"/>
            <a:ext cx="9718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Анализ научно-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едагогические наблюдения и экспери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едагогическое тес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0" y="0"/>
            <a:ext cx="9144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ля решения поставленных задач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пользов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едующие методы исследов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355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85800" y="152280"/>
            <a:ext cx="7772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 повышения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ффективности проведения 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ов физической культуры</a:t>
            </a:r>
            <a:endParaRPr b="0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80880" y="220968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Мотивы и потребности учащихся в занятиях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льтур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Влияние уроков физической культуры на уровень физической подготовлен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Содержание программы физического воспитания в школе, основанной на игре волейб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Организация и проведения уроков физической культуры игров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65040" y="34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0" y="22860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ТИВЫ И ПОТРЕБНОСТИ УЧАЩИХ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ЗАНЯТИЯХ ФИЗИЧЕСКОЙ КУЛЬ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0480" y="1179360"/>
            <a:ext cx="9083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я работы в школе базируется в основном на использовании спортивно-диагностических нормативов и почти не учитывает мотивы и потребности учащихся в регулярных занятиях тем или иным в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игательной актив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младших школь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тивы занятия характеризуются неустойчивостью, зависят от внешних обстоятельств, от применяемых форм и методов воспитания и носят временный характер. Мотивы школьников средних и старших классов отличаются уравновешенностью, стабильностью и большой социальной значимостью. Работа по посещаемости учащихся школы уроков физической культуры за последние три года свидетельствует о том, что только 80,3% учащихся школы посещают уроки физкультуры. Причём этот показатель имеет тенденцию к снижению по мере перехода школьника в старшие классы. Если среди учащихся 5-х классов он составляет 98% у мальчиков и 97,4 у девочек, то в выпускных классах он снижается до 55,7 у мальчиков и 48,5 у девочек. Большое внимание нужно уделить факторам влияния на возникновение и развитие интересов. Работа учителя физической культуры имеет большое значение на формирование у школьников физкультурных и спортивных интересов. Но, деятельность по формированию потребности у школьников в физкультурном совершенствовании должна быть подчинена вся система учебно-воспитательной работы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65040" y="-39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УРОКОВ ФИЗКУЛЬТУРЫ НА УРОВЕН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ОЙ ПОДГОТОВЛЕННОСТИ УЧАЩИХ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1179360"/>
            <a:ext cx="9513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годня весьма нелегко привлечь учащихся к регулярным занятиям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ой. Очевидно и то, что старые подходы к данной проблеме, осн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ринуждении ушли в прошлое. С поступлением в школу у детей двиг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ктивность  уменьшается на 50%, что вызывает ухудшение здоровья, быстр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томляемость, снижение риска уровня физической и умственной работоспосо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кольники с малой двигательной активностью имеют повыш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ен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болеваем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ледствие снижения функцион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иммунитета всего организма. Таким образом, три традиционных шк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а в неделю не компенсируют дефицит двигательной активности дет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ростков. Они не в состоянии сформировать у учащихся ни потребности, 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вычки в физическом самосовершенствовании и, в конечном итоге, н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стоянии решать те задачи, которые ставятся перед школьной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льтурой на современном этапе. В целях содействия укреплению здоровь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ческому развитию школьников, учитель должен искать резервы и име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у прямое воздействие физических нагрузок урока и его закалив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ктора, выработку практических навыков гигиенически правильного постро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нятий с использованием закаливающих средств. На мой взгляд, настал пери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возрастает целесообразность проведения уроков определё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авленности с преимущёственным использованием средств вида спор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иболее популярного в дан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00046631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65040" y="26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 ПРОГРАММЫ ФИЗИЧЕ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ПИТАНИЯ В ШКОЛЕ,ОСНОВАННОЙ НА ИГРЕ ВОЛЕЙ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-9216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-92160" y="1447920"/>
            <a:ext cx="943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-9216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-89640" y="1332000"/>
            <a:ext cx="94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«Волейбол» включает в себя изучение и совершенствование ряда приём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упных для учащихся данного возраста. При изучении раздела осуществля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пережающее обучение игре, связанное не только с увеличением объёма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одимого на волейбол, но и с необходимостью устранения ряда метод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согласованностей, выявленных при анализе существующих учеб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ача мяча (нижняя прямая) по программе изучается с 6 класса, а приём по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лько в 8 классе. Чтобы отмеченные несогласованности не нарушали принц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в изучении учебного материала, я предусмотрела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учение приёма мяча с подачи. Материал, рассчитанный программой на 7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ки изучат и закрепят за 4 года, обучаясь в 5-8 классах, а затем в 9-11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удут совершенствовать навыки в игровых формах с применением т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риантов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6T17:17:0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