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0B69-B38B-4695-90E9-C593A074A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645E-233A-4222-9918-72205774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6D0E-172B-460D-A0C9-3087D8739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A131-4362-4D1C-8BC4-1CE3DB9D3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EBB8-887F-4633-B345-4CDF4D4A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370F-6E53-440B-8B5E-EC649282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28B1-2F4B-4CA0-8779-1DF27809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15B9-4BD3-4050-A7BD-D59B5436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2E0F-D528-4F20-9C31-6E1C2BB4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57FD-735D-44BA-A405-ED3C2999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A4C9-17F3-4461-91F5-5061228F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D6F4-4C86-4629-9A6A-3C209AE5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003E-1F14-44E2-9188-B071A210B7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rezentacii.com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000466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380880" y="-39600"/>
            <a:ext cx="845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ЕСПУБЛИКИ КАЗАХ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ММУНАЛЬНОЕ ГОСУДАРСТВЕННОН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ОБРАЗОВАТЕЛЬНАЯ СРЕДНЯЯ ШКОЛА №19 Г.ТЕМИРТ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879640" y="2017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7"/>
          <p:cNvSpPr txBox="1"/>
          <p:nvPr/>
        </p:nvSpPr>
        <p:spPr>
          <a:xfrm>
            <a:off x="914400" y="457200"/>
            <a:ext cx="769608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ути повышени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27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ффективности уроков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27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изической культуры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27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школе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27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4724280" y="525780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 учителей физической 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ыполнил: учитель физической культуры Дейнека И.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8"/>
          <p:cNvSpPr/>
          <p:nvPr/>
        </p:nvSpPr>
        <p:spPr>
          <a:xfrm>
            <a:off x="4572000" y="642924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000466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136440" y="112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212760" y="1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7"/>
          <p:cNvSpPr txBox="1"/>
          <p:nvPr/>
        </p:nvSpPr>
        <p:spPr>
          <a:xfrm>
            <a:off x="0" y="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РГАНИЗАЦИЯ И ПРОВЕДЕНИЕ УРОКОВ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ИЗКУЛЬТУРЫ ИГРОВОЙ НАПРВЛЕНН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-92160" y="1332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-90720" y="13320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-90000" y="1484280"/>
            <a:ext cx="943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лавная направленность уроков, построенных на материале волейбол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действовать решению задач физического воспитания школьников средств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олейбола, обучить основам навыков этой игры и привить привычку 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нятиям физическими упражнениями. При проведении уроков по волейболу долж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храняться черты, присущие игровому методу: сюжетная организация действ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вышенная заинтересованность, создание условий для самостояте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ешений и проявления инициативы. При обучении игровым приёмам необходим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70% общего времени урока отводить упражнениям с мячом. И как закреп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своенного материала проводить соревнования. Помимо соревнований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олейболу необходимо проводить соревнования по физической подготовке,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вершенствованию технике игры между группами и внутри груп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000466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8"/>
          <p:cNvSpPr/>
          <p:nvPr/>
        </p:nvSpPr>
        <p:spPr>
          <a:xfrm>
            <a:off x="212760" y="36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9"/>
          <p:cNvSpPr txBox="1"/>
          <p:nvPr/>
        </p:nvSpPr>
        <p:spPr>
          <a:xfrm>
            <a:off x="914400" y="0"/>
            <a:ext cx="729612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ОРГАНИЗАЦИЯ ИССЛЕДОВАН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90" name="WordArt 11"/>
          <p:cNvSpPr txBox="1"/>
          <p:nvPr/>
        </p:nvSpPr>
        <p:spPr>
          <a:xfrm>
            <a:off x="228600" y="762120"/>
            <a:ext cx="86868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НАЛИЗ НАУЧНО-МЕТОДИЧЕСКОЙ ЛИТЕРАТУРЫ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-92160" y="125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-88920" y="1332000"/>
            <a:ext cx="9214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 анализе научно-методической литературы по изучаемой проблеме 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ссматривала мнения относительно мотивов и потребностей учащихся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зличных  (в том числе игровых) формах двигательной активности, изуча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озрастную динамику физической подготовленности и состояния здоровь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школьников, а также вопросы распределения учебного материала по физиче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ультуре в школьных программах, включая проблемы организации и постро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роков физкультуры игровой направленности в шко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136440" y="3389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15"/>
          <p:cNvSpPr txBox="1"/>
          <p:nvPr/>
        </p:nvSpPr>
        <p:spPr>
          <a:xfrm>
            <a:off x="1752480" y="3429000"/>
            <a:ext cx="51818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НКЕТИРОВАНИЕ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5" name="Text Box 16"/>
          <p:cNvSpPr/>
          <p:nvPr/>
        </p:nvSpPr>
        <p:spPr>
          <a:xfrm>
            <a:off x="62280" y="3922560"/>
            <a:ext cx="903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вигательная активность, мотивации к занятиям физическими упражнения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 учётом возраста, пола и уровня физической подготовленности участ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сследования изучались с помощью анкетирования. Физическая актив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школьников изучалась по таким параметрам, как вид спорта, мотивация 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нятиям, регулярность, частота занятий, организационные формы зан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самостоятельная, дома с родителями, в школьной секции и т.д. Так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нализировалось мнение учащихся о целесообразности занятий тем или и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идам спор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000466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212760" y="36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6"/>
          <p:cNvSpPr txBox="1"/>
          <p:nvPr/>
        </p:nvSpPr>
        <p:spPr>
          <a:xfrm>
            <a:off x="457200" y="152280"/>
            <a:ext cx="8381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ЕДАГОГИЧЕСКОЕ НАБЛЮДЕНИЕ И ЭКСПЕРИМЕНТ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-92160" y="609480"/>
            <a:ext cx="9387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 протяжении всего периода исследований были организованы системати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блюдения за различными сторонами деятельности школьников во врем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чебных занятий физической культурой. Учитывалось отношение учащихся 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нятиям и различным методикам организации физических упражн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требность в уроках физической культуры, а также их объём и усло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ведения. Естественный педагогический эксперимент осуществлялся на ба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школы с учащимися 6-7 классов. Проводился он с целью апробации положе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лученных в результате теоретического анализа и обобщения литератур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сточников и данных педагогических наблюдений по проблеме организаци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строения уроков физической культуры игровой направл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212760" y="346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9"/>
          <p:cNvSpPr txBox="1"/>
          <p:nvPr/>
        </p:nvSpPr>
        <p:spPr>
          <a:xfrm>
            <a:off x="304920" y="3429000"/>
            <a:ext cx="8534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ЕДАГОГИЧЕСКОЕ ТЕСТИРОВАНИЕ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-92160" y="4114800"/>
            <a:ext cx="9117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ля определения уровня физической подготовленности учащихся использовал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яд контрольных испытаний: прыжок в длину с места, метание набивного мяч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есом 1кг из положения сидя из-за головы, челночный бег. В исследованиях в качестве испытуемых принимали участие учащиеся 6-7 классов ОСШ №1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чащиеся 6Б и 7Б классов проходили обучение по экспериментальной програм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чащиеся 6А и 7А проходили обучение по обычной программе. В анкетировании приняли участие школьники, обучающиеся в 6-7 классах ОСШ №1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000466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228600" y="-39600"/>
            <a:ext cx="905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равнительный анализ уровня физической подготовленности учащих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6-7 классов (девочк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0"/>
          <p:cNvSpPr/>
          <p:nvPr/>
        </p:nvSpPr>
        <p:spPr>
          <a:xfrm>
            <a:off x="387036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9"/>
          <p:cNvSpPr/>
          <p:nvPr/>
        </p:nvSpPr>
        <p:spPr>
          <a:xfrm>
            <a:off x="136440" y="722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04920" y="914400"/>
          <a:ext cx="8610480" cy="4849920"/>
        </p:xfrm>
        <a:graphic>
          <a:graphicData uri="http://schemas.openxmlformats.org/drawingml/2006/table">
            <a:tbl>
              <a:tblPr/>
              <a:tblGrid>
                <a:gridCol w="1447560"/>
                <a:gridCol w="1447920"/>
                <a:gridCol w="1447920"/>
                <a:gridCol w="1371600"/>
                <a:gridCol w="1447560"/>
                <a:gridCol w="1447920"/>
              </a:tblGrid>
              <a:tr h="580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зические кач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чебные норматив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нимающиеся в се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 занимающиеся в секци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начало учебного год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конец учебного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начало учебного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конец учебного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ростно-силовы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ыжок в длину с ме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 выше средн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 высо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 сред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8 выше средн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ов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ние набивного мяча весом 1 к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5 сред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 выше средн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0 ниже средн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5 сред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рдинационные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ночный бег 3*10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5 средн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0 выше средн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9 ниже среднег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5 средн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000466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441360" y="264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135720" y="189000"/>
            <a:ext cx="9123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ыл взят средний показатель физической подготовленности у учащих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нимающихся в секции волейбола в школ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 средний показатель физиче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дготовленности не занимающихся детей. Можно наблюдать положительну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енденцию в развитии физических качеств учащихся на начало учебного г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 на конец. Количественный анализ показал что школьницы-волейболист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метно превосходят своих сверстниц по всем основным параметрам. Однако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есть рост в физическом развитии и у сверстниц. Проведение уро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изической культуры игровой направленности в средних классах шко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зволяет существенно усиливать их развивающий и оздоровитель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ффек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000466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WordArt 6"/>
          <p:cNvSpPr txBox="1"/>
          <p:nvPr/>
        </p:nvSpPr>
        <p:spPr>
          <a:xfrm>
            <a:off x="304920" y="0"/>
            <a:ext cx="86104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ТАПЫ ИССЛЕДОВА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0" y="1103400"/>
            <a:ext cx="9333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сследование проводилось в три этапа. На первом этапе (апрель-август 201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водился теоретический анализ. Помимо этого осуществлялось наблю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 проведением уроков физкультуры, осуществлялось анкетирование учащих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также разрабатывались учебные планы-графики уроков физической 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гровой направленности для 6-7 клас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ходе второго этапа (сентябрь 11г. – май 2012г.) осуществлялась экспериментальная проверка эффективности разработанных учебных планов, а также устанавливался характер взаимосвязи между параметрами уро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изической культуры игровой направленности и результатами выполн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нтрольных нормативов учащимися 6-7 клас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ретий этап был посвящён анализу, обобщению результатов исследова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недрению их в практи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000466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WordArt 6"/>
          <p:cNvSpPr txBox="1"/>
          <p:nvPr/>
        </p:nvSpPr>
        <p:spPr>
          <a:xfrm>
            <a:off x="762120" y="304920"/>
            <a:ext cx="7619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КЛЮЧЕНИ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136440" y="1103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0" y="1143000"/>
            <a:ext cx="9458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анным исследованием я попыталась преимущественно средствами волейбола (включая общеподготовительные и специальные упражнения) содействовать разностороннему физическому развитию учащихся в сочетании с формирова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 них устойчивого интереса к систематическим занятиям физической культурой. Не последнюю роль в данном эксперименте сыграло желание самих детей заниматься волейбол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000466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WordArt 7"/>
          <p:cNvSpPr txBox="1"/>
          <p:nvPr/>
        </p:nvSpPr>
        <p:spPr>
          <a:xfrm>
            <a:off x="1600200" y="304920"/>
            <a:ext cx="5486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ЫВОД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28908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0" y="1865160"/>
            <a:ext cx="8991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временный этап социально-экономического развития Казахстана характеризуется повышением требований к уровню физической подготовленности и состоянию здоровья различных слоев населения и особенно учащейся молодеж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Возрастает необходимость, начиная с самого раннего возраста, обеспечить воспитание у школьников устойчивого интереса, потребности к регулярным занятиям физическими упражнениями, ценностной мотивации к здоровому образу жизни. Наблюдаемый в настоящее время хронический дефицит двигательной активности детей, тормозит их нормальное физическое развитие, угрожает здоровью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дна из причин происходящего - излишняя зарегламентированность учебной программы, не позволяющая педагогу учитывать пожелания учащихся их интересы, а также возможности школ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000466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746280" y="1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457200" y="304920"/>
            <a:ext cx="81532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2700000"/>
                </a:gradFill>
                <a:latin typeface="Arial"/>
              </a:rPr>
              <a:t>ВВЕДЕ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36440" y="1371600"/>
            <a:ext cx="9007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уществующие школьные программы физического воспитания не позволяют в полной мере учитывать особенности работы школы, запросы конкретного учителя и ребёнка. Поэтому, исследования, направленные на преобразование школьной физической культуры, связаны прежде всего с повышением творческой инициативы учителя, расширением состава используемых средств и методов, обеспечением вариативности содержания уроков, учитывающих условия их проведения, особенности контингента занимающихся, поиском нестандартных организационно-методических приемов, использованием опережающего и развивающего обучения и т.д. В многообразии средств физического воспитания школьников, особое место в силу своей универсальности, доступности, эмоциональности и привлекательности занимают подвижные и спортивные игры. Учитывая особенности организации физического воспитания и большую популярность волейбола у школьников, мною предложена экспериментальная идея его эффективного использования на уроках физической культуры в 6-7 класс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000466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289080" y="112680"/>
            <a:ext cx="8854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гра в волейбол по своей эмоциональной окраске и двигательной структуре доступна школьникам любого возраста, и позволяет решать основные задачи программы физического воспитания, так как не только обеспечивает развитие специальных навыков и двигательных качеств, но и закладывает фундамент общей физической подготовленности. Постоянно меняющаяся игровая ситуация, выбор наиболее рациональных технических средств, быстрый переход от одних действий к другим повышают подвижность нервных процессов. Достижение общей цели во время игры приучает к коллективизму, к сотрудничеству и взаимопомощ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000466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669960" y="341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1219320" y="30492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ЛЬ РАБОТЫ</a:t>
            </a:r>
            <a:endParaRPr b="1" i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0" y="99072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Цель исследования -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основать и экспериментально проверить эффективность организации и проведения уроков физической культуры игровой направленности в 6-7 классах общеобразовательной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ля достижения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ставленной цели решались следующие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.Выявить мотивы и потребность в занятиях физической культурой учащихся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2.Эксперементально определить характер воздействия уроков физической культуры игровой направленности на уровень физической подготовленности подростков 13-14 л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3.Разработать планы проведения уроков игровой направленности в 6-7 класса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ключающие обучение волейбо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ипотез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Организация и проведение уроков физической культуры игровой направленности, учитывающая особенности мотивов и потребностей подростков в двигательной активности позволяет повысить интерес учащихся к занятиям, способствует  успешному решению задач физического воспитания подрастающего поко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ъект исследовани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– педагогическая технология построения годичных поурочных планов и проведения уроков игровой направленности в 6-7 класс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едмет исследовани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– эффективность реализации годичных планов проведения уроков физической культуры, состоящих из средств волейбо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000466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0" y="1295280"/>
            <a:ext cx="971856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ff"/>
                </a:solidFill>
                <a:latin typeface="Arial"/>
              </a:rPr>
              <a:t>Анализ научно-методической литерату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ff"/>
                </a:solidFill>
                <a:latin typeface="Arial"/>
              </a:rPr>
              <a:t>Анкетиров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ff"/>
                </a:solidFill>
                <a:latin typeface="Arial"/>
              </a:rPr>
              <a:t>Педагогические наблюдения и эксперимен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ff"/>
                </a:solidFill>
                <a:latin typeface="Arial"/>
              </a:rPr>
              <a:t>Педагогическое тестир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6"/>
          <p:cNvSpPr txBox="1"/>
          <p:nvPr/>
        </p:nvSpPr>
        <p:spPr>
          <a:xfrm>
            <a:off x="0" y="0"/>
            <a:ext cx="91440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ля решения поставленных задач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спользовал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ледующие методы исследования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000466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1355760" y="1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6"/>
          <p:cNvSpPr txBox="1"/>
          <p:nvPr/>
        </p:nvSpPr>
        <p:spPr>
          <a:xfrm>
            <a:off x="685800" y="152280"/>
            <a:ext cx="77724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блемы повышения</a:t>
            </a:r>
            <a:endParaRPr b="0" i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эффективности проведения </a:t>
            </a:r>
            <a:endParaRPr b="0" i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роков физической культуры</a:t>
            </a:r>
            <a:endParaRPr b="0" i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380880" y="2209680"/>
            <a:ext cx="8474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Мотивы и потребности учащихся в занятиях физиче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ультур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Влияние уроков физической культуры на уровень физической подготовленности учащих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Содержание программы физического воспитания в школе, основанной на игре волейб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Организация и проведения уроков физической культуры игровой направл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000466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365040" y="341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6"/>
          <p:cNvSpPr txBox="1"/>
          <p:nvPr/>
        </p:nvSpPr>
        <p:spPr>
          <a:xfrm>
            <a:off x="0" y="228600"/>
            <a:ext cx="9144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ТИВЫ И ПОТРЕБНОСТИ УЧАЩИХС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ЗАНЯТИЯХ ФИЗИЧЕСКОЙ КУЛЬТУ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60480" y="1179360"/>
            <a:ext cx="90835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рганизация работы в школе базируется в основном на использовании спортивно-диагностических нормативов и почти не учитывает мотивы и потребности учащихся в регулярных занятиях тем или иным ви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вигательной активност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 младших школьни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отивы занятия характеризуются неустойчивостью, зависят от внешних обстоятельств, от применяемых форм и методов воспитания и носят временный характер. Мотивы школьников средних и старших классов отличаются уравновешенностью, стабильностью и большой социальной значимостью. Работа по посещаемости учащихся школы уроков физической культуры за последние три года свидетельствует о том, что только 80,3% учащихся школы посещают уроки физкультуры. Причём этот показатель имеет тенденцию к снижению по мере перехода школьника в старшие классы. Если среди учащихся 5-х классов он составляет 98% у мальчиков и 97,4 у девочек, то в выпускных классах он снижается до 55,7 у мальчиков и 48,5 у девочек. Большое внимание нужно уделить факторам влияния на возникновение и развитие интересов. Работа учителя физической культуры имеет большое значение на формирование у школьников физкультурных и спортивных интересов. Но, деятельность по формированию потребности у школьников в физкультурном совершенствовании должна быть подчинена вся система учебно-воспитательной работы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000466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365040" y="-39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6"/>
          <p:cNvSpPr txBox="1"/>
          <p:nvPr/>
        </p:nvSpPr>
        <p:spPr>
          <a:xfrm>
            <a:off x="0" y="0"/>
            <a:ext cx="9144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ЛИЯНИЕ УРОКОВ ФИЗКУЛЬТУРЫ НА УРОВЕНЬ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ИЗИЧЕСКОЙ ПОДГОТОВЛЕННОСТИ УЧАЩИХС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0" y="1179360"/>
            <a:ext cx="9513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егодня весьма нелегко привлечь учащихся к регулярным занятиям физиче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ультурой. Очевидно и то, что старые подходы к данной проблеме, основа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 принуждении ушли в прошлое. С поступлением в школу у детей двигат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ктивность  уменьшается на 50%, что вызывает ухудшение здоровья, быстр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томляемость, снижение риска уровня физической и умственной работоспособ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ост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Школьники с малой двигательной активностью имеют повыше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ровен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болеваем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ледствие снижения функциональных возмож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 иммунитета всего организма. Таким образом, три традиционных шко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рока в неделю не компенсируют дефицит двигательной активности дете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дростков. Они не в состоянии сформировать у учащихся ни потребности, 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вычки в физическом самосовершенствовании и, в конечном итоге, не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стоянии решать те задачи, которые ставятся перед школьной физиче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ультурой на современном этапе. В целях содействия укреплению здоровья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изическому развитию школьников, учитель должен искать резервы и иметь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иду прямое воздействие физических нагрузок урока и его закаливающ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актора, выработку практических навыков гигиенически правильного постро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нятий с использованием закаливающих средств. На мой взгляд, настал период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гда возрастает целесообразность проведения уроков определён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правленности с преимущёственным использованием средств вида спорт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иболее популярного в данной шко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00046631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365040" y="264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7"/>
          <p:cNvSpPr txBox="1"/>
          <p:nvPr/>
        </p:nvSpPr>
        <p:spPr>
          <a:xfrm>
            <a:off x="0" y="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 ПРОГРАММЫ ФИЗИЧЕСК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СПИТАНИЯ В ШКОЛЕ,ОСНОВАННОЙ НА ИГРЕ ВОЛЕЙБО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-92160" y="125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-92160" y="1447920"/>
            <a:ext cx="943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-92160" y="1332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-92160" y="1332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-89640" y="1332000"/>
            <a:ext cx="9405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здел «Волейбол» включает в себя изучение и совершенствование ряда приём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оступных для учащихся данного возраста. При изучении раздела осуществляло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пережающее обучение игре, связанное не только с увеличением объёма времен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тводимого на волейбол, но и с необходимостью устранения ряда методичес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есогласованностей, выявленных при анализе существующих учебных програ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дача мяча (нижняя прямая) по программе изучается с 6 класса, а приём подач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олько в 8 классе. Чтобы отмеченные несогласованности не нарушали принци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следовательности в изучении учебного материала, я предусмотрела в 6 кла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зучение приёма мяча с подачи. Материал, рассчитанный программой на 7 л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ченики изучат и закрепят за 4 года, обучаясь в 5-8 классах, а затем в 9-11 класс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удут совершенствовать навыки в игровых формах с применением тактичес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ариантов иг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8-26T17:17:00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