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339-42A8-4FA5-927B-437BAD3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5A6-B84B-49BF-9286-A4FAEAA6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EE1-31A9-45FA-9679-F8695740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DF5-54CC-47FA-8353-2E6FD98E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9C0-D414-43D8-AAEF-8247307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11D-D5CC-4B24-9E22-3D362E4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768-6A3C-4930-A96E-E834377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815-05D6-40BD-BC57-5929D5E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D1C-66C4-4151-90E5-8B4508E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6AA-EA4F-4CBE-9E68-FD87C34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004-952D-45FB-8196-239CE3F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A2F-E576-4739-9401-32A9DF3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3FF-A44F-4BD7-9471-0754EF85F1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page?q=622354226&amp;p=1&amp;ag=ih&amp;rpt2=simage&amp;qs=text%3D%25E4%25D7%25C5%25D2%25D8%26isize%3D%26ogo%3D5%26rpt%3Dimage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692360" y="-355320"/>
            <a:ext cx="14292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476360" y="981000"/>
            <a:ext cx="66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стые дроб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вторение и обобщение. 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3"/>
          <p:cNvSpPr txBox="1"/>
          <p:nvPr/>
        </p:nvSpPr>
        <p:spPr>
          <a:xfrm>
            <a:off x="2411280" y="4365720"/>
            <a:ext cx="451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читель: Радько Л.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013г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ытание № 2 «Узнай мен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43"/>
              <p:cNvSpPr txBox="1"/>
              <p:nvPr/>
            </p:nvSpPr>
            <p:spPr>
              <a:xfrm>
                <a:off x="468360" y="1628640"/>
                <a:ext cx="382572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4"/>
              <p:cNvSpPr txBox="1"/>
              <p:nvPr/>
            </p:nvSpPr>
            <p:spPr>
              <a:xfrm>
                <a:off x="4699080" y="1628640"/>
                <a:ext cx="404964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457200" y="1600200"/>
          <a:ext cx="4043520" cy="478152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48320" y="1600200"/>
          <a:ext cx="4100400" cy="4781520"/>
        </p:xfrm>
        <a:graphic>
          <a:graphicData uri="http://schemas.openxmlformats.org/drawingml/2006/table">
            <a:tbl>
              <a:tblPr/>
              <a:tblGrid>
                <a:gridCol w="1366560"/>
                <a:gridCol w="1366920"/>
                <a:gridCol w="1366920"/>
              </a:tblGrid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4"/>
              <p:cNvSpPr txBox="1"/>
              <p:nvPr/>
            </p:nvSpPr>
            <p:spPr>
              <a:xfrm>
                <a:off x="826920" y="1628640"/>
                <a:ext cx="5400720" cy="489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755640" y="1628640"/>
          <a:ext cx="5905440" cy="492444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36177" t="26579" r="6239" b="15357"/>
          <a:stretch/>
        </p:blipFill>
        <p:spPr>
          <a:xfrm>
            <a:off x="1042920" y="620640"/>
            <a:ext cx="73026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Шли сыновья, шли и пришли в сказочный замок. У ворот их встречает хранитель волшебного сундука. Говорит он им: « Здравствуйте, добрые молодцы! Идите туда – не знаю куда, принесите то – не знаю что.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7" descr="i?id=1760310&amp;tov=3"/>
          <p:cNvPicPr/>
          <p:nvPr/>
        </p:nvPicPr>
        <p:blipFill>
          <a:blip r:embed="rId1"/>
          <a:stretch/>
        </p:blipFill>
        <p:spPr>
          <a:xfrm>
            <a:off x="5435640" y="4149720"/>
            <a:ext cx="23893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3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«Возьми и принес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 вас на столе лежит круг, разделенный на 12 равных ча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493560" y="2852640"/>
                <a:ext cx="786780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Закрасьте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  <m:r>
                          <m:rPr>
                            <m:lit/>
                            <m:nor/>
                          </m:rPr>
                          <m:t xml:space="preserve"> и от остатка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круг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колько частей нужно закрасить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1187280" y="1368360"/>
          <a:ext cx="656136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68360"/>
                    <a:ext cx="6561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пытание № 4 « Сравни»</a:t>
            </a:r>
            <a:br>
              <a:rPr sz="4000"/>
            </a:b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Задание: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авни дроб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468360" y="2133720"/>
                <a:ext cx="79772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1"/>
              <p:cNvSpPr txBox="1"/>
              <p:nvPr/>
            </p:nvSpPr>
            <p:spPr>
              <a:xfrm>
                <a:off x="250920" y="4076640"/>
                <a:ext cx="8497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Понравились вы мне, добрые молодцы. Дарю вам за труды сундук волшебный. Откройте его и узнаете, что в нем хранится. Ключ вы узнаете, если решите мои приме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i?id=32677381&amp;tov=0"/>
          <p:cNvPicPr/>
          <p:nvPr/>
        </p:nvPicPr>
        <p:blipFill>
          <a:blip r:embed="rId1"/>
          <a:stretch/>
        </p:blipFill>
        <p:spPr>
          <a:xfrm>
            <a:off x="4788000" y="4149720"/>
            <a:ext cx="251136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Испытание №5  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 Ключ к сундуку. 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олните дейст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Ответу соответствует буква, правильно решив примеры, вы получите ключевое слово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76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0930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012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3236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8000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000"/>
                <a:gridCol w="466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627280" y="2997360"/>
          <a:ext cx="934920" cy="576000"/>
        </p:xfrm>
        <a:graphic>
          <a:graphicData uri="http://schemas.openxmlformats.org/drawingml/2006/table">
            <a:tbl>
              <a:tblPr/>
              <a:tblGrid>
                <a:gridCol w="468360"/>
                <a:gridCol w="4665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64"/>
              <p:cNvSpPr txBox="1"/>
              <p:nvPr/>
            </p:nvSpPr>
            <p:spPr>
              <a:xfrm>
                <a:off x="395280" y="2997360"/>
                <a:ext cx="8269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5"/>
              <p:cNvSpPr txBox="1"/>
              <p:nvPr/>
            </p:nvSpPr>
            <p:spPr>
              <a:xfrm>
                <a:off x="1476360" y="2997360"/>
                <a:ext cx="91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6"/>
              <p:cNvSpPr txBox="1"/>
              <p:nvPr/>
            </p:nvSpPr>
            <p:spPr>
              <a:xfrm>
                <a:off x="262728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7"/>
              <p:cNvSpPr txBox="1"/>
              <p:nvPr/>
            </p:nvSpPr>
            <p:spPr>
              <a:xfrm>
                <a:off x="385128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9"/>
              <p:cNvSpPr txBox="1"/>
              <p:nvPr/>
            </p:nvSpPr>
            <p:spPr>
              <a:xfrm>
                <a:off x="500364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0"/>
              <p:cNvSpPr txBox="1"/>
              <p:nvPr/>
            </p:nvSpPr>
            <p:spPr>
              <a:xfrm>
                <a:off x="6012000" y="299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1"/>
              <p:cNvSpPr txBox="1"/>
              <p:nvPr/>
            </p:nvSpPr>
            <p:spPr>
              <a:xfrm>
                <a:off x="7164360" y="2997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2"/>
              <p:cNvSpPr txBox="1"/>
              <p:nvPr/>
            </p:nvSpPr>
            <p:spPr>
              <a:xfrm>
                <a:off x="324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3"/>
              <p:cNvSpPr txBox="1"/>
              <p:nvPr/>
            </p:nvSpPr>
            <p:spPr>
              <a:xfrm>
                <a:off x="147636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4"/>
              <p:cNvSpPr txBox="1"/>
              <p:nvPr/>
            </p:nvSpPr>
            <p:spPr>
              <a:xfrm>
                <a:off x="2627280" y="3789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5"/>
              <p:cNvSpPr txBox="1"/>
              <p:nvPr/>
            </p:nvSpPr>
            <p:spPr>
              <a:xfrm>
                <a:off x="3780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6"/>
              <p:cNvSpPr txBox="1"/>
              <p:nvPr/>
            </p:nvSpPr>
            <p:spPr>
              <a:xfrm>
                <a:off x="493236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7"/>
              <p:cNvSpPr txBox="1"/>
              <p:nvPr/>
            </p:nvSpPr>
            <p:spPr>
              <a:xfrm>
                <a:off x="601200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8"/>
              <p:cNvSpPr txBox="1"/>
              <p:nvPr/>
            </p:nvSpPr>
            <p:spPr>
              <a:xfrm>
                <a:off x="7093080" y="3789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Picture 79" descr="i?id=31156777&amp;tov=0"/>
          <p:cNvPicPr/>
          <p:nvPr/>
        </p:nvPicPr>
        <p:blipFill>
          <a:blip r:embed="rId1"/>
          <a:stretch/>
        </p:blipFill>
        <p:spPr>
          <a:xfrm>
            <a:off x="5219640" y="4724280"/>
            <a:ext cx="221004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419640" y="1557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4427640" y="1557360"/>
                <a:ext cx="8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419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4427640" y="2205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3419640" y="278136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-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4356000" y="278136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348000" y="342900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284720" y="3429000"/>
                <a:ext cx="82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3348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4356000" y="4076640"/>
                <a:ext cx="82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348000" y="472428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5"/>
              <p:cNvSpPr txBox="1"/>
              <p:nvPr/>
            </p:nvSpPr>
            <p:spPr>
              <a:xfrm>
                <a:off x="4356000" y="4724280"/>
                <a:ext cx="9129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3348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356000" y="5445000"/>
                <a:ext cx="827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Picture 18" descr="i?id=16165789&amp;tov=0"/>
          <p:cNvPicPr/>
          <p:nvPr/>
        </p:nvPicPr>
        <p:blipFill>
          <a:blip r:embed="rId1"/>
          <a:stretch/>
        </p:blipFill>
        <p:spPr>
          <a:xfrm>
            <a:off x="684360" y="2637000"/>
            <a:ext cx="133812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36720" y="-505944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050920" y="620640"/>
            <a:ext cx="4826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- 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539640" y="2708280"/>
            <a:ext cx="804888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казочное путешествие в страну дроб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6   « Что внутри сундука?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исунке изображен числовой луч с точ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        Я  1  К    П Н         А Б     Е     З   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ыпишите точки, которые соответствуют дроб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2381400" y="2652840"/>
            <a:ext cx="18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55640" y="2060640"/>
          <a:ext cx="7139160" cy="1036440"/>
        </p:xfrm>
        <a:graphic>
          <a:graphicData uri="http://schemas.openxmlformats.org/drawingml/2006/table">
            <a:tbl>
              <a:tblPr/>
              <a:tblGrid>
                <a:gridCol w="325440"/>
                <a:gridCol w="324000"/>
                <a:gridCol w="323640"/>
                <a:gridCol w="325440"/>
                <a:gridCol w="324000"/>
                <a:gridCol w="325440"/>
                <a:gridCol w="322200"/>
                <a:gridCol w="325440"/>
                <a:gridCol w="325440"/>
                <a:gridCol w="324000"/>
                <a:gridCol w="325080"/>
                <a:gridCol w="324000"/>
                <a:gridCol w="324000"/>
                <a:gridCol w="325440"/>
                <a:gridCol w="325440"/>
                <a:gridCol w="322200"/>
                <a:gridCol w="325440"/>
                <a:gridCol w="323640"/>
                <a:gridCol w="325440"/>
                <a:gridCol w="324000"/>
                <a:gridCol w="324000"/>
                <a:gridCol w="32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749"/>
          <p:cNvSpPr/>
          <p:nvPr/>
        </p:nvSpPr>
        <p:spPr>
          <a:xfrm>
            <a:off x="755640" y="256536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751"/>
              <p:cNvSpPr txBox="1"/>
              <p:nvPr/>
            </p:nvSpPr>
            <p:spPr>
              <a:xfrm>
                <a:off x="468360" y="4149720"/>
                <a:ext cx="7632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684360" y="1628640"/>
                <a:ext cx="13460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908000" y="2205000"/>
                <a:ext cx="1317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2"/>
              <p:cNvSpPr txBox="1"/>
              <p:nvPr/>
            </p:nvSpPr>
            <p:spPr>
              <a:xfrm>
                <a:off x="3021120" y="2781360"/>
                <a:ext cx="1627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4500720" y="3429000"/>
                <a:ext cx="1320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Н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5580000" y="4076640"/>
                <a:ext cx="1701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И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7093080" y="4797360"/>
                <a:ext cx="1118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Я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16" descr="i?id=17060642&amp;tov=8"/>
          <p:cNvPicPr/>
          <p:nvPr/>
        </p:nvPicPr>
        <p:blipFill>
          <a:blip r:embed="rId1"/>
          <a:stretch/>
        </p:blipFill>
        <p:spPr>
          <a:xfrm>
            <a:off x="611280" y="3860640"/>
            <a:ext cx="2678040" cy="26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499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- Выполнили сыновья это задание и вернулись домой. Царь обрадовался и спрашивает: «Что узнали, чему научилис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ытание №7   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«Сказка ложь, да в ней намек, математикам дает урок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Задание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слушать и помочь рассказать  сказку «Красная Шапочка» языком математики по теме «Обыкновенные дроб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расная Шапочка или     » (по мотивам сказки Ш. Пер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ействующие лиц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казочник-учитель;    или Красная шапоч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ерый Волк;      или бабушка; дровос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4311720" y="3092400"/>
                <a:ext cx="26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3780000" y="3357720"/>
                <a:ext cx="23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5364000" y="3933720"/>
                <a:ext cx="230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611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3059280" y="4581360"/>
                <a:ext cx="230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Тут и сказке конец. Тот, кто слушал, </a:t>
            </a: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молодец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пишите домашне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й матери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ица № 68, задание № 219,220,22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3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0" dur="500" autoRev="1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16" dur="500" autoRev="1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422" dur="500" autoRev="1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Цели урока.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Активизация  мыслительной деятельности учащихс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ние и развитие мыслительных операций (сравнения, обобщения, конкретизации, анализа и синтез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Развитие у учащихся мышления, речи, памя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бразов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спомнить понятие обыкновенной дроби, знаменателя, числителя; проверить усвоение понятия доли и сравнение дробе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Развитие образного и логического мышления, математической речи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Формировать умения делать выводы и заключения; развитие наблюдатель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Формировать предприимчивость, находчивость, успешной стратегии поведения при наличии выбора зада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ть интерес к предме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5ffff"/>
                </a:solidFill>
                <a:latin typeface="Tahoma"/>
              </a:rPr>
              <a:t>Задачи урока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Метод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ить и проконтролировать уровень знаний, умений и навыков работы с простыми дробями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овершенствовать  навыки сложения и вычитания дробей с одинаковыми знаменател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 педагогическ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ть положительную мотивацию к выполнению умственных и практических действий; расширить кругозор уча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457200" y="1981080"/>
            <a:ext cx="82296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 "В сказку ты откройся, дверь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5" descr="i?id=33360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292640"/>
            <a:ext cx="11174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?id=43476643&amp;tov=5"/>
          <p:cNvPicPr/>
          <p:nvPr/>
        </p:nvPicPr>
        <p:blipFill>
          <a:blip r:embed="rId5"/>
          <a:stretch/>
        </p:blipFill>
        <p:spPr>
          <a:xfrm>
            <a:off x="1476360" y="3789360"/>
            <a:ext cx="1965240" cy="146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i?id=24161873&amp;tov=0"/>
          <p:cNvPicPr/>
          <p:nvPr/>
        </p:nvPicPr>
        <p:blipFill>
          <a:blip r:embed="rId6"/>
          <a:stretch/>
        </p:blipFill>
        <p:spPr>
          <a:xfrm>
            <a:off x="5940360" y="5013360"/>
            <a:ext cx="990720" cy="14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бытия происходят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екотором царстве (школе), в некотором государстве (кабинет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их событиях принимают участ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арь (учитель математи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вет бояр (приглашонные гост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два «сына» царя (девочки и мальчики клас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екотором царстве, в некотором государстве жил-был царь, и было у него два сы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i?id=3407690&amp;tov=8"/>
          <p:cNvPicPr/>
          <p:nvPr/>
        </p:nvPicPr>
        <p:blipFill>
          <a:blip r:embed="rId1"/>
          <a:stretch/>
        </p:blipFill>
        <p:spPr>
          <a:xfrm>
            <a:off x="3419640" y="2997360"/>
            <a:ext cx="100008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23153533&amp;tov=6"/>
          <p:cNvPicPr/>
          <p:nvPr/>
        </p:nvPicPr>
        <p:blipFill>
          <a:blip r:embed="rId2"/>
          <a:stretch/>
        </p:blipFill>
        <p:spPr>
          <a:xfrm>
            <a:off x="5651640" y="4581360"/>
            <a:ext cx="18064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?id=1760310&amp;tov=3"/>
          <p:cNvPicPr/>
          <p:nvPr/>
        </p:nvPicPr>
        <p:blipFill>
          <a:blip r:embed="rId3"/>
          <a:stretch/>
        </p:blipFill>
        <p:spPr>
          <a:xfrm>
            <a:off x="1258920" y="2205000"/>
            <a:ext cx="108576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e5ffff"/>
                </a:solidFill>
                <a:latin typeface="Tahoma"/>
              </a:rPr>
              <a:t>Испытание №1 « Правильно – неправильно.»</a:t>
            </a:r>
            <a:br>
              <a:rPr sz="2600"/>
            </a:br>
            <a:br>
              <a:rPr sz="2400"/>
            </a:br>
            <a:r>
              <a:rPr b="0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Задание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Работа с сигнальными карточками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утверждение верно, ученики показывают карточку синего цвета, если неверно - красного цвет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      - не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       - правильная дробь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)        - неправильная дроб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вы дали такие ответ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1042920" y="242100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1042920" y="321300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971640" y="393372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1042920" y="4653000"/>
                <a:ext cx="281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1471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  числитель меньше знаменателя, называется 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ь, в которой числитель больше знаменателя или равен ему, называется неправильной дроб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- Теперь я за вас спокоен. В добрый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06:01Z</dcterms:created>
  <dc:creator>***</dc:creator>
  <dc:description/>
  <dc:language>en-US</dc:language>
  <cp:lastModifiedBy>Сергей</cp:lastModifiedBy>
  <dcterms:modified xsi:type="dcterms:W3CDTF">2014-01-05T15:23:02Z</dcterms:modified>
  <cp:revision>12</cp:revision>
  <dc:subject/>
  <dc:title>Слайд 1</dc:title>
</cp:coreProperties>
</file>