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77E-515C-4669-9CDC-7DE6C1A4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436-6EE7-41E6-A566-9FD0C6DC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5B4-DD34-443C-8B45-C68A26D0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DDC-5951-4135-85F9-A694453A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F3E-C3E7-4113-B4CA-898DCCD7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809-3EFA-4ECC-8997-46F2B110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8D6-FF5E-48A7-8CF8-70A2A9F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224-5A89-4844-A008-F8981F20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0B0-A85B-4EB1-A7FC-074A2AC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E10-4CCF-46E9-9F81-529417A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C79-2636-410D-9517-37F6B02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827-C535-4028-B756-053B78A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16E-F75A-470E-986F-4EBF8BFFC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Происхождение и развити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5897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по обществозн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0 тысяч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назад появился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«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omo sapiens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»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«челове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разумный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Опишите облик «человека разумног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4290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ловек разумный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хо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овершенствование р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ение объёма моз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ленораздель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новых орудий труда( из дерева, кремня, к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добывать огонь, шить одежду, строить 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ллективной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развивал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о 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ественное , соц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37372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B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413000"/>
            <a:ext cx="31669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ен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005360"/>
            <a:ext cx="331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об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друг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700280"/>
            <a:ext cx="360036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опление зн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 окружающем м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ача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им покол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20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278136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700280"/>
            <a:ext cx="2735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276640"/>
            <a:ext cx="30974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бход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292640"/>
            <a:ext cx="302436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ршенств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дий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42100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068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одовая общ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ойчи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а на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ров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од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оллективный тру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урав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38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местными усилиями люди не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способились к окружающему ми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зменили, преобразов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культур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4138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влиянием природных условий сложились основные расы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акие отличительные признаки рас можно выдел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591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619440" cy="5450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ет никаких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казыва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ествование 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х-либ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умственных, психических, физиологических и иных преимущест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ад ост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844640"/>
            <a:ext cx="2664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NB</a:t>
            </a:r>
            <a:r>
              <a:rPr b="1" lang="ru-RU" sz="5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ть определение пон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ктикум(с. 19) зад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лан изучения нового матери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Основные понятия урока ( словарь уро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человек- биологическое сущ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Homo sapiens (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хомо сапиенс)- «человек разумны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уль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род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рудия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одовая 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момента появления на земле и до начала Х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человек прошёл длительный путь развития. Если мысленно посмотреть на пройденный им путь, то можно увидеть, какие огромные изменения произошли в образе жизни людей, в из внешнем облике, формах общения и в окружающе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646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е люди появились 2-3 миллиона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родиной человека считается Аф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7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о-научное объяс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исхождения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оит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человек возник на Земл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хо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длительного и неравномер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процесса развит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7061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е с животны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700280"/>
            <a:ext cx="293040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о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биологическ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060640"/>
            <a:ext cx="2808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ение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3429000"/>
            <a:ext cx="26654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лог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64000" y="256500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321300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обытн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умели 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дали мен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объёму мозго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соврем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ероподоб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тами внеш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8684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11004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356000" y="1341360"/>
            <a:ext cx="43862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обытные 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и и трудились  сооб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ались от живот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м изготавливать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простей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удия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менно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удовая деятельность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способствовала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выделению человека из животного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844640"/>
            <a:ext cx="1512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B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56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22:11Z</dcterms:created>
  <dc:creator>Инна</dc:creator>
  <dc:description/>
  <dc:language>en-US</dc:language>
  <cp:lastModifiedBy>Инна</cp:lastModifiedBy>
  <dcterms:modified xsi:type="dcterms:W3CDTF">2010-09-19T15:42:26Z</dcterms:modified>
  <cp:revision>3</cp:revision>
  <dc:subject/>
  <dc:title>Происхождение и развитие человека</dc:title>
</cp:coreProperties>
</file>