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240B-C59B-4FBA-BFC0-350EF07FF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93D1-15B0-4C2D-89C6-5F47EA867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78C7-8AE6-4CC6-B0E6-36E1BE952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11ED-E5CB-454C-810C-C022E32E6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7AAC-3A74-47B9-9422-96BC7067C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867E-FC4C-49EB-B113-3BB49D148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FD18-9A10-416C-9714-DCD4F2C74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C899-9389-4D27-902B-7CF785691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3F49-F22C-40D6-9ED8-CCB778168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0C6C-1CB9-472E-B7C9-210265EC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982F-5A1A-4870-BEF5-19F3D3D4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9506-926F-45B1-ADB4-7659EADD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FE213-5CF8-45B7-8D07-7C1AA20021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14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Происхождение и развитие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47640" y="5589720"/>
            <a:ext cx="64008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рок по обществозна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6 кла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Развитие челове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коло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40 тысяч ле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назад появился </a:t>
            </a:r>
            <a:r>
              <a:rPr b="1" i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«</a:t>
            </a:r>
            <a:r>
              <a:rPr b="1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homo sapiens</a:t>
            </a:r>
            <a:r>
              <a:rPr b="1" i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»</a:t>
            </a:r>
            <a:r>
              <a:rPr b="1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        </a:t>
            </a:r>
            <a:r>
              <a:rPr b="1" i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«человек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1" i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разумный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?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 Опишите облик «человека разумного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292720" y="1413000"/>
            <a:ext cx="3429000" cy="49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 Развитие чело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«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Человек разумный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ямохожд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овершенствование ру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величение объёма мозг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ленораздельная реч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ьзование новых орудий труда( из дерева, кремня, кости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мение добывать огонь, шить одежду, строить жили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коллективной трудов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ловек развивался к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щество  </a:t>
            </a:r>
            <a:r>
              <a:rPr b="1" i="1" lang="ru-RU" sz="2400" spc="-1" strike="noStrike" u="sng">
                <a:solidFill>
                  <a:srgbClr val="cc0000"/>
                </a:solidFill>
                <a:uFillTx/>
                <a:latin typeface="Arial"/>
              </a:rPr>
              <a:t>общественное , социа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55640" y="5373720"/>
            <a:ext cx="936720" cy="7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NB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30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30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0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30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000" fill="hold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3000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Развитие челове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1413000"/>
            <a:ext cx="316692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явление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42920" y="4005360"/>
            <a:ext cx="331308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зможность обща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 другими людь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88000" y="1700280"/>
            <a:ext cx="3600360" cy="23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копление зна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 окружающем мир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ередача 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ругим поколен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51280" y="2205000"/>
            <a:ext cx="936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68360" y="2781360"/>
            <a:ext cx="432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 Развитие чело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4360" y="1700280"/>
            <a:ext cx="273528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вит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2276640"/>
            <a:ext cx="309744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ним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обходим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ъеди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47640" y="4292640"/>
            <a:ext cx="3024360" cy="1441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вершенствов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рудий тр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19640" y="2421000"/>
            <a:ext cx="1512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24000" y="3068640"/>
            <a:ext cx="8636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 Развитие чело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Родовая общи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стойчив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ъедин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нована на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кровн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родств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пользу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коллективный труд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уравнитель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распре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572000" y="2133720"/>
            <a:ext cx="403848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 Развитие чело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овместными усилиями люди не тольк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способились к окружающему мир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о и </a:t>
            </a:r>
            <a:r>
              <a:rPr b="1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изменили, преобразовал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окультурил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900000" y="1052640"/>
            <a:ext cx="7413840" cy="55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 Развитие чело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 влиянием природных условий сложились основные расы люд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?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Какие отличительные признаки рас можно выдели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859280" y="1628640"/>
            <a:ext cx="35910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556000" y="1125360"/>
            <a:ext cx="3619440" cy="54500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 Развитие чело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 Развитие чело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Нет никаких данны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казывающи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уществование 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ких-либ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с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умственных, психических, физиологических и иных преимуществ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над остальн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5640" y="1844640"/>
            <a:ext cx="2664000" cy="18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c0000"/>
                </a:solidFill>
                <a:uFillTx/>
                <a:latin typeface="Arial"/>
              </a:rPr>
              <a:t>NB</a:t>
            </a:r>
            <a:r>
              <a:rPr b="1" lang="ru-RU" sz="5400" spc="-1" strike="noStrike" u="sng">
                <a:solidFill>
                  <a:srgbClr val="cc0000"/>
                </a:solidFill>
                <a:uFillTx/>
                <a:latin typeface="Arial"/>
              </a:rPr>
              <a:t>!!!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омашнее зада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2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знать определение поняти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актикум(с. 19) зад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План изучения нового материал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3141720"/>
            <a:ext cx="8229600" cy="29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Происхождение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Развитие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        </a:t>
            </a:r>
            <a:r>
              <a:rPr b="1" lang="ru-RU" sz="2400" spc="-1" strike="noStrike" u="sng">
                <a:solidFill>
                  <a:srgbClr val="006666"/>
                </a:solidFill>
                <a:uFillTx/>
                <a:latin typeface="Arial"/>
              </a:rPr>
              <a:t>Основные понятия урока ( словарь урока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человек- биологическое существ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Homo sapiens ( 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хомо сапиенс)- «человек разумный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культур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природа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орудия тру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родовая общ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6666"/>
                </a:solidFill>
                <a:uFillTx/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Происхождение челове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 момента появления на земле и до начала Х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ека человек прошёл длительный путь развития. Если мысленно посмотреть на пройденный им путь, то можно увидеть, какие огромные изменения произошли в образе жизни людей, в из внешнем облике, формах общения и в окружающей сре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900000" y="1268280"/>
            <a:ext cx="7464600" cy="51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Происхождение челове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вые люди появились 2-3 миллиона лет наза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ародиной человека считается Афр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435640" y="1557360"/>
            <a:ext cx="2746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Происхождение челове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стественно-научное объясн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исхождения челове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остоит в том, ч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человек возник на Земл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ход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длительного и неравномер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                      </a:t>
            </a:r>
            <a:r>
              <a:rPr b="1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процесса развития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187280" y="1125360"/>
            <a:ext cx="70614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Происхождение челове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щее с животным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700280"/>
            <a:ext cx="2930400" cy="316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Человек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род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биологическо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ущест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76720" y="2060640"/>
            <a:ext cx="280836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оение орг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219640" y="3429000"/>
            <a:ext cx="266544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аракт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иологиче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треб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564000" y="2565000"/>
            <a:ext cx="1584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64000" y="3213000"/>
            <a:ext cx="16556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Происхождение челове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ервобытные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лю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 умели говори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ладали меньши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объёму мозгом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ем современ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елове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вероподобны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ертами внеш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292720" y="1341360"/>
            <a:ext cx="2868480" cy="2057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5219640" y="3716280"/>
            <a:ext cx="3110040" cy="2225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4356000" y="1341360"/>
            <a:ext cx="438624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56000" y="1341000"/>
            <a:ext cx="6130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ервобытные лю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ли и трудились  сообщ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личались от животных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нием изготавливать 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ть простейш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удия тру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Именно </a:t>
            </a:r>
            <a:r>
              <a:rPr b="1" i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трудовая деятельность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 способствовала </a:t>
            </a:r>
            <a:r>
              <a:rPr b="1" i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выделению человека из животного ми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55640" y="1844640"/>
            <a:ext cx="151272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NB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42920" y="26028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Происхождение челове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755640" y="1125360"/>
            <a:ext cx="756144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13:22:11Z</dcterms:created>
  <dc:creator>Инна</dc:creator>
  <dc:description/>
  <dc:language>en-US</dc:language>
  <cp:lastModifiedBy>Инна</cp:lastModifiedBy>
  <dcterms:modified xsi:type="dcterms:W3CDTF">2010-09-19T15:42:26Z</dcterms:modified>
  <cp:revision>3</cp:revision>
  <dc:subject/>
  <dc:title>Происхождение и развитие человека</dc:title>
</cp:coreProperties>
</file>