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13C-114D-4972-A7B5-20AC1E44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26A-BE14-48CC-8E45-388468FE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29D-C0D1-4897-9E69-E720E94A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1E4-2908-45EE-88F5-FD82F14D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7AF-FC95-4E28-B063-C54B41A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227-710A-4520-8D50-17C5B794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AF5-23E3-44CD-95A1-C958E404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135-ACF0-42BF-9219-4C4EF33F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BEC-384E-4580-8568-75779304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6AF-8949-4C25-9D38-2011CFA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638-7D1D-4BEE-B667-229B72CE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41B-3269-498C-B0EC-A63FB74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0826-40F4-4399-A2C5-F727EB833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Происхождение и развитие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5897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 по обществозн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0 тысяч л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назад появился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«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omo sapiens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»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«челове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разумный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Опишите облик «человека разумного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4290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ловек разумный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хо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овершенствование ру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ение объёма моз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ленораздельн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новых орудий труда( из дерева, кремня, к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добывать огонь, шить одежду, строить ж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ллективной труд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развивался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о  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бщественное , соц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373720"/>
            <a:ext cx="936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B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413000"/>
            <a:ext cx="31669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лен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005360"/>
            <a:ext cx="3313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ь общ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други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700280"/>
            <a:ext cx="3600360" cy="23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копление зн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 окружающем ми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дача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угим покол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205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278136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700280"/>
            <a:ext cx="27352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276640"/>
            <a:ext cx="30974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обход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4292640"/>
            <a:ext cx="302436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ршенств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дий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42100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306864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одовая общ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ойчи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ди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а на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ров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род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оллективный труд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урав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038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местными усилиями люди не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способились к окружающему ми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зменили, преобразов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культури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741384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влиянием природных условий сложились основные расы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акие отличительные признаки рас можно выдел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591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3619440" cy="5450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ет никаких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казывающ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ществование 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х-либ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умственных, психических, физиологических и иных преимущест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над оста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844640"/>
            <a:ext cx="2664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NB</a:t>
            </a:r>
            <a:r>
              <a:rPr b="1" lang="ru-RU" sz="5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нать определение понят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актикум(с. 19) зад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лан изучения нового матери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Основные понятия урока ( словарь урок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человек- биологическое сущ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Homo sapiens (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хомо сапиенс)- «человек разумны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ульту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род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рудия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одовая об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момента появления на земле и до начала Х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человек прошёл длительный путь развития. Если мысленно посмотреть на пройденный им путь, то можно увидеть, какие огромные изменения произошли в образе жизни людей, в из внешнем облике, формах общения и в окружающе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646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е люди появились 2-3 миллиона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родиной человека считается Аф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74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тественно-научное объяс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исхождения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оит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человек возник на Земл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хо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длительного и неравномер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процесса развит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7061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е с животны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700280"/>
            <a:ext cx="293040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род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биологическ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060640"/>
            <a:ext cx="2808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ение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3429000"/>
            <a:ext cx="26654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олог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64000" y="256500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321300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вобытны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лю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умели говор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ладали мень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объёму мозгом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соврем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ероподоб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тами внеш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8684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110040" cy="2225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356000" y="1341360"/>
            <a:ext cx="43862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обытные лю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и и трудились  сообщ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ались от животн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м изготавливать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простей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удия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менно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трудовая деятельность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способствовала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выделению человека из животного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844640"/>
            <a:ext cx="1512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B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561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22:11Z</dcterms:created>
  <dc:creator>Инна</dc:creator>
  <dc:description/>
  <dc:language>en-US</dc:language>
  <cp:lastModifiedBy>Инна</cp:lastModifiedBy>
  <dcterms:modified xsi:type="dcterms:W3CDTF">2010-09-19T15:42:26Z</dcterms:modified>
  <cp:revision>3</cp:revision>
  <dc:subject/>
  <dc:title>Происхождение и развитие человека</dc:title>
</cp:coreProperties>
</file>