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3F1-6184-45DD-BE7D-AFE1DB1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DCB-D723-478A-9297-942BAFDD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B1E-3B7F-4978-9E50-83B52820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187-48AB-423C-8DAB-E6FE0475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101-2600-454A-8732-97DB0B4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220-F7C4-4315-9AD5-8EF488C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63B-1CDD-468E-9109-B91D89E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AAA-78A9-42EC-8253-792444E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5CC-ACD6-4008-B54D-53624F3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F15-5476-4727-BAAD-71B08B8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2E1-E9F7-482E-A32F-C9E76A8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155-A3BB-4F25-B64D-EC0E3E7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3E0D-84C3-42FC-B19A-0D872DC4A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5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5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5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image" Target="../media/image5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11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6.jpeg"/><Relationship Id="rId31" Type="http://schemas.openxmlformats.org/officeDocument/2006/relationships/image" Target="../media/image11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9.jpeg"/><Relationship Id="rId37" Type="http://schemas.openxmlformats.org/officeDocument/2006/relationships/image" Target="../media/image10.jpeg"/><Relationship Id="rId38" Type="http://schemas.openxmlformats.org/officeDocument/2006/relationships/image" Target="../media/image8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9.jpeg"/><Relationship Id="rId42" Type="http://schemas.openxmlformats.org/officeDocument/2006/relationships/image" Target="../media/image10.jpe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9.jpeg"/><Relationship Id="rId46" Type="http://schemas.openxmlformats.org/officeDocument/2006/relationships/image" Target="../media/image8.jpeg"/><Relationship Id="rId47" Type="http://schemas.openxmlformats.org/officeDocument/2006/relationships/image" Target="../media/image10.jpeg"/><Relationship Id="rId48" Type="http://schemas.openxmlformats.org/officeDocument/2006/relationships/image" Target="../media/image8.jpeg"/><Relationship Id="rId49" Type="http://schemas.openxmlformats.org/officeDocument/2006/relationships/image" Target="../media/image10.jpeg"/><Relationship Id="rId50" Type="http://schemas.openxmlformats.org/officeDocument/2006/relationships/image" Target="../media/image11.jpeg"/><Relationship Id="rId51" Type="http://schemas.openxmlformats.org/officeDocument/2006/relationships/image" Target="../media/image10.jpeg"/><Relationship Id="rId52" Type="http://schemas.openxmlformats.org/officeDocument/2006/relationships/image" Target="../media/image11.jpeg"/><Relationship Id="rId53" Type="http://schemas.openxmlformats.org/officeDocument/2006/relationships/image" Target="../media/image10.jpeg"/><Relationship Id="rId54" Type="http://schemas.openxmlformats.org/officeDocument/2006/relationships/image" Target="../media/image11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8.jpeg"/><Relationship Id="rId59" Type="http://schemas.openxmlformats.org/officeDocument/2006/relationships/image" Target="../media/image8.jpeg"/><Relationship Id="rId60" Type="http://schemas.openxmlformats.org/officeDocument/2006/relationships/image" Target="../media/image11.jpeg"/><Relationship Id="rId61" Type="http://schemas.openxmlformats.org/officeDocument/2006/relationships/image" Target="../media/image10.jpeg"/><Relationship Id="rId62" Type="http://schemas.openxmlformats.org/officeDocument/2006/relationships/image" Target="../media/image11.jpeg"/><Relationship Id="rId63" Type="http://schemas.openxmlformats.org/officeDocument/2006/relationships/image" Target="../media/image10.jpeg"/><Relationship Id="rId64" Type="http://schemas.openxmlformats.org/officeDocument/2006/relationships/image" Target="../media/image11.jpeg"/><Relationship Id="rId65" Type="http://schemas.openxmlformats.org/officeDocument/2006/relationships/image" Target="../media/image10.jpeg"/><Relationship Id="rId66" Type="http://schemas.openxmlformats.org/officeDocument/2006/relationships/image" Target="../media/image11.jpeg"/><Relationship Id="rId6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rbuz.uz/u_parke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060640"/>
            <a:ext cx="720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ЫЕ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НОГОУГОЛЬНИКИ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56000" y="1890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гимназия №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Томск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16000" y="4797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 геометрии в 9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372360" y="580536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ковникова Н.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708360" y="1700280"/>
            <a:ext cx="503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читай несчастным тот день или тот час, в который ты не усвоил ничего нового и ничего не прибавил к своему образовани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.А.Ка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"/>
          <p:cNvPicPr/>
          <p:nvPr/>
        </p:nvPicPr>
        <p:blipFill>
          <a:blip r:embed="rId1"/>
          <a:srcRect l="0" t="5116" r="12340" b="5143"/>
          <a:stretch/>
        </p:blipFill>
        <p:spPr>
          <a:xfrm>
            <a:off x="468360" y="476280"/>
            <a:ext cx="3089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189000"/>
            <a:ext cx="84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авильным называется многоугольник, у которого все стороны равны и все углы рав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826920" y="429264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3840120" y="2252520"/>
            <a:ext cx="1986120" cy="171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solidFill>
            <a:srgbClr val="99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51280" y="4365720"/>
            <a:ext cx="1800360" cy="1800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solidFill>
            <a:srgbClr val="cc99ff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1116000" y="2349360"/>
            <a:ext cx="1800360" cy="1530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6372360" y="4221000"/>
            <a:ext cx="2023920" cy="20242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2024280"/>
              <a:gd name="textAreaBottom" fmla="*/ 2024640 h 2024280"/>
            </a:gdLst>
            <a:ahLst/>
            <a:rect l="textAreaLeft" t="textAreaTop" r="textAreaRight" b="textAreaBottom"/>
            <a:pathLst>
              <a:path w="626" h="626">
                <a:moveTo>
                  <a:pt x="625" y="312"/>
                </a:moveTo>
                <a:lnTo>
                  <a:pt x="531" y="531"/>
                </a:lnTo>
                <a:lnTo>
                  <a:pt x="312" y="625"/>
                </a:lnTo>
                <a:lnTo>
                  <a:pt x="94" y="531"/>
                </a:lnTo>
                <a:lnTo>
                  <a:pt x="0" y="312"/>
                </a:lnTo>
                <a:lnTo>
                  <a:pt x="94" y="94"/>
                </a:lnTo>
                <a:lnTo>
                  <a:pt x="312" y="0"/>
                </a:lnTo>
                <a:lnTo>
                  <a:pt x="531" y="94"/>
                </a:lnTo>
                <a:lnTo>
                  <a:pt x="625" y="312"/>
                </a:lnTo>
                <a:close/>
              </a:path>
            </a:pathLst>
          </a:custGeom>
          <a:solidFill>
            <a:srgbClr val="33cccc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6804000" y="2349360"/>
            <a:ext cx="1569960" cy="157032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570320"/>
              <a:gd name="textAreaBottom" fmla="*/ 1570680 h 15703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197964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7964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4859280" y="691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-90000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419640" y="112536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3419640" y="691920"/>
            <a:ext cx="143964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179280" y="336600"/>
            <a:ext cx="6405480" cy="6405480"/>
            <a:chOff x="179280" y="336600"/>
            <a:chExt cx="6405480" cy="6405480"/>
          </a:xfrm>
        </p:grpSpPr>
        <p:sp>
          <p:nvSpPr>
            <p:cNvPr id="61" name="Oval 14"/>
            <p:cNvSpPr/>
            <p:nvPr/>
          </p:nvSpPr>
          <p:spPr>
            <a:xfrm>
              <a:off x="179280" y="336600"/>
              <a:ext cx="6405480" cy="64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3384360" y="35416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16"/>
          <p:cNvSpPr/>
          <p:nvPr/>
        </p:nvSpPr>
        <p:spPr>
          <a:xfrm>
            <a:off x="4859280" y="692280"/>
            <a:ext cx="1728720" cy="28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859280" y="692280"/>
            <a:ext cx="2665440" cy="1800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195280" y="692280"/>
            <a:ext cx="2663640" cy="172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2195640" y="2421000"/>
            <a:ext cx="863640" cy="33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 flipH="1">
            <a:off x="6732720" y="2492280"/>
            <a:ext cx="792000" cy="3313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3059280" y="5805360"/>
            <a:ext cx="367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2"/>
          <p:cNvSpPr/>
          <p:nvPr/>
        </p:nvSpPr>
        <p:spPr>
          <a:xfrm>
            <a:off x="1943280" y="35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1979640" y="3573360"/>
            <a:ext cx="2879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3381480" y="108576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3381480" y="605628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6"/>
          <p:cNvSpPr/>
          <p:nvPr/>
        </p:nvSpPr>
        <p:spPr>
          <a:xfrm>
            <a:off x="3381480" y="353700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7"/>
          <p:cNvSpPr/>
          <p:nvPr/>
        </p:nvSpPr>
        <p:spPr>
          <a:xfrm>
            <a:off x="6553080" y="353700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9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9"/>
          <p:cNvGrpSpPr/>
          <p:nvPr/>
        </p:nvGrpSpPr>
        <p:grpSpPr>
          <a:xfrm>
            <a:off x="611280" y="260280"/>
            <a:ext cx="6452640" cy="6480000"/>
            <a:chOff x="611280" y="260280"/>
            <a:chExt cx="6452640" cy="6480000"/>
          </a:xfrm>
        </p:grpSpPr>
        <p:sp>
          <p:nvSpPr>
            <p:cNvPr id="77" name="Oval 30"/>
            <p:cNvSpPr/>
            <p:nvPr/>
          </p:nvSpPr>
          <p:spPr>
            <a:xfrm>
              <a:off x="611280" y="290520"/>
              <a:ext cx="6449040" cy="644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1"/>
            <p:cNvSpPr/>
            <p:nvPr/>
          </p:nvSpPr>
          <p:spPr>
            <a:xfrm>
              <a:off x="611280" y="3487680"/>
              <a:ext cx="64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2"/>
            <p:cNvSpPr/>
            <p:nvPr/>
          </p:nvSpPr>
          <p:spPr>
            <a:xfrm flipV="1">
              <a:off x="3836520" y="260280"/>
              <a:ext cx="0" cy="64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37"/>
          <p:cNvSpPr/>
          <p:nvPr/>
        </p:nvSpPr>
        <p:spPr>
          <a:xfrm>
            <a:off x="3851280" y="2421000"/>
            <a:ext cx="0" cy="107928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26920" y="2421000"/>
            <a:ext cx="605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1"/>
          <p:cNvGrpSpPr/>
          <p:nvPr/>
        </p:nvGrpSpPr>
        <p:grpSpPr>
          <a:xfrm>
            <a:off x="4067280" y="2637000"/>
            <a:ext cx="217440" cy="541080"/>
            <a:chOff x="4067280" y="2637000"/>
            <a:chExt cx="217440" cy="541080"/>
          </a:xfrm>
        </p:grpSpPr>
        <p:sp>
          <p:nvSpPr>
            <p:cNvPr id="83" name="WordArt 40"/>
            <p:cNvSpPr txBox="1"/>
            <p:nvPr/>
          </p:nvSpPr>
          <p:spPr>
            <a:xfrm>
              <a:off x="4067280" y="2637000"/>
              <a:ext cx="16200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4" name="WordArt 41"/>
            <p:cNvSpPr txBox="1"/>
            <p:nvPr/>
          </p:nvSpPr>
          <p:spPr>
            <a:xfrm>
              <a:off x="4067280" y="2997360"/>
              <a:ext cx="193680" cy="1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5" name="Line 42"/>
            <p:cNvSpPr/>
            <p:nvPr/>
          </p:nvSpPr>
          <p:spPr>
            <a:xfrm>
              <a:off x="4067280" y="29019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45"/>
          <p:cNvSpPr/>
          <p:nvPr/>
        </p:nvSpPr>
        <p:spPr>
          <a:xfrm flipV="1">
            <a:off x="826920" y="260280"/>
            <a:ext cx="302436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3851280" y="260280"/>
            <a:ext cx="302580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1692360" y="5950080"/>
            <a:ext cx="424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826920" y="2421000"/>
            <a:ext cx="86544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 flipH="1">
            <a:off x="5940360" y="2421000"/>
            <a:ext cx="93672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75564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3814920" y="260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684036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>
            <a:off x="590076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165420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8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0"/>
          <p:cNvGrpSpPr/>
          <p:nvPr/>
        </p:nvGrpSpPr>
        <p:grpSpPr>
          <a:xfrm>
            <a:off x="755640" y="691920"/>
            <a:ext cx="5761080" cy="5785200"/>
            <a:chOff x="755640" y="691920"/>
            <a:chExt cx="5761080" cy="5785200"/>
          </a:xfrm>
        </p:grpSpPr>
        <p:sp>
          <p:nvSpPr>
            <p:cNvPr id="98" name="Line 7"/>
            <p:cNvSpPr/>
            <p:nvPr/>
          </p:nvSpPr>
          <p:spPr>
            <a:xfrm>
              <a:off x="3635280" y="692280"/>
              <a:ext cx="2665440" cy="180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9"/>
            <p:cNvGrpSpPr/>
            <p:nvPr/>
          </p:nvGrpSpPr>
          <p:grpSpPr>
            <a:xfrm>
              <a:off x="755640" y="691920"/>
              <a:ext cx="5761080" cy="5785200"/>
              <a:chOff x="755640" y="691920"/>
              <a:chExt cx="5761080" cy="5785200"/>
            </a:xfrm>
          </p:grpSpPr>
          <p:grpSp>
            <p:nvGrpSpPr>
              <p:cNvPr id="100" name="Group 28"/>
              <p:cNvGrpSpPr/>
              <p:nvPr/>
            </p:nvGrpSpPr>
            <p:grpSpPr>
              <a:xfrm>
                <a:off x="755640" y="691920"/>
                <a:ext cx="5761080" cy="5785200"/>
                <a:chOff x="755640" y="691920"/>
                <a:chExt cx="5761080" cy="5785200"/>
              </a:xfrm>
            </p:grpSpPr>
            <p:sp>
              <p:nvSpPr>
                <p:cNvPr id="101" name="Oval 4"/>
                <p:cNvSpPr/>
                <p:nvPr/>
              </p:nvSpPr>
              <p:spPr>
                <a:xfrm>
                  <a:off x="755640" y="719280"/>
                  <a:ext cx="5757840" cy="5757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5"/>
                <p:cNvSpPr/>
                <p:nvPr/>
              </p:nvSpPr>
              <p:spPr>
                <a:xfrm>
                  <a:off x="755640" y="3573360"/>
                  <a:ext cx="576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"/>
                <p:cNvSpPr/>
                <p:nvPr/>
              </p:nvSpPr>
              <p:spPr>
                <a:xfrm flipV="1">
                  <a:off x="3635280" y="691920"/>
                  <a:ext cx="0" cy="576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8"/>
              <p:cNvSpPr/>
              <p:nvPr/>
            </p:nvSpPr>
            <p:spPr>
              <a:xfrm flipH="1">
                <a:off x="971280" y="692280"/>
                <a:ext cx="2663640" cy="17287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9"/>
            <p:cNvSpPr/>
            <p:nvPr/>
          </p:nvSpPr>
          <p:spPr>
            <a:xfrm>
              <a:off x="971640" y="2421000"/>
              <a:ext cx="863640" cy="338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508720" y="2492280"/>
              <a:ext cx="792000" cy="3313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1835280" y="5805360"/>
              <a:ext cx="3673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5"/>
          <p:cNvSpPr/>
          <p:nvPr/>
        </p:nvSpPr>
        <p:spPr>
          <a:xfrm flipV="1">
            <a:off x="826920" y="3573360"/>
            <a:ext cx="2808360" cy="71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826920" y="2420640"/>
            <a:ext cx="144720" cy="187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V="1">
            <a:off x="971640" y="119700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V="1">
            <a:off x="2052720" y="692280"/>
            <a:ext cx="15825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635280" y="692280"/>
            <a:ext cx="15843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5219640" y="1197000"/>
            <a:ext cx="1081080" cy="1295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6300720" y="2492280"/>
            <a:ext cx="71640" cy="19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508360" y="4437000"/>
            <a:ext cx="863640" cy="136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 flipH="1">
            <a:off x="3635280" y="5805360"/>
            <a:ext cx="187344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 flipH="1" flipV="1">
            <a:off x="1835280" y="5805360"/>
            <a:ext cx="180000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 flipV="1">
            <a:off x="826560" y="4292640"/>
            <a:ext cx="1008360" cy="151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 rot="1833000">
            <a:off x="1332000" y="3718080"/>
            <a:ext cx="431640" cy="431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1"/>
          <p:cNvSpPr txBox="1"/>
          <p:nvPr/>
        </p:nvSpPr>
        <p:spPr>
          <a:xfrm>
            <a:off x="6156360" y="260280"/>
            <a:ext cx="2763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дво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личест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44"/>
          <p:cNvSpPr/>
          <p:nvPr/>
        </p:nvSpPr>
        <p:spPr>
          <a:xfrm>
            <a:off x="3795840" y="4583160"/>
            <a:ext cx="993600" cy="99360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6227640" y="5013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 rot="19513800">
            <a:off x="4013280" y="4762080"/>
            <a:ext cx="576360" cy="561960"/>
          </a:xfrm>
          <a:custGeom>
            <a:avLst/>
            <a:gdLst>
              <a:gd name="textAreaLeft" fmla="*/ 0 w 576360"/>
              <a:gd name="textAreaRight" fmla="*/ 576720 w 576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826920" y="112536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501840" y="4064040"/>
            <a:ext cx="2035080" cy="2040120"/>
            <a:chOff x="501840" y="4064040"/>
            <a:chExt cx="2035080" cy="2040120"/>
          </a:xfrm>
        </p:grpSpPr>
        <p:grpSp>
          <p:nvGrpSpPr>
            <p:cNvPr id="126" name="Group 16"/>
            <p:cNvGrpSpPr/>
            <p:nvPr/>
          </p:nvGrpSpPr>
          <p:grpSpPr>
            <a:xfrm>
              <a:off x="501840" y="4066560"/>
              <a:ext cx="1028520" cy="1173960"/>
              <a:chOff x="501840" y="4066560"/>
              <a:chExt cx="1028520" cy="1173960"/>
            </a:xfrm>
          </p:grpSpPr>
          <p:sp>
            <p:nvSpPr>
              <p:cNvPr id="127" name="Freeform 7"/>
              <p:cNvSpPr/>
              <p:nvPr/>
            </p:nvSpPr>
            <p:spPr>
              <a:xfrm rot="12604200">
                <a:off x="846720" y="417708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 rot="16186800">
                <a:off x="971640" y="438624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 rot="19671000">
                <a:off x="851040" y="461700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 rot="1804800">
                <a:off x="604080" y="461700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 rot="5387400">
                <a:off x="480240" y="44071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 rot="8871000">
                <a:off x="590760" y="41857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Freeform 18"/>
            <p:cNvSpPr/>
            <p:nvPr/>
          </p:nvSpPr>
          <p:spPr>
            <a:xfrm rot="12607200">
              <a:off x="1854000" y="417456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 rot="16189200">
              <a:off x="1977840" y="4385880"/>
              <a:ext cx="581040" cy="5112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 rot="19673400">
              <a:off x="1859040" y="4616280"/>
              <a:ext cx="588960" cy="503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 rot="1806600">
              <a:off x="1611000" y="4614480"/>
              <a:ext cx="581040" cy="512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 rot="5389200">
              <a:off x="1486800" y="440640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 rot="8872800">
              <a:off x="1598400" y="4184640"/>
              <a:ext cx="588960" cy="5047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24"/>
            <p:cNvGrpSpPr/>
            <p:nvPr/>
          </p:nvGrpSpPr>
          <p:grpSpPr>
            <a:xfrm>
              <a:off x="1004760" y="4929840"/>
              <a:ext cx="1032480" cy="1174320"/>
              <a:chOff x="1004760" y="4929840"/>
              <a:chExt cx="1032480" cy="1174320"/>
            </a:xfrm>
          </p:grpSpPr>
          <p:sp>
            <p:nvSpPr>
              <p:cNvPr id="140" name="Freeform 25"/>
              <p:cNvSpPr/>
              <p:nvPr/>
            </p:nvSpPr>
            <p:spPr>
              <a:xfrm rot="12577800">
                <a:off x="1350000" y="503964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 rot="16160400">
                <a:off x="1476360" y="52477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 rot="19644600">
                <a:off x="1357920" y="54799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 rot="1777800">
                <a:off x="1110600" y="54813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 rot="5361000">
                <a:off x="984960" y="52725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 rot="8844600">
                <a:off x="1093680" y="505008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Freeform 32"/>
          <p:cNvSpPr/>
          <p:nvPr/>
        </p:nvSpPr>
        <p:spPr>
          <a:xfrm rot="10800000">
            <a:off x="572292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543564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3"/>
          <p:cNvSpPr/>
          <p:nvPr/>
        </p:nvSpPr>
        <p:spPr>
          <a:xfrm>
            <a:off x="3348000" y="3933720"/>
            <a:ext cx="993960" cy="99396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4319640" y="3933720"/>
            <a:ext cx="993600" cy="99396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460692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302256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3832200" y="537372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2"/>
          <p:cNvSpPr/>
          <p:nvPr/>
        </p:nvSpPr>
        <p:spPr>
          <a:xfrm>
            <a:off x="7524720" y="4940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3"/>
          <p:cNvSpPr/>
          <p:nvPr/>
        </p:nvSpPr>
        <p:spPr>
          <a:xfrm>
            <a:off x="6877080" y="4581360"/>
            <a:ext cx="906480" cy="78444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6877080" y="537372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6877080" y="3789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0"/>
          <p:cNvSpPr/>
          <p:nvPr/>
        </p:nvSpPr>
        <p:spPr>
          <a:xfrm>
            <a:off x="7524720" y="4148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6189840" y="4203720"/>
            <a:ext cx="906120" cy="784080"/>
          </a:xfrm>
          <a:custGeom>
            <a:avLst/>
            <a:gdLst>
              <a:gd name="textAreaLeft" fmla="*/ 0 w 906120"/>
              <a:gd name="textAreaRight" fmla="*/ 906480 w 90612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2"/>
          <p:cNvSpPr/>
          <p:nvPr/>
        </p:nvSpPr>
        <p:spPr>
          <a:xfrm>
            <a:off x="1332000" y="112536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3"/>
          <p:cNvSpPr/>
          <p:nvPr/>
        </p:nvSpPr>
        <p:spPr>
          <a:xfrm>
            <a:off x="826920" y="6206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4"/>
          <p:cNvSpPr/>
          <p:nvPr/>
        </p:nvSpPr>
        <p:spPr>
          <a:xfrm>
            <a:off x="133200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65"/>
          <p:cNvSpPr/>
          <p:nvPr/>
        </p:nvSpPr>
        <p:spPr>
          <a:xfrm>
            <a:off x="826920" y="162864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826920" y="263700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1332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183528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826920" y="213372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1835280" y="213372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2"/>
          <p:cNvSpPr/>
          <p:nvPr/>
        </p:nvSpPr>
        <p:spPr>
          <a:xfrm>
            <a:off x="2340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3"/>
          <p:cNvSpPr/>
          <p:nvPr/>
        </p:nvSpPr>
        <p:spPr>
          <a:xfrm>
            <a:off x="1332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4"/>
          <p:cNvSpPr/>
          <p:nvPr/>
        </p:nvSpPr>
        <p:spPr>
          <a:xfrm>
            <a:off x="1835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5"/>
          <p:cNvSpPr/>
          <p:nvPr/>
        </p:nvSpPr>
        <p:spPr>
          <a:xfrm>
            <a:off x="2340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6"/>
          <p:cNvSpPr/>
          <p:nvPr/>
        </p:nvSpPr>
        <p:spPr>
          <a:xfrm>
            <a:off x="2843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7"/>
          <p:cNvSpPr/>
          <p:nvPr/>
        </p:nvSpPr>
        <p:spPr>
          <a:xfrm rot="10800000">
            <a:off x="629928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8"/>
          <p:cNvSpPr/>
          <p:nvPr/>
        </p:nvSpPr>
        <p:spPr>
          <a:xfrm>
            <a:off x="6012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9"/>
          <p:cNvSpPr/>
          <p:nvPr/>
        </p:nvSpPr>
        <p:spPr>
          <a:xfrm rot="10800000">
            <a:off x="6875280" y="170172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0"/>
          <p:cNvSpPr/>
          <p:nvPr/>
        </p:nvSpPr>
        <p:spPr>
          <a:xfrm>
            <a:off x="6588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1"/>
          <p:cNvSpPr/>
          <p:nvPr/>
        </p:nvSpPr>
        <p:spPr>
          <a:xfrm rot="10800000">
            <a:off x="514656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601200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16292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86"/>
          <p:cNvSpPr/>
          <p:nvPr/>
        </p:nvSpPr>
        <p:spPr>
          <a:xfrm>
            <a:off x="485928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543564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88"/>
          <p:cNvSpPr/>
          <p:nvPr/>
        </p:nvSpPr>
        <p:spPr>
          <a:xfrm>
            <a:off x="658800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 flipV="1" rot="10800000">
            <a:off x="572292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0"/>
          <p:cNvSpPr/>
          <p:nvPr/>
        </p:nvSpPr>
        <p:spPr>
          <a:xfrm flipV="1">
            <a:off x="543564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1"/>
          <p:cNvSpPr/>
          <p:nvPr/>
        </p:nvSpPr>
        <p:spPr>
          <a:xfrm flipV="1" rot="10800000">
            <a:off x="629928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 flipV="1">
            <a:off x="6012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3"/>
          <p:cNvSpPr/>
          <p:nvPr/>
        </p:nvSpPr>
        <p:spPr>
          <a:xfrm flipV="1" rot="10800000">
            <a:off x="6875280" y="278136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4"/>
          <p:cNvSpPr/>
          <p:nvPr/>
        </p:nvSpPr>
        <p:spPr>
          <a:xfrm flipV="1">
            <a:off x="6588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95"/>
          <p:cNvSpPr/>
          <p:nvPr/>
        </p:nvSpPr>
        <p:spPr>
          <a:xfrm flipV="1" rot="10800000">
            <a:off x="514656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7"/>
          <p:cNvSpPr txBox="1"/>
          <p:nvPr/>
        </p:nvSpPr>
        <p:spPr>
          <a:xfrm>
            <a:off x="3708360" y="260280"/>
            <a:ext cx="36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арк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з прави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700360" y="62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55640" y="1916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parket.info/  паркеты эрми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tdelremonta.ru/galler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buz.uz/u_parke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ческий словарь юного математика./ Сост. А.П.Савин.-М.:Педагогика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6:32:40Z</dcterms:created>
  <dc:creator>Nadezhda K. Klesova</dc:creator>
  <dc:description/>
  <dc:language>en-US</dc:language>
  <cp:lastModifiedBy>Admin</cp:lastModifiedBy>
  <dcterms:modified xsi:type="dcterms:W3CDTF">2014-07-10T15:50:14Z</dcterms:modified>
  <cp:revision>7</cp:revision>
  <dc:subject/>
  <dc:title>Слайд 1</dc:title>
</cp:coreProperties>
</file>