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1DF-EDF3-4A04-9414-277A0285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A12-2329-4B84-AFC0-4F48F38A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2AD-C6CC-4422-93EE-74436206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1CD-B379-411E-B6EE-3D351BB0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197-3F63-40E2-9E16-A216D56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627-0D64-4FB4-97BA-CC9E8DCC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880-4A8E-4003-AC92-ADAA6DFE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CDC-BD75-4E60-A74B-54717236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5D0-6601-49A2-BF61-393DE9A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679-6F54-444B-BA85-A49C59B9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C5A-C37F-4911-8A0B-C8577141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500-7776-4B7D-9A65-F1EE5BC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1CF0-0EAB-4558-865D-20A37C894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lyceum-4.ucoz.ru/Lager/GD/slajd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заходи за линию безопасности у края пассажирской платформ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рыгай с пассажирской платформы на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однимайся на крыши вагонов поезд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http://school324.kurort.gov.spb.ru/2012_2013/railway/12.jpg"/>
          <p:cNvPicPr/>
          <p:nvPr/>
        </p:nvPicPr>
        <p:blipFill>
          <a:blip r:embed="rId2"/>
          <a:stretch/>
        </p:blipFill>
        <p:spPr>
          <a:xfrm>
            <a:off x="357120" y="4572000"/>
            <a:ext cx="2286000" cy="196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http://school324.kurort.gov.spb.ru/2012_2013/railway/13.jpg"/>
          <p:cNvPicPr/>
          <p:nvPr/>
        </p:nvPicPr>
        <p:blipFill>
          <a:blip r:embed="rId3"/>
          <a:stretch/>
        </p:blipFill>
        <p:spPr>
          <a:xfrm>
            <a:off x="3643200" y="4071960"/>
            <a:ext cx="200052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http://school324.kurort.gov.spb.ru/2012_2013/railway/14.jpg"/>
          <p:cNvPicPr/>
          <p:nvPr/>
        </p:nvPicPr>
        <p:blipFill>
          <a:blip r:embed="rId4"/>
          <a:stretch/>
        </p:blipFill>
        <p:spPr>
          <a:xfrm>
            <a:off x="6786720" y="3357720"/>
            <a:ext cx="20016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http://lyceum-4.ucoz.ru/Lager/GD/slajd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http://lyceum-4.ucoz.ru/Lager/GD/slajd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http://lyceum-4.ucoz.ru/Lager/GD/slajd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блюдая эти элементарные правила личной безопасности, которые требуют от Вас только внимания и осмотрительности,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ы убережете свою жизнь, жизнь своих детей, родственников и близки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елезная дорога - удобный и востребованный вид транспорта, которым пользуются миллионы людей каждый день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57120" y="0"/>
            <a:ext cx="857268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большинстве участков железных дорог скорость поездов достигает д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140 км/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При огромных объемах перевозок, высокой интенсивности и повышенных скоростях движения поездов железные дороги являю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оной повышенной опасност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ля остановки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движущегося со скоростью 60-70 км/ч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обходимо 600-700 метр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. Масса локомотива превышает 500 тонн, а грузового состава – 5 тысяч тон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пряжение в проводах контактной сети чрезвычайно высокое: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 27500 воль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, идущий со скоростью 100-120 км/час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 одну секунду преодолевает 30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А пешеходу, для того чтобы перейти через железнодорожный путь, требуется не менее пяти-шести секун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214200"/>
            <a:ext cx="5429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раивая подвижные игры на территории объектов железнодорожного транспорта, вы подвергаете опасности не только свою жизнь, но жизнь и здоровье окружающих людей, локомотивной бригады и пассажиров, едущих в поезд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http://tourist.kharkov.ua/report/705/imgm/image8.jpg"/>
          <p:cNvPicPr/>
          <p:nvPr/>
        </p:nvPicPr>
        <p:blipFill>
          <a:blip r:embed="rId2"/>
          <a:srcRect l="27108" t="28126" r="24934" b="20315"/>
          <a:stretch/>
        </p:blipFill>
        <p:spPr>
          <a:xfrm>
            <a:off x="5857920" y="2786040"/>
            <a:ext cx="3000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-360" y="21420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 уверены, что услышав сигнал, поданный машинистом, успеете отойти в безопасное место? Увы, многие из вас за такую самоуверенность расплачиваются жизнью, а оставшиеся в живых получают тяжелейшие травмы, становятся  инвал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i026.radikal.ru/1105/a5/ee8d3229f0f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00280"/>
            <a:ext cx="4048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321480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ет ничего важнее человеческой жизни, а детские жизни - это самое ценно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Будьте внимательны и бдительны, помните, что железная дорога - не место для игр. Не катайтесь по платформе на велосипеде, скейтборде и роликах - ЭТО ОПАСНО ДЛЯ ЖИЗНИ! Приближаясь к железной дороге - снимите наушники - в них можно не услышать сигналов поезда! Никогда не переходите железнодорожные пути в местах стрелочных переводов. Поскользнувшись, можно застрять в тисках стрелки, которая перемещается непосредственно перед идущим поездом. Опасайтесь края платформы, не стойте на линии, обозначающей опасность! Оступившись, вы можете упасть на рельсы, под приближающийся поезд. Берегите себ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s48.radikal.ru/i122/1105/cc/781d45aace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72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железнодорожные пути можн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только в установленных места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ользуясь при этом пешеходными мостами, тоннелями, переез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станциях, где мостов и тоннелей нет, граждане должны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елезнодорожные пут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по настила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в местах, где установлены указател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«Переход через пу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пути на железнодорожных переездах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закрытом шлагбауме или показании красного сигнала светоф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ездной сигн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324.kurort.gov.spb.ru/2012_2013/railway/1.jpg"/>
          <p:cNvPicPr/>
          <p:nvPr/>
        </p:nvPicPr>
        <p:blipFill>
          <a:blip r:embed="rId2"/>
          <a:stretch/>
        </p:blipFill>
        <p:spPr>
          <a:xfrm>
            <a:off x="571680" y="471492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school324.kurort.gov.spb.ru/2012_2013/railway/2.jpg"/>
          <p:cNvPicPr/>
          <p:nvPr/>
        </p:nvPicPr>
        <p:blipFill>
          <a:blip r:embed="rId3"/>
          <a:stretch/>
        </p:blipFill>
        <p:spPr>
          <a:xfrm>
            <a:off x="3714840" y="43578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school324.kurort.gov.spb.ru/2012_2013/railway/2_1.jpg"/>
          <p:cNvPicPr/>
          <p:nvPr/>
        </p:nvPicPr>
        <p:blipFill>
          <a:blip r:embed="rId4"/>
          <a:stretch/>
        </p:blipFill>
        <p:spPr>
          <a:xfrm>
            <a:off x="7000920" y="4786200"/>
            <a:ext cx="15717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 переходе через железнодорожные пути необходим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бедиться в отсутствии движущегося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локомотива или ваг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Ходить по железнодорожным путям категорически запрещ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бегать через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близко идущим поездом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если расстояние до нег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400 м - запрещает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чем за 10 мину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до прохода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корост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http://school324.kurort.gov.spb.ru/2012_2013/railway/3.jpg"/>
          <p:cNvPicPr/>
          <p:nvPr/>
        </p:nvPicPr>
        <p:blipFill>
          <a:blip r:embed="rId2"/>
          <a:stretch/>
        </p:blipFill>
        <p:spPr>
          <a:xfrm>
            <a:off x="428760" y="457200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http://school324.kurort.gov.spb.ru/2012_2013/railway/4.jpg"/>
          <p:cNvPicPr/>
          <p:nvPr/>
        </p:nvPicPr>
        <p:blipFill>
          <a:blip r:embed="rId3"/>
          <a:stretch/>
        </p:blipFill>
        <p:spPr>
          <a:xfrm>
            <a:off x="3286080" y="4572000"/>
            <a:ext cx="2000160" cy="198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school324.kurort.gov.spb.ru/2012_2013/railway/5.jpg"/>
          <p:cNvPicPr/>
          <p:nvPr/>
        </p:nvPicPr>
        <p:blipFill>
          <a:blip r:embed="rId4"/>
          <a:stretch/>
        </p:blipFill>
        <p:spPr>
          <a:xfrm>
            <a:off x="6215040" y="4500720"/>
            <a:ext cx="2500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атегорически 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на станциях и перегонах п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длезать под ваг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лезать через автосцепки для прохода через п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 про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вдоль железнодорожных путей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лиже 5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от крайнего рель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рещается в охранных зонах контактной се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брасывать на провода контактной сети, опоры и приближать к ним посторонние предмет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подниматься на о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He использовать наушники и мобильные телеф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ри переходе через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http://school324.kurort.gov.spb.ru/2012_2013/railway/8.jpg"/>
          <p:cNvPicPr/>
          <p:nvPr/>
        </p:nvPicPr>
        <p:blipFill>
          <a:blip r:embed="rId2"/>
          <a:stretch/>
        </p:blipFill>
        <p:spPr>
          <a:xfrm>
            <a:off x="357120" y="4500720"/>
            <a:ext cx="178596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http://school324.kurort.gov.spb.ru/2012_2013/railway/11.jpg"/>
          <p:cNvPicPr/>
          <p:nvPr/>
        </p:nvPicPr>
        <p:blipFill>
          <a:blip r:embed="rId3"/>
          <a:stretch/>
        </p:blipFill>
        <p:spPr>
          <a:xfrm>
            <a:off x="3429000" y="42148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http://school324.kurort.gov.spb.ru/2012_2013/railway/10.jpg"/>
          <p:cNvPicPr/>
          <p:nvPr/>
        </p:nvPicPr>
        <p:blipFill>
          <a:blip r:embed="rId4"/>
          <a:stretch/>
        </p:blipFill>
        <p:spPr>
          <a:xfrm>
            <a:off x="6715080" y="428616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17:49Z</dcterms:created>
  <dc:creator>Елена Викторовна</dc:creator>
  <dc:description/>
  <dc:language>en-US</dc:language>
  <cp:lastModifiedBy>ХСШ</cp:lastModifiedBy>
  <dcterms:modified xsi:type="dcterms:W3CDTF">2013-01-13T17:57:52Z</dcterms:modified>
  <cp:revision>3</cp:revision>
  <dc:subject/>
  <dc:title>Слайд 1</dc:title>
</cp:coreProperties>
</file>