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0.jpeg" ContentType="image/jpeg"/>
  <Override PartName="/ppt/media/image5.png" ContentType="image/pn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6.jpeg" ContentType="image/jpeg"/>
  <Override PartName="/ppt/media/image1.jpeg" ContentType="image/jpeg"/>
  <Override PartName="/ppt/media/image22.jpeg" ContentType="image/jpeg"/>
  <Override PartName="/ppt/media/image17.jpeg" ContentType="image/jpeg"/>
  <Override PartName="/ppt/media/image3.png" ContentType="image/png"/>
  <Override PartName="/ppt/media/image4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CBE37-FF5A-4724-B139-AB5EB3105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F75A4-05C9-4E18-9E83-D140501DA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289B7-38B1-422F-B1DD-97D0E337E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8B272-8FFD-4A46-B868-AF86042E5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CD550-4B3E-45C6-92FE-71CAC54DB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41424-A4E0-4DEA-9067-2D54E64F5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2E73F-C74E-461A-BD3A-8EFCD4CF9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DB9F4-0AEA-464F-AB2A-D3CAEE4DE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F3167-B14B-4B69-886C-8D8E11E25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D9F2D-F0AF-496A-91D3-5E9D68D90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F3236-3C34-437F-B42A-2B4B2F0C2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02620-51E1-45CB-9B1F-5ED0769EA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A3506-84FB-46DD-8ED8-15E3DFBDF02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http://www.radikal.ru/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radikal.ru/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Рисунок 3" descr="http://lyceum-4.ucoz.ru/Lager/GD/slajd2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Рисунок 3" descr="http://img.ura.dn.ua/0000096280-55f51e05-03c20a50-4-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Cambria"/>
              </a:rPr>
              <a:t>Выписка из Правил нахождения граждан на объектах инфраструктуры железнодорожного транспорта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285840" y="1143000"/>
            <a:ext cx="840096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mbr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Не заходи за линию безопасности у края пассажирской платформы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mbr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Не прыгай с пассажирской платформы на железнодорожные пути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mbr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Не поднимайся на крыши вагонов поездов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Рисунок 8" descr="http://school324.kurort.gov.spb.ru/2012_2013/railway/12.jpg"/>
          <p:cNvPicPr/>
          <p:nvPr/>
        </p:nvPicPr>
        <p:blipFill>
          <a:blip r:embed="rId2"/>
          <a:stretch/>
        </p:blipFill>
        <p:spPr>
          <a:xfrm>
            <a:off x="357120" y="4572000"/>
            <a:ext cx="2286000" cy="1969920"/>
          </a:xfrm>
          <a:prstGeom prst="rect">
            <a:avLst/>
          </a:prstGeom>
          <a:ln w="0">
            <a:noFill/>
          </a:ln>
        </p:spPr>
      </p:pic>
      <p:pic>
        <p:nvPicPr>
          <p:cNvPr id="80" name="Рисунок 9" descr="http://school324.kurort.gov.spb.ru/2012_2013/railway/13.jpg"/>
          <p:cNvPicPr/>
          <p:nvPr/>
        </p:nvPicPr>
        <p:blipFill>
          <a:blip r:embed="rId3"/>
          <a:stretch/>
        </p:blipFill>
        <p:spPr>
          <a:xfrm>
            <a:off x="3643200" y="4071960"/>
            <a:ext cx="2000520" cy="2071800"/>
          </a:xfrm>
          <a:prstGeom prst="rect">
            <a:avLst/>
          </a:prstGeom>
          <a:ln w="0">
            <a:noFill/>
          </a:ln>
        </p:spPr>
      </p:pic>
      <p:pic>
        <p:nvPicPr>
          <p:cNvPr id="81" name="Рисунок 10" descr="http://school324.kurort.gov.spb.ru/2012_2013/railway/14.jpg"/>
          <p:cNvPicPr/>
          <p:nvPr/>
        </p:nvPicPr>
        <p:blipFill>
          <a:blip r:embed="rId4"/>
          <a:stretch/>
        </p:blipFill>
        <p:spPr>
          <a:xfrm>
            <a:off x="6786720" y="3357720"/>
            <a:ext cx="2001600" cy="259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84" name="Рисунок 3" descr="http://lyceum-4.ucoz.ru/Lager/GD/slajd7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87" name="Рисунок 3" descr="http://lyceum-4.ucoz.ru/Lager/GD/slajd1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90" name="Рисунок 3" descr="http://lyceum-4.ucoz.ru/Lager/GD/slajd18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Рисунок 3" descr="http://school324.kurort.gov.spb.ru/2012_2013/railway/train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356840"/>
            <a:ext cx="611496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Соблюдая эти элементарные правила личной безопасности, которые требуют от Вас только внимания и осмотрительности, </a:t>
            </a:r>
            <a:r>
              <a:rPr b="1" lang="ru-RU" sz="3200" spc="-1" strike="noStrike">
                <a:solidFill>
                  <a:srgbClr val="000000"/>
                </a:solidFill>
                <a:latin typeface="Cambria"/>
              </a:rPr>
              <a:t>Вы убережете свою жизнь, жизнь своих детей, родственников и близких!!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Рисунок 3" descr="http://school324.kurort.gov.spb.ru/2012_2013/railway/train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0" y="214200"/>
            <a:ext cx="9144000" cy="31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Железная дорога - удобный и востребованный вид транспорта, которым пользуются миллионы людей каждый день. Повышение скоростей на транспорте решило множество проблем, сократив время пребывания пассажиров в пути и доставки грузов, и в то же время породило массу опасностей для человека.</a:t>
            </a:r>
            <a:br>
              <a:rPr sz="3000"/>
            </a:b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Рисунок 3" descr="http://school324.kurort.gov.spb.ru/2012_2013/railway/train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 txBox="1"/>
          <p:nvPr/>
        </p:nvSpPr>
        <p:spPr>
          <a:xfrm>
            <a:off x="0" y="214200"/>
            <a:ext cx="9144000" cy="31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Прямоугольник 4"/>
          <p:cNvSpPr/>
          <p:nvPr/>
        </p:nvSpPr>
        <p:spPr>
          <a:xfrm>
            <a:off x="357120" y="0"/>
            <a:ext cx="8572680" cy="51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На большинстве участков железных дорог скорость поездов достигает до</a:t>
            </a: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 140 км/ч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. При огромных объемах перевозок, высокой интенсивности и повышенных скоростях движения поездов железные дороги являются</a:t>
            </a: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 </a:t>
            </a:r>
            <a:r>
              <a:rPr b="1" lang="ru-RU" sz="2800" spc="-1" strike="noStrike">
                <a:solidFill>
                  <a:srgbClr val="ff0000"/>
                </a:solidFill>
                <a:latin typeface="Cambria"/>
              </a:rPr>
              <a:t>зоной повышенной опасности</a:t>
            </a:r>
            <a:r>
              <a:rPr b="0" lang="ru-RU" sz="2800" spc="-1" strike="noStrike">
                <a:solidFill>
                  <a:srgbClr val="ff0000"/>
                </a:solidFill>
                <a:latin typeface="Cambri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Для остановки поезда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, движущегося со скоростью 60-70 км/ч, </a:t>
            </a: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необходимо 600-700 метро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в. Масса локомотива превышает 500 тонн, а грузового состава – 5 тысяч тонн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Напряжение в проводах контактной сети чрезвычайно высокое: </a:t>
            </a: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до 27500 вольт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Поезд, идущий со скоростью 100-120 км/час, </a:t>
            </a: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за одну секунду преодолевает 30 метров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. А пешеходу, для того чтобы перейти через железнодорожный путь, требуется не менее пяти-шести секунд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Рисунок 3" descr="http://school324.kurort.gov.spb.ru/2012_2013/railway/train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 txBox="1"/>
          <p:nvPr/>
        </p:nvSpPr>
        <p:spPr>
          <a:xfrm>
            <a:off x="-360" y="214200"/>
            <a:ext cx="542916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Устраивая подвижные игры на территории объектов железнодорожного транспорта, вы подвергаете опасности не только свою жизнь, но жизнь и здоровье окружающих людей, локомотивной бригады и пассажиров, едущих в поезде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Рисунок 5" descr="http://tourist.kharkov.ua/report/705/imgm/image8.jpg"/>
          <p:cNvPicPr/>
          <p:nvPr/>
        </p:nvPicPr>
        <p:blipFill>
          <a:blip r:embed="rId2"/>
          <a:srcRect l="27108" t="28126" r="24934" b="20315"/>
          <a:stretch/>
        </p:blipFill>
        <p:spPr>
          <a:xfrm>
            <a:off x="5857920" y="2786040"/>
            <a:ext cx="3000240" cy="37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Рисунок 3" descr="http://school324.kurort.gov.spb.ru/2012_2013/railway/train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 txBox="1"/>
          <p:nvPr/>
        </p:nvSpPr>
        <p:spPr>
          <a:xfrm>
            <a:off x="-360" y="214200"/>
            <a:ext cx="8929800" cy="25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-246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Вы уверены, что услышав сигнал, поданный машинистом, успеете отойти в безопасное место? Увы, многие из вас за такую самоуверенность расплачиваются жизнью, а оставшиеся в живых получают тяжелейшие травмы, становятся  инвалидами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Рисунок 4" descr="http://i026.radikal.ru/1105/a5/ee8d3229f0fb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57120" y="3500280"/>
            <a:ext cx="4048200" cy="303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213840" y="3214800"/>
            <a:ext cx="8472600" cy="36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ambria"/>
              </a:rPr>
              <a:t>      </a:t>
            </a:r>
            <a:r>
              <a:rPr b="0" lang="ru-RU" sz="2400" spc="-1" strike="noStrike">
                <a:solidFill>
                  <a:srgbClr val="ff0000"/>
                </a:solidFill>
                <a:latin typeface="Cambria"/>
              </a:rPr>
              <a:t>Нет ничего важнее человеческой жизни, а детские жизни - это самое ценное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. Будьте внимательны и бдительны, помните, что железная дорога - не место для игр. Не катайтесь по платформе на велосипеде, скейтборде и роликах - ЭТО ОПАСНО ДЛЯ ЖИЗНИ! Приближаясь к железной дороге - снимите наушники - в них можно не услышать сигналов поезда! Никогда не переходите железнодорожные пути в местах стрелочных переводов. Поскользнувшись, можно застрять в тисках стрелки, которая перемещается непосредственно перед идущим поездом. Опасайтесь края платформы, не стойте на линии, обозначающей опасность! Оступившись, вы можете упасть на рельсы, под приближающийся поезд. Берегите себя!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Рисунок 3" descr="http://s48.radikal.ru/i122/1105/cc/781d45aace4d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5572080" cy="32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Рисунок 3" descr="http://img.ura.dn.ua/0000096280-55f51e05-03c20a50-4-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Cambria"/>
              </a:rPr>
              <a:t>Выписка из Правил нахождения граждан на объектах инфраструктуры железнодорожного транспорта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285840" y="1285560"/>
            <a:ext cx="840096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Переходить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 железнодорожные пути можно</a:t>
            </a: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 только в установленных местах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, пользуясь при этом пешеходными мостами, тоннелями, переездам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На станциях, где мостов и тоннелей нет, граждане должны </a:t>
            </a: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переходить 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железнодорожные пути</a:t>
            </a: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 по настилам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, а также в местах, где установлены указатели </a:t>
            </a: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«Переход через пути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Запрещается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 переходить пути на железнодорожных переездах </a:t>
            </a: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при закрытом шлагбауме или показании красного сигнала светофора 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переездной сигнализаци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Рисунок 4" descr="http://school324.kurort.gov.spb.ru/2012_2013/railway/1.jpg"/>
          <p:cNvPicPr/>
          <p:nvPr/>
        </p:nvPicPr>
        <p:blipFill>
          <a:blip r:embed="rId2"/>
          <a:stretch/>
        </p:blipFill>
        <p:spPr>
          <a:xfrm>
            <a:off x="571680" y="4714920"/>
            <a:ext cx="1643040" cy="1738440"/>
          </a:xfrm>
          <a:prstGeom prst="rect">
            <a:avLst/>
          </a:prstGeom>
          <a:ln w="0">
            <a:noFill/>
          </a:ln>
        </p:spPr>
      </p:pic>
      <p:pic>
        <p:nvPicPr>
          <p:cNvPr id="62" name="Рисунок 5" descr="http://school324.kurort.gov.spb.ru/2012_2013/railway/2.jpg"/>
          <p:cNvPicPr/>
          <p:nvPr/>
        </p:nvPicPr>
        <p:blipFill>
          <a:blip r:embed="rId3"/>
          <a:stretch/>
        </p:blipFill>
        <p:spPr>
          <a:xfrm>
            <a:off x="3714840" y="4357800"/>
            <a:ext cx="1714320" cy="1643040"/>
          </a:xfrm>
          <a:prstGeom prst="rect">
            <a:avLst/>
          </a:prstGeom>
          <a:ln w="0">
            <a:noFill/>
          </a:ln>
        </p:spPr>
      </p:pic>
      <p:pic>
        <p:nvPicPr>
          <p:cNvPr id="63" name="Рисунок 6" descr="http://school324.kurort.gov.spb.ru/2012_2013/railway/2_1.jpg"/>
          <p:cNvPicPr/>
          <p:nvPr/>
        </p:nvPicPr>
        <p:blipFill>
          <a:blip r:embed="rId4"/>
          <a:stretch/>
        </p:blipFill>
        <p:spPr>
          <a:xfrm>
            <a:off x="7000920" y="4786200"/>
            <a:ext cx="1571760" cy="16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Рисунок 3" descr="http://img.ura.dn.ua/0000096280-55f51e05-03c20a50-4-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Cambria"/>
              </a:rPr>
              <a:t>Выписка из Правил нахождения граждан на объектах инфраструктуры железнодорожного транспорта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285840" y="1143000"/>
            <a:ext cx="840096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mbr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При переходе через железнодорожные пути необходимо </a:t>
            </a: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убедиться в отсутствии движущегося поезда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, локомотива или вагонов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mbr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Ходить по железнодорожным путям категорически запрещается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mbr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Переходить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 и перебегать через железнодорожные пути </a:t>
            </a: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перед близко идущим поездом,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 если расстояние до него </a:t>
            </a: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менее 400 м - запрещаетс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mbr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Запрещается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 переходить железнодорожные пути </a:t>
            </a: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менее чем за 10 минут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 до прохода </a:t>
            </a: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скоростного 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поезд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Рисунок 8" descr="http://school324.kurort.gov.spb.ru/2012_2013/railway/3.jpg"/>
          <p:cNvPicPr/>
          <p:nvPr/>
        </p:nvPicPr>
        <p:blipFill>
          <a:blip r:embed="rId2"/>
          <a:stretch/>
        </p:blipFill>
        <p:spPr>
          <a:xfrm>
            <a:off x="428760" y="4572000"/>
            <a:ext cx="1643040" cy="1738440"/>
          </a:xfrm>
          <a:prstGeom prst="rect">
            <a:avLst/>
          </a:prstGeom>
          <a:ln w="0">
            <a:noFill/>
          </a:ln>
        </p:spPr>
      </p:pic>
      <p:pic>
        <p:nvPicPr>
          <p:cNvPr id="68" name="Рисунок 9" descr="http://school324.kurort.gov.spb.ru/2012_2013/railway/4.jpg"/>
          <p:cNvPicPr/>
          <p:nvPr/>
        </p:nvPicPr>
        <p:blipFill>
          <a:blip r:embed="rId3"/>
          <a:stretch/>
        </p:blipFill>
        <p:spPr>
          <a:xfrm>
            <a:off x="3286080" y="4572000"/>
            <a:ext cx="2000160" cy="1986120"/>
          </a:xfrm>
          <a:prstGeom prst="rect">
            <a:avLst/>
          </a:prstGeom>
          <a:ln w="0">
            <a:noFill/>
          </a:ln>
        </p:spPr>
      </p:pic>
      <p:pic>
        <p:nvPicPr>
          <p:cNvPr id="69" name="Рисунок 10" descr="http://school324.kurort.gov.spb.ru/2012_2013/railway/5.jpg"/>
          <p:cNvPicPr/>
          <p:nvPr/>
        </p:nvPicPr>
        <p:blipFill>
          <a:blip r:embed="rId4"/>
          <a:stretch/>
        </p:blipFill>
        <p:spPr>
          <a:xfrm>
            <a:off x="6215040" y="4500720"/>
            <a:ext cx="2500200" cy="179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Рисунок 3" descr="http://img.ura.dn.ua/0000096280-55f51e05-03c20a50-4-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Cambria"/>
              </a:rPr>
              <a:t>Выписка из Правил нахождения граждан на объектах инфраструктуры железнодорожного транспорта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285840" y="1143000"/>
            <a:ext cx="840096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mbr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Категорически запрещается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 на станциях и перегонах п</a:t>
            </a: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одлезать под вагоны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 и перелезать через автосцепки для прохода через путь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mbr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Запрещается проходить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 вдоль железнодорожных путей </a:t>
            </a: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ближе 5 метров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 от крайнего рельс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mbr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Запрещается в охранных зонах контактной сети </a:t>
            </a: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набрасывать на провода контактной сети, опоры и приближать к ним посторонние предметы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, а также подниматься на опоры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mbr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He использовать наушники и мобильные телефоны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 при переходе через железнодорожные пути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Рисунок 7" descr="http://school324.kurort.gov.spb.ru/2012_2013/railway/8.jpg"/>
          <p:cNvPicPr/>
          <p:nvPr/>
        </p:nvPicPr>
        <p:blipFill>
          <a:blip r:embed="rId2"/>
          <a:stretch/>
        </p:blipFill>
        <p:spPr>
          <a:xfrm>
            <a:off x="357120" y="4500720"/>
            <a:ext cx="1785960" cy="1952640"/>
          </a:xfrm>
          <a:prstGeom prst="rect">
            <a:avLst/>
          </a:prstGeom>
          <a:ln w="0">
            <a:noFill/>
          </a:ln>
        </p:spPr>
      </p:pic>
      <p:pic>
        <p:nvPicPr>
          <p:cNvPr id="74" name="Рисунок 11" descr="http://school324.kurort.gov.spb.ru/2012_2013/railway/11.jpg"/>
          <p:cNvPicPr/>
          <p:nvPr/>
        </p:nvPicPr>
        <p:blipFill>
          <a:blip r:embed="rId3"/>
          <a:stretch/>
        </p:blipFill>
        <p:spPr>
          <a:xfrm>
            <a:off x="3429000" y="4214880"/>
            <a:ext cx="1928880" cy="1952640"/>
          </a:xfrm>
          <a:prstGeom prst="rect">
            <a:avLst/>
          </a:prstGeom>
          <a:ln w="0">
            <a:noFill/>
          </a:ln>
        </p:spPr>
      </p:pic>
      <p:pic>
        <p:nvPicPr>
          <p:cNvPr id="75" name="Рисунок 12" descr="http://school324.kurort.gov.spb.ru/2012_2013/railway/10.jpg"/>
          <p:cNvPicPr/>
          <p:nvPr/>
        </p:nvPicPr>
        <p:blipFill>
          <a:blip r:embed="rId4"/>
          <a:stretch/>
        </p:blipFill>
        <p:spPr>
          <a:xfrm>
            <a:off x="6715080" y="4286160"/>
            <a:ext cx="1714680" cy="20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13T15:17:49Z</dcterms:created>
  <dc:creator>Елена Викторовна</dc:creator>
  <dc:description/>
  <dc:language>en-US</dc:language>
  <cp:lastModifiedBy>ХСШ</cp:lastModifiedBy>
  <dcterms:modified xsi:type="dcterms:W3CDTF">2013-01-13T17:57:52Z</dcterms:modified>
  <cp:revision>3</cp:revision>
  <dc:subject/>
  <dc:title>Слайд 1</dc:title>
</cp:coreProperties>
</file>