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CD9-3212-4B4A-9FE3-8DE28EDE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9BB-A15F-4ECF-9EF2-0B04511F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72E-0FEF-40D6-B25B-460180D3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D81-ED74-4FFB-AE80-BB8D681F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B53-19BA-4FC6-9F01-719684BA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EEC-125D-434F-BEF3-C06154EA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157-0FE6-4DD8-8827-AC4AE923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B5D-8DE7-4489-AFB0-74204352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7C9-BC3F-4640-AC4F-542F5CE3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C3F-7C7F-4F0A-BD89-BE926BE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05F-DAE2-4A33-A0AE-05D2863E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377-570A-4331-8F49-068E68A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6C77-D91F-4166-8140-B66647C51E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http://lyceum-4.ucoz.ru/Lager/GD/slajd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заходи за линию безопасности у края пассажирской платформ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прыгай с пассажирской платформы на железнодорожные п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поднимайся на крыши вагонов поезд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8" descr="http://school324.kurort.gov.spb.ru/2012_2013/railway/12.jpg"/>
          <p:cNvPicPr/>
          <p:nvPr/>
        </p:nvPicPr>
        <p:blipFill>
          <a:blip r:embed="rId2"/>
          <a:stretch/>
        </p:blipFill>
        <p:spPr>
          <a:xfrm>
            <a:off x="357120" y="4572000"/>
            <a:ext cx="2286000" cy="1969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http://school324.kurort.gov.spb.ru/2012_2013/railway/13.jpg"/>
          <p:cNvPicPr/>
          <p:nvPr/>
        </p:nvPicPr>
        <p:blipFill>
          <a:blip r:embed="rId3"/>
          <a:stretch/>
        </p:blipFill>
        <p:spPr>
          <a:xfrm>
            <a:off x="3643200" y="4071960"/>
            <a:ext cx="200052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" descr="http://school324.kurort.gov.spb.ru/2012_2013/railway/14.jpg"/>
          <p:cNvPicPr/>
          <p:nvPr/>
        </p:nvPicPr>
        <p:blipFill>
          <a:blip r:embed="rId4"/>
          <a:stretch/>
        </p:blipFill>
        <p:spPr>
          <a:xfrm>
            <a:off x="6786720" y="3357720"/>
            <a:ext cx="200160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http://lyceum-4.ucoz.ru/Lager/GD/slajd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http://lyceum-4.ucoz.ru/Lager/GD/slajd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http://lyceum-4.ucoz.ru/Lager/GD/slajd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56840"/>
            <a:ext cx="6114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облюдая эти элементарные правила личной безопасности, которые требуют от Вас только внимания и осмотрительности,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ы убережете свою жизнь, жизнь своих детей, родственников и близких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214200"/>
            <a:ext cx="91440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Железная дорога - удобный и востребованный вид транспорта, которым пользуются миллионы людей каждый день. Повышение скоростей на транспорте решило множество проблем, сократив время пребывания пассажиров в пути и доставки грузов, и в то же время породило массу опасностей для человека.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0" y="214200"/>
            <a:ext cx="91440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57120" y="0"/>
            <a:ext cx="857268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большинстве участков железных дорог скорость поездов достигает д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140 км/ч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При огромных объемах перевозок, высокой интенсивности и повышенных скоростях движения поездов железные дороги являются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оной повышенной опасности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ля остановки поезд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движущегося со скоростью 60-70 км/ч,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обходимо 600-700 метр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. Масса локомотива превышает 500 тонн, а грузового состава – 5 тысяч тонн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пряжение в проводах контактной сети чрезвычайно высокое: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о 27500 воль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езд, идущий со скоростью 100-120 км/час,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 одну секунду преодолевает 30 метр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А пешеходу, для того чтобы перейти через железнодорожный путь, требуется не менее пяти-шести секун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360" y="214200"/>
            <a:ext cx="54291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страивая подвижные игры на территории объектов железнодорожного транспорта, вы подвергаете опасности не только свою жизнь, но жизнь и здоровье окружающих людей, локомотивной бригады и пассажиров, едущих в поезд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http://tourist.kharkov.ua/report/705/imgm/image8.jpg"/>
          <p:cNvPicPr/>
          <p:nvPr/>
        </p:nvPicPr>
        <p:blipFill>
          <a:blip r:embed="rId2"/>
          <a:srcRect l="27108" t="28126" r="24934" b="20315"/>
          <a:stretch/>
        </p:blipFill>
        <p:spPr>
          <a:xfrm>
            <a:off x="5857920" y="2786040"/>
            <a:ext cx="30002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-360" y="214200"/>
            <a:ext cx="8929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ы уверены, что услышав сигнал, поданный машинистом, успеете отойти в безопасное место? Увы, многие из вас за такую самоуверенность расплачиваются жизнью, а оставшиеся в живых получают тяжелейшие травмы, становятся  инвалид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http://i026.radikal.ru/1105/a5/ee8d3229f0f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3500280"/>
            <a:ext cx="4048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840" y="3214800"/>
            <a:ext cx="8472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ет ничего важнее человеческой жизни, а детские жизни - это самое ценное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Будьте внимательны и бдительны, помните, что железная дорога - не место для игр. Не катайтесь по платформе на велосипеде, скейтборде и роликах - ЭТО ОПАСНО ДЛЯ ЖИЗНИ! Приближаясь к железной дороге - снимите наушники - в них можно не услышать сигналов поезда! Никогда не переходите железнодорожные пути в местах стрелочных переводов. Поскользнувшись, можно застрять в тисках стрелки, которая перемещается непосредственно перед идущим поездом. Опасайтесь края платформы, не стойте на линии, обозначающей опасность! Оступившись, вы можете упасть на рельсы, под приближающийся поезд. Берегите себя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s48.radikal.ru/i122/1105/cc/781d45aace4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572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285560"/>
            <a:ext cx="8400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железнодорожные пути можн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только в установленных места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ользуясь при этом пешеходными мостами, тоннелями, переезд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станциях, где мостов и тоннелей нет, граждане должны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железнодорожные пути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по настилам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а также в местах, где установлены указател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«Переход через пут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ереходить пути на железнодорожных переездах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 закрытом шлагбауме или показании красного сигнала светоф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ездной сигнал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http://school324.kurort.gov.spb.ru/2012_2013/railway/1.jpg"/>
          <p:cNvPicPr/>
          <p:nvPr/>
        </p:nvPicPr>
        <p:blipFill>
          <a:blip r:embed="rId2"/>
          <a:stretch/>
        </p:blipFill>
        <p:spPr>
          <a:xfrm>
            <a:off x="571680" y="4714920"/>
            <a:ext cx="1643040" cy="17384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http://school324.kurort.gov.spb.ru/2012_2013/railway/2.jpg"/>
          <p:cNvPicPr/>
          <p:nvPr/>
        </p:nvPicPr>
        <p:blipFill>
          <a:blip r:embed="rId3"/>
          <a:stretch/>
        </p:blipFill>
        <p:spPr>
          <a:xfrm>
            <a:off x="3714840" y="435780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://school324.kurort.gov.spb.ru/2012_2013/railway/2_1.jpg"/>
          <p:cNvPicPr/>
          <p:nvPr/>
        </p:nvPicPr>
        <p:blipFill>
          <a:blip r:embed="rId4"/>
          <a:stretch/>
        </p:blipFill>
        <p:spPr>
          <a:xfrm>
            <a:off x="7000920" y="4786200"/>
            <a:ext cx="15717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 переходе через железнодорожные пути необходимо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убедиться в отсутствии движущегося поезд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локомотива или ваг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Ходить по железнодорожным путям категорически запрещае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и перебегать через железнодорожные пу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близко идущим поездом,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если расстояние до него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енее 400 м - запрещаетс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ереходить железнодорожные пу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енее чем за 10 мину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до прохода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коростного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ез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8" descr="http://school324.kurort.gov.spb.ru/2012_2013/railway/3.jpg"/>
          <p:cNvPicPr/>
          <p:nvPr/>
        </p:nvPicPr>
        <p:blipFill>
          <a:blip r:embed="rId2"/>
          <a:stretch/>
        </p:blipFill>
        <p:spPr>
          <a:xfrm>
            <a:off x="428760" y="4572000"/>
            <a:ext cx="1643040" cy="17384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http://school324.kurort.gov.spb.ru/2012_2013/railway/4.jpg"/>
          <p:cNvPicPr/>
          <p:nvPr/>
        </p:nvPicPr>
        <p:blipFill>
          <a:blip r:embed="rId3"/>
          <a:stretch/>
        </p:blipFill>
        <p:spPr>
          <a:xfrm>
            <a:off x="3286080" y="4572000"/>
            <a:ext cx="2000160" cy="1986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http://school324.kurort.gov.spb.ru/2012_2013/railway/5.jpg"/>
          <p:cNvPicPr/>
          <p:nvPr/>
        </p:nvPicPr>
        <p:blipFill>
          <a:blip r:embed="rId4"/>
          <a:stretch/>
        </p:blipFill>
        <p:spPr>
          <a:xfrm>
            <a:off x="6215040" y="4500720"/>
            <a:ext cx="250020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атегорически 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на станциях и перегонах п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длезать под вагон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и перелезать через автосцепки для прохода через пу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 про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вдоль железнодорожных путей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лиже 5 метр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от крайнего рель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рещается в охранных зонах контактной се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брасывать на провода контактной сети, опоры и приближать к ним посторонние предмет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а также подниматься на опо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He использовать наушники и мобильные телефон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ри переходе через железнодорожные п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7" descr="http://school324.kurort.gov.spb.ru/2012_2013/railway/8.jpg"/>
          <p:cNvPicPr/>
          <p:nvPr/>
        </p:nvPicPr>
        <p:blipFill>
          <a:blip r:embed="rId2"/>
          <a:stretch/>
        </p:blipFill>
        <p:spPr>
          <a:xfrm>
            <a:off x="357120" y="4500720"/>
            <a:ext cx="1785960" cy="1952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1" descr="http://school324.kurort.gov.spb.ru/2012_2013/railway/11.jpg"/>
          <p:cNvPicPr/>
          <p:nvPr/>
        </p:nvPicPr>
        <p:blipFill>
          <a:blip r:embed="rId3"/>
          <a:stretch/>
        </p:blipFill>
        <p:spPr>
          <a:xfrm>
            <a:off x="3429000" y="4214880"/>
            <a:ext cx="1928880" cy="1952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http://school324.kurort.gov.spb.ru/2012_2013/railway/10.jpg"/>
          <p:cNvPicPr/>
          <p:nvPr/>
        </p:nvPicPr>
        <p:blipFill>
          <a:blip r:embed="rId4"/>
          <a:stretch/>
        </p:blipFill>
        <p:spPr>
          <a:xfrm>
            <a:off x="6715080" y="4286160"/>
            <a:ext cx="1714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5:17:49Z</dcterms:created>
  <dc:creator>Елена Викторовна</dc:creator>
  <dc:description/>
  <dc:language>en-US</dc:language>
  <cp:lastModifiedBy>ХСШ</cp:lastModifiedBy>
  <dcterms:modified xsi:type="dcterms:W3CDTF">2013-01-13T17:57:52Z</dcterms:modified>
  <cp:revision>3</cp:revision>
  <dc:subject/>
  <dc:title>Слайд 1</dc:title>
</cp:coreProperties>
</file>