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C03-CFA4-4D14-AC6C-BCECFC83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61B-292D-495B-BB14-D9E7D08C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0E7-C650-4867-9FF9-C37A8F34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5D1-4AF2-48FF-AADA-88FB614A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FE67-06D1-43D0-99A6-1246B332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A09-823C-4D9B-B409-10CB5749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D14-9A0F-4AD2-A56E-CE356331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DE1-4E61-493E-9EBC-938AA256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D338-FF07-4720-997F-2995BEB1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8DF-BEA7-4288-9BB2-34233534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EF3C-A7BC-4285-89E5-8516F17F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14C-714E-475B-8C75-8D35DCAC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2D73-0C4A-4006-BD8F-E762B835D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" name=""/>
            <p:cNvSpPr/>
            <p:nvPr/>
          </p:nvSpPr>
          <p:spPr>
            <a:xfrm>
              <a:off x="0" y="54936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98900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70828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342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26828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414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558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486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30864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7164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45164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7236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930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509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9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01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3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69236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4112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13200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5128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57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2859120" cy="3573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39640" y="692280"/>
            <a:ext cx="5759640" cy="26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урса алгебры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а 7 класс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77080" y="260280"/>
            <a:ext cx="201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 класс.</a:t>
            </a:r>
            <a:endParaRPr b="1" i="1" lang="en-US" sz="1800" spc="1" strike="noStrike">
              <a:ln w="19080">
                <a:solidFill>
                  <a:srgbClr val="ffff99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32000" y="573408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Каратанова Ма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МОУ СОШ №256 г.Фокино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429264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Times New Roman"/>
              </a:rPr>
              <a:t>Первые уро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659640" y="1484280"/>
            <a:ext cx="2246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образуйте выражение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ночлен стандартного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2700360" y="1268280"/>
            <a:ext cx="4197240" cy="892440"/>
            <a:chOff x="2700360" y="1268280"/>
            <a:chExt cx="4197240" cy="892440"/>
          </a:xfrm>
        </p:grpSpPr>
        <p:sp>
          <p:nvSpPr>
            <p:cNvPr id="234" name=""/>
            <p:cNvSpPr/>
            <p:nvPr/>
          </p:nvSpPr>
          <p:spPr>
            <a:xfrm>
              <a:off x="3646080" y="141696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700360" y="1268280"/>
                  <a:ext cx="4197240" cy="89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у</m:t>
                      </m:r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у</m:t>
                              </m:r>
                            </m:e>
                          </m:d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2556000" y="4005360"/>
            <a:ext cx="2087280" cy="1296720"/>
            <a:chOff x="2556000" y="4005360"/>
            <a:chExt cx="2087280" cy="1296720"/>
          </a:xfrm>
        </p:grpSpPr>
        <p:sp>
          <p:nvSpPr>
            <p:cNvPr id="237" name=""/>
            <p:cNvSpPr/>
            <p:nvPr/>
          </p:nvSpPr>
          <p:spPr>
            <a:xfrm>
              <a:off x="2556000" y="4005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2750760" y="4294080"/>
                  <a:ext cx="173484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,6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9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68360" y="551664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276880" y="2492280"/>
            <a:ext cx="2158920" cy="1296720"/>
            <a:chOff x="5276880" y="2492280"/>
            <a:chExt cx="2158920" cy="1296720"/>
          </a:xfrm>
        </p:grpSpPr>
        <p:sp>
          <p:nvSpPr>
            <p:cNvPr id="242" name=""/>
            <p:cNvSpPr/>
            <p:nvPr/>
          </p:nvSpPr>
          <p:spPr>
            <a:xfrm>
              <a:off x="5292720" y="249228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5276880" y="2781000"/>
                  <a:ext cx="215892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,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4" name=""/>
          <p:cNvGrpSpPr/>
          <p:nvPr/>
        </p:nvGrpSpPr>
        <p:grpSpPr>
          <a:xfrm>
            <a:off x="5292720" y="4005360"/>
            <a:ext cx="2087640" cy="1296720"/>
            <a:chOff x="5292720" y="4005360"/>
            <a:chExt cx="2087640" cy="1296720"/>
          </a:xfrm>
        </p:grpSpPr>
        <p:sp>
          <p:nvSpPr>
            <p:cNvPr id="245" name=""/>
            <p:cNvSpPr/>
            <p:nvPr/>
          </p:nvSpPr>
          <p:spPr>
            <a:xfrm>
              <a:off x="5292720" y="4005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445000" y="4294080"/>
                  <a:ext cx="182088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4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7" name=""/>
          <p:cNvGrpSpPr/>
          <p:nvPr/>
        </p:nvGrpSpPr>
        <p:grpSpPr>
          <a:xfrm>
            <a:off x="2556000" y="2492280"/>
            <a:ext cx="2087280" cy="1296720"/>
            <a:chOff x="2556000" y="2492280"/>
            <a:chExt cx="2087280" cy="1296720"/>
          </a:xfrm>
        </p:grpSpPr>
        <p:sp>
          <p:nvSpPr>
            <p:cNvPr id="248" name=""/>
            <p:cNvSpPr/>
            <p:nvPr/>
          </p:nvSpPr>
          <p:spPr>
            <a:xfrm>
              <a:off x="2556000" y="249228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2730240" y="2781000"/>
                  <a:ext cx="177624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8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9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5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741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дставьте вы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виде степени с осн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940360" y="1413000"/>
            <a:ext cx="2403720" cy="1403280"/>
            <a:chOff x="5940360" y="1413000"/>
            <a:chExt cx="2403720" cy="1403280"/>
          </a:xfrm>
        </p:grpSpPr>
        <p:sp>
          <p:nvSpPr>
            <p:cNvPr id="253" name=""/>
            <p:cNvSpPr/>
            <p:nvPr/>
          </p:nvSpPr>
          <p:spPr>
            <a:xfrm>
              <a:off x="5940360" y="1815480"/>
              <a:ext cx="24037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6346080" y="1413000"/>
                  <a:ext cx="1488960" cy="14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8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5" name="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sp>
          <p:nvSpPr>
            <p:cNvPr id="256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5638680" y="4422600"/>
                  <a:ext cx="59184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8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259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3838680" y="3703320"/>
                  <a:ext cx="59364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1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262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2124000" y="3027240"/>
                  <a:ext cx="423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4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265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439040" y="5165640"/>
                  <a:ext cx="59184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317080" y="47628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7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818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2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3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дставьте вы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виде степени с осн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346800" y="1413000"/>
            <a:ext cx="1488960" cy="1403280"/>
            <a:chOff x="6346800" y="1413000"/>
            <a:chExt cx="1488960" cy="1403280"/>
          </a:xfrm>
        </p:grpSpPr>
        <p:sp>
          <p:nvSpPr>
            <p:cNvPr id="274" name=""/>
            <p:cNvSpPr/>
            <p:nvPr/>
          </p:nvSpPr>
          <p:spPr>
            <a:xfrm>
              <a:off x="6570720" y="1867320"/>
              <a:ext cx="10864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46800" y="1413000"/>
                  <a:ext cx="1488960" cy="14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9</m:t>
                              </m:r>
                            </m:e>
                            <m:sup>
                              <m:r>
                                <m:t xml:space="preserve">8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6" name="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sp>
          <p:nvSpPr>
            <p:cNvPr id="277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5659200" y="4402080"/>
                  <a:ext cx="5504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280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2038320" y="3004920"/>
                  <a:ext cx="59328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283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3860640" y="3682800"/>
                  <a:ext cx="55116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286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7459560" y="5122800"/>
                  <a:ext cx="5504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8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24000" y="5445000"/>
            <a:ext cx="3024360" cy="935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8317080" y="47628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861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9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0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0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дставьте вы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виде степени с осн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003640" y="1413000"/>
            <a:ext cx="3294360" cy="1699920"/>
            <a:chOff x="5003640" y="1413000"/>
            <a:chExt cx="3294360" cy="1699920"/>
          </a:xfrm>
        </p:grpSpPr>
        <p:sp>
          <p:nvSpPr>
            <p:cNvPr id="295" name=""/>
            <p:cNvSpPr/>
            <p:nvPr/>
          </p:nvSpPr>
          <p:spPr>
            <a:xfrm>
              <a:off x="6129360" y="2014560"/>
              <a:ext cx="10864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5003640" y="1413000"/>
                  <a:ext cx="3294360" cy="16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9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8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7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  <m:sup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8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7" name="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sp>
          <p:nvSpPr>
            <p:cNvPr id="298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5659200" y="4402080"/>
                  <a:ext cx="5504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0" name=""/>
          <p:cNvGrpSpPr/>
          <p:nvPr/>
        </p:nvGrpSpPr>
        <p:grpSpPr>
          <a:xfrm>
            <a:off x="1636560" y="2593800"/>
            <a:ext cx="1398600" cy="1430280"/>
            <a:chOff x="1636560" y="2593800"/>
            <a:chExt cx="1398600" cy="1430280"/>
          </a:xfrm>
        </p:grpSpPr>
        <p:sp>
          <p:nvSpPr>
            <p:cNvPr id="301" name=""/>
            <p:cNvSpPr/>
            <p:nvPr/>
          </p:nvSpPr>
          <p:spPr>
            <a:xfrm>
              <a:off x="1692000" y="270828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1636560" y="2593800"/>
                  <a:ext cx="1398600" cy="14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7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7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3" name=""/>
          <p:cNvGrpSpPr/>
          <p:nvPr/>
        </p:nvGrpSpPr>
        <p:grpSpPr>
          <a:xfrm>
            <a:off x="7020000" y="4869000"/>
            <a:ext cx="1295280" cy="1296720"/>
            <a:chOff x="7020000" y="4869000"/>
            <a:chExt cx="1295280" cy="1296720"/>
          </a:xfrm>
        </p:grpSpPr>
        <p:sp>
          <p:nvSpPr>
            <p:cNvPr id="304" name=""/>
            <p:cNvSpPr/>
            <p:nvPr/>
          </p:nvSpPr>
          <p:spPr>
            <a:xfrm>
              <a:off x="702000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7367400" y="5122800"/>
                  <a:ext cx="59328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6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307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3711600" y="3682800"/>
                  <a:ext cx="84780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9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8317080" y="47628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500"/>
                            </p:stCondLst>
                            <p:childTnLst>
                              <p:par>
                                <p:cTn id="9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934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954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96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3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964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з формулы периметра прям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ыразите длину стороны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3492360" y="1268280"/>
            <a:ext cx="2979720" cy="723960"/>
            <a:chOff x="3492360" y="1268280"/>
            <a:chExt cx="2979720" cy="723960"/>
          </a:xfrm>
        </p:grpSpPr>
        <p:sp>
          <p:nvSpPr>
            <p:cNvPr id="317" name=""/>
            <p:cNvSpPr/>
            <p:nvPr/>
          </p:nvSpPr>
          <p:spPr>
            <a:xfrm>
              <a:off x="3830040" y="133344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3492360" y="1268280"/>
                  <a:ext cx="297972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9" name=""/>
          <p:cNvGrpSpPr/>
          <p:nvPr/>
        </p:nvGrpSpPr>
        <p:grpSpPr>
          <a:xfrm>
            <a:off x="5292720" y="2349360"/>
            <a:ext cx="2087640" cy="1350720"/>
            <a:chOff x="5292720" y="2349360"/>
            <a:chExt cx="2087640" cy="1350720"/>
          </a:xfrm>
        </p:grpSpPr>
        <p:sp>
          <p:nvSpPr>
            <p:cNvPr id="320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5592600" y="2357280"/>
                  <a:ext cx="15242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292720" y="3860640"/>
            <a:ext cx="2087640" cy="1352520"/>
            <a:chOff x="5292720" y="3860640"/>
            <a:chExt cx="2087640" cy="1352520"/>
          </a:xfrm>
        </p:grpSpPr>
        <p:sp>
          <p:nvSpPr>
            <p:cNvPr id="325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5594400" y="3865320"/>
                  <a:ext cx="1522440" cy="13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7" name=""/>
          <p:cNvGrpSpPr/>
          <p:nvPr/>
        </p:nvGrpSpPr>
        <p:grpSpPr>
          <a:xfrm>
            <a:off x="2556000" y="3860640"/>
            <a:ext cx="2087280" cy="1296720"/>
            <a:chOff x="2556000" y="3860640"/>
            <a:chExt cx="2087280" cy="1296720"/>
          </a:xfrm>
        </p:grpSpPr>
        <p:sp>
          <p:nvSpPr>
            <p:cNvPr id="328" name=""/>
            <p:cNvSpPr/>
            <p:nvPr/>
          </p:nvSpPr>
          <p:spPr>
            <a:xfrm>
              <a:off x="2556000" y="3860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2898720" y="4236840"/>
                  <a:ext cx="143928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0" name=""/>
          <p:cNvGrpSpPr/>
          <p:nvPr/>
        </p:nvGrpSpPr>
        <p:grpSpPr>
          <a:xfrm>
            <a:off x="2556000" y="2349360"/>
            <a:ext cx="2087280" cy="1296720"/>
            <a:chOff x="2556000" y="2349360"/>
            <a:chExt cx="2087280" cy="1296720"/>
          </a:xfrm>
        </p:grpSpPr>
        <p:sp>
          <p:nvSpPr>
            <p:cNvPr id="331" name=""/>
            <p:cNvSpPr/>
            <p:nvPr/>
          </p:nvSpPr>
          <p:spPr>
            <a:xfrm>
              <a:off x="2556000" y="2349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2898720" y="2723760"/>
                  <a:ext cx="143928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9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5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31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37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043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063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зите из формулы пу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вномерного движения скорость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3762360" y="1247760"/>
            <a:ext cx="2471760" cy="766800"/>
            <a:chOff x="3762360" y="1247760"/>
            <a:chExt cx="2471760" cy="766800"/>
          </a:xfrm>
        </p:grpSpPr>
        <p:sp>
          <p:nvSpPr>
            <p:cNvPr id="337" name=""/>
            <p:cNvSpPr/>
            <p:nvPr/>
          </p:nvSpPr>
          <p:spPr>
            <a:xfrm>
              <a:off x="3829680" y="1333440"/>
              <a:ext cx="240444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3762360" y="1247760"/>
                  <a:ext cx="243864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v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9" name=""/>
          <p:cNvGrpSpPr/>
          <p:nvPr/>
        </p:nvGrpSpPr>
        <p:grpSpPr>
          <a:xfrm>
            <a:off x="5292720" y="3860640"/>
            <a:ext cx="2087640" cy="1350720"/>
            <a:chOff x="5292720" y="3860640"/>
            <a:chExt cx="2087640" cy="1350720"/>
          </a:xfrm>
        </p:grpSpPr>
        <p:sp>
          <p:nvSpPr>
            <p:cNvPr id="340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5613480" y="3868560"/>
                  <a:ext cx="14810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2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292720" y="2349360"/>
            <a:ext cx="2087640" cy="1352520"/>
            <a:chOff x="5292720" y="2349360"/>
            <a:chExt cx="2087640" cy="1352520"/>
          </a:xfrm>
        </p:grpSpPr>
        <p:sp>
          <p:nvSpPr>
            <p:cNvPr id="345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614920" y="2354040"/>
                  <a:ext cx="1479600" cy="13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7" name=""/>
          <p:cNvGrpSpPr/>
          <p:nvPr/>
        </p:nvGrpSpPr>
        <p:grpSpPr>
          <a:xfrm>
            <a:off x="2556000" y="3860640"/>
            <a:ext cx="2087280" cy="1296720"/>
            <a:chOff x="2556000" y="3860640"/>
            <a:chExt cx="2087280" cy="1296720"/>
          </a:xfrm>
        </p:grpSpPr>
        <p:sp>
          <p:nvSpPr>
            <p:cNvPr id="348" name=""/>
            <p:cNvSpPr/>
            <p:nvPr/>
          </p:nvSpPr>
          <p:spPr>
            <a:xfrm>
              <a:off x="2556000" y="3860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2877840" y="4151160"/>
                  <a:ext cx="148068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0" name=""/>
          <p:cNvGrpSpPr/>
          <p:nvPr/>
        </p:nvGrpSpPr>
        <p:grpSpPr>
          <a:xfrm>
            <a:off x="2556000" y="2349360"/>
            <a:ext cx="2087280" cy="1296720"/>
            <a:chOff x="2556000" y="2349360"/>
            <a:chExt cx="2087280" cy="1296720"/>
          </a:xfrm>
        </p:grpSpPr>
        <p:sp>
          <p:nvSpPr>
            <p:cNvPr id="351" name=""/>
            <p:cNvSpPr/>
            <p:nvPr/>
          </p:nvSpPr>
          <p:spPr>
            <a:xfrm>
              <a:off x="2556000" y="2349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2855520" y="2638080"/>
                  <a:ext cx="152532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7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1108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4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0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зите из формулы переменную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3371760" y="1289160"/>
            <a:ext cx="3254400" cy="723960"/>
            <a:chOff x="3371760" y="1289160"/>
            <a:chExt cx="3254400" cy="723960"/>
          </a:xfrm>
        </p:grpSpPr>
        <p:sp>
          <p:nvSpPr>
            <p:cNvPr id="357" name=""/>
            <p:cNvSpPr/>
            <p:nvPr/>
          </p:nvSpPr>
          <p:spPr>
            <a:xfrm>
              <a:off x="3846600" y="1354320"/>
              <a:ext cx="24048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3371760" y="1289160"/>
                  <a:ext cx="325440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9" name=""/>
          <p:cNvGrpSpPr/>
          <p:nvPr/>
        </p:nvGrpSpPr>
        <p:grpSpPr>
          <a:xfrm>
            <a:off x="5292720" y="3860640"/>
            <a:ext cx="2087640" cy="1350720"/>
            <a:chOff x="5292720" y="3860640"/>
            <a:chExt cx="2087640" cy="1350720"/>
          </a:xfrm>
        </p:grpSpPr>
        <p:sp>
          <p:nvSpPr>
            <p:cNvPr id="360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5572080" y="3868560"/>
                  <a:ext cx="156528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2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56000" y="2276640"/>
            <a:ext cx="2087280" cy="1352520"/>
            <a:chOff x="2556000" y="2276640"/>
            <a:chExt cx="2087280" cy="1352520"/>
          </a:xfrm>
        </p:grpSpPr>
        <p:sp>
          <p:nvSpPr>
            <p:cNvPr id="365" name=""/>
            <p:cNvSpPr/>
            <p:nvPr/>
          </p:nvSpPr>
          <p:spPr>
            <a:xfrm>
              <a:off x="2556000" y="2276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2836800" y="2281320"/>
                  <a:ext cx="1563120" cy="13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7" name=""/>
          <p:cNvGrpSpPr/>
          <p:nvPr/>
        </p:nvGrpSpPr>
        <p:grpSpPr>
          <a:xfrm>
            <a:off x="2556000" y="3860640"/>
            <a:ext cx="2087280" cy="1296720"/>
            <a:chOff x="2556000" y="3860640"/>
            <a:chExt cx="2087280" cy="1296720"/>
          </a:xfrm>
        </p:grpSpPr>
        <p:sp>
          <p:nvSpPr>
            <p:cNvPr id="368" name=""/>
            <p:cNvSpPr/>
            <p:nvPr/>
          </p:nvSpPr>
          <p:spPr>
            <a:xfrm>
              <a:off x="2556000" y="3860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2730240" y="4236840"/>
                  <a:ext cx="177624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V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0" name=""/>
          <p:cNvGrpSpPr/>
          <p:nvPr/>
        </p:nvGrpSpPr>
        <p:grpSpPr>
          <a:xfrm>
            <a:off x="5292720" y="2276640"/>
            <a:ext cx="2087640" cy="1350720"/>
            <a:chOff x="5292720" y="2276640"/>
            <a:chExt cx="2087640" cy="1350720"/>
          </a:xfrm>
        </p:grpSpPr>
        <p:sp>
          <p:nvSpPr>
            <p:cNvPr id="371" name=""/>
            <p:cNvSpPr/>
            <p:nvPr/>
          </p:nvSpPr>
          <p:spPr>
            <a:xfrm>
              <a:off x="5292720" y="2276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5699160" y="2284560"/>
                  <a:ext cx="131292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197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03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09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0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231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241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376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2038320" y="3004920"/>
                  <a:ext cx="59184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8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379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3795840" y="3724200"/>
                  <a:ext cx="6793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1" name="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sp>
          <p:nvSpPr>
            <p:cNvPr id="382" name=""/>
            <p:cNvSpPr/>
            <p:nvPr/>
          </p:nvSpPr>
          <p:spPr>
            <a:xfrm>
              <a:off x="5292720" y="414972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5597280" y="4448160"/>
                  <a:ext cx="6775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6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385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"/>
                <p:cNvSpPr txBox="1"/>
                <p:nvPr/>
              </p:nvSpPr>
              <p:spPr>
                <a:xfrm>
                  <a:off x="7418160" y="5165640"/>
                  <a:ext cx="63324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7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168560" y="1144440"/>
            <a:ext cx="71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волоку длиной 135 м разрезали на две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отношении 5 : 4. Найдите длину меньшей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6" dur="8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7" dur="8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8" dur="8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560"/>
                            </p:stCondLst>
                            <p:childTnLst>
                              <p:par>
                                <p:cTn id="1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2" dur="8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3" dur="8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4" dur="8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4160"/>
                            </p:stCondLst>
                            <p:childTnLst>
                              <p:par>
                                <p:cTn id="12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8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289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299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309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2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2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3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394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2122200" y="3025440"/>
                  <a:ext cx="423720" cy="56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6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397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3836880" y="3724200"/>
                  <a:ext cx="5954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9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400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7397640" y="5189400"/>
                  <a:ext cx="67752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2" name="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sp>
          <p:nvSpPr>
            <p:cNvPr id="403" name=""/>
            <p:cNvSpPr/>
            <p:nvPr/>
          </p:nvSpPr>
          <p:spPr>
            <a:xfrm>
              <a:off x="5292720" y="414972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597280" y="4466880"/>
                  <a:ext cx="67608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050920" y="558972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711720" y="1144440"/>
            <a:ext cx="81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ля изготовления 84 кг фарфора взяли глину, гипс и пес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торые относятся как 4 : 7 :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колько глины взяли для фарф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9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0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1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2960"/>
                            </p:stCondLst>
                            <p:childTnLst>
                              <p:par>
                                <p:cTn id="1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5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6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7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1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2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3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5160"/>
                            </p:stCondLst>
                            <p:childTnLst>
                              <p:par>
                                <p:cTn id="136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7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388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41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41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42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412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1825560" y="2960640"/>
                  <a:ext cx="101700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73</m:t>
                      </m:r>
                      <m:r>
                        <m:t xml:space="preserve">,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415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7310520" y="5164200"/>
                  <a:ext cx="8503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7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418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"/>
                <p:cNvSpPr txBox="1"/>
                <p:nvPr/>
              </p:nvSpPr>
              <p:spPr>
                <a:xfrm>
                  <a:off x="3649680" y="3684600"/>
                  <a:ext cx="97308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1</m:t>
                      </m:r>
                      <m:r>
                        <m:t xml:space="preserve">,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0" name="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sp>
          <p:nvSpPr>
            <p:cNvPr id="421" name=""/>
            <p:cNvSpPr/>
            <p:nvPr/>
          </p:nvSpPr>
          <p:spPr>
            <a:xfrm>
              <a:off x="5292720" y="414972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5597280" y="4444920"/>
                  <a:ext cx="6760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3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0920" y="558972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398160" y="1125360"/>
            <a:ext cx="85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железной руде на 7 частей железа приходится 3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имесей. Сколько тонн примесей содержит железная ру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если в ней 73,5 т желе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0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8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9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2800"/>
                            </p:stCondLst>
                            <p:childTnLst>
                              <p:par>
                                <p:cTn id="14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4" dur="8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5" dur="8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6" dur="8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4800"/>
                            </p:stCondLst>
                            <p:childTnLst>
                              <p:par>
                                <p:cTn id="14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0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1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2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640"/>
                            </p:stCondLst>
                            <p:childTnLst>
                              <p:par>
                                <p:cTn id="14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6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467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6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477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6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487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49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0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0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0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2124000" y="1268280"/>
            <a:ext cx="4424400" cy="1319400"/>
            <a:chOff x="2124000" y="1268280"/>
            <a:chExt cx="4424400" cy="1319400"/>
          </a:xfrm>
        </p:grpSpPr>
        <p:sp>
          <p:nvSpPr>
            <p:cNvPr id="74" name=""/>
            <p:cNvSpPr/>
            <p:nvPr/>
          </p:nvSpPr>
          <p:spPr>
            <a:xfrm>
              <a:off x="3184560" y="1629720"/>
              <a:ext cx="24037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124000" y="1268280"/>
                  <a:ext cx="442440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,5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"/>
          <p:cNvGrpSpPr/>
          <p:nvPr/>
        </p:nvGrpSpPr>
        <p:grpSpPr>
          <a:xfrm>
            <a:off x="1692360" y="2637000"/>
            <a:ext cx="1295280" cy="1368360"/>
            <a:chOff x="1692360" y="2637000"/>
            <a:chExt cx="1295280" cy="1368360"/>
          </a:xfrm>
        </p:grpSpPr>
        <p:sp>
          <p:nvSpPr>
            <p:cNvPr id="77" name=""/>
            <p:cNvSpPr/>
            <p:nvPr/>
          </p:nvSpPr>
          <p:spPr>
            <a:xfrm>
              <a:off x="1692360" y="270864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1763640" y="2637000"/>
                  <a:ext cx="11426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8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"/>
          <p:cNvGrpSpPr/>
          <p:nvPr/>
        </p:nvGrpSpPr>
        <p:grpSpPr>
          <a:xfrm>
            <a:off x="3492360" y="3357720"/>
            <a:ext cx="1295640" cy="1368360"/>
            <a:chOff x="3492360" y="3357720"/>
            <a:chExt cx="1295640" cy="1368360"/>
          </a:xfrm>
        </p:grpSpPr>
        <p:sp>
          <p:nvSpPr>
            <p:cNvPr id="80" name=""/>
            <p:cNvSpPr/>
            <p:nvPr/>
          </p:nvSpPr>
          <p:spPr>
            <a:xfrm>
              <a:off x="3492360" y="342936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3543120" y="3357720"/>
                  <a:ext cx="118620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" name=""/>
          <p:cNvGrpSpPr/>
          <p:nvPr/>
        </p:nvGrpSpPr>
        <p:grpSpPr>
          <a:xfrm>
            <a:off x="5292720" y="4076640"/>
            <a:ext cx="1295280" cy="1368360"/>
            <a:chOff x="5292720" y="4076640"/>
            <a:chExt cx="1295280" cy="1368360"/>
          </a:xfrm>
        </p:grpSpPr>
        <p:sp>
          <p:nvSpPr>
            <p:cNvPr id="83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5343120" y="4076640"/>
                  <a:ext cx="11858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" name=""/>
          <p:cNvGrpSpPr/>
          <p:nvPr/>
        </p:nvGrpSpPr>
        <p:grpSpPr>
          <a:xfrm>
            <a:off x="7093080" y="4797360"/>
            <a:ext cx="1295280" cy="1368360"/>
            <a:chOff x="7093080" y="4797360"/>
            <a:chExt cx="1295280" cy="1368360"/>
          </a:xfrm>
        </p:grpSpPr>
        <p:sp>
          <p:nvSpPr>
            <p:cNvPr id="86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7207200" y="4797360"/>
                  <a:ext cx="105696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зложите многочл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множи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340000" y="1413000"/>
            <a:ext cx="4017960" cy="680760"/>
            <a:chOff x="2340000" y="1413000"/>
            <a:chExt cx="4017960" cy="680760"/>
          </a:xfrm>
        </p:grpSpPr>
        <p:sp>
          <p:nvSpPr>
            <p:cNvPr id="430" name=""/>
            <p:cNvSpPr/>
            <p:nvPr/>
          </p:nvSpPr>
          <p:spPr>
            <a:xfrm>
              <a:off x="3197520" y="1454760"/>
              <a:ext cx="240336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2340000" y="1413000"/>
                  <a:ext cx="401796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2" name=""/>
          <p:cNvGrpSpPr/>
          <p:nvPr/>
        </p:nvGrpSpPr>
        <p:grpSpPr>
          <a:xfrm>
            <a:off x="5608800" y="4402080"/>
            <a:ext cx="2624040" cy="822240"/>
            <a:chOff x="5608800" y="4402080"/>
            <a:chExt cx="2624040" cy="822240"/>
          </a:xfrm>
        </p:grpSpPr>
        <p:sp>
          <p:nvSpPr>
            <p:cNvPr id="433" name=""/>
            <p:cNvSpPr/>
            <p:nvPr/>
          </p:nvSpPr>
          <p:spPr>
            <a:xfrm>
              <a:off x="5724720" y="4437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5608800" y="4402080"/>
                  <a:ext cx="262404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611680" y="3416400"/>
            <a:ext cx="2620800" cy="779400"/>
            <a:chOff x="5611680" y="3416400"/>
            <a:chExt cx="2620800" cy="779400"/>
          </a:xfrm>
        </p:grpSpPr>
        <p:sp>
          <p:nvSpPr>
            <p:cNvPr id="438" name=""/>
            <p:cNvSpPr/>
            <p:nvPr/>
          </p:nvSpPr>
          <p:spPr>
            <a:xfrm>
              <a:off x="5724360" y="3429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"/>
                <p:cNvSpPr txBox="1"/>
                <p:nvPr/>
              </p:nvSpPr>
              <p:spPr>
                <a:xfrm>
                  <a:off x="5611680" y="3416400"/>
                  <a:ext cx="26208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0" name=""/>
          <p:cNvGrpSpPr/>
          <p:nvPr/>
        </p:nvGrpSpPr>
        <p:grpSpPr>
          <a:xfrm>
            <a:off x="5724360" y="2386080"/>
            <a:ext cx="2448000" cy="823680"/>
            <a:chOff x="5724360" y="2386080"/>
            <a:chExt cx="2448000" cy="823680"/>
          </a:xfrm>
        </p:grpSpPr>
        <p:sp>
          <p:nvSpPr>
            <p:cNvPr id="441" name=""/>
            <p:cNvSpPr/>
            <p:nvPr/>
          </p:nvSpPr>
          <p:spPr>
            <a:xfrm>
              <a:off x="5724360" y="2420640"/>
              <a:ext cx="2448000" cy="72036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5800320" y="2386080"/>
                  <a:ext cx="224316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3" name=""/>
          <p:cNvGrpSpPr/>
          <p:nvPr/>
        </p:nvGrpSpPr>
        <p:grpSpPr>
          <a:xfrm>
            <a:off x="5724360" y="5576760"/>
            <a:ext cx="2448000" cy="779400"/>
            <a:chOff x="5724360" y="5576760"/>
            <a:chExt cx="2448000" cy="779400"/>
          </a:xfrm>
        </p:grpSpPr>
        <p:sp>
          <p:nvSpPr>
            <p:cNvPr id="444" name=""/>
            <p:cNvSpPr/>
            <p:nvPr/>
          </p:nvSpPr>
          <p:spPr>
            <a:xfrm>
              <a:off x="5724360" y="558936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5759280" y="5576760"/>
                  <a:ext cx="232704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⋅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0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552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1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562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1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572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1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582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9" dur="1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4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зложите много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множи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111400" y="1382760"/>
            <a:ext cx="4289400" cy="603360"/>
            <a:chOff x="2111400" y="1382760"/>
            <a:chExt cx="4289400" cy="603360"/>
          </a:xfrm>
        </p:grpSpPr>
        <p:sp>
          <p:nvSpPr>
            <p:cNvPr id="450" name=""/>
            <p:cNvSpPr/>
            <p:nvPr/>
          </p:nvSpPr>
          <p:spPr>
            <a:xfrm>
              <a:off x="3104640" y="1383840"/>
              <a:ext cx="240408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2111400" y="1382760"/>
                  <a:ext cx="4289400" cy="59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2" name=""/>
          <p:cNvGrpSpPr/>
          <p:nvPr/>
        </p:nvGrpSpPr>
        <p:grpSpPr>
          <a:xfrm>
            <a:off x="5292720" y="2349360"/>
            <a:ext cx="3600360" cy="736920"/>
            <a:chOff x="5292720" y="2349360"/>
            <a:chExt cx="3600360" cy="736920"/>
          </a:xfrm>
        </p:grpSpPr>
        <p:sp>
          <p:nvSpPr>
            <p:cNvPr id="453" name=""/>
            <p:cNvSpPr/>
            <p:nvPr/>
          </p:nvSpPr>
          <p:spPr>
            <a:xfrm>
              <a:off x="5292720" y="2349360"/>
              <a:ext cx="360036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5508720" y="2349360"/>
                  <a:ext cx="3089160" cy="73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−</m:t>
                          </m:r>
                          <m:r>
                            <m:t xml:space="preserve">а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979640" y="551664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5292720" y="3357720"/>
            <a:ext cx="3600360" cy="736560"/>
            <a:chOff x="5292720" y="3357720"/>
            <a:chExt cx="3600360" cy="736560"/>
          </a:xfrm>
        </p:grpSpPr>
        <p:sp>
          <p:nvSpPr>
            <p:cNvPr id="459" name=""/>
            <p:cNvSpPr/>
            <p:nvPr/>
          </p:nvSpPr>
          <p:spPr>
            <a:xfrm>
              <a:off x="5292720" y="3357720"/>
              <a:ext cx="3600360" cy="72036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5508720" y="3357720"/>
                  <a:ext cx="30891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−</m:t>
                          </m:r>
                          <m:r>
                            <m:t xml:space="preserve">а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"/>
          <p:cNvGrpSpPr/>
          <p:nvPr/>
        </p:nvGrpSpPr>
        <p:grpSpPr>
          <a:xfrm>
            <a:off x="5292720" y="4292640"/>
            <a:ext cx="3600360" cy="736560"/>
            <a:chOff x="5292720" y="4292640"/>
            <a:chExt cx="3600360" cy="736560"/>
          </a:xfrm>
        </p:grpSpPr>
        <p:sp>
          <p:nvSpPr>
            <p:cNvPr id="462" name=""/>
            <p:cNvSpPr/>
            <p:nvPr/>
          </p:nvSpPr>
          <p:spPr>
            <a:xfrm>
              <a:off x="5292720" y="4292640"/>
              <a:ext cx="3600360" cy="72036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5508720" y="4292640"/>
                  <a:ext cx="30891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4" name=""/>
          <p:cNvGrpSpPr/>
          <p:nvPr/>
        </p:nvGrpSpPr>
        <p:grpSpPr>
          <a:xfrm>
            <a:off x="5292720" y="5300640"/>
            <a:ext cx="3600360" cy="736560"/>
            <a:chOff x="5292720" y="5300640"/>
            <a:chExt cx="3600360" cy="736560"/>
          </a:xfrm>
        </p:grpSpPr>
        <p:sp>
          <p:nvSpPr>
            <p:cNvPr id="465" name=""/>
            <p:cNvSpPr/>
            <p:nvPr/>
          </p:nvSpPr>
          <p:spPr>
            <a:xfrm>
              <a:off x="5292720" y="5300640"/>
              <a:ext cx="3600360" cy="72036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5508720" y="5300640"/>
                  <a:ext cx="30891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−</m:t>
                          </m:r>
                          <m:r>
                            <m:t xml:space="preserve">а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0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639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5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0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5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9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660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9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670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зложите много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множи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411280" y="1197000"/>
            <a:ext cx="3560760" cy="824040"/>
            <a:chOff x="2411280" y="1197000"/>
            <a:chExt cx="3560760" cy="824040"/>
          </a:xfrm>
        </p:grpSpPr>
        <p:sp>
          <p:nvSpPr>
            <p:cNvPr id="470" name=""/>
            <p:cNvSpPr/>
            <p:nvPr/>
          </p:nvSpPr>
          <p:spPr>
            <a:xfrm>
              <a:off x="2997360" y="1249920"/>
              <a:ext cx="249336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2411280" y="1197000"/>
                  <a:ext cx="3560760" cy="8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с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а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2" name=""/>
          <p:cNvGrpSpPr/>
          <p:nvPr/>
        </p:nvGrpSpPr>
        <p:grpSpPr>
          <a:xfrm>
            <a:off x="4932360" y="5157720"/>
            <a:ext cx="3978360" cy="736560"/>
            <a:chOff x="4932360" y="5157720"/>
            <a:chExt cx="3978360" cy="736560"/>
          </a:xfrm>
        </p:grpSpPr>
        <p:sp>
          <p:nvSpPr>
            <p:cNvPr id="473" name=""/>
            <p:cNvSpPr/>
            <p:nvPr/>
          </p:nvSpPr>
          <p:spPr>
            <a:xfrm>
              <a:off x="4932360" y="5157720"/>
              <a:ext cx="396108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"/>
                <p:cNvSpPr txBox="1"/>
                <p:nvPr/>
              </p:nvSpPr>
              <p:spPr>
                <a:xfrm>
                  <a:off x="4932360" y="5157720"/>
                  <a:ext cx="39783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с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с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63640" y="573408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4932360" y="2133720"/>
            <a:ext cx="3978360" cy="736560"/>
            <a:chOff x="4932360" y="2133720"/>
            <a:chExt cx="3978360" cy="736560"/>
          </a:xfrm>
        </p:grpSpPr>
        <p:sp>
          <p:nvSpPr>
            <p:cNvPr id="479" name=""/>
            <p:cNvSpPr/>
            <p:nvPr/>
          </p:nvSpPr>
          <p:spPr>
            <a:xfrm>
              <a:off x="4932360" y="2133720"/>
              <a:ext cx="396108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0" name=""/>
                <p:cNvSpPr txBox="1"/>
                <p:nvPr/>
              </p:nvSpPr>
              <p:spPr>
                <a:xfrm>
                  <a:off x="4932360" y="2133720"/>
                  <a:ext cx="39783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с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с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1" name=""/>
          <p:cNvGrpSpPr/>
          <p:nvPr/>
        </p:nvGrpSpPr>
        <p:grpSpPr>
          <a:xfrm>
            <a:off x="4932360" y="3141720"/>
            <a:ext cx="3978360" cy="736560"/>
            <a:chOff x="4932360" y="3141720"/>
            <a:chExt cx="3978360" cy="736560"/>
          </a:xfrm>
        </p:grpSpPr>
        <p:sp>
          <p:nvSpPr>
            <p:cNvPr id="482" name=""/>
            <p:cNvSpPr/>
            <p:nvPr/>
          </p:nvSpPr>
          <p:spPr>
            <a:xfrm>
              <a:off x="4932360" y="3141720"/>
              <a:ext cx="396108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4932360" y="3141720"/>
                  <a:ext cx="39783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с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а</m:t>
                          </m:r>
                          <m:r>
                            <m:t xml:space="preserve">+</m:t>
                          </m:r>
                          <m:r>
                            <m:t xml:space="preserve">с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4" name=""/>
          <p:cNvGrpSpPr/>
          <p:nvPr/>
        </p:nvGrpSpPr>
        <p:grpSpPr>
          <a:xfrm>
            <a:off x="4932360" y="4149720"/>
            <a:ext cx="3978360" cy="736560"/>
            <a:chOff x="4932360" y="4149720"/>
            <a:chExt cx="3978360" cy="736560"/>
          </a:xfrm>
        </p:grpSpPr>
        <p:sp>
          <p:nvSpPr>
            <p:cNvPr id="485" name=""/>
            <p:cNvSpPr/>
            <p:nvPr/>
          </p:nvSpPr>
          <p:spPr>
            <a:xfrm>
              <a:off x="4932360" y="4149720"/>
              <a:ext cx="396108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6" name=""/>
                <p:cNvSpPr txBox="1"/>
                <p:nvPr/>
              </p:nvSpPr>
              <p:spPr>
                <a:xfrm>
                  <a:off x="4932360" y="4149720"/>
                  <a:ext cx="39783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с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+</m:t>
                          </m:r>
                          <m:r>
                            <m:t xml:space="preserve">с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0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706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2" dur="1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4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7" dur="10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2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6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727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6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6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747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50920" y="1268280"/>
            <a:ext cx="3611520" cy="765360"/>
            <a:chOff x="2050920" y="1268280"/>
            <a:chExt cx="3611520" cy="765360"/>
          </a:xfrm>
        </p:grpSpPr>
        <p:sp>
          <p:nvSpPr>
            <p:cNvPr id="490" name=""/>
            <p:cNvSpPr/>
            <p:nvPr/>
          </p:nvSpPr>
          <p:spPr>
            <a:xfrm>
              <a:off x="2705040" y="1352880"/>
              <a:ext cx="240300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2050920" y="1268280"/>
                  <a:ext cx="3611520" cy="7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ху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2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493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1847880" y="3004920"/>
                  <a:ext cx="97416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5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496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3924360" y="3746160"/>
                  <a:ext cx="42372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8" name="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sp>
          <p:nvSpPr>
            <p:cNvPr id="499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5638680" y="4444920"/>
                  <a:ext cx="59328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1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502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7354800" y="5186160"/>
                  <a:ext cx="75996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4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435640" y="1989000"/>
            <a:ext cx="129708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740640" y="1916280"/>
            <a:ext cx="2403360" cy="603000"/>
            <a:chOff x="6740640" y="1916280"/>
            <a:chExt cx="2403360" cy="603000"/>
          </a:xfrm>
        </p:grpSpPr>
        <p:sp>
          <p:nvSpPr>
            <p:cNvPr id="509" name=""/>
            <p:cNvSpPr/>
            <p:nvPr/>
          </p:nvSpPr>
          <p:spPr>
            <a:xfrm>
              <a:off x="6740640" y="1917360"/>
              <a:ext cx="240336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6989760" y="1916280"/>
                  <a:ext cx="1806480" cy="59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1" name=""/>
          <p:cNvGrpSpPr/>
          <p:nvPr/>
        </p:nvGrpSpPr>
        <p:grpSpPr>
          <a:xfrm>
            <a:off x="6588000" y="2492280"/>
            <a:ext cx="2403720" cy="681120"/>
            <a:chOff x="6588000" y="2492280"/>
            <a:chExt cx="2403720" cy="681120"/>
          </a:xfrm>
        </p:grpSpPr>
        <p:sp>
          <p:nvSpPr>
            <p:cNvPr id="512" name=""/>
            <p:cNvSpPr/>
            <p:nvPr/>
          </p:nvSpPr>
          <p:spPr>
            <a:xfrm>
              <a:off x="6588000" y="2536200"/>
              <a:ext cx="240372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6993720" y="2492280"/>
                  <a:ext cx="149112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4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805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4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825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835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4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4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4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050920" y="1268280"/>
            <a:ext cx="3611520" cy="765360"/>
            <a:chOff x="2050920" y="1268280"/>
            <a:chExt cx="3611520" cy="765360"/>
          </a:xfrm>
        </p:grpSpPr>
        <p:sp>
          <p:nvSpPr>
            <p:cNvPr id="517" name=""/>
            <p:cNvSpPr/>
            <p:nvPr/>
          </p:nvSpPr>
          <p:spPr>
            <a:xfrm>
              <a:off x="2705040" y="1352880"/>
              <a:ext cx="240300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2050920" y="1268280"/>
                  <a:ext cx="3611520" cy="7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ху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9" name="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sp>
          <p:nvSpPr>
            <p:cNvPr id="520" name=""/>
            <p:cNvSpPr/>
            <p:nvPr/>
          </p:nvSpPr>
          <p:spPr>
            <a:xfrm>
              <a:off x="5292720" y="414972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5427360" y="4446360"/>
                  <a:ext cx="101736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2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523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4" name=""/>
                <p:cNvSpPr txBox="1"/>
                <p:nvPr/>
              </p:nvSpPr>
              <p:spPr>
                <a:xfrm>
                  <a:off x="3755880" y="3725640"/>
                  <a:ext cx="76212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5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526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1995480" y="3004920"/>
                  <a:ext cx="67896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8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529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"/>
                <p:cNvSpPr txBox="1"/>
                <p:nvPr/>
              </p:nvSpPr>
              <p:spPr>
                <a:xfrm>
                  <a:off x="7270560" y="5164200"/>
                  <a:ext cx="9284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72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1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5435640" y="1989000"/>
            <a:ext cx="129708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740640" y="1916280"/>
            <a:ext cx="2403360" cy="603000"/>
            <a:chOff x="6740640" y="1916280"/>
            <a:chExt cx="2403360" cy="603000"/>
          </a:xfrm>
        </p:grpSpPr>
        <p:sp>
          <p:nvSpPr>
            <p:cNvPr id="536" name=""/>
            <p:cNvSpPr/>
            <p:nvPr/>
          </p:nvSpPr>
          <p:spPr>
            <a:xfrm>
              <a:off x="6740640" y="1917360"/>
              <a:ext cx="240336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7" name=""/>
                <p:cNvSpPr txBox="1"/>
                <p:nvPr/>
              </p:nvSpPr>
              <p:spPr>
                <a:xfrm>
                  <a:off x="6989760" y="1916280"/>
                  <a:ext cx="1806480" cy="59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8" name=""/>
          <p:cNvGrpSpPr/>
          <p:nvPr/>
        </p:nvGrpSpPr>
        <p:grpSpPr>
          <a:xfrm>
            <a:off x="6740640" y="2492280"/>
            <a:ext cx="2403360" cy="681120"/>
            <a:chOff x="6740640" y="2492280"/>
            <a:chExt cx="2403360" cy="681120"/>
          </a:xfrm>
        </p:grpSpPr>
        <p:sp>
          <p:nvSpPr>
            <p:cNvPr id="539" name=""/>
            <p:cNvSpPr/>
            <p:nvPr/>
          </p:nvSpPr>
          <p:spPr>
            <a:xfrm>
              <a:off x="6740640" y="2536200"/>
              <a:ext cx="2403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6967800" y="2492280"/>
                  <a:ext cx="185256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9" dur="indefinite" restart="never" nodeType="tmRoot">
          <p:childTnLst>
            <p:seq>
              <p:cTn id="1850" dur="indefinite" nodeType="mainSeq">
                <p:childTnLst>
                  <p:par>
                    <p:cTn id="1851" fill="hold">
                      <p:stCondLst>
                        <p:cond delay="0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7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7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1888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7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898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7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908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2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2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3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803240" y="1268280"/>
            <a:ext cx="4106880" cy="765360"/>
            <a:chOff x="1803240" y="1268280"/>
            <a:chExt cx="4106880" cy="765360"/>
          </a:xfrm>
        </p:grpSpPr>
        <p:sp>
          <p:nvSpPr>
            <p:cNvPr id="544" name=""/>
            <p:cNvSpPr/>
            <p:nvPr/>
          </p:nvSpPr>
          <p:spPr>
            <a:xfrm>
              <a:off x="2705040" y="1352880"/>
              <a:ext cx="240372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1803240" y="1268280"/>
                  <a:ext cx="4106880" cy="7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ху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6" name=""/>
          <p:cNvGrpSpPr/>
          <p:nvPr/>
        </p:nvGrpSpPr>
        <p:grpSpPr>
          <a:xfrm>
            <a:off x="5237280" y="4149720"/>
            <a:ext cx="1400040" cy="1296720"/>
            <a:chOff x="5237280" y="4149720"/>
            <a:chExt cx="1400040" cy="1296720"/>
          </a:xfrm>
        </p:grpSpPr>
        <p:sp>
          <p:nvSpPr>
            <p:cNvPr id="547" name=""/>
            <p:cNvSpPr/>
            <p:nvPr/>
          </p:nvSpPr>
          <p:spPr>
            <a:xfrm>
              <a:off x="5292720" y="414972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5237280" y="4403520"/>
                  <a:ext cx="140004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9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550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1" name=""/>
                <p:cNvSpPr txBox="1"/>
                <p:nvPr/>
              </p:nvSpPr>
              <p:spPr>
                <a:xfrm>
                  <a:off x="1892160" y="3004920"/>
                  <a:ext cx="88848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6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2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553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4" name=""/>
                <p:cNvSpPr txBox="1"/>
                <p:nvPr/>
              </p:nvSpPr>
              <p:spPr>
                <a:xfrm>
                  <a:off x="3625920" y="3682800"/>
                  <a:ext cx="101916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5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556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7354800" y="5164200"/>
                  <a:ext cx="75996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5435640" y="1989000"/>
            <a:ext cx="129708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740640" y="1873080"/>
            <a:ext cx="2403360" cy="681120"/>
            <a:chOff x="6740640" y="1873080"/>
            <a:chExt cx="2403360" cy="681120"/>
          </a:xfrm>
        </p:grpSpPr>
        <p:sp>
          <p:nvSpPr>
            <p:cNvPr id="563" name=""/>
            <p:cNvSpPr/>
            <p:nvPr/>
          </p:nvSpPr>
          <p:spPr>
            <a:xfrm>
              <a:off x="6740640" y="1917000"/>
              <a:ext cx="2403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6921360" y="1873080"/>
                  <a:ext cx="194292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5" name=""/>
          <p:cNvGrpSpPr/>
          <p:nvPr/>
        </p:nvGrpSpPr>
        <p:grpSpPr>
          <a:xfrm>
            <a:off x="6443640" y="2492280"/>
            <a:ext cx="2403360" cy="681120"/>
            <a:chOff x="6443640" y="2492280"/>
            <a:chExt cx="2403360" cy="681120"/>
          </a:xfrm>
        </p:grpSpPr>
        <p:sp>
          <p:nvSpPr>
            <p:cNvPr id="566" name=""/>
            <p:cNvSpPr/>
            <p:nvPr/>
          </p:nvSpPr>
          <p:spPr>
            <a:xfrm>
              <a:off x="6443640" y="2536200"/>
              <a:ext cx="2403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7" name=""/>
                <p:cNvSpPr txBox="1"/>
                <p:nvPr/>
              </p:nvSpPr>
              <p:spPr>
                <a:xfrm>
                  <a:off x="6940080" y="2492280"/>
                  <a:ext cx="131184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0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0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971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0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981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99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0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2001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0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1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1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акой точке пересек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рафики функ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571" name=""/>
          <p:cNvGrpSpPr/>
          <p:nvPr/>
        </p:nvGrpSpPr>
        <p:grpSpPr>
          <a:xfrm>
            <a:off x="1979640" y="1268280"/>
            <a:ext cx="2423880" cy="681120"/>
            <a:chOff x="1979640" y="1268280"/>
            <a:chExt cx="2423880" cy="681120"/>
          </a:xfrm>
        </p:grpSpPr>
        <p:sp>
          <p:nvSpPr>
            <p:cNvPr id="572" name=""/>
            <p:cNvSpPr/>
            <p:nvPr/>
          </p:nvSpPr>
          <p:spPr>
            <a:xfrm>
              <a:off x="1999440" y="1310760"/>
              <a:ext cx="24040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1979640" y="1268280"/>
                  <a:ext cx="234576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4" name=""/>
          <p:cNvGrpSpPr/>
          <p:nvPr/>
        </p:nvGrpSpPr>
        <p:grpSpPr>
          <a:xfrm>
            <a:off x="5292720" y="2349360"/>
            <a:ext cx="2087640" cy="1296720"/>
            <a:chOff x="5292720" y="2349360"/>
            <a:chExt cx="2087640" cy="1296720"/>
          </a:xfrm>
        </p:grpSpPr>
        <p:sp>
          <p:nvSpPr>
            <p:cNvPr id="575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6" name=""/>
                <p:cNvSpPr txBox="1"/>
                <p:nvPr/>
              </p:nvSpPr>
              <p:spPr>
                <a:xfrm>
                  <a:off x="5529240" y="2660400"/>
                  <a:ext cx="16527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7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292720" y="3860640"/>
            <a:ext cx="2087640" cy="1296720"/>
            <a:chOff x="5292720" y="3860640"/>
            <a:chExt cx="2087640" cy="1296720"/>
          </a:xfrm>
        </p:grpSpPr>
        <p:sp>
          <p:nvSpPr>
            <p:cNvPr id="580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5846760" y="4170240"/>
                  <a:ext cx="10177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2" name=""/>
          <p:cNvGrpSpPr/>
          <p:nvPr/>
        </p:nvGrpSpPr>
        <p:grpSpPr>
          <a:xfrm>
            <a:off x="2556000" y="3860640"/>
            <a:ext cx="2087280" cy="1296720"/>
            <a:chOff x="2556000" y="3860640"/>
            <a:chExt cx="2087280" cy="1296720"/>
          </a:xfrm>
        </p:grpSpPr>
        <p:sp>
          <p:nvSpPr>
            <p:cNvPr id="583" name=""/>
            <p:cNvSpPr/>
            <p:nvPr/>
          </p:nvSpPr>
          <p:spPr>
            <a:xfrm>
              <a:off x="2556000" y="3860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2771640" y="4171680"/>
                  <a:ext cx="16920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5" name=""/>
          <p:cNvGrpSpPr/>
          <p:nvPr/>
        </p:nvGrpSpPr>
        <p:grpSpPr>
          <a:xfrm>
            <a:off x="2556000" y="2349360"/>
            <a:ext cx="2087280" cy="1296720"/>
            <a:chOff x="2556000" y="2349360"/>
            <a:chExt cx="2087280" cy="1296720"/>
          </a:xfrm>
        </p:grpSpPr>
        <p:sp>
          <p:nvSpPr>
            <p:cNvPr id="586" name=""/>
            <p:cNvSpPr/>
            <p:nvPr/>
          </p:nvSpPr>
          <p:spPr>
            <a:xfrm>
              <a:off x="2556000" y="2349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7" name=""/>
                <p:cNvSpPr txBox="1"/>
                <p:nvPr/>
              </p:nvSpPr>
              <p:spPr>
                <a:xfrm>
                  <a:off x="3109680" y="2660400"/>
                  <a:ext cx="10155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;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8" name=""/>
          <p:cNvGrpSpPr/>
          <p:nvPr/>
        </p:nvGrpSpPr>
        <p:grpSpPr>
          <a:xfrm>
            <a:off x="5435640" y="1268280"/>
            <a:ext cx="2403360" cy="681120"/>
            <a:chOff x="5435640" y="1268280"/>
            <a:chExt cx="2403360" cy="681120"/>
          </a:xfrm>
        </p:grpSpPr>
        <p:sp>
          <p:nvSpPr>
            <p:cNvPr id="589" name=""/>
            <p:cNvSpPr/>
            <p:nvPr/>
          </p:nvSpPr>
          <p:spPr>
            <a:xfrm>
              <a:off x="5435640" y="131076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0" name=""/>
                <p:cNvSpPr txBox="1"/>
                <p:nvPr/>
              </p:nvSpPr>
              <p:spPr>
                <a:xfrm>
                  <a:off x="5798160" y="1268280"/>
                  <a:ext cx="157932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1" name=""/>
          <p:cNvSpPr/>
          <p:nvPr/>
        </p:nvSpPr>
        <p:spPr>
          <a:xfrm>
            <a:off x="4716360" y="119700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0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7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066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72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5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78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4" dur="10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9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2090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1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акой точке пересек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рафики функ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595" name=""/>
          <p:cNvGrpSpPr/>
          <p:nvPr/>
        </p:nvGrpSpPr>
        <p:grpSpPr>
          <a:xfrm>
            <a:off x="2000160" y="1268280"/>
            <a:ext cx="2403720" cy="681120"/>
            <a:chOff x="2000160" y="1268280"/>
            <a:chExt cx="2403720" cy="681120"/>
          </a:xfrm>
        </p:grpSpPr>
        <p:sp>
          <p:nvSpPr>
            <p:cNvPr id="596" name=""/>
            <p:cNvSpPr/>
            <p:nvPr/>
          </p:nvSpPr>
          <p:spPr>
            <a:xfrm>
              <a:off x="2000160" y="1310760"/>
              <a:ext cx="24037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2046240" y="1268280"/>
                  <a:ext cx="221184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8" name=""/>
          <p:cNvGrpSpPr/>
          <p:nvPr/>
        </p:nvGrpSpPr>
        <p:grpSpPr>
          <a:xfrm>
            <a:off x="5275440" y="2349360"/>
            <a:ext cx="2160360" cy="1296720"/>
            <a:chOff x="5275440" y="2349360"/>
            <a:chExt cx="2160360" cy="1296720"/>
          </a:xfrm>
        </p:grpSpPr>
        <p:sp>
          <p:nvSpPr>
            <p:cNvPr id="599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0" name=""/>
                <p:cNvSpPr txBox="1"/>
                <p:nvPr/>
              </p:nvSpPr>
              <p:spPr>
                <a:xfrm>
                  <a:off x="5275440" y="2660400"/>
                  <a:ext cx="21603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0,5</m:t>
                          </m:r>
                          <m:r>
                            <m:t xml:space="preserve">;</m:t>
                          </m:r>
                          <m:r>
                            <m:t xml:space="preserve">0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1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556000" y="3860640"/>
            <a:ext cx="2101680" cy="1296720"/>
            <a:chOff x="2556000" y="3860640"/>
            <a:chExt cx="2101680" cy="1296720"/>
          </a:xfrm>
        </p:grpSpPr>
        <p:sp>
          <p:nvSpPr>
            <p:cNvPr id="604" name=""/>
            <p:cNvSpPr/>
            <p:nvPr/>
          </p:nvSpPr>
          <p:spPr>
            <a:xfrm>
              <a:off x="255600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2581560" y="4170240"/>
                  <a:ext cx="20761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,5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0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6" name=""/>
          <p:cNvGrpSpPr/>
          <p:nvPr/>
        </p:nvGrpSpPr>
        <p:grpSpPr>
          <a:xfrm>
            <a:off x="5292720" y="3860640"/>
            <a:ext cx="2087640" cy="1296720"/>
            <a:chOff x="5292720" y="3860640"/>
            <a:chExt cx="2087640" cy="1296720"/>
          </a:xfrm>
        </p:grpSpPr>
        <p:sp>
          <p:nvSpPr>
            <p:cNvPr id="607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5361120" y="4171680"/>
                  <a:ext cx="19890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0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9" name=""/>
          <p:cNvGrpSpPr/>
          <p:nvPr/>
        </p:nvGrpSpPr>
        <p:grpSpPr>
          <a:xfrm>
            <a:off x="2556000" y="2349360"/>
            <a:ext cx="2087280" cy="1296720"/>
            <a:chOff x="2556000" y="2349360"/>
            <a:chExt cx="2087280" cy="1296720"/>
          </a:xfrm>
        </p:grpSpPr>
        <p:sp>
          <p:nvSpPr>
            <p:cNvPr id="610" name=""/>
            <p:cNvSpPr/>
            <p:nvPr/>
          </p:nvSpPr>
          <p:spPr>
            <a:xfrm>
              <a:off x="2556000" y="2349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"/>
                <p:cNvSpPr txBox="1"/>
                <p:nvPr/>
              </p:nvSpPr>
              <p:spPr>
                <a:xfrm>
                  <a:off x="2771640" y="2660400"/>
                  <a:ext cx="16934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,5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2" name=""/>
          <p:cNvGrpSpPr/>
          <p:nvPr/>
        </p:nvGrpSpPr>
        <p:grpSpPr>
          <a:xfrm>
            <a:off x="5435640" y="1268280"/>
            <a:ext cx="2403360" cy="681120"/>
            <a:chOff x="5435640" y="1268280"/>
            <a:chExt cx="2403360" cy="681120"/>
          </a:xfrm>
        </p:grpSpPr>
        <p:sp>
          <p:nvSpPr>
            <p:cNvPr id="613" name=""/>
            <p:cNvSpPr/>
            <p:nvPr/>
          </p:nvSpPr>
          <p:spPr>
            <a:xfrm>
              <a:off x="5435640" y="131076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4" name=""/>
                <p:cNvSpPr txBox="1"/>
                <p:nvPr/>
              </p:nvSpPr>
              <p:spPr>
                <a:xfrm>
                  <a:off x="5619600" y="1268280"/>
                  <a:ext cx="193752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5" name=""/>
          <p:cNvSpPr/>
          <p:nvPr/>
        </p:nvSpPr>
        <p:spPr>
          <a:xfrm>
            <a:off x="4716360" y="119700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9" dur="indefinite" restart="never" nodeType="tmRoot">
          <p:childTnLst>
            <p:seq>
              <p:cTn id="2120" dur="indefinite" nodeType="mainSeq">
                <p:childTnLst>
                  <p:par>
                    <p:cTn id="2121" fill="hold">
                      <p:stCondLst>
                        <p:cond delay="0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9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2160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66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72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5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78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3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2184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3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2194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3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2204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акой точке пересек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рафики функ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619" name=""/>
          <p:cNvGrpSpPr/>
          <p:nvPr/>
        </p:nvGrpSpPr>
        <p:grpSpPr>
          <a:xfrm>
            <a:off x="1889280" y="1268280"/>
            <a:ext cx="2527200" cy="681120"/>
            <a:chOff x="1889280" y="1268280"/>
            <a:chExt cx="2527200" cy="681120"/>
          </a:xfrm>
        </p:grpSpPr>
        <p:sp>
          <p:nvSpPr>
            <p:cNvPr id="620" name=""/>
            <p:cNvSpPr/>
            <p:nvPr/>
          </p:nvSpPr>
          <p:spPr>
            <a:xfrm>
              <a:off x="2000520" y="1310760"/>
              <a:ext cx="24022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1" name=""/>
                <p:cNvSpPr txBox="1"/>
                <p:nvPr/>
              </p:nvSpPr>
              <p:spPr>
                <a:xfrm>
                  <a:off x="1889280" y="1268280"/>
                  <a:ext cx="252720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2" name=""/>
          <p:cNvGrpSpPr/>
          <p:nvPr/>
        </p:nvGrpSpPr>
        <p:grpSpPr>
          <a:xfrm>
            <a:off x="2573280" y="3860640"/>
            <a:ext cx="2087640" cy="1296720"/>
            <a:chOff x="2573280" y="3860640"/>
            <a:chExt cx="2087640" cy="1296720"/>
          </a:xfrm>
        </p:grpSpPr>
        <p:sp>
          <p:nvSpPr>
            <p:cNvPr id="623" name=""/>
            <p:cNvSpPr/>
            <p:nvPr/>
          </p:nvSpPr>
          <p:spPr>
            <a:xfrm>
              <a:off x="257328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2957400" y="4171680"/>
                  <a:ext cx="13557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1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5292720" y="2349360"/>
            <a:ext cx="2087640" cy="1296720"/>
            <a:chOff x="5292720" y="2349360"/>
            <a:chExt cx="2087640" cy="1296720"/>
          </a:xfrm>
        </p:grpSpPr>
        <p:sp>
          <p:nvSpPr>
            <p:cNvPr id="628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5486400" y="2658960"/>
                  <a:ext cx="17384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1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0" name=""/>
          <p:cNvGrpSpPr/>
          <p:nvPr/>
        </p:nvGrpSpPr>
        <p:grpSpPr>
          <a:xfrm>
            <a:off x="5292720" y="3860640"/>
            <a:ext cx="2087640" cy="1296720"/>
            <a:chOff x="5292720" y="3860640"/>
            <a:chExt cx="2087640" cy="1296720"/>
          </a:xfrm>
        </p:grpSpPr>
        <p:sp>
          <p:nvSpPr>
            <p:cNvPr id="631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2" name=""/>
                <p:cNvSpPr txBox="1"/>
                <p:nvPr/>
              </p:nvSpPr>
              <p:spPr>
                <a:xfrm>
                  <a:off x="5340240" y="4171680"/>
                  <a:ext cx="20322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3" name=""/>
          <p:cNvGrpSpPr/>
          <p:nvPr/>
        </p:nvGrpSpPr>
        <p:grpSpPr>
          <a:xfrm>
            <a:off x="2556000" y="2349360"/>
            <a:ext cx="2087280" cy="1296720"/>
            <a:chOff x="2556000" y="2349360"/>
            <a:chExt cx="2087280" cy="1296720"/>
          </a:xfrm>
        </p:grpSpPr>
        <p:sp>
          <p:nvSpPr>
            <p:cNvPr id="634" name=""/>
            <p:cNvSpPr/>
            <p:nvPr/>
          </p:nvSpPr>
          <p:spPr>
            <a:xfrm>
              <a:off x="2556000" y="2349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5" name=""/>
                <p:cNvSpPr txBox="1"/>
                <p:nvPr/>
              </p:nvSpPr>
              <p:spPr>
                <a:xfrm>
                  <a:off x="2792160" y="2660400"/>
                  <a:ext cx="165240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,5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6" name=""/>
          <p:cNvGrpSpPr/>
          <p:nvPr/>
        </p:nvGrpSpPr>
        <p:grpSpPr>
          <a:xfrm>
            <a:off x="5724360" y="1268280"/>
            <a:ext cx="2838600" cy="681120"/>
            <a:chOff x="5724360" y="1268280"/>
            <a:chExt cx="2838600" cy="681120"/>
          </a:xfrm>
        </p:grpSpPr>
        <p:sp>
          <p:nvSpPr>
            <p:cNvPr id="637" name=""/>
            <p:cNvSpPr/>
            <p:nvPr/>
          </p:nvSpPr>
          <p:spPr>
            <a:xfrm>
              <a:off x="5989320" y="131076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5724360" y="1268280"/>
                  <a:ext cx="283860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,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39" name=""/>
          <p:cNvSpPr/>
          <p:nvPr/>
        </p:nvSpPr>
        <p:spPr>
          <a:xfrm>
            <a:off x="4716360" y="119700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3" dur="indefinite" restart="never" nodeType="tmRoot">
          <p:childTnLst>
            <p:seq>
              <p:cTn id="2214" dur="indefinite" nodeType="mainSeq">
                <p:childTnLst>
                  <p:par>
                    <p:cTn id="2215" fill="hold">
                      <p:stCondLst>
                        <p:cond delay="0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3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2254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60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66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9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72" dur="1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1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1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7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2278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7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2288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7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2298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отнесите функцию, задан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ормулой с граф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24360" y="2492280"/>
            <a:ext cx="2448000" cy="722160"/>
            <a:chOff x="5724360" y="2492280"/>
            <a:chExt cx="2448000" cy="722160"/>
          </a:xfrm>
        </p:grpSpPr>
        <p:sp>
          <p:nvSpPr>
            <p:cNvPr id="643" name=""/>
            <p:cNvSpPr/>
            <p:nvPr/>
          </p:nvSpPr>
          <p:spPr>
            <a:xfrm>
              <a:off x="5724360" y="249228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5967000" y="2522520"/>
                  <a:ext cx="190692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5695920" y="3429000"/>
            <a:ext cx="2476080" cy="723960"/>
            <a:chOff x="5695920" y="3429000"/>
            <a:chExt cx="2476080" cy="723960"/>
          </a:xfrm>
        </p:grpSpPr>
        <p:sp>
          <p:nvSpPr>
            <p:cNvPr id="648" name=""/>
            <p:cNvSpPr/>
            <p:nvPr/>
          </p:nvSpPr>
          <p:spPr>
            <a:xfrm>
              <a:off x="5724360" y="3429000"/>
              <a:ext cx="244764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9" name=""/>
                <p:cNvSpPr txBox="1"/>
                <p:nvPr/>
              </p:nvSpPr>
              <p:spPr>
                <a:xfrm>
                  <a:off x="5695920" y="3459240"/>
                  <a:ext cx="24523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0" name=""/>
          <p:cNvGrpSpPr/>
          <p:nvPr/>
        </p:nvGrpSpPr>
        <p:grpSpPr>
          <a:xfrm>
            <a:off x="5724360" y="4437000"/>
            <a:ext cx="2448000" cy="723960"/>
            <a:chOff x="5724360" y="4437000"/>
            <a:chExt cx="2448000" cy="723960"/>
          </a:xfrm>
        </p:grpSpPr>
        <p:sp>
          <p:nvSpPr>
            <p:cNvPr id="651" name=""/>
            <p:cNvSpPr/>
            <p:nvPr/>
          </p:nvSpPr>
          <p:spPr>
            <a:xfrm>
              <a:off x="5724360" y="4437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2" name=""/>
                <p:cNvSpPr txBox="1"/>
                <p:nvPr/>
              </p:nvSpPr>
              <p:spPr>
                <a:xfrm>
                  <a:off x="5822640" y="4467240"/>
                  <a:ext cx="22003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3" name=""/>
          <p:cNvGrpSpPr/>
          <p:nvPr/>
        </p:nvGrpSpPr>
        <p:grpSpPr>
          <a:xfrm>
            <a:off x="5724360" y="5445000"/>
            <a:ext cx="2448000" cy="722160"/>
            <a:chOff x="5724360" y="5445000"/>
            <a:chExt cx="2448000" cy="722160"/>
          </a:xfrm>
        </p:grpSpPr>
        <p:sp>
          <p:nvSpPr>
            <p:cNvPr id="654" name=""/>
            <p:cNvSpPr/>
            <p:nvPr/>
          </p:nvSpPr>
          <p:spPr>
            <a:xfrm>
              <a:off x="5724360" y="5445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"/>
                <p:cNvSpPr txBox="1"/>
                <p:nvPr/>
              </p:nvSpPr>
              <p:spPr>
                <a:xfrm>
                  <a:off x="5949720" y="5475240"/>
                  <a:ext cx="194616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56" name=""/>
          <p:cNvGraphicFramePr/>
          <p:nvPr/>
        </p:nvGraphicFramePr>
        <p:xfrm>
          <a:off x="950760" y="1125360"/>
          <a:ext cx="295776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1125360"/>
                    <a:ext cx="29577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7" dur="indefinite" restart="never" nodeType="tmRoot">
          <p:childTnLst>
            <p:seq>
              <p:cTn id="2308" dur="indefinite" nodeType="mainSeq">
                <p:childTnLst>
                  <p:par>
                    <p:cTn id="2309" fill="hold">
                      <p:stCondLst>
                        <p:cond delay="0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3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9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4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5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2346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5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2356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2366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5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2376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0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3" dur="1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5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8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0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3" dur="10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6084720" y="1413000"/>
            <a:ext cx="2403720" cy="2000160"/>
            <a:chOff x="6084720" y="1413000"/>
            <a:chExt cx="2403720" cy="2000160"/>
          </a:xfrm>
        </p:grpSpPr>
        <p:sp>
          <p:nvSpPr>
            <p:cNvPr id="94" name=""/>
            <p:cNvSpPr/>
            <p:nvPr/>
          </p:nvSpPr>
          <p:spPr>
            <a:xfrm>
              <a:off x="6084720" y="2114280"/>
              <a:ext cx="240372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6219360" y="1413000"/>
                  <a:ext cx="2031840" cy="200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r>
                            <m:t xml:space="preserve">2,5</m:t>
                          </m:r>
                          <m:r>
                            <m:t xml:space="preserve">−</m:t>
                          </m:r>
                          <m:r>
                            <m:t xml:space="preserve">4,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" name=""/>
          <p:cNvGrpSpPr/>
          <p:nvPr/>
        </p:nvGrpSpPr>
        <p:grpSpPr>
          <a:xfrm>
            <a:off x="1692360" y="2637000"/>
            <a:ext cx="1295280" cy="1368360"/>
            <a:chOff x="1692360" y="2637000"/>
            <a:chExt cx="1295280" cy="1368360"/>
          </a:xfrm>
        </p:grpSpPr>
        <p:sp>
          <p:nvSpPr>
            <p:cNvPr id="97" name=""/>
            <p:cNvSpPr/>
            <p:nvPr/>
          </p:nvSpPr>
          <p:spPr>
            <a:xfrm>
              <a:off x="1692360" y="270864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2101680" y="2637000"/>
                  <a:ext cx="46476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" name=""/>
          <p:cNvGrpSpPr/>
          <p:nvPr/>
        </p:nvGrpSpPr>
        <p:grpSpPr>
          <a:xfrm>
            <a:off x="5292720" y="4076640"/>
            <a:ext cx="1295280" cy="1368360"/>
            <a:chOff x="5292720" y="4076640"/>
            <a:chExt cx="1295280" cy="1368360"/>
          </a:xfrm>
        </p:grpSpPr>
        <p:sp>
          <p:nvSpPr>
            <p:cNvPr id="100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511600" y="4076640"/>
                  <a:ext cx="8474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" name=""/>
          <p:cNvGrpSpPr/>
          <p:nvPr/>
        </p:nvGrpSpPr>
        <p:grpSpPr>
          <a:xfrm>
            <a:off x="3419640" y="3357720"/>
            <a:ext cx="1295280" cy="1368360"/>
            <a:chOff x="3419640" y="3357720"/>
            <a:chExt cx="1295280" cy="1368360"/>
          </a:xfrm>
        </p:grpSpPr>
        <p:sp>
          <p:nvSpPr>
            <p:cNvPr id="103" name=""/>
            <p:cNvSpPr/>
            <p:nvPr/>
          </p:nvSpPr>
          <p:spPr>
            <a:xfrm>
              <a:off x="3419640" y="342936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3511440" y="3357720"/>
                  <a:ext cx="11012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106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7165800" y="5122800"/>
                  <a:ext cx="114120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558972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отнесите функцию, задан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ормулой с граф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724360" y="4437000"/>
            <a:ext cx="2448000" cy="722160"/>
            <a:chOff x="5724360" y="4437000"/>
            <a:chExt cx="2448000" cy="722160"/>
          </a:xfrm>
        </p:grpSpPr>
        <p:sp>
          <p:nvSpPr>
            <p:cNvPr id="662" name=""/>
            <p:cNvSpPr/>
            <p:nvPr/>
          </p:nvSpPr>
          <p:spPr>
            <a:xfrm>
              <a:off x="5724360" y="4437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5883120" y="4467240"/>
                  <a:ext cx="207468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4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724360" y="3429000"/>
            <a:ext cx="2448000" cy="723960"/>
            <a:chOff x="5724360" y="3429000"/>
            <a:chExt cx="2448000" cy="723960"/>
          </a:xfrm>
        </p:grpSpPr>
        <p:sp>
          <p:nvSpPr>
            <p:cNvPr id="667" name=""/>
            <p:cNvSpPr/>
            <p:nvPr/>
          </p:nvSpPr>
          <p:spPr>
            <a:xfrm>
              <a:off x="5724360" y="3429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5886360" y="3459240"/>
                  <a:ext cx="207144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9" name=""/>
          <p:cNvGrpSpPr/>
          <p:nvPr/>
        </p:nvGrpSpPr>
        <p:grpSpPr>
          <a:xfrm>
            <a:off x="5724360" y="2421000"/>
            <a:ext cx="2448000" cy="723960"/>
            <a:chOff x="5724360" y="2421000"/>
            <a:chExt cx="2448000" cy="723960"/>
          </a:xfrm>
        </p:grpSpPr>
        <p:sp>
          <p:nvSpPr>
            <p:cNvPr id="670" name=""/>
            <p:cNvSpPr/>
            <p:nvPr/>
          </p:nvSpPr>
          <p:spPr>
            <a:xfrm>
              <a:off x="5724360" y="2421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5864040" y="2451240"/>
                  <a:ext cx="2116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2" name=""/>
          <p:cNvGrpSpPr/>
          <p:nvPr/>
        </p:nvGrpSpPr>
        <p:grpSpPr>
          <a:xfrm>
            <a:off x="5695920" y="5445000"/>
            <a:ext cx="2476080" cy="722160"/>
            <a:chOff x="5695920" y="5445000"/>
            <a:chExt cx="2476080" cy="722160"/>
          </a:xfrm>
        </p:grpSpPr>
        <p:sp>
          <p:nvSpPr>
            <p:cNvPr id="673" name=""/>
            <p:cNvSpPr/>
            <p:nvPr/>
          </p:nvSpPr>
          <p:spPr>
            <a:xfrm>
              <a:off x="5724360" y="5445000"/>
              <a:ext cx="244764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5695920" y="5475240"/>
                  <a:ext cx="245412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75" name=""/>
          <p:cNvGraphicFramePr/>
          <p:nvPr/>
        </p:nvGraphicFramePr>
        <p:xfrm>
          <a:off x="885960" y="1125360"/>
          <a:ext cx="308772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125360"/>
                    <a:ext cx="308772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7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7" dur="indefinite" restart="never" nodeType="tmRoot">
          <p:childTnLst>
            <p:seq>
              <p:cTn id="2398" dur="indefinite" nodeType="mainSeq">
                <p:childTnLst>
                  <p:par>
                    <p:cTn id="2399" fill="hold">
                      <p:stCondLst>
                        <p:cond delay="0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5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2426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0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5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2436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0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5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2446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0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5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2456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0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8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3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отнесите функцию, задан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ормулой с граф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15000" y="5445000"/>
            <a:ext cx="2457000" cy="722160"/>
            <a:chOff x="5715000" y="5445000"/>
            <a:chExt cx="2457000" cy="722160"/>
          </a:xfrm>
        </p:grpSpPr>
        <p:sp>
          <p:nvSpPr>
            <p:cNvPr id="681" name=""/>
            <p:cNvSpPr/>
            <p:nvPr/>
          </p:nvSpPr>
          <p:spPr>
            <a:xfrm>
              <a:off x="5724360" y="5445000"/>
              <a:ext cx="244764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5715000" y="5475240"/>
                  <a:ext cx="241272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3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5675400" y="3429000"/>
            <a:ext cx="2496600" cy="723960"/>
            <a:chOff x="5675400" y="3429000"/>
            <a:chExt cx="2496600" cy="723960"/>
          </a:xfrm>
        </p:grpSpPr>
        <p:sp>
          <p:nvSpPr>
            <p:cNvPr id="686" name=""/>
            <p:cNvSpPr/>
            <p:nvPr/>
          </p:nvSpPr>
          <p:spPr>
            <a:xfrm>
              <a:off x="5724360" y="3429000"/>
              <a:ext cx="244764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7" name=""/>
                <p:cNvSpPr txBox="1"/>
                <p:nvPr/>
              </p:nvSpPr>
              <p:spPr>
                <a:xfrm>
                  <a:off x="5675400" y="3459240"/>
                  <a:ext cx="24937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0,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8" name=""/>
          <p:cNvGrpSpPr/>
          <p:nvPr/>
        </p:nvGrpSpPr>
        <p:grpSpPr>
          <a:xfrm>
            <a:off x="5724360" y="2421000"/>
            <a:ext cx="2448000" cy="723960"/>
            <a:chOff x="5724360" y="2421000"/>
            <a:chExt cx="2448000" cy="723960"/>
          </a:xfrm>
        </p:grpSpPr>
        <p:sp>
          <p:nvSpPr>
            <p:cNvPr id="689" name=""/>
            <p:cNvSpPr/>
            <p:nvPr/>
          </p:nvSpPr>
          <p:spPr>
            <a:xfrm>
              <a:off x="5724360" y="2421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"/>
                <p:cNvSpPr txBox="1"/>
                <p:nvPr/>
              </p:nvSpPr>
              <p:spPr>
                <a:xfrm>
                  <a:off x="5757480" y="2451240"/>
                  <a:ext cx="232884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1" name=""/>
          <p:cNvGrpSpPr/>
          <p:nvPr/>
        </p:nvGrpSpPr>
        <p:grpSpPr>
          <a:xfrm>
            <a:off x="5745240" y="4437000"/>
            <a:ext cx="2455920" cy="722160"/>
            <a:chOff x="5745240" y="4437000"/>
            <a:chExt cx="2455920" cy="722160"/>
          </a:xfrm>
        </p:grpSpPr>
        <p:sp>
          <p:nvSpPr>
            <p:cNvPr id="692" name=""/>
            <p:cNvSpPr/>
            <p:nvPr/>
          </p:nvSpPr>
          <p:spPr>
            <a:xfrm>
              <a:off x="5753160" y="4437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5745240" y="4467240"/>
                  <a:ext cx="241128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94" name=""/>
          <p:cNvGraphicFramePr/>
          <p:nvPr/>
        </p:nvGraphicFramePr>
        <p:xfrm>
          <a:off x="950760" y="1125360"/>
          <a:ext cx="295776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1125360"/>
                    <a:ext cx="29577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6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7" dur="indefinite" restart="never" nodeType="tmRoot">
          <p:childTnLst>
            <p:seq>
              <p:cTn id="2478" dur="indefinite" nodeType="mainSeq">
                <p:childTnLst>
                  <p:par>
                    <p:cTn id="2479" fill="hold">
                      <p:stCondLst>
                        <p:cond delay="0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3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4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4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5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2506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5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2516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5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2526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5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2536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3" dur="1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1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5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8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3" dur="1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5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(х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; у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решени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иней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700" name=""/>
          <p:cNvGrpSpPr/>
          <p:nvPr/>
        </p:nvGrpSpPr>
        <p:grpSpPr>
          <a:xfrm>
            <a:off x="179280" y="2349360"/>
            <a:ext cx="3567240" cy="1533600"/>
            <a:chOff x="179280" y="2349360"/>
            <a:chExt cx="3567240" cy="1533600"/>
          </a:xfrm>
        </p:grpSpPr>
        <p:sp>
          <p:nvSpPr>
            <p:cNvPr id="701" name=""/>
            <p:cNvSpPr/>
            <p:nvPr/>
          </p:nvSpPr>
          <p:spPr>
            <a:xfrm>
              <a:off x="810720" y="2819160"/>
              <a:ext cx="24037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179280" y="2349360"/>
                  <a:ext cx="3567240" cy="15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3" name=""/>
          <p:cNvGrpSpPr/>
          <p:nvPr/>
        </p:nvGrpSpPr>
        <p:grpSpPr>
          <a:xfrm>
            <a:off x="6732720" y="1917720"/>
            <a:ext cx="2087280" cy="1296720"/>
            <a:chOff x="6732720" y="1917720"/>
            <a:chExt cx="2087280" cy="1296720"/>
          </a:xfrm>
        </p:grpSpPr>
        <p:sp>
          <p:nvSpPr>
            <p:cNvPr id="704" name=""/>
            <p:cNvSpPr/>
            <p:nvPr/>
          </p:nvSpPr>
          <p:spPr>
            <a:xfrm>
              <a:off x="6732720" y="191772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5" name=""/>
                <p:cNvSpPr txBox="1"/>
                <p:nvPr/>
              </p:nvSpPr>
              <p:spPr>
                <a:xfrm>
                  <a:off x="7306920" y="2293920"/>
                  <a:ext cx="9745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6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732720" y="3429000"/>
            <a:ext cx="2087280" cy="1296720"/>
            <a:chOff x="6732720" y="3429000"/>
            <a:chExt cx="2087280" cy="1296720"/>
          </a:xfrm>
        </p:grpSpPr>
        <p:sp>
          <p:nvSpPr>
            <p:cNvPr id="709" name=""/>
            <p:cNvSpPr/>
            <p:nvPr/>
          </p:nvSpPr>
          <p:spPr>
            <a:xfrm>
              <a:off x="6732720" y="342900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0" name=""/>
                <p:cNvSpPr txBox="1"/>
                <p:nvPr/>
              </p:nvSpPr>
              <p:spPr>
                <a:xfrm>
                  <a:off x="7499160" y="3803400"/>
                  <a:ext cx="5918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1" name=""/>
          <p:cNvGrpSpPr/>
          <p:nvPr/>
        </p:nvGrpSpPr>
        <p:grpSpPr>
          <a:xfrm>
            <a:off x="3995640" y="3429000"/>
            <a:ext cx="2087640" cy="1296720"/>
            <a:chOff x="3995640" y="3429000"/>
            <a:chExt cx="2087640" cy="1296720"/>
          </a:xfrm>
        </p:grpSpPr>
        <p:sp>
          <p:nvSpPr>
            <p:cNvPr id="712" name=""/>
            <p:cNvSpPr/>
            <p:nvPr/>
          </p:nvSpPr>
          <p:spPr>
            <a:xfrm>
              <a:off x="3995640" y="342900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3" name=""/>
                <p:cNvSpPr txBox="1"/>
                <p:nvPr/>
              </p:nvSpPr>
              <p:spPr>
                <a:xfrm>
                  <a:off x="4676760" y="3805200"/>
                  <a:ext cx="7617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4" name=""/>
          <p:cNvGrpSpPr/>
          <p:nvPr/>
        </p:nvGrpSpPr>
        <p:grpSpPr>
          <a:xfrm>
            <a:off x="3995640" y="1917720"/>
            <a:ext cx="2087640" cy="1296720"/>
            <a:chOff x="3995640" y="1917720"/>
            <a:chExt cx="2087640" cy="1296720"/>
          </a:xfrm>
        </p:grpSpPr>
        <p:sp>
          <p:nvSpPr>
            <p:cNvPr id="715" name=""/>
            <p:cNvSpPr/>
            <p:nvPr/>
          </p:nvSpPr>
          <p:spPr>
            <a:xfrm>
              <a:off x="3995640" y="191772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4719600" y="2292120"/>
                  <a:ext cx="67788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7" name=""/>
          <p:cNvSpPr/>
          <p:nvPr/>
        </p:nvSpPr>
        <p:spPr>
          <a:xfrm>
            <a:off x="4952520" y="1197000"/>
            <a:ext cx="282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дите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+ у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7" dur="indefinite" restart="never" nodeType="tmRoot">
          <p:childTnLst>
            <p:seq>
              <p:cTn id="2558" dur="indefinite" nodeType="mainSeq">
                <p:childTnLst>
                  <p:par>
                    <p:cTn id="2559" fill="hold">
                      <p:stCondLst>
                        <p:cond delay="0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8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9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0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0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2" restart="whenNotActive" nodeType="interactiveSeq" fill="hold">
                <p:stCondLst>
                  <p:cond evt="onClick">
                    <p:tgtEl>
                      <p:spTgt spid="708"/>
                    </p:tgtEl>
                  </p:cond>
                </p:stCondLst>
                <p:childTnLst>
                  <p:par>
                    <p:cTn id="2603" fill="hold">
                      <p:stCondLst>
                        <p:cond evt="onClick">
                          <p:tgtEl>
                            <p:spTgt spid="708"/>
                          </p:tgtEl>
                        </p:cond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09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2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15" dur="1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1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21" dur="10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6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2627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4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6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2637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4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6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2647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4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(х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; у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решени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иней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721" name=""/>
          <p:cNvGrpSpPr/>
          <p:nvPr/>
        </p:nvGrpSpPr>
        <p:grpSpPr>
          <a:xfrm>
            <a:off x="539640" y="2349360"/>
            <a:ext cx="2845080" cy="1533600"/>
            <a:chOff x="539640" y="2349360"/>
            <a:chExt cx="2845080" cy="1533600"/>
          </a:xfrm>
        </p:grpSpPr>
        <p:sp>
          <p:nvSpPr>
            <p:cNvPr id="722" name=""/>
            <p:cNvSpPr/>
            <p:nvPr/>
          </p:nvSpPr>
          <p:spPr>
            <a:xfrm>
              <a:off x="810000" y="2819160"/>
              <a:ext cx="240444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3" name=""/>
                <p:cNvSpPr txBox="1"/>
                <p:nvPr/>
              </p:nvSpPr>
              <p:spPr>
                <a:xfrm>
                  <a:off x="539640" y="2349360"/>
                  <a:ext cx="2845080" cy="15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7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4" name=""/>
          <p:cNvGrpSpPr/>
          <p:nvPr/>
        </p:nvGrpSpPr>
        <p:grpSpPr>
          <a:xfrm>
            <a:off x="6732720" y="1917720"/>
            <a:ext cx="2087280" cy="1296720"/>
            <a:chOff x="6732720" y="1917720"/>
            <a:chExt cx="2087280" cy="1296720"/>
          </a:xfrm>
        </p:grpSpPr>
        <p:sp>
          <p:nvSpPr>
            <p:cNvPr id="725" name=""/>
            <p:cNvSpPr/>
            <p:nvPr/>
          </p:nvSpPr>
          <p:spPr>
            <a:xfrm>
              <a:off x="6732720" y="191772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6" name=""/>
                <p:cNvSpPr txBox="1"/>
                <p:nvPr/>
              </p:nvSpPr>
              <p:spPr>
                <a:xfrm>
                  <a:off x="7581600" y="2293920"/>
                  <a:ext cx="4237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7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340000" y="5445000"/>
            <a:ext cx="3024000" cy="935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995640" y="1989000"/>
            <a:ext cx="2087640" cy="1296720"/>
            <a:chOff x="3995640" y="1989000"/>
            <a:chExt cx="2087640" cy="1296720"/>
          </a:xfrm>
        </p:grpSpPr>
        <p:sp>
          <p:nvSpPr>
            <p:cNvPr id="730" name=""/>
            <p:cNvSpPr/>
            <p:nvPr/>
          </p:nvSpPr>
          <p:spPr>
            <a:xfrm>
              <a:off x="3995640" y="198900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1" name=""/>
                <p:cNvSpPr txBox="1"/>
                <p:nvPr/>
              </p:nvSpPr>
              <p:spPr>
                <a:xfrm>
                  <a:off x="4678200" y="2363400"/>
                  <a:ext cx="7621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2" name=""/>
          <p:cNvGrpSpPr/>
          <p:nvPr/>
        </p:nvGrpSpPr>
        <p:grpSpPr>
          <a:xfrm>
            <a:off x="3995640" y="3429000"/>
            <a:ext cx="2087640" cy="1296720"/>
            <a:chOff x="3995640" y="3429000"/>
            <a:chExt cx="2087640" cy="1296720"/>
          </a:xfrm>
        </p:grpSpPr>
        <p:sp>
          <p:nvSpPr>
            <p:cNvPr id="733" name=""/>
            <p:cNvSpPr/>
            <p:nvPr/>
          </p:nvSpPr>
          <p:spPr>
            <a:xfrm>
              <a:off x="3995640" y="342900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4" name=""/>
                <p:cNvSpPr txBox="1"/>
                <p:nvPr/>
              </p:nvSpPr>
              <p:spPr>
                <a:xfrm>
                  <a:off x="4867200" y="3805200"/>
                  <a:ext cx="38088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5" name=""/>
          <p:cNvGrpSpPr/>
          <p:nvPr/>
        </p:nvGrpSpPr>
        <p:grpSpPr>
          <a:xfrm>
            <a:off x="6732720" y="3429000"/>
            <a:ext cx="2087280" cy="1296720"/>
            <a:chOff x="6732720" y="3429000"/>
            <a:chExt cx="2087280" cy="1296720"/>
          </a:xfrm>
        </p:grpSpPr>
        <p:sp>
          <p:nvSpPr>
            <p:cNvPr id="736" name=""/>
            <p:cNvSpPr/>
            <p:nvPr/>
          </p:nvSpPr>
          <p:spPr>
            <a:xfrm>
              <a:off x="6732720" y="342900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7413480" y="3824280"/>
                  <a:ext cx="76320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8" name=""/>
          <p:cNvSpPr/>
          <p:nvPr/>
        </p:nvSpPr>
        <p:spPr>
          <a:xfrm>
            <a:off x="4952520" y="1197000"/>
            <a:ext cx="271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1" i="1" lang="ru-RU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у</a:t>
            </a:r>
            <a:r>
              <a:rPr b="1" i="1" lang="ru-RU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6" dur="indefinite" restart="never" nodeType="tmRoot">
          <p:childTnLst>
            <p:seq>
              <p:cTn id="2657" dur="indefinite" nodeType="mainSeq">
                <p:childTnLst>
                  <p:par>
                    <p:cTn id="2658" fill="hold">
                      <p:stCondLst>
                        <p:cond delay="0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4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8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9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3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9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1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2692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6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98" dur="1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9" dur="1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1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04" dur="10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10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6" dur="10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7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10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3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5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2716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3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5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2726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3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5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2736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3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(х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; у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решени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иней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742" name=""/>
          <p:cNvGrpSpPr/>
          <p:nvPr/>
        </p:nvGrpSpPr>
        <p:grpSpPr>
          <a:xfrm>
            <a:off x="495360" y="2349360"/>
            <a:ext cx="2935080" cy="1533600"/>
            <a:chOff x="495360" y="2349360"/>
            <a:chExt cx="2935080" cy="1533600"/>
          </a:xfrm>
        </p:grpSpPr>
        <p:sp>
          <p:nvSpPr>
            <p:cNvPr id="743" name=""/>
            <p:cNvSpPr/>
            <p:nvPr/>
          </p:nvSpPr>
          <p:spPr>
            <a:xfrm>
              <a:off x="810000" y="2819160"/>
              <a:ext cx="24040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4" name=""/>
                <p:cNvSpPr txBox="1"/>
                <p:nvPr/>
              </p:nvSpPr>
              <p:spPr>
                <a:xfrm>
                  <a:off x="495360" y="2349360"/>
                  <a:ext cx="2935080" cy="15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4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5" name=""/>
          <p:cNvGrpSpPr/>
          <p:nvPr/>
        </p:nvGrpSpPr>
        <p:grpSpPr>
          <a:xfrm>
            <a:off x="6732720" y="1917720"/>
            <a:ext cx="2087280" cy="1350720"/>
            <a:chOff x="6732720" y="1917720"/>
            <a:chExt cx="2087280" cy="1350720"/>
          </a:xfrm>
        </p:grpSpPr>
        <p:sp>
          <p:nvSpPr>
            <p:cNvPr id="746" name=""/>
            <p:cNvSpPr/>
            <p:nvPr/>
          </p:nvSpPr>
          <p:spPr>
            <a:xfrm>
              <a:off x="6732720" y="191772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7" name=""/>
                <p:cNvSpPr txBox="1"/>
                <p:nvPr/>
              </p:nvSpPr>
              <p:spPr>
                <a:xfrm>
                  <a:off x="7243560" y="1925640"/>
                  <a:ext cx="11012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924360" y="3429000"/>
            <a:ext cx="2087640" cy="1296720"/>
            <a:chOff x="3924360" y="3429000"/>
            <a:chExt cx="2087640" cy="1296720"/>
          </a:xfrm>
        </p:grpSpPr>
        <p:sp>
          <p:nvSpPr>
            <p:cNvPr id="751" name=""/>
            <p:cNvSpPr/>
            <p:nvPr/>
          </p:nvSpPr>
          <p:spPr>
            <a:xfrm>
              <a:off x="3924360" y="342900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2" name=""/>
                <p:cNvSpPr txBox="1"/>
                <p:nvPr/>
              </p:nvSpPr>
              <p:spPr>
                <a:xfrm>
                  <a:off x="4416480" y="3760560"/>
                  <a:ext cx="1143000" cy="69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"/>
          <p:cNvGrpSpPr/>
          <p:nvPr/>
        </p:nvGrpSpPr>
        <p:grpSpPr>
          <a:xfrm>
            <a:off x="3924360" y="1989000"/>
            <a:ext cx="2087640" cy="1296720"/>
            <a:chOff x="3924360" y="1989000"/>
            <a:chExt cx="2087640" cy="1296720"/>
          </a:xfrm>
        </p:grpSpPr>
        <p:sp>
          <p:nvSpPr>
            <p:cNvPr id="754" name=""/>
            <p:cNvSpPr/>
            <p:nvPr/>
          </p:nvSpPr>
          <p:spPr>
            <a:xfrm>
              <a:off x="3924360" y="198900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5" name=""/>
                <p:cNvSpPr txBox="1"/>
                <p:nvPr/>
              </p:nvSpPr>
              <p:spPr>
                <a:xfrm>
                  <a:off x="4415040" y="2322360"/>
                  <a:ext cx="114300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6" name=""/>
          <p:cNvGrpSpPr/>
          <p:nvPr/>
        </p:nvGrpSpPr>
        <p:grpSpPr>
          <a:xfrm>
            <a:off x="6732720" y="3429000"/>
            <a:ext cx="2087280" cy="1296720"/>
            <a:chOff x="6732720" y="3429000"/>
            <a:chExt cx="2087280" cy="1296720"/>
          </a:xfrm>
        </p:grpSpPr>
        <p:sp>
          <p:nvSpPr>
            <p:cNvPr id="757" name=""/>
            <p:cNvSpPr/>
            <p:nvPr/>
          </p:nvSpPr>
          <p:spPr>
            <a:xfrm>
              <a:off x="6732720" y="342900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8" name=""/>
                <p:cNvSpPr txBox="1"/>
                <p:nvPr/>
              </p:nvSpPr>
              <p:spPr>
                <a:xfrm>
                  <a:off x="7413480" y="3824280"/>
                  <a:ext cx="76320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9" name=""/>
          <p:cNvSpPr/>
          <p:nvPr/>
        </p:nvSpPr>
        <p:spPr>
          <a:xfrm>
            <a:off x="4952520" y="1197000"/>
            <a:ext cx="274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дите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у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5" dur="indefinite" restart="never" nodeType="tmRoot">
          <p:childTnLst>
            <p:seq>
              <p:cTn id="2746" dur="indefinite" nodeType="mainSeq">
                <p:childTnLst>
                  <p:par>
                    <p:cTn id="2747" fill="hold">
                      <p:stCondLst>
                        <p:cond delay="0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7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2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8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2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3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7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0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2781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5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87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0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93" dur="10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10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5" dur="10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6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99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2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4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2805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4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2815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4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2825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366920" y="189000"/>
            <a:ext cx="7777080" cy="863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каком из рисунков изображено графичес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ение системы линейных уравн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531720" y="1268280"/>
            <a:ext cx="2392560" cy="1170000"/>
            <a:chOff x="531720" y="1268280"/>
            <a:chExt cx="2392560" cy="1170000"/>
          </a:xfrm>
        </p:grpSpPr>
        <p:sp>
          <p:nvSpPr>
            <p:cNvPr id="763" name=""/>
            <p:cNvSpPr/>
            <p:nvPr/>
          </p:nvSpPr>
          <p:spPr>
            <a:xfrm>
              <a:off x="843120" y="1625760"/>
              <a:ext cx="1844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4" name=""/>
                <p:cNvSpPr txBox="1"/>
                <p:nvPr/>
              </p:nvSpPr>
              <p:spPr>
                <a:xfrm>
                  <a:off x="531720" y="1268280"/>
                  <a:ext cx="2392560" cy="11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5" name=""/>
          <p:cNvSpPr/>
          <p:nvPr/>
        </p:nvSpPr>
        <p:spPr>
          <a:xfrm>
            <a:off x="2195640" y="573408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grpSp>
        <p:nvGrpSpPr>
          <p:cNvPr id="767" name=""/>
          <p:cNvGrpSpPr/>
          <p:nvPr/>
        </p:nvGrpSpPr>
        <p:grpSpPr>
          <a:xfrm>
            <a:off x="3276720" y="1125360"/>
            <a:ext cx="2808000" cy="2681640"/>
            <a:chOff x="3276720" y="1125360"/>
            <a:chExt cx="2808000" cy="2681640"/>
          </a:xfrm>
        </p:grpSpPr>
        <p:graphicFrame>
          <p:nvGraphicFramePr>
            <p:cNvPr id="768" name=""/>
            <p:cNvGraphicFramePr/>
            <p:nvPr/>
          </p:nvGraphicFramePr>
          <p:xfrm>
            <a:off x="3276720" y="1125360"/>
            <a:ext cx="2808000" cy="268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1125360"/>
                      <a:ext cx="2808000" cy="26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0" name=""/>
            <p:cNvSpPr/>
            <p:nvPr/>
          </p:nvSpPr>
          <p:spPr>
            <a:xfrm>
              <a:off x="3348000" y="119700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6411960" y="1125360"/>
            <a:ext cx="2732040" cy="2737080"/>
            <a:chOff x="6411960" y="1125360"/>
            <a:chExt cx="2732040" cy="2737080"/>
          </a:xfrm>
        </p:grpSpPr>
        <p:graphicFrame>
          <p:nvGraphicFramePr>
            <p:cNvPr id="772" name=""/>
            <p:cNvGraphicFramePr/>
            <p:nvPr/>
          </p:nvGraphicFramePr>
          <p:xfrm>
            <a:off x="6411960" y="1125360"/>
            <a:ext cx="2732040" cy="2737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7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11960" y="1125360"/>
                      <a:ext cx="2732040" cy="27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4" name=""/>
            <p:cNvSpPr/>
            <p:nvPr/>
          </p:nvSpPr>
          <p:spPr>
            <a:xfrm>
              <a:off x="8532720" y="328464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5003640" y="2924280"/>
            <a:ext cx="2540160" cy="2665440"/>
            <a:chOff x="5003640" y="2924280"/>
            <a:chExt cx="2540160" cy="2665440"/>
          </a:xfrm>
        </p:grpSpPr>
        <p:graphicFrame>
          <p:nvGraphicFramePr>
            <p:cNvPr id="776" name=""/>
            <p:cNvGraphicFramePr/>
            <p:nvPr/>
          </p:nvGraphicFramePr>
          <p:xfrm>
            <a:off x="5003640" y="2924280"/>
            <a:ext cx="2540160" cy="2665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03640" y="2924280"/>
                      <a:ext cx="2540160" cy="26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8" name=""/>
            <p:cNvSpPr/>
            <p:nvPr/>
          </p:nvSpPr>
          <p:spPr>
            <a:xfrm>
              <a:off x="6732720" y="5013360"/>
              <a:ext cx="43308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 flipV="1">
            <a:off x="2916360" y="6020640"/>
            <a:ext cx="1873080" cy="576360"/>
          </a:xfrm>
          <a:prstGeom prst="wedgeRectCallout">
            <a:avLst>
              <a:gd name="adj1" fmla="val -123476"/>
              <a:gd name="adj2" fmla="val 123000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763640" y="2924280"/>
            <a:ext cx="2608200" cy="2736720"/>
            <a:chOff x="1763640" y="2924280"/>
            <a:chExt cx="2608200" cy="2736720"/>
          </a:xfrm>
        </p:grpSpPr>
        <p:graphicFrame>
          <p:nvGraphicFramePr>
            <p:cNvPr id="781" name=""/>
            <p:cNvGraphicFramePr/>
            <p:nvPr/>
          </p:nvGraphicFramePr>
          <p:xfrm>
            <a:off x="1763640" y="2924280"/>
            <a:ext cx="2608200" cy="2736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8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63640" y="2924280"/>
                      <a:ext cx="2608200" cy="27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3" name=""/>
            <p:cNvSpPr/>
            <p:nvPr/>
          </p:nvSpPr>
          <p:spPr>
            <a:xfrm>
              <a:off x="1903320" y="472608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0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5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6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6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9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2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5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6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2867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1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4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6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2877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1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4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6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2887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1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3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6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9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1" restart="whenNotActive" nodeType="interactiveSeq" fill="hold">
                <p:stCondLst>
                  <p:cond evt="onClick">
                    <p:tgtEl>
                      <p:spTgt spid="767"/>
                    </p:tgtEl>
                  </p:cond>
                </p:stCondLst>
                <p:childTnLst>
                  <p:par>
                    <p:cTn id="2902" fill="hold">
                      <p:stCondLst>
                        <p:cond evt="onClick">
                          <p:tgtEl>
                            <p:spTgt spid="767"/>
                          </p:tgtEl>
                        </p:cond>
                      </p:stCondLst>
                      <p:childTnLst>
                        <p:par>
                          <p:cTn id="2903" fill="hold">
                            <p:stCondLst>
                              <p:cond delay="0"/>
                            </p:stCondLst>
                            <p:childTnLst>
                              <p:par>
                                <p:cTn id="2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9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366920" y="189000"/>
            <a:ext cx="7777080" cy="863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каком из рисунков изображено графичес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ение системы линейных уравн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82480" y="1268280"/>
            <a:ext cx="2289240" cy="1170000"/>
            <a:chOff x="582480" y="1268280"/>
            <a:chExt cx="2289240" cy="1170000"/>
          </a:xfrm>
        </p:grpSpPr>
        <p:sp>
          <p:nvSpPr>
            <p:cNvPr id="787" name=""/>
            <p:cNvSpPr/>
            <p:nvPr/>
          </p:nvSpPr>
          <p:spPr>
            <a:xfrm>
              <a:off x="843480" y="1625760"/>
              <a:ext cx="184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8" name=""/>
                <p:cNvSpPr txBox="1"/>
                <p:nvPr/>
              </p:nvSpPr>
              <p:spPr>
                <a:xfrm>
                  <a:off x="582480" y="1268280"/>
                  <a:ext cx="2289240" cy="11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9" name=""/>
          <p:cNvSpPr/>
          <p:nvPr/>
        </p:nvSpPr>
        <p:spPr>
          <a:xfrm>
            <a:off x="2195640" y="573408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grpSp>
        <p:nvGrpSpPr>
          <p:cNvPr id="791" name=""/>
          <p:cNvGrpSpPr/>
          <p:nvPr/>
        </p:nvGrpSpPr>
        <p:grpSpPr>
          <a:xfrm>
            <a:off x="3276720" y="1125360"/>
            <a:ext cx="2808000" cy="2681640"/>
            <a:chOff x="3276720" y="1125360"/>
            <a:chExt cx="2808000" cy="2681640"/>
          </a:xfrm>
        </p:grpSpPr>
        <p:graphicFrame>
          <p:nvGraphicFramePr>
            <p:cNvPr id="792" name=""/>
            <p:cNvGraphicFramePr/>
            <p:nvPr/>
          </p:nvGraphicFramePr>
          <p:xfrm>
            <a:off x="3276720" y="1125360"/>
            <a:ext cx="2808000" cy="268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1125360"/>
                      <a:ext cx="2808000" cy="26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4" name=""/>
            <p:cNvSpPr/>
            <p:nvPr/>
          </p:nvSpPr>
          <p:spPr>
            <a:xfrm>
              <a:off x="3348000" y="119700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411960" y="1125360"/>
            <a:ext cx="2732040" cy="2737080"/>
            <a:chOff x="6411960" y="1125360"/>
            <a:chExt cx="2732040" cy="2737080"/>
          </a:xfrm>
        </p:grpSpPr>
        <p:graphicFrame>
          <p:nvGraphicFramePr>
            <p:cNvPr id="796" name=""/>
            <p:cNvGraphicFramePr/>
            <p:nvPr/>
          </p:nvGraphicFramePr>
          <p:xfrm>
            <a:off x="6411960" y="1125360"/>
            <a:ext cx="2732040" cy="2737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9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11960" y="1125360"/>
                      <a:ext cx="2732040" cy="27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8" name=""/>
            <p:cNvSpPr/>
            <p:nvPr/>
          </p:nvSpPr>
          <p:spPr>
            <a:xfrm>
              <a:off x="8532720" y="328464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5003640" y="2863800"/>
            <a:ext cx="2540160" cy="2786040"/>
            <a:chOff x="5003640" y="2863800"/>
            <a:chExt cx="2540160" cy="2786040"/>
          </a:xfrm>
        </p:grpSpPr>
        <p:graphicFrame>
          <p:nvGraphicFramePr>
            <p:cNvPr id="800" name=""/>
            <p:cNvGraphicFramePr/>
            <p:nvPr/>
          </p:nvGraphicFramePr>
          <p:xfrm>
            <a:off x="5003640" y="2863800"/>
            <a:ext cx="2540160" cy="2786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03640" y="2863800"/>
                      <a:ext cx="2540160" cy="27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2" name=""/>
            <p:cNvSpPr/>
            <p:nvPr/>
          </p:nvSpPr>
          <p:spPr>
            <a:xfrm>
              <a:off x="6732720" y="5013360"/>
              <a:ext cx="43308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 flipV="1">
            <a:off x="2916360" y="6020640"/>
            <a:ext cx="1873080" cy="576360"/>
          </a:xfrm>
          <a:prstGeom prst="wedgeRectCallout">
            <a:avLst>
              <a:gd name="adj1" fmla="val -123476"/>
              <a:gd name="adj2" fmla="val 123000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763640" y="2924280"/>
            <a:ext cx="2608200" cy="2736720"/>
            <a:chOff x="1763640" y="2924280"/>
            <a:chExt cx="2608200" cy="2736720"/>
          </a:xfrm>
        </p:grpSpPr>
        <p:graphicFrame>
          <p:nvGraphicFramePr>
            <p:cNvPr id="805" name=""/>
            <p:cNvGraphicFramePr/>
            <p:nvPr/>
          </p:nvGraphicFramePr>
          <p:xfrm>
            <a:off x="1763640" y="2924280"/>
            <a:ext cx="2608200" cy="2736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63640" y="2924280"/>
                      <a:ext cx="2608200" cy="27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7" name=""/>
            <p:cNvSpPr/>
            <p:nvPr/>
          </p:nvSpPr>
          <p:spPr>
            <a:xfrm>
              <a:off x="1903320" y="472608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1" dur="indefinite" restart="never" nodeType="tmRoot">
          <p:childTnLst>
            <p:seq>
              <p:cTn id="2912" dur="indefinite" nodeType="mainSeq">
                <p:childTnLst>
                  <p:par>
                    <p:cTn id="2913" fill="hold">
                      <p:stCondLst>
                        <p:cond delay="0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8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9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3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9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3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2934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2935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3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2944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3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2954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60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6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6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8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2969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3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6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366920" y="189000"/>
            <a:ext cx="7777080" cy="863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каком из рисунков изображено графичес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ение системы линейных уравн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24000" y="1268280"/>
            <a:ext cx="2808000" cy="1170000"/>
            <a:chOff x="324000" y="1268280"/>
            <a:chExt cx="2808000" cy="1170000"/>
          </a:xfrm>
        </p:grpSpPr>
        <p:sp>
          <p:nvSpPr>
            <p:cNvPr id="811" name=""/>
            <p:cNvSpPr/>
            <p:nvPr/>
          </p:nvSpPr>
          <p:spPr>
            <a:xfrm>
              <a:off x="843120" y="1625760"/>
              <a:ext cx="1844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2" name=""/>
                <p:cNvSpPr txBox="1"/>
                <p:nvPr/>
              </p:nvSpPr>
              <p:spPr>
                <a:xfrm>
                  <a:off x="324000" y="1268280"/>
                  <a:ext cx="2808000" cy="11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3" name=""/>
          <p:cNvSpPr/>
          <p:nvPr/>
        </p:nvSpPr>
        <p:spPr>
          <a:xfrm>
            <a:off x="2195640" y="573408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grpSp>
        <p:nvGrpSpPr>
          <p:cNvPr id="815" name=""/>
          <p:cNvGrpSpPr/>
          <p:nvPr/>
        </p:nvGrpSpPr>
        <p:grpSpPr>
          <a:xfrm>
            <a:off x="3276720" y="1125360"/>
            <a:ext cx="2808000" cy="2681640"/>
            <a:chOff x="3276720" y="1125360"/>
            <a:chExt cx="2808000" cy="2681640"/>
          </a:xfrm>
        </p:grpSpPr>
        <p:graphicFrame>
          <p:nvGraphicFramePr>
            <p:cNvPr id="816" name=""/>
            <p:cNvGraphicFramePr/>
            <p:nvPr/>
          </p:nvGraphicFramePr>
          <p:xfrm>
            <a:off x="3276720" y="1125360"/>
            <a:ext cx="2808000" cy="268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1125360"/>
                      <a:ext cx="2808000" cy="26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8" name=""/>
            <p:cNvSpPr/>
            <p:nvPr/>
          </p:nvSpPr>
          <p:spPr>
            <a:xfrm>
              <a:off x="3348000" y="119700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411960" y="1125360"/>
            <a:ext cx="2732040" cy="2737080"/>
            <a:chOff x="6411960" y="1125360"/>
            <a:chExt cx="2732040" cy="2737080"/>
          </a:xfrm>
        </p:grpSpPr>
        <p:graphicFrame>
          <p:nvGraphicFramePr>
            <p:cNvPr id="820" name=""/>
            <p:cNvGraphicFramePr/>
            <p:nvPr/>
          </p:nvGraphicFramePr>
          <p:xfrm>
            <a:off x="6411960" y="1125360"/>
            <a:ext cx="2732040" cy="2737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11960" y="1125360"/>
                      <a:ext cx="2732040" cy="27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2" name=""/>
            <p:cNvSpPr/>
            <p:nvPr/>
          </p:nvSpPr>
          <p:spPr>
            <a:xfrm>
              <a:off x="8532720" y="328464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003640" y="2924280"/>
            <a:ext cx="2540160" cy="2665440"/>
            <a:chOff x="5003640" y="2924280"/>
            <a:chExt cx="2540160" cy="2665440"/>
          </a:xfrm>
        </p:grpSpPr>
        <p:graphicFrame>
          <p:nvGraphicFramePr>
            <p:cNvPr id="824" name=""/>
            <p:cNvGraphicFramePr/>
            <p:nvPr/>
          </p:nvGraphicFramePr>
          <p:xfrm>
            <a:off x="5003640" y="2924280"/>
            <a:ext cx="2540160" cy="2665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03640" y="2924280"/>
                      <a:ext cx="2540160" cy="26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6" name=""/>
            <p:cNvSpPr/>
            <p:nvPr/>
          </p:nvSpPr>
          <p:spPr>
            <a:xfrm>
              <a:off x="6732720" y="5013360"/>
              <a:ext cx="43308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"/>
          <p:cNvSpPr/>
          <p:nvPr/>
        </p:nvSpPr>
        <p:spPr>
          <a:xfrm flipV="1">
            <a:off x="2916360" y="6020640"/>
            <a:ext cx="1873080" cy="576360"/>
          </a:xfrm>
          <a:prstGeom prst="wedgeRectCallout">
            <a:avLst>
              <a:gd name="adj1" fmla="val -123476"/>
              <a:gd name="adj2" fmla="val 123000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763640" y="2924280"/>
            <a:ext cx="2608200" cy="2736720"/>
            <a:chOff x="1763640" y="2924280"/>
            <a:chExt cx="2608200" cy="2736720"/>
          </a:xfrm>
        </p:grpSpPr>
        <p:graphicFrame>
          <p:nvGraphicFramePr>
            <p:cNvPr id="829" name=""/>
            <p:cNvGraphicFramePr/>
            <p:nvPr/>
          </p:nvGraphicFramePr>
          <p:xfrm>
            <a:off x="1763640" y="2924280"/>
            <a:ext cx="2608200" cy="2736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3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63640" y="2924280"/>
                      <a:ext cx="2608200" cy="27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1" name=""/>
            <p:cNvSpPr/>
            <p:nvPr/>
          </p:nvSpPr>
          <p:spPr>
            <a:xfrm>
              <a:off x="1903320" y="472608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8" dur="indefinite" restart="never" nodeType="tmRoot">
          <p:childTnLst>
            <p:seq>
              <p:cTn id="2979" dur="indefinite" nodeType="mainSeq">
                <p:childTnLst>
                  <p:par>
                    <p:cTn id="2980" fill="hold">
                      <p:stCondLst>
                        <p:cond delay="0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6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9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0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0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3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6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9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0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3011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17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20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23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5" restart="whenNotActive" nodeType="interactiveSeq" fill="hold">
                <p:stCondLst>
                  <p:cond evt="onClick">
                    <p:tgtEl>
                      <p:spTgt spid="819"/>
                    </p:tgtEl>
                  </p:cond>
                </p:stCondLst>
                <p:childTnLst>
                  <p:par>
                    <p:cTn id="3026" fill="hold">
                      <p:stCondLst>
                        <p:cond evt="onClick">
                          <p:tgtEl>
                            <p:spTgt spid="819"/>
                          </p:tgtEl>
                        </p:cond>
                      </p:stCondLst>
                      <p:childTnLst>
                        <p:par>
                          <p:cTn id="3027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3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5" restart="whenNotActive" nodeType="interactiveSeq" fill="hold">
                <p:stCondLst>
                  <p:cond evt="onClick">
                    <p:tgtEl>
                      <p:spTgt spid="823"/>
                    </p:tgtEl>
                  </p:cond>
                </p:stCondLst>
                <p:childTnLst>
                  <p:par>
                    <p:cTn id="3036" fill="hold">
                      <p:stCondLst>
                        <p:cond evt="onClick">
                          <p:tgtEl>
                            <p:spTgt spid="823"/>
                          </p:tgtEl>
                        </p:cond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0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3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5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3046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3047" fill="hold">
                            <p:stCondLst>
                              <p:cond delay="0"/>
                            </p:stCondLst>
                            <p:childTnLst>
                              <p:par>
                                <p:cTn id="3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3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854360" y="1204920"/>
            <a:ext cx="4965480" cy="1447920"/>
            <a:chOff x="1854360" y="1204920"/>
            <a:chExt cx="4965480" cy="1447920"/>
          </a:xfrm>
        </p:grpSpPr>
        <p:sp>
          <p:nvSpPr>
            <p:cNvPr id="114" name=""/>
            <p:cNvSpPr/>
            <p:nvPr/>
          </p:nvSpPr>
          <p:spPr>
            <a:xfrm>
              <a:off x="3185280" y="1629720"/>
              <a:ext cx="240300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854360" y="1204920"/>
                  <a:ext cx="4965480" cy="14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5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d>
                      <m:r>
                        <m:t xml:space="preserve">⋅</m:t>
                      </m:r>
                      <m:r>
                        <m:t xml:space="preserve">7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" name="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sp>
          <p:nvSpPr>
            <p:cNvPr id="117" name=""/>
            <p:cNvSpPr/>
            <p:nvPr/>
          </p:nvSpPr>
          <p:spPr>
            <a:xfrm>
              <a:off x="5292720" y="414972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5321160" y="4402080"/>
                  <a:ext cx="12283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120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3500280" y="3682800"/>
                  <a:ext cx="127188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37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2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123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1827000" y="2960640"/>
                  <a:ext cx="101556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126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7227720" y="5122800"/>
                  <a:ext cx="101556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58800" y="1268280"/>
            <a:ext cx="5554800" cy="1319400"/>
            <a:chOff x="1558800" y="1268280"/>
            <a:chExt cx="5554800" cy="1319400"/>
          </a:xfrm>
        </p:grpSpPr>
        <p:sp>
          <p:nvSpPr>
            <p:cNvPr id="133" name=""/>
            <p:cNvSpPr/>
            <p:nvPr/>
          </p:nvSpPr>
          <p:spPr>
            <a:xfrm>
              <a:off x="3184560" y="1629720"/>
              <a:ext cx="24037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1558800" y="1268280"/>
                  <a:ext cx="555480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с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5724360" y="4437000"/>
            <a:ext cx="2448000" cy="720720"/>
            <a:chOff x="5724360" y="4437000"/>
            <a:chExt cx="2448000" cy="720720"/>
          </a:xfrm>
        </p:grpSpPr>
        <p:sp>
          <p:nvSpPr>
            <p:cNvPr id="136" name=""/>
            <p:cNvSpPr/>
            <p:nvPr/>
          </p:nvSpPr>
          <p:spPr>
            <a:xfrm>
              <a:off x="5724360" y="4437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6243480" y="4510080"/>
                  <a:ext cx="13539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с</m:t>
                      </m:r>
                      <m:r>
                        <m:t xml:space="preserve">−</m:t>
                      </m:r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5724360" y="3429000"/>
            <a:ext cx="2448000" cy="720720"/>
            <a:chOff x="5724360" y="3429000"/>
            <a:chExt cx="2448000" cy="720720"/>
          </a:xfrm>
        </p:grpSpPr>
        <p:sp>
          <p:nvSpPr>
            <p:cNvPr id="142" name=""/>
            <p:cNvSpPr/>
            <p:nvPr/>
          </p:nvSpPr>
          <p:spPr>
            <a:xfrm>
              <a:off x="5724360" y="3429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6519600" y="3567240"/>
                  <a:ext cx="80316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4" name=""/>
          <p:cNvGrpSpPr/>
          <p:nvPr/>
        </p:nvGrpSpPr>
        <p:grpSpPr>
          <a:xfrm>
            <a:off x="5724360" y="2421000"/>
            <a:ext cx="2448000" cy="720720"/>
            <a:chOff x="5724360" y="2421000"/>
            <a:chExt cx="2448000" cy="720720"/>
          </a:xfrm>
        </p:grpSpPr>
        <p:sp>
          <p:nvSpPr>
            <p:cNvPr id="145" name=""/>
            <p:cNvSpPr/>
            <p:nvPr/>
          </p:nvSpPr>
          <p:spPr>
            <a:xfrm>
              <a:off x="5724360" y="2421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6054480" y="2494080"/>
                  <a:ext cx="17352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с</m:t>
                      </m:r>
                      <m:r>
                        <m:t xml:space="preserve">−</m:t>
                      </m:r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7" name=""/>
          <p:cNvGrpSpPr/>
          <p:nvPr/>
        </p:nvGrpSpPr>
        <p:grpSpPr>
          <a:xfrm>
            <a:off x="5724360" y="5589720"/>
            <a:ext cx="2448000" cy="720720"/>
            <a:chOff x="5724360" y="5589720"/>
            <a:chExt cx="2448000" cy="720720"/>
          </a:xfrm>
        </p:grpSpPr>
        <p:sp>
          <p:nvSpPr>
            <p:cNvPr id="148" name=""/>
            <p:cNvSpPr/>
            <p:nvPr/>
          </p:nvSpPr>
          <p:spPr>
            <a:xfrm>
              <a:off x="5724360" y="558972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6244920" y="5662800"/>
                  <a:ext cx="13543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24160" y="1268280"/>
            <a:ext cx="5824440" cy="1319400"/>
            <a:chOff x="1424160" y="1268280"/>
            <a:chExt cx="5824440" cy="1319400"/>
          </a:xfrm>
        </p:grpSpPr>
        <p:sp>
          <p:nvSpPr>
            <p:cNvPr id="153" name=""/>
            <p:cNvSpPr/>
            <p:nvPr/>
          </p:nvSpPr>
          <p:spPr>
            <a:xfrm>
              <a:off x="3184560" y="1629720"/>
              <a:ext cx="24037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1424160" y="1268280"/>
                  <a:ext cx="582444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t xml:space="preserve">d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8</m:t>
                          </m:r>
                          <m:r>
                            <m:t xml:space="preserve">d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" name=""/>
          <p:cNvGrpSpPr/>
          <p:nvPr/>
        </p:nvGrpSpPr>
        <p:grpSpPr>
          <a:xfrm>
            <a:off x="5724360" y="2349360"/>
            <a:ext cx="2448000" cy="720720"/>
            <a:chOff x="5724360" y="2349360"/>
            <a:chExt cx="2448000" cy="720720"/>
          </a:xfrm>
        </p:grpSpPr>
        <p:sp>
          <p:nvSpPr>
            <p:cNvPr id="156" name=""/>
            <p:cNvSpPr/>
            <p:nvPr/>
          </p:nvSpPr>
          <p:spPr>
            <a:xfrm>
              <a:off x="5724360" y="234936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6011640" y="2422440"/>
                  <a:ext cx="181908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с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79640" y="551664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5724360" y="3429000"/>
            <a:ext cx="2448000" cy="720720"/>
            <a:chOff x="5724360" y="3429000"/>
            <a:chExt cx="2448000" cy="720720"/>
          </a:xfrm>
        </p:grpSpPr>
        <p:sp>
          <p:nvSpPr>
            <p:cNvPr id="162" name=""/>
            <p:cNvSpPr/>
            <p:nvPr/>
          </p:nvSpPr>
          <p:spPr>
            <a:xfrm>
              <a:off x="5724360" y="3429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5991120" y="3502080"/>
                  <a:ext cx="18619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t xml:space="preserve">с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4" name=""/>
          <p:cNvGrpSpPr/>
          <p:nvPr/>
        </p:nvGrpSpPr>
        <p:grpSpPr>
          <a:xfrm>
            <a:off x="5724360" y="4508640"/>
            <a:ext cx="2448000" cy="720720"/>
            <a:chOff x="5724360" y="4508640"/>
            <a:chExt cx="2448000" cy="720720"/>
          </a:xfrm>
        </p:grpSpPr>
        <p:sp>
          <p:nvSpPr>
            <p:cNvPr id="165" name=""/>
            <p:cNvSpPr/>
            <p:nvPr/>
          </p:nvSpPr>
          <p:spPr>
            <a:xfrm>
              <a:off x="5724360" y="450864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5991120" y="4581720"/>
                  <a:ext cx="18619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d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7" name=""/>
          <p:cNvGrpSpPr/>
          <p:nvPr/>
        </p:nvGrpSpPr>
        <p:grpSpPr>
          <a:xfrm>
            <a:off x="5724360" y="5589720"/>
            <a:ext cx="2448000" cy="720720"/>
            <a:chOff x="5724360" y="5589720"/>
            <a:chExt cx="2448000" cy="720720"/>
          </a:xfrm>
        </p:grpSpPr>
        <p:sp>
          <p:nvSpPr>
            <p:cNvPr id="168" name=""/>
            <p:cNvSpPr/>
            <p:nvPr/>
          </p:nvSpPr>
          <p:spPr>
            <a:xfrm>
              <a:off x="5724360" y="558972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5970240" y="5662800"/>
                  <a:ext cx="190368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d</m:t>
                      </m:r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14320" y="1204920"/>
            <a:ext cx="7043760" cy="1447920"/>
            <a:chOff x="814320" y="1204920"/>
            <a:chExt cx="7043760" cy="1447920"/>
          </a:xfrm>
        </p:grpSpPr>
        <p:sp>
          <p:nvSpPr>
            <p:cNvPr id="173" name=""/>
            <p:cNvSpPr/>
            <p:nvPr/>
          </p:nvSpPr>
          <p:spPr>
            <a:xfrm>
              <a:off x="3184200" y="1629720"/>
              <a:ext cx="240408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814320" y="1204920"/>
                  <a:ext cx="7043760" cy="14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,5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</m:d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7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den>
                          </m:f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5" name=""/>
          <p:cNvGrpSpPr/>
          <p:nvPr/>
        </p:nvGrpSpPr>
        <p:grpSpPr>
          <a:xfrm>
            <a:off x="1763640" y="3860640"/>
            <a:ext cx="3166920" cy="763560"/>
            <a:chOff x="1763640" y="3860640"/>
            <a:chExt cx="3166920" cy="763560"/>
          </a:xfrm>
        </p:grpSpPr>
        <p:sp>
          <p:nvSpPr>
            <p:cNvPr id="176" name=""/>
            <p:cNvSpPr/>
            <p:nvPr/>
          </p:nvSpPr>
          <p:spPr>
            <a:xfrm>
              <a:off x="1763640" y="3860640"/>
              <a:ext cx="316692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1834920" y="3931920"/>
                  <a:ext cx="291960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4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1763640" y="2781360"/>
            <a:ext cx="3166920" cy="763560"/>
            <a:chOff x="1763640" y="2781360"/>
            <a:chExt cx="3166920" cy="763560"/>
          </a:xfrm>
        </p:grpSpPr>
        <p:sp>
          <p:nvSpPr>
            <p:cNvPr id="182" name=""/>
            <p:cNvSpPr/>
            <p:nvPr/>
          </p:nvSpPr>
          <p:spPr>
            <a:xfrm>
              <a:off x="1763640" y="2781360"/>
              <a:ext cx="316692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2447640" y="2852640"/>
                  <a:ext cx="169236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7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" name=""/>
          <p:cNvGrpSpPr/>
          <p:nvPr/>
        </p:nvGrpSpPr>
        <p:grpSpPr>
          <a:xfrm>
            <a:off x="5435640" y="3860640"/>
            <a:ext cx="3166920" cy="763560"/>
            <a:chOff x="5435640" y="3860640"/>
            <a:chExt cx="3166920" cy="763560"/>
          </a:xfrm>
        </p:grpSpPr>
        <p:sp>
          <p:nvSpPr>
            <p:cNvPr id="185" name=""/>
            <p:cNvSpPr/>
            <p:nvPr/>
          </p:nvSpPr>
          <p:spPr>
            <a:xfrm>
              <a:off x="5435640" y="3860640"/>
              <a:ext cx="316692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5802120" y="3931920"/>
                  <a:ext cx="232740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7" name=""/>
          <p:cNvGrpSpPr/>
          <p:nvPr/>
        </p:nvGrpSpPr>
        <p:grpSpPr>
          <a:xfrm>
            <a:off x="5435640" y="2781360"/>
            <a:ext cx="3166920" cy="763560"/>
            <a:chOff x="5435640" y="2781360"/>
            <a:chExt cx="3166920" cy="763560"/>
          </a:xfrm>
        </p:grpSpPr>
        <p:sp>
          <p:nvSpPr>
            <p:cNvPr id="188" name=""/>
            <p:cNvSpPr/>
            <p:nvPr/>
          </p:nvSpPr>
          <p:spPr>
            <a:xfrm>
              <a:off x="5435640" y="2781360"/>
              <a:ext cx="316692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5613480" y="2852640"/>
                  <a:ext cx="270648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,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образуйте выражение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ночлен стандартного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2627280" y="1268280"/>
            <a:ext cx="4740480" cy="893880"/>
            <a:chOff x="2627280" y="1268280"/>
            <a:chExt cx="4740480" cy="893880"/>
          </a:xfrm>
        </p:grpSpPr>
        <p:sp>
          <p:nvSpPr>
            <p:cNvPr id="194" name=""/>
            <p:cNvSpPr/>
            <p:nvPr/>
          </p:nvSpPr>
          <p:spPr>
            <a:xfrm>
              <a:off x="3844440" y="1417320"/>
              <a:ext cx="24037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2627280" y="1268280"/>
                  <a:ext cx="474048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,2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ху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6" name=""/>
          <p:cNvGrpSpPr/>
          <p:nvPr/>
        </p:nvGrpSpPr>
        <p:grpSpPr>
          <a:xfrm>
            <a:off x="5292720" y="2349360"/>
            <a:ext cx="2087640" cy="1296720"/>
            <a:chOff x="5292720" y="2349360"/>
            <a:chExt cx="2087640" cy="1296720"/>
          </a:xfrm>
        </p:grpSpPr>
        <p:sp>
          <p:nvSpPr>
            <p:cNvPr id="197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5508720" y="2638080"/>
                  <a:ext cx="16938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9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292720" y="3860640"/>
            <a:ext cx="2087640" cy="1296720"/>
            <a:chOff x="5292720" y="3860640"/>
            <a:chExt cx="2087640" cy="1296720"/>
          </a:xfrm>
        </p:grpSpPr>
        <p:sp>
          <p:nvSpPr>
            <p:cNvPr id="202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5445000" y="4149360"/>
                  <a:ext cx="182088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4" name=""/>
          <p:cNvGrpSpPr/>
          <p:nvPr/>
        </p:nvGrpSpPr>
        <p:grpSpPr>
          <a:xfrm>
            <a:off x="2556000" y="3860640"/>
            <a:ext cx="2087280" cy="1350720"/>
            <a:chOff x="2556000" y="3860640"/>
            <a:chExt cx="2087280" cy="1350720"/>
          </a:xfrm>
        </p:grpSpPr>
        <p:sp>
          <p:nvSpPr>
            <p:cNvPr id="205" name=""/>
            <p:cNvSpPr/>
            <p:nvPr/>
          </p:nvSpPr>
          <p:spPr>
            <a:xfrm>
              <a:off x="2556000" y="3860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2750760" y="3868560"/>
                  <a:ext cx="17348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" name=""/>
          <p:cNvGrpSpPr/>
          <p:nvPr/>
        </p:nvGrpSpPr>
        <p:grpSpPr>
          <a:xfrm>
            <a:off x="2517840" y="2349360"/>
            <a:ext cx="2201760" cy="1296720"/>
            <a:chOff x="2517840" y="2349360"/>
            <a:chExt cx="2201760" cy="1296720"/>
          </a:xfrm>
        </p:grpSpPr>
        <p:sp>
          <p:nvSpPr>
            <p:cNvPr id="208" name=""/>
            <p:cNvSpPr/>
            <p:nvPr/>
          </p:nvSpPr>
          <p:spPr>
            <a:xfrm>
              <a:off x="255600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2517840" y="2638080"/>
                  <a:ext cx="220176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7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образуйте выражение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ночлен стандартного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2987640" y="1052640"/>
            <a:ext cx="4017960" cy="1446120"/>
            <a:chOff x="2987640" y="1052640"/>
            <a:chExt cx="4017960" cy="1446120"/>
          </a:xfrm>
        </p:grpSpPr>
        <p:sp>
          <p:nvSpPr>
            <p:cNvPr id="214" name=""/>
            <p:cNvSpPr/>
            <p:nvPr/>
          </p:nvSpPr>
          <p:spPr>
            <a:xfrm>
              <a:off x="3844080" y="1477800"/>
              <a:ext cx="24040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2987640" y="1052640"/>
                  <a:ext cx="4017960" cy="14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⋅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ху</m:t>
                              </m:r>
                            </m:e>
                            <m:sup>
                              <m:r>
                                <m:t xml:space="preserve">5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"/>
          <p:cNvGrpSpPr/>
          <p:nvPr/>
        </p:nvGrpSpPr>
        <p:grpSpPr>
          <a:xfrm>
            <a:off x="5292720" y="2492280"/>
            <a:ext cx="2087640" cy="1296720"/>
            <a:chOff x="5292720" y="2492280"/>
            <a:chExt cx="2087640" cy="1296720"/>
          </a:xfrm>
        </p:grpSpPr>
        <p:sp>
          <p:nvSpPr>
            <p:cNvPr id="217" name=""/>
            <p:cNvSpPr/>
            <p:nvPr/>
          </p:nvSpPr>
          <p:spPr>
            <a:xfrm>
              <a:off x="5292720" y="249228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5719680" y="2823840"/>
                  <a:ext cx="1270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ху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9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551664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56000" y="4005360"/>
            <a:ext cx="2087280" cy="1296720"/>
            <a:chOff x="2556000" y="4005360"/>
            <a:chExt cx="2087280" cy="1296720"/>
          </a:xfrm>
        </p:grpSpPr>
        <p:sp>
          <p:nvSpPr>
            <p:cNvPr id="222" name=""/>
            <p:cNvSpPr/>
            <p:nvPr/>
          </p:nvSpPr>
          <p:spPr>
            <a:xfrm>
              <a:off x="2556000" y="4005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3089160" y="4379760"/>
                  <a:ext cx="10584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5292720" y="4005360"/>
            <a:ext cx="2087640" cy="1350720"/>
            <a:chOff x="5292720" y="4005360"/>
            <a:chExt cx="2087640" cy="1350720"/>
          </a:xfrm>
        </p:grpSpPr>
        <p:sp>
          <p:nvSpPr>
            <p:cNvPr id="225" name=""/>
            <p:cNvSpPr/>
            <p:nvPr/>
          </p:nvSpPr>
          <p:spPr>
            <a:xfrm>
              <a:off x="5292720" y="4005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529240" y="4013280"/>
                  <a:ext cx="165096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ху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2556000" y="2492280"/>
            <a:ext cx="2087280" cy="1296720"/>
            <a:chOff x="2556000" y="2492280"/>
            <a:chExt cx="2087280" cy="1296720"/>
          </a:xfrm>
        </p:grpSpPr>
        <p:sp>
          <p:nvSpPr>
            <p:cNvPr id="228" name=""/>
            <p:cNvSpPr/>
            <p:nvPr/>
          </p:nvSpPr>
          <p:spPr>
            <a:xfrm>
              <a:off x="2556000" y="249228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2962080" y="2823840"/>
                  <a:ext cx="131076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5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1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23:25:24Z</dcterms:created>
  <dc:creator>Admin</dc:creator>
  <dc:description/>
  <dc:language>en-US</dc:language>
  <cp:lastModifiedBy>Admin</cp:lastModifiedBy>
  <dcterms:modified xsi:type="dcterms:W3CDTF">2010-06-19T11:38:08Z</dcterms:modified>
  <cp:revision>15</cp:revision>
  <dc:subject/>
  <dc:title>Слайд 1</dc:title>
</cp:coreProperties>
</file>