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593-4DEB-496B-8D3C-C8DA315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0D4-292B-4237-AF83-274AA03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265-767F-4009-BA65-C55C25DF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338-E6A1-4EEF-9405-4EEEB4DE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BB4-FB6B-46FC-9FF1-A796C794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38D-5780-4CDE-A2F0-9CBD5E4E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C1F-848D-47FE-9029-55D6568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B1E-36A1-4134-A0B5-771A1E4A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4B1-9C09-4A26-ABF4-0B3C5A5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413-A25A-4834-9EA4-8C3F22F9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BDB-D56A-44E2-AE96-13114FD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9A9-E4AD-49EF-9FE9-36F6E31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BDC-A28A-4D0A-9513-612A3BDA5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39640" y="692280"/>
            <a:ext cx="5759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урса алгебры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 7 класс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77080" y="26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573408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МОУ СОШ №256 г.Фокино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9264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Первые ур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246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700360" y="1268280"/>
            <a:ext cx="4197240" cy="892440"/>
            <a:chOff x="2700360" y="1268280"/>
            <a:chExt cx="4197240" cy="892440"/>
          </a:xfrm>
        </p:grpSpPr>
        <p:sp>
          <p:nvSpPr>
            <p:cNvPr id="234" name=""/>
            <p:cNvSpPr/>
            <p:nvPr/>
          </p:nvSpPr>
          <p:spPr>
            <a:xfrm>
              <a:off x="3646080" y="14169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700360" y="1268280"/>
                  <a:ext cx="4197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у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у</m:t>
                              </m:r>
                            </m:e>
                          </m:d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37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2750760" y="4294080"/>
                  <a:ext cx="17348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6880" y="2492280"/>
            <a:ext cx="2158920" cy="1296720"/>
            <a:chOff x="5276880" y="2492280"/>
            <a:chExt cx="2158920" cy="1296720"/>
          </a:xfrm>
        </p:grpSpPr>
        <p:sp>
          <p:nvSpPr>
            <p:cNvPr id="242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276880" y="2781000"/>
                  <a:ext cx="21589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"/>
          <p:cNvGrpSpPr/>
          <p:nvPr/>
        </p:nvGrpSpPr>
        <p:grpSpPr>
          <a:xfrm>
            <a:off x="5292720" y="4005360"/>
            <a:ext cx="2087640" cy="1296720"/>
            <a:chOff x="5292720" y="4005360"/>
            <a:chExt cx="2087640" cy="1296720"/>
          </a:xfrm>
        </p:grpSpPr>
        <p:sp>
          <p:nvSpPr>
            <p:cNvPr id="24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445000" y="429408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4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730240" y="2781000"/>
                  <a:ext cx="177624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40360" y="1413000"/>
            <a:ext cx="2403720" cy="1403280"/>
            <a:chOff x="5940360" y="1413000"/>
            <a:chExt cx="2403720" cy="1403280"/>
          </a:xfrm>
        </p:grpSpPr>
        <p:sp>
          <p:nvSpPr>
            <p:cNvPr id="253" name=""/>
            <p:cNvSpPr/>
            <p:nvPr/>
          </p:nvSpPr>
          <p:spPr>
            <a:xfrm>
              <a:off x="5940360" y="181548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34608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56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5638680" y="4422600"/>
                  <a:ext cx="5918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5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838680" y="3703320"/>
                  <a:ext cx="5936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6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124000" y="3027240"/>
                  <a:ext cx="423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6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439040" y="5165640"/>
                  <a:ext cx="5918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3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346800" y="1413000"/>
            <a:ext cx="1488960" cy="1403280"/>
            <a:chOff x="6346800" y="1413000"/>
            <a:chExt cx="1488960" cy="1403280"/>
          </a:xfrm>
        </p:grpSpPr>
        <p:sp>
          <p:nvSpPr>
            <p:cNvPr id="274" name=""/>
            <p:cNvSpPr/>
            <p:nvPr/>
          </p:nvSpPr>
          <p:spPr>
            <a:xfrm>
              <a:off x="6570720" y="186732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46800" y="1413000"/>
                  <a:ext cx="148896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9</m:t>
                              </m:r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77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28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038320" y="300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28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860640" y="3682800"/>
                  <a:ext cx="5511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2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459560" y="512280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8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ставьте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виде степени с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03640" y="1413000"/>
            <a:ext cx="3294360" cy="1699920"/>
            <a:chOff x="5003640" y="1413000"/>
            <a:chExt cx="3294360" cy="1699920"/>
          </a:xfrm>
        </p:grpSpPr>
        <p:sp>
          <p:nvSpPr>
            <p:cNvPr id="295" name=""/>
            <p:cNvSpPr/>
            <p:nvPr/>
          </p:nvSpPr>
          <p:spPr>
            <a:xfrm>
              <a:off x="6129360" y="2014560"/>
              <a:ext cx="1086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3640" y="1413000"/>
                  <a:ext cx="3294360" cy="16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9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8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7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8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298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5659200" y="4402080"/>
                  <a:ext cx="5504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1636560" y="2593800"/>
            <a:ext cx="1398600" cy="1430280"/>
            <a:chOff x="1636560" y="2593800"/>
            <a:chExt cx="1398600" cy="1430280"/>
          </a:xfrm>
        </p:grpSpPr>
        <p:sp>
          <p:nvSpPr>
            <p:cNvPr id="301" name=""/>
            <p:cNvSpPr/>
            <p:nvPr/>
          </p:nvSpPr>
          <p:spPr>
            <a:xfrm>
              <a:off x="1692000" y="270828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1636560" y="2593800"/>
                  <a:ext cx="139860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7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"/>
          <p:cNvGrpSpPr/>
          <p:nvPr/>
        </p:nvGrpSpPr>
        <p:grpSpPr>
          <a:xfrm>
            <a:off x="7020000" y="4869000"/>
            <a:ext cx="1295280" cy="1296720"/>
            <a:chOff x="7020000" y="4869000"/>
            <a:chExt cx="1295280" cy="1296720"/>
          </a:xfrm>
        </p:grpSpPr>
        <p:sp>
          <p:nvSpPr>
            <p:cNvPr id="304" name=""/>
            <p:cNvSpPr/>
            <p:nvPr/>
          </p:nvSpPr>
          <p:spPr>
            <a:xfrm>
              <a:off x="702000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7367400" y="5122800"/>
                  <a:ext cx="5932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0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711600" y="3682800"/>
                  <a:ext cx="8478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317080" y="47628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 формулы периметра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те длину стороны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92360" y="1268280"/>
            <a:ext cx="2979720" cy="723960"/>
            <a:chOff x="3492360" y="1268280"/>
            <a:chExt cx="2979720" cy="723960"/>
          </a:xfrm>
        </p:grpSpPr>
        <p:sp>
          <p:nvSpPr>
            <p:cNvPr id="317" name=""/>
            <p:cNvSpPr/>
            <p:nvPr/>
          </p:nvSpPr>
          <p:spPr>
            <a:xfrm>
              <a:off x="3830040" y="13334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3492360" y="1268280"/>
                  <a:ext cx="29797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sp>
          <p:nvSpPr>
            <p:cNvPr id="320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5592600" y="2357280"/>
                  <a:ext cx="1524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292720" y="3860640"/>
            <a:ext cx="2087640" cy="1352520"/>
            <a:chOff x="5292720" y="3860640"/>
            <a:chExt cx="2087640" cy="1352520"/>
          </a:xfrm>
        </p:grpSpPr>
        <p:sp>
          <p:nvSpPr>
            <p:cNvPr id="325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594400" y="3865320"/>
                  <a:ext cx="152244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2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2898720" y="4236840"/>
                  <a:ext cx="14392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3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2898720" y="2723760"/>
                  <a:ext cx="1439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омерного движения скорость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3762360" y="1247760"/>
            <a:ext cx="2471760" cy="766800"/>
            <a:chOff x="3762360" y="1247760"/>
            <a:chExt cx="2471760" cy="766800"/>
          </a:xfrm>
        </p:grpSpPr>
        <p:sp>
          <p:nvSpPr>
            <p:cNvPr id="337" name=""/>
            <p:cNvSpPr/>
            <p:nvPr/>
          </p:nvSpPr>
          <p:spPr>
            <a:xfrm>
              <a:off x="3829680" y="133344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3762360" y="1247760"/>
                  <a:ext cx="24386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v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4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613480" y="3868560"/>
                  <a:ext cx="1481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292720" y="2349360"/>
            <a:ext cx="2087640" cy="1352520"/>
            <a:chOff x="5292720" y="2349360"/>
            <a:chExt cx="2087640" cy="1352520"/>
          </a:xfrm>
        </p:grpSpPr>
        <p:sp>
          <p:nvSpPr>
            <p:cNvPr id="34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614920" y="2354040"/>
                  <a:ext cx="147960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4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2877840" y="4151160"/>
                  <a:ext cx="14806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351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2855520" y="2638080"/>
                  <a:ext cx="15253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0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 переменную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371760" y="1289160"/>
            <a:ext cx="3254400" cy="723960"/>
            <a:chOff x="3371760" y="1289160"/>
            <a:chExt cx="3254400" cy="723960"/>
          </a:xfrm>
        </p:grpSpPr>
        <p:sp>
          <p:nvSpPr>
            <p:cNvPr id="357" name=""/>
            <p:cNvSpPr/>
            <p:nvPr/>
          </p:nvSpPr>
          <p:spPr>
            <a:xfrm>
              <a:off x="3846600" y="1354320"/>
              <a:ext cx="24048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3371760" y="1289160"/>
                  <a:ext cx="32544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5292720" y="3860640"/>
            <a:ext cx="2087640" cy="1350720"/>
            <a:chOff x="5292720" y="3860640"/>
            <a:chExt cx="2087640" cy="1350720"/>
          </a:xfrm>
        </p:grpSpPr>
        <p:sp>
          <p:nvSpPr>
            <p:cNvPr id="36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5572080" y="3868560"/>
                  <a:ext cx="156528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2276640"/>
            <a:ext cx="2087280" cy="1352520"/>
            <a:chOff x="2556000" y="2276640"/>
            <a:chExt cx="2087280" cy="1352520"/>
          </a:xfrm>
        </p:grpSpPr>
        <p:sp>
          <p:nvSpPr>
            <p:cNvPr id="365" name=""/>
            <p:cNvSpPr/>
            <p:nvPr/>
          </p:nvSpPr>
          <p:spPr>
            <a:xfrm>
              <a:off x="2556000" y="2276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2836800" y="2281320"/>
                  <a:ext cx="156312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368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730240" y="4236840"/>
                  <a:ext cx="17762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"/>
          <p:cNvGrpSpPr/>
          <p:nvPr/>
        </p:nvGrpSpPr>
        <p:grpSpPr>
          <a:xfrm>
            <a:off x="5292720" y="2276640"/>
            <a:ext cx="2087640" cy="1350720"/>
            <a:chOff x="5292720" y="2276640"/>
            <a:chExt cx="2087640" cy="1350720"/>
          </a:xfrm>
        </p:grpSpPr>
        <p:sp>
          <p:nvSpPr>
            <p:cNvPr id="371" name=""/>
            <p:cNvSpPr/>
            <p:nvPr/>
          </p:nvSpPr>
          <p:spPr>
            <a:xfrm>
              <a:off x="5292720" y="2276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99160" y="2284560"/>
                  <a:ext cx="131292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7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038320" y="3004920"/>
                  <a:ext cx="5918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79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795840" y="3724200"/>
                  <a:ext cx="67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1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382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597280" y="4448160"/>
                  <a:ext cx="677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38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7418160" y="5165640"/>
                  <a:ext cx="6332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168560" y="1144440"/>
            <a:ext cx="71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олоку длиной 135 м разрезали на две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отношении 5 : 4. Найдите длину меньшей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56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160"/>
                            </p:stCondLst>
                            <p:childTnLst>
                              <p:par>
                                <p:cTn id="12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394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122200" y="3025440"/>
                  <a:ext cx="42372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397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36880" y="3724200"/>
                  <a:ext cx="595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9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00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7397640" y="5189400"/>
                  <a:ext cx="6775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2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03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597280" y="4466880"/>
                  <a:ext cx="67608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11720" y="114444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ля изготовления 84 кг фарфора взяли глину, гипс и пес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торые относятся как 4 : 7 :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колько глины взяли для фарф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960"/>
                            </p:stCondLst>
                            <p:childTnLst>
                              <p:par>
                                <p:cTn id="1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1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160"/>
                            </p:stCondLst>
                            <p:childTnLst>
                              <p:par>
                                <p:cTn id="13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1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2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12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1825560" y="2960640"/>
                  <a:ext cx="1017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3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415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7310520" y="5164200"/>
                  <a:ext cx="850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18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3649680" y="3684600"/>
                  <a:ext cx="97308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421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5597280" y="4444920"/>
                  <a:ext cx="6760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8160" y="112536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железной руде на 7 частей железа приходится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месей. Сколько тонн примесей содержит железная р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если в ней 73,5 т желе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6" dur="8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4800"/>
                            </p:stCondLst>
                            <p:childTnLst>
                              <p:par>
                                <p:cTn id="1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640"/>
                            </p:stCondLst>
                            <p:childTnLst>
                              <p:par>
                                <p:cTn id="14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6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48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0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124000" y="1268280"/>
            <a:ext cx="4424400" cy="1319400"/>
            <a:chOff x="2124000" y="1268280"/>
            <a:chExt cx="4424400" cy="1319400"/>
          </a:xfrm>
        </p:grpSpPr>
        <p:sp>
          <p:nvSpPr>
            <p:cNvPr id="74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124000" y="1268280"/>
                  <a:ext cx="44244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7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763640" y="2637000"/>
                  <a:ext cx="11426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3492360" y="3357720"/>
            <a:ext cx="1295640" cy="1368360"/>
            <a:chOff x="3492360" y="3357720"/>
            <a:chExt cx="1295640" cy="1368360"/>
          </a:xfrm>
        </p:grpSpPr>
        <p:sp>
          <p:nvSpPr>
            <p:cNvPr id="80" name=""/>
            <p:cNvSpPr/>
            <p:nvPr/>
          </p:nvSpPr>
          <p:spPr>
            <a:xfrm>
              <a:off x="3492360" y="342936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43120" y="3357720"/>
                  <a:ext cx="118620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83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5343120" y="4076640"/>
                  <a:ext cx="11858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093080" y="4797360"/>
            <a:ext cx="1295280" cy="1368360"/>
            <a:chOff x="7093080" y="4797360"/>
            <a:chExt cx="1295280" cy="1368360"/>
          </a:xfrm>
        </p:grpSpPr>
        <p:sp>
          <p:nvSpPr>
            <p:cNvPr id="8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7207200" y="4797360"/>
                  <a:ext cx="10569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340000" y="1413000"/>
            <a:ext cx="4017960" cy="680760"/>
            <a:chOff x="2340000" y="1413000"/>
            <a:chExt cx="4017960" cy="680760"/>
          </a:xfrm>
        </p:grpSpPr>
        <p:sp>
          <p:nvSpPr>
            <p:cNvPr id="430" name=""/>
            <p:cNvSpPr/>
            <p:nvPr/>
          </p:nvSpPr>
          <p:spPr>
            <a:xfrm>
              <a:off x="3197520" y="1454760"/>
              <a:ext cx="2403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2340000" y="1413000"/>
                  <a:ext cx="40179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2" name=""/>
          <p:cNvGrpSpPr/>
          <p:nvPr/>
        </p:nvGrpSpPr>
        <p:grpSpPr>
          <a:xfrm>
            <a:off x="5608800" y="4402080"/>
            <a:ext cx="2624040" cy="822240"/>
            <a:chOff x="5608800" y="4402080"/>
            <a:chExt cx="2624040" cy="822240"/>
          </a:xfrm>
        </p:grpSpPr>
        <p:sp>
          <p:nvSpPr>
            <p:cNvPr id="433" name=""/>
            <p:cNvSpPr/>
            <p:nvPr/>
          </p:nvSpPr>
          <p:spPr>
            <a:xfrm>
              <a:off x="572472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5608800" y="4402080"/>
                  <a:ext cx="26240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611680" y="3416400"/>
            <a:ext cx="2620800" cy="779400"/>
            <a:chOff x="5611680" y="3416400"/>
            <a:chExt cx="2620800" cy="779400"/>
          </a:xfrm>
        </p:grpSpPr>
        <p:sp>
          <p:nvSpPr>
            <p:cNvPr id="438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5611680" y="3416400"/>
                  <a:ext cx="2620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0" name=""/>
          <p:cNvGrpSpPr/>
          <p:nvPr/>
        </p:nvGrpSpPr>
        <p:grpSpPr>
          <a:xfrm>
            <a:off x="5724360" y="2386080"/>
            <a:ext cx="2448000" cy="823680"/>
            <a:chOff x="5724360" y="2386080"/>
            <a:chExt cx="2448000" cy="823680"/>
          </a:xfrm>
        </p:grpSpPr>
        <p:sp>
          <p:nvSpPr>
            <p:cNvPr id="441" name=""/>
            <p:cNvSpPr/>
            <p:nvPr/>
          </p:nvSpPr>
          <p:spPr>
            <a:xfrm>
              <a:off x="5724360" y="2420640"/>
              <a:ext cx="244800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5800320" y="2386080"/>
                  <a:ext cx="22431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sp>
          <p:nvSpPr>
            <p:cNvPr id="444" name=""/>
            <p:cNvSpPr/>
            <p:nvPr/>
          </p:nvSpPr>
          <p:spPr>
            <a:xfrm>
              <a:off x="5724360" y="558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5759280" y="5576760"/>
                  <a:ext cx="2327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⋅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9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111400" y="1382760"/>
            <a:ext cx="4289400" cy="603360"/>
            <a:chOff x="2111400" y="1382760"/>
            <a:chExt cx="4289400" cy="603360"/>
          </a:xfrm>
        </p:grpSpPr>
        <p:sp>
          <p:nvSpPr>
            <p:cNvPr id="450" name=""/>
            <p:cNvSpPr/>
            <p:nvPr/>
          </p:nvSpPr>
          <p:spPr>
            <a:xfrm>
              <a:off x="3104640" y="138384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111400" y="1382760"/>
                  <a:ext cx="4289400" cy="59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2" name=""/>
          <p:cNvGrpSpPr/>
          <p:nvPr/>
        </p:nvGrpSpPr>
        <p:grpSpPr>
          <a:xfrm>
            <a:off x="5292720" y="2349360"/>
            <a:ext cx="3600360" cy="736920"/>
            <a:chOff x="5292720" y="2349360"/>
            <a:chExt cx="3600360" cy="736920"/>
          </a:xfrm>
        </p:grpSpPr>
        <p:sp>
          <p:nvSpPr>
            <p:cNvPr id="453" name=""/>
            <p:cNvSpPr/>
            <p:nvPr/>
          </p:nvSpPr>
          <p:spPr>
            <a:xfrm>
              <a:off x="5292720" y="2349360"/>
              <a:ext cx="360036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508720" y="2349360"/>
                  <a:ext cx="308916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5292720" y="3357720"/>
            <a:ext cx="3600360" cy="736560"/>
            <a:chOff x="5292720" y="3357720"/>
            <a:chExt cx="3600360" cy="736560"/>
          </a:xfrm>
        </p:grpSpPr>
        <p:sp>
          <p:nvSpPr>
            <p:cNvPr id="459" name=""/>
            <p:cNvSpPr/>
            <p:nvPr/>
          </p:nvSpPr>
          <p:spPr>
            <a:xfrm>
              <a:off x="5292720" y="335772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508720" y="335772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5292720" y="4292640"/>
            <a:ext cx="3600360" cy="736560"/>
            <a:chOff x="5292720" y="4292640"/>
            <a:chExt cx="3600360" cy="736560"/>
          </a:xfrm>
        </p:grpSpPr>
        <p:sp>
          <p:nvSpPr>
            <p:cNvPr id="462" name=""/>
            <p:cNvSpPr/>
            <p:nvPr/>
          </p:nvSpPr>
          <p:spPr>
            <a:xfrm>
              <a:off x="5292720" y="4292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5508720" y="4292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5292720" y="5300640"/>
            <a:ext cx="3600360" cy="736560"/>
            <a:chOff x="5292720" y="5300640"/>
            <a:chExt cx="3600360" cy="736560"/>
          </a:xfrm>
        </p:grpSpPr>
        <p:sp>
          <p:nvSpPr>
            <p:cNvPr id="465" name=""/>
            <p:cNvSpPr/>
            <p:nvPr/>
          </p:nvSpPr>
          <p:spPr>
            <a:xfrm>
              <a:off x="5292720" y="5300640"/>
              <a:ext cx="3600360" cy="72036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508720" y="5300640"/>
                  <a:ext cx="30891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0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ложите много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411280" y="1197000"/>
            <a:ext cx="3560760" cy="824040"/>
            <a:chOff x="2411280" y="1197000"/>
            <a:chExt cx="3560760" cy="824040"/>
          </a:xfrm>
        </p:grpSpPr>
        <p:sp>
          <p:nvSpPr>
            <p:cNvPr id="470" name=""/>
            <p:cNvSpPr/>
            <p:nvPr/>
          </p:nvSpPr>
          <p:spPr>
            <a:xfrm>
              <a:off x="2997360" y="1249920"/>
              <a:ext cx="24933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11280" y="1197000"/>
                  <a:ext cx="356076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с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а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2" name=""/>
          <p:cNvGrpSpPr/>
          <p:nvPr/>
        </p:nvGrpSpPr>
        <p:grpSpPr>
          <a:xfrm>
            <a:off x="4932360" y="5157720"/>
            <a:ext cx="3978360" cy="736560"/>
            <a:chOff x="4932360" y="5157720"/>
            <a:chExt cx="3978360" cy="736560"/>
          </a:xfrm>
        </p:grpSpPr>
        <p:sp>
          <p:nvSpPr>
            <p:cNvPr id="473" name=""/>
            <p:cNvSpPr/>
            <p:nvPr/>
          </p:nvSpPr>
          <p:spPr>
            <a:xfrm>
              <a:off x="4932360" y="5157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4932360" y="5157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63640" y="573408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932360" y="2133720"/>
            <a:ext cx="3978360" cy="736560"/>
            <a:chOff x="4932360" y="2133720"/>
            <a:chExt cx="3978360" cy="736560"/>
          </a:xfrm>
        </p:grpSpPr>
        <p:sp>
          <p:nvSpPr>
            <p:cNvPr id="479" name=""/>
            <p:cNvSpPr/>
            <p:nvPr/>
          </p:nvSpPr>
          <p:spPr>
            <a:xfrm>
              <a:off x="4932360" y="2133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4932360" y="2133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2360" y="3141720"/>
            <a:ext cx="3978360" cy="736560"/>
            <a:chOff x="4932360" y="3141720"/>
            <a:chExt cx="3978360" cy="736560"/>
          </a:xfrm>
        </p:grpSpPr>
        <p:sp>
          <p:nvSpPr>
            <p:cNvPr id="482" name=""/>
            <p:cNvSpPr/>
            <p:nvPr/>
          </p:nvSpPr>
          <p:spPr>
            <a:xfrm>
              <a:off x="4932360" y="3141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4932360" y="3141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"/>
          <p:cNvGrpSpPr/>
          <p:nvPr/>
        </p:nvGrpSpPr>
        <p:grpSpPr>
          <a:xfrm>
            <a:off x="4932360" y="4149720"/>
            <a:ext cx="3978360" cy="736560"/>
            <a:chOff x="4932360" y="4149720"/>
            <a:chExt cx="3978360" cy="736560"/>
          </a:xfrm>
        </p:grpSpPr>
        <p:sp>
          <p:nvSpPr>
            <p:cNvPr id="485" name=""/>
            <p:cNvSpPr/>
            <p:nvPr/>
          </p:nvSpPr>
          <p:spPr>
            <a:xfrm>
              <a:off x="4932360" y="4149720"/>
              <a:ext cx="396108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4932360" y="4149720"/>
                  <a:ext cx="3978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с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747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490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49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847880" y="3004920"/>
                  <a:ext cx="9741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496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924360" y="3746160"/>
                  <a:ext cx="42372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sp>
          <p:nvSpPr>
            <p:cNvPr id="499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638680" y="4444920"/>
                  <a:ext cx="5932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02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7354800" y="5186160"/>
                  <a:ext cx="759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09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6588000" y="2492280"/>
            <a:ext cx="2403720" cy="681120"/>
            <a:chOff x="6588000" y="2492280"/>
            <a:chExt cx="2403720" cy="681120"/>
          </a:xfrm>
        </p:grpSpPr>
        <p:sp>
          <p:nvSpPr>
            <p:cNvPr id="512" name=""/>
            <p:cNvSpPr/>
            <p:nvPr/>
          </p:nvSpPr>
          <p:spPr>
            <a:xfrm>
              <a:off x="6588000" y="253620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6993720" y="2492280"/>
                  <a:ext cx="14911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050920" y="1268280"/>
            <a:ext cx="3611520" cy="765360"/>
            <a:chOff x="2050920" y="1268280"/>
            <a:chExt cx="3611520" cy="765360"/>
          </a:xfrm>
        </p:grpSpPr>
        <p:sp>
          <p:nvSpPr>
            <p:cNvPr id="517" name=""/>
            <p:cNvSpPr/>
            <p:nvPr/>
          </p:nvSpPr>
          <p:spPr>
            <a:xfrm>
              <a:off x="2705040" y="13528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2050920" y="1268280"/>
                  <a:ext cx="36115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520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427360" y="4446360"/>
                  <a:ext cx="10173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2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3755880" y="3725640"/>
                  <a:ext cx="762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26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1995480" y="3004920"/>
                  <a:ext cx="6789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29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7270560" y="5164200"/>
                  <a:ext cx="928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72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740640" y="1916280"/>
            <a:ext cx="2403360" cy="603000"/>
            <a:chOff x="6740640" y="1916280"/>
            <a:chExt cx="2403360" cy="603000"/>
          </a:xfrm>
        </p:grpSpPr>
        <p:sp>
          <p:nvSpPr>
            <p:cNvPr id="536" name=""/>
            <p:cNvSpPr/>
            <p:nvPr/>
          </p:nvSpPr>
          <p:spPr>
            <a:xfrm>
              <a:off x="6740640" y="191736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6989760" y="1916280"/>
                  <a:ext cx="1806480" cy="59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"/>
          <p:cNvGrpSpPr/>
          <p:nvPr/>
        </p:nvGrpSpPr>
        <p:grpSpPr>
          <a:xfrm>
            <a:off x="6740640" y="2492280"/>
            <a:ext cx="2403360" cy="681120"/>
            <a:chOff x="6740640" y="2492280"/>
            <a:chExt cx="2403360" cy="681120"/>
          </a:xfrm>
        </p:grpSpPr>
        <p:sp>
          <p:nvSpPr>
            <p:cNvPr id="539" name=""/>
            <p:cNvSpPr/>
            <p:nvPr/>
          </p:nvSpPr>
          <p:spPr>
            <a:xfrm>
              <a:off x="6740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6967800" y="2492280"/>
                  <a:ext cx="18525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0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7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888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2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3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803240" y="1268280"/>
            <a:ext cx="4106880" cy="765360"/>
            <a:chOff x="1803240" y="1268280"/>
            <a:chExt cx="4106880" cy="765360"/>
          </a:xfrm>
        </p:grpSpPr>
        <p:sp>
          <p:nvSpPr>
            <p:cNvPr id="544" name=""/>
            <p:cNvSpPr/>
            <p:nvPr/>
          </p:nvSpPr>
          <p:spPr>
            <a:xfrm>
              <a:off x="2705040" y="1352880"/>
              <a:ext cx="2403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1803240" y="1268280"/>
                  <a:ext cx="410688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6" name=""/>
          <p:cNvGrpSpPr/>
          <p:nvPr/>
        </p:nvGrpSpPr>
        <p:grpSpPr>
          <a:xfrm>
            <a:off x="5237280" y="4149720"/>
            <a:ext cx="1400040" cy="1296720"/>
            <a:chOff x="5237280" y="4149720"/>
            <a:chExt cx="1400040" cy="1296720"/>
          </a:xfrm>
        </p:grpSpPr>
        <p:sp>
          <p:nvSpPr>
            <p:cNvPr id="547" name=""/>
            <p:cNvSpPr/>
            <p:nvPr/>
          </p:nvSpPr>
          <p:spPr>
            <a:xfrm>
              <a:off x="5292720" y="414972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5237280" y="4403520"/>
                  <a:ext cx="14000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9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550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1892160" y="3004920"/>
                  <a:ext cx="8884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2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553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3625920" y="3682800"/>
                  <a:ext cx="10191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55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354800" y="5164200"/>
                  <a:ext cx="75996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40640" y="1873080"/>
            <a:ext cx="2403360" cy="681120"/>
            <a:chOff x="6740640" y="1873080"/>
            <a:chExt cx="2403360" cy="681120"/>
          </a:xfrm>
        </p:grpSpPr>
        <p:sp>
          <p:nvSpPr>
            <p:cNvPr id="563" name=""/>
            <p:cNvSpPr/>
            <p:nvPr/>
          </p:nvSpPr>
          <p:spPr>
            <a:xfrm>
              <a:off x="6740640" y="19170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6921360" y="1873080"/>
                  <a:ext cx="19429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6443640" y="2492280"/>
            <a:ext cx="2403360" cy="681120"/>
            <a:chOff x="6443640" y="2492280"/>
            <a:chExt cx="2403360" cy="681120"/>
          </a:xfrm>
        </p:grpSpPr>
        <p:sp>
          <p:nvSpPr>
            <p:cNvPr id="566" name=""/>
            <p:cNvSpPr/>
            <p:nvPr/>
          </p:nvSpPr>
          <p:spPr>
            <a:xfrm>
              <a:off x="6443640" y="25362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6940080" y="2492280"/>
                  <a:ext cx="13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7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99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2001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1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1979640" y="1268280"/>
            <a:ext cx="2423880" cy="681120"/>
            <a:chOff x="1979640" y="1268280"/>
            <a:chExt cx="2423880" cy="681120"/>
          </a:xfrm>
        </p:grpSpPr>
        <p:sp>
          <p:nvSpPr>
            <p:cNvPr id="572" name=""/>
            <p:cNvSpPr/>
            <p:nvPr/>
          </p:nvSpPr>
          <p:spPr>
            <a:xfrm>
              <a:off x="1999440" y="13107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979640" y="1268280"/>
                  <a:ext cx="234576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575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5529240" y="2660400"/>
                  <a:ext cx="1652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580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846760" y="4170240"/>
                  <a:ext cx="10177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2556000" y="3860640"/>
            <a:ext cx="2087280" cy="1296720"/>
            <a:chOff x="2556000" y="3860640"/>
            <a:chExt cx="2087280" cy="1296720"/>
          </a:xfrm>
        </p:grpSpPr>
        <p:sp>
          <p:nvSpPr>
            <p:cNvPr id="583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771640" y="4171680"/>
                  <a:ext cx="1692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586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3109680" y="2660400"/>
                  <a:ext cx="10155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8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589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5798160" y="1268280"/>
                  <a:ext cx="15793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1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8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4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2000160" y="1268280"/>
            <a:ext cx="2403720" cy="681120"/>
            <a:chOff x="2000160" y="1268280"/>
            <a:chExt cx="2403720" cy="681120"/>
          </a:xfrm>
        </p:grpSpPr>
        <p:sp>
          <p:nvSpPr>
            <p:cNvPr id="596" name=""/>
            <p:cNvSpPr/>
            <p:nvPr/>
          </p:nvSpPr>
          <p:spPr>
            <a:xfrm>
              <a:off x="2000160" y="13107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046240" y="1268280"/>
                  <a:ext cx="221184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5275440" y="2349360"/>
            <a:ext cx="2160360" cy="1296720"/>
            <a:chOff x="5275440" y="2349360"/>
            <a:chExt cx="2160360" cy="1296720"/>
          </a:xfrm>
        </p:grpSpPr>
        <p:sp>
          <p:nvSpPr>
            <p:cNvPr id="599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275440" y="2660400"/>
                  <a:ext cx="21603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1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556000" y="3860640"/>
            <a:ext cx="2101680" cy="1296720"/>
            <a:chOff x="2556000" y="3860640"/>
            <a:chExt cx="2101680" cy="1296720"/>
          </a:xfrm>
        </p:grpSpPr>
        <p:sp>
          <p:nvSpPr>
            <p:cNvPr id="604" name=""/>
            <p:cNvSpPr/>
            <p:nvPr/>
          </p:nvSpPr>
          <p:spPr>
            <a:xfrm>
              <a:off x="255600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581560" y="4170240"/>
                  <a:ext cx="2076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6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07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5361120" y="4171680"/>
                  <a:ext cx="19890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0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9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10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2771640" y="2660400"/>
                  <a:ext cx="1693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"/>
          <p:cNvGrpSpPr/>
          <p:nvPr/>
        </p:nvGrpSpPr>
        <p:grpSpPr>
          <a:xfrm>
            <a:off x="5435640" y="1268280"/>
            <a:ext cx="2403360" cy="681120"/>
            <a:chOff x="5435640" y="1268280"/>
            <a:chExt cx="2403360" cy="681120"/>
          </a:xfrm>
        </p:grpSpPr>
        <p:sp>
          <p:nvSpPr>
            <p:cNvPr id="613" name=""/>
            <p:cNvSpPr/>
            <p:nvPr/>
          </p:nvSpPr>
          <p:spPr>
            <a:xfrm>
              <a:off x="543564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619600" y="1268280"/>
                  <a:ext cx="193752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5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0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9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160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6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2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8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184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2194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204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кой точке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афики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1889280" y="1268280"/>
            <a:ext cx="2527200" cy="681120"/>
            <a:chOff x="1889280" y="1268280"/>
            <a:chExt cx="2527200" cy="681120"/>
          </a:xfrm>
        </p:grpSpPr>
        <p:sp>
          <p:nvSpPr>
            <p:cNvPr id="620" name=""/>
            <p:cNvSpPr/>
            <p:nvPr/>
          </p:nvSpPr>
          <p:spPr>
            <a:xfrm>
              <a:off x="2000520" y="1310760"/>
              <a:ext cx="24022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1889280" y="1268280"/>
                  <a:ext cx="25272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"/>
          <p:cNvGrpSpPr/>
          <p:nvPr/>
        </p:nvGrpSpPr>
        <p:grpSpPr>
          <a:xfrm>
            <a:off x="2573280" y="3860640"/>
            <a:ext cx="2087640" cy="1296720"/>
            <a:chOff x="2573280" y="3860640"/>
            <a:chExt cx="2087640" cy="1296720"/>
          </a:xfrm>
        </p:grpSpPr>
        <p:sp>
          <p:nvSpPr>
            <p:cNvPr id="623" name=""/>
            <p:cNvSpPr/>
            <p:nvPr/>
          </p:nvSpPr>
          <p:spPr>
            <a:xfrm>
              <a:off x="257328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957400" y="4171680"/>
                  <a:ext cx="1355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628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5486400" y="2658960"/>
                  <a:ext cx="1738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631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5340240" y="4171680"/>
                  <a:ext cx="2032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"/>
          <p:cNvGrpSpPr/>
          <p:nvPr/>
        </p:nvGrpSpPr>
        <p:grpSpPr>
          <a:xfrm>
            <a:off x="2556000" y="2349360"/>
            <a:ext cx="2087280" cy="1296720"/>
            <a:chOff x="2556000" y="2349360"/>
            <a:chExt cx="2087280" cy="1296720"/>
          </a:xfrm>
        </p:grpSpPr>
        <p:sp>
          <p:nvSpPr>
            <p:cNvPr id="634" name=""/>
            <p:cNvSpPr/>
            <p:nvPr/>
          </p:nvSpPr>
          <p:spPr>
            <a:xfrm>
              <a:off x="2556000" y="2349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"/>
                <p:cNvSpPr txBox="1"/>
                <p:nvPr/>
              </p:nvSpPr>
              <p:spPr>
                <a:xfrm>
                  <a:off x="2792160" y="2660400"/>
                  <a:ext cx="1652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6" name=""/>
          <p:cNvGrpSpPr/>
          <p:nvPr/>
        </p:nvGrpSpPr>
        <p:grpSpPr>
          <a:xfrm>
            <a:off x="5724360" y="1268280"/>
            <a:ext cx="2838600" cy="681120"/>
            <a:chOff x="5724360" y="1268280"/>
            <a:chExt cx="2838600" cy="681120"/>
          </a:xfrm>
        </p:grpSpPr>
        <p:sp>
          <p:nvSpPr>
            <p:cNvPr id="637" name=""/>
            <p:cNvSpPr/>
            <p:nvPr/>
          </p:nvSpPr>
          <p:spPr>
            <a:xfrm>
              <a:off x="5989320" y="131076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724360" y="1268280"/>
                  <a:ext cx="28386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,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9" name=""/>
          <p:cNvSpPr/>
          <p:nvPr/>
        </p:nvSpPr>
        <p:spPr>
          <a:xfrm>
            <a:off x="4716360" y="1197000"/>
            <a:ext cx="647640" cy="698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0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7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278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28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24360" y="2492280"/>
            <a:ext cx="2448000" cy="722160"/>
            <a:chOff x="5724360" y="2492280"/>
            <a:chExt cx="2448000" cy="722160"/>
          </a:xfrm>
        </p:grpSpPr>
        <p:sp>
          <p:nvSpPr>
            <p:cNvPr id="643" name=""/>
            <p:cNvSpPr/>
            <p:nvPr/>
          </p:nvSpPr>
          <p:spPr>
            <a:xfrm>
              <a:off x="5724360" y="249228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5967000" y="2522520"/>
                  <a:ext cx="19069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5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695920" y="3429000"/>
            <a:ext cx="2476080" cy="723960"/>
            <a:chOff x="5695920" y="3429000"/>
            <a:chExt cx="2476080" cy="723960"/>
          </a:xfrm>
        </p:grpSpPr>
        <p:sp>
          <p:nvSpPr>
            <p:cNvPr id="648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5695920" y="3459240"/>
                  <a:ext cx="2452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0" name=""/>
          <p:cNvGrpSpPr/>
          <p:nvPr/>
        </p:nvGrpSpPr>
        <p:grpSpPr>
          <a:xfrm>
            <a:off x="5724360" y="4437000"/>
            <a:ext cx="2448000" cy="723960"/>
            <a:chOff x="5724360" y="4437000"/>
            <a:chExt cx="2448000" cy="723960"/>
          </a:xfrm>
        </p:grpSpPr>
        <p:sp>
          <p:nvSpPr>
            <p:cNvPr id="651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5822640" y="4467240"/>
                  <a:ext cx="2200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"/>
          <p:cNvGrpSpPr/>
          <p:nvPr/>
        </p:nvGrpSpPr>
        <p:grpSpPr>
          <a:xfrm>
            <a:off x="5724360" y="5445000"/>
            <a:ext cx="2448000" cy="722160"/>
            <a:chOff x="5724360" y="5445000"/>
            <a:chExt cx="2448000" cy="722160"/>
          </a:xfrm>
        </p:grpSpPr>
        <p:sp>
          <p:nvSpPr>
            <p:cNvPr id="654" name=""/>
            <p:cNvSpPr/>
            <p:nvPr/>
          </p:nvSpPr>
          <p:spPr>
            <a:xfrm>
              <a:off x="5724360" y="5445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5949720" y="5475240"/>
                  <a:ext cx="194616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56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346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356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6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084720" y="1413000"/>
            <a:ext cx="2403720" cy="2000160"/>
            <a:chOff x="6084720" y="1413000"/>
            <a:chExt cx="2403720" cy="2000160"/>
          </a:xfrm>
        </p:grpSpPr>
        <p:sp>
          <p:nvSpPr>
            <p:cNvPr id="94" name=""/>
            <p:cNvSpPr/>
            <p:nvPr/>
          </p:nvSpPr>
          <p:spPr>
            <a:xfrm>
              <a:off x="6084720" y="2114280"/>
              <a:ext cx="24037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219360" y="1413000"/>
                  <a:ext cx="2031840" cy="20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r>
                            <m:t xml:space="preserve">2,5</m:t>
                          </m:r>
                          <m:r>
                            <m:t xml:space="preserve">−</m:t>
                          </m:r>
                          <m:r>
                            <m:t xml:space="preserve">4,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1692360" y="2637000"/>
            <a:ext cx="1295280" cy="1368360"/>
            <a:chOff x="1692360" y="2637000"/>
            <a:chExt cx="1295280" cy="1368360"/>
          </a:xfrm>
        </p:grpSpPr>
        <p:sp>
          <p:nvSpPr>
            <p:cNvPr id="97" name=""/>
            <p:cNvSpPr/>
            <p:nvPr/>
          </p:nvSpPr>
          <p:spPr>
            <a:xfrm>
              <a:off x="1692360" y="270864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2101680" y="2637000"/>
                  <a:ext cx="46476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5292720" y="4076640"/>
            <a:ext cx="1295280" cy="1368360"/>
            <a:chOff x="5292720" y="4076640"/>
            <a:chExt cx="1295280" cy="1368360"/>
          </a:xfrm>
        </p:grpSpPr>
        <p:sp>
          <p:nvSpPr>
            <p:cNvPr id="100" name=""/>
            <p:cNvSpPr/>
            <p:nvPr/>
          </p:nvSpPr>
          <p:spPr>
            <a:xfrm>
              <a:off x="5292720" y="414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511600" y="4076640"/>
                  <a:ext cx="8474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3419640" y="3357720"/>
            <a:ext cx="1295280" cy="1368360"/>
            <a:chOff x="3419640" y="3357720"/>
            <a:chExt cx="1295280" cy="1368360"/>
          </a:xfrm>
        </p:grpSpPr>
        <p:sp>
          <p:nvSpPr>
            <p:cNvPr id="103" name=""/>
            <p:cNvSpPr/>
            <p:nvPr/>
          </p:nvSpPr>
          <p:spPr>
            <a:xfrm>
              <a:off x="3419640" y="342936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11440" y="3357720"/>
                  <a:ext cx="11012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0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165800" y="5122800"/>
                  <a:ext cx="11412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724360" y="4437000"/>
            <a:ext cx="2448000" cy="722160"/>
            <a:chOff x="5724360" y="4437000"/>
            <a:chExt cx="2448000" cy="722160"/>
          </a:xfrm>
        </p:grpSpPr>
        <p:sp>
          <p:nvSpPr>
            <p:cNvPr id="662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883120" y="4467240"/>
                  <a:ext cx="20746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4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724360" y="3429000"/>
            <a:ext cx="2448000" cy="723960"/>
            <a:chOff x="5724360" y="3429000"/>
            <a:chExt cx="2448000" cy="723960"/>
          </a:xfrm>
        </p:grpSpPr>
        <p:sp>
          <p:nvSpPr>
            <p:cNvPr id="667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886360" y="3459240"/>
                  <a:ext cx="20714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70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5864040" y="2451240"/>
                  <a:ext cx="2116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2" name=""/>
          <p:cNvGrpSpPr/>
          <p:nvPr/>
        </p:nvGrpSpPr>
        <p:grpSpPr>
          <a:xfrm>
            <a:off x="5695920" y="5445000"/>
            <a:ext cx="2476080" cy="722160"/>
            <a:chOff x="5695920" y="5445000"/>
            <a:chExt cx="2476080" cy="722160"/>
          </a:xfrm>
        </p:grpSpPr>
        <p:sp>
          <p:nvSpPr>
            <p:cNvPr id="673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5695920" y="5475240"/>
                  <a:ext cx="24541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75" name=""/>
          <p:cNvGraphicFramePr/>
          <p:nvPr/>
        </p:nvGraphicFramePr>
        <p:xfrm>
          <a:off x="885960" y="1125360"/>
          <a:ext cx="3087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125360"/>
                    <a:ext cx="3087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0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5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426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5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436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44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3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несите функцию, зад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ормулой с граф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15000" y="5445000"/>
            <a:ext cx="2457000" cy="722160"/>
            <a:chOff x="5715000" y="5445000"/>
            <a:chExt cx="2457000" cy="722160"/>
          </a:xfrm>
        </p:grpSpPr>
        <p:sp>
          <p:nvSpPr>
            <p:cNvPr id="681" name=""/>
            <p:cNvSpPr/>
            <p:nvPr/>
          </p:nvSpPr>
          <p:spPr>
            <a:xfrm>
              <a:off x="5724360" y="5445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5715000" y="5475240"/>
                  <a:ext cx="24127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3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675400" y="3429000"/>
            <a:ext cx="2496600" cy="723960"/>
            <a:chOff x="5675400" y="3429000"/>
            <a:chExt cx="2496600" cy="723960"/>
          </a:xfrm>
        </p:grpSpPr>
        <p:sp>
          <p:nvSpPr>
            <p:cNvPr id="686" name=""/>
            <p:cNvSpPr/>
            <p:nvPr/>
          </p:nvSpPr>
          <p:spPr>
            <a:xfrm>
              <a:off x="5724360" y="3429000"/>
              <a:ext cx="244764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5675400" y="3459240"/>
                  <a:ext cx="2493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8" name=""/>
          <p:cNvGrpSpPr/>
          <p:nvPr/>
        </p:nvGrpSpPr>
        <p:grpSpPr>
          <a:xfrm>
            <a:off x="5724360" y="2421000"/>
            <a:ext cx="2448000" cy="723960"/>
            <a:chOff x="5724360" y="2421000"/>
            <a:chExt cx="2448000" cy="723960"/>
          </a:xfrm>
        </p:grpSpPr>
        <p:sp>
          <p:nvSpPr>
            <p:cNvPr id="689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757480" y="2451240"/>
                  <a:ext cx="23288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1" name=""/>
          <p:cNvGrpSpPr/>
          <p:nvPr/>
        </p:nvGrpSpPr>
        <p:grpSpPr>
          <a:xfrm>
            <a:off x="5745240" y="4437000"/>
            <a:ext cx="2455920" cy="722160"/>
            <a:chOff x="5745240" y="4437000"/>
            <a:chExt cx="2455920" cy="722160"/>
          </a:xfrm>
        </p:grpSpPr>
        <p:sp>
          <p:nvSpPr>
            <p:cNvPr id="692" name=""/>
            <p:cNvSpPr/>
            <p:nvPr/>
          </p:nvSpPr>
          <p:spPr>
            <a:xfrm>
              <a:off x="57531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5745240" y="4467240"/>
                  <a:ext cx="241128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950760" y="1125360"/>
          <a:ext cx="295776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125360"/>
                    <a:ext cx="29577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7" dur="indefinite" restart="never" nodeType="tmRoot">
          <p:childTnLst>
            <p:seq>
              <p:cTn id="2478" dur="indefinite" nodeType="mainSeq">
                <p:childTnLst>
                  <p:par>
                    <p:cTn id="2479" fill="hold">
                      <p:stCondLst>
                        <p:cond delay="0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5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506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51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5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526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2536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8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3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179280" y="2349360"/>
            <a:ext cx="3567240" cy="1533600"/>
            <a:chOff x="179280" y="2349360"/>
            <a:chExt cx="3567240" cy="1533600"/>
          </a:xfrm>
        </p:grpSpPr>
        <p:sp>
          <p:nvSpPr>
            <p:cNvPr id="701" name=""/>
            <p:cNvSpPr/>
            <p:nvPr/>
          </p:nvSpPr>
          <p:spPr>
            <a:xfrm>
              <a:off x="810720" y="281916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179280" y="2349360"/>
                  <a:ext cx="356724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04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7306920" y="2293920"/>
                  <a:ext cx="974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6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09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7499160" y="3803400"/>
                  <a:ext cx="5918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12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4676760" y="3805200"/>
                  <a:ext cx="7617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3995640" y="1917720"/>
            <a:ext cx="2087640" cy="1296720"/>
            <a:chOff x="3995640" y="1917720"/>
            <a:chExt cx="2087640" cy="1296720"/>
          </a:xfrm>
        </p:grpSpPr>
        <p:sp>
          <p:nvSpPr>
            <p:cNvPr id="715" name=""/>
            <p:cNvSpPr/>
            <p:nvPr/>
          </p:nvSpPr>
          <p:spPr>
            <a:xfrm>
              <a:off x="3995640" y="191772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4719600" y="2292120"/>
                  <a:ext cx="67788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7" name=""/>
          <p:cNvSpPr/>
          <p:nvPr/>
        </p:nvSpPr>
        <p:spPr>
          <a:xfrm>
            <a:off x="4952520" y="1197000"/>
            <a:ext cx="282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+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2603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9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2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5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1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6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2627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6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637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6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2647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539640" y="2349360"/>
            <a:ext cx="2845080" cy="1533600"/>
            <a:chOff x="539640" y="2349360"/>
            <a:chExt cx="2845080" cy="1533600"/>
          </a:xfrm>
        </p:grpSpPr>
        <p:sp>
          <p:nvSpPr>
            <p:cNvPr id="722" name=""/>
            <p:cNvSpPr/>
            <p:nvPr/>
          </p:nvSpPr>
          <p:spPr>
            <a:xfrm>
              <a:off x="810000" y="2819160"/>
              <a:ext cx="24044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"/>
                <p:cNvSpPr txBox="1"/>
                <p:nvPr/>
              </p:nvSpPr>
              <p:spPr>
                <a:xfrm>
                  <a:off x="539640" y="2349360"/>
                  <a:ext cx="284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4" name=""/>
          <p:cNvGrpSpPr/>
          <p:nvPr/>
        </p:nvGrpSpPr>
        <p:grpSpPr>
          <a:xfrm>
            <a:off x="6732720" y="1917720"/>
            <a:ext cx="2087280" cy="1296720"/>
            <a:chOff x="6732720" y="1917720"/>
            <a:chExt cx="2087280" cy="1296720"/>
          </a:xfrm>
        </p:grpSpPr>
        <p:sp>
          <p:nvSpPr>
            <p:cNvPr id="725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7581600" y="2293920"/>
                  <a:ext cx="4237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7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40000" y="5445000"/>
            <a:ext cx="302400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995640" y="1989000"/>
            <a:ext cx="2087640" cy="1296720"/>
            <a:chOff x="3995640" y="1989000"/>
            <a:chExt cx="2087640" cy="1296720"/>
          </a:xfrm>
        </p:grpSpPr>
        <p:sp>
          <p:nvSpPr>
            <p:cNvPr id="730" name=""/>
            <p:cNvSpPr/>
            <p:nvPr/>
          </p:nvSpPr>
          <p:spPr>
            <a:xfrm>
              <a:off x="399564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4678200" y="2363400"/>
                  <a:ext cx="7621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2" name=""/>
          <p:cNvGrpSpPr/>
          <p:nvPr/>
        </p:nvGrpSpPr>
        <p:grpSpPr>
          <a:xfrm>
            <a:off x="3995640" y="3429000"/>
            <a:ext cx="2087640" cy="1296720"/>
            <a:chOff x="3995640" y="3429000"/>
            <a:chExt cx="2087640" cy="1296720"/>
          </a:xfrm>
        </p:grpSpPr>
        <p:sp>
          <p:nvSpPr>
            <p:cNvPr id="733" name=""/>
            <p:cNvSpPr/>
            <p:nvPr/>
          </p:nvSpPr>
          <p:spPr>
            <a:xfrm>
              <a:off x="399564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4867200" y="3805200"/>
                  <a:ext cx="3808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5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36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4952520" y="1197000"/>
            <a:ext cx="27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ru-RU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0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1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2692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8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4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0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5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2716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5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2726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050920" y="189000"/>
            <a:ext cx="6842160" cy="936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;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решени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ней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495360" y="2349360"/>
            <a:ext cx="2935080" cy="1533600"/>
            <a:chOff x="495360" y="2349360"/>
            <a:chExt cx="2935080" cy="1533600"/>
          </a:xfrm>
        </p:grpSpPr>
        <p:sp>
          <p:nvSpPr>
            <p:cNvPr id="743" name=""/>
            <p:cNvSpPr/>
            <p:nvPr/>
          </p:nvSpPr>
          <p:spPr>
            <a:xfrm>
              <a:off x="810000" y="281916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495360" y="2349360"/>
                  <a:ext cx="2935080" cy="15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732720" y="1917720"/>
            <a:ext cx="2087280" cy="1350720"/>
            <a:chOff x="6732720" y="1917720"/>
            <a:chExt cx="2087280" cy="1350720"/>
          </a:xfrm>
        </p:grpSpPr>
        <p:sp>
          <p:nvSpPr>
            <p:cNvPr id="746" name=""/>
            <p:cNvSpPr/>
            <p:nvPr/>
          </p:nvSpPr>
          <p:spPr>
            <a:xfrm>
              <a:off x="6732720" y="191772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243560" y="1925640"/>
                  <a:ext cx="11012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924360" y="3429000"/>
            <a:ext cx="2087640" cy="1296720"/>
            <a:chOff x="3924360" y="3429000"/>
            <a:chExt cx="2087640" cy="1296720"/>
          </a:xfrm>
        </p:grpSpPr>
        <p:sp>
          <p:nvSpPr>
            <p:cNvPr id="751" name=""/>
            <p:cNvSpPr/>
            <p:nvPr/>
          </p:nvSpPr>
          <p:spPr>
            <a:xfrm>
              <a:off x="3924360" y="342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4416480" y="3760560"/>
                  <a:ext cx="114300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"/>
          <p:cNvGrpSpPr/>
          <p:nvPr/>
        </p:nvGrpSpPr>
        <p:grpSpPr>
          <a:xfrm>
            <a:off x="3924360" y="1989000"/>
            <a:ext cx="2087640" cy="1296720"/>
            <a:chOff x="3924360" y="1989000"/>
            <a:chExt cx="2087640" cy="1296720"/>
          </a:xfrm>
        </p:grpSpPr>
        <p:sp>
          <p:nvSpPr>
            <p:cNvPr id="754" name=""/>
            <p:cNvSpPr/>
            <p:nvPr/>
          </p:nvSpPr>
          <p:spPr>
            <a:xfrm>
              <a:off x="3924360" y="198900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4415040" y="2322360"/>
                  <a:ext cx="114300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6" name=""/>
          <p:cNvGrpSpPr/>
          <p:nvPr/>
        </p:nvGrpSpPr>
        <p:grpSpPr>
          <a:xfrm>
            <a:off x="6732720" y="3429000"/>
            <a:ext cx="2087280" cy="1296720"/>
            <a:chOff x="6732720" y="3429000"/>
            <a:chExt cx="2087280" cy="1296720"/>
          </a:xfrm>
        </p:grpSpPr>
        <p:sp>
          <p:nvSpPr>
            <p:cNvPr id="757" name=""/>
            <p:cNvSpPr/>
            <p:nvPr/>
          </p:nvSpPr>
          <p:spPr>
            <a:xfrm>
              <a:off x="6732720" y="342900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8" name=""/>
                <p:cNvSpPr txBox="1"/>
                <p:nvPr/>
              </p:nvSpPr>
              <p:spPr>
                <a:xfrm>
                  <a:off x="7413480" y="3824280"/>
                  <a:ext cx="76320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9" name=""/>
          <p:cNvSpPr/>
          <p:nvPr/>
        </p:nvSpPr>
        <p:spPr>
          <a:xfrm>
            <a:off x="4952520" y="1197000"/>
            <a:ext cx="274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у</a:t>
            </a:r>
            <a:r>
              <a:rPr b="1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5" dur="indefinite" restart="never" nodeType="tmRoot">
          <p:childTnLst>
            <p:seq>
              <p:cTn id="2746" dur="indefinite" nodeType="mainSeq">
                <p:childTnLst>
                  <p:par>
                    <p:cTn id="2747" fill="hold">
                      <p:stCondLst>
                        <p:cond delay="0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0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781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99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4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2805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281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4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2825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31720" y="1268280"/>
            <a:ext cx="2392560" cy="1170000"/>
            <a:chOff x="531720" y="1268280"/>
            <a:chExt cx="2392560" cy="1170000"/>
          </a:xfrm>
        </p:grpSpPr>
        <p:sp>
          <p:nvSpPr>
            <p:cNvPr id="763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531720" y="1268280"/>
                  <a:ext cx="239256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5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68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0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72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4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776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8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781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3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0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6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2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6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2867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6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288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1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2902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82480" y="1268280"/>
            <a:ext cx="2289240" cy="1170000"/>
            <a:chOff x="582480" y="1268280"/>
            <a:chExt cx="2289240" cy="1170000"/>
          </a:xfrm>
        </p:grpSpPr>
        <p:sp>
          <p:nvSpPr>
            <p:cNvPr id="787" name=""/>
            <p:cNvSpPr/>
            <p:nvPr/>
          </p:nvSpPr>
          <p:spPr>
            <a:xfrm>
              <a:off x="843480" y="1625760"/>
              <a:ext cx="184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8" name=""/>
                <p:cNvSpPr txBox="1"/>
                <p:nvPr/>
              </p:nvSpPr>
              <p:spPr>
                <a:xfrm>
                  <a:off x="582480" y="1268280"/>
                  <a:ext cx="228924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9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792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4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796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8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5003640" y="2863800"/>
            <a:ext cx="2540160" cy="2786040"/>
            <a:chOff x="5003640" y="2863800"/>
            <a:chExt cx="2540160" cy="2786040"/>
          </a:xfrm>
        </p:grpSpPr>
        <p:graphicFrame>
          <p:nvGraphicFramePr>
            <p:cNvPr id="800" name=""/>
            <p:cNvGraphicFramePr/>
            <p:nvPr/>
          </p:nvGraphicFramePr>
          <p:xfrm>
            <a:off x="5003640" y="2863800"/>
            <a:ext cx="2540160" cy="2786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863800"/>
                      <a:ext cx="2540160" cy="27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2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05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7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1" dur="indefinite" restart="never" nodeType="tmRoot">
          <p:childTnLst>
            <p:seq>
              <p:cTn id="2912" dur="indefinite" nodeType="mainSeq">
                <p:childTnLst>
                  <p:par>
                    <p:cTn id="2913" fill="hold">
                      <p:stCondLst>
                        <p:cond delay="0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3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293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3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2944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3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2954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6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8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969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66920" y="189000"/>
            <a:ext cx="7777080" cy="863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каком из рисунков изображено граф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ы линейных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4000" y="1268280"/>
            <a:ext cx="2808000" cy="1170000"/>
            <a:chOff x="324000" y="1268280"/>
            <a:chExt cx="2808000" cy="1170000"/>
          </a:xfrm>
        </p:grpSpPr>
        <p:sp>
          <p:nvSpPr>
            <p:cNvPr id="811" name=""/>
            <p:cNvSpPr/>
            <p:nvPr/>
          </p:nvSpPr>
          <p:spPr>
            <a:xfrm>
              <a:off x="843120" y="1625760"/>
              <a:ext cx="1844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24000" y="1268280"/>
                  <a:ext cx="280800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3" name=""/>
          <p:cNvSpPr/>
          <p:nvPr/>
        </p:nvSpPr>
        <p:spPr>
          <a:xfrm>
            <a:off x="2195640" y="573408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3276720" y="1125360"/>
            <a:ext cx="2808000" cy="2681640"/>
            <a:chOff x="3276720" y="1125360"/>
            <a:chExt cx="2808000" cy="2681640"/>
          </a:xfrm>
        </p:grpSpPr>
        <p:graphicFrame>
          <p:nvGraphicFramePr>
            <p:cNvPr id="816" name=""/>
            <p:cNvGraphicFramePr/>
            <p:nvPr/>
          </p:nvGraphicFramePr>
          <p:xfrm>
            <a:off x="3276720" y="1125360"/>
            <a:ext cx="2808000" cy="268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1125360"/>
                      <a:ext cx="28080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8" name=""/>
            <p:cNvSpPr/>
            <p:nvPr/>
          </p:nvSpPr>
          <p:spPr>
            <a:xfrm>
              <a:off x="3348000" y="119700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411960" y="1125360"/>
            <a:ext cx="2732040" cy="2737080"/>
            <a:chOff x="6411960" y="1125360"/>
            <a:chExt cx="2732040" cy="2737080"/>
          </a:xfrm>
        </p:grpSpPr>
        <p:graphicFrame>
          <p:nvGraphicFramePr>
            <p:cNvPr id="820" name=""/>
            <p:cNvGraphicFramePr/>
            <p:nvPr/>
          </p:nvGraphicFramePr>
          <p:xfrm>
            <a:off x="6411960" y="1125360"/>
            <a:ext cx="2732040" cy="273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11960" y="1125360"/>
                      <a:ext cx="273204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>
              <a:off x="8532720" y="328464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003640" y="2924280"/>
            <a:ext cx="2540160" cy="2665440"/>
            <a:chOff x="5003640" y="2924280"/>
            <a:chExt cx="2540160" cy="2665440"/>
          </a:xfrm>
        </p:grpSpPr>
        <p:graphicFrame>
          <p:nvGraphicFramePr>
            <p:cNvPr id="824" name=""/>
            <p:cNvGraphicFramePr/>
            <p:nvPr/>
          </p:nvGraphicFramePr>
          <p:xfrm>
            <a:off x="5003640" y="2924280"/>
            <a:ext cx="2540160" cy="2665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2924280"/>
                      <a:ext cx="2540160" cy="26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6732720" y="501336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2916360" y="6020640"/>
            <a:ext cx="1873080" cy="576360"/>
          </a:xfrm>
          <a:prstGeom prst="wedgeRectCallout">
            <a:avLst>
              <a:gd name="adj1" fmla="val -123476"/>
              <a:gd name="adj2" fmla="val 123000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63640" y="2924280"/>
            <a:ext cx="2608200" cy="2736720"/>
            <a:chOff x="1763640" y="2924280"/>
            <a:chExt cx="2608200" cy="2736720"/>
          </a:xfrm>
        </p:grpSpPr>
        <p:graphicFrame>
          <p:nvGraphicFramePr>
            <p:cNvPr id="829" name=""/>
            <p:cNvGraphicFramePr/>
            <p:nvPr/>
          </p:nvGraphicFramePr>
          <p:xfrm>
            <a:off x="1763640" y="2924280"/>
            <a:ext cx="2608200" cy="273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63640" y="2924280"/>
                      <a:ext cx="260820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1" name=""/>
            <p:cNvSpPr/>
            <p:nvPr/>
          </p:nvSpPr>
          <p:spPr>
            <a:xfrm>
              <a:off x="1903320" y="472608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fill="hold">
                      <p:stCondLst>
                        <p:cond delay="0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9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1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5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3026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5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036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304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854360" y="1204920"/>
            <a:ext cx="4965480" cy="1447920"/>
            <a:chOff x="1854360" y="1204920"/>
            <a:chExt cx="4965480" cy="1447920"/>
          </a:xfrm>
        </p:grpSpPr>
        <p:sp>
          <p:nvSpPr>
            <p:cNvPr id="114" name=""/>
            <p:cNvSpPr/>
            <p:nvPr/>
          </p:nvSpPr>
          <p:spPr>
            <a:xfrm>
              <a:off x="3185280" y="1629720"/>
              <a:ext cx="240300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854360" y="1204920"/>
                  <a:ext cx="496548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r>
                        <m:t xml:space="preserve">7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5292720" y="4149720"/>
            <a:ext cx="1295280" cy="1296720"/>
            <a:chOff x="5292720" y="4149720"/>
            <a:chExt cx="1295280" cy="1296720"/>
          </a:xfrm>
        </p:grpSpPr>
        <p:sp>
          <p:nvSpPr>
            <p:cNvPr id="117" name=""/>
            <p:cNvSpPr/>
            <p:nvPr/>
          </p:nvSpPr>
          <p:spPr>
            <a:xfrm>
              <a:off x="5292720" y="414972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321160" y="4402080"/>
                  <a:ext cx="12283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3492360" y="3429000"/>
            <a:ext cx="1295640" cy="1296720"/>
            <a:chOff x="3492360" y="3429000"/>
            <a:chExt cx="1295640" cy="1296720"/>
          </a:xfrm>
        </p:grpSpPr>
        <p:sp>
          <p:nvSpPr>
            <p:cNvPr id="120" name=""/>
            <p:cNvSpPr/>
            <p:nvPr/>
          </p:nvSpPr>
          <p:spPr>
            <a:xfrm>
              <a:off x="3492360" y="3429000"/>
              <a:ext cx="1295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500280" y="3682800"/>
                  <a:ext cx="12718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" name=""/>
          <p:cNvGrpSpPr/>
          <p:nvPr/>
        </p:nvGrpSpPr>
        <p:grpSpPr>
          <a:xfrm>
            <a:off x="1692360" y="2708280"/>
            <a:ext cx="1295280" cy="1296720"/>
            <a:chOff x="1692360" y="2708280"/>
            <a:chExt cx="1295280" cy="1296720"/>
          </a:xfrm>
        </p:grpSpPr>
        <p:sp>
          <p:nvSpPr>
            <p:cNvPr id="123" name=""/>
            <p:cNvSpPr/>
            <p:nvPr/>
          </p:nvSpPr>
          <p:spPr>
            <a:xfrm>
              <a:off x="1692360" y="270828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1827000" y="2960640"/>
                  <a:ext cx="10155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sp>
          <p:nvSpPr>
            <p:cNvPr id="126" name=""/>
            <p:cNvSpPr/>
            <p:nvPr/>
          </p:nvSpPr>
          <p:spPr>
            <a:xfrm>
              <a:off x="7093080" y="4869000"/>
              <a:ext cx="1295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227720" y="5122800"/>
                  <a:ext cx="10155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58800" y="1268280"/>
            <a:ext cx="5554800" cy="1319400"/>
            <a:chOff x="1558800" y="1268280"/>
            <a:chExt cx="5554800" cy="1319400"/>
          </a:xfrm>
        </p:grpSpPr>
        <p:sp>
          <p:nvSpPr>
            <p:cNvPr id="13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558800" y="1268280"/>
                  <a:ext cx="555480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с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5724360" y="4437000"/>
            <a:ext cx="2448000" cy="720720"/>
            <a:chOff x="5724360" y="4437000"/>
            <a:chExt cx="2448000" cy="720720"/>
          </a:xfrm>
        </p:grpSpPr>
        <p:sp>
          <p:nvSpPr>
            <p:cNvPr id="136" name=""/>
            <p:cNvSpPr/>
            <p:nvPr/>
          </p:nvSpPr>
          <p:spPr>
            <a:xfrm>
              <a:off x="5724360" y="4437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243480" y="4510080"/>
                  <a:ext cx="1353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4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6519600" y="3567240"/>
                  <a:ext cx="8031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" name=""/>
          <p:cNvGrpSpPr/>
          <p:nvPr/>
        </p:nvGrpSpPr>
        <p:grpSpPr>
          <a:xfrm>
            <a:off x="5724360" y="2421000"/>
            <a:ext cx="2448000" cy="720720"/>
            <a:chOff x="5724360" y="2421000"/>
            <a:chExt cx="2448000" cy="720720"/>
          </a:xfrm>
        </p:grpSpPr>
        <p:sp>
          <p:nvSpPr>
            <p:cNvPr id="145" name=""/>
            <p:cNvSpPr/>
            <p:nvPr/>
          </p:nvSpPr>
          <p:spPr>
            <a:xfrm>
              <a:off x="5724360" y="2421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054480" y="2494080"/>
                  <a:ext cx="17352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t xml:space="preserve">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4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44920" y="5662800"/>
                  <a:ext cx="13543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4160" y="1268280"/>
            <a:ext cx="5824440" cy="1319400"/>
            <a:chOff x="1424160" y="1268280"/>
            <a:chExt cx="5824440" cy="1319400"/>
          </a:xfrm>
        </p:grpSpPr>
        <p:sp>
          <p:nvSpPr>
            <p:cNvPr id="153" name=""/>
            <p:cNvSpPr/>
            <p:nvPr/>
          </p:nvSpPr>
          <p:spPr>
            <a:xfrm>
              <a:off x="3184560" y="16297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424160" y="1268280"/>
                  <a:ext cx="58244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5724360" y="2349360"/>
            <a:ext cx="2448000" cy="720720"/>
            <a:chOff x="5724360" y="2349360"/>
            <a:chExt cx="2448000" cy="720720"/>
          </a:xfrm>
        </p:grpSpPr>
        <p:sp>
          <p:nvSpPr>
            <p:cNvPr id="156" name=""/>
            <p:cNvSpPr/>
            <p:nvPr/>
          </p:nvSpPr>
          <p:spPr>
            <a:xfrm>
              <a:off x="5724360" y="234936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6011640" y="2422440"/>
                  <a:ext cx="18190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sp>
          <p:nvSpPr>
            <p:cNvPr id="162" name=""/>
            <p:cNvSpPr/>
            <p:nvPr/>
          </p:nvSpPr>
          <p:spPr>
            <a:xfrm>
              <a:off x="5724360" y="342900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991120" y="350208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5724360" y="4508640"/>
            <a:ext cx="2448000" cy="720720"/>
            <a:chOff x="5724360" y="4508640"/>
            <a:chExt cx="2448000" cy="720720"/>
          </a:xfrm>
        </p:grpSpPr>
        <p:sp>
          <p:nvSpPr>
            <p:cNvPr id="165" name=""/>
            <p:cNvSpPr/>
            <p:nvPr/>
          </p:nvSpPr>
          <p:spPr>
            <a:xfrm>
              <a:off x="5724360" y="450864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5991120" y="4581720"/>
                  <a:ext cx="18619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sp>
          <p:nvSpPr>
            <p:cNvPr id="168" name=""/>
            <p:cNvSpPr/>
            <p:nvPr/>
          </p:nvSpPr>
          <p:spPr>
            <a:xfrm>
              <a:off x="5724360" y="5589720"/>
              <a:ext cx="244800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970240" y="5662800"/>
                  <a:ext cx="19036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d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14320" y="1204920"/>
            <a:ext cx="7043760" cy="1447920"/>
            <a:chOff x="814320" y="1204920"/>
            <a:chExt cx="7043760" cy="1447920"/>
          </a:xfrm>
        </p:grpSpPr>
        <p:sp>
          <p:nvSpPr>
            <p:cNvPr id="173" name=""/>
            <p:cNvSpPr/>
            <p:nvPr/>
          </p:nvSpPr>
          <p:spPr>
            <a:xfrm>
              <a:off x="3184200" y="1629720"/>
              <a:ext cx="240408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14320" y="1204920"/>
                  <a:ext cx="70437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,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den>
                          </m:f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763640" y="3860640"/>
            <a:ext cx="3166920" cy="763560"/>
            <a:chOff x="1763640" y="3860640"/>
            <a:chExt cx="3166920" cy="763560"/>
          </a:xfrm>
        </p:grpSpPr>
        <p:sp>
          <p:nvSpPr>
            <p:cNvPr id="176" name=""/>
            <p:cNvSpPr/>
            <p:nvPr/>
          </p:nvSpPr>
          <p:spPr>
            <a:xfrm>
              <a:off x="1763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34920" y="3931920"/>
                  <a:ext cx="29196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63640" y="2781360"/>
            <a:ext cx="3166920" cy="763560"/>
            <a:chOff x="1763640" y="2781360"/>
            <a:chExt cx="3166920" cy="763560"/>
          </a:xfrm>
        </p:grpSpPr>
        <p:sp>
          <p:nvSpPr>
            <p:cNvPr id="182" name=""/>
            <p:cNvSpPr/>
            <p:nvPr/>
          </p:nvSpPr>
          <p:spPr>
            <a:xfrm>
              <a:off x="1763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447640" y="2852640"/>
                  <a:ext cx="16923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5435640" y="3860640"/>
            <a:ext cx="3166920" cy="763560"/>
            <a:chOff x="5435640" y="3860640"/>
            <a:chExt cx="3166920" cy="763560"/>
          </a:xfrm>
        </p:grpSpPr>
        <p:sp>
          <p:nvSpPr>
            <p:cNvPr id="185" name=""/>
            <p:cNvSpPr/>
            <p:nvPr/>
          </p:nvSpPr>
          <p:spPr>
            <a:xfrm>
              <a:off x="5435640" y="386064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5802120" y="3931920"/>
                  <a:ext cx="232740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"/>
          <p:cNvGrpSpPr/>
          <p:nvPr/>
        </p:nvGrpSpPr>
        <p:grpSpPr>
          <a:xfrm>
            <a:off x="5435640" y="2781360"/>
            <a:ext cx="3166920" cy="763560"/>
            <a:chOff x="5435640" y="2781360"/>
            <a:chExt cx="3166920" cy="763560"/>
          </a:xfrm>
        </p:grpSpPr>
        <p:sp>
          <p:nvSpPr>
            <p:cNvPr id="188" name=""/>
            <p:cNvSpPr/>
            <p:nvPr/>
          </p:nvSpPr>
          <p:spPr>
            <a:xfrm>
              <a:off x="5435640" y="2781360"/>
              <a:ext cx="3166920" cy="720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613480" y="2852640"/>
                  <a:ext cx="27064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,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2627280" y="1268280"/>
            <a:ext cx="4740480" cy="893880"/>
            <a:chOff x="2627280" y="1268280"/>
            <a:chExt cx="4740480" cy="893880"/>
          </a:xfrm>
        </p:grpSpPr>
        <p:sp>
          <p:nvSpPr>
            <p:cNvPr id="194" name=""/>
            <p:cNvSpPr/>
            <p:nvPr/>
          </p:nvSpPr>
          <p:spPr>
            <a:xfrm>
              <a:off x="3844440" y="141732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627280" y="1268280"/>
                  <a:ext cx="4740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,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ху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5292720" y="2349360"/>
            <a:ext cx="2087640" cy="1296720"/>
            <a:chOff x="5292720" y="2349360"/>
            <a:chExt cx="2087640" cy="1296720"/>
          </a:xfrm>
        </p:grpSpPr>
        <p:sp>
          <p:nvSpPr>
            <p:cNvPr id="197" name=""/>
            <p:cNvSpPr/>
            <p:nvPr/>
          </p:nvSpPr>
          <p:spPr>
            <a:xfrm>
              <a:off x="529272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508720" y="2638080"/>
                  <a:ext cx="16938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292720" y="3860640"/>
            <a:ext cx="2087640" cy="1296720"/>
            <a:chOff x="5292720" y="3860640"/>
            <a:chExt cx="2087640" cy="1296720"/>
          </a:xfrm>
        </p:grpSpPr>
        <p:sp>
          <p:nvSpPr>
            <p:cNvPr id="202" name=""/>
            <p:cNvSpPr/>
            <p:nvPr/>
          </p:nvSpPr>
          <p:spPr>
            <a:xfrm>
              <a:off x="5292720" y="386064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445000" y="4149360"/>
                  <a:ext cx="18208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2556000" y="3860640"/>
            <a:ext cx="2087280" cy="1350720"/>
            <a:chOff x="2556000" y="3860640"/>
            <a:chExt cx="2087280" cy="1350720"/>
          </a:xfrm>
        </p:grpSpPr>
        <p:sp>
          <p:nvSpPr>
            <p:cNvPr id="205" name=""/>
            <p:cNvSpPr/>
            <p:nvPr/>
          </p:nvSpPr>
          <p:spPr>
            <a:xfrm>
              <a:off x="2556000" y="386064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750760" y="3868560"/>
                  <a:ext cx="1734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2517840" y="2349360"/>
            <a:ext cx="2201760" cy="1296720"/>
            <a:chOff x="2517840" y="2349360"/>
            <a:chExt cx="2201760" cy="1296720"/>
          </a:xfrm>
        </p:grpSpPr>
        <p:sp>
          <p:nvSpPr>
            <p:cNvPr id="208" name=""/>
            <p:cNvSpPr/>
            <p:nvPr/>
          </p:nvSpPr>
          <p:spPr>
            <a:xfrm>
              <a:off x="2556000" y="2349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517840" y="2638080"/>
                  <a:ext cx="22017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,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образуйте выражени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987640" y="1052640"/>
            <a:ext cx="4017960" cy="1446120"/>
            <a:chOff x="2987640" y="1052640"/>
            <a:chExt cx="4017960" cy="1446120"/>
          </a:xfrm>
        </p:grpSpPr>
        <p:sp>
          <p:nvSpPr>
            <p:cNvPr id="214" name=""/>
            <p:cNvSpPr/>
            <p:nvPr/>
          </p:nvSpPr>
          <p:spPr>
            <a:xfrm>
              <a:off x="3844080" y="1477800"/>
              <a:ext cx="2404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987640" y="1052640"/>
                  <a:ext cx="4017960" cy="14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ху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5292720" y="2492280"/>
            <a:ext cx="2087640" cy="1296720"/>
            <a:chOff x="5292720" y="2492280"/>
            <a:chExt cx="2087640" cy="1296720"/>
          </a:xfrm>
        </p:grpSpPr>
        <p:sp>
          <p:nvSpPr>
            <p:cNvPr id="217" name=""/>
            <p:cNvSpPr/>
            <p:nvPr/>
          </p:nvSpPr>
          <p:spPr>
            <a:xfrm>
              <a:off x="5292720" y="249228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719680" y="2823840"/>
                  <a:ext cx="1270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efefe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sp>
          <p:nvSpPr>
            <p:cNvPr id="222" name=""/>
            <p:cNvSpPr/>
            <p:nvPr/>
          </p:nvSpPr>
          <p:spPr>
            <a:xfrm>
              <a:off x="2556000" y="400536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089160" y="4379760"/>
                  <a:ext cx="1058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292720" y="4005360"/>
            <a:ext cx="2087640" cy="1350720"/>
            <a:chOff x="5292720" y="4005360"/>
            <a:chExt cx="2087640" cy="1350720"/>
          </a:xfrm>
        </p:grpSpPr>
        <p:sp>
          <p:nvSpPr>
            <p:cNvPr id="225" name=""/>
            <p:cNvSpPr/>
            <p:nvPr/>
          </p:nvSpPr>
          <p:spPr>
            <a:xfrm>
              <a:off x="5292720" y="4005360"/>
              <a:ext cx="208764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529240" y="4013280"/>
                  <a:ext cx="165096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х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2556000" y="2492280"/>
            <a:ext cx="2087280" cy="1296720"/>
            <a:chOff x="2556000" y="2492280"/>
            <a:chExt cx="2087280" cy="1296720"/>
          </a:xfrm>
        </p:grpSpPr>
        <p:sp>
          <p:nvSpPr>
            <p:cNvPr id="228" name=""/>
            <p:cNvSpPr/>
            <p:nvPr/>
          </p:nvSpPr>
          <p:spPr>
            <a:xfrm>
              <a:off x="2556000" y="2492280"/>
              <a:ext cx="2087280" cy="12967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962080" y="2823840"/>
                  <a:ext cx="13107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Admin</cp:lastModifiedBy>
  <dcterms:modified xsi:type="dcterms:W3CDTF">2010-06-19T11:38:08Z</dcterms:modified>
  <cp:revision>15</cp:revision>
  <dc:subject/>
  <dc:title>Слайд 1</dc:title>
</cp:coreProperties>
</file>