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812-5E06-4EAA-8D79-33A77BBE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87E-81A6-4AE6-A823-BDB911D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1FF-47D4-4FB0-B466-8498C62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CE0-EBD4-4EE0-93E3-AD44A57C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D5C4-FCA4-407B-8D66-EA90A4EE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E58-2D01-4086-8253-555EE27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32D-E8CB-4769-A7BA-0201755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7526-11D3-4357-8935-D666E15B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067-F7A6-4EA5-B65A-5523614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DA5D-635D-4C13-B4D4-30B3127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2A2-7C9B-4A9A-BDB0-86F21B8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08A-8211-4195-84FA-2E095D76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F421-CC18-4B6F-A8E5-F67630B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C9F-E09B-4AB6-9B72-B0577D1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A9B-3566-4374-84B9-BA467B7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937-21C6-410D-BC24-918776D8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4D9-584C-4451-BFCF-B933EDCB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5327-9593-4218-9AB7-62640E6F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BE3B-8825-408C-85A5-04195D1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BEBF-DA98-4159-9AB8-3644270D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E243-7399-4650-B552-9E7CE8AB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2ED9-4AE8-4A15-9008-60ECBBD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2E2-0826-473C-80CC-53328CF0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1DB6-7E74-45D9-9160-846B0C6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43DD-3097-411E-8AD1-7C7FF14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D99D-9AF0-41EB-A7C5-62CB68F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675E-6B54-4B2E-8318-77C05D2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B772-7A31-4AA8-9346-E06F4E04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91F7-77FE-42D2-A06B-D2C2C2AB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95B9-E1A3-4416-BD11-B33AA6C2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A26D-D828-45B1-AA50-2549702A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8BE2-D835-443C-A178-BEE1A5B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AB00-B122-4591-A9A3-3C88163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A0A-8797-4724-9C53-D596CB0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7F95-F795-4280-B22B-0A36BAF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D6E2-7769-4E30-B1F3-56EDF3AE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12BA-1A9F-45A0-BFA4-563BF063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CAC3-AFD0-4D78-AE18-F712AA8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F9BE-A00D-4387-864D-EF45EBA9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CDE6-2AD7-4DB5-ACF1-5B1ABAC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000B-5ECF-486E-AA16-7620909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4538-B74A-46BD-BBB3-57703F5F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A645-4113-4A7C-B733-0E7BD396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4AA-FB0C-433F-8C7B-1FBE9D38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51D-A8CD-416D-9FBA-07C31EE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BC5-50B2-4DCB-AF27-F6EF3E5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EC7-D739-44BB-9CFB-133955E5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FB3-4820-4C6E-A160-1C0D2F8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31A-D8F1-4820-AD44-159D20BD1D5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E0AF-A664-44D8-8358-AA2E8B6B08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C29-23A4-4C97-928C-FB149D45DF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9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4D7-341D-4F14-8E0A-61811ACBE5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9640" y="1523880"/>
            <a:ext cx="76374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литика мирного сосуществования: успехи и противореч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109600" y="3736440"/>
            <a:ext cx="61290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Подготовил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Малышев И.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836640"/>
            <a:ext cx="84978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Х съезд КПС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облачение культа личности Стал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ли началу процессов демократизации и отказа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ского наследия в странах Восточной Евро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989000"/>
            <a:ext cx="4321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енью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ошла сме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а в Польше, где с ле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рекращались демонст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абастовки рабоч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971880" cy="3360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859280" y="5445000"/>
            <a:ext cx="3960720" cy="6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емонстрация в Познан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429000"/>
            <a:ext cx="432108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гда же нача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мократические процесс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нгр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где под влия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а КПСС ш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ая критика ста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а Венгер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и трудящихся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оветской ориентации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836640"/>
            <a:ext cx="849780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нгрии.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ентябре - октябре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волне студенческих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х манифестаций новое правительство во главе 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д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пыталось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ыйти из жесткой зависимости от Москв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орвать союзнические отношения с СССР и другими стран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одной демократии, добиться вступления в НА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2637000"/>
            <a:ext cx="5113440" cy="23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погеем венгерской «октябрь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волюции» стали событ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 октяб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6 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, когда собравшиеся на митинг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Будапеште вооруженные студент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е разрушили монумент Сталин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240000" cy="2306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ветское руководство ввело на территор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нгрии свои войска и подавило выступ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тив коммунистического режи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836640"/>
            <a:ext cx="849780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нгерский кризис подтолкнул советское руководств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 «закручиванию гаек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пересмотру критики сталинизма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ССР, но и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жесточению своей политики в рам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социалистического содружества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2349360"/>
            <a:ext cx="3168720" cy="374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этой целью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0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оскве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д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щ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ител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ст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рабочих парти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ы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ценивались событ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Польше и Венгр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168880" cy="2791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635280" y="5300640"/>
            <a:ext cx="5184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ганизация Варшавского догов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836640"/>
            <a:ext cx="849780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1950-х годов ознаменован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ким ухуд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тношений с КН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1844640"/>
            <a:ext cx="4032360" cy="309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уковод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тая стало высказы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кие критическ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мечания по пово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моде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я социализма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ернувшейся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мпании по разоблачен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льта личнос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5084640"/>
            <a:ext cx="8424720" cy="100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ao Цзэ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крыто начал претендовать на роль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дера в социалистическом ми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миров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стическом движ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836640"/>
            <a:ext cx="849780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о Цзэ-д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ценивая политику разрядки, открыто говорил, ч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етский ревизионизм и американский империализм, действу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преступном сговоре, натворили так много гнусных и подл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л, что революционные народы всего мира не пощадят и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352960" cy="3559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482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907920"/>
            <a:ext cx="8569080" cy="151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условиях начавшегося после Второй мировой войны кризи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рушения колониальных империй, сопровождавших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лаблением позиций метрополий - Англии и Франции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уководство предприняло значительные усилия для вов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вободившихся стран в орбиту своего влия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256536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ысшее советс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ство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Хрущев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 Булга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совершило длитель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е визит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Индию, Бирму и Афганист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421080" cy="3421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4365720"/>
            <a:ext cx="496872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1957-1964 гг. состояли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говоры с лидерами боле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чем 30 развивающих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р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«Третий мир» во внешней политике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907920"/>
            <a:ext cx="8569080" cy="172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мясь направить развитие этих стран если не п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стическому, то хотя бы по «некапиталистическому» пу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етские лидеры предоставляли им многочисленные льгот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едиты и безвозмездную помощ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ооружали их лучши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цами военной техни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2781360"/>
            <a:ext cx="5688000" cy="180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ько ОАР (Египет) покрывала за сч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тской помощи до 50% ассигнова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кономическое развит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я в ходе реализации втор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ятилетнего плана - 15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57880" y="2708280"/>
            <a:ext cx="2602080" cy="3313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4000" y="4653000"/>
            <a:ext cx="5688000" cy="144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ама́ль А́бдель На́с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лидер Егип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мая 1964 года Насер был удостое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ания Героя Советского Союз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В поисках новой страте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856908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е в первые дни после смерти Сталина стали просматрива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е разные линии в руководстве внешней политикой стра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.М. Моло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р иностранных де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1700280"/>
            <a:ext cx="396072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озж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л сохран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ое противостоя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х 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трицал идею ми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я государ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различным общественн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2708280"/>
            <a:ext cx="3960720" cy="23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упали за мир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ществование дву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ирное будущее на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исит в основном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тия отношений СССР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2421000"/>
            <a:ext cx="0" cy="287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373720"/>
            <a:ext cx="849600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определило и направленность внешней политики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тсталинский пери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501336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3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ромисс с СШ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ого ста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дписа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я в Кор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1628640"/>
            <a:ext cx="2663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игну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гла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екраще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йны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докита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1628640"/>
            <a:ext cx="273672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отказался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двинут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линым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вмест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цией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ро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номорски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лив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9640" y="98100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4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013360"/>
            <a:ext cx="554508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й договор с Австрией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ССР выве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 ее территор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вои войс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5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4365720"/>
            <a:ext cx="14414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6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2000" y="5013360"/>
            <a:ext cx="2808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мир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Япони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125360"/>
            <a:ext cx="5400720" cy="223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.М. Мален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марте 1954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е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черкнул традиционный тезис 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ходимости борьбы за ми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явил 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допустимости миров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нфлик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условиях существова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ерного оруж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24360" y="3429000"/>
            <a:ext cx="5040360" cy="25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ъезд КПСС обосновал и закрепи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зис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мирном сосуществовании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ревновании двух сист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зможности предотвращения вой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овременную эпох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образии форм перех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ных стран к социал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907920"/>
            <a:ext cx="8424720" cy="1366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ко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нешняя политика как западных держа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ак и СССР велась с позиции сил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Как отмечал Хруще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договор имеет свою силу, если он подкреплен пушкам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договор не подкреплен силой, то он ничего не стоит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421000"/>
            <a:ext cx="489564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Хрущев заявил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зменении военной доктрины ССС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лагавшей переход 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ового применения войс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оле боя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кетно-яде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остояни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2421000"/>
            <a:ext cx="3097080" cy="208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7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ССС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шли успеш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ытания первой 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ежконтинента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аллистической раке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350028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869000"/>
            <a:ext cx="8424720" cy="93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ервы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ритория СШ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азалась уязвим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го противни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4508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907920"/>
            <a:ext cx="8424720" cy="79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зрак советского ядерного возмездия был серьез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актором в переговорах лидеров СССР с Запад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3280" y="1700280"/>
            <a:ext cx="0" cy="288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989000"/>
            <a:ext cx="8424720" cy="79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е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1956 г. удалось предотвратить агресс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адных держа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тив Егип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2997360"/>
            <a:ext cx="3960720" cy="30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я 1960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д советск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риторией бы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би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мериканский самолет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ведчик У-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илот Ф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уэрс был задержан на мес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емления и дал показани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ичавшие его как шпион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шения Восток - Зап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зко обострили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213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907920"/>
            <a:ext cx="849636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вгусте 1961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решению политического руководства стр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ршавского договор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Берлине была возведена ст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стью изолировавшая западную часть горо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111640" cy="3962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724360" y="2133720"/>
            <a:ext cx="3240360" cy="395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очь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 август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61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ыл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едена стена и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тона и колюч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оло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линский кризи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рицатель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азался 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вит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ждународны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шений в Европ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Отношения с Западом. Проблемы разору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907920"/>
            <a:ext cx="8569440" cy="11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иболее опасным оказалс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ибский кризис 1962 г.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 по решению советского руководства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бе были размещены ядерные ракеты средней да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133720"/>
            <a:ext cx="547200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ША в ответ начали подготов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жения на Куб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р оказался на пороге ядерной войн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88108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3357720"/>
            <a:ext cx="5472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е удалось избежать в последний мом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евременно заключенном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ромиссу между Кеннеди и Хрущев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4508640"/>
            <a:ext cx="8497800" cy="1511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сле Карибского кризиса началась полоса относитель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зрядки в отношениях Восток-Запа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 основе котор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ло наметившееся взаимное доверие межд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дерами СССР и СШ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ССР и социалистический лаг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836640"/>
            <a:ext cx="84978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5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инициативе советского руководства 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ормализованы советско-югославские отнош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697800" cy="4421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164360" y="3789360"/>
            <a:ext cx="1655640" cy="22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.С. Хрущ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д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гослав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осип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ро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Ольга</cp:lastModifiedBy>
  <dcterms:modified xsi:type="dcterms:W3CDTF">2012-04-11T10:07:01Z</dcterms:modified>
  <cp:revision>624</cp:revision>
  <dc:subject/>
  <dc:title>Слайд 1</dc:title>
</cp:coreProperties>
</file>