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E8E-8789-417C-BBAB-9CEC2215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74C-83C3-4D1C-AE90-5F9200FD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EDB-69FC-4ED6-B065-79171E9F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50B-4D1F-4195-9A50-861E635C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0E3-99CF-423F-8697-BF4B54F4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BEAB-6255-4FBA-B333-B672BBA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D725-5261-4707-B5E3-1BD1F16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9384-88B7-4DA1-A13B-D4974746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A4B-015F-44F9-993A-C472100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67AC-40A5-493A-8AE4-AE0C05B7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0B5A-120A-4758-9487-B18F12AD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58E-98A2-4DC0-8E3B-04645B0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02B9-C5C6-45BE-A95F-910EAC7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83E1-7274-4CAA-BA3F-353D12B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20FE-9682-4608-B1D7-0AEF6F8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EE66-7630-46B3-B8D4-78BAB584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4CB3-4553-45DF-8D2B-0A8CB0EB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DD6C-D63B-401C-B9B9-C0AAAF50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C16B-F63D-41BF-BBE8-0917D9FB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3482-96E8-4E11-9ED4-1CE1F40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D6BF-B9C4-4F9F-81D9-2A5D9B2F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47FE-11AF-4860-B5F7-E3E65BBA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58E-EFCF-477E-A297-7F969E9C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FDC9-F59B-4363-B565-1BA90915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6517-0B57-4D5C-B9F9-D238F1E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C126-9240-40F4-B21A-C373CCA7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55CB-4ED6-4837-9A09-E27D0D1A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4896-337F-4233-91C8-07E9C1D5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1861-BEE7-4291-A07F-A2925275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4CA3-35FE-42E9-A1C4-BF2D78E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820A-CABD-4A33-A7A1-E28ABD65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D366-5DB7-4E4D-9D2A-9AFBC753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CBEF-5E2C-4788-AF50-0D49014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97F-2974-4A32-9F18-5DF4227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51C4-7640-4525-B1AF-BDA13B21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0DE4-BDCC-4AAB-AF3C-8054F699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3E6B-3480-4998-BA8D-A83618C6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2EDE-0308-4A00-99CF-D199502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3224-1B42-4DA0-91F1-8E26899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D3D8-1059-40CB-8182-65BF2B6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314F-ABA4-49EE-8D3C-18BEE59A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D0DA-25AF-4256-884F-A772DED7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FB8E-8B07-4069-B660-8CBEF356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5BF-D856-41ED-9BF6-EAB5CBBC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8D8-788F-4888-B395-9D0E812E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BB7-34BD-4B77-AB74-4FB55C0F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379-E7FD-48F5-9093-FFAF97B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F75-17ED-4ED9-917A-92FB060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4B5E-5094-418D-B364-6357EAFFD93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065-DA4B-4C32-8C9D-F07750CCD72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5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B14-C13B-4FEE-B7B1-738EB4C741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9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46A-E329-4E20-87D0-6D914FEDA1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99640" y="1523880"/>
            <a:ext cx="76374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литика мирного сосуществования: успехи и противореч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109600" y="3736440"/>
            <a:ext cx="61290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Подготовил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Малышев И.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836640"/>
            <a:ext cx="84978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Х съезд КПС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облачение культа личности Стали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ели началу процессов демократизации и отказа 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линского наследия в странах Восточной Евро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989000"/>
            <a:ext cx="432108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сенью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ошла сме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ства в Польше, где с ле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рекращались демонст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забастовки рабочи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971880" cy="3360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859280" y="5445000"/>
            <a:ext cx="396072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емонстрация в Познан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3429000"/>
            <a:ext cx="4321080" cy="25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гда же начали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мократические процессы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нгр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где под влияни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ъезда КПСС ш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ая критика ста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а Венгер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и трудящихся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оветской ориентации стра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836640"/>
            <a:ext cx="849780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нгрии.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ентябре - октябре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волне студенческих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их манифестаций новое правительство во главе с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де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пыталось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ыйти из жесткой зависимости от Москв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орвать союзнические отношения с СССР и другими стран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одной демократии, добиться вступления в НА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2637000"/>
            <a:ext cx="5113440" cy="23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погеем венгерской «октябрь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волюции» стали событ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 октябр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6 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, когда собравшиеся на митинг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Будапеште вооруженные студент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ие разрушили монумент Сталин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580000" y="2637000"/>
            <a:ext cx="3240000" cy="2306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ветское руководство ввело на территор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нгрии свои войска и подавило выступ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тив коммунистического режим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836640"/>
            <a:ext cx="8497800" cy="13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нгерский кризис подтолкнул советское руководств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е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 «закручиванию гаек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пересмотру критики сталинизма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ССР, но и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жесточению своей политики в рам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социалистического содружества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2349360"/>
            <a:ext cx="3168720" cy="374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этой целью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60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оскве 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де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щ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тавител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мунистическ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рабочих партий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ы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трицатель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ценивались событ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Польше и Венгр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5168880" cy="2791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635280" y="5300640"/>
            <a:ext cx="5184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ганизация Варшавского догово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836640"/>
            <a:ext cx="849780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ая половина 1950-х годов ознаменован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ким ухуд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тношений с КН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1844640"/>
            <a:ext cx="4032360" cy="309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уковод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тая стало высказы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кие критическ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мечания по пово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тской моде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роения социализма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ернувшейся в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мпании по разоблачен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льта личнос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5084640"/>
            <a:ext cx="8424720" cy="100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ao Цзэд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крыто начал претендовать на роль вто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дера в социалистическом мир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миров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стическом движе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248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836640"/>
            <a:ext cx="849780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о Цзэ-д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ценивая политику разрядки, открыто говорил, ч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ветский ревизионизм и американский империализм, действу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преступном сговоре, натворили так много гнусных и подл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л, что революционные народы всего мира не пощадят и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352960" cy="3559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4824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«Третий мир» во внешней политике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907920"/>
            <a:ext cx="8569080" cy="151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условиях начавшегося после Второй мировой войны кризи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крушения колониальных империй, сопровождавших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лаблением позиций метрополий - Англии и Франции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етск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уководство предприняло значительные усилия для вовлеч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свободившихся стран в орбиту своего влия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2565360"/>
            <a:ext cx="496872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ысшее советск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ство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 Хрущев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 Булга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совершило длитель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ые визит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Индию, Бирму и Афганист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421080" cy="3421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4365720"/>
            <a:ext cx="496872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1957-1964 гг. состоялис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говоры с лидерами боле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чем 30 развивающихс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р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«Третий мир» во внешней политике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907920"/>
            <a:ext cx="8569080" cy="172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мясь направить развитие этих стран если не п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стическому, то хотя бы по «некапиталистическому» пу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етские лидеры предоставляли им многочисленные льгот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едиты и безвозмездную помощ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ооружали их лучши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цами военной техни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2781360"/>
            <a:ext cx="5688000" cy="180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лько ОАР (Египет) покрывала за сч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тской помощи до 50% ассигнова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экономическое развит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я в ходе реализации вто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ятилетнего плана - 15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57880" y="2708280"/>
            <a:ext cx="2602080" cy="3313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24000" y="4653000"/>
            <a:ext cx="5688000" cy="144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ама́ль А́бдель На́се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лидер Егип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 мая 1964 года Насер был удостое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ания Героя Советского Союз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В поисках новой страте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856908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е в первые дни после смерти Сталина стали просматрива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ве разные линии в руководстве внешней политикой стра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700280"/>
            <a:ext cx="3960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.М. Моло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р иностранных де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1700280"/>
            <a:ext cx="3960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.М. Маленк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озж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С. Хруще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708280"/>
            <a:ext cx="3960720" cy="23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лагал сохран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кое противостоя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ух систем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Отрицал идею мир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уществования государ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различным общественн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708280"/>
            <a:ext cx="3960720" cy="23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упали за мир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уществование дву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Мирное будущее нар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исит в основном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тия отношений СССР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ад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421000"/>
            <a:ext cx="0" cy="287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8360" y="2421000"/>
            <a:ext cx="0" cy="287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373720"/>
            <a:ext cx="849600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определило и направленность внешней политики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стсталинский пери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48360" y="501336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98100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3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1628640"/>
            <a:ext cx="273672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ну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ромисс с СШ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ого ста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дписа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мирия в Коре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1628640"/>
            <a:ext cx="266364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ну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ж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глаш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екраще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ойны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ндокита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3640" y="1628640"/>
            <a:ext cx="273672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ССР отказался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двинут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линым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мест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рцией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боро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ерноморски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лив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59640" y="98100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4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013360"/>
            <a:ext cx="554508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ый договор с Австрией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которо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ССР выве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 ее территор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вои войс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436572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5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436572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6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2000" y="5013360"/>
            <a:ext cx="2808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мирие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Япони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125360"/>
            <a:ext cx="5400720" cy="223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.М. Маленк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марте 1954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е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черкнул традиционный тезис 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ходимости борьбы за ми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но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явил 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допустимости миров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нфлик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условиях существова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ерного оруж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24360" y="3429000"/>
            <a:ext cx="5040360" cy="25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ъезд КПСС обосновал и закрепи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зис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мирном сосуществовании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ревновании двух сист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зможности предотвращения вой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овременную эпох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образии форм перех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ных стран к социал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907920"/>
            <a:ext cx="8424720" cy="1366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ко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нешняя политика как западных держа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ак и СССР велась с позиции сил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Как отмечал Хруще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договор имеет свою силу, если он подкреплен пушкам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договор не подкреплен силой, то он ничего не стоит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2421000"/>
            <a:ext cx="4895640" cy="208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Хрущев заявил об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зменении военной доктрины ССС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олагавшей переход 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ового применения войс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оле боя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кетно-ядерн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тивостояни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6000" y="2421000"/>
            <a:ext cx="3097080" cy="208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шли успеш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ытания первой 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ежконтиненталь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аллистической ракет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3500280"/>
            <a:ext cx="432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869000"/>
            <a:ext cx="8424720" cy="93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первы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ритория СШ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азалась уязвим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д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го противни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720" y="4508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907920"/>
            <a:ext cx="8424720" cy="7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зрак советского ядерного возмездия был серьез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актором в переговорах лидеров СССР с Запад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3280" y="1700280"/>
            <a:ext cx="0" cy="288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989000"/>
            <a:ext cx="8424720" cy="79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е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6 г. удалось предотвратить агресс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адных держа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тив Егип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2997360"/>
            <a:ext cx="3960720" cy="30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я 1960 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д советск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ей бы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би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мериканский самолет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ведчик У-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илот Ф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уэрс был задержан на мес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емления и дал показани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ичавшие его как шпиона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шения Восток - Запа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зко обострили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2134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8360" y="907920"/>
            <a:ext cx="849636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вгусте 1961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 решению политического руководства стра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ршавского договор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Берлине была возведена ст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стью изолировавшая западную часть гор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111640" cy="3962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724360" y="2133720"/>
            <a:ext cx="3240360" cy="395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очь 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 август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61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был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ведена стена и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тона и колюч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ло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линский кризи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рицатель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азался 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вит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ждународны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ношений в Европ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907920"/>
            <a:ext cx="856944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иболее опасным оказалс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рибский кризис 1962 г.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гда по решению советского руководства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е были размещены ядерные ракеты средней даль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133720"/>
            <a:ext cx="547200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ША в ответ начали подготов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жения на Куб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ир оказался на пороге ядерной войн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881080" cy="2238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95280" y="3357720"/>
            <a:ext cx="5472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е удалось избежать в последний мом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евременно заключенном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ромиссу между Кеннеди и Хрущев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4508640"/>
            <a:ext cx="8497800" cy="1511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сле Карибского кризиса началась полоса относитель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рядки в отношениях Восток-Запа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 основе котор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ло наметившееся взаимное доверие меж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дерами СССР и СШ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836640"/>
            <a:ext cx="84978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 инициативе советского руководства 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ормализованы советско-югославские отнош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6697800" cy="4421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164360" y="3789360"/>
            <a:ext cx="165564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.С. Хрущ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гослав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осип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ро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1:29:29Z</dcterms:created>
  <dc:creator>User</dc:creator>
  <dc:description/>
  <dc:language>en-US</dc:language>
  <cp:lastModifiedBy>Ольга</cp:lastModifiedBy>
  <dcterms:modified xsi:type="dcterms:W3CDTF">2012-04-11T10:07:01Z</dcterms:modified>
  <cp:revision>624</cp:revision>
  <dc:subject/>
  <dc:title>Слайд 1</dc:title>
</cp:coreProperties>
</file>