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3BB-8C3D-41E0-8AEC-E3CE8735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C24-A616-42F8-89D4-0B5DDCF4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35E-EDE9-4B74-B7D1-966E4C47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910-4CD3-4F6C-BA0A-67A3BB3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FA18-9E64-40C7-B19E-5EF3D480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465-DEBE-412B-AA97-5FA4FD5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881-AAEE-47B4-97DB-8B21DD7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7E7E-81EA-45A1-9146-C2454540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3183-0EA3-44BD-8112-15B7E9B6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8D8-3ADA-4411-A7A0-202941C2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CD3D-E94A-487C-A479-211399B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3FE-72B6-401F-ADB6-1D54014D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3AFA-3096-44B7-83E8-E1D5FB7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A49B-6182-4AA1-91C0-FF7D092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8575-7612-432E-B56B-293EBCBF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597C-AA22-488F-806A-0EC46A27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3B9-1E34-438D-954C-15A28969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C991-656F-4404-94C2-6FBB934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125A-B78F-4BF9-8C08-E492DB0A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60C9-5179-4F3A-910D-3B3F49E5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7A3E-0C64-49C5-AFF6-9E01540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01C2-FAEA-40EB-B8BB-C47BE8A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C5C-7115-4CDA-AC50-E534935E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6083-E33D-4031-AD06-E8148D2D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CEE6-BCA3-40C6-B0E2-520AD443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EFD6-6433-4791-A414-7207DB4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6F86-358C-46DF-A0CD-6D963E6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7D65-4F0E-4B61-8F43-74F8532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5310-C118-4544-BA2F-A1ABF27A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85B4-43E7-41FD-99DE-DF4DD8C9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4D17-7641-4F50-8982-F7D0D9A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C2FC-0759-4D9D-A801-BD25729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FD6E-6E32-4FC9-9693-6B1277A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BD5-C205-419F-AF36-B741D606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DA45-AD04-4E4A-9C57-4F3783B5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0401-3A10-4EBF-860E-DAD2C429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604B-DE5A-4C30-9BEA-D3C820BE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A728-A03B-4D1E-8812-86909A3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6F9C-A3D4-4552-B546-6D6401FE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2231-FDCD-48EE-BE71-0BB38EA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27B2-FA52-455A-9870-217FCEE8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1A27-C475-400B-955E-3DFF11D2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3C62-D294-484E-955C-34CEBCFF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9F3-70EF-4F88-BE32-6CEFB15F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9B8-C87C-4772-B1F6-BA01D11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E88-39D3-4460-981E-FC7E01A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9BF-C10E-4217-9169-5B0700E3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D0F-64B4-4D7B-8D6B-3185FB4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2FE-252A-4C76-85A5-ED3DE20652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88D0-BBB2-435C-9ECB-B776292F46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8B62-71DB-4D5B-9F4F-872B669BE0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9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FFA-8E37-48F6-9CA0-F18B980FDC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9640" y="1523880"/>
            <a:ext cx="76374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литика мирного сосуществования: успехи и противореч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109600" y="3736440"/>
            <a:ext cx="6129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Подготовил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Малышев И.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836640"/>
            <a:ext cx="84978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Х съезд КПС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облачение культа личности Стал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ли началу процессов демократизации и отказа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ского наследия в странах Восточной Ев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989000"/>
            <a:ext cx="4321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енью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ошла сме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а в Польше, где с ле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рекращались демонст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абастовки рабоч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971880" cy="3360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859280" y="5445000"/>
            <a:ext cx="3960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емонстрация в Познан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429000"/>
            <a:ext cx="432108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же нача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мократические процесс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нгр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где под влия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а КПСС ш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ая критика ста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а Венгер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и трудящихся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оветской ориентации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836640"/>
            <a:ext cx="849780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нгрии.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ентябре - октябре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волне студенческих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х манифестаций новое правительство во главе 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д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пыталось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ыйти из жесткой зависимости от Москв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орвать союзнические отношения с СССР и другими стран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одной демократии, добиться вступления в НА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2637000"/>
            <a:ext cx="5113440" cy="23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погеем венгерской «октябрь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волюции» стали событ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 октяб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, когда собравшиеся на митинг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Будапеште вооруженные студент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е разрушили монумент Сталин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240000" cy="2306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ветское руководство ввело на территор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нгрии свои войска и подавило выступ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тив коммунистического режи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836640"/>
            <a:ext cx="849780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нгерский кризис подтолкнул советское руководств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 «закручиванию гаек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пересмотру критики сталинизма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ССР, но и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жесточению своей политики в рам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социалистического содружества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2349360"/>
            <a:ext cx="3168720" cy="374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этой целью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0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оскве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д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щ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ител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ст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рабочих парти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ы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ценивались событ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Польше и Венгр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168880" cy="2791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635280" y="5300640"/>
            <a:ext cx="5184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ганизация Варшавского догов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836640"/>
            <a:ext cx="849780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1950-х годов ознаменован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им ухуд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ношений с КН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1844640"/>
            <a:ext cx="4032360" cy="30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уково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тая стало высказы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кие критическ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мечания по пово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моде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я социализма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ернувшейся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мпании по разоблачен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льта личнос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5084640"/>
            <a:ext cx="842472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ao Цзэ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крыто начал претендовать на роль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дера в социалистическом ми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миров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стическом движ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836640"/>
            <a:ext cx="849780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о Цзэ-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ценивая политику разрядки, открыто говорил, ч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етский ревизионизм и американский империализм, действу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преступном сговоре, натворили так много гнусных и подл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л, что революционные народы всего мира не пощадят и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352960" cy="3559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482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907920"/>
            <a:ext cx="8569080" cy="151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условиях начавшегося после Второй мировой войны кризи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рушения колониальных империй, сопровождавших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лаблением позиций метрополий - Англии и Франции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уководство предприняло значительные усилия для вов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вободившихся стран в орбиту своего влия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256536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ысшее советс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о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Хрущев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Булга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совершило длитель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е визит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Индию, Бирму и Афганист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436572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1957-1964 гг. состояли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говоры с лидерами боле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чем 30 развивающих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р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907920"/>
            <a:ext cx="8569080" cy="172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мясь направить развитие этих стран если не п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стическому, то хотя бы по «некапиталистическому» пу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ие лидеры предоставляли им многочисленные льгот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едиты и безвозмездную помощ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ооружали их лучши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цами военной техни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2781360"/>
            <a:ext cx="5688000" cy="180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ько ОАР (Египет) покрывала за сч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помощи до 50% ассигнова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кономическое развит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я в ходе реализации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ятилетнего плана - 15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57880" y="2708280"/>
            <a:ext cx="2602080" cy="3313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4000" y="4653000"/>
            <a:ext cx="5688000" cy="144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ама́ль А́бдель На́с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лидер Егип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мая 1964 года Насер был удостое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ания Героя Советского Союз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В поисках новой страте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8569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е в первые дни после смерти Сталина стали просматрива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е разные линии в руководстве внешней политикой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.М. Моло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р иностранных де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озж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л сохран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ое противостоя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х 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трицал идею ми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я государ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различным общественн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упали за мир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е дву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ирное будущее на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исит в основном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тия отношений СССР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373720"/>
            <a:ext cx="849600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определило и направленность внешней политики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тсталинский пери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501336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3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ромисс с СШ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ого ста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дписа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я в Кор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1628640"/>
            <a:ext cx="2663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гла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екращ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йн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докита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отказался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двинут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ым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мест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цией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ро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номорск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лив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964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4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013360"/>
            <a:ext cx="554508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й договор с Австрие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выве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 ее территор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вои войс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5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6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5013360"/>
            <a:ext cx="2808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Япони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125360"/>
            <a:ext cx="5400720" cy="223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марте 1954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черкнул традиционный тезис 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ходимости борьбы за ми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явил 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допустимости миров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нфлик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условиях существова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ерного оруж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24360" y="3429000"/>
            <a:ext cx="504036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 КПСС обосновал и закрепи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зис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мирном сосуществовании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ревновании двух сист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зможности предотвращения вой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овременную эпох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образии форм перех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ных стран к социал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907920"/>
            <a:ext cx="8424720" cy="1366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ко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нешняя политика как западных держа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ак и СССР велась с позиции сил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Как отмечал Хруще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договор имеет свою силу, если он подкреплен пушкам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договор не подкреплен силой, то он ничего не стоит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421000"/>
            <a:ext cx="489564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Хрущев заявил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зменении военной доктрины ССС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лагавшей переход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ового применения войс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оле боя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кетно-яде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остояни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2421000"/>
            <a:ext cx="309708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шли успеш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ытания первой 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ежконтинента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аллистической раке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350028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869000"/>
            <a:ext cx="8424720" cy="93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ервы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ритория СШ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азалась уязвим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го противн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4508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907920"/>
            <a:ext cx="842472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зрак советского ядерного возмездия был серьез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актором в переговорах лидеров СССР с 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3280" y="1700280"/>
            <a:ext cx="0" cy="288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989000"/>
            <a:ext cx="8424720" cy="79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е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 удалось предотвратить агресс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ных держа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 Егип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2997360"/>
            <a:ext cx="3960720" cy="30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я 1960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д советс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ей бы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би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мериканский самолет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ведчик У-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илот Ф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уэрс был задержан на мес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емления и дал показани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ичавшие его как шпион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шения Восток - Зап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зко обостри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213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907920"/>
            <a:ext cx="849636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вгусте 1961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решению политического руководства стр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шавского договор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Берлине была возведена ст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стью изолировавшая западную часть го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111640" cy="3962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724360" y="2133720"/>
            <a:ext cx="3240360" cy="395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очь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 август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61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ыл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едена стена и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тона и колюч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ло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линский кризи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азался 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вит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ждународны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шений в Европ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907920"/>
            <a:ext cx="8569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иболее опасным оказалс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ибский кризис 1962 г.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 по решению советского руководства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е были размещены ядерные ракеты средней да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133720"/>
            <a:ext cx="547200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ША в ответ начали подготов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жения на Куб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р оказался на пороге ядерной войн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8108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3357720"/>
            <a:ext cx="5472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е удалось избежать в последний мом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евременно заключенном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ромиссу между Кеннеди и Хрущев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4508640"/>
            <a:ext cx="8497800" cy="1511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сле Карибского кризиса началась полоса относите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рядки в отношениях Восток-Запа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 основе котор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ло наметившееся взаимное доверие меж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дерами СССР и СШ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836640"/>
            <a:ext cx="84978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инициативе советского руководства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ормализованы советско-югославские отнош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697800" cy="4421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164360" y="3789360"/>
            <a:ext cx="1655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гослав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осип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ро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Ольга</cp:lastModifiedBy>
  <dcterms:modified xsi:type="dcterms:W3CDTF">2012-04-11T10:07:01Z</dcterms:modified>
  <cp:revision>624</cp:revision>
  <dc:subject/>
  <dc:title>Слайд 1</dc:title>
</cp:coreProperties>
</file>