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86963" cy="7156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036800" y="685440"/>
            <a:ext cx="4784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5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CDD8-99CE-4464-87F4-F9B62C08F6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36800" y="685800"/>
            <a:ext cx="47844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8046-3872-46EB-810D-879430B54D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EB3D-4958-4DA8-B257-460D2532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8280" y="413928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93B3-D616-4D44-AFFE-C6CEAA7F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4780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22F3-6062-4DAA-BBF5-F0837493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856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3848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828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6856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3848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01D-89DB-45C2-AF84-A51B59F1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205C-AB44-4C68-B349-12848E35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F50A-AACF-40F8-B0CC-71103D01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ED29-367F-4C9B-8E98-983C0158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41A7-0238-432A-A783-C41C33B2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8C1F-E8A6-4003-BC57-7ACA79EF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8280" y="290520"/>
            <a:ext cx="8488440" cy="55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5470-6839-4046-9B68-3C5E56E5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86DD-05F1-4021-9395-93662A76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915F-73A6-4DB6-8ABC-AA56F013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4780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8043-7D19-467E-844F-74F774E3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CD04-48FF-480D-82B1-4BEA5EAD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8280" y="413928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EE3C-5D57-416D-BE9B-63045AE3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4780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87CC-DA35-4FA2-8835-C28282EE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6856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73848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828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6856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73848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46BA-FD11-4E6F-95B1-777C8514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5687-FBDC-4446-834B-BC965A2C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E3DA-51F9-4C0C-8596-FBFCEBED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F677-657A-4ECD-BF7F-62BFADD9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8280" y="290520"/>
            <a:ext cx="8488440" cy="55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6408-0671-425F-B736-7FAEC3FD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EAE-C3EB-4DA8-AA43-CF2EE85A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4780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ED82-8729-4B00-A66D-851D203C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ECF-B44F-4E88-A10B-98D3B278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0" y="0"/>
            <a:ext cx="9486360" cy="5089320"/>
            <a:chOff x="0" y="0"/>
            <a:chExt cx="9486360" cy="5089320"/>
          </a:xfrm>
        </p:grpSpPr>
        <p:sp>
          <p:nvSpPr>
            <p:cNvPr id="1" name="Прямоуг. 3"/>
            <p:cNvSpPr/>
            <p:nvPr/>
          </p:nvSpPr>
          <p:spPr>
            <a:xfrm>
              <a:off x="0" y="0"/>
              <a:ext cx="665280" cy="50893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Группа 4"/>
            <p:cNvGrpSpPr/>
            <p:nvPr/>
          </p:nvGrpSpPr>
          <p:grpSpPr>
            <a:xfrm>
              <a:off x="415800" y="1479240"/>
              <a:ext cx="9070560" cy="190080"/>
              <a:chOff x="415800" y="1479240"/>
              <a:chExt cx="9070560" cy="190080"/>
            </a:xfrm>
          </p:grpSpPr>
          <p:sp>
            <p:nvSpPr>
              <p:cNvPr id="3" name="Прямоуг. 5"/>
              <p:cNvSpPr/>
              <p:nvPr/>
            </p:nvSpPr>
            <p:spPr>
              <a:xfrm>
                <a:off x="7489440" y="1479240"/>
                <a:ext cx="1996920" cy="1900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920" rIns="97920" tIns="48960" bIns="48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Линия 6"/>
              <p:cNvSpPr/>
              <p:nvPr/>
            </p:nvSpPr>
            <p:spPr>
              <a:xfrm>
                <a:off x="415800" y="1558800"/>
                <a:ext cx="907056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5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-36684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24000" indent="-244440">
              <a:spcBef>
                <a:spcPts val="7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44800">
              <a:spcBef>
                <a:spcPts val="7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03560" indent="-244440">
              <a:spcBef>
                <a:spcPts val="7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03560" indent="-2444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03560" indent="-2444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98640" y="6522840"/>
            <a:ext cx="216360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662280" y="6519600"/>
            <a:ext cx="324504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407000" y="6519600"/>
            <a:ext cx="207972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A9C2-4DE2-45F2-A3B6-F6FEBF44D1CD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Линия 12"/>
          <p:cNvSpPr/>
          <p:nvPr/>
        </p:nvSpPr>
        <p:spPr>
          <a:xfrm>
            <a:off x="0" y="5089680"/>
            <a:ext cx="6652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Группа 2"/>
          <p:cNvGrpSpPr/>
          <p:nvPr/>
        </p:nvGrpSpPr>
        <p:grpSpPr>
          <a:xfrm>
            <a:off x="0" y="0"/>
            <a:ext cx="9570240" cy="6201720"/>
            <a:chOff x="0" y="0"/>
            <a:chExt cx="9570240" cy="6201720"/>
          </a:xfrm>
        </p:grpSpPr>
        <p:sp>
          <p:nvSpPr>
            <p:cNvPr id="48" name="Прямоуг. 3"/>
            <p:cNvSpPr/>
            <p:nvPr/>
          </p:nvSpPr>
          <p:spPr>
            <a:xfrm>
              <a:off x="0" y="0"/>
              <a:ext cx="1913760" cy="50889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Группа 4"/>
            <p:cNvGrpSpPr/>
            <p:nvPr/>
          </p:nvGrpSpPr>
          <p:grpSpPr>
            <a:xfrm>
              <a:off x="0" y="3657960"/>
              <a:ext cx="9570240" cy="2543760"/>
              <a:chOff x="0" y="3657960"/>
              <a:chExt cx="9570240" cy="2543760"/>
            </a:xfrm>
          </p:grpSpPr>
          <p:sp>
            <p:nvSpPr>
              <p:cNvPr id="50" name="Прямоуг. 5"/>
              <p:cNvSpPr/>
              <p:nvPr/>
            </p:nvSpPr>
            <p:spPr>
              <a:xfrm>
                <a:off x="1081800" y="3657960"/>
                <a:ext cx="8488440" cy="254376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920" rIns="97920" tIns="48960" bIns="48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Прямоуг. 6"/>
              <p:cNvSpPr/>
              <p:nvPr/>
            </p:nvSpPr>
            <p:spPr>
              <a:xfrm>
                <a:off x="1133640" y="3896280"/>
                <a:ext cx="8353080" cy="223092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920" rIns="97920" tIns="48960" bIns="48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Линия 7"/>
              <p:cNvSpPr/>
              <p:nvPr/>
            </p:nvSpPr>
            <p:spPr>
              <a:xfrm>
                <a:off x="0" y="5088960"/>
                <a:ext cx="108180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Группа 8"/>
            <p:cNvGrpSpPr/>
            <p:nvPr/>
          </p:nvGrpSpPr>
          <p:grpSpPr>
            <a:xfrm>
              <a:off x="693360" y="556560"/>
              <a:ext cx="8821440" cy="317160"/>
              <a:chOff x="693360" y="556560"/>
              <a:chExt cx="8821440" cy="317160"/>
            </a:xfrm>
          </p:grpSpPr>
          <p:sp>
            <p:nvSpPr>
              <p:cNvPr id="54" name="Прямоуг. 9"/>
              <p:cNvSpPr/>
              <p:nvPr/>
            </p:nvSpPr>
            <p:spPr>
              <a:xfrm>
                <a:off x="6851520" y="556560"/>
                <a:ext cx="2663280" cy="3171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920" rIns="97920" tIns="48960" bIns="48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Линия 10"/>
              <p:cNvSpPr/>
              <p:nvPr/>
            </p:nvSpPr>
            <p:spPr>
              <a:xfrm>
                <a:off x="693360" y="714960"/>
                <a:ext cx="882144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5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-36684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24000" indent="-244440">
              <a:spcBef>
                <a:spcPts val="7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44800">
              <a:spcBef>
                <a:spcPts val="7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03560" indent="-244440">
              <a:spcBef>
                <a:spcPts val="7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03560" indent="-2444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03560" indent="-2444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96480" y="6522840"/>
            <a:ext cx="208116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664080" y="6519600"/>
            <a:ext cx="316224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7407000" y="6519600"/>
            <a:ext cx="207972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E98F-C5DA-4B4F-9DE2-EA9197B4E1A5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Военно-полевые сборы. КПП 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5" name="Содержимое 3" descr="P1010160.JPG"/>
          <p:cNvPicPr/>
          <p:nvPr/>
        </p:nvPicPr>
        <p:blipFill>
          <a:blip r:embed="rId1"/>
          <a:stretch/>
        </p:blipFill>
        <p:spPr>
          <a:xfrm>
            <a:off x="1176480" y="1490760"/>
            <a:ext cx="7489800" cy="56181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ffff69"/>
          </a:solidFill>
          <a:ln w="38160">
            <a:solidFill>
              <a:srgbClr val="f5f5e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Неполная разборка и сборка АК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919160" y="1725480"/>
            <a:ext cx="650412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Действие солдата в бою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5" name="Picture 2" descr="E:\Users\Ринат 1\Pictures\Новая папка\P1010275.JPG"/>
          <p:cNvPicPr/>
          <p:nvPr/>
        </p:nvPicPr>
        <p:blipFill>
          <a:blip r:embed="rId1"/>
          <a:stretch/>
        </p:blipFill>
        <p:spPr>
          <a:xfrm>
            <a:off x="1752480" y="1562040"/>
            <a:ext cx="684072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Выполнение команды «Газы!»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Picture 2" descr="E:\Users\Ринат 1\Pictures\Новая папка\P1010287.JPG"/>
          <p:cNvPicPr/>
          <p:nvPr/>
        </p:nvPicPr>
        <p:blipFill>
          <a:blip r:embed="rId1"/>
          <a:stretch/>
        </p:blipFill>
        <p:spPr>
          <a:xfrm>
            <a:off x="1393920" y="1490760"/>
            <a:ext cx="698328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Ожидание условного противника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9" name="Picture 2" descr="E:\Users\Ринат 1\Pictures\Новая папка\P1010267.JPG"/>
          <p:cNvPicPr/>
          <p:nvPr/>
        </p:nvPicPr>
        <p:blipFill>
          <a:blip r:embed="rId1"/>
          <a:stretch/>
        </p:blipFill>
        <p:spPr>
          <a:xfrm>
            <a:off x="1536840" y="1417680"/>
            <a:ext cx="682920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Короткий привал после боя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1" name="Picture 2" descr="E:\Users\Ринат 1\Pictures\Новая папка\P1010297.JPG"/>
          <p:cNvPicPr/>
          <p:nvPr/>
        </p:nvPicPr>
        <p:blipFill>
          <a:blip r:embed="rId1"/>
          <a:stretch/>
        </p:blipFill>
        <p:spPr>
          <a:xfrm>
            <a:off x="1393920" y="1417680"/>
            <a:ext cx="748800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Получать грамоты за успехи всегда приятно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3" name="Picture 2" descr="E:\Users\Ринат 1\Pictures\Новая папка\P1010314.JPG"/>
          <p:cNvPicPr/>
          <p:nvPr/>
        </p:nvPicPr>
        <p:blipFill>
          <a:blip r:embed="rId1"/>
          <a:stretch/>
        </p:blipFill>
        <p:spPr>
          <a:xfrm>
            <a:off x="2112840" y="1670040"/>
            <a:ext cx="6769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На память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5" name="Picture 2" descr="E:\Users\Ринат 1\Pictures\Новая папка\P1010331.JPG"/>
          <p:cNvPicPr/>
          <p:nvPr/>
        </p:nvPicPr>
        <p:blipFill>
          <a:blip r:embed="rId1"/>
          <a:stretch/>
        </p:blipFill>
        <p:spPr>
          <a:xfrm>
            <a:off x="2268360" y="1670040"/>
            <a:ext cx="59486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нструктаж военного комиссара перед стрельбой с боевыми патронам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Picture 2" descr="E:\Users\Ринат 1\Pictures\Новая папка\P1010356.JPG"/>
          <p:cNvPicPr/>
          <p:nvPr/>
        </p:nvPicPr>
        <p:blipFill>
          <a:blip r:embed="rId1"/>
          <a:stretch/>
        </p:blipFill>
        <p:spPr>
          <a:xfrm>
            <a:off x="2268360" y="1670040"/>
            <a:ext cx="59486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Стрельба с боевыми патронами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752480" y="1490760"/>
            <a:ext cx="698508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Просмотр результатов стрельбы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1" name="Picture 2" descr="E:\Users\Ринат 1\Pictures\Новая папка\P1010363.JPG"/>
          <p:cNvPicPr/>
          <p:nvPr/>
        </p:nvPicPr>
        <p:blipFill>
          <a:blip r:embed="rId1"/>
          <a:stretch/>
        </p:blipFill>
        <p:spPr>
          <a:xfrm>
            <a:off x="2268360" y="1670040"/>
            <a:ext cx="59486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Соревнование. Бег на 100м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8" name="Picture 2" descr="E:\Users\Ринат 1\Pictures\Новая папка\P1010299.JPG"/>
          <p:cNvPicPr/>
          <p:nvPr/>
        </p:nvPicPr>
        <p:blipFill>
          <a:blip r:embed="rId1"/>
          <a:stretch/>
        </p:blipFill>
        <p:spPr>
          <a:xfrm>
            <a:off x="1536840" y="1490760"/>
            <a:ext cx="705636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А патроны как много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Picture 2" descr="E:\Users\Ринат 1\Pictures\Новая папка\P1010353.JPG"/>
          <p:cNvPicPr/>
          <p:nvPr/>
        </p:nvPicPr>
        <p:blipFill>
          <a:blip r:embed="rId1"/>
          <a:stretch/>
        </p:blipFill>
        <p:spPr>
          <a:xfrm>
            <a:off x="1393920" y="1490760"/>
            <a:ext cx="6966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Спать в палатке тоже не очень то просто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5" name="Picture 2" descr="E:\Users\Ринат 1\Pictures\Новая папка\P1010212.JPG"/>
          <p:cNvPicPr/>
          <p:nvPr/>
        </p:nvPicPr>
        <p:blipFill>
          <a:blip r:embed="rId1"/>
          <a:stretch/>
        </p:blipFill>
        <p:spPr>
          <a:xfrm>
            <a:off x="1609560" y="1490760"/>
            <a:ext cx="7417080" cy="553068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3"/>
          <p:cNvSpPr/>
          <p:nvPr/>
        </p:nvSpPr>
        <p:spPr>
          <a:xfrm>
            <a:off x="4349880" y="6727680"/>
            <a:ext cx="2214360" cy="428760"/>
          </a:xfrm>
          <a:prstGeom prst="rect">
            <a:avLst/>
          </a:prstGeom>
          <a:solidFill>
            <a:srgbClr val="ffff69"/>
          </a:solidFill>
          <a:ln w="38160">
            <a:solidFill>
              <a:srgbClr val="f5f5e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100" spc="-1" strike="noStrike">
                <a:solidFill>
                  <a:srgbClr val="330033"/>
                </a:solidFill>
                <a:latin typeface="Times New Roman"/>
              </a:rPr>
              <a:t>Стрельба из пневматической винтовки</a:t>
            </a:r>
            <a:endParaRPr b="0" lang="en-US" sz="41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609560" y="1593720"/>
            <a:ext cx="6985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Место приготовления пищи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2" name="Picture 2" descr="E:\Users\Ринат 1\Pictures\Новая папка\P1010220.JPG"/>
          <p:cNvPicPr/>
          <p:nvPr/>
        </p:nvPicPr>
        <p:blipFill>
          <a:blip r:embed="rId1"/>
          <a:stretch/>
        </p:blipFill>
        <p:spPr>
          <a:xfrm>
            <a:off x="1609560" y="1562040"/>
            <a:ext cx="68216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Футбол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Picture 2" descr="E:\Users\Ринат 1\Pictures\Новая папка\P1010238.JPG"/>
          <p:cNvPicPr/>
          <p:nvPr/>
        </p:nvPicPr>
        <p:blipFill>
          <a:blip r:embed="rId1"/>
          <a:stretch/>
        </p:blipFill>
        <p:spPr>
          <a:xfrm>
            <a:off x="1681200" y="1562040"/>
            <a:ext cx="68295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100" spc="-1" strike="noStrike">
                <a:solidFill>
                  <a:srgbClr val="330033"/>
                </a:solidFill>
                <a:latin typeface="Times New Roman"/>
              </a:rPr>
              <a:t>Преодоление зараженного участка </a:t>
            </a:r>
            <a:endParaRPr b="0" lang="en-US" sz="41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Picture 2" descr="E:\Users\Ринат 1\Pictures\Новая папка\P1010256.JPG"/>
          <p:cNvPicPr/>
          <p:nvPr/>
        </p:nvPicPr>
        <p:blipFill>
          <a:blip r:embed="rId1"/>
          <a:stretch/>
        </p:blipFill>
        <p:spPr>
          <a:xfrm>
            <a:off x="1681200" y="1633680"/>
            <a:ext cx="6840360" cy="54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4" descr="P1020180_2"/>
          <p:cNvPicPr/>
          <p:nvPr/>
        </p:nvPicPr>
        <p:blipFill>
          <a:blip r:embed="rId1"/>
          <a:stretch/>
        </p:blipFill>
        <p:spPr>
          <a:xfrm>
            <a:off x="1104840" y="409680"/>
            <a:ext cx="7848720" cy="64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Первое построение 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320840" y="1490760"/>
            <a:ext cx="72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Обед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393920" y="1562040"/>
            <a:ext cx="695808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3:37:42Z</dcterms:created>
  <dc:creator>Ринат 1</dc:creator>
  <dc:description/>
  <dc:language>en-US</dc:language>
  <cp:lastModifiedBy>Admin</cp:lastModifiedBy>
  <dcterms:modified xsi:type="dcterms:W3CDTF">2012-09-02T16:52:06Z</dcterms:modified>
  <cp:revision>15</cp:revision>
  <dc:subject/>
  <dc:title>Слайд 1</dc:title>
</cp:coreProperties>
</file>