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986963" cy="7156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036800" y="685440"/>
            <a:ext cx="47844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5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484D-4F39-4767-8BF8-B0A2792612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036800" y="685800"/>
            <a:ext cx="47844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AC5C-084E-4FFB-BD76-A839B7AD4E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AD55-CF71-4B49-B66B-10F85F44C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848844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8280" y="4139280"/>
            <a:ext cx="848844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0ED2-110D-44A4-96D4-74AD8C30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8280" y="413928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47800" y="413928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8D87-75A9-4176-9F28-4680244FB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8560" y="167004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38480" y="167004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8280" y="413928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68560" y="413928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38480" y="413928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3F1F-19C1-4F67-BE22-7B03537D8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E099-7854-42F6-9A85-BAA6576B2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98280" y="1670040"/>
            <a:ext cx="8488440" cy="47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03D1-0D40-4FEB-A066-DB1DAE2D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848844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0660-F2A6-4FF3-AF67-5432D0B0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B562-DCBD-4A60-9F76-F697F260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8D99-8062-4DDE-8605-ADDE63A7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8280" y="290520"/>
            <a:ext cx="8488440" cy="55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BCD2-B438-430D-8720-8D09F2D9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8280" y="413928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1195-A53F-4F94-A405-54B970FA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8280" y="1670040"/>
            <a:ext cx="8488440" cy="47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5E84-5D6A-4028-A412-DD408833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47800" y="413928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BF35-E25E-4920-AB44-59E80666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8280" y="4139280"/>
            <a:ext cx="848844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72D9-B70B-4EB3-B171-19498E97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848844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98280" y="4139280"/>
            <a:ext cx="848844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5959C-AE86-43A0-B5DA-1F23EB5B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98280" y="413928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347800" y="413928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A338-3722-46F1-90BC-20AD2FDF3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68560" y="167004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738480" y="167004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98280" y="413928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868560" y="413928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738480" y="413928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3BD3-DDC6-4823-A7A6-7C3CD0C3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848844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4BA1-E3EC-4154-8082-9AD54F99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C073-806B-498F-BEDB-D80680C5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6F06-C910-4539-8582-8BAB0DFF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8280" y="290520"/>
            <a:ext cx="8488440" cy="55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EA43-3A5C-403B-9DBA-8B0C2BB4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8280" y="413928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1583-6594-4662-BF22-F27D0E9E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47800" y="413928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3966-C233-4E94-8BD3-43B22669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8280" y="4139280"/>
            <a:ext cx="848844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FBFC-48D1-450A-B615-3A1A1C89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0" y="0"/>
            <a:ext cx="9486360" cy="5089320"/>
            <a:chOff x="0" y="0"/>
            <a:chExt cx="9486360" cy="5089320"/>
          </a:xfrm>
        </p:grpSpPr>
        <p:sp>
          <p:nvSpPr>
            <p:cNvPr id="1" name="Прямоуг. 3"/>
            <p:cNvSpPr/>
            <p:nvPr/>
          </p:nvSpPr>
          <p:spPr>
            <a:xfrm>
              <a:off x="0" y="0"/>
              <a:ext cx="665280" cy="50893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Группа 4"/>
            <p:cNvGrpSpPr/>
            <p:nvPr/>
          </p:nvGrpSpPr>
          <p:grpSpPr>
            <a:xfrm>
              <a:off x="415800" y="1479240"/>
              <a:ext cx="9070560" cy="190080"/>
              <a:chOff x="415800" y="1479240"/>
              <a:chExt cx="9070560" cy="190080"/>
            </a:xfrm>
          </p:grpSpPr>
          <p:sp>
            <p:nvSpPr>
              <p:cNvPr id="3" name="Прямоуг. 5"/>
              <p:cNvSpPr/>
              <p:nvPr/>
            </p:nvSpPr>
            <p:spPr>
              <a:xfrm>
                <a:off x="7489440" y="1479240"/>
                <a:ext cx="1996920" cy="1900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7920" rIns="97920" tIns="48960" bIns="48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9560"/>
                    <a:tab algn="l" pos="1959120"/>
                    <a:tab algn="l" pos="2938320"/>
                    <a:tab algn="l" pos="3917880"/>
                    <a:tab algn="l" pos="4897440"/>
                    <a:tab algn="l" pos="5877000"/>
                    <a:tab algn="l" pos="6856560"/>
                    <a:tab algn="l" pos="7835760"/>
                    <a:tab algn="l" pos="8815320"/>
                    <a:tab algn="l" pos="9794880"/>
                    <a:tab algn="l" pos="107744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Линия 6"/>
              <p:cNvSpPr/>
              <p:nvPr/>
            </p:nvSpPr>
            <p:spPr>
              <a:xfrm>
                <a:off x="415800" y="1558800"/>
                <a:ext cx="907056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5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98280" y="1670040"/>
            <a:ext cx="848844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6840" indent="-36684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04560"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24000" indent="-244440">
              <a:spcBef>
                <a:spcPts val="7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44800">
              <a:spcBef>
                <a:spcPts val="7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03560" indent="-244440">
              <a:spcBef>
                <a:spcPts val="7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03560" indent="-2444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03560" indent="-2444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98640" y="6522840"/>
            <a:ext cx="2163600" cy="477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662280" y="6519600"/>
            <a:ext cx="3245040" cy="477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407000" y="6519600"/>
            <a:ext cx="2079720" cy="477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0852-7E86-4B6E-AF1B-571181DF96C8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Линия 12"/>
          <p:cNvSpPr/>
          <p:nvPr/>
        </p:nvSpPr>
        <p:spPr>
          <a:xfrm>
            <a:off x="0" y="5089680"/>
            <a:ext cx="6652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Группа 2"/>
          <p:cNvGrpSpPr/>
          <p:nvPr/>
        </p:nvGrpSpPr>
        <p:grpSpPr>
          <a:xfrm>
            <a:off x="0" y="0"/>
            <a:ext cx="9570240" cy="6201720"/>
            <a:chOff x="0" y="0"/>
            <a:chExt cx="9570240" cy="6201720"/>
          </a:xfrm>
        </p:grpSpPr>
        <p:sp>
          <p:nvSpPr>
            <p:cNvPr id="48" name="Прямоуг. 3"/>
            <p:cNvSpPr/>
            <p:nvPr/>
          </p:nvSpPr>
          <p:spPr>
            <a:xfrm>
              <a:off x="0" y="0"/>
              <a:ext cx="1913760" cy="50889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Группа 4"/>
            <p:cNvGrpSpPr/>
            <p:nvPr/>
          </p:nvGrpSpPr>
          <p:grpSpPr>
            <a:xfrm>
              <a:off x="0" y="3657960"/>
              <a:ext cx="9570240" cy="2543760"/>
              <a:chOff x="0" y="3657960"/>
              <a:chExt cx="9570240" cy="2543760"/>
            </a:xfrm>
          </p:grpSpPr>
          <p:sp>
            <p:nvSpPr>
              <p:cNvPr id="50" name="Прямоуг. 5"/>
              <p:cNvSpPr/>
              <p:nvPr/>
            </p:nvSpPr>
            <p:spPr>
              <a:xfrm>
                <a:off x="1081800" y="3657960"/>
                <a:ext cx="8488440" cy="254376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7920" rIns="97920" tIns="48960" bIns="48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9560"/>
                    <a:tab algn="l" pos="1959120"/>
                    <a:tab algn="l" pos="2938320"/>
                    <a:tab algn="l" pos="3917880"/>
                    <a:tab algn="l" pos="4897440"/>
                    <a:tab algn="l" pos="5877000"/>
                    <a:tab algn="l" pos="6856560"/>
                    <a:tab algn="l" pos="7835760"/>
                    <a:tab algn="l" pos="8815320"/>
                    <a:tab algn="l" pos="9794880"/>
                    <a:tab algn="l" pos="107744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Прямоуг. 6"/>
              <p:cNvSpPr/>
              <p:nvPr/>
            </p:nvSpPr>
            <p:spPr>
              <a:xfrm>
                <a:off x="1133640" y="3896280"/>
                <a:ext cx="8353080" cy="223092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7920" rIns="97920" tIns="48960" bIns="48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9560"/>
                    <a:tab algn="l" pos="1959120"/>
                    <a:tab algn="l" pos="2938320"/>
                    <a:tab algn="l" pos="3917880"/>
                    <a:tab algn="l" pos="4897440"/>
                    <a:tab algn="l" pos="5877000"/>
                    <a:tab algn="l" pos="6856560"/>
                    <a:tab algn="l" pos="7835760"/>
                    <a:tab algn="l" pos="8815320"/>
                    <a:tab algn="l" pos="9794880"/>
                    <a:tab algn="l" pos="107744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Линия 7"/>
              <p:cNvSpPr/>
              <p:nvPr/>
            </p:nvSpPr>
            <p:spPr>
              <a:xfrm>
                <a:off x="0" y="5088960"/>
                <a:ext cx="108180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Группа 8"/>
            <p:cNvGrpSpPr/>
            <p:nvPr/>
          </p:nvGrpSpPr>
          <p:grpSpPr>
            <a:xfrm>
              <a:off x="693360" y="556560"/>
              <a:ext cx="8821440" cy="317160"/>
              <a:chOff x="693360" y="556560"/>
              <a:chExt cx="8821440" cy="317160"/>
            </a:xfrm>
          </p:grpSpPr>
          <p:sp>
            <p:nvSpPr>
              <p:cNvPr id="54" name="Прямоуг. 9"/>
              <p:cNvSpPr/>
              <p:nvPr/>
            </p:nvSpPr>
            <p:spPr>
              <a:xfrm>
                <a:off x="6851520" y="556560"/>
                <a:ext cx="2663280" cy="3171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7920" rIns="97920" tIns="48960" bIns="48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9560"/>
                    <a:tab algn="l" pos="1959120"/>
                    <a:tab algn="l" pos="2938320"/>
                    <a:tab algn="l" pos="3917880"/>
                    <a:tab algn="l" pos="4897440"/>
                    <a:tab algn="l" pos="5877000"/>
                    <a:tab algn="l" pos="6856560"/>
                    <a:tab algn="l" pos="7835760"/>
                    <a:tab algn="l" pos="8815320"/>
                    <a:tab algn="l" pos="9794880"/>
                    <a:tab algn="l" pos="107744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Линия 10"/>
              <p:cNvSpPr/>
              <p:nvPr/>
            </p:nvSpPr>
            <p:spPr>
              <a:xfrm>
                <a:off x="693360" y="714960"/>
                <a:ext cx="882144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5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98280" y="1670040"/>
            <a:ext cx="848844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6840" indent="-36684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04560"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24000" indent="-244440">
              <a:spcBef>
                <a:spcPts val="7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44800">
              <a:spcBef>
                <a:spcPts val="7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03560" indent="-244440">
              <a:spcBef>
                <a:spcPts val="7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03560" indent="-2444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03560" indent="-2444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96480" y="6522840"/>
            <a:ext cx="2081160" cy="477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664080" y="6519600"/>
            <a:ext cx="3162240" cy="477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7407000" y="6519600"/>
            <a:ext cx="2079720" cy="477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F3AD-C8A2-42A5-BCF8-DC7A164FDF67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Военно-полевые сборы. КПП 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5" name="Содержимое 3" descr="P1010160.JPG"/>
          <p:cNvPicPr/>
          <p:nvPr/>
        </p:nvPicPr>
        <p:blipFill>
          <a:blip r:embed="rId1"/>
          <a:stretch/>
        </p:blipFill>
        <p:spPr>
          <a:xfrm>
            <a:off x="1176480" y="1490760"/>
            <a:ext cx="7489800" cy="561816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3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ffff69"/>
          </a:solidFill>
          <a:ln w="38160">
            <a:solidFill>
              <a:srgbClr val="f5f5e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0033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Неполная разборка и сборка АК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919160" y="1725480"/>
            <a:ext cx="650412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Действие солдата в бою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5" name="Picture 2" descr="E:\Users\Ринат 1\Pictures\Новая папка\P1010275.JPG"/>
          <p:cNvPicPr/>
          <p:nvPr/>
        </p:nvPicPr>
        <p:blipFill>
          <a:blip r:embed="rId1"/>
          <a:stretch/>
        </p:blipFill>
        <p:spPr>
          <a:xfrm>
            <a:off x="1752480" y="1562040"/>
            <a:ext cx="684072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Выполнение команды «Газы!»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7" name="Picture 2" descr="E:\Users\Ринат 1\Pictures\Новая папка\P1010287.JPG"/>
          <p:cNvPicPr/>
          <p:nvPr/>
        </p:nvPicPr>
        <p:blipFill>
          <a:blip r:embed="rId1"/>
          <a:stretch/>
        </p:blipFill>
        <p:spPr>
          <a:xfrm>
            <a:off x="1393920" y="1490760"/>
            <a:ext cx="698328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Ожидание условного противника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9" name="Picture 2" descr="E:\Users\Ринат 1\Pictures\Новая папка\P1010267.JPG"/>
          <p:cNvPicPr/>
          <p:nvPr/>
        </p:nvPicPr>
        <p:blipFill>
          <a:blip r:embed="rId1"/>
          <a:stretch/>
        </p:blipFill>
        <p:spPr>
          <a:xfrm>
            <a:off x="1536840" y="1417680"/>
            <a:ext cx="682920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Короткий привал после боя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1" name="Picture 2" descr="E:\Users\Ринат 1\Pictures\Новая папка\P1010297.JPG"/>
          <p:cNvPicPr/>
          <p:nvPr/>
        </p:nvPicPr>
        <p:blipFill>
          <a:blip r:embed="rId1"/>
          <a:stretch/>
        </p:blipFill>
        <p:spPr>
          <a:xfrm>
            <a:off x="1393920" y="1417680"/>
            <a:ext cx="748800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Получать грамоты за успехи всегда приятно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3" name="Picture 2" descr="E:\Users\Ринат 1\Pictures\Новая папка\P1010314.JPG"/>
          <p:cNvPicPr/>
          <p:nvPr/>
        </p:nvPicPr>
        <p:blipFill>
          <a:blip r:embed="rId1"/>
          <a:stretch/>
        </p:blipFill>
        <p:spPr>
          <a:xfrm>
            <a:off x="2112840" y="1670040"/>
            <a:ext cx="6769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На память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5" name="Picture 2" descr="E:\Users\Ринат 1\Pictures\Новая папка\P1010331.JPG"/>
          <p:cNvPicPr/>
          <p:nvPr/>
        </p:nvPicPr>
        <p:blipFill>
          <a:blip r:embed="rId1"/>
          <a:stretch/>
        </p:blipFill>
        <p:spPr>
          <a:xfrm>
            <a:off x="2268360" y="1670040"/>
            <a:ext cx="594864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Инструктаж военного комиссара перед стрельбой с боевыми патронам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7" name="Picture 2" descr="E:\Users\Ринат 1\Pictures\Новая папка\P1010356.JPG"/>
          <p:cNvPicPr/>
          <p:nvPr/>
        </p:nvPicPr>
        <p:blipFill>
          <a:blip r:embed="rId1"/>
          <a:stretch/>
        </p:blipFill>
        <p:spPr>
          <a:xfrm>
            <a:off x="2268360" y="1670040"/>
            <a:ext cx="594864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Стрельба с боевыми патронами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752480" y="1490760"/>
            <a:ext cx="698508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Просмотр результатов стрельбы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1" name="Picture 2" descr="E:\Users\Ринат 1\Pictures\Новая папка\P1010363.JPG"/>
          <p:cNvPicPr/>
          <p:nvPr/>
        </p:nvPicPr>
        <p:blipFill>
          <a:blip r:embed="rId1"/>
          <a:stretch/>
        </p:blipFill>
        <p:spPr>
          <a:xfrm>
            <a:off x="2268360" y="1670040"/>
            <a:ext cx="594864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Соревнование. Бег на 100м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8" name="Picture 2" descr="E:\Users\Ринат 1\Pictures\Новая папка\P1010299.JPG"/>
          <p:cNvPicPr/>
          <p:nvPr/>
        </p:nvPicPr>
        <p:blipFill>
          <a:blip r:embed="rId1"/>
          <a:stretch/>
        </p:blipFill>
        <p:spPr>
          <a:xfrm>
            <a:off x="1536840" y="1490760"/>
            <a:ext cx="7056360" cy="56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А патроны как много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3" name="Picture 2" descr="E:\Users\Ринат 1\Pictures\Новая папка\P1010353.JPG"/>
          <p:cNvPicPr/>
          <p:nvPr/>
        </p:nvPicPr>
        <p:blipFill>
          <a:blip r:embed="rId1"/>
          <a:stretch/>
        </p:blipFill>
        <p:spPr>
          <a:xfrm>
            <a:off x="1393920" y="1490760"/>
            <a:ext cx="6966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Спать в палатке тоже не очень то просто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5" name="Picture 2" descr="E:\Users\Ринат 1\Pictures\Новая папка\P1010212.JPG"/>
          <p:cNvPicPr/>
          <p:nvPr/>
        </p:nvPicPr>
        <p:blipFill>
          <a:blip r:embed="rId1"/>
          <a:stretch/>
        </p:blipFill>
        <p:spPr>
          <a:xfrm>
            <a:off x="1609560" y="1490760"/>
            <a:ext cx="7417080" cy="553068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3"/>
          <p:cNvSpPr/>
          <p:nvPr/>
        </p:nvSpPr>
        <p:spPr>
          <a:xfrm>
            <a:off x="4349880" y="6727680"/>
            <a:ext cx="2214360" cy="428760"/>
          </a:xfrm>
          <a:prstGeom prst="rect">
            <a:avLst/>
          </a:prstGeom>
          <a:solidFill>
            <a:srgbClr val="ffff69"/>
          </a:solidFill>
          <a:ln w="38160">
            <a:solidFill>
              <a:srgbClr val="f5f5e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0033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100" spc="-1" strike="noStrike">
                <a:solidFill>
                  <a:srgbClr val="330033"/>
                </a:solidFill>
                <a:latin typeface="Times New Roman"/>
              </a:rPr>
              <a:t>Стрельба из пневматической винтовки</a:t>
            </a:r>
            <a:endParaRPr b="0" lang="en-US" sz="41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609560" y="1593720"/>
            <a:ext cx="6985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Место приготовления пищи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2" name="Picture 2" descr="E:\Users\Ринат 1\Pictures\Новая папка\P1010220.JPG"/>
          <p:cNvPicPr/>
          <p:nvPr/>
        </p:nvPicPr>
        <p:blipFill>
          <a:blip r:embed="rId1"/>
          <a:stretch/>
        </p:blipFill>
        <p:spPr>
          <a:xfrm>
            <a:off x="1609560" y="1562040"/>
            <a:ext cx="68216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Футбол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4" name="Picture 2" descr="E:\Users\Ринат 1\Pictures\Новая папка\P1010238.JPG"/>
          <p:cNvPicPr/>
          <p:nvPr/>
        </p:nvPicPr>
        <p:blipFill>
          <a:blip r:embed="rId1"/>
          <a:stretch/>
        </p:blipFill>
        <p:spPr>
          <a:xfrm>
            <a:off x="1681200" y="1562040"/>
            <a:ext cx="682956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100" spc="-1" strike="noStrike">
                <a:solidFill>
                  <a:srgbClr val="330033"/>
                </a:solidFill>
                <a:latin typeface="Times New Roman"/>
              </a:rPr>
              <a:t>Преодоление зараженного участка </a:t>
            </a:r>
            <a:endParaRPr b="0" lang="en-US" sz="41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6" name="Picture 2" descr="E:\Users\Ринат 1\Pictures\Новая папка\P1010256.JPG"/>
          <p:cNvPicPr/>
          <p:nvPr/>
        </p:nvPicPr>
        <p:blipFill>
          <a:blip r:embed="rId1"/>
          <a:stretch/>
        </p:blipFill>
        <p:spPr>
          <a:xfrm>
            <a:off x="1681200" y="1633680"/>
            <a:ext cx="6840360" cy="54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4" descr="P1020180_2"/>
          <p:cNvPicPr/>
          <p:nvPr/>
        </p:nvPicPr>
        <p:blipFill>
          <a:blip r:embed="rId1"/>
          <a:stretch/>
        </p:blipFill>
        <p:spPr>
          <a:xfrm>
            <a:off x="1104840" y="409680"/>
            <a:ext cx="7848720" cy="64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Первое построение 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320840" y="1490760"/>
            <a:ext cx="72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Обед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1393920" y="1562040"/>
            <a:ext cx="695808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3:37:42Z</dcterms:created>
  <dc:creator>Ринат 1</dc:creator>
  <dc:description/>
  <dc:language>en-US</dc:language>
  <cp:lastModifiedBy>Admin</cp:lastModifiedBy>
  <dcterms:modified xsi:type="dcterms:W3CDTF">2012-09-02T16:52:06Z</dcterms:modified>
  <cp:revision>15</cp:revision>
  <dc:subject/>
  <dc:title>Слайд 1</dc:title>
</cp:coreProperties>
</file>