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86963" cy="7156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036800" y="685440"/>
            <a:ext cx="4784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9D7C-BF65-4FB8-A507-16C4D24226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036800" y="685800"/>
            <a:ext cx="47844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2924-27D3-405E-B57D-2D659DBF6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E7D0-F85C-494A-B1DA-1C0AAAEC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1DE-A0B2-4328-B62C-5B7EC5CA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7B7-E2EB-4B6E-8851-E9BB892A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755-9FC4-4D35-B74D-ECB09258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6B19-FD64-44B8-984D-6C66FAAC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66C2-4E69-4A63-9D82-D408F2F5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1861-D51D-445D-A7E5-1E1B9C45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30A5-6AB6-4317-B94E-679A2ACD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BB3B-9878-4C19-84F3-CE8E744F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4F3E-D04A-4645-84D2-9823E543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267B-4575-45B7-80E9-F7B9A71D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ECE-76A1-455B-A307-B3CF27D4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9EC1-C6DE-48C0-ACA1-B5B0AFFA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D7CD-A019-48DA-83CE-306FF280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BB56-DAA6-4431-BE31-9EE4ADFE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B228-017C-4074-A092-A8744DE0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6856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738480" y="167004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82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6856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738480" y="4139280"/>
            <a:ext cx="273312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2B4D-E607-4AFF-AEF8-346DB050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646-3124-429F-86CC-CF04FABE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FE3-F4CA-46CF-9A1D-A37B0E91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8C5-D541-4D45-AE79-0DC86FC2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8280" y="290520"/>
            <a:ext cx="8488440" cy="55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246-42E2-4944-A5DA-E13ED65D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68D-5A9F-41EA-880C-54909E0D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7800" y="413928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570-B453-45E7-9AEA-6348E1CF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828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7800" y="1670040"/>
            <a:ext cx="414216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8280" y="4139280"/>
            <a:ext cx="8488440" cy="22546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F5A-754D-4DF1-A344-9DABFD74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9486360" cy="5089320"/>
            <a:chOff x="0" y="0"/>
            <a:chExt cx="9486360" cy="5089320"/>
          </a:xfrm>
        </p:grpSpPr>
        <p:sp>
          <p:nvSpPr>
            <p:cNvPr id="1" name="Прямоуг. 3"/>
            <p:cNvSpPr/>
            <p:nvPr/>
          </p:nvSpPr>
          <p:spPr>
            <a:xfrm>
              <a:off x="0" y="0"/>
              <a:ext cx="665280" cy="50893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Группа 4"/>
            <p:cNvGrpSpPr/>
            <p:nvPr/>
          </p:nvGrpSpPr>
          <p:grpSpPr>
            <a:xfrm>
              <a:off x="415800" y="1479240"/>
              <a:ext cx="9070560" cy="190080"/>
              <a:chOff x="415800" y="1479240"/>
              <a:chExt cx="9070560" cy="190080"/>
            </a:xfrm>
          </p:grpSpPr>
          <p:sp>
            <p:nvSpPr>
              <p:cNvPr id="3" name="Прямоуг. 5"/>
              <p:cNvSpPr/>
              <p:nvPr/>
            </p:nvSpPr>
            <p:spPr>
              <a:xfrm>
                <a:off x="7489440" y="1479240"/>
                <a:ext cx="1996920" cy="1900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Линия 6"/>
              <p:cNvSpPr/>
              <p:nvPr/>
            </p:nvSpPr>
            <p:spPr>
              <a:xfrm>
                <a:off x="415800" y="1558800"/>
                <a:ext cx="907056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98640" y="6522840"/>
            <a:ext cx="216360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662280" y="6519600"/>
            <a:ext cx="32450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E512-1E8A-430E-874B-C08D0A9C7810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Линия 12"/>
          <p:cNvSpPr/>
          <p:nvPr/>
        </p:nvSpPr>
        <p:spPr>
          <a:xfrm>
            <a:off x="0" y="5089680"/>
            <a:ext cx="6652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Группа 2"/>
          <p:cNvGrpSpPr/>
          <p:nvPr/>
        </p:nvGrpSpPr>
        <p:grpSpPr>
          <a:xfrm>
            <a:off x="0" y="0"/>
            <a:ext cx="9570240" cy="6201720"/>
            <a:chOff x="0" y="0"/>
            <a:chExt cx="9570240" cy="6201720"/>
          </a:xfrm>
        </p:grpSpPr>
        <p:sp>
          <p:nvSpPr>
            <p:cNvPr id="48" name="Прямоуг. 3"/>
            <p:cNvSpPr/>
            <p:nvPr/>
          </p:nvSpPr>
          <p:spPr>
            <a:xfrm>
              <a:off x="0" y="0"/>
              <a:ext cx="1913760" cy="5088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920" rIns="97920" tIns="48960" bIns="48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Группа 4"/>
            <p:cNvGrpSpPr/>
            <p:nvPr/>
          </p:nvGrpSpPr>
          <p:grpSpPr>
            <a:xfrm>
              <a:off x="0" y="3657960"/>
              <a:ext cx="9570240" cy="2543760"/>
              <a:chOff x="0" y="3657960"/>
              <a:chExt cx="9570240" cy="2543760"/>
            </a:xfrm>
          </p:grpSpPr>
          <p:sp>
            <p:nvSpPr>
              <p:cNvPr id="50" name="Прямоуг. 5"/>
              <p:cNvSpPr/>
              <p:nvPr/>
            </p:nvSpPr>
            <p:spPr>
              <a:xfrm>
                <a:off x="1081800" y="3657960"/>
                <a:ext cx="8488440" cy="254376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Прямоуг. 6"/>
              <p:cNvSpPr/>
              <p:nvPr/>
            </p:nvSpPr>
            <p:spPr>
              <a:xfrm>
                <a:off x="1133640" y="3896280"/>
                <a:ext cx="8353080" cy="223092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Линия 7"/>
              <p:cNvSpPr/>
              <p:nvPr/>
            </p:nvSpPr>
            <p:spPr>
              <a:xfrm>
                <a:off x="0" y="5088960"/>
                <a:ext cx="108180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Группа 8"/>
            <p:cNvGrpSpPr/>
            <p:nvPr/>
          </p:nvGrpSpPr>
          <p:grpSpPr>
            <a:xfrm>
              <a:off x="693360" y="556560"/>
              <a:ext cx="8821440" cy="317160"/>
              <a:chOff x="693360" y="556560"/>
              <a:chExt cx="8821440" cy="317160"/>
            </a:xfrm>
          </p:grpSpPr>
          <p:sp>
            <p:nvSpPr>
              <p:cNvPr id="54" name="Прямоуг. 9"/>
              <p:cNvSpPr/>
              <p:nvPr/>
            </p:nvSpPr>
            <p:spPr>
              <a:xfrm>
                <a:off x="6851520" y="556560"/>
                <a:ext cx="2663280" cy="3171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7920" rIns="97920" tIns="48960" bIns="48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Линия 10"/>
              <p:cNvSpPr/>
              <p:nvPr/>
            </p:nvSpPr>
            <p:spPr>
              <a:xfrm>
                <a:off x="693360" y="714960"/>
                <a:ext cx="882144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5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98280" y="1670040"/>
            <a:ext cx="8488440" cy="47275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-366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04560">
              <a:spcBef>
                <a:spcPts val="7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24000" indent="-244440">
              <a:spcBef>
                <a:spcPts val="7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4480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03560" indent="-244440">
              <a:spcBef>
                <a:spcPts val="7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03560" indent="-2444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96480" y="6522840"/>
            <a:ext cx="208116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664080" y="6519600"/>
            <a:ext cx="316224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407000" y="6519600"/>
            <a:ext cx="2079720" cy="477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90E8-4283-483B-A502-3291C554E451}" type="slidenum">
              <a:rPr b="0" lang="ru-RU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оенно-полевые сборы. КПП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5" name="Содержимое 3" descr="P1010160.JPG"/>
          <p:cNvPicPr/>
          <p:nvPr/>
        </p:nvPicPr>
        <p:blipFill>
          <a:blip r:embed="rId1"/>
          <a:stretch/>
        </p:blipFill>
        <p:spPr>
          <a:xfrm>
            <a:off x="1176480" y="1490760"/>
            <a:ext cx="7489800" cy="56181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3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ffff69"/>
          </a:solidFill>
          <a:ln w="38160">
            <a:solidFill>
              <a:srgbClr val="f5f5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еполная разборка и сборка АК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919160" y="1725480"/>
            <a:ext cx="6504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Действие солдата в бою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Picture 2" descr="E:\Users\Ринат 1\Pictures\Новая папка\P1010275.JPG"/>
          <p:cNvPicPr/>
          <p:nvPr/>
        </p:nvPicPr>
        <p:blipFill>
          <a:blip r:embed="rId1"/>
          <a:stretch/>
        </p:blipFill>
        <p:spPr>
          <a:xfrm>
            <a:off x="1752480" y="1562040"/>
            <a:ext cx="68407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Выполнение команды «Газы!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E:\Users\Ринат 1\Pictures\Новая папка\P1010287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8328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жидание условного противника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2" descr="E:\Users\Ринат 1\Pictures\Новая папка\P1010267.JPG"/>
          <p:cNvPicPr/>
          <p:nvPr/>
        </p:nvPicPr>
        <p:blipFill>
          <a:blip r:embed="rId1"/>
          <a:stretch/>
        </p:blipFill>
        <p:spPr>
          <a:xfrm>
            <a:off x="1536840" y="1417680"/>
            <a:ext cx="68292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Короткий привал после боя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2" descr="E:\Users\Ринат 1\Pictures\Новая папка\P1010297.JPG"/>
          <p:cNvPicPr/>
          <p:nvPr/>
        </p:nvPicPr>
        <p:blipFill>
          <a:blip r:embed="rId1"/>
          <a:stretch/>
        </p:blipFill>
        <p:spPr>
          <a:xfrm>
            <a:off x="1393920" y="1417680"/>
            <a:ext cx="74880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олучать грамоты за успехи всегда приятн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3" name="Picture 2" descr="E:\Users\Ринат 1\Pictures\Новая папка\P1010314.JPG"/>
          <p:cNvPicPr/>
          <p:nvPr/>
        </p:nvPicPr>
        <p:blipFill>
          <a:blip r:embed="rId1"/>
          <a:stretch/>
        </p:blipFill>
        <p:spPr>
          <a:xfrm>
            <a:off x="2112840" y="1670040"/>
            <a:ext cx="67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На память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2" descr="E:\Users\Ринат 1\Pictures\Новая папка\P1010331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нструктаж военного комиссара перед стрельбой с боевыми патрон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2" descr="E:\Users\Ринат 1\Pictures\Новая папка\P1010356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трельба с боевыми патронам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752480" y="1490760"/>
            <a:ext cx="698508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росмотр результатов стрельбы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Picture 2" descr="E:\Users\Ринат 1\Pictures\Новая папка\P1010363.JPG"/>
          <p:cNvPicPr/>
          <p:nvPr/>
        </p:nvPicPr>
        <p:blipFill>
          <a:blip r:embed="rId1"/>
          <a:stretch/>
        </p:blipFill>
        <p:spPr>
          <a:xfrm>
            <a:off x="2268360" y="1670040"/>
            <a:ext cx="5948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оревнование. Бег на 100м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Picture 2" descr="E:\Users\Ринат 1\Pictures\Новая папка\P1010299.JPG"/>
          <p:cNvPicPr/>
          <p:nvPr/>
        </p:nvPicPr>
        <p:blipFill>
          <a:blip r:embed="rId1"/>
          <a:stretch/>
        </p:blipFill>
        <p:spPr>
          <a:xfrm>
            <a:off x="1536840" y="1490760"/>
            <a:ext cx="705636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А патроны как мног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Picture 2" descr="E:\Users\Ринат 1\Pictures\Новая папка\P1010353.JPG"/>
          <p:cNvPicPr/>
          <p:nvPr/>
        </p:nvPicPr>
        <p:blipFill>
          <a:blip r:embed="rId1"/>
          <a:stretch/>
        </p:blipFill>
        <p:spPr>
          <a:xfrm>
            <a:off x="1393920" y="1490760"/>
            <a:ext cx="6966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Спать в палатке тоже не очень то просто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Picture 2" descr="E:\Users\Ринат 1\Pictures\Новая папка\P1010212.JPG"/>
          <p:cNvPicPr/>
          <p:nvPr/>
        </p:nvPicPr>
        <p:blipFill>
          <a:blip r:embed="rId1"/>
          <a:stretch/>
        </p:blipFill>
        <p:spPr>
          <a:xfrm>
            <a:off x="1609560" y="1490760"/>
            <a:ext cx="7417080" cy="55306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4349880" y="6727680"/>
            <a:ext cx="2214360" cy="428760"/>
          </a:xfrm>
          <a:prstGeom prst="rect">
            <a:avLst/>
          </a:prstGeom>
          <a:solidFill>
            <a:srgbClr val="ffff69"/>
          </a:solidFill>
          <a:ln w="38160">
            <a:solidFill>
              <a:srgbClr val="f5f5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Стрельба из пневматической винтовки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609560" y="1593720"/>
            <a:ext cx="6985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Место приготовления пищи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Picture 2" descr="E:\Users\Ринат 1\Pictures\Новая папка\P1010220.JPG"/>
          <p:cNvPicPr/>
          <p:nvPr/>
        </p:nvPicPr>
        <p:blipFill>
          <a:blip r:embed="rId1"/>
          <a:stretch/>
        </p:blipFill>
        <p:spPr>
          <a:xfrm>
            <a:off x="1609560" y="1562040"/>
            <a:ext cx="68216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Футбол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2" descr="E:\Users\Ринат 1\Pictures\Новая папка\P1010238.JPG"/>
          <p:cNvPicPr/>
          <p:nvPr/>
        </p:nvPicPr>
        <p:blipFill>
          <a:blip r:embed="rId1"/>
          <a:stretch/>
        </p:blipFill>
        <p:spPr>
          <a:xfrm>
            <a:off x="1681200" y="1562040"/>
            <a:ext cx="68295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100" spc="-1" strike="noStrike">
                <a:solidFill>
                  <a:srgbClr val="330033"/>
                </a:solidFill>
                <a:latin typeface="Times New Roman"/>
              </a:rPr>
              <a:t>Преодоление зараженного участка </a:t>
            </a:r>
            <a:endParaRPr b="0" lang="en-US" sz="4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2" descr="E:\Users\Ринат 1\Pictures\Новая папка\P1010256.JPG"/>
          <p:cNvPicPr/>
          <p:nvPr/>
        </p:nvPicPr>
        <p:blipFill>
          <a:blip r:embed="rId1"/>
          <a:stretch/>
        </p:blipFill>
        <p:spPr>
          <a:xfrm>
            <a:off x="1681200" y="1633680"/>
            <a:ext cx="684036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P1020180_2"/>
          <p:cNvPicPr/>
          <p:nvPr/>
        </p:nvPicPr>
        <p:blipFill>
          <a:blip r:embed="rId1"/>
          <a:stretch/>
        </p:blipFill>
        <p:spPr>
          <a:xfrm>
            <a:off x="1104840" y="409680"/>
            <a:ext cx="784872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Первое построение 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320840" y="149076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8280" y="290520"/>
            <a:ext cx="8488440" cy="1192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ru-RU" sz="4500" spc="-1" strike="noStrike">
                <a:solidFill>
                  <a:srgbClr val="330033"/>
                </a:solidFill>
                <a:latin typeface="Times New Roman"/>
              </a:rPr>
              <a:t>Обед</a:t>
            </a:r>
            <a:endParaRPr b="0" lang="en-US" sz="4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393920" y="1562040"/>
            <a:ext cx="69580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1T13:37:42Z</dcterms:created>
  <dc:creator>Ринат 1</dc:creator>
  <dc:description/>
  <dc:language>en-US</dc:language>
  <cp:lastModifiedBy>Admin</cp:lastModifiedBy>
  <dcterms:modified xsi:type="dcterms:W3CDTF">2012-09-02T16:52:06Z</dcterms:modified>
  <cp:revision>15</cp:revision>
  <dc:subject/>
  <dc:title>Слайд 1</dc:title>
</cp:coreProperties>
</file>