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9D6-DAF1-4C40-B79B-2ABC257C0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A46-60EC-46C2-8E6A-F3D35E234FE1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813A-DCFB-497B-9CE0-2A20E2411DFD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B5D-2937-4C46-91C3-E57B836CBC79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45F5-3245-434C-B64D-8AC9BF7AD1E4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D0BA-4585-4D92-98AD-2EEA50C4EEC3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6B9-DE5C-4CB5-B160-3C5DD561AC9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A1A-954F-4866-9543-C8243843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CF3-A39B-42E0-ACEB-286BAB9B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66D-C1BB-42EC-9608-5E73D577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8F5-BCE8-4E50-931D-4990A801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B167-BE3E-474C-BDF7-1FE0FA3D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990-2EB0-4146-AFB5-7C99563B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6C1-14FE-47D6-B7EA-9D8F3B1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3FA-065D-4189-862F-6FFE48E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AF8-6484-4F5A-9356-379906E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C908-B6FA-4287-8D31-174A465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9CE-FF15-4603-96B9-48A98F0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6B2-C110-4983-AE14-7224DB9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AA1D-DC7D-4C4B-85D4-3E6AB6C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0EB5-6CF5-4FEF-B19C-70C1722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A5F-92DF-44AB-9876-A98A1D8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1576-77B0-460E-BE2A-D5643B5F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135-B680-45D3-AD72-3D5124E4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9CF-AF68-4672-BBF6-75E90A39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F89-0568-458F-BF3B-19093492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CCA-CDB9-4515-AAD9-932DAE8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A92-AFAA-40D5-9014-5CC6F62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1C2-279A-4613-A744-C371932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260-925D-4CCF-9851-F95C9C3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B8F-A4E4-470C-BD3F-EA8BC90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F7BB-EDBA-4C00-A73F-6EA02AC1F48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165-81F3-4F8B-8004-B892F4747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8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12" name="Group 17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3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17" name="AutoShape 18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6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5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60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2" name="Line 11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4" name="Line 13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65" name="AutoShape 15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9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9" name="AutoShape 21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1" name="AutoShape 23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2" name="AutoShape 24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3" name="AutoShape 25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74" name="Rectangle 28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86C4-C9D3-4A82-8C74-B43DEA675D95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A51-617B-46C0-B4BD-EDAF5F92292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9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EEE-536C-49E3-88DB-3C679905D71C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BB4-B787-4A8E-8058-40E38F58BC3F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Площадь треугольник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AutoShape 33"/>
          <p:cNvSpPr/>
          <p:nvPr/>
        </p:nvSpPr>
        <p:spPr>
          <a:xfrm rot="19770600">
            <a:off x="457200" y="2742840"/>
            <a:ext cx="3048120" cy="2362320"/>
          </a:xfrm>
          <a:prstGeom prst="triangle">
            <a:avLst>
              <a:gd name="adj" fmla="val 27157"/>
            </a:avLst>
          </a:prstGeom>
          <a:solidFill>
            <a:srgbClr val="99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447920" y="41911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8" name="Text Box 35"/>
          <p:cNvSpPr/>
          <p:nvPr/>
        </p:nvSpPr>
        <p:spPr>
          <a:xfrm rot="19386000">
            <a:off x="1372320" y="38854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72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2EE-6C2A-457B-A99C-A3BD808F6559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ED3-DB41-4250-9D4F-49F5447ED378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38120" y="1066680"/>
            <a:ext cx="38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Н- высота;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23ff23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- высот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6633720" y="4163400"/>
            <a:ext cx="1339920" cy="2008800"/>
            <a:chOff x="6633720" y="4163400"/>
            <a:chExt cx="1339920" cy="2008800"/>
          </a:xfrm>
        </p:grpSpPr>
        <p:sp>
          <p:nvSpPr>
            <p:cNvPr id="133" name="AutoShape 4"/>
            <p:cNvSpPr/>
            <p:nvPr/>
          </p:nvSpPr>
          <p:spPr>
            <a:xfrm rot="18900000">
              <a:off x="6878520" y="434448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 rot="8100000">
              <a:off x="6801840" y="426636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>
              <a:off x="7061040" y="550692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flipH="1" rot="16200000">
              <a:off x="6925680" y="513360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 flipH="1">
              <a:off x="7099200" y="585144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 rot="8100000">
              <a:off x="6780960" y="478944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7654680" y="554004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40" name="AutoShape 15"/>
          <p:cNvSpPr/>
          <p:nvPr/>
        </p:nvSpPr>
        <p:spPr>
          <a:xfrm>
            <a:off x="762120" y="2819520"/>
            <a:ext cx="3352680" cy="2819160"/>
          </a:xfrm>
          <a:prstGeom prst="triangle">
            <a:avLst>
              <a:gd name="adj" fmla="val 28903"/>
            </a:avLst>
          </a:prstGeom>
          <a:solidFill>
            <a:srgbClr val="00c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752480" y="5334120"/>
            <a:ext cx="30492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2" name="Rectangle 28"/>
          <p:cNvSpPr/>
          <p:nvPr/>
        </p:nvSpPr>
        <p:spPr>
          <a:xfrm rot="19351800">
            <a:off x="2637000" y="4097160"/>
            <a:ext cx="27756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382680" y="2286000"/>
            <a:ext cx="4092480" cy="3919320"/>
            <a:chOff x="382680" y="2286000"/>
            <a:chExt cx="4092480" cy="3919320"/>
          </a:xfrm>
        </p:grpSpPr>
        <p:sp>
          <p:nvSpPr>
            <p:cNvPr id="144" name="Text Box 17"/>
            <p:cNvSpPr/>
            <p:nvPr/>
          </p:nvSpPr>
          <p:spPr>
            <a:xfrm>
              <a:off x="382680" y="5486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5" name="Text Box 18"/>
            <p:cNvSpPr/>
            <p:nvPr/>
          </p:nvSpPr>
          <p:spPr>
            <a:xfrm>
              <a:off x="1601640" y="2286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6" name="Text Box 19"/>
            <p:cNvSpPr/>
            <p:nvPr/>
          </p:nvSpPr>
          <p:spPr>
            <a:xfrm>
              <a:off x="3963600" y="54864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1752480" y="2819520"/>
              <a:ext cx="0" cy="281916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1525320" y="5562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V="1">
              <a:off x="762120" y="4038120"/>
              <a:ext cx="2057400" cy="160020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2744640" y="350532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7DA-940C-4493-B38C-F63AA9B23FA9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05A6-305F-4F86-A7AE-B1E018B3DB9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54" name="AutoShape 4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988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바탕"/>
              </a:rPr>
              <a:t>Теорема.</a:t>
            </a:r>
            <a:r>
              <a:rPr b="0" lang="ru-RU" sz="3600" spc="-1" strike="noStrike">
                <a:solidFill>
                  <a:srgbClr val="ffcc00"/>
                </a:solidFill>
                <a:latin typeface="바탕"/>
              </a:rPr>
              <a:t> </a:t>
            </a:r>
            <a:r>
              <a:rPr b="0" i="1" lang="ru-RU" sz="3600" spc="-1" strike="noStrike">
                <a:solidFill>
                  <a:srgbClr val="ffcc00"/>
                </a:solidFill>
                <a:latin typeface="바탕"/>
              </a:rPr>
              <a:t>Площадь треугольника равна половине произведения его основания на высоту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во:    АВС=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В (по трем сторонам (СВ- общая, АВ= СД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С= ВД ))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1400" spc="-1" strike="noStrike">
                <a:solidFill>
                  <a:srgbClr val="23ff23"/>
                </a:solidFill>
                <a:latin typeface="Ariac"/>
              </a:rPr>
              <a:t>СВ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A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BC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, т.е.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 АВ СН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00fe00"/>
                </a:solidFill>
                <a:latin typeface="Ariac"/>
              </a:rPr>
              <a:t>Теорема доказана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19720" y="1905120"/>
            <a:ext cx="4572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ано:   АВС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Н- высо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В- основание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ть: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АВ СН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57200" y="2133720"/>
            <a:ext cx="2819520" cy="1752480"/>
          </a:xfrm>
          <a:prstGeom prst="triangle">
            <a:avLst>
              <a:gd name="adj" fmla="val 35889"/>
            </a:avLst>
          </a:prstGeom>
          <a:solidFill>
            <a:srgbClr val="7db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65" name="Group 61"/>
          <p:cNvGrpSpPr/>
          <p:nvPr/>
        </p:nvGrpSpPr>
        <p:grpSpPr>
          <a:xfrm>
            <a:off x="1447920" y="2133720"/>
            <a:ext cx="2743200" cy="1752480"/>
            <a:chOff x="1447920" y="2133720"/>
            <a:chExt cx="2743200" cy="1752480"/>
          </a:xfrm>
        </p:grpSpPr>
        <p:sp>
          <p:nvSpPr>
            <p:cNvPr id="166" name="Line 39"/>
            <p:cNvSpPr/>
            <p:nvPr/>
          </p:nvSpPr>
          <p:spPr>
            <a:xfrm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>
              <a:off x="1447920" y="2133720"/>
              <a:ext cx="0" cy="175248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8" name="Rectangle 37"/>
            <p:cNvSpPr/>
            <p:nvPr/>
          </p:nvSpPr>
          <p:spPr>
            <a:xfrm>
              <a:off x="1447920" y="3657600"/>
              <a:ext cx="228600" cy="228600"/>
            </a:xfrm>
            <a:prstGeom prst="rect">
              <a:avLst/>
            </a:prstGeom>
            <a:solidFill>
              <a:srgbClr val="7dbc00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9" name="Line 40"/>
            <p:cNvSpPr/>
            <p:nvPr/>
          </p:nvSpPr>
          <p:spPr>
            <a:xfrm flipH="1">
              <a:off x="3276720" y="2133720"/>
              <a:ext cx="914400" cy="175248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0" name="Group 63"/>
          <p:cNvGrpSpPr/>
          <p:nvPr/>
        </p:nvGrpSpPr>
        <p:grpSpPr>
          <a:xfrm>
            <a:off x="230400" y="1752480"/>
            <a:ext cx="4323240" cy="2577960"/>
            <a:chOff x="230400" y="1752480"/>
            <a:chExt cx="4323240" cy="2577960"/>
          </a:xfrm>
        </p:grpSpPr>
        <p:sp>
          <p:nvSpPr>
            <p:cNvPr id="171" name="Text Box 34"/>
            <p:cNvSpPr/>
            <p:nvPr/>
          </p:nvSpPr>
          <p:spPr>
            <a:xfrm>
              <a:off x="230400" y="38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312408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3" name="Text Box 36"/>
            <p:cNvSpPr/>
            <p:nvPr/>
          </p:nvSpPr>
          <p:spPr>
            <a:xfrm>
              <a:off x="11451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4" name="Text Box 38"/>
            <p:cNvSpPr/>
            <p:nvPr/>
          </p:nvSpPr>
          <p:spPr>
            <a:xfrm>
              <a:off x="1221480" y="3809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41169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00"/>
                  </a:solidFill>
                  <a:latin typeface="Arial"/>
                </a:rPr>
                <a:t>D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838080" y="1981080"/>
            <a:ext cx="3048120" cy="1981440"/>
            <a:chOff x="838080" y="1981080"/>
            <a:chExt cx="3048120" cy="1981440"/>
          </a:xfrm>
        </p:grpSpPr>
        <p:sp>
          <p:nvSpPr>
            <p:cNvPr id="177" name="Line 44"/>
            <p:cNvSpPr/>
            <p:nvPr/>
          </p:nvSpPr>
          <p:spPr>
            <a:xfrm flipH="1">
              <a:off x="2057400" y="3733920"/>
              <a:ext cx="7632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8" name="Line 45"/>
            <p:cNvSpPr/>
            <p:nvPr/>
          </p:nvSpPr>
          <p:spPr>
            <a:xfrm flipH="1">
              <a:off x="2666880" y="1981080"/>
              <a:ext cx="76320" cy="304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9" name="Line 46"/>
            <p:cNvSpPr/>
            <p:nvPr/>
          </p:nvSpPr>
          <p:spPr>
            <a:xfrm>
              <a:off x="838080" y="3048120"/>
              <a:ext cx="228600" cy="152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0" name="Line 47"/>
            <p:cNvSpPr/>
            <p:nvPr/>
          </p:nvSpPr>
          <p:spPr>
            <a:xfrm>
              <a:off x="914400" y="2895480"/>
              <a:ext cx="228600" cy="1526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1" name="Line 48"/>
            <p:cNvSpPr/>
            <p:nvPr/>
          </p:nvSpPr>
          <p:spPr>
            <a:xfrm>
              <a:off x="3657600" y="281952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3581280" y="297180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83" name="AutoShape 52"/>
          <p:cNvSpPr/>
          <p:nvPr/>
        </p:nvSpPr>
        <p:spPr>
          <a:xfrm>
            <a:off x="5486400" y="20574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84" name="Group 64"/>
          <p:cNvGrpSpPr/>
          <p:nvPr/>
        </p:nvGrpSpPr>
        <p:grpSpPr>
          <a:xfrm>
            <a:off x="1676520" y="4495680"/>
            <a:ext cx="2209680" cy="838440"/>
            <a:chOff x="1676520" y="4495680"/>
            <a:chExt cx="2209680" cy="838440"/>
          </a:xfrm>
        </p:grpSpPr>
        <p:sp>
          <p:nvSpPr>
            <p:cNvPr id="185" name="AutoShape 56"/>
            <p:cNvSpPr/>
            <p:nvPr/>
          </p:nvSpPr>
          <p:spPr>
            <a:xfrm>
              <a:off x="2971800" y="44956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6" name="AutoShape 58"/>
            <p:cNvSpPr/>
            <p:nvPr/>
          </p:nvSpPr>
          <p:spPr>
            <a:xfrm>
              <a:off x="3429000" y="5105520"/>
              <a:ext cx="457200" cy="22860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7" name="AutoShape 59"/>
            <p:cNvSpPr/>
            <p:nvPr/>
          </p:nvSpPr>
          <p:spPr>
            <a:xfrm>
              <a:off x="1676520" y="4572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8D2-CE09-4C78-A8F7-69582BDAEE60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731B-E101-40C4-A8DD-EB087EFB955F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Следствие 1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00400" y="32767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ВС- гипотенуза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 и АС- катет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С- прямоугольный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8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АВ АС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1676160"/>
            <a:ext cx="7967520" cy="125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e00"/>
                </a:solidFill>
                <a:latin typeface="Arial"/>
              </a:rPr>
              <a:t>Площадь прямоугольного треугольника равна половине произведения его катет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6781680" y="288360"/>
            <a:ext cx="1769400" cy="1254240"/>
            <a:chOff x="6781680" y="288360"/>
            <a:chExt cx="1769400" cy="1254240"/>
          </a:xfrm>
        </p:grpSpPr>
        <p:sp>
          <p:nvSpPr>
            <p:cNvPr id="194" name="AutoShape 4"/>
            <p:cNvSpPr/>
            <p:nvPr/>
          </p:nvSpPr>
          <p:spPr>
            <a:xfrm flipH="1" rot="10800000">
              <a:off x="8104680" y="1218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H="1" rot="4320000">
              <a:off x="6927480" y="382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6781680" y="1215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773840" y="1218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 flipH="1" rot="4320000">
              <a:off x="7744680" y="381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rot="18900000">
              <a:off x="7206840" y="983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 rot="16200000">
              <a:off x="7443720" y="1220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01" name="Group 22"/>
          <p:cNvGrpSpPr/>
          <p:nvPr/>
        </p:nvGrpSpPr>
        <p:grpSpPr>
          <a:xfrm>
            <a:off x="1068480" y="2743200"/>
            <a:ext cx="2570760" cy="3340080"/>
            <a:chOff x="1068480" y="2743200"/>
            <a:chExt cx="2570760" cy="3340080"/>
          </a:xfrm>
        </p:grpSpPr>
        <p:sp>
          <p:nvSpPr>
            <p:cNvPr id="202" name="AutoShape 15"/>
            <p:cNvSpPr/>
            <p:nvPr/>
          </p:nvSpPr>
          <p:spPr>
            <a:xfrm>
              <a:off x="1447920" y="3200400"/>
              <a:ext cx="1828800" cy="2514600"/>
            </a:xfrm>
            <a:prstGeom prst="rtTriangle">
              <a:avLst/>
            </a:prstGeom>
            <a:solidFill>
              <a:srgbClr val="47ff47"/>
            </a:solidFill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1447920" y="5486400"/>
              <a:ext cx="228600" cy="228600"/>
            </a:xfrm>
            <a:prstGeom prst="rect">
              <a:avLst/>
            </a:prstGeom>
            <a:solidFill>
              <a:srgbClr val="47ff4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068480" y="5562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1297080" y="2743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202560" y="5562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07" name="AutoShape 21"/>
          <p:cNvSpPr/>
          <p:nvPr/>
        </p:nvSpPr>
        <p:spPr>
          <a:xfrm>
            <a:off x="3886200" y="4648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ransition spd="slow"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BA7-5AAA-44EA-B684-46A9C709574E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9734-3A94-4B14-B7EE-5C6531FD41F2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 Sans MS"/>
              </a:rPr>
              <a:t>Следствие 2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ff0f"/>
                </a:solidFill>
                <a:latin typeface="Arial"/>
              </a:rPr>
              <a:t>Если высоты двух треугольников равны, то их площади относятся как основания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80920" y="3429000"/>
            <a:ext cx="38372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ВН= В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S/S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= АС</a:t>
            </a: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13" name="Group 11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14" name="AutoShape 4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21" name="AutoShape 15"/>
          <p:cNvSpPr/>
          <p:nvPr/>
        </p:nvSpPr>
        <p:spPr>
          <a:xfrm rot="19784400">
            <a:off x="0" y="2895120"/>
            <a:ext cx="3124080" cy="1067040"/>
          </a:xfrm>
          <a:prstGeom prst="triangle">
            <a:avLst>
              <a:gd name="adj" fmla="val 37449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22" name="AutoShape 16"/>
          <p:cNvSpPr/>
          <p:nvPr/>
        </p:nvSpPr>
        <p:spPr>
          <a:xfrm rot="1078200">
            <a:off x="838080" y="4648320"/>
            <a:ext cx="3124440" cy="1066680"/>
          </a:xfrm>
          <a:prstGeom prst="triangle">
            <a:avLst>
              <a:gd name="adj" fmla="val 36991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233640" y="2743200"/>
            <a:ext cx="3282120" cy="2349360"/>
            <a:chOff x="233640" y="2743200"/>
            <a:chExt cx="3282120" cy="2349360"/>
          </a:xfrm>
        </p:grpSpPr>
        <p:sp>
          <p:nvSpPr>
            <p:cNvPr id="224" name="Line 18"/>
            <p:cNvSpPr/>
            <p:nvPr/>
          </p:nvSpPr>
          <p:spPr>
            <a:xfrm>
              <a:off x="914400" y="3124080"/>
              <a:ext cx="609480" cy="91440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 rot="19723200">
              <a:off x="1461600" y="3768480"/>
              <a:ext cx="228600" cy="228600"/>
            </a:xfrm>
            <a:prstGeom prst="rect">
              <a:avLst/>
            </a:prstGeom>
            <a:solidFill>
              <a:srgbClr val="b2ff1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233640" y="45720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89400" y="2743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3126240" y="274320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1444320" y="3962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0" name="Rectangle 32"/>
            <p:cNvSpPr/>
            <p:nvPr/>
          </p:nvSpPr>
          <p:spPr>
            <a:xfrm>
              <a:off x="843840" y="35812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31" name="Group 39"/>
          <p:cNvGrpSpPr/>
          <p:nvPr/>
        </p:nvGrpSpPr>
        <p:grpSpPr>
          <a:xfrm>
            <a:off x="390600" y="4114800"/>
            <a:ext cx="3803040" cy="2349360"/>
            <a:chOff x="390600" y="4114800"/>
            <a:chExt cx="3803040" cy="2349360"/>
          </a:xfrm>
        </p:grpSpPr>
        <p:sp>
          <p:nvSpPr>
            <p:cNvPr id="232" name="Text Box 24"/>
            <p:cNvSpPr/>
            <p:nvPr/>
          </p:nvSpPr>
          <p:spPr>
            <a:xfrm>
              <a:off x="390600" y="50292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3" name="Text Box 25"/>
            <p:cNvSpPr/>
            <p:nvPr/>
          </p:nvSpPr>
          <p:spPr>
            <a:xfrm>
              <a:off x="2142000" y="4114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3664080" y="59436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5" name="Text Box 31"/>
            <p:cNvSpPr/>
            <p:nvPr/>
          </p:nvSpPr>
          <p:spPr>
            <a:xfrm>
              <a:off x="1524960" y="548640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1295280" y="4876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H="1">
              <a:off x="1828440" y="4572000"/>
              <a:ext cx="351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64C6-F58A-4D71-BE22-D33B00529D09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39" name="Номер слайда 5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A325-4813-4C0C-A5FD-02C10B251E35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315720"/>
            <a:ext cx="8839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Теорема.</a:t>
            </a:r>
            <a:r>
              <a:rPr b="0" lang="ru-RU" sz="32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ffcc00"/>
                </a:solidFill>
                <a:latin typeface="Estrangelo Edessa"/>
              </a:rPr>
              <a:t>Если угол одного треугольника равен углу другого треугольника, то площади этих треугольников относятся как произведения сторон, заключающих равные угл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85840" y="20574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ано:    АВС и     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;  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А=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ок-ть: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Док-во: Наложим     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а    АВС,.    АВС и    АВ1С имеют  общую высоту СН,     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 и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меют  общую высоту 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71c107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6986880" y="5079960"/>
            <a:ext cx="2161080" cy="1683720"/>
            <a:chOff x="6986880" y="5079960"/>
            <a:chExt cx="2161080" cy="1683720"/>
          </a:xfrm>
        </p:grpSpPr>
        <p:sp>
          <p:nvSpPr>
            <p:cNvPr id="243" name="AutoShape 4"/>
            <p:cNvSpPr/>
            <p:nvPr/>
          </p:nvSpPr>
          <p:spPr>
            <a:xfrm flipH="1" rot="1200000">
              <a:off x="7706880" y="61988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8100000">
              <a:off x="7086240" y="51807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8100000">
              <a:off x="8294040" y="59115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flipH="1" rot="17280000">
              <a:off x="8404200" y="63482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8900000">
              <a:off x="7790040" y="53874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353360" y="57531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7347240" y="54194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50" name="AutoShape 35"/>
          <p:cNvSpPr/>
          <p:nvPr/>
        </p:nvSpPr>
        <p:spPr>
          <a:xfrm>
            <a:off x="228600" y="2209680"/>
            <a:ext cx="2514600" cy="762120"/>
          </a:xfrm>
          <a:prstGeom prst="triangle">
            <a:avLst>
              <a:gd name="adj" fmla="val 28282"/>
            </a:avLst>
          </a:prstGeom>
          <a:solidFill>
            <a:srgbClr val="afff0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1" name="AutoShape 38"/>
          <p:cNvSpPr/>
          <p:nvPr/>
        </p:nvSpPr>
        <p:spPr>
          <a:xfrm rot="8412600">
            <a:off x="1752480" y="3047760"/>
            <a:ext cx="2438640" cy="990360"/>
          </a:xfrm>
          <a:prstGeom prst="triangle">
            <a:avLst>
              <a:gd name="adj" fmla="val 50000"/>
            </a:avLst>
          </a:prstGeom>
          <a:solidFill>
            <a:srgbClr val="a0f000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2" name="Arc 40"/>
          <p:cNvSpPr/>
          <p:nvPr/>
        </p:nvSpPr>
        <p:spPr>
          <a:xfrm>
            <a:off x="304920" y="2895480"/>
            <a:ext cx="126720" cy="152640"/>
          </a:xfrm>
          <a:custGeom>
            <a:avLst/>
            <a:gdLst/>
            <a:ahLst/>
            <a:rect l="l" t="t" r="r" b="b"/>
            <a:pathLst>
              <a:path fill="none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</a:path>
              <a:path stroke="0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53" name="Group 62"/>
          <p:cNvGrpSpPr/>
          <p:nvPr/>
        </p:nvGrpSpPr>
        <p:grpSpPr>
          <a:xfrm>
            <a:off x="4680" y="1752480"/>
            <a:ext cx="3610080" cy="2638800"/>
            <a:chOff x="4680" y="1752480"/>
            <a:chExt cx="3610080" cy="2638800"/>
          </a:xfrm>
        </p:grpSpPr>
        <p:sp>
          <p:nvSpPr>
            <p:cNvPr id="254" name="Text Box 18"/>
            <p:cNvSpPr/>
            <p:nvPr/>
          </p:nvSpPr>
          <p:spPr>
            <a:xfrm>
              <a:off x="4680" y="28195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2594520" y="2514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35320" y="1752480"/>
              <a:ext cx="42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1304640" y="34290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2827800" y="3809880"/>
              <a:ext cx="5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054600" y="19051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925920" y="238932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1" name="Rectangle 41"/>
            <p:cNvSpPr/>
            <p:nvPr/>
          </p:nvSpPr>
          <p:spPr>
            <a:xfrm>
              <a:off x="2606760" y="3200400"/>
              <a:ext cx="52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i="1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380880" y="4361760"/>
            <a:ext cx="2547720" cy="2325600"/>
            <a:chOff x="380880" y="4361760"/>
            <a:chExt cx="2547720" cy="2325600"/>
          </a:xfrm>
        </p:grpSpPr>
        <p:sp>
          <p:nvSpPr>
            <p:cNvPr id="263" name="AutoShape 42"/>
            <p:cNvSpPr/>
            <p:nvPr/>
          </p:nvSpPr>
          <p:spPr>
            <a:xfrm>
              <a:off x="380880" y="5181480"/>
              <a:ext cx="2514600" cy="762120"/>
            </a:xfrm>
            <a:prstGeom prst="triangle">
              <a:avLst>
                <a:gd name="adj" fmla="val 37880"/>
              </a:avLst>
            </a:prstGeom>
            <a:solidFill>
              <a:srgbClr val="afff0f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4" name="AutoShape 43"/>
            <p:cNvSpPr/>
            <p:nvPr/>
          </p:nvSpPr>
          <p:spPr>
            <a:xfrm rot="8401800">
              <a:off x="456840" y="5028840"/>
              <a:ext cx="2438280" cy="990720"/>
            </a:xfrm>
            <a:prstGeom prst="triangle">
              <a:avLst>
                <a:gd name="adj" fmla="val 51968"/>
              </a:avLst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65" name="Arc 44"/>
          <p:cNvSpPr/>
          <p:nvPr/>
        </p:nvSpPr>
        <p:spPr>
          <a:xfrm flipV="1" rot="16200000">
            <a:off x="1942920" y="377100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66" name="Group 64"/>
          <p:cNvGrpSpPr/>
          <p:nvPr/>
        </p:nvGrpSpPr>
        <p:grpSpPr>
          <a:xfrm>
            <a:off x="685440" y="5105520"/>
            <a:ext cx="1295640" cy="838080"/>
            <a:chOff x="685440" y="5105520"/>
            <a:chExt cx="1295640" cy="838080"/>
          </a:xfrm>
        </p:grpSpPr>
        <p:sp>
          <p:nvSpPr>
            <p:cNvPr id="267" name="Line 46"/>
            <p:cNvSpPr/>
            <p:nvPr/>
          </p:nvSpPr>
          <p:spPr>
            <a:xfrm flipH="1" flipV="1">
              <a:off x="1371240" y="5105520"/>
              <a:ext cx="609480" cy="838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8" name="Line 48"/>
            <p:cNvSpPr/>
            <p:nvPr/>
          </p:nvSpPr>
          <p:spPr>
            <a:xfrm flipV="1">
              <a:off x="1371600" y="525744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9" name="Line 49"/>
            <p:cNvSpPr/>
            <p:nvPr/>
          </p:nvSpPr>
          <p:spPr>
            <a:xfrm>
              <a:off x="1295280" y="5181480"/>
              <a:ext cx="685800" cy="7621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1295280" y="5181480"/>
              <a:ext cx="0" cy="7621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>
              <a:off x="1143000" y="5791320"/>
              <a:ext cx="152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2" name="Arc 53"/>
            <p:cNvSpPr/>
            <p:nvPr/>
          </p:nvSpPr>
          <p:spPr>
            <a:xfrm flipV="1" rot="16200000">
              <a:off x="647280" y="57524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73" name="Group 76"/>
          <p:cNvGrpSpPr/>
          <p:nvPr/>
        </p:nvGrpSpPr>
        <p:grpSpPr>
          <a:xfrm>
            <a:off x="0" y="4038480"/>
            <a:ext cx="3178080" cy="2349360"/>
            <a:chOff x="0" y="4038480"/>
            <a:chExt cx="3178080" cy="2349360"/>
          </a:xfrm>
        </p:grpSpPr>
        <p:sp>
          <p:nvSpPr>
            <p:cNvPr id="274" name="Text Box 58"/>
            <p:cNvSpPr/>
            <p:nvPr/>
          </p:nvSpPr>
          <p:spPr>
            <a:xfrm>
              <a:off x="1684800" y="40384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1219320" y="525780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6" name="Line 51"/>
            <p:cNvSpPr/>
            <p:nvPr/>
          </p:nvSpPr>
          <p:spPr>
            <a:xfrm>
              <a:off x="1143000" y="5791320"/>
              <a:ext cx="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7" name="Text Box 54"/>
            <p:cNvSpPr/>
            <p:nvPr/>
          </p:nvSpPr>
          <p:spPr>
            <a:xfrm>
              <a:off x="0" y="58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(А1)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8" name="Text Box 55"/>
            <p:cNvSpPr/>
            <p:nvPr/>
          </p:nvSpPr>
          <p:spPr>
            <a:xfrm>
              <a:off x="1143000" y="5867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9" name="Text Box 56"/>
            <p:cNvSpPr/>
            <p:nvPr/>
          </p:nvSpPr>
          <p:spPr>
            <a:xfrm>
              <a:off x="1752480" y="586728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0" name="Text Box 57"/>
            <p:cNvSpPr/>
            <p:nvPr/>
          </p:nvSpPr>
          <p:spPr>
            <a:xfrm>
              <a:off x="2743200" y="58672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1" name="Text Box 59"/>
            <p:cNvSpPr/>
            <p:nvPr/>
          </p:nvSpPr>
          <p:spPr>
            <a:xfrm>
              <a:off x="993240" y="45720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2" name="Text Box 60"/>
            <p:cNvSpPr/>
            <p:nvPr/>
          </p:nvSpPr>
          <p:spPr>
            <a:xfrm>
              <a:off x="916560" y="487692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83" name="Group 75"/>
          <p:cNvGrpSpPr/>
          <p:nvPr/>
        </p:nvGrpSpPr>
        <p:grpSpPr>
          <a:xfrm>
            <a:off x="4114800" y="3200400"/>
            <a:ext cx="2362320" cy="914400"/>
            <a:chOff x="4114800" y="3200400"/>
            <a:chExt cx="2362320" cy="914400"/>
          </a:xfrm>
        </p:grpSpPr>
        <p:sp>
          <p:nvSpPr>
            <p:cNvPr id="284" name="AutoShape 66"/>
            <p:cNvSpPr/>
            <p:nvPr/>
          </p:nvSpPr>
          <p:spPr>
            <a:xfrm>
              <a:off x="518148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5" name="AutoShape 67"/>
            <p:cNvSpPr/>
            <p:nvPr/>
          </p:nvSpPr>
          <p:spPr>
            <a:xfrm>
              <a:off x="411480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6" name="AutoShape 68"/>
            <p:cNvSpPr/>
            <p:nvPr/>
          </p:nvSpPr>
          <p:spPr>
            <a:xfrm>
              <a:off x="624852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7" name="AutoShape 69"/>
            <p:cNvSpPr/>
            <p:nvPr/>
          </p:nvSpPr>
          <p:spPr>
            <a:xfrm>
              <a:off x="51814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8" name="AutoShape 70"/>
            <p:cNvSpPr/>
            <p:nvPr/>
          </p:nvSpPr>
          <p:spPr>
            <a:xfrm>
              <a:off x="42670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89" name="AutoShape 71"/>
          <p:cNvSpPr/>
          <p:nvPr/>
        </p:nvSpPr>
        <p:spPr>
          <a:xfrm>
            <a:off x="6172200" y="27432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90" name="Group 74"/>
          <p:cNvGrpSpPr/>
          <p:nvPr/>
        </p:nvGrpSpPr>
        <p:grpSpPr>
          <a:xfrm>
            <a:off x="4618080" y="2133720"/>
            <a:ext cx="1401840" cy="228600"/>
            <a:chOff x="4618080" y="2133720"/>
            <a:chExt cx="1401840" cy="228600"/>
          </a:xfrm>
        </p:grpSpPr>
        <p:sp>
          <p:nvSpPr>
            <p:cNvPr id="291" name="AutoShape 72"/>
            <p:cNvSpPr/>
            <p:nvPr/>
          </p:nvSpPr>
          <p:spPr>
            <a:xfrm>
              <a:off x="5715000" y="2133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92" name="AutoShape 73"/>
            <p:cNvSpPr/>
            <p:nvPr/>
          </p:nvSpPr>
          <p:spPr>
            <a:xfrm>
              <a:off x="4618080" y="2133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59Z</dcterms:modified>
  <cp:revision>70</cp:revision>
  <dc:subject/>
  <dc:title>Площадь треуголь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ea02000000000001024140</vt:lpwstr>
  </property>
  <property fmtid="{D5CDD505-2E9C-101B-9397-08002B2CF9AE}" pid="4" name="Version">
    <vt:r8>3</vt:r8>
  </property>
</Properties>
</file>