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9E12-77A2-4195-B1FB-9D86C9EA6E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2AEA-3542-4DC6-B828-FB30C5B115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сли ссадина на руке или ноге, то ее можно погрузить ненадолго в теплую воду, чтобы смягчить перед т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сли ссадина на руке или ноге, то ее можно погрузить ненадолго в теплую воду, чтобы смягчить перед т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*. Если ссадина на руке или ноге, то ее можно погрузить ненадолго в теплую воду, чтобы смягчить перед тем, как удалять грязь.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4AF0-5BB3-47AB-B2F1-36DDED659F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3899-A9F3-42CA-BB11-4578858B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2DF2-8B01-4983-994C-D7A7E8B4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9FC4-CB03-48DB-A540-7D6B74C5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4598-76AA-410E-8662-39C9745A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504-1190-40F2-8415-3A87A0D4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CC7F-F384-45A9-95D2-533DEB6B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DE68-46A0-4246-B8BC-4FA4E5A6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D23B-C182-484E-BAD3-CB9A73D2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02B3-0BEC-42D1-BECF-AA20E209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E7B8-03F2-4FAB-AF7E-940D6962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C7A9-8B60-4BB3-AF58-E05100EC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987E-673E-4F05-9987-982B9C17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D74E-D4B8-443F-938B-FB005A28510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97E1-C78A-4C10-9824-5A2CFB4F3A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pas-extreme.ru/images/multimedia/22omz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27f4c"/>
                </a:solidFill>
                <a:latin typeface="Arial"/>
              </a:rPr>
              <a:t>Основы безопасности жизнедеятельности</a:t>
            </a:r>
            <a:endParaRPr b="0" lang="en-US" sz="4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7FF8-341C-485D-8BF6-5B6F31FBFD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9403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Инородное тело в ране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764640"/>
            <a:ext cx="5796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1. Если в ране находится инородное тело (осколок стекла, кусок металла, щепка), для остановки кровотечения осторожно надавите вокруг него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2. Сделайте объемную повязку вокруг или с двух сторон от раны.                            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ahoma"/>
              </a:rPr>
              <a:t>Нельзя самостоятельно вынимать инородное тело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, т.к. оно может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держивать кровотечени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3. Зафиксируйте повязку восьмеркой из бинта вокруг инородного тела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братитесь за медицинской помощью как можно скорее, поскольку инородное тело нужно удалить крайне осторожно во избежание возобновления кровотечения и дальнейшего повреждения тканей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5300280"/>
            <a:ext cx="443376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13" descr="C:\Documents and Settings\Черчение\Рабочий стол\Мои рисунки\презентация 001.jpg"/>
          <p:cNvPicPr/>
          <p:nvPr/>
        </p:nvPicPr>
        <p:blipFill>
          <a:blip r:embed="rId1"/>
          <a:srcRect l="8859" t="8202" r="4429" b="12303"/>
          <a:stretch/>
        </p:blipFill>
        <p:spPr>
          <a:xfrm>
            <a:off x="5940360" y="4508640"/>
            <a:ext cx="2906640" cy="191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C:\Documents and Settings\Черчение\Рабочий стол\Мои рисунки\презентация 001.jpg"/>
          <p:cNvPicPr/>
          <p:nvPr/>
        </p:nvPicPr>
        <p:blipFill>
          <a:blip r:embed="rId2"/>
          <a:srcRect l="6152" t="14353" r="0" b="6151"/>
          <a:stretch/>
        </p:blipFill>
        <p:spPr>
          <a:xfrm>
            <a:off x="5940360" y="2565360"/>
            <a:ext cx="2916360" cy="1852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C:\Documents and Settings\Черчение\Рабочий стол\Мои рисунки\презентация 001.jpg"/>
          <p:cNvPicPr/>
          <p:nvPr/>
        </p:nvPicPr>
        <p:blipFill>
          <a:blip r:embed="rId3"/>
          <a:srcRect l="4614" t="2171" r="1538" b="13026"/>
          <a:stretch/>
        </p:blipFill>
        <p:spPr>
          <a:xfrm>
            <a:off x="5940360" y="620640"/>
            <a:ext cx="291636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14FC-02A4-4A10-9A70-0DCF73325F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569916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27f4c"/>
                </a:solidFill>
                <a:latin typeface="Tahoma"/>
              </a:rPr>
              <a:t>Ссадины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8920" y="1125360"/>
            <a:ext cx="5977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Если нет серьезных повреждений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и сильного кровотечения, осторожно промойте травмированное место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теплой водой с мылом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чищенную ссадину промокните чистыми бумажными или марлевыми салфетками. Если она продолжает кровоточить, сильно придавите это место через ткань на несколько минут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Заклейте ссадину бактерицидным пластырем так, чтобы клейкие участки приходились на неповрежденную кожу. Если ссадина обширная, приложите стерильную неприлипающую салфетку, закрепив ее пластырем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5" descr="C:\Documents and Settings\Черчение\Рабочий стол\Мои рисунки\презентация.jpg"/>
          <p:cNvPicPr/>
          <p:nvPr/>
        </p:nvPicPr>
        <p:blipFill>
          <a:blip r:embed="rId1"/>
          <a:srcRect l="9938" t="2977" r="2839" b="72038"/>
          <a:stretch/>
        </p:blipFill>
        <p:spPr>
          <a:xfrm>
            <a:off x="6156360" y="347760"/>
            <a:ext cx="2808360" cy="1917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:\Documents and Settings\Черчение\Рабочий стол\Мои рисунки\презентация.jpg"/>
          <p:cNvPicPr/>
          <p:nvPr/>
        </p:nvPicPr>
        <p:blipFill>
          <a:blip r:embed="rId2"/>
          <a:srcRect l="9938" t="35719" r="2839" b="39892"/>
          <a:stretch/>
        </p:blipFill>
        <p:spPr>
          <a:xfrm>
            <a:off x="6156360" y="2421000"/>
            <a:ext cx="2787480" cy="1859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C:\Documents and Settings\Черчение\Рабочий стол\Мои рисунки\презентация.jpg"/>
          <p:cNvPicPr/>
          <p:nvPr/>
        </p:nvPicPr>
        <p:blipFill>
          <a:blip r:embed="rId3"/>
          <a:srcRect l="12777" t="73824" r="4259" b="1786"/>
          <a:stretch/>
        </p:blipFill>
        <p:spPr>
          <a:xfrm>
            <a:off x="6156360" y="4437000"/>
            <a:ext cx="282420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0691-E4CC-43F5-8A53-D9346AF704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27f4c"/>
                </a:solidFill>
                <a:latin typeface="Tahoma"/>
              </a:rPr>
              <a:t>Правила наложения </a:t>
            </a:r>
            <a:br>
              <a:rPr sz="3600"/>
            </a:br>
            <a:r>
              <a:rPr b="1" lang="ru-RU" sz="3600" spc="-1" strike="noStrike">
                <a:solidFill>
                  <a:srgbClr val="827f4c"/>
                </a:solidFill>
                <a:latin typeface="Tahoma"/>
              </a:rPr>
              <a:t>бинтовых повязок</a:t>
            </a:r>
            <a:endParaRPr b="0" lang="en-US" sz="36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5724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острадавший должен находиться в удобном для бинтования, устойчивом положении – лежать или сидеть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Бинтующий должен по возможности находиться лицом к пострадавшему, чтобы контролировать его состояни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Бинтование следует проводить от периферии к центру, рука или нога бинтуются снизу вверх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Бинтование, как правило, производится от себя, слева направо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5" descr="C:\Documents and Settings\Черчение\Рабочий стол\Мои рисунки\презентация 001.jpg"/>
          <p:cNvPicPr/>
          <p:nvPr/>
        </p:nvPicPr>
        <p:blipFill>
          <a:blip r:embed="rId1"/>
          <a:srcRect l="3210" t="13598" r="1605" b="1943"/>
          <a:stretch/>
        </p:blipFill>
        <p:spPr>
          <a:xfrm>
            <a:off x="6227640" y="333360"/>
            <a:ext cx="2640240" cy="1935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C:\Documents and Settings\Черчение\Рабочий стол\Мои рисунки\презентация 002.jpg"/>
          <p:cNvPicPr/>
          <p:nvPr/>
        </p:nvPicPr>
        <p:blipFill>
          <a:blip r:embed="rId2"/>
          <a:srcRect l="2129" t="4101" r="54660" b="6151"/>
          <a:stretch/>
        </p:blipFill>
        <p:spPr>
          <a:xfrm>
            <a:off x="6227640" y="2349360"/>
            <a:ext cx="2697120" cy="1940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C:\Documents and Settings\Черчение\Рабочий стол\Мои рисунки\презентация 002.jpg"/>
          <p:cNvPicPr/>
          <p:nvPr/>
        </p:nvPicPr>
        <p:blipFill>
          <a:blip r:embed="rId3"/>
          <a:srcRect l="53240" t="6151" r="4968" b="6151"/>
          <a:stretch/>
        </p:blipFill>
        <p:spPr>
          <a:xfrm>
            <a:off x="6227640" y="4437000"/>
            <a:ext cx="269568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6684-67D7-4793-BBA3-4520EC76DE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259920"/>
            <a:ext cx="46432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5. Бинтование следует начинать с наиболее узкого места, переходя к более широкому. Первые обороты бинта накладываются один на другой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6. Каждый последующий оборот бинта накладывается в косом направлении и должен покрывать предыдущий на половину или две трети, закрепляя его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7. Направление витков должно быть единым во всех слоях повязки. Свободный конец бинта должен составлять прямой угол с рукой, в которой находится рулон бинта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4" descr="C:\Documents and Settings\Черчение\Рабочий стол\Мои рисунки\презентация.jpg"/>
          <p:cNvPicPr/>
          <p:nvPr/>
        </p:nvPicPr>
        <p:blipFill>
          <a:blip r:embed="rId1"/>
          <a:srcRect l="53561" t="1845" r="2171" b="12918"/>
          <a:stretch/>
        </p:blipFill>
        <p:spPr>
          <a:xfrm>
            <a:off x="5292720" y="3716280"/>
            <a:ext cx="3514680" cy="2652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Documents and Settings\Черчение\Рабочий стол\Мои рисунки\презентация.jpg"/>
          <p:cNvPicPr/>
          <p:nvPr/>
        </p:nvPicPr>
        <p:blipFill>
          <a:blip r:embed="rId2"/>
          <a:srcRect l="3618" t="0" r="53561" b="12918"/>
          <a:stretch/>
        </p:blipFill>
        <p:spPr>
          <a:xfrm>
            <a:off x="5292720" y="404640"/>
            <a:ext cx="356868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476D-DCE7-4625-A8D8-01987028CF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333360"/>
            <a:ext cx="46432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8. Бинт нужно натягивать равномерно. Повязка не должна быть очень свободной и съезжать по поверхности тела, но и не должна быть очень тугой и сдавливать с излишней силой перевязанное место, нарушая кровообращени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9. Для лучшего облегания бинта через каждые 2-3 оборота следует делать перекрут бинта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10. В конце перевязки необходимо сделать закрепляющие слои и завязать концы бинта, образованные его разрывом по длин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5" descr="C:\Documents and Settings\Черчение\Рабочий стол\Мои рисунки\презентация.jpg"/>
          <p:cNvPicPr/>
          <p:nvPr/>
        </p:nvPicPr>
        <p:blipFill>
          <a:blip r:embed="rId1"/>
          <a:srcRect l="5906" t="5468" r="4429" b="4101"/>
          <a:stretch/>
        </p:blipFill>
        <p:spPr>
          <a:xfrm>
            <a:off x="4932360" y="1125360"/>
            <a:ext cx="39038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27E4-F7A8-4099-BF22-815B7BACF5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Вопросы и задания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айте определение рана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числите известные вам виды ран.                        Какие из них наиболее опасны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ие способы остановки артериального кровотечения вы знает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чем заключается первая помощь при ранениях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ему нельзя самостоятельно вынимать инородное тело из раны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 обрабатываются ссадины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овы основные правила наложения бинтовых повязок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E10A-45E2-4696-8B6D-6C02656496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Использованная литература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чебник «Основы безопасности жизнедеятельности» 7 класс/                 под ред. Ю.Л. Воробьева. – М.: Издательство АСТ, 200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нциклопедия для  детей. Личная безопасность. Меры предосторожности в повседневной жизни. Поведение в экстремальных ситуациях/ Глав. ред. В.А. Володин, - М.: Аванта+, 200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машний справочник неотложных состояний.                     Скорая помощь/ Элла Тайлер, -  РИДЕРЗ ДАЙДЖЕСТ, 200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27f4c"/>
                </a:solidFill>
                <a:latin typeface="Tahoma"/>
              </a:rPr>
              <a:t>ОСНОВЫ МЕДИЦИНСКИХ ЗНАНИЙ </a:t>
            </a:r>
            <a:br>
              <a:rPr sz="3200"/>
            </a:br>
            <a:r>
              <a:rPr b="1" lang="ru-RU" sz="3200" spc="-1" strike="noStrike">
                <a:solidFill>
                  <a:srgbClr val="827f4c"/>
                </a:solidFill>
                <a:latin typeface="Tahoma"/>
              </a:rPr>
              <a:t>И ЗДОРОВОГО ОБРАЗА ЖИЗНИ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155700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Первая помощь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при ранениях и травма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743200" y="5516640"/>
            <a:ext cx="64008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ель – учитель МБОУ сош №30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Электроугли Сичевая В.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CAFD-CACE-4E8A-9B41-5861E15FBD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Определение, виды ран 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988640"/>
            <a:ext cx="4643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н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это нарушения целостности кожных покровов, слизистых оболочек, тканей, вызванные механическими, термическими, химическими и другими воздействиями, приводящие к расстройствам функций органов или всего организ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Picture 10" descr="C:\Documents and Settings\Черчение\Рабочий стол\Мои рисунки\презентация 001.jpg"/>
          <p:cNvPicPr/>
          <p:nvPr/>
        </p:nvPicPr>
        <p:blipFill>
          <a:blip r:embed="rId1"/>
          <a:stretch/>
        </p:blipFill>
        <p:spPr>
          <a:xfrm>
            <a:off x="4716360" y="1341360"/>
            <a:ext cx="41464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BF7F-C8AE-416F-816D-285A44C171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лассификация ран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grpSp>
        <p:nvGrpSpPr>
          <p:cNvPr id="59" name="Diagram 9"/>
          <p:cNvGrpSpPr/>
          <p:nvPr/>
        </p:nvGrpSpPr>
        <p:grpSpPr>
          <a:xfrm>
            <a:off x="471600" y="973800"/>
            <a:ext cx="8205480" cy="5353920"/>
            <a:chOff x="471600" y="973800"/>
            <a:chExt cx="8205480" cy="5353920"/>
          </a:xfrm>
        </p:grpSpPr>
        <p:sp>
          <p:nvSpPr>
            <p:cNvPr id="60" name="_s1028"/>
            <p:cNvSpPr/>
            <p:nvPr/>
          </p:nvSpPr>
          <p:spPr>
            <a:xfrm flipH="1" flipV="1">
              <a:off x="2932200" y="2878920"/>
              <a:ext cx="833400" cy="43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_s1029"/>
            <p:cNvSpPr/>
            <p:nvPr/>
          </p:nvSpPr>
          <p:spPr>
            <a:xfrm>
              <a:off x="1075680" y="175608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Огнестрельные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_s1030"/>
            <p:cNvSpPr/>
            <p:nvPr/>
          </p:nvSpPr>
          <p:spPr>
            <a:xfrm flipH="1">
              <a:off x="2529720" y="3900960"/>
              <a:ext cx="1033560" cy="15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_s1031"/>
            <p:cNvSpPr/>
            <p:nvPr/>
          </p:nvSpPr>
          <p:spPr>
            <a:xfrm>
              <a:off x="471600" y="352404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Укушенные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_s1032"/>
            <p:cNvSpPr/>
            <p:nvPr/>
          </p:nvSpPr>
          <p:spPr>
            <a:xfrm flipH="1">
              <a:off x="3662640" y="4368600"/>
              <a:ext cx="462960" cy="63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_s1033"/>
            <p:cNvSpPr/>
            <p:nvPr/>
          </p:nvSpPr>
          <p:spPr>
            <a:xfrm>
              <a:off x="2175840" y="494028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ваные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_s1034"/>
            <p:cNvSpPr/>
            <p:nvPr/>
          </p:nvSpPr>
          <p:spPr>
            <a:xfrm>
              <a:off x="5023440" y="4368600"/>
              <a:ext cx="457920" cy="63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_s1035"/>
            <p:cNvSpPr/>
            <p:nvPr/>
          </p:nvSpPr>
          <p:spPr>
            <a:xfrm>
              <a:off x="4898520" y="493704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Ушибленные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_s1036"/>
            <p:cNvSpPr/>
            <p:nvPr/>
          </p:nvSpPr>
          <p:spPr>
            <a:xfrm>
              <a:off x="5583960" y="3900960"/>
              <a:ext cx="1034640" cy="15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_s1037"/>
            <p:cNvSpPr/>
            <p:nvPr/>
          </p:nvSpPr>
          <p:spPr>
            <a:xfrm>
              <a:off x="6591600" y="352080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Колотые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_s1038"/>
            <p:cNvSpPr/>
            <p:nvPr/>
          </p:nvSpPr>
          <p:spPr>
            <a:xfrm flipV="1">
              <a:off x="5382720" y="2878920"/>
              <a:ext cx="827280" cy="43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_s1039"/>
            <p:cNvSpPr/>
            <p:nvPr/>
          </p:nvSpPr>
          <p:spPr>
            <a:xfrm>
              <a:off x="5981760" y="175608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убленые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_s1040"/>
            <p:cNvSpPr/>
            <p:nvPr/>
          </p:nvSpPr>
          <p:spPr>
            <a:xfrm flipV="1">
              <a:off x="4571280" y="235692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_s1041"/>
            <p:cNvSpPr/>
            <p:nvPr/>
          </p:nvSpPr>
          <p:spPr>
            <a:xfrm>
              <a:off x="3531600" y="97380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езаные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_s1042"/>
            <p:cNvSpPr/>
            <p:nvPr/>
          </p:nvSpPr>
          <p:spPr>
            <a:xfrm>
              <a:off x="3531600" y="306072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4680-4133-4D10-8C03-1613229E62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333000"/>
            <a:ext cx="40384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зан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носятся острыми предметами – ножом, стеклом, льдом, имеют ровные кра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2923920"/>
            <a:ext cx="4038480" cy="32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убленн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более глубокие, чем резаные, так как наносятся топором, лопатой, другими тяжелыми острыми предметами, имеют ровные кра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" name="Picture 16" descr="C:\Documents and Settings\Черчение\Рабочий стол\Мои рисунки\презентация 001.jpg"/>
          <p:cNvPicPr/>
          <p:nvPr/>
        </p:nvPicPr>
        <p:blipFill>
          <a:blip r:embed="rId1"/>
          <a:srcRect l="2839" t="2307" r="2839" b="2307"/>
          <a:stretch/>
        </p:blipFill>
        <p:spPr>
          <a:xfrm>
            <a:off x="4427640" y="404640"/>
            <a:ext cx="4525920" cy="56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A7FF-2DEF-47AC-8DE5-BEB05B52D3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78920" y="189000"/>
            <a:ext cx="453708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лот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нанесенные кинжалом, гвоздем, отверткой, зачастую внешне небольшие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арактеризуются глубокими внутренними повреждениями жизненно важных орган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932360" y="18864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шибленн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озникают при воздействии тупых предметов, падениях или сдавливаниях, их края неровные, кровотечение слабо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Picture 6" descr="C:\Documents and Settings\Черчение\Рабочий стол\Мои рисунки\презентация 003.jpg"/>
          <p:cNvPicPr/>
          <p:nvPr/>
        </p:nvPicPr>
        <p:blipFill>
          <a:blip r:embed="rId1"/>
          <a:srcRect l="4815" t="5828" r="3210" b="1943"/>
          <a:stretch/>
        </p:blipFill>
        <p:spPr>
          <a:xfrm>
            <a:off x="611280" y="3727440"/>
            <a:ext cx="3456000" cy="2862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C:\Documents and Settings\Черчение\Рабочий стол\Мои рисунки\презентация 001.jpg"/>
          <p:cNvPicPr/>
          <p:nvPr/>
        </p:nvPicPr>
        <p:blipFill>
          <a:blip r:embed="rId2"/>
          <a:srcRect l="0" t="0" r="0" b="4762"/>
          <a:stretch/>
        </p:blipFill>
        <p:spPr>
          <a:xfrm>
            <a:off x="5076720" y="2924280"/>
            <a:ext cx="3357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8628-B9C9-4F06-A752-F547B2CDB6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000" y="333000"/>
            <a:ext cx="40273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ван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озникают от разрыва кожи при натяжении, при открытых переломах кост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716360" y="2923920"/>
            <a:ext cx="41767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кушенн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являющиеся последствиями укусов животных, по внешнему виду напоминают рваные раны, но не следует забывать о возможности заражения бешенств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716000" y="333000"/>
            <a:ext cx="410076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гнестрельные раны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реди которых особенно опасны ранения внутренних органов, головы, кровеносных сосуд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Picture 6" descr="C:\Documents and Settings\Черчение\Рабочий стол\Мои рисунки\презентация 001.jpg"/>
          <p:cNvPicPr/>
          <p:nvPr/>
        </p:nvPicPr>
        <p:blipFill>
          <a:blip r:embed="rId1"/>
          <a:srcRect l="8202" t="0" r="684" b="0"/>
          <a:stretch/>
        </p:blipFill>
        <p:spPr>
          <a:xfrm>
            <a:off x="395280" y="2984400"/>
            <a:ext cx="40356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A707-FBC9-4728-A3EB-80D9126AF6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4920" y="1989000"/>
            <a:ext cx="38163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тановить кровотече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ащитить рану             от загрязнения и проникновения                в нее микроб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лабить болевые ощущ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Picture 4" descr="22omz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1989000"/>
            <a:ext cx="4546440" cy="31370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Первая помощь при ранениях: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7088-CAA4-4D3B-801F-6937589774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755640" y="404640"/>
            <a:ext cx="7704000" cy="1368720"/>
          </a:xfrm>
          <a:prstGeom prst="flowChartProcess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пособы остановк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ртериального кровотечения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250920" y="2492280"/>
            <a:ext cx="3889440" cy="1657440"/>
          </a:xfrm>
          <a:prstGeom prst="flowChartProcess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аксимальное сгибани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уки или ног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ля пережати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врежденного сосуд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 месте сгиб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4859280" y="2492280"/>
            <a:ext cx="3889440" cy="1657440"/>
          </a:xfrm>
          <a:prstGeom prst="flowChartProcess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альцевое прижат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ртерии в ран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ли на протяжен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AutoShape 14"/>
          <p:cNvSpPr/>
          <p:nvPr/>
        </p:nvSpPr>
        <p:spPr>
          <a:xfrm>
            <a:off x="2556000" y="4724280"/>
            <a:ext cx="3889080" cy="1657440"/>
          </a:xfrm>
          <a:prstGeom prst="flowChartProcess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ложени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овоостанавливающего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жгу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39528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пособы остановк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ртериального кровотеч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Line 21"/>
          <p:cNvSpPr/>
          <p:nvPr/>
        </p:nvSpPr>
        <p:spPr>
          <a:xfrm flipH="1">
            <a:off x="2124000" y="1773360"/>
            <a:ext cx="2376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Line 22"/>
          <p:cNvSpPr/>
          <p:nvPr/>
        </p:nvSpPr>
        <p:spPr>
          <a:xfrm>
            <a:off x="4500720" y="1773360"/>
            <a:ext cx="24476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Line 23"/>
          <p:cNvSpPr/>
          <p:nvPr/>
        </p:nvSpPr>
        <p:spPr>
          <a:xfrm>
            <a:off x="4500720" y="1773360"/>
            <a:ext cx="0" cy="29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13:58:36Z</dcterms:created>
  <dc:creator>------</dc:creator>
  <dc:description/>
  <dc:language>en-US</dc:language>
  <cp:lastModifiedBy>revaz</cp:lastModifiedBy>
  <dcterms:modified xsi:type="dcterms:W3CDTF">2012-04-05T20:10:45Z</dcterms:modified>
  <cp:revision>22</cp:revision>
  <dc:subject/>
  <dc:title>ОСНОВЫ МЕДИЦИНСКИХ ЗНАНИЙ  И ЗДОРОВОГО ОБРАЗА ЖИЗНИ</dc:title>
</cp:coreProperties>
</file>