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6776-E283-4841-9554-BDC3D91A7A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F90A-CDF7-4E01-B773-7DF7DED23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ли ссадина на руке или ноге, то ее можно погрузить ненадолго в теплую воду, чтобы смягчить перед т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*. Если ссадина на руке или ноге, то ее можно погрузить ненадолго в теплую воду, чтобы смягчить перед тем, как удалять грязь.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4E8D-E92B-4B85-9B8B-59EDA59E2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ABF-2500-45CB-9B51-95C06F19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169-C760-44DC-8020-FC4C9F83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614-463F-4518-BFC6-7C636667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329-AA4B-4283-AC2C-AACB5C11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7EC-12C7-4CAD-861F-C1EED425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0EB-A480-4EA8-BFDB-50A18070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05B-7ADF-4DFF-841F-3DA8CE0B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444C-2433-4FD4-A77F-BAD0FFF0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B69-7841-4358-9405-FBD3B66A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99F-857F-4076-B01F-CC753E9B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D0B-6710-4B61-AAFB-36EC0F2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B83-3F9C-417D-A920-297E00F7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7C1B-0FBB-4F7F-87D7-992417A1D28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528A-91C3-42C1-8E00-54E5D0395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pas-extreme.ru/images/multimedia/22omz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7f4c"/>
                </a:solidFill>
                <a:latin typeface="Arial"/>
              </a:rPr>
              <a:t>Основы безопасности жизнедеятельности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9E6E-45B4-450E-B326-2DCA279BE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4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нородное тело в ране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764640"/>
            <a:ext cx="5796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. Если в ране находится инородное тело (осколок стекла, кусок металла, щепка), для остановки кровотечения осторожно надавите вокруг н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2. Сделайте объемную повязку вокруг или с двух сторон от раны.                    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ahoma"/>
              </a:rPr>
              <a:t>Нельзя самостоятельно вынимать инородное тело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, т.к. оно может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держивать кровот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3. Зафиксируйте повязку восьмеркой из бинта вокруг инородного тел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братитесь за медицинской помощью как можно скорее, поскольку инородное тело нужно удалить крайне осторожно во избежание возобновления кровотечения и дальнейшего повреждения тканей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38840" indent="-438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5300280"/>
            <a:ext cx="443376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13" descr="C:\Documents and Settings\Черчение\Рабочий стол\Мои рисунки\презентация 001.jpg"/>
          <p:cNvPicPr/>
          <p:nvPr/>
        </p:nvPicPr>
        <p:blipFill>
          <a:blip r:embed="rId1"/>
          <a:srcRect l="8859" t="8202" r="4429" b="12303"/>
          <a:stretch/>
        </p:blipFill>
        <p:spPr>
          <a:xfrm>
            <a:off x="5940360" y="4508640"/>
            <a:ext cx="2906640" cy="191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Documents and Settings\Черчение\Рабочий стол\Мои рисунки\презентация 001.jpg"/>
          <p:cNvPicPr/>
          <p:nvPr/>
        </p:nvPicPr>
        <p:blipFill>
          <a:blip r:embed="rId2"/>
          <a:srcRect l="6152" t="14353" r="0" b="6151"/>
          <a:stretch/>
        </p:blipFill>
        <p:spPr>
          <a:xfrm>
            <a:off x="5940360" y="2565360"/>
            <a:ext cx="2916360" cy="18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Documents and Settings\Черчение\Рабочий стол\Мои рисунки\презентация 001.jpg"/>
          <p:cNvPicPr/>
          <p:nvPr/>
        </p:nvPicPr>
        <p:blipFill>
          <a:blip r:embed="rId3"/>
          <a:srcRect l="4614" t="2171" r="1538" b="13026"/>
          <a:stretch/>
        </p:blipFill>
        <p:spPr>
          <a:xfrm>
            <a:off x="5940360" y="620640"/>
            <a:ext cx="29163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5DB6-F2A6-4FC3-961F-5387338FC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699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7f4c"/>
                </a:solidFill>
                <a:latin typeface="Tahoma"/>
              </a:rPr>
              <a:t>Ссадины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8920" y="1125360"/>
            <a:ext cx="5977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ет серьезных поврежд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и сильного кровотечения, осторожно промойте травмированное мест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теплой водой с мыло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чищенную ссадину промокните чистыми бумажными или марлевыми салфетками. Если она продолжает кровоточить, сильно придавите это место через ткань на несколько мину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Заклейте ссадину бактерицидным пластырем так, чтобы клейкие участки приходились на неповрежденную кожу. Если ссадина обширная, приложите стерильную неприлипающую салфетку, закрепив ее пластырем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9938" t="2977" r="2839" b="72038"/>
          <a:stretch/>
        </p:blipFill>
        <p:spPr>
          <a:xfrm>
            <a:off x="6156360" y="347760"/>
            <a:ext cx="2808360" cy="19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Черчение\Рабочий стол\Мои рисунки\презентация.jpg"/>
          <p:cNvPicPr/>
          <p:nvPr/>
        </p:nvPicPr>
        <p:blipFill>
          <a:blip r:embed="rId2"/>
          <a:srcRect l="9938" t="35719" r="2839" b="39892"/>
          <a:stretch/>
        </p:blipFill>
        <p:spPr>
          <a:xfrm>
            <a:off x="6156360" y="2421000"/>
            <a:ext cx="2787480" cy="185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Documents and Settings\Черчение\Рабочий стол\Мои рисунки\презентация.jpg"/>
          <p:cNvPicPr/>
          <p:nvPr/>
        </p:nvPicPr>
        <p:blipFill>
          <a:blip r:embed="rId3"/>
          <a:srcRect l="12777" t="73824" r="4259" b="1786"/>
          <a:stretch/>
        </p:blipFill>
        <p:spPr>
          <a:xfrm>
            <a:off x="6156360" y="4437000"/>
            <a:ext cx="28242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439B-0982-4A0E-8B8E-56792CBDF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Правила наложения </a:t>
            </a:r>
            <a:br>
              <a:rPr sz="3600"/>
            </a:br>
            <a:r>
              <a:rPr b="1" lang="ru-RU" sz="3600" spc="-1" strike="noStrike">
                <a:solidFill>
                  <a:srgbClr val="827f4c"/>
                </a:solidFill>
                <a:latin typeface="Tahoma"/>
              </a:rPr>
              <a:t>бинтовых повязок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72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страдавший должен находиться в удобном для бинтования, устойчивом положении – лежать или сидеть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ующий должен по возможности находиться лицом к пострадавшему, чтобы контролировать его состоя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 следует проводить от периферии к центру, рука или нога бинтуются снизу ввер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550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Бинтование, как правило, производится от себя, слева направ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C:\Documents and Settings\Черчение\Рабочий стол\Мои рисунки\презентация 001.jpg"/>
          <p:cNvPicPr/>
          <p:nvPr/>
        </p:nvPicPr>
        <p:blipFill>
          <a:blip r:embed="rId1"/>
          <a:srcRect l="3210" t="13598" r="1605" b="1943"/>
          <a:stretch/>
        </p:blipFill>
        <p:spPr>
          <a:xfrm>
            <a:off x="6227640" y="333360"/>
            <a:ext cx="2640240" cy="193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Черчение\Рабочий стол\Мои рисунки\презентация 002.jpg"/>
          <p:cNvPicPr/>
          <p:nvPr/>
        </p:nvPicPr>
        <p:blipFill>
          <a:blip r:embed="rId2"/>
          <a:srcRect l="2129" t="4101" r="54660" b="6151"/>
          <a:stretch/>
        </p:blipFill>
        <p:spPr>
          <a:xfrm>
            <a:off x="6227640" y="2349360"/>
            <a:ext cx="2697120" cy="194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Documents and Settings\Черчение\Рабочий стол\Мои рисунки\презентация 002.jpg"/>
          <p:cNvPicPr/>
          <p:nvPr/>
        </p:nvPicPr>
        <p:blipFill>
          <a:blip r:embed="rId3"/>
          <a:srcRect l="53240" t="6151" r="4968" b="6151"/>
          <a:stretch/>
        </p:blipFill>
        <p:spPr>
          <a:xfrm>
            <a:off x="6227640" y="4437000"/>
            <a:ext cx="26956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0C39-843F-4DB3-8C7A-CA7F56AA0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259920"/>
            <a:ext cx="4643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5. Бинтование следует начинать с наиболее узкого места, переходя к более широкому. Первые обороты бинта накладываются один на друго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6. Каждый последующий оборот бинта накладывается в косом направлении и должен покрывать предыдущий на половину или две трети, закрепляя его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7. Направление витков должно быть единым во всех слоях повязки. Свободный конец бинта должен составлять прямой угол с рукой, в которой находится рулон бинта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C:\Documents and Settings\Черчение\Рабочий стол\Мои рисунки\презентация.jpg"/>
          <p:cNvPicPr/>
          <p:nvPr/>
        </p:nvPicPr>
        <p:blipFill>
          <a:blip r:embed="rId1"/>
          <a:srcRect l="53561" t="1845" r="2171" b="12918"/>
          <a:stretch/>
        </p:blipFill>
        <p:spPr>
          <a:xfrm>
            <a:off x="5292720" y="3716280"/>
            <a:ext cx="3514680" cy="265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Documents and Settings\Черчение\Рабочий стол\Мои рисунки\презентация.jpg"/>
          <p:cNvPicPr/>
          <p:nvPr/>
        </p:nvPicPr>
        <p:blipFill>
          <a:blip r:embed="rId2"/>
          <a:srcRect l="3618" t="0" r="53561" b="12918"/>
          <a:stretch/>
        </p:blipFill>
        <p:spPr>
          <a:xfrm>
            <a:off x="5292720" y="404640"/>
            <a:ext cx="356868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2E72-C43C-400D-9685-C447F1C4B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333360"/>
            <a:ext cx="4643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8. Бинт нужно натягивать равномерно. Повязка не должна быть очень свободной и съезжать по поверхности тела, но и не должна быть очень тугой и сдавливать с излишней силой перевязанное место, нарушая кровообращ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9. Для лучшего облегания бинта через каждые 2-3 оборота следует делать перекрут бинта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10. В конце перевязки необходимо сделать закрепляющие слои и завязать концы бинта, образованные его разрывом по длин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5" descr="C:\Documents and Settings\Черчение\Рабочий стол\Мои рисунки\презентация.jpg"/>
          <p:cNvPicPr/>
          <p:nvPr/>
        </p:nvPicPr>
        <p:blipFill>
          <a:blip r:embed="rId1"/>
          <a:srcRect l="5906" t="5468" r="4429" b="4101"/>
          <a:stretch/>
        </p:blipFill>
        <p:spPr>
          <a:xfrm>
            <a:off x="4932360" y="1125360"/>
            <a:ext cx="39038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D47-AE26-4AE1-913E-BBC9578DE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Вопросы и задания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йте определение ран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числите известные вам виды ран.                        Какие из них наиболее опас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способы остановки артериального кровотечения вы знает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чем заключается первая помощь при ранениях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нельзя самостоятельно вынимать инородное тело из ра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обрабатываются ссадин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вы основные правила наложения бинтовых повязок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89A8-6E4E-4942-A7E0-4806987FF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Использованная литература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ебник «Основы безопасности жизнедеятельности» 7 класс/                 под ред. Ю.Л. Воробьева. – М.: Издательство АСТ, 200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нциклопедия для  детей. Личная безопасность. Меры предосторожности в повседневной жизни. Поведение в экстремальных ситуациях/ Глав. ред. В.А. Володин, - М.: Аванта+,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ий справочник неотложных состояний.                     Скорая помощь/ Элла Тайлер, -  РИДЕРЗ ДАЙДЖЕСТ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ОСНОВЫ МЕДИЦИНСКИХ ЗНАНИЙ </a:t>
            </a:r>
            <a:br>
              <a:rPr sz="3200"/>
            </a:br>
            <a:r>
              <a:rPr b="1" lang="ru-RU" sz="3200" spc="-1" strike="noStrike">
                <a:solidFill>
                  <a:srgbClr val="827f4c"/>
                </a:solidFill>
                <a:latin typeface="Tahoma"/>
              </a:rPr>
              <a:t>И ЗДОРОВОГО ОБРАЗА ЖИЗНИ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ервая помощь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ри ранениях и травма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743200" y="5516640"/>
            <a:ext cx="6400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 – учитель МБОУ сош №3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Электроугли Сичевая В.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B19C-9268-4EB1-A4BF-14B7FBA15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Определение, виды ран 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988640"/>
            <a:ext cx="464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это нарушения целостности кожных покровов, слизистых оболочек, тканей, вызванные механическими, термическими, химическими и другими воздействиями, приводящие к расстройствам функций органов или всего орган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0" descr="C:\Documents and Settings\Черчение\Рабочий стол\Мои рисунки\презентация 001.jpg"/>
          <p:cNvPicPr/>
          <p:nvPr/>
        </p:nvPicPr>
        <p:blipFill>
          <a:blip r:embed="rId1"/>
          <a:stretch/>
        </p:blipFill>
        <p:spPr>
          <a:xfrm>
            <a:off x="4716360" y="1341360"/>
            <a:ext cx="41464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24F1-996B-4130-B3FA-B500526E9F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лассификация ран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59" name="Diagram 9"/>
          <p:cNvGrpSpPr/>
          <p:nvPr/>
        </p:nvGrpSpPr>
        <p:grpSpPr>
          <a:xfrm>
            <a:off x="471600" y="973800"/>
            <a:ext cx="8205480" cy="5353920"/>
            <a:chOff x="471600" y="973800"/>
            <a:chExt cx="8205480" cy="5353920"/>
          </a:xfrm>
        </p:grpSpPr>
        <p:sp>
          <p:nvSpPr>
            <p:cNvPr id="60" name="_s1028"/>
            <p:cNvSpPr/>
            <p:nvPr/>
          </p:nvSpPr>
          <p:spPr>
            <a:xfrm flipH="1" flipV="1">
              <a:off x="2932200" y="2878920"/>
              <a:ext cx="83340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_s1029"/>
            <p:cNvSpPr/>
            <p:nvPr/>
          </p:nvSpPr>
          <p:spPr>
            <a:xfrm>
              <a:off x="107568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Огнестрель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_s1030"/>
            <p:cNvSpPr/>
            <p:nvPr/>
          </p:nvSpPr>
          <p:spPr>
            <a:xfrm flipH="1">
              <a:off x="2529720" y="3900960"/>
              <a:ext cx="103356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_s1031"/>
            <p:cNvSpPr/>
            <p:nvPr/>
          </p:nvSpPr>
          <p:spPr>
            <a:xfrm>
              <a:off x="471600" y="3524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куш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_s1032"/>
            <p:cNvSpPr/>
            <p:nvPr/>
          </p:nvSpPr>
          <p:spPr>
            <a:xfrm flipH="1">
              <a:off x="3662640" y="4368600"/>
              <a:ext cx="46296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_s1033"/>
            <p:cNvSpPr/>
            <p:nvPr/>
          </p:nvSpPr>
          <p:spPr>
            <a:xfrm>
              <a:off x="2175840" y="49402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в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_s1034"/>
            <p:cNvSpPr/>
            <p:nvPr/>
          </p:nvSpPr>
          <p:spPr>
            <a:xfrm>
              <a:off x="5023440" y="4368600"/>
              <a:ext cx="45792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_s1035"/>
            <p:cNvSpPr/>
            <p:nvPr/>
          </p:nvSpPr>
          <p:spPr>
            <a:xfrm>
              <a:off x="4898520" y="493704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Ушибленн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_s1036"/>
            <p:cNvSpPr/>
            <p:nvPr/>
          </p:nvSpPr>
          <p:spPr>
            <a:xfrm>
              <a:off x="5583960" y="3900960"/>
              <a:ext cx="1034640" cy="15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_s1037"/>
            <p:cNvSpPr/>
            <p:nvPr/>
          </p:nvSpPr>
          <p:spPr>
            <a:xfrm>
              <a:off x="6591600" y="3520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Колотые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_s1038"/>
            <p:cNvSpPr/>
            <p:nvPr/>
          </p:nvSpPr>
          <p:spPr>
            <a:xfrm flipV="1">
              <a:off x="5382720" y="2878920"/>
              <a:ext cx="827280" cy="43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_s1039"/>
            <p:cNvSpPr/>
            <p:nvPr/>
          </p:nvSpPr>
          <p:spPr>
            <a:xfrm>
              <a:off x="5981760" y="175608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убле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_s1040"/>
            <p:cNvSpPr/>
            <p:nvPr/>
          </p:nvSpPr>
          <p:spPr>
            <a:xfrm flipV="1">
              <a:off x="4571280" y="23569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_s1041"/>
            <p:cNvSpPr/>
            <p:nvPr/>
          </p:nvSpPr>
          <p:spPr>
            <a:xfrm>
              <a:off x="3531600" y="97380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езаны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_s1042"/>
            <p:cNvSpPr/>
            <p:nvPr/>
          </p:nvSpPr>
          <p:spPr>
            <a:xfrm>
              <a:off x="3531600" y="3060720"/>
              <a:ext cx="2085480" cy="1387440"/>
            </a:xfrm>
            <a:prstGeom prst="ellipse">
              <a:avLst/>
            </a:prstGeom>
            <a:solidFill>
              <a:srgbClr val="aaa57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Раны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C134-B2FE-47BA-9A4F-7A996AA90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33300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носятся острыми предметами – ножом, стеклом, льдом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923920"/>
            <a:ext cx="403848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у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более глубокие, чем резаные, так как наносятся топором, лопатой, другими тяжелыми острыми предметами, имеют ровные кра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6" descr="C:\Documents and Settings\Черчение\Рабочий стол\Мои рисунки\презентация 001.jpg"/>
          <p:cNvPicPr/>
          <p:nvPr/>
        </p:nvPicPr>
        <p:blipFill>
          <a:blip r:embed="rId1"/>
          <a:srcRect l="2839" t="2307" r="2839" b="2307"/>
          <a:stretch/>
        </p:blipFill>
        <p:spPr>
          <a:xfrm>
            <a:off x="4427640" y="404640"/>
            <a:ext cx="4525920" cy="56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9697-1E58-4527-A516-969878F60F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78920" y="189000"/>
            <a:ext cx="45370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лот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нанесенные кинжалом, гвоздем, отверткой, зачастую внешне небольши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арактеризуются глубокими внутренними повреждениями жизненно важных орган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32360" y="188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шибл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при воздействии тупых предметов, падениях или сдавливаниях, их края неровные, кровотечение слабо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6" descr="C:\Documents and Settings\Черчение\Рабочий стол\Мои рисунки\презентация 003.jpg"/>
          <p:cNvPicPr/>
          <p:nvPr/>
        </p:nvPicPr>
        <p:blipFill>
          <a:blip r:embed="rId1"/>
          <a:srcRect l="4815" t="5828" r="3210" b="1943"/>
          <a:stretch/>
        </p:blipFill>
        <p:spPr>
          <a:xfrm>
            <a:off x="611280" y="3727440"/>
            <a:ext cx="3456000" cy="286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C:\Documents and Settings\Черчение\Рабочий стол\Мои рисунки\презентация 001.jpg"/>
          <p:cNvPicPr/>
          <p:nvPr/>
        </p:nvPicPr>
        <p:blipFill>
          <a:blip r:embed="rId2"/>
          <a:srcRect l="0" t="0" r="0" b="4762"/>
          <a:stretch/>
        </p:blipFill>
        <p:spPr>
          <a:xfrm>
            <a:off x="5076720" y="2924280"/>
            <a:ext cx="3357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72B4-5907-48FF-AE78-5D99B01F9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333000"/>
            <a:ext cx="40273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ва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зникают от разрыва кожи при натяжении, при открытых переломах к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6360" y="2923920"/>
            <a:ext cx="4176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кушенные ран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являющиеся последствиями укусов животных, по внешнему виду напоминают рваные раны, но не следует забывать о возможности заражения бешенст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716000" y="333000"/>
            <a:ext cx="410076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гнестрельные раны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и которых особенно опасны ранения внутренних органов, головы, кровеносных сосу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6" descr="C:\Documents and Settings\Черчение\Рабочий стол\Мои рисунки\презентация 001.jpg"/>
          <p:cNvPicPr/>
          <p:nvPr/>
        </p:nvPicPr>
        <p:blipFill>
          <a:blip r:embed="rId1"/>
          <a:srcRect l="8202" t="0" r="684" b="0"/>
          <a:stretch/>
        </p:blipFill>
        <p:spPr>
          <a:xfrm>
            <a:off x="395280" y="2984400"/>
            <a:ext cx="4035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95A8-A010-4827-81E1-FAB1D7BE16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1989000"/>
            <a:ext cx="38163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тановить кровотеч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щитить рану             от загрязнения и проникновения                в нее микроб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лабить болевые ощущ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22omz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989000"/>
            <a:ext cx="4546440" cy="31370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Первая помощь при ранениях: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EEDA-00F8-4793-AD9A-A6A45CDE5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755640" y="404640"/>
            <a:ext cx="7704000" cy="136872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092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ксимальное сгиба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уки или ног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ля пережа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режденного сосуд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месте сги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4859280" y="2492280"/>
            <a:ext cx="388944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льцевое прижа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ерии в ран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ли на протяже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2556000" y="4724280"/>
            <a:ext cx="3889080" cy="1657440"/>
          </a:xfrm>
          <a:prstGeom prst="flowChartProcess">
            <a:avLst/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лож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овоостанавливающего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гу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особы остановк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ртериального кровоте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Line 21"/>
          <p:cNvSpPr/>
          <p:nvPr/>
        </p:nvSpPr>
        <p:spPr>
          <a:xfrm flipH="1">
            <a:off x="2124000" y="1773360"/>
            <a:ext cx="2376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4500720" y="1773360"/>
            <a:ext cx="2447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4500720" y="177336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3:58:36Z</dcterms:created>
  <dc:creator>------</dc:creator>
  <dc:description/>
  <dc:language>en-US</dc:language>
  <cp:lastModifiedBy>revaz</cp:lastModifiedBy>
  <dcterms:modified xsi:type="dcterms:W3CDTF">2012-04-05T20:10:45Z</dcterms:modified>
  <cp:revision>22</cp:revision>
  <dc:subject/>
  <dc:title>ОСНОВЫ МЕДИЦИНСКИХ ЗНАНИЙ  И ЗДОРОВОГО ОБРАЗА ЖИЗНИ</dc:title>
</cp:coreProperties>
</file>