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B077-5E46-4649-B780-EEF1A32E1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3721-0252-4320-BBCA-A0A7C258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7D01-1CE2-438A-B98A-132BE05DD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564C-DC29-4A55-9BA7-003390A03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1D01-431A-4333-BEB7-52990A64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3997-043D-489E-BA80-46C5CF1D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1E9A-D962-4894-938E-E9C6ECED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E112-240B-4F84-9E2E-48E5B40D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26BA-2439-43AA-BA93-609990C1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489E-3622-48B1-B1E4-9C1D3D2C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0227-F871-4764-97EE-7058A9AA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9E78-7507-4C35-A7E3-2288E09A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01A6-2BAE-4034-9D9E-D1B1FDA8430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science.compulenta.ru/upload/iblock/994/Micro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eb-images.chacha.com/tonsils/tonsils-mar-1-2011-1-600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56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e5ffff"/>
                </a:solidFill>
                <a:latin typeface="Tahoma"/>
              </a:rPr>
              <a:t>БАКТЕРИИ </a:t>
            </a:r>
            <a:r>
              <a:rPr b="0" lang="ru-RU" sz="6000" spc="-1" strike="noStrike">
                <a:solidFill>
                  <a:srgbClr val="e5ffff"/>
                </a:solidFill>
                <a:latin typeface="Tahoma"/>
              </a:rPr>
              <a:t>– возбудители болезней у человека и животных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трептококк – 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возбудитель пневмони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" name="Picture 5" descr="190px-Streptococcus_pneumoniae"/>
          <p:cNvPicPr/>
          <p:nvPr/>
        </p:nvPicPr>
        <p:blipFill>
          <a:blip r:embed="rId1"/>
          <a:stretch/>
        </p:blipFill>
        <p:spPr>
          <a:xfrm>
            <a:off x="539640" y="2133720"/>
            <a:ext cx="806472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Бациллы сибирской язв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4" descr="бактерия сибирской язвы"/>
          <p:cNvPicPr/>
          <p:nvPr/>
        </p:nvPicPr>
        <p:blipFill>
          <a:blip r:embed="rId1"/>
          <a:stretch/>
        </p:blipFill>
        <p:spPr>
          <a:xfrm>
            <a:off x="1403280" y="2276640"/>
            <a:ext cx="6337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Холерный вибрио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" name="Picture 4" descr="190px-Cholera_bacteria_SEM"/>
          <p:cNvPicPr/>
          <p:nvPr/>
        </p:nvPicPr>
        <p:blipFill>
          <a:blip r:embed="rId1"/>
          <a:stretch/>
        </p:blipFill>
        <p:spPr>
          <a:xfrm>
            <a:off x="468360" y="2133720"/>
            <a:ext cx="4535280" cy="3959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275px-Vibrio_cholerae"/>
          <p:cNvPicPr/>
          <p:nvPr/>
        </p:nvPicPr>
        <p:blipFill>
          <a:blip r:embed="rId2"/>
          <a:stretch/>
        </p:blipFill>
        <p:spPr>
          <a:xfrm>
            <a:off x="5076720" y="2205000"/>
            <a:ext cx="35146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Чумная палочка</a:t>
            </a:r>
            <a:br>
              <a:rPr sz="4400"/>
            </a:b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блоха – переносчик чумной палочк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4" descr="чумная палочка"/>
          <p:cNvPicPr/>
          <p:nvPr/>
        </p:nvPicPr>
        <p:blipFill>
          <a:blip r:embed="rId1"/>
          <a:stretch/>
        </p:blipFill>
        <p:spPr>
          <a:xfrm>
            <a:off x="468360" y="1989000"/>
            <a:ext cx="3681360" cy="4032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блоха - переносчик чумы"/>
          <p:cNvPicPr/>
          <p:nvPr/>
        </p:nvPicPr>
        <p:blipFill>
          <a:blip r:embed="rId2"/>
          <a:stretch/>
        </p:blipFill>
        <p:spPr>
          <a:xfrm>
            <a:off x="4211640" y="2205000"/>
            <a:ext cx="4392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альмонелла – 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возбудитель брюшного тифа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4" descr="190px-Salmonella_enterica_serovar_typhimurium_01"/>
          <p:cNvPicPr/>
          <p:nvPr/>
        </p:nvPicPr>
        <p:blipFill>
          <a:blip r:embed="rId1"/>
          <a:stretch/>
        </p:blipFill>
        <p:spPr>
          <a:xfrm>
            <a:off x="1692360" y="2060640"/>
            <a:ext cx="5688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Клостридиум – 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возбудитель ботулизм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4" descr="190px-Clostridium_botulinum"/>
          <p:cNvPicPr/>
          <p:nvPr/>
        </p:nvPicPr>
        <p:blipFill>
          <a:blip r:embed="rId1"/>
          <a:stretch/>
        </p:blipFill>
        <p:spPr>
          <a:xfrm>
            <a:off x="2050920" y="2060640"/>
            <a:ext cx="48261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Туберкулёзная палочка – 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возбудитель туберкулёза </a:t>
            </a:r>
            <a:br>
              <a:rPr sz="3200"/>
            </a:b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(рентгеновский снимок лёгких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4" descr="190px-Tuberculosis-x-ray-1"/>
          <p:cNvPicPr/>
          <p:nvPr/>
        </p:nvPicPr>
        <p:blipFill>
          <a:blip r:embed="rId1"/>
          <a:stretch/>
        </p:blipFill>
        <p:spPr>
          <a:xfrm>
            <a:off x="5148360" y="2060640"/>
            <a:ext cx="3527280" cy="403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Картинка 2 из 41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1989000"/>
            <a:ext cx="460836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Ангина (тонзилит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5" descr="Картинка 7 из 220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1700280"/>
            <a:ext cx="53226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9:38:58Z</dcterms:created>
  <dc:creator>Transinginiring</dc:creator>
  <dc:description/>
  <dc:language>en-US</dc:language>
  <cp:lastModifiedBy>Николай</cp:lastModifiedBy>
  <dcterms:modified xsi:type="dcterms:W3CDTF">2013-01-09T09:00:47Z</dcterms:modified>
  <cp:revision>6</cp:revision>
  <dc:subject/>
  <dc:title>БАКТЕРИИ – возбудители болезней у человека и животных</dc:title>
</cp:coreProperties>
</file>