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A78-0A84-460B-85CB-5D440F83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5E9-5A68-4B2E-9EDE-46BC9DEE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E22-8731-47F6-AF67-34B31AE6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8BB-5B24-4902-AEC4-F2B214D8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0C0-84C7-493F-8D33-B15985DA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CB5-54AB-420E-B1D7-A692AAF4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301-169D-4366-8B3B-A77A71FB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7E1-5FA0-4F5E-9A7C-B387B3BB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9D3-B239-48E5-8EC3-A4A54CEC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B2A-6A41-4926-BF82-977A3BCF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3AA-0B27-4B5A-8AF8-A551D5CF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B1B-0318-4EC1-B1F1-883EBC69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6531-B674-4C66-93FF-7F0E90E63A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science.compulenta.ru/upload/iblock/994/Micro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eb-images.chacha.com/tonsils/tonsils-mar-1-2011-1-600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e5ffff"/>
                </a:solidFill>
                <a:latin typeface="Tahoma"/>
              </a:rPr>
              <a:t>БАКТЕРИИ </a:t>
            </a:r>
            <a:r>
              <a:rPr b="0" lang="ru-RU" sz="6000" spc="-1" strike="noStrike">
                <a:solidFill>
                  <a:srgbClr val="e5ffff"/>
                </a:solidFill>
                <a:latin typeface="Tahoma"/>
              </a:rPr>
              <a:t>– возбудители болезней у человека и животных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рептококк –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озбудитель пневмони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190px-Streptococcus_pneumoniae"/>
          <p:cNvPicPr/>
          <p:nvPr/>
        </p:nvPicPr>
        <p:blipFill>
          <a:blip r:embed="rId1"/>
          <a:stretch/>
        </p:blipFill>
        <p:spPr>
          <a:xfrm>
            <a:off x="539640" y="2133720"/>
            <a:ext cx="8064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Бациллы сибирской язв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бактерия сибирской язвы"/>
          <p:cNvPicPr/>
          <p:nvPr/>
        </p:nvPicPr>
        <p:blipFill>
          <a:blip r:embed="rId1"/>
          <a:stretch/>
        </p:blipFill>
        <p:spPr>
          <a:xfrm>
            <a:off x="1403280" y="2276640"/>
            <a:ext cx="6337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олерный вибрио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190px-Cholera_bacteria_SEM"/>
          <p:cNvPicPr/>
          <p:nvPr/>
        </p:nvPicPr>
        <p:blipFill>
          <a:blip r:embed="rId1"/>
          <a:stretch/>
        </p:blipFill>
        <p:spPr>
          <a:xfrm>
            <a:off x="468360" y="2133720"/>
            <a:ext cx="4535280" cy="395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275px-Vibrio_cholerae"/>
          <p:cNvPicPr/>
          <p:nvPr/>
        </p:nvPicPr>
        <p:blipFill>
          <a:blip r:embed="rId2"/>
          <a:stretch/>
        </p:blipFill>
        <p:spPr>
          <a:xfrm>
            <a:off x="5076720" y="2205000"/>
            <a:ext cx="35146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Чумная палочка</a:t>
            </a:r>
            <a:br>
              <a:rPr sz="44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блоха – переносчик чумной палочк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чумная палочка"/>
          <p:cNvPicPr/>
          <p:nvPr/>
        </p:nvPicPr>
        <p:blipFill>
          <a:blip r:embed="rId1"/>
          <a:stretch/>
        </p:blipFill>
        <p:spPr>
          <a:xfrm>
            <a:off x="468360" y="1989000"/>
            <a:ext cx="3681360" cy="403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блоха - переносчик чумы"/>
          <p:cNvPicPr/>
          <p:nvPr/>
        </p:nvPicPr>
        <p:blipFill>
          <a:blip r:embed="rId2"/>
          <a:stretch/>
        </p:blipFill>
        <p:spPr>
          <a:xfrm>
            <a:off x="4211640" y="2205000"/>
            <a:ext cx="439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альмонелла –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возбудитель брюшного тиф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190px-Salmonella_enterica_serovar_typhimurium_01"/>
          <p:cNvPicPr/>
          <p:nvPr/>
        </p:nvPicPr>
        <p:blipFill>
          <a:blip r:embed="rId1"/>
          <a:stretch/>
        </p:blipFill>
        <p:spPr>
          <a:xfrm>
            <a:off x="1692360" y="2060640"/>
            <a:ext cx="568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лостридиум –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озбудитель ботулиз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190px-Clostridium_botulinum"/>
          <p:cNvPicPr/>
          <p:nvPr/>
        </p:nvPicPr>
        <p:blipFill>
          <a:blip r:embed="rId1"/>
          <a:stretch/>
        </p:blipFill>
        <p:spPr>
          <a:xfrm>
            <a:off x="2050920" y="2060640"/>
            <a:ext cx="48261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уберкулёзная палочка –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озбудитель туберкулёза 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(рентгеновский снимок лёгких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190px-Tuberculosis-x-ray-1"/>
          <p:cNvPicPr/>
          <p:nvPr/>
        </p:nvPicPr>
        <p:blipFill>
          <a:blip r:embed="rId1"/>
          <a:stretch/>
        </p:blipFill>
        <p:spPr>
          <a:xfrm>
            <a:off x="5148360" y="2060640"/>
            <a:ext cx="3527280" cy="403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Картинка 2 из 4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989000"/>
            <a:ext cx="460836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нгина (тонзилит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Картинка 7 из 220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700280"/>
            <a:ext cx="53226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9:38:58Z</dcterms:created>
  <dc:creator>Transinginiring</dc:creator>
  <dc:description/>
  <dc:language>en-US</dc:language>
  <cp:lastModifiedBy>Николай</cp:lastModifiedBy>
  <dcterms:modified xsi:type="dcterms:W3CDTF">2013-01-09T09:00:47Z</dcterms:modified>
  <cp:revision>6</cp:revision>
  <dc:subject/>
  <dc:title>БАКТЕРИИ – возбудители болезней у человека и животных</dc:title>
</cp:coreProperties>
</file>