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04A-AE2D-4401-A2BC-EB87797F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CEB-5C08-4F14-B7A1-08F55B3D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B8C-9F51-4E06-8244-FA17107E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1E7-CD42-42DC-A5E5-4BEABA3D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B59-DF43-4A8A-A1FB-E31DB15C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EBC-807F-4A04-94BF-6602441A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E03-D818-4AA3-A626-655706C9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A77-F33B-4447-B2AE-52FE69C7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DA4-FA5F-48B0-AB1C-F41A706C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1B2-F488-4142-BC0F-D479FC61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F62-2DB4-4EEE-BEFD-645F14B6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420-077F-426A-8ADA-E56BAD49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FBEA-02DF-4FA5-B4C1-005AC615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3.xml"/><Relationship Id="rId13" Type="http://schemas.openxmlformats.org/officeDocument/2006/relationships/slide" Target="slide24.xml"/><Relationship Id="rId14" Type="http://schemas.openxmlformats.org/officeDocument/2006/relationships/slide" Target="slide25.xml"/><Relationship Id="rId15" Type="http://schemas.openxmlformats.org/officeDocument/2006/relationships/slide" Target="slide26.xml"/><Relationship Id="rId16" Type="http://schemas.openxmlformats.org/officeDocument/2006/relationships/slide" Target="slide32.xml"/><Relationship Id="rId17" Type="http://schemas.openxmlformats.org/officeDocument/2006/relationships/slide" Target="slide31.xml"/><Relationship Id="rId18" Type="http://schemas.openxmlformats.org/officeDocument/2006/relationships/slide" Target="slide30.xml"/><Relationship Id="rId19" Type="http://schemas.openxmlformats.org/officeDocument/2006/relationships/slide" Target="slide29.xml"/><Relationship Id="rId20" Type="http://schemas.openxmlformats.org/officeDocument/2006/relationships/slide" Target="slide28.xml"/><Relationship Id="rId21" Type="http://schemas.openxmlformats.org/officeDocument/2006/relationships/slide" Target="slide3.xml"/><Relationship Id="rId22" Type="http://schemas.openxmlformats.org/officeDocument/2006/relationships/slide" Target="slide4.xml"/><Relationship Id="rId23" Type="http://schemas.openxmlformats.org/officeDocument/2006/relationships/slide" Target="slide5.xml"/><Relationship Id="rId24" Type="http://schemas.openxmlformats.org/officeDocument/2006/relationships/slide" Target="slide6.xml"/><Relationship Id="rId25" Type="http://schemas.openxmlformats.org/officeDocument/2006/relationships/slide" Target="slide7.xml"/><Relationship Id="rId26" Type="http://schemas.openxmlformats.org/officeDocument/2006/relationships/slide" Target="slide8.xml"/><Relationship Id="rId27" Type="http://schemas.openxmlformats.org/officeDocument/2006/relationships/slide" Target="slide15.xml"/><Relationship Id="rId28" Type="http://schemas.openxmlformats.org/officeDocument/2006/relationships/slide" Target="slide21.xml"/><Relationship Id="rId29" Type="http://schemas.openxmlformats.org/officeDocument/2006/relationships/slide" Target="slide27.xml"/><Relationship Id="rId30" Type="http://schemas.openxmlformats.org/officeDocument/2006/relationships/slide" Target="slide9.xml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56360" y="2577960"/>
            <a:ext cx="2987640" cy="4280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33336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задач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а готовых чертежах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4724280"/>
            <a:ext cx="280836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8520" y="587700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М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920" y="1628640"/>
            <a:ext cx="7129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тоговое повторение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Часть 1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араллельные прямые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и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403280" y="189000"/>
            <a:ext cx="5256000" cy="792000"/>
            <a:chOff x="1403280" y="189000"/>
            <a:chExt cx="5256000" cy="792000"/>
          </a:xfrm>
        </p:grpSpPr>
        <p:sp>
          <p:nvSpPr>
            <p:cNvPr id="292" name=""/>
            <p:cNvSpPr/>
            <p:nvPr/>
          </p:nvSpPr>
          <p:spPr>
            <a:xfrm>
              <a:off x="1403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044520" y="374400"/>
                  <a:ext cx="204480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D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4" name=""/>
          <p:cNvGrpSpPr/>
          <p:nvPr/>
        </p:nvGrpSpPr>
        <p:grpSpPr>
          <a:xfrm>
            <a:off x="611280" y="1197000"/>
            <a:ext cx="5256000" cy="792000"/>
            <a:chOff x="611280" y="1197000"/>
            <a:chExt cx="5256000" cy="792000"/>
          </a:xfrm>
        </p:grpSpPr>
        <p:sp>
          <p:nvSpPr>
            <p:cNvPr id="295" name=""/>
            <p:cNvSpPr/>
            <p:nvPr/>
          </p:nvSpPr>
          <p:spPr>
            <a:xfrm>
              <a:off x="611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2533680" y="1382400"/>
                  <a:ext cx="14842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С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7" name=""/>
          <p:cNvSpPr/>
          <p:nvPr/>
        </p:nvSpPr>
        <p:spPr>
          <a:xfrm>
            <a:off x="313200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5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785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637000"/>
            <a:ext cx="3967200" cy="3214440"/>
          </a:xfrm>
          <a:custGeom>
            <a:avLst/>
            <a:gdLst/>
            <a:ahLst/>
            <a:rect l="l" t="t" r="r" b="b"/>
            <a:pathLst>
              <a:path w="2499" h="2025">
                <a:moveTo>
                  <a:pt x="0" y="2025"/>
                </a:moveTo>
                <a:lnTo>
                  <a:pt x="881" y="0"/>
                </a:lnTo>
                <a:lnTo>
                  <a:pt x="2499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2180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25600" y="5823000"/>
            <a:ext cx="6577200" cy="39600"/>
          </a:xfrm>
          <a:custGeom>
            <a:avLst/>
            <a:gdLst/>
            <a:ahLst/>
            <a:rect l="l" t="t" r="r" b="b"/>
            <a:pathLst>
              <a:path w="4143" h="25">
                <a:moveTo>
                  <a:pt x="0" y="0"/>
                </a:moveTo>
                <a:lnTo>
                  <a:pt x="4143" y="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9754400">
            <a:off x="4816440" y="3314880"/>
            <a:ext cx="36036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68800">
            <a:off x="4348080" y="3287520"/>
            <a:ext cx="509760" cy="139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rot="7577400">
            <a:off x="6422040" y="5537880"/>
            <a:ext cx="558720" cy="842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3486800">
            <a:off x="3419280" y="5589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3428600">
            <a:off x="3422160" y="5503680"/>
            <a:ext cx="604800" cy="115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7249800">
            <a:off x="6743520" y="5649840"/>
            <a:ext cx="36036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07000" y="2649600"/>
            <a:ext cx="590400" cy="3200400"/>
          </a:xfrm>
          <a:custGeom>
            <a:avLst/>
            <a:gdLst/>
            <a:ahLst/>
            <a:rect l="l" t="t" r="r" b="b"/>
            <a:pathLst>
              <a:path w="372" h="2016">
                <a:moveTo>
                  <a:pt x="0" y="0"/>
                </a:moveTo>
                <a:lnTo>
                  <a:pt x="372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25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18080" y="51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7249800">
            <a:off x="6554160" y="5592600"/>
            <a:ext cx="50328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21360" y="522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53080" y="3141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rot="2272800">
            <a:off x="5147640" y="2707920"/>
            <a:ext cx="558720" cy="113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2360" y="141444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203640" y="189000"/>
            <a:ext cx="5456160" cy="817560"/>
            <a:chOff x="3203640" y="189000"/>
            <a:chExt cx="5456160" cy="817560"/>
          </a:xfrm>
        </p:grpSpPr>
        <p:sp>
          <p:nvSpPr>
            <p:cNvPr id="321" name=""/>
            <p:cNvSpPr/>
            <p:nvPr/>
          </p:nvSpPr>
          <p:spPr>
            <a:xfrm>
              <a:off x="3267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03640" y="293760"/>
                  <a:ext cx="54561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МВ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3" name=""/>
          <p:cNvGrpSpPr/>
          <p:nvPr/>
        </p:nvGrpSpPr>
        <p:grpSpPr>
          <a:xfrm>
            <a:off x="611280" y="1268280"/>
            <a:ext cx="5256000" cy="792360"/>
            <a:chOff x="611280" y="1268280"/>
            <a:chExt cx="5256000" cy="792360"/>
          </a:xfrm>
        </p:grpSpPr>
        <p:sp>
          <p:nvSpPr>
            <p:cNvPr id="324" name=""/>
            <p:cNvSpPr/>
            <p:nvPr/>
          </p:nvSpPr>
          <p:spPr>
            <a:xfrm>
              <a:off x="611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276280" y="1413000"/>
                  <a:ext cx="200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М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М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32400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4076640"/>
            <a:ext cx="7128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3236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81200" y="4141800"/>
            <a:ext cx="3495600" cy="1440"/>
          </a:xfrm>
          <a:custGeom>
            <a:avLst/>
            <a:gdLst/>
            <a:ahLst/>
            <a:rect l="l" t="t" r="r" b="b"/>
            <a:pathLst>
              <a:path w="2202" h="1">
                <a:moveTo>
                  <a:pt x="2202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91200" y="4141800"/>
            <a:ext cx="2259000" cy="1440"/>
          </a:xfrm>
          <a:custGeom>
            <a:avLst/>
            <a:gdLst/>
            <a:ahLst/>
            <a:rect l="l" t="t" r="r" b="b"/>
            <a:pathLst>
              <a:path w="1423" h="1">
                <a:moveTo>
                  <a:pt x="1423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267000" y="36360"/>
            <a:ext cx="5256000" cy="1227240"/>
            <a:chOff x="3267000" y="36360"/>
            <a:chExt cx="5256000" cy="1227240"/>
          </a:xfrm>
        </p:grpSpPr>
        <p:sp>
          <p:nvSpPr>
            <p:cNvPr id="339" name=""/>
            <p:cNvSpPr/>
            <p:nvPr/>
          </p:nvSpPr>
          <p:spPr>
            <a:xfrm>
              <a:off x="3267000" y="188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3363840" y="36360"/>
                  <a:ext cx="5135400" cy="12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В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1" name=""/>
          <p:cNvGrpSpPr/>
          <p:nvPr/>
        </p:nvGrpSpPr>
        <p:grpSpPr>
          <a:xfrm>
            <a:off x="826920" y="1268280"/>
            <a:ext cx="5256000" cy="792360"/>
            <a:chOff x="826920" y="1268280"/>
            <a:chExt cx="5256000" cy="792360"/>
          </a:xfrm>
        </p:grpSpPr>
        <p:sp>
          <p:nvSpPr>
            <p:cNvPr id="342" name=""/>
            <p:cNvSpPr/>
            <p:nvPr/>
          </p:nvSpPr>
          <p:spPr>
            <a:xfrm>
              <a:off x="82692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2571480" y="1413000"/>
                  <a:ext cx="184140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B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35280" y="4076640"/>
            <a:ext cx="7164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1964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81200" y="4141800"/>
            <a:ext cx="2003400" cy="1440"/>
          </a:xfrm>
          <a:custGeom>
            <a:avLst/>
            <a:gdLst/>
            <a:ahLst/>
            <a:rect l="l" t="t" r="r" b="b"/>
            <a:pathLst>
              <a:path w="1262" h="1">
                <a:moveTo>
                  <a:pt x="1262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70200" y="4141800"/>
            <a:ext cx="3780000" cy="1440"/>
          </a:xfrm>
          <a:custGeom>
            <a:avLst/>
            <a:gdLst/>
            <a:ahLst/>
            <a:rect l="l" t="t" r="r" b="b"/>
            <a:pathLst>
              <a:path w="2381" h="1">
                <a:moveTo>
                  <a:pt x="2381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762280" y="189000"/>
            <a:ext cx="6338880" cy="792000"/>
            <a:chOff x="2762280" y="189000"/>
            <a:chExt cx="6338880" cy="792000"/>
          </a:xfrm>
        </p:grpSpPr>
        <p:sp>
          <p:nvSpPr>
            <p:cNvPr id="356" name=""/>
            <p:cNvSpPr/>
            <p:nvPr/>
          </p:nvSpPr>
          <p:spPr>
            <a:xfrm>
              <a:off x="3267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762280" y="331560"/>
                  <a:ext cx="633888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,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D</m:t>
                      </m:r>
                      <m:r>
                        <m:t xml:space="preserve">=</m:t>
                      </m:r>
                      <m:r>
                        <m:t xml:space="preserve">7,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"/>
          <p:cNvGrpSpPr/>
          <p:nvPr/>
        </p:nvGrpSpPr>
        <p:grpSpPr>
          <a:xfrm>
            <a:off x="179280" y="1197000"/>
            <a:ext cx="5256000" cy="792000"/>
            <a:chOff x="179280" y="1197000"/>
            <a:chExt cx="5256000" cy="792000"/>
          </a:xfrm>
        </p:grpSpPr>
        <p:sp>
          <p:nvSpPr>
            <p:cNvPr id="359" name=""/>
            <p:cNvSpPr/>
            <p:nvPr/>
          </p:nvSpPr>
          <p:spPr>
            <a:xfrm>
              <a:off x="179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2442960" y="1380960"/>
                  <a:ext cx="8017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1" name="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35280" y="4076640"/>
            <a:ext cx="7164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149720"/>
            <a:ext cx="1119240" cy="4680"/>
          </a:xfrm>
          <a:custGeom>
            <a:avLst/>
            <a:gdLst/>
            <a:ahLst/>
            <a:rect l="l" t="t" r="r" b="b"/>
            <a:pathLst>
              <a:path w="705" h="3">
                <a:moveTo>
                  <a:pt x="705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88000" y="4076640"/>
            <a:ext cx="7128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336840" y="0"/>
            <a:ext cx="5496120" cy="818640"/>
            <a:chOff x="3336840" y="0"/>
            <a:chExt cx="5496120" cy="818640"/>
          </a:xfrm>
        </p:grpSpPr>
        <p:sp>
          <p:nvSpPr>
            <p:cNvPr id="374" name=""/>
            <p:cNvSpPr/>
            <p:nvPr/>
          </p:nvSpPr>
          <p:spPr>
            <a:xfrm>
              <a:off x="3419640" y="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3336840" y="106200"/>
                  <a:ext cx="5496120" cy="71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ВО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6" name=""/>
          <p:cNvGrpSpPr/>
          <p:nvPr/>
        </p:nvGrpSpPr>
        <p:grpSpPr>
          <a:xfrm>
            <a:off x="3132000" y="476280"/>
            <a:ext cx="5256000" cy="792000"/>
            <a:chOff x="3132000" y="476280"/>
            <a:chExt cx="5256000" cy="792000"/>
          </a:xfrm>
        </p:grpSpPr>
        <p:sp>
          <p:nvSpPr>
            <p:cNvPr id="377" name=""/>
            <p:cNvSpPr/>
            <p:nvPr/>
          </p:nvSpPr>
          <p:spPr>
            <a:xfrm>
              <a:off x="3132000" y="476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512960" y="622080"/>
                  <a:ext cx="25671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B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9" name=""/>
          <p:cNvGrpSpPr/>
          <p:nvPr/>
        </p:nvGrpSpPr>
        <p:grpSpPr>
          <a:xfrm>
            <a:off x="539640" y="1197000"/>
            <a:ext cx="5256000" cy="792000"/>
            <a:chOff x="539640" y="1197000"/>
            <a:chExt cx="5256000" cy="792000"/>
          </a:xfrm>
        </p:grpSpPr>
        <p:sp>
          <p:nvSpPr>
            <p:cNvPr id="380" name=""/>
            <p:cNvSpPr/>
            <p:nvPr/>
          </p:nvSpPr>
          <p:spPr>
            <a:xfrm>
              <a:off x="539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422440" y="1382400"/>
                  <a:ext cx="15634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О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2" name=""/>
          <p:cNvSpPr/>
          <p:nvPr/>
        </p:nvSpPr>
        <p:spPr>
          <a:xfrm>
            <a:off x="3805200" y="1949400"/>
            <a:ext cx="4626000" cy="3630600"/>
          </a:xfrm>
          <a:custGeom>
            <a:avLst/>
            <a:gdLst/>
            <a:ahLst/>
            <a:rect l="l" t="t" r="r" b="b"/>
            <a:pathLst>
              <a:path w="2914" h="2287">
                <a:moveTo>
                  <a:pt x="288" y="0"/>
                </a:moveTo>
                <a:lnTo>
                  <a:pt x="0" y="2287"/>
                </a:lnTo>
                <a:lnTo>
                  <a:pt x="2914" y="228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19600" y="2298600"/>
            <a:ext cx="3886200" cy="3295800"/>
          </a:xfrm>
          <a:custGeom>
            <a:avLst/>
            <a:gdLst/>
            <a:ahLst/>
            <a:rect l="l" t="t" r="r" b="b"/>
            <a:pathLst>
              <a:path w="2448" h="2076">
                <a:moveTo>
                  <a:pt x="1414" y="0"/>
                </a:moveTo>
                <a:lnTo>
                  <a:pt x="0" y="2076"/>
                </a:lnTo>
                <a:lnTo>
                  <a:pt x="2448" y="10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02800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96360" y="386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80000" y="1916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12000" y="206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19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rot="19639200">
            <a:off x="4786920" y="4292280"/>
            <a:ext cx="36180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5080" y="3789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03400" y="1909800"/>
            <a:ext cx="6319800" cy="3697200"/>
          </a:xfrm>
          <a:custGeom>
            <a:avLst/>
            <a:gdLst/>
            <a:ahLst/>
            <a:rect l="l" t="t" r="r" b="b"/>
            <a:pathLst>
              <a:path w="3981" h="2329">
                <a:moveTo>
                  <a:pt x="2533" y="965"/>
                </a:moveTo>
                <a:lnTo>
                  <a:pt x="0" y="2329"/>
                </a:lnTo>
                <a:lnTo>
                  <a:pt x="1406" y="0"/>
                </a:lnTo>
                <a:lnTo>
                  <a:pt x="3981" y="2194"/>
                </a:lnTo>
                <a:lnTo>
                  <a:pt x="771" y="1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1928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7280" y="1413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43280" y="3141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2000" y="2924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44000" y="537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0" y="40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rot="7577400">
            <a:off x="6782400" y="4602960"/>
            <a:ext cx="558720" cy="842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7249800">
            <a:off x="7033320" y="4752000"/>
            <a:ext cx="43812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7249800">
            <a:off x="6914520" y="4657320"/>
            <a:ext cx="50328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5336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3486800">
            <a:off x="2398320" y="4946760"/>
            <a:ext cx="525600" cy="77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3428600">
            <a:off x="2500200" y="4846320"/>
            <a:ext cx="573120" cy="871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09720" y="4365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0371600">
            <a:off x="4352760" y="3790800"/>
            <a:ext cx="866880" cy="1461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37000" y="3284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412" name="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009600" y="334800"/>
                  <a:ext cx="16844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м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рис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395280" y="1197000"/>
            <a:ext cx="5256000" cy="792000"/>
            <a:chOff x="395280" y="1197000"/>
            <a:chExt cx="5256000" cy="792000"/>
          </a:xfrm>
        </p:grpSpPr>
        <p:sp>
          <p:nvSpPr>
            <p:cNvPr id="415" name=""/>
            <p:cNvSpPr/>
            <p:nvPr/>
          </p:nvSpPr>
          <p:spPr>
            <a:xfrm>
              <a:off x="395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336760" y="1382400"/>
                  <a:ext cx="1444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С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7" name=""/>
          <p:cNvSpPr/>
          <p:nvPr/>
        </p:nvSpPr>
        <p:spPr>
          <a:xfrm flipH="1" rot="4828800">
            <a:off x="4174200" y="2169720"/>
            <a:ext cx="362160" cy="7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57440" y="2565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17236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050920" y="5516640"/>
            <a:ext cx="3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102880" y="54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410560" y="2276640"/>
            <a:ext cx="5759640" cy="3311280"/>
          </a:xfrm>
          <a:prstGeom prst="rtTriangl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23672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7807680" y="5232960"/>
            <a:ext cx="336240" cy="32868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244800">
            <a:off x="6588000" y="5157720"/>
            <a:ext cx="432000" cy="436680"/>
          </a:xfrm>
          <a:custGeom>
            <a:avLst/>
            <a:gdLst/>
            <a:ahLst/>
            <a:rect l="l" t="t" r="r" b="b"/>
            <a:pathLst>
              <a:path w="256" h="321">
                <a:moveTo>
                  <a:pt x="0" y="0"/>
                </a:moveTo>
                <a:cubicBezTo>
                  <a:pt x="17" y="7"/>
                  <a:pt x="71" y="26"/>
                  <a:pt x="102" y="45"/>
                </a:cubicBezTo>
                <a:cubicBezTo>
                  <a:pt x="134" y="64"/>
                  <a:pt x="161" y="83"/>
                  <a:pt x="184" y="111"/>
                </a:cubicBezTo>
                <a:cubicBezTo>
                  <a:pt x="208" y="139"/>
                  <a:pt x="232" y="177"/>
                  <a:pt x="244" y="212"/>
                </a:cubicBezTo>
                <a:cubicBezTo>
                  <a:pt x="256" y="247"/>
                  <a:pt x="253" y="298"/>
                  <a:pt x="255" y="32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13720" y="486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3486800">
            <a:off x="3030480" y="5328720"/>
            <a:ext cx="525600" cy="781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3428600">
            <a:off x="3125880" y="5282640"/>
            <a:ext cx="637920" cy="98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73360" y="486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88200" y="2273400"/>
            <a:ext cx="1760400" cy="3294000"/>
          </a:xfrm>
          <a:custGeom>
            <a:avLst/>
            <a:gdLst/>
            <a:ahLst/>
            <a:rect l="l" t="t" r="r" b="b"/>
            <a:pathLst>
              <a:path w="1109" h="2075">
                <a:moveTo>
                  <a:pt x="1109" y="0"/>
                </a:moveTo>
                <a:lnTo>
                  <a:pt x="0" y="207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155640" y="5516640"/>
            <a:ext cx="3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437" name="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3090600" y="393480"/>
                  <a:ext cx="152388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MP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9" name=""/>
          <p:cNvGrpSpPr/>
          <p:nvPr/>
        </p:nvGrpSpPr>
        <p:grpSpPr>
          <a:xfrm>
            <a:off x="250920" y="1268280"/>
            <a:ext cx="5256000" cy="792360"/>
            <a:chOff x="250920" y="1268280"/>
            <a:chExt cx="5256000" cy="792360"/>
          </a:xfrm>
        </p:grpSpPr>
        <p:sp>
          <p:nvSpPr>
            <p:cNvPr id="440" name=""/>
            <p:cNvSpPr/>
            <p:nvPr/>
          </p:nvSpPr>
          <p:spPr>
            <a:xfrm>
              <a:off x="25092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2455920" y="1471680"/>
                  <a:ext cx="9205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2" name=""/>
          <p:cNvSpPr/>
          <p:nvPr/>
        </p:nvSpPr>
        <p:spPr>
          <a:xfrm>
            <a:off x="2394000" y="5594400"/>
            <a:ext cx="5769000" cy="1440"/>
          </a:xfrm>
          <a:custGeom>
            <a:avLst/>
            <a:gdLst/>
            <a:ahLst/>
            <a:rect l="l" t="t" r="r" b="b"/>
            <a:pathLst>
              <a:path w="3634" h="1">
                <a:moveTo>
                  <a:pt x="3634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5780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5780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80000" y="3500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98800" y="3994200"/>
            <a:ext cx="2635200" cy="1639800"/>
          </a:xfrm>
          <a:custGeom>
            <a:avLst/>
            <a:gdLst/>
            <a:ahLst/>
            <a:rect l="l" t="t" r="r" b="b"/>
            <a:pathLst>
              <a:path w="1660" h="1033">
                <a:moveTo>
                  <a:pt x="1660" y="0"/>
                </a:moveTo>
                <a:lnTo>
                  <a:pt x="0" y="103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rot="16200000">
            <a:off x="3027960" y="5259960"/>
            <a:ext cx="336600" cy="4176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5744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87640" y="2349360"/>
            <a:ext cx="5400720" cy="3311640"/>
          </a:xfrm>
          <a:prstGeom prst="rtTriangl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39016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00720" y="3284640"/>
            <a:ext cx="24120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88000" y="4581360"/>
            <a:ext cx="24156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458" name="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0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461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442960" y="1471680"/>
                  <a:ext cx="8017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"/>
          <p:cNvSpPr/>
          <p:nvPr/>
        </p:nvSpPr>
        <p:spPr>
          <a:xfrm>
            <a:off x="2984400" y="2340000"/>
            <a:ext cx="5392800" cy="3308400"/>
          </a:xfrm>
          <a:custGeom>
            <a:avLst/>
            <a:gdLst/>
            <a:ahLst/>
            <a:rect l="l" t="t" r="r" b="b"/>
            <a:pathLst>
              <a:path w="3397" h="2084">
                <a:moveTo>
                  <a:pt x="3397" y="208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2649600"/>
            <a:ext cx="1666800" cy="3159000"/>
          </a:xfrm>
          <a:custGeom>
            <a:avLst/>
            <a:gdLst/>
            <a:ahLst/>
            <a:rect l="l" t="t" r="r" b="b"/>
            <a:pathLst>
              <a:path w="1050" h="1990">
                <a:moveTo>
                  <a:pt x="0" y="1990"/>
                </a:moveTo>
                <a:lnTo>
                  <a:pt x="105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92600" y="2662200"/>
            <a:ext cx="2689200" cy="3173400"/>
          </a:xfrm>
          <a:custGeom>
            <a:avLst/>
            <a:gdLst/>
            <a:ahLst/>
            <a:rect l="l" t="t" r="r" b="b"/>
            <a:pathLst>
              <a:path w="1694" h="1999">
                <a:moveTo>
                  <a:pt x="0" y="0"/>
                </a:moveTo>
                <a:lnTo>
                  <a:pt x="1694" y="199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25600" y="5823000"/>
            <a:ext cx="6577200" cy="39600"/>
          </a:xfrm>
          <a:custGeom>
            <a:avLst/>
            <a:gdLst/>
            <a:ahLst/>
            <a:rect l="l" t="t" r="r" b="b"/>
            <a:pathLst>
              <a:path w="4143" h="25">
                <a:moveTo>
                  <a:pt x="0" y="0"/>
                </a:moveTo>
                <a:lnTo>
                  <a:pt x="4143" y="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8108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70160" y="234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13440" y="486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8944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41440" y="357336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17800" y="47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33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293800" y="580536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042920" y="189000"/>
            <a:ext cx="5256000" cy="792000"/>
            <a:chOff x="1042920" y="189000"/>
            <a:chExt cx="5256000" cy="792000"/>
          </a:xfrm>
        </p:grpSpPr>
        <p:sp>
          <p:nvSpPr>
            <p:cNvPr id="481" name=""/>
            <p:cNvSpPr/>
            <p:nvPr/>
          </p:nvSpPr>
          <p:spPr>
            <a:xfrm>
              <a:off x="1042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3146400" y="374400"/>
                  <a:ext cx="11221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3" name=""/>
          <p:cNvGrpSpPr/>
          <p:nvPr/>
        </p:nvGrpSpPr>
        <p:grpSpPr>
          <a:xfrm>
            <a:off x="324000" y="1268280"/>
            <a:ext cx="5256000" cy="792360"/>
            <a:chOff x="324000" y="1268280"/>
            <a:chExt cx="5256000" cy="792360"/>
          </a:xfrm>
        </p:grpSpPr>
        <p:sp>
          <p:nvSpPr>
            <p:cNvPr id="484" name="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2487600" y="1473120"/>
                  <a:ext cx="100188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,  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6" name=""/>
          <p:cNvSpPr/>
          <p:nvPr/>
        </p:nvSpPr>
        <p:spPr>
          <a:xfrm>
            <a:off x="4788000" y="4599000"/>
            <a:ext cx="644400" cy="1224000"/>
          </a:xfrm>
          <a:custGeom>
            <a:avLst/>
            <a:gdLst/>
            <a:ahLst/>
            <a:rect l="l" t="t" r="r" b="b"/>
            <a:pathLst>
              <a:path w="406" h="771">
                <a:moveTo>
                  <a:pt x="406" y="0"/>
                </a:moveTo>
                <a:lnTo>
                  <a:pt x="0" y="771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78200" y="2635200"/>
            <a:ext cx="2689200" cy="14400"/>
          </a:xfrm>
          <a:custGeom>
            <a:avLst/>
            <a:gdLst/>
            <a:ahLst/>
            <a:rect l="l" t="t" r="r" b="b"/>
            <a:pathLst>
              <a:path w="1694" h="9">
                <a:moveTo>
                  <a:pt x="1694" y="0"/>
                </a:moveTo>
                <a:lnTo>
                  <a:pt x="0" y="9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72360" y="213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35280" y="537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741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2374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37452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68360" y="2637000"/>
            <a:ext cx="5931000" cy="2971800"/>
          </a:xfrm>
          <a:custGeom>
            <a:avLst/>
            <a:gdLst/>
            <a:ahLst/>
            <a:rect l="l" t="t" r="r" b="b"/>
            <a:pathLst>
              <a:path w="3736" h="1872">
                <a:moveTo>
                  <a:pt x="3736" y="1846"/>
                </a:moveTo>
                <a:lnTo>
                  <a:pt x="0" y="1872"/>
                </a:lnTo>
                <a:lnTo>
                  <a:pt x="2719" y="0"/>
                </a:lnTo>
                <a:lnTo>
                  <a:pt x="3736" y="184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575400" y="2622600"/>
            <a:ext cx="14400" cy="2930400"/>
          </a:xfrm>
          <a:custGeom>
            <a:avLst/>
            <a:gdLst/>
            <a:ahLst/>
            <a:rect l="l" t="t" r="r" b="b"/>
            <a:pathLst>
              <a:path w="9" h="1846">
                <a:moveTo>
                  <a:pt x="0" y="0"/>
                </a:moveTo>
                <a:lnTo>
                  <a:pt x="9" y="184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rot="16200000">
            <a:off x="6628680" y="5188680"/>
            <a:ext cx="336240" cy="4176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rot="3125400">
            <a:off x="6317280" y="2711520"/>
            <a:ext cx="336600" cy="36036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562800" y="2649600"/>
            <a:ext cx="39600" cy="2930400"/>
          </a:xfrm>
          <a:custGeom>
            <a:avLst/>
            <a:gdLst/>
            <a:ahLst/>
            <a:rect l="l" t="t" r="r" b="b"/>
            <a:pathLst>
              <a:path w="25" h="1846">
                <a:moveTo>
                  <a:pt x="0" y="0"/>
                </a:moveTo>
                <a:lnTo>
                  <a:pt x="25" y="1846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44360" y="5084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504" name="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6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507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2442960" y="1471680"/>
                  <a:ext cx="8017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90800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34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478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22764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766764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190800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334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8" action="ppaction://hlinksldjump"/>
          </p:cNvPr>
          <p:cNvSpPr/>
          <p:nvPr/>
        </p:nvSpPr>
        <p:spPr>
          <a:xfrm>
            <a:off x="478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622764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766764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190800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334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3" action="ppaction://hlinksldjump"/>
          </p:cNvPr>
          <p:cNvSpPr/>
          <p:nvPr/>
        </p:nvSpPr>
        <p:spPr>
          <a:xfrm>
            <a:off x="478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622764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5" action="ppaction://hlinksldjump"/>
          </p:cNvPr>
          <p:cNvSpPr/>
          <p:nvPr/>
        </p:nvSpPr>
        <p:spPr>
          <a:xfrm>
            <a:off x="766764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667640" y="4724280"/>
            <a:ext cx="1042920" cy="64800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4757" h="21600">
                <a:moveTo>
                  <a:pt x="0" y="0"/>
                </a:moveTo>
                <a:lnTo>
                  <a:pt x="34757" y="0"/>
                </a:lnTo>
                <a:lnTo>
                  <a:pt x="34757" y="21600"/>
                </a:lnTo>
                <a:lnTo>
                  <a:pt x="0" y="21600"/>
                </a:lnTo>
                <a:close/>
              </a:path>
              <a:path fill="lightenLess" w="34757" h="21600">
                <a:moveTo>
                  <a:pt x="0" y="0"/>
                </a:moveTo>
                <a:lnTo>
                  <a:pt x="34757" y="0"/>
                </a:lnTo>
                <a:lnTo>
                  <a:pt x="33357" y="1400"/>
                </a:lnTo>
                <a:lnTo>
                  <a:pt x="1400" y="1400"/>
                </a:lnTo>
                <a:close/>
              </a:path>
              <a:path fill="darken" w="34757" h="21600">
                <a:moveTo>
                  <a:pt x="34757" y="0"/>
                </a:moveTo>
                <a:lnTo>
                  <a:pt x="34757" y="21600"/>
                </a:lnTo>
                <a:lnTo>
                  <a:pt x="33357" y="20200"/>
                </a:lnTo>
                <a:lnTo>
                  <a:pt x="33357" y="1400"/>
                </a:lnTo>
                <a:close/>
              </a:path>
              <a:path fill="darkenLess" w="34757" h="21600">
                <a:moveTo>
                  <a:pt x="3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7" y="20200"/>
                </a:lnTo>
                <a:close/>
              </a:path>
              <a:path fill="lighten" w="3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622764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478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334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190800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1" action="ppaction://hlinksldjump"/>
          </p:cNvPr>
          <p:cNvSpPr/>
          <p:nvPr/>
        </p:nvSpPr>
        <p:spPr>
          <a:xfrm>
            <a:off x="46836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2" action="ppaction://hlinksldjump"/>
          </p:cNvPr>
          <p:cNvSpPr/>
          <p:nvPr/>
        </p:nvSpPr>
        <p:spPr>
          <a:xfrm>
            <a:off x="190800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3" action="ppaction://hlinksldjump"/>
          </p:cNvPr>
          <p:cNvSpPr/>
          <p:nvPr/>
        </p:nvSpPr>
        <p:spPr>
          <a:xfrm>
            <a:off x="334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4" action="ppaction://hlinksldjump"/>
          </p:cNvPr>
          <p:cNvSpPr/>
          <p:nvPr/>
        </p:nvSpPr>
        <p:spPr>
          <a:xfrm>
            <a:off x="478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5" action="ppaction://hlinksldjump"/>
          </p:cNvPr>
          <p:cNvSpPr/>
          <p:nvPr/>
        </p:nvSpPr>
        <p:spPr>
          <a:xfrm>
            <a:off x="622764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6" action="ppaction://hlinksldjump"/>
          </p:cNvPr>
          <p:cNvSpPr/>
          <p:nvPr/>
        </p:nvSpPr>
        <p:spPr>
          <a:xfrm>
            <a:off x="766764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7" action="ppaction://hlinksldjump"/>
          </p:cNvPr>
          <p:cNvSpPr/>
          <p:nvPr/>
        </p:nvSpPr>
        <p:spPr>
          <a:xfrm>
            <a:off x="46836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8" action="ppaction://hlinksldjump"/>
          </p:cNvPr>
          <p:cNvSpPr/>
          <p:nvPr/>
        </p:nvSpPr>
        <p:spPr>
          <a:xfrm>
            <a:off x="46836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9" action="ppaction://hlinksldjump"/>
          </p:cNvPr>
          <p:cNvSpPr/>
          <p:nvPr/>
        </p:nvSpPr>
        <p:spPr>
          <a:xfrm>
            <a:off x="46836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0" action="ppaction://hlinksldjump"/>
          </p:cNvPr>
          <p:cNvSpPr/>
          <p:nvPr/>
        </p:nvSpPr>
        <p:spPr>
          <a:xfrm>
            <a:off x="46836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1600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172360" y="537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216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1852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79600" y="2460600"/>
            <a:ext cx="6719760" cy="3119400"/>
          </a:xfrm>
          <a:custGeom>
            <a:avLst/>
            <a:gdLst/>
            <a:ahLst/>
            <a:rect l="l" t="t" r="r" b="b"/>
            <a:pathLst>
              <a:path w="4233" h="1965">
                <a:moveTo>
                  <a:pt x="4233" y="1957"/>
                </a:moveTo>
                <a:lnTo>
                  <a:pt x="0" y="1965"/>
                </a:lnTo>
                <a:lnTo>
                  <a:pt x="1042" y="0"/>
                </a:lnTo>
                <a:lnTo>
                  <a:pt x="4233" y="195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92200" y="3483000"/>
            <a:ext cx="3295800" cy="2097000"/>
          </a:xfrm>
          <a:custGeom>
            <a:avLst/>
            <a:gdLst/>
            <a:ahLst/>
            <a:rect l="l" t="t" r="r" b="b"/>
            <a:pathLst>
              <a:path w="2076" h="1321">
                <a:moveTo>
                  <a:pt x="2076" y="0"/>
                </a:moveTo>
                <a:lnTo>
                  <a:pt x="0" y="132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367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4180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2544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763640" y="189000"/>
            <a:ext cx="5256000" cy="792000"/>
            <a:chOff x="1763640" y="189000"/>
            <a:chExt cx="5256000" cy="792000"/>
          </a:xfrm>
        </p:grpSpPr>
        <p:sp>
          <p:nvSpPr>
            <p:cNvPr id="523" name=""/>
            <p:cNvSpPr/>
            <p:nvPr/>
          </p:nvSpPr>
          <p:spPr>
            <a:xfrm>
              <a:off x="1763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2928600" y="331560"/>
                  <a:ext cx="29973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5" name=""/>
          <p:cNvGrpSpPr/>
          <p:nvPr/>
        </p:nvGrpSpPr>
        <p:grpSpPr>
          <a:xfrm>
            <a:off x="4716360" y="189000"/>
            <a:ext cx="5256000" cy="792000"/>
            <a:chOff x="4716360" y="189000"/>
            <a:chExt cx="5256000" cy="792000"/>
          </a:xfrm>
        </p:grpSpPr>
        <p:sp>
          <p:nvSpPr>
            <p:cNvPr id="526" name=""/>
            <p:cNvSpPr/>
            <p:nvPr/>
          </p:nvSpPr>
          <p:spPr>
            <a:xfrm>
              <a:off x="471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5795640" y="331560"/>
                  <a:ext cx="316872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D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529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2423880" y="1452600"/>
                  <a:ext cx="84132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1" name=""/>
          <p:cNvSpPr/>
          <p:nvPr/>
        </p:nvSpPr>
        <p:spPr>
          <a:xfrm>
            <a:off x="1473120" y="2489040"/>
            <a:ext cx="1663920" cy="3060720"/>
          </a:xfrm>
          <a:custGeom>
            <a:avLst/>
            <a:gdLst/>
            <a:ahLst/>
            <a:rect l="l" t="t" r="r" b="b"/>
            <a:pathLst>
              <a:path w="1048" h="1928">
                <a:moveTo>
                  <a:pt x="1048" y="0"/>
                </a:moveTo>
                <a:lnTo>
                  <a:pt x="0" y="1928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71640" y="5013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4400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447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2980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3744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1700280"/>
            <a:ext cx="6858000" cy="4518000"/>
          </a:xfrm>
          <a:custGeom>
            <a:avLst/>
            <a:gdLst/>
            <a:ahLst/>
            <a:rect l="l" t="t" r="r" b="b"/>
            <a:pathLst>
              <a:path w="4320" h="2846">
                <a:moveTo>
                  <a:pt x="9" y="2246"/>
                </a:moveTo>
                <a:lnTo>
                  <a:pt x="703" y="620"/>
                </a:lnTo>
                <a:lnTo>
                  <a:pt x="3108" y="2846"/>
                </a:lnTo>
                <a:lnTo>
                  <a:pt x="4320" y="0"/>
                </a:lnTo>
                <a:lnTo>
                  <a:pt x="0" y="223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574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778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5440" y="393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60600" y="2676600"/>
            <a:ext cx="1371600" cy="1276200"/>
          </a:xfrm>
          <a:custGeom>
            <a:avLst/>
            <a:gdLst/>
            <a:ahLst/>
            <a:rect l="l" t="t" r="r" b="b"/>
            <a:pathLst>
              <a:path w="864" h="804">
                <a:moveTo>
                  <a:pt x="0" y="0"/>
                </a:moveTo>
                <a:lnTo>
                  <a:pt x="864" y="80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32200" y="1693800"/>
            <a:ext cx="4370400" cy="2246400"/>
          </a:xfrm>
          <a:custGeom>
            <a:avLst/>
            <a:gdLst/>
            <a:ahLst/>
            <a:rect l="l" t="t" r="r" b="b"/>
            <a:pathLst>
              <a:path w="2753" h="1415">
                <a:moveTo>
                  <a:pt x="2753" y="0"/>
                </a:moveTo>
                <a:lnTo>
                  <a:pt x="0" y="1415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692360" y="189000"/>
            <a:ext cx="5256000" cy="792000"/>
            <a:chOff x="1692360" y="189000"/>
            <a:chExt cx="5256000" cy="792000"/>
          </a:xfrm>
        </p:grpSpPr>
        <p:sp>
          <p:nvSpPr>
            <p:cNvPr id="549" name=""/>
            <p:cNvSpPr/>
            <p:nvPr/>
          </p:nvSpPr>
          <p:spPr>
            <a:xfrm>
              <a:off x="1692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454200" y="372960"/>
                  <a:ext cx="180504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552" name="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2468520" y="1413000"/>
                  <a:ext cx="17607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O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050920" y="0"/>
            <a:ext cx="5256000" cy="792000"/>
            <a:chOff x="2050920" y="0"/>
            <a:chExt cx="5256000" cy="792000"/>
          </a:xfrm>
        </p:grpSpPr>
        <p:sp>
          <p:nvSpPr>
            <p:cNvPr id="559" name=""/>
            <p:cNvSpPr/>
            <p:nvPr/>
          </p:nvSpPr>
          <p:spPr>
            <a:xfrm>
              <a:off x="2050920" y="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3371760" y="183960"/>
                  <a:ext cx="268740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Е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1" name=""/>
          <p:cNvGrpSpPr/>
          <p:nvPr/>
        </p:nvGrpSpPr>
        <p:grpSpPr>
          <a:xfrm>
            <a:off x="2700360" y="620640"/>
            <a:ext cx="5256000" cy="792360"/>
            <a:chOff x="2700360" y="620640"/>
            <a:chExt cx="5256000" cy="792360"/>
          </a:xfrm>
        </p:grpSpPr>
        <p:sp>
          <p:nvSpPr>
            <p:cNvPr id="562" name=""/>
            <p:cNvSpPr/>
            <p:nvPr/>
          </p:nvSpPr>
          <p:spPr>
            <a:xfrm>
              <a:off x="270036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3400200" y="804960"/>
                  <a:ext cx="393084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Е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АК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4" name=""/>
          <p:cNvGrpSpPr/>
          <p:nvPr/>
        </p:nvGrpSpPr>
        <p:grpSpPr>
          <a:xfrm>
            <a:off x="1116000" y="1268280"/>
            <a:ext cx="5256000" cy="792360"/>
            <a:chOff x="1116000" y="1268280"/>
            <a:chExt cx="5256000" cy="792360"/>
          </a:xfrm>
        </p:grpSpPr>
        <p:sp>
          <p:nvSpPr>
            <p:cNvPr id="565" name=""/>
            <p:cNvSpPr/>
            <p:nvPr/>
          </p:nvSpPr>
          <p:spPr>
            <a:xfrm>
              <a:off x="1116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376360" y="1413000"/>
                  <a:ext cx="2808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Е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7" name=""/>
          <p:cNvSpPr/>
          <p:nvPr/>
        </p:nvSpPr>
        <p:spPr>
          <a:xfrm>
            <a:off x="298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672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816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80360" y="602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19640" y="1949400"/>
            <a:ext cx="4057560" cy="4235400"/>
          </a:xfrm>
          <a:custGeom>
            <a:avLst/>
            <a:gdLst/>
            <a:ahLst/>
            <a:rect l="l" t="t" r="r" b="b"/>
            <a:pathLst>
              <a:path w="2556" h="2668">
                <a:moveTo>
                  <a:pt x="2556" y="2652"/>
                </a:moveTo>
                <a:lnTo>
                  <a:pt x="0" y="2668"/>
                </a:lnTo>
                <a:lnTo>
                  <a:pt x="1692" y="0"/>
                </a:lnTo>
                <a:lnTo>
                  <a:pt x="2547" y="265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59400" y="4370400"/>
            <a:ext cx="2338200" cy="1440"/>
          </a:xfrm>
          <a:custGeom>
            <a:avLst/>
            <a:gdLst/>
            <a:ahLst/>
            <a:rect l="l" t="t" r="r" b="b"/>
            <a:pathLst>
              <a:path w="1473" h="1">
                <a:moveTo>
                  <a:pt x="1473" y="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7280" y="1484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770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4365720"/>
            <a:ext cx="2286000" cy="1440"/>
          </a:xfrm>
          <a:custGeom>
            <a:avLst/>
            <a:gdLst/>
            <a:ahLst/>
            <a:rect l="l" t="t" r="r" b="b"/>
            <a:pathLst>
              <a:path w="1440" h="1">
                <a:moveTo>
                  <a:pt x="0" y="0"/>
                </a:moveTo>
                <a:lnTo>
                  <a:pt x="144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76800" y="3402000"/>
            <a:ext cx="1386000" cy="14400"/>
          </a:xfrm>
          <a:custGeom>
            <a:avLst/>
            <a:gdLst/>
            <a:ahLst/>
            <a:rect l="l" t="t" r="r" b="b"/>
            <a:pathLst>
              <a:path w="873" h="9">
                <a:moveTo>
                  <a:pt x="873" y="9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88000" y="29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194440" y="3403440"/>
            <a:ext cx="1358640" cy="12960"/>
          </a:xfrm>
          <a:custGeom>
            <a:avLst/>
            <a:gdLst/>
            <a:ahLst/>
            <a:rect l="l" t="t" r="r" b="b"/>
            <a:pathLst>
              <a:path w="856" h="8">
                <a:moveTo>
                  <a:pt x="0" y="0"/>
                </a:moveTo>
                <a:lnTo>
                  <a:pt x="856" y="8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92360" y="6159600"/>
            <a:ext cx="3970440" cy="6120"/>
          </a:xfrm>
          <a:custGeom>
            <a:avLst/>
            <a:gdLst/>
            <a:ahLst/>
            <a:rect l="l" t="t" r="r" b="b"/>
            <a:pathLst>
              <a:path w="2501" h="4">
                <a:moveTo>
                  <a:pt x="0" y="4"/>
                </a:moveTo>
                <a:lnTo>
                  <a:pt x="2501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0980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344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556000" y="189000"/>
            <a:ext cx="5256000" cy="792000"/>
            <a:chOff x="2556000" y="189000"/>
            <a:chExt cx="5256000" cy="792000"/>
          </a:xfrm>
        </p:grpSpPr>
        <p:sp>
          <p:nvSpPr>
            <p:cNvPr id="588" name=""/>
            <p:cNvSpPr/>
            <p:nvPr/>
          </p:nvSpPr>
          <p:spPr>
            <a:xfrm>
              <a:off x="255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327492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0" name=""/>
          <p:cNvGrpSpPr/>
          <p:nvPr/>
        </p:nvGrpSpPr>
        <p:grpSpPr>
          <a:xfrm>
            <a:off x="324000" y="1052640"/>
            <a:ext cx="5256000" cy="1349280"/>
            <a:chOff x="324000" y="1052640"/>
            <a:chExt cx="5256000" cy="1349280"/>
          </a:xfrm>
        </p:grpSpPr>
        <p:sp>
          <p:nvSpPr>
            <p:cNvPr id="591" name=""/>
            <p:cNvSpPr/>
            <p:nvPr/>
          </p:nvSpPr>
          <p:spPr>
            <a:xfrm>
              <a:off x="324000" y="126504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2387520" y="1052640"/>
                  <a:ext cx="120168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АB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СМ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3" name=""/>
          <p:cNvSpPr/>
          <p:nvPr/>
        </p:nvSpPr>
        <p:spPr>
          <a:xfrm>
            <a:off x="5294160" y="2133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95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637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0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627280" y="2635920"/>
            <a:ext cx="5616720" cy="2881080"/>
          </a:xfrm>
          <a:custGeom>
            <a:avLst/>
            <a:gdLst>
              <a:gd name="textAreaLeft" fmla="*/ 1235160 w 5616720"/>
              <a:gd name="textAreaRight" fmla="*/ 4381560 w 5616720"/>
              <a:gd name="textAreaTop" fmla="*/ 633600 h 2881080"/>
              <a:gd name="textAreaBottom" fmla="*/ 224748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45800" y="537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25800" y="350028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635200" y="2649600"/>
            <a:ext cx="4210200" cy="2890800"/>
          </a:xfrm>
          <a:custGeom>
            <a:avLst/>
            <a:gdLst/>
            <a:ahLst/>
            <a:rect l="l" t="t" r="r" b="b"/>
            <a:pathLst>
              <a:path w="2652" h="1821">
                <a:moveTo>
                  <a:pt x="2652" y="0"/>
                </a:moveTo>
                <a:lnTo>
                  <a:pt x="0" y="182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49440" y="544500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49600" y="2622600"/>
            <a:ext cx="4195800" cy="2876400"/>
          </a:xfrm>
          <a:custGeom>
            <a:avLst/>
            <a:gdLst/>
            <a:ahLst/>
            <a:rect l="l" t="t" r="r" b="b"/>
            <a:pathLst>
              <a:path w="2643" h="1812">
                <a:moveTo>
                  <a:pt x="2643" y="8"/>
                </a:moveTo>
                <a:lnTo>
                  <a:pt x="864" y="0"/>
                </a:lnTo>
                <a:lnTo>
                  <a:pt x="0" y="181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81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62200" y="2676600"/>
            <a:ext cx="5567400" cy="2863800"/>
          </a:xfrm>
          <a:custGeom>
            <a:avLst/>
            <a:gdLst/>
            <a:ahLst/>
            <a:rect l="l" t="t" r="r" b="b"/>
            <a:pathLst>
              <a:path w="3507" h="1804">
                <a:moveTo>
                  <a:pt x="2643" y="0"/>
                </a:moveTo>
                <a:lnTo>
                  <a:pt x="3507" y="1795"/>
                </a:lnTo>
                <a:lnTo>
                  <a:pt x="0" y="1804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efefe"/>
              </a:gs>
            </a:gsLst>
            <a:lin ang="81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4076640"/>
            <a:ext cx="24156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3640" y="4076640"/>
            <a:ext cx="255600" cy="9540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933440" y="386064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172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451640" y="40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837080" y="551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268360" y="2192400"/>
            <a:ext cx="5931000" cy="3416400"/>
          </a:xfrm>
          <a:custGeom>
            <a:avLst/>
            <a:gdLst/>
            <a:ahLst/>
            <a:rect l="l" t="t" r="r" b="b"/>
            <a:pathLst>
              <a:path w="3736" h="2152">
                <a:moveTo>
                  <a:pt x="3736" y="2126"/>
                </a:moveTo>
                <a:lnTo>
                  <a:pt x="0" y="2152"/>
                </a:lnTo>
                <a:lnTo>
                  <a:pt x="2442" y="0"/>
                </a:lnTo>
                <a:lnTo>
                  <a:pt x="3736" y="212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00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29000" y="4508640"/>
            <a:ext cx="4127400" cy="37800"/>
          </a:xfrm>
          <a:custGeom>
            <a:avLst/>
            <a:gdLst/>
            <a:ahLst/>
            <a:rect l="l" t="t" r="r" b="b"/>
            <a:pathLst>
              <a:path w="2600" h="24">
                <a:moveTo>
                  <a:pt x="0" y="24"/>
                </a:moveTo>
                <a:lnTo>
                  <a:pt x="260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5928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98600" y="3911760"/>
            <a:ext cx="4927680" cy="1663560"/>
          </a:xfrm>
          <a:custGeom>
            <a:avLst/>
            <a:gdLst/>
            <a:ahLst/>
            <a:rect l="l" t="t" r="r" b="b"/>
            <a:pathLst>
              <a:path w="3104" h="1048">
                <a:moveTo>
                  <a:pt x="0" y="1048"/>
                </a:moveTo>
                <a:lnTo>
                  <a:pt x="3104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43680" y="2197080"/>
            <a:ext cx="977760" cy="3365640"/>
          </a:xfrm>
          <a:custGeom>
            <a:avLst/>
            <a:gdLst/>
            <a:ahLst/>
            <a:rect l="l" t="t" r="r" b="b"/>
            <a:pathLst>
              <a:path w="616" h="2120">
                <a:moveTo>
                  <a:pt x="0" y="2120"/>
                </a:moveTo>
                <a:lnTo>
                  <a:pt x="616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174800" y="3500280"/>
            <a:ext cx="59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32360" y="5589720"/>
            <a:ext cx="5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78000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5128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516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88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659640" y="3141720"/>
            <a:ext cx="24120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524720" y="458136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124000" y="189000"/>
            <a:ext cx="5256000" cy="792000"/>
            <a:chOff x="2124000" y="189000"/>
            <a:chExt cx="5256000" cy="792000"/>
          </a:xfrm>
        </p:grpSpPr>
        <p:sp>
          <p:nvSpPr>
            <p:cNvPr id="630" name=""/>
            <p:cNvSpPr/>
            <p:nvPr/>
          </p:nvSpPr>
          <p:spPr>
            <a:xfrm>
              <a:off x="2124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3063600" y="333360"/>
                  <a:ext cx="34513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МКР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М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2" name=""/>
          <p:cNvGrpSpPr/>
          <p:nvPr/>
        </p:nvGrpSpPr>
        <p:grpSpPr>
          <a:xfrm>
            <a:off x="2484360" y="620640"/>
            <a:ext cx="5256000" cy="798480"/>
            <a:chOff x="2484360" y="620640"/>
            <a:chExt cx="5256000" cy="798480"/>
          </a:xfrm>
        </p:grpSpPr>
        <p:sp>
          <p:nvSpPr>
            <p:cNvPr id="633" name=""/>
            <p:cNvSpPr/>
            <p:nvPr/>
          </p:nvSpPr>
          <p:spPr>
            <a:xfrm>
              <a:off x="248436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2982600" y="746280"/>
                  <a:ext cx="433404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К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Р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5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636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2404800" y="1471680"/>
                  <a:ext cx="8809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М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8" name=""/>
          <p:cNvSpPr/>
          <p:nvPr/>
        </p:nvSpPr>
        <p:spPr>
          <a:xfrm>
            <a:off x="2298600" y="5562720"/>
            <a:ext cx="5905440" cy="38160"/>
          </a:xfrm>
          <a:custGeom>
            <a:avLst/>
            <a:gdLst/>
            <a:ahLst/>
            <a:rect l="l" t="t" r="r" b="b"/>
            <a:pathLst>
              <a:path w="3720" h="24">
                <a:moveTo>
                  <a:pt x="0" y="24"/>
                </a:moveTo>
                <a:lnTo>
                  <a:pt x="372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0672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950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72436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19640" y="1949400"/>
            <a:ext cx="4057560" cy="4235400"/>
          </a:xfrm>
          <a:custGeom>
            <a:avLst/>
            <a:gdLst/>
            <a:ahLst/>
            <a:rect l="l" t="t" r="r" b="b"/>
            <a:pathLst>
              <a:path w="2556" h="2668">
                <a:moveTo>
                  <a:pt x="2556" y="2652"/>
                </a:moveTo>
                <a:lnTo>
                  <a:pt x="0" y="2668"/>
                </a:lnTo>
                <a:lnTo>
                  <a:pt x="1692" y="0"/>
                </a:lnTo>
                <a:lnTo>
                  <a:pt x="2547" y="265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559400" y="4370400"/>
            <a:ext cx="2338200" cy="1440"/>
          </a:xfrm>
          <a:custGeom>
            <a:avLst/>
            <a:gdLst/>
            <a:ahLst/>
            <a:rect l="l" t="t" r="r" b="b"/>
            <a:pathLst>
              <a:path w="1473" h="1">
                <a:moveTo>
                  <a:pt x="1473" y="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236000" y="609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553000" y="4370400"/>
            <a:ext cx="1305000" cy="1801800"/>
          </a:xfrm>
          <a:custGeom>
            <a:avLst/>
            <a:gdLst/>
            <a:ahLst/>
            <a:rect l="l" t="t" r="r" b="b"/>
            <a:pathLst>
              <a:path w="822" h="1135">
                <a:moveTo>
                  <a:pt x="822" y="0"/>
                </a:moveTo>
                <a:lnTo>
                  <a:pt x="0" y="113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45080" y="6021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16360" y="6021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516720" y="5950080"/>
            <a:ext cx="14400" cy="31572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88000" y="5950080"/>
            <a:ext cx="14400" cy="31572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80000" y="4221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651640" y="4221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292720" y="61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549760" y="4356000"/>
            <a:ext cx="1308240" cy="1816200"/>
          </a:xfrm>
          <a:custGeom>
            <a:avLst/>
            <a:gdLst/>
            <a:ahLst/>
            <a:rect l="l" t="t" r="r" b="b"/>
            <a:pathLst>
              <a:path w="824" h="1144">
                <a:moveTo>
                  <a:pt x="0" y="1144"/>
                </a:moveTo>
                <a:lnTo>
                  <a:pt x="824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627280" y="189000"/>
            <a:ext cx="5256000" cy="792000"/>
            <a:chOff x="2627280" y="189000"/>
            <a:chExt cx="5256000" cy="792000"/>
          </a:xfrm>
        </p:grpSpPr>
        <p:sp>
          <p:nvSpPr>
            <p:cNvPr id="660" name=""/>
            <p:cNvSpPr/>
            <p:nvPr/>
          </p:nvSpPr>
          <p:spPr>
            <a:xfrm>
              <a:off x="262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334620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С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4427640" y="620640"/>
            <a:ext cx="5256000" cy="792360"/>
            <a:chOff x="4427640" y="620640"/>
            <a:chExt cx="5256000" cy="792360"/>
          </a:xfrm>
        </p:grpSpPr>
        <p:sp>
          <p:nvSpPr>
            <p:cNvPr id="663" name=""/>
            <p:cNvSpPr/>
            <p:nvPr/>
          </p:nvSpPr>
          <p:spPr>
            <a:xfrm>
              <a:off x="442764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5888160" y="806400"/>
                  <a:ext cx="240660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5" name=""/>
          <p:cNvGrpSpPr/>
          <p:nvPr/>
        </p:nvGrpSpPr>
        <p:grpSpPr>
          <a:xfrm>
            <a:off x="539640" y="1197000"/>
            <a:ext cx="5256000" cy="792000"/>
            <a:chOff x="539640" y="1197000"/>
            <a:chExt cx="5256000" cy="792000"/>
          </a:xfrm>
        </p:grpSpPr>
        <p:sp>
          <p:nvSpPr>
            <p:cNvPr id="666" name=""/>
            <p:cNvSpPr/>
            <p:nvPr/>
          </p:nvSpPr>
          <p:spPr>
            <a:xfrm>
              <a:off x="539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2803320" y="1380960"/>
                  <a:ext cx="7984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F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556000" y="189000"/>
            <a:ext cx="5256000" cy="817560"/>
            <a:chOff x="2556000" y="189000"/>
            <a:chExt cx="5256000" cy="817560"/>
          </a:xfrm>
        </p:grpSpPr>
        <p:sp>
          <p:nvSpPr>
            <p:cNvPr id="673" name=""/>
            <p:cNvSpPr/>
            <p:nvPr/>
          </p:nvSpPr>
          <p:spPr>
            <a:xfrm>
              <a:off x="255600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3195720" y="295560"/>
                  <a:ext cx="404964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D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5" name=""/>
          <p:cNvGrpSpPr/>
          <p:nvPr/>
        </p:nvGrpSpPr>
        <p:grpSpPr>
          <a:xfrm>
            <a:off x="324000" y="1268280"/>
            <a:ext cx="5256000" cy="817560"/>
            <a:chOff x="324000" y="1268280"/>
            <a:chExt cx="5256000" cy="817560"/>
          </a:xfrm>
        </p:grpSpPr>
        <p:sp>
          <p:nvSpPr>
            <p:cNvPr id="676" name="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2506680" y="1373040"/>
                  <a:ext cx="9604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C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8" name=""/>
          <p:cNvSpPr/>
          <p:nvPr/>
        </p:nvSpPr>
        <p:spPr>
          <a:xfrm>
            <a:off x="8172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932360" y="558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284720" y="1484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508640" y="1943280"/>
            <a:ext cx="2070000" cy="3632040"/>
          </a:xfrm>
          <a:custGeom>
            <a:avLst/>
            <a:gdLst/>
            <a:ahLst/>
            <a:rect l="l" t="t" r="r" b="b"/>
            <a:pathLst>
              <a:path w="1304" h="2288">
                <a:moveTo>
                  <a:pt x="1304" y="2288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521240" y="1968480"/>
            <a:ext cx="584280" cy="3619440"/>
          </a:xfrm>
          <a:custGeom>
            <a:avLst/>
            <a:gdLst/>
            <a:ahLst/>
            <a:rect l="l" t="t" r="r" b="b"/>
            <a:pathLst>
              <a:path w="368" h="2280">
                <a:moveTo>
                  <a:pt x="368" y="228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308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38036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37236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59400" y="2070000"/>
            <a:ext cx="1981080" cy="3517920"/>
          </a:xfrm>
          <a:custGeom>
            <a:avLst/>
            <a:gdLst/>
            <a:ahLst/>
            <a:rect l="l" t="t" r="r" b="b"/>
            <a:pathLst>
              <a:path w="1248" h="2216">
                <a:moveTo>
                  <a:pt x="360" y="2216"/>
                </a:moveTo>
                <a:lnTo>
                  <a:pt x="0" y="0"/>
                </a:lnTo>
                <a:lnTo>
                  <a:pt x="1248" y="2208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96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86728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987640" y="189000"/>
            <a:ext cx="5256000" cy="792000"/>
            <a:chOff x="2987640" y="189000"/>
            <a:chExt cx="5256000" cy="792000"/>
          </a:xfrm>
        </p:grpSpPr>
        <p:sp>
          <p:nvSpPr>
            <p:cNvPr id="696" name=""/>
            <p:cNvSpPr/>
            <p:nvPr/>
          </p:nvSpPr>
          <p:spPr>
            <a:xfrm>
              <a:off x="2987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7" name=""/>
                <p:cNvSpPr txBox="1"/>
                <p:nvPr/>
              </p:nvSpPr>
              <p:spPr>
                <a:xfrm>
                  <a:off x="3186000" y="336240"/>
                  <a:ext cx="493236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8" name=""/>
          <p:cNvSpPr/>
          <p:nvPr/>
        </p:nvSpPr>
        <p:spPr>
          <a:xfrm>
            <a:off x="2843280" y="3284640"/>
            <a:ext cx="63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0" y="429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378240" y="3733920"/>
            <a:ext cx="4762440" cy="1828800"/>
          </a:xfrm>
          <a:custGeom>
            <a:avLst/>
            <a:gdLst/>
            <a:ahLst/>
            <a:rect l="l" t="t" r="r" b="b"/>
            <a:pathLst>
              <a:path w="3000" h="1152">
                <a:moveTo>
                  <a:pt x="3000" y="1152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21240" y="1968480"/>
            <a:ext cx="685800" cy="3645000"/>
          </a:xfrm>
          <a:custGeom>
            <a:avLst/>
            <a:gdLst/>
            <a:ahLst/>
            <a:rect l="l" t="t" r="r" b="b"/>
            <a:pathLst>
              <a:path w="432" h="2296">
                <a:moveTo>
                  <a:pt x="432" y="2296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588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65964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8000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85128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24000" y="1268280"/>
            <a:ext cx="5256000" cy="817560"/>
            <a:chOff x="324000" y="1268280"/>
            <a:chExt cx="5256000" cy="817560"/>
          </a:xfrm>
        </p:grpSpPr>
        <p:sp>
          <p:nvSpPr>
            <p:cNvPr id="711" name="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2487600" y="1373040"/>
                  <a:ext cx="1000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3" name=""/>
          <p:cNvSpPr/>
          <p:nvPr/>
        </p:nvSpPr>
        <p:spPr>
          <a:xfrm>
            <a:off x="4559400" y="2044800"/>
            <a:ext cx="3543120" cy="3479760"/>
          </a:xfrm>
          <a:custGeom>
            <a:avLst/>
            <a:gdLst/>
            <a:ahLst/>
            <a:rect l="l" t="t" r="r" b="b"/>
            <a:pathLst>
              <a:path w="2232" h="2192">
                <a:moveTo>
                  <a:pt x="0" y="0"/>
                </a:moveTo>
                <a:lnTo>
                  <a:pt x="272" y="1440"/>
                </a:lnTo>
                <a:lnTo>
                  <a:pt x="2232" y="2192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851280" y="2781360"/>
            <a:ext cx="255600" cy="9504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771640" y="4581360"/>
            <a:ext cx="255600" cy="9540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3486800">
            <a:off x="2482560" y="537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3428600">
            <a:off x="2486160" y="528804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55897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16000" y="189000"/>
            <a:ext cx="5256000" cy="792000"/>
            <a:chOff x="1116000" y="189000"/>
            <a:chExt cx="5256000" cy="792000"/>
          </a:xfrm>
        </p:grpSpPr>
        <p:sp>
          <p:nvSpPr>
            <p:cNvPr id="725" name=""/>
            <p:cNvSpPr/>
            <p:nvPr/>
          </p:nvSpPr>
          <p:spPr>
            <a:xfrm>
              <a:off x="111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3098520" y="374400"/>
                  <a:ext cx="136368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7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728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2442960" y="1473120"/>
                  <a:ext cx="799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0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3486800">
            <a:off x="2482560" y="537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3428600">
            <a:off x="2486160" y="528804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21237000">
            <a:off x="4284720" y="2276280"/>
            <a:ext cx="576360" cy="142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65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229080" y="3213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286000" y="1930320"/>
            <a:ext cx="2222640" cy="3670560"/>
          </a:xfrm>
          <a:custGeom>
            <a:avLst/>
            <a:gdLst/>
            <a:ahLst/>
            <a:rect l="l" t="t" r="r" b="b"/>
            <a:pathLst>
              <a:path w="1400" h="2312">
                <a:moveTo>
                  <a:pt x="1400" y="0"/>
                </a:moveTo>
                <a:lnTo>
                  <a:pt x="0" y="2312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059280" y="189000"/>
            <a:ext cx="5535360" cy="792000"/>
            <a:chOff x="3059280" y="189000"/>
            <a:chExt cx="5535360" cy="792000"/>
          </a:xfrm>
        </p:grpSpPr>
        <p:sp>
          <p:nvSpPr>
            <p:cNvPr id="746" name=""/>
            <p:cNvSpPr/>
            <p:nvPr/>
          </p:nvSpPr>
          <p:spPr>
            <a:xfrm>
              <a:off x="3162240" y="189000"/>
              <a:ext cx="5255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3059280" y="336240"/>
                  <a:ext cx="553536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CDE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DE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CD</m:t>
                      </m:r>
                      <m:r>
                        <m:t xml:space="preserve">в</m:t>
                      </m:r>
                      <m:r>
                        <m:t xml:space="preserve">2,5</m:t>
                      </m:r>
                      <m:r>
                        <m:rPr>
                          <m:lit/>
                          <m:nor/>
                        </m:rPr>
                        <m:t xml:space="preserve">раз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8" name=""/>
          <p:cNvGrpSpPr/>
          <p:nvPr/>
        </p:nvGrpSpPr>
        <p:grpSpPr>
          <a:xfrm>
            <a:off x="179280" y="1119240"/>
            <a:ext cx="5256000" cy="1222200"/>
            <a:chOff x="179280" y="1119240"/>
            <a:chExt cx="5256000" cy="1222200"/>
          </a:xfrm>
        </p:grpSpPr>
        <p:sp>
          <p:nvSpPr>
            <p:cNvPr id="749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2403360" y="1119240"/>
                  <a:ext cx="87948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СЕ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С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1" name=""/>
          <p:cNvSpPr/>
          <p:nvPr/>
        </p:nvSpPr>
        <p:spPr>
          <a:xfrm>
            <a:off x="2268360" y="3352680"/>
            <a:ext cx="5931000" cy="2268720"/>
          </a:xfrm>
          <a:custGeom>
            <a:avLst/>
            <a:gdLst/>
            <a:ahLst/>
            <a:rect l="l" t="t" r="r" b="b"/>
            <a:pathLst>
              <a:path w="3736" h="1429">
                <a:moveTo>
                  <a:pt x="3736" y="1403"/>
                </a:moveTo>
                <a:lnTo>
                  <a:pt x="0" y="1429"/>
                </a:lnTo>
                <a:lnTo>
                  <a:pt x="923" y="0"/>
                </a:lnTo>
                <a:lnTo>
                  <a:pt x="3736" y="140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49236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rot="13486800">
            <a:off x="2482560" y="537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rot="13428600">
            <a:off x="2486160" y="528804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86000" y="3352680"/>
            <a:ext cx="5854680" cy="2260800"/>
          </a:xfrm>
          <a:custGeom>
            <a:avLst/>
            <a:gdLst/>
            <a:ahLst/>
            <a:rect l="l" t="t" r="r" b="b"/>
            <a:pathLst>
              <a:path w="3688" h="1424">
                <a:moveTo>
                  <a:pt x="3688" y="1408"/>
                </a:moveTo>
                <a:lnTo>
                  <a:pt x="0" y="1424"/>
                </a:lnTo>
                <a:lnTo>
                  <a:pt x="912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050920" y="189000"/>
            <a:ext cx="5256000" cy="792000"/>
            <a:chOff x="2050920" y="189000"/>
            <a:chExt cx="5256000" cy="792000"/>
          </a:xfrm>
        </p:grpSpPr>
        <p:sp>
          <p:nvSpPr>
            <p:cNvPr id="80" name=""/>
            <p:cNvSpPr/>
            <p:nvPr/>
          </p:nvSpPr>
          <p:spPr>
            <a:xfrm>
              <a:off x="2050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3190680" y="333360"/>
                  <a:ext cx="30495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 а 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 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"/>
          <p:cNvGrpSpPr/>
          <p:nvPr/>
        </p:nvGrpSpPr>
        <p:grpSpPr>
          <a:xfrm>
            <a:off x="2484360" y="1268280"/>
            <a:ext cx="6368760" cy="792360"/>
            <a:chOff x="2484360" y="1268280"/>
            <a:chExt cx="6368760" cy="792360"/>
          </a:xfrm>
        </p:grpSpPr>
        <p:sp>
          <p:nvSpPr>
            <p:cNvPr id="83" name=""/>
            <p:cNvSpPr/>
            <p:nvPr/>
          </p:nvSpPr>
          <p:spPr>
            <a:xfrm>
              <a:off x="30034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2484360" y="1413000"/>
                  <a:ext cx="63687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араллельны</m:t>
                      </m:r>
                      <m:r>
                        <m:rPr>
                          <m:lit/>
                          <m:nor/>
                        </m:rPr>
                        <m:t xml:space="preserve">ли</m:t>
                      </m:r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а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2708280"/>
            <a:ext cx="5688000" cy="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5589720"/>
            <a:ext cx="5688000" cy="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4400" y="2708280"/>
            <a:ext cx="4583160" cy="2886120"/>
          </a:xfrm>
          <a:custGeom>
            <a:avLst/>
            <a:gdLst/>
            <a:ahLst/>
            <a:rect l="l" t="t" r="r" b="b"/>
            <a:pathLst>
              <a:path w="2887" h="1818">
                <a:moveTo>
                  <a:pt x="0" y="1818"/>
                </a:moveTo>
                <a:lnTo>
                  <a:pt x="2142" y="0"/>
                </a:lnTo>
                <a:lnTo>
                  <a:pt x="2887" y="181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819800">
            <a:off x="2823120" y="5177160"/>
            <a:ext cx="406440" cy="509760"/>
          </a:xfrm>
          <a:custGeom>
            <a:avLst/>
            <a:gdLst/>
            <a:ahLst/>
            <a:rect l="l" t="t" r="r" b="b"/>
            <a:pathLst>
              <a:path w="256" h="321">
                <a:moveTo>
                  <a:pt x="0" y="0"/>
                </a:moveTo>
                <a:cubicBezTo>
                  <a:pt x="17" y="7"/>
                  <a:pt x="71" y="26"/>
                  <a:pt x="102" y="45"/>
                </a:cubicBezTo>
                <a:cubicBezTo>
                  <a:pt x="134" y="64"/>
                  <a:pt x="161" y="83"/>
                  <a:pt x="184" y="111"/>
                </a:cubicBezTo>
                <a:cubicBezTo>
                  <a:pt x="208" y="139"/>
                  <a:pt x="232" y="177"/>
                  <a:pt x="244" y="212"/>
                </a:cubicBezTo>
                <a:cubicBezTo>
                  <a:pt x="256" y="247"/>
                  <a:pt x="253" y="298"/>
                  <a:pt x="255" y="32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8148800">
            <a:off x="6476400" y="282132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420000">
            <a:off x="6515640" y="2853720"/>
            <a:ext cx="5760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13720" y="29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77720" y="4869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0720" y="4076640"/>
            <a:ext cx="174600" cy="255600"/>
          </a:xfrm>
          <a:custGeom>
            <a:avLst/>
            <a:gdLst/>
            <a:ahLst/>
            <a:rect l="l" t="t" r="r" b="b"/>
            <a:pathLst>
              <a:path w="110" h="161">
                <a:moveTo>
                  <a:pt x="0" y="0"/>
                </a:moveTo>
                <a:lnTo>
                  <a:pt x="110" y="16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005360"/>
            <a:ext cx="174600" cy="255600"/>
          </a:xfrm>
          <a:custGeom>
            <a:avLst/>
            <a:gdLst/>
            <a:ahLst/>
            <a:rect l="l" t="t" r="r" b="b"/>
            <a:pathLst>
              <a:path w="110" h="161">
                <a:moveTo>
                  <a:pt x="0" y="0"/>
                </a:moveTo>
                <a:lnTo>
                  <a:pt x="110" y="16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3440" y="5589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688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052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216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42520" y="508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268360" y="189000"/>
            <a:ext cx="5256000" cy="792000"/>
            <a:chOff x="2268360" y="189000"/>
            <a:chExt cx="5256000" cy="792000"/>
          </a:xfrm>
        </p:grpSpPr>
        <p:sp>
          <p:nvSpPr>
            <p:cNvPr id="764" name=""/>
            <p:cNvSpPr/>
            <p:nvPr/>
          </p:nvSpPr>
          <p:spPr>
            <a:xfrm>
              <a:off x="2268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3109680" y="374400"/>
                  <a:ext cx="36478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BK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B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767" name="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8" name=""/>
                <p:cNvSpPr txBox="1"/>
                <p:nvPr/>
              </p:nvSpPr>
              <p:spPr>
                <a:xfrm>
                  <a:off x="2430360" y="1413000"/>
                  <a:ext cx="183852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9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17236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rot="6980400">
            <a:off x="5697720" y="3597480"/>
            <a:ext cx="431640" cy="939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rot="6772800">
            <a:off x="5479920" y="352908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57720" y="3213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21237000">
            <a:off x="4284720" y="2276280"/>
            <a:ext cx="576360" cy="142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365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959200" y="3733920"/>
            <a:ext cx="3352680" cy="749160"/>
          </a:xfrm>
          <a:custGeom>
            <a:avLst/>
            <a:gdLst/>
            <a:ahLst/>
            <a:rect l="l" t="t" r="r" b="b"/>
            <a:pathLst>
              <a:path w="2112" h="472">
                <a:moveTo>
                  <a:pt x="2112" y="0"/>
                </a:moveTo>
                <a:lnTo>
                  <a:pt x="0" y="47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2557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303960" y="3284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rot="19639200">
            <a:off x="2770920" y="4869000"/>
            <a:ext cx="3621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89080" y="4365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rot="12174000">
            <a:off x="7234920" y="4941360"/>
            <a:ext cx="31572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734160" y="4581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68360" y="2349360"/>
            <a:ext cx="5931000" cy="3272040"/>
          </a:xfrm>
          <a:custGeom>
            <a:avLst/>
            <a:gdLst/>
            <a:ahLst/>
            <a:rect l="l" t="t" r="r" b="b"/>
            <a:pathLst>
              <a:path w="3736" h="2061">
                <a:moveTo>
                  <a:pt x="3736" y="2035"/>
                </a:moveTo>
                <a:lnTo>
                  <a:pt x="0" y="2061"/>
                </a:lnTo>
                <a:lnTo>
                  <a:pt x="1259" y="0"/>
                </a:lnTo>
                <a:lnTo>
                  <a:pt x="3736" y="203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99564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6980400">
            <a:off x="7355520" y="5326920"/>
            <a:ext cx="43200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6751200">
            <a:off x="7135560" y="525780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73440" y="3357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114800" y="5575320"/>
            <a:ext cx="4064040" cy="38160"/>
          </a:xfrm>
          <a:custGeom>
            <a:avLst/>
            <a:gdLst/>
            <a:ahLst/>
            <a:rect l="l" t="t" r="r" b="b"/>
            <a:pathLst>
              <a:path w="2560" h="24">
                <a:moveTo>
                  <a:pt x="2560" y="0"/>
                </a:moveTo>
                <a:lnTo>
                  <a:pt x="0" y="2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17236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050920" y="189000"/>
            <a:ext cx="5256000" cy="792000"/>
            <a:chOff x="2050920" y="189000"/>
            <a:chExt cx="5256000" cy="792000"/>
          </a:xfrm>
        </p:grpSpPr>
        <p:sp>
          <p:nvSpPr>
            <p:cNvPr id="798" name=""/>
            <p:cNvSpPr/>
            <p:nvPr/>
          </p:nvSpPr>
          <p:spPr>
            <a:xfrm>
              <a:off x="2050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3171600" y="336240"/>
                  <a:ext cx="308772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0" name=""/>
          <p:cNvSpPr/>
          <p:nvPr/>
        </p:nvSpPr>
        <p:spPr>
          <a:xfrm>
            <a:off x="4114800" y="2374920"/>
            <a:ext cx="165240" cy="3213000"/>
          </a:xfrm>
          <a:custGeom>
            <a:avLst/>
            <a:gdLst/>
            <a:ahLst/>
            <a:rect l="l" t="t" r="r" b="b"/>
            <a:pathLst>
              <a:path w="104" h="2024">
                <a:moveTo>
                  <a:pt x="104" y="0"/>
                </a:moveTo>
                <a:lnTo>
                  <a:pt x="0" y="202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1461600">
            <a:off x="3851280" y="306864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rot="1703400">
            <a:off x="3779640" y="3213000"/>
            <a:ext cx="50292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851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805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442960" y="1454040"/>
                  <a:ext cx="79992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116000" y="189000"/>
            <a:ext cx="5256000" cy="792000"/>
            <a:chOff x="1116000" y="189000"/>
            <a:chExt cx="5256000" cy="792000"/>
          </a:xfrm>
        </p:grpSpPr>
        <p:sp>
          <p:nvSpPr>
            <p:cNvPr id="812" name=""/>
            <p:cNvSpPr/>
            <p:nvPr/>
          </p:nvSpPr>
          <p:spPr>
            <a:xfrm>
              <a:off x="111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3098520" y="374400"/>
                  <a:ext cx="136368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4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815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6" name=""/>
                <p:cNvSpPr txBox="1"/>
                <p:nvPr/>
              </p:nvSpPr>
              <p:spPr>
                <a:xfrm>
                  <a:off x="2423880" y="1454040"/>
                  <a:ext cx="8398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7" name=""/>
          <p:cNvSpPr/>
          <p:nvPr/>
        </p:nvSpPr>
        <p:spPr>
          <a:xfrm>
            <a:off x="2268360" y="1917720"/>
            <a:ext cx="5931000" cy="3703680"/>
          </a:xfrm>
          <a:custGeom>
            <a:avLst/>
            <a:gdLst/>
            <a:ahLst/>
            <a:rect l="l" t="t" r="r" b="b"/>
            <a:pathLst>
              <a:path w="3736" h="2333">
                <a:moveTo>
                  <a:pt x="3736" y="2307"/>
                </a:moveTo>
                <a:lnTo>
                  <a:pt x="0" y="2333"/>
                </a:lnTo>
                <a:lnTo>
                  <a:pt x="2539" y="0"/>
                </a:lnTo>
                <a:lnTo>
                  <a:pt x="3736" y="230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08472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8130000">
            <a:off x="5076000" y="4580640"/>
            <a:ext cx="57636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10080" y="4221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99000" y="4800600"/>
            <a:ext cx="2679840" cy="749160"/>
          </a:xfrm>
          <a:custGeom>
            <a:avLst/>
            <a:gdLst/>
            <a:ahLst/>
            <a:rect l="l" t="t" r="r" b="b"/>
            <a:pathLst>
              <a:path w="1688" h="472">
                <a:moveTo>
                  <a:pt x="1688" y="47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11960" y="1930320"/>
            <a:ext cx="787320" cy="3670560"/>
          </a:xfrm>
          <a:custGeom>
            <a:avLst/>
            <a:gdLst/>
            <a:ahLst/>
            <a:rect l="l" t="t" r="r" b="b"/>
            <a:pathLst>
              <a:path w="496" h="2312">
                <a:moveTo>
                  <a:pt x="496" y="0"/>
                </a:moveTo>
                <a:lnTo>
                  <a:pt x="0" y="1808"/>
                </a:lnTo>
                <a:lnTo>
                  <a:pt x="0" y="231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73400" y="3809880"/>
            <a:ext cx="5003640" cy="1765440"/>
          </a:xfrm>
          <a:custGeom>
            <a:avLst/>
            <a:gdLst/>
            <a:ahLst/>
            <a:rect l="l" t="t" r="r" b="b"/>
            <a:pathLst>
              <a:path w="3152" h="1112">
                <a:moveTo>
                  <a:pt x="0" y="1112"/>
                </a:moveTo>
                <a:lnTo>
                  <a:pt x="2040" y="632"/>
                </a:lnTo>
                <a:lnTo>
                  <a:pt x="3152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3272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804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52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2436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04000" y="306864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596360" y="458136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 rot="3678600">
            <a:off x="7031160" y="3848400"/>
            <a:ext cx="336600" cy="36036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 rot="16200000">
            <a:off x="5511600" y="5225040"/>
            <a:ext cx="336240" cy="3445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076720" y="4797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709800" y="32846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5808600"/>
            <a:ext cx="6696000" cy="41400"/>
          </a:xfrm>
          <a:custGeom>
            <a:avLst/>
            <a:gdLst/>
            <a:ahLst/>
            <a:rect l="l" t="t" r="r" b="b"/>
            <a:pathLst>
              <a:path w="4218" h="26">
                <a:moveTo>
                  <a:pt x="0" y="26"/>
                </a:moveTo>
                <a:lnTo>
                  <a:pt x="4218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1413000"/>
            <a:ext cx="5675400" cy="2998800"/>
          </a:xfrm>
          <a:custGeom>
            <a:avLst/>
            <a:gdLst/>
            <a:ahLst/>
            <a:rect l="l" t="t" r="r" b="b"/>
            <a:pathLst>
              <a:path w="3575" h="1889">
                <a:moveTo>
                  <a:pt x="3575" y="0"/>
                </a:moveTo>
                <a:lnTo>
                  <a:pt x="0" y="188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110" name="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063600" y="333360"/>
                  <a:ext cx="41720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 а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b,  с 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 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2" name=""/>
          <p:cNvGrpSpPr/>
          <p:nvPr/>
        </p:nvGrpSpPr>
        <p:grpSpPr>
          <a:xfrm>
            <a:off x="611280" y="1268280"/>
            <a:ext cx="5256000" cy="792360"/>
            <a:chOff x="611280" y="1268280"/>
            <a:chExt cx="5256000" cy="792360"/>
          </a:xfrm>
        </p:grpSpPr>
        <p:sp>
          <p:nvSpPr>
            <p:cNvPr id="113" name=""/>
            <p:cNvSpPr/>
            <p:nvPr/>
          </p:nvSpPr>
          <p:spPr>
            <a:xfrm>
              <a:off x="611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475000" y="1411200"/>
                  <a:ext cx="15984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2700360" y="2276640"/>
            <a:ext cx="1101600" cy="4128840"/>
          </a:xfrm>
          <a:custGeom>
            <a:avLst/>
            <a:gdLst/>
            <a:ahLst/>
            <a:rect l="l" t="t" r="r" b="b"/>
            <a:pathLst>
              <a:path w="694" h="2601">
                <a:moveTo>
                  <a:pt x="0" y="0"/>
                </a:moveTo>
                <a:lnTo>
                  <a:pt x="694" y="260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64200" y="1022400"/>
            <a:ext cx="484200" cy="5391000"/>
          </a:xfrm>
          <a:custGeom>
            <a:avLst/>
            <a:gdLst/>
            <a:ahLst/>
            <a:rect l="l" t="t" r="r" b="b"/>
            <a:pathLst>
              <a:path w="305" h="3396">
                <a:moveTo>
                  <a:pt x="305" y="0"/>
                </a:moveTo>
                <a:lnTo>
                  <a:pt x="0" y="339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1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1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6520" y="98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2880" y="530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3400">
            <a:off x="6011640" y="213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66200">
            <a:off x="5866920" y="2276640"/>
            <a:ext cx="576360" cy="142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9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6676800">
            <a:off x="2554560" y="3500640"/>
            <a:ext cx="5760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60280" y="3213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8164800">
            <a:off x="3203280" y="566100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8154600">
            <a:off x="2916000" y="5516280"/>
            <a:ext cx="666720" cy="166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8277600">
            <a:off x="2626920" y="5445000"/>
            <a:ext cx="927000" cy="185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9408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7800" y="573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744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9440" y="5943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rot="13308600">
            <a:off x="5651280" y="5157000"/>
            <a:ext cx="35856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2743800">
            <a:off x="6300000" y="5805360"/>
            <a:ext cx="3585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4160" y="4508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59280" y="189000"/>
            <a:ext cx="5290920" cy="792000"/>
            <a:chOff x="3059280" y="189000"/>
            <a:chExt cx="5290920" cy="792000"/>
          </a:xfrm>
        </p:grpSpPr>
        <p:sp>
          <p:nvSpPr>
            <p:cNvPr id="140" name=""/>
            <p:cNvSpPr/>
            <p:nvPr/>
          </p:nvSpPr>
          <p:spPr>
            <a:xfrm>
              <a:off x="3059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097080" y="333360"/>
                  <a:ext cx="52531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В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144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501640" y="1469880"/>
                  <a:ext cx="679320" cy="51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1666800" y="5835600"/>
            <a:ext cx="6481800" cy="14400"/>
          </a:xfrm>
          <a:custGeom>
            <a:avLst/>
            <a:gdLst/>
            <a:ahLst/>
            <a:rect l="l" t="t" r="r" b="b"/>
            <a:pathLst>
              <a:path w="4083" h="9">
                <a:moveTo>
                  <a:pt x="0" y="0"/>
                </a:moveTo>
                <a:lnTo>
                  <a:pt x="4083" y="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54200" y="2676600"/>
            <a:ext cx="6521400" cy="12600"/>
          </a:xfrm>
          <a:custGeom>
            <a:avLst/>
            <a:gdLst/>
            <a:ahLst/>
            <a:rect l="l" t="t" r="r" b="b"/>
            <a:pathLst>
              <a:path w="4108" h="8">
                <a:moveTo>
                  <a:pt x="4108" y="0"/>
                </a:moveTo>
                <a:lnTo>
                  <a:pt x="0" y="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19400" y="2178000"/>
            <a:ext cx="2367000" cy="4114800"/>
          </a:xfrm>
          <a:custGeom>
            <a:avLst/>
            <a:gdLst/>
            <a:ahLst/>
            <a:rect l="l" t="t" r="r" b="b"/>
            <a:pathLst>
              <a:path w="1491" h="2592">
                <a:moveTo>
                  <a:pt x="0" y="0"/>
                </a:moveTo>
                <a:lnTo>
                  <a:pt x="1491" y="259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1628640"/>
            <a:ext cx="2138400" cy="4880160"/>
          </a:xfrm>
          <a:custGeom>
            <a:avLst/>
            <a:gdLst/>
            <a:ahLst/>
            <a:rect l="l" t="t" r="r" b="b"/>
            <a:pathLst>
              <a:path w="1347" h="3074">
                <a:moveTo>
                  <a:pt x="1347" y="0"/>
                </a:moveTo>
                <a:lnTo>
                  <a:pt x="0" y="307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7806200">
            <a:off x="3556440" y="2837160"/>
            <a:ext cx="50508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6900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3984800">
            <a:off x="6197400" y="5573160"/>
            <a:ext cx="50328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97360" y="1989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6788400">
            <a:off x="4689720" y="5613840"/>
            <a:ext cx="43200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8154600">
            <a:off x="7019640" y="2349000"/>
            <a:ext cx="666720" cy="166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9720" y="51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980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19697400">
            <a:off x="2410560" y="5157360"/>
            <a:ext cx="358920" cy="64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7440" y="4653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1773360"/>
            <a:ext cx="2138400" cy="4879800"/>
          </a:xfrm>
          <a:custGeom>
            <a:avLst/>
            <a:gdLst/>
            <a:ahLst/>
            <a:rect l="l" t="t" r="r" b="b"/>
            <a:pathLst>
              <a:path w="1347" h="3074">
                <a:moveTo>
                  <a:pt x="1347" y="0"/>
                </a:moveTo>
                <a:lnTo>
                  <a:pt x="0" y="307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8154600">
            <a:off x="7187400" y="2480760"/>
            <a:ext cx="451080" cy="730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1309600">
            <a:off x="3274920" y="3065040"/>
            <a:ext cx="35892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6788400">
            <a:off x="4557600" y="5581440"/>
            <a:ext cx="50328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6788400">
            <a:off x="4335480" y="5464080"/>
            <a:ext cx="71892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3984800">
            <a:off x="6163200" y="5680440"/>
            <a:ext cx="35892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3984800">
            <a:off x="6211440" y="5473440"/>
            <a:ext cx="64764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3984800">
            <a:off x="6241680" y="5381280"/>
            <a:ext cx="768240" cy="1778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652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9816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27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476360" y="189000"/>
            <a:ext cx="5256000" cy="792000"/>
            <a:chOff x="1476360" y="189000"/>
            <a:chExt cx="5256000" cy="792000"/>
          </a:xfrm>
        </p:grpSpPr>
        <p:sp>
          <p:nvSpPr>
            <p:cNvPr id="176" name=""/>
            <p:cNvSpPr/>
            <p:nvPr/>
          </p:nvSpPr>
          <p:spPr>
            <a:xfrm>
              <a:off x="147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197160" y="392040"/>
                  <a:ext cx="188604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ТК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К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180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2501640" y="1469880"/>
                  <a:ext cx="679320" cy="51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666800" y="5835600"/>
            <a:ext cx="7236000" cy="27000"/>
          </a:xfrm>
          <a:custGeom>
            <a:avLst/>
            <a:gdLst/>
            <a:ahLst/>
            <a:rect l="l" t="t" r="r" b="b"/>
            <a:pathLst>
              <a:path w="4558" h="17">
                <a:moveTo>
                  <a:pt x="0" y="0"/>
                </a:moveTo>
                <a:lnTo>
                  <a:pt x="4558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4200" y="2676600"/>
            <a:ext cx="6521400" cy="12600"/>
          </a:xfrm>
          <a:custGeom>
            <a:avLst/>
            <a:gdLst/>
            <a:ahLst/>
            <a:rect l="l" t="t" r="r" b="b"/>
            <a:pathLst>
              <a:path w="4108" h="8">
                <a:moveTo>
                  <a:pt x="4108" y="0"/>
                </a:moveTo>
                <a:lnTo>
                  <a:pt x="0" y="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18400" y="1936800"/>
            <a:ext cx="1776240" cy="4167000"/>
          </a:xfrm>
          <a:custGeom>
            <a:avLst/>
            <a:gdLst/>
            <a:ahLst/>
            <a:rect l="l" t="t" r="r" b="b"/>
            <a:pathLst>
              <a:path w="1119" h="2625">
                <a:moveTo>
                  <a:pt x="0" y="0"/>
                </a:moveTo>
                <a:lnTo>
                  <a:pt x="1119" y="26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02200" y="2703600"/>
            <a:ext cx="4383000" cy="3159000"/>
          </a:xfrm>
          <a:custGeom>
            <a:avLst/>
            <a:gdLst/>
            <a:ahLst/>
            <a:rect l="l" t="t" r="r" b="b"/>
            <a:pathLst>
              <a:path w="2761" h="1990">
                <a:moveTo>
                  <a:pt x="0" y="0"/>
                </a:moveTo>
                <a:lnTo>
                  <a:pt x="2761" y="199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32640" y="2781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3984800">
            <a:off x="2309400" y="5501520"/>
            <a:ext cx="50508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2060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7707200">
            <a:off x="7211160" y="280548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81360" y="5084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69080" y="537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rot="12281400">
            <a:off x="7163280" y="5157360"/>
            <a:ext cx="358920" cy="64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61080" y="4869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82800" y="1773360"/>
            <a:ext cx="1947960" cy="4937040"/>
          </a:xfrm>
          <a:custGeom>
            <a:avLst/>
            <a:gdLst/>
            <a:ahLst/>
            <a:rect l="l" t="t" r="r" b="b"/>
            <a:pathLst>
              <a:path w="1227" h="3110">
                <a:moveTo>
                  <a:pt x="1227" y="0"/>
                </a:moveTo>
                <a:lnTo>
                  <a:pt x="0" y="311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154600">
            <a:off x="3131280" y="2491920"/>
            <a:ext cx="451080" cy="730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7540400">
            <a:off x="7251480" y="283644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3984800">
            <a:off x="2305440" y="5623200"/>
            <a:ext cx="35892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3984800">
            <a:off x="2334960" y="5403240"/>
            <a:ext cx="641160" cy="193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03240" y="587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89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6520" y="220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2565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565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96360" y="4005360"/>
            <a:ext cx="24120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07664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24000" y="220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0720" y="213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476360" y="189000"/>
            <a:ext cx="5256000" cy="792000"/>
            <a:chOff x="1476360" y="189000"/>
            <a:chExt cx="5256000" cy="792000"/>
          </a:xfrm>
        </p:grpSpPr>
        <p:sp>
          <p:nvSpPr>
            <p:cNvPr id="213" name=""/>
            <p:cNvSpPr/>
            <p:nvPr/>
          </p:nvSpPr>
          <p:spPr>
            <a:xfrm>
              <a:off x="147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3238200" y="372960"/>
                  <a:ext cx="180504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C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216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503080" y="1471680"/>
                  <a:ext cx="6829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45000" y="2708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7707200">
            <a:off x="3250440" y="280548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33720" y="522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780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rot="10915200">
            <a:off x="4424760" y="3859200"/>
            <a:ext cx="3621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580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62200"/>
            <a:ext cx="2647800" cy="3200400"/>
          </a:xfrm>
          <a:custGeom>
            <a:avLst/>
            <a:gdLst/>
            <a:ahLst/>
            <a:rect l="l" t="t" r="r" b="b"/>
            <a:pathLst>
              <a:path w="1668" h="2016">
                <a:moveTo>
                  <a:pt x="0" y="0"/>
                </a:moveTo>
                <a:lnTo>
                  <a:pt x="1668" y="957"/>
                </a:lnTo>
                <a:lnTo>
                  <a:pt x="355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7540400">
            <a:off x="3292200" y="283644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984800">
            <a:off x="3621600" y="5545080"/>
            <a:ext cx="4302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03240" y="587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452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6108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27400" y="5850000"/>
            <a:ext cx="5675400" cy="12600"/>
          </a:xfrm>
          <a:custGeom>
            <a:avLst/>
            <a:gdLst/>
            <a:ahLst/>
            <a:rect l="l" t="t" r="r" b="b"/>
            <a:pathLst>
              <a:path w="3575" h="8">
                <a:moveTo>
                  <a:pt x="0" y="0"/>
                </a:moveTo>
                <a:lnTo>
                  <a:pt x="3575" y="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7164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05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180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4400" y="2662200"/>
            <a:ext cx="5056200" cy="3200400"/>
          </a:xfrm>
          <a:custGeom>
            <a:avLst/>
            <a:gdLst/>
            <a:ahLst/>
            <a:rect l="l" t="t" r="r" b="b"/>
            <a:pathLst>
              <a:path w="3185" h="2016">
                <a:moveTo>
                  <a:pt x="0" y="2008"/>
                </a:moveTo>
                <a:lnTo>
                  <a:pt x="2355" y="0"/>
                </a:lnTo>
                <a:lnTo>
                  <a:pt x="3185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58880" y="58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46800" y="1612800"/>
            <a:ext cx="1627200" cy="4734000"/>
          </a:xfrm>
          <a:custGeom>
            <a:avLst/>
            <a:gdLst/>
            <a:ahLst/>
            <a:rect l="l" t="t" r="r" b="b"/>
            <a:pathLst>
              <a:path w="1025" h="2982">
                <a:moveTo>
                  <a:pt x="1025" y="0"/>
                </a:moveTo>
                <a:lnTo>
                  <a:pt x="0" y="298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68360" y="189000"/>
            <a:ext cx="5256000" cy="792000"/>
            <a:chOff x="2268360" y="189000"/>
            <a:chExt cx="5256000" cy="792000"/>
          </a:xfrm>
        </p:grpSpPr>
        <p:sp>
          <p:nvSpPr>
            <p:cNvPr id="243" name=""/>
            <p:cNvSpPr/>
            <p:nvPr/>
          </p:nvSpPr>
          <p:spPr>
            <a:xfrm>
              <a:off x="2268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3068280" y="334800"/>
                  <a:ext cx="37292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t xml:space="preserve">4,2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324000" y="1197000"/>
            <a:ext cx="5256000" cy="792000"/>
            <a:chOff x="324000" y="1197000"/>
            <a:chExt cx="5256000" cy="792000"/>
          </a:xfrm>
        </p:grpSpPr>
        <p:sp>
          <p:nvSpPr>
            <p:cNvPr id="246" name=""/>
            <p:cNvSpPr/>
            <p:nvPr/>
          </p:nvSpPr>
          <p:spPr>
            <a:xfrm>
              <a:off x="32400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2529000" y="1380960"/>
                  <a:ext cx="920520" cy="55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25600" y="5823000"/>
            <a:ext cx="6577200" cy="39600"/>
          </a:xfrm>
          <a:custGeom>
            <a:avLst/>
            <a:gdLst/>
            <a:ahLst/>
            <a:rect l="l" t="t" r="r" b="b"/>
            <a:pathLst>
              <a:path w="4143" h="25">
                <a:moveTo>
                  <a:pt x="0" y="0"/>
                </a:moveTo>
                <a:lnTo>
                  <a:pt x="4143" y="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01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70160" y="530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11400" y="5835600"/>
            <a:ext cx="5016600" cy="27000"/>
          </a:xfrm>
          <a:custGeom>
            <a:avLst/>
            <a:gdLst/>
            <a:ahLst/>
            <a:rect l="l" t="t" r="r" b="b"/>
            <a:pathLst>
              <a:path w="3160" h="17">
                <a:moveTo>
                  <a:pt x="3160" y="17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490000">
            <a:off x="6084360" y="3212640"/>
            <a:ext cx="43056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4117800">
            <a:off x="5842440" y="2807640"/>
            <a:ext cx="488880" cy="147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20635800">
            <a:off x="6516360" y="3141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7707200">
            <a:off x="6779520" y="2805480"/>
            <a:ext cx="431640" cy="939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7540400">
            <a:off x="6821280" y="283644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20635800">
            <a:off x="6585120" y="2976480"/>
            <a:ext cx="28728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264" name="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009600" y="334800"/>
                  <a:ext cx="16844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м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рис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6" name=""/>
          <p:cNvGrpSpPr/>
          <p:nvPr/>
        </p:nvGrpSpPr>
        <p:grpSpPr>
          <a:xfrm>
            <a:off x="468360" y="1197000"/>
            <a:ext cx="5256000" cy="792000"/>
            <a:chOff x="468360" y="1197000"/>
            <a:chExt cx="5256000" cy="792000"/>
          </a:xfrm>
        </p:grpSpPr>
        <p:sp>
          <p:nvSpPr>
            <p:cNvPr id="267" name=""/>
            <p:cNvSpPr/>
            <p:nvPr/>
          </p:nvSpPr>
          <p:spPr>
            <a:xfrm>
              <a:off x="46836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351160" y="1382400"/>
                  <a:ext cx="15652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ЕМ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"/>
          <p:cNvSpPr/>
          <p:nvPr/>
        </p:nvSpPr>
        <p:spPr>
          <a:xfrm>
            <a:off x="6659640" y="5805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9416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2144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5888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98800" y="4343400"/>
            <a:ext cx="1548000" cy="1492200"/>
          </a:xfrm>
          <a:custGeom>
            <a:avLst/>
            <a:gdLst/>
            <a:ahLst/>
            <a:rect l="l" t="t" r="r" b="b"/>
            <a:pathLst>
              <a:path w="975" h="940">
                <a:moveTo>
                  <a:pt x="0" y="0"/>
                </a:moveTo>
                <a:lnTo>
                  <a:pt x="975" y="94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84600" y="2637000"/>
            <a:ext cx="3462480" cy="3198600"/>
          </a:xfrm>
          <a:custGeom>
            <a:avLst/>
            <a:gdLst/>
            <a:ahLst/>
            <a:rect l="l" t="t" r="r" b="b"/>
            <a:pathLst>
              <a:path w="2181" h="2015">
                <a:moveTo>
                  <a:pt x="2181" y="0"/>
                </a:moveTo>
                <a:lnTo>
                  <a:pt x="1457" y="2015"/>
                </a:lnTo>
                <a:lnTo>
                  <a:pt x="0" y="65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21000" y="779400"/>
            <a:ext cx="6454800" cy="5097600"/>
          </a:xfrm>
          <a:custGeom>
            <a:avLst/>
            <a:gdLst/>
            <a:ahLst/>
            <a:rect l="l" t="t" r="r" b="b"/>
            <a:pathLst>
              <a:path w="4066" h="3211">
                <a:moveTo>
                  <a:pt x="3168" y="0"/>
                </a:moveTo>
                <a:lnTo>
                  <a:pt x="0" y="3211"/>
                </a:lnTo>
                <a:lnTo>
                  <a:pt x="4066" y="317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4044200">
            <a:off x="6949080" y="5517000"/>
            <a:ext cx="4302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9368400">
            <a:off x="6584760" y="5357520"/>
            <a:ext cx="4158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7143600">
            <a:off x="4762800" y="5614200"/>
            <a:ext cx="43200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6860400">
            <a:off x="4587840" y="557352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3522800">
            <a:off x="4652640" y="3524040"/>
            <a:ext cx="288720" cy="2887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3522800">
            <a:off x="3996000" y="4219920"/>
            <a:ext cx="287640" cy="28908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21000" y="5300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27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13440" y="32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14012400">
            <a:off x="6237000" y="4684320"/>
            <a:ext cx="558720" cy="11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29080" y="4076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3:23:57Z</dcterms:created>
  <dc:creator>Admin</dc:creator>
  <dc:description/>
  <dc:language>en-US</dc:language>
  <cp:lastModifiedBy>Admin</cp:lastModifiedBy>
  <dcterms:modified xsi:type="dcterms:W3CDTF">2010-07-09T12:33:58Z</dcterms:modified>
  <cp:revision>11</cp:revision>
  <dc:subject/>
  <dc:title>Слайд 1</dc:title>
</cp:coreProperties>
</file>