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12.png" ContentType="image/png"/>
  <Override PartName="/ppt/media/image31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1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9A9-1283-4FEB-9F7B-A1C0B1DE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1DD-C107-43D0-B2A9-79DFF71E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996-65A7-45C4-9807-AFA20B7C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C51-FD7B-4F1F-9BC0-2903D7C8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3DC2-28F6-4661-A724-509F0E2B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F59F-E908-422D-90D3-D6816101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366E-1AE7-4633-A362-3EBCC5DB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D2A5-10F3-44D8-886B-9EB29B35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A659-207C-4BB2-897E-B5C8B1B9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4961-0275-42F3-AF4F-1804E1CF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D96C-3383-4937-9004-3E0FA03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E47-D329-4868-ABD2-F78307CE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C8D1-BEA3-431B-BAE3-20DFEA1C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492D-C4E1-4D34-B104-7415BFB2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6005-07EA-4741-AFA3-386163A7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E99F-EE5F-4D7D-8E3B-26D1F289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01DC-B701-42C1-A261-9765E8D3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94D-09CA-4388-884C-312F21E1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693-9319-44E8-BA5B-00790B8D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693-D0F6-4BE6-AB48-187946A5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B8D-6285-4835-A30A-D3CBD688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7C7-27C5-4AA7-A671-48DD815A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2E8-BAA6-4223-9775-D927FF84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14C-9932-46E4-9678-0D72CDB2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3E18-5CF1-4EBC-88EB-4E7A1F39B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8549-4804-400F-80E9-BFDA14F92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e8f0f4"/>
          </a:solidFill>
          <a:ln w="38160">
            <a:solidFill>
              <a:srgbClr val="cce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68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6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6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2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2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47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60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271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/>
  <dc:language>en-US</dc:language>
  <cp:lastModifiedBy>Admin</cp:lastModifiedBy>
  <dcterms:modified xsi:type="dcterms:W3CDTF">2012-05-16T12:15:15Z</dcterms:modified>
  <cp:revision>13</cp:revision>
  <dc:subject/>
  <dc:title>Слайд 1</dc:title>
</cp:coreProperties>
</file>