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31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75E-F2B6-4C9F-8A58-AA5C7266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6A7-185A-49E3-9CC5-AC07798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D14-177B-4F64-A383-08B468BE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06C-78F9-4714-B0B0-3E3110A8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18E2-422B-4B31-984C-181DC961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95A-6887-4F5E-82BB-D4C54FE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D954-0869-4B9E-B993-DF0C8A39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42DA-4FB2-4231-B40F-203E7D09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D572-B3B2-449B-9D62-9B0473FA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DB68-1CFB-4060-B7DA-216D35F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C0C2-967D-4B56-8D1D-EA52494F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B93-D81A-4DB1-A7C4-7ED840EF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694D-0616-4FFB-9F14-483D045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F294-04E5-48F3-B40A-6443835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8676-3D3B-4055-A7D0-D3BCEFF7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82C7-6B2F-4031-A75C-36E20319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609E-4B52-41B0-961D-9EC71AA0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66C-DB82-43A6-A316-0F9FCCEC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E47-4417-4038-8B4A-B9D175B9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188-ABB4-44D0-BFA9-B219266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D7C-C5BC-47E8-BDFD-03EE97C7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2A5-AB4B-43BA-9C2A-87B48011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479-0EA3-41B7-BEC8-2EDE4008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4D9-373C-43F9-90EF-EA36EFC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B3C-AECB-4DD5-9D8B-5F7F633DC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C37B-8F07-4636-BB9F-002103C97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e8f0f4"/>
          </a:solidFill>
          <a:ln w="38160">
            <a:solidFill>
              <a:srgbClr val="cce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6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1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6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2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60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/>
  <dc:language>en-US</dc:language>
  <cp:lastModifiedBy>Admin</cp:lastModifiedBy>
  <dcterms:modified xsi:type="dcterms:W3CDTF">2012-05-16T12:15:15Z</dcterms:modified>
  <cp:revision>13</cp:revision>
  <dc:subject/>
  <dc:title>Слайд 1</dc:title>
</cp:coreProperties>
</file>