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12.png" ContentType="image/png"/>
  <Override PartName="/ppt/media/image31.jpeg" ContentType="image/jpeg"/>
  <Override PartName="/ppt/media/image37.jpeg" ContentType="image/jpeg"/>
  <Override PartName="/ppt/media/image13.png" ContentType="image/png"/>
  <Override PartName="/ppt/media/image38.jpeg" ContentType="image/jpeg"/>
  <Override PartName="/ppt/media/image41.jpeg" ContentType="image/jpeg"/>
  <Override PartName="/ppt/media/image44.png" ContentType="image/png"/>
  <Override PartName="/ppt/media/image45.jpeg" ContentType="image/jpeg"/>
  <Override PartName="/ppt/media/image46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9.jpeg" ContentType="image/jpeg"/>
  <Override PartName="/ppt/media/image8.png" ContentType="image/png"/>
  <Override PartName="/ppt/media/image3.png" ContentType="image/png"/>
  <Override PartName="/ppt/media/image33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3B72-9910-4F9A-BDE1-92142AA5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33BF-C130-425D-BA66-35D880D9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C35D-8ACB-4D9B-B990-C54A7B82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51F-9DD7-472C-97EC-51ED23C0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E0FD-0808-42F0-B294-B8129DD1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27BE-3845-4FF0-A975-424B3B60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10E4-9F01-4E47-B7D9-972DA4D9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C5AE-68F4-4640-84D1-7F6974B6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1C87-CCBC-43A8-9A97-7058E92F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2A07-7E25-478D-8737-0EE93F18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B6B6-4CB8-4DB6-BDA7-F128DB9F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9AF1-2F55-4C95-BE88-978B1645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D476-94AF-41BE-86E8-4E71DA14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A225-25EC-4A02-9779-96605F9F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EDC5-6C3A-4545-BE38-D33522CE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95B8-A9A0-472F-BEAC-DF9BAF66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E4F4-65F1-43C8-B412-E63BDD50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75D3-990B-4681-9174-260AB7C3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F978-48C3-4C0F-A6FD-D4F87EC9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967-B5E3-450A-B501-96B84CF6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3794-A826-4926-B3A3-A31921B6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F36-0F2E-42CE-996C-B8BA0597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E5A-D73A-4A5F-AD3B-0A0AF2C0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CA7-F7DB-497A-9020-AB589E03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F72B-6F76-424D-BB37-47D69EAC5E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EF39-2AAB-4236-8AD8-46AACDCF25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971640" y="2133720"/>
            <a:ext cx="76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жоги. Виды ожогов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ечные ожоги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пловой удар.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e8f0f4"/>
          </a:solidFill>
          <a:ln w="38160">
            <a:solidFill>
              <a:srgbClr val="cce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395280" y="119700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403280" y="1773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1798560" cy="1295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2"/>
          <a:stretch/>
        </p:blipFill>
        <p:spPr>
          <a:xfrm>
            <a:off x="6659640" y="328464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1798560" cy="13669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2484360" y="256536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556000" y="3789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Накрыть сухой чистой тка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556000" y="4508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оверх ткани приложить холод (пузырь со льдом или пакет с холодной водой или снег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1187280" y="566100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скрывать пузыри и удалять прилипшую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12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1332000" y="1700280"/>
            <a:ext cx="7056360" cy="649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1187280" y="5661000"/>
            <a:ext cx="684072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1614240" y="1557360"/>
            <a:ext cx="59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900000" y="2205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жить на повреждённую поверхность чистую пленку или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564000" y="3789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оверх плёнки приложить пакеты со ль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835280" y="4941720"/>
            <a:ext cx="64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Дать пострадавшему таблетку анальгина (если он в созна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580000" y="2060640"/>
            <a:ext cx="1817640" cy="1751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1846440" cy="1714320"/>
          </a:xfrm>
          <a:prstGeom prst="rect">
            <a:avLst/>
          </a:prstGeom>
          <a:ln w="0">
            <a:noFill/>
          </a:ln>
        </p:spPr>
      </p:pic>
      <p:sp>
        <p:nvSpPr>
          <p:cNvPr id="168" name="WordArt 9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1619280" y="1484280"/>
            <a:ext cx="5905440" cy="504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1547640" y="2133720"/>
            <a:ext cx="60501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1332000" y="54936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547640" y="2133720"/>
            <a:ext cx="6120000" cy="374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4"/>
          <p:cNvSpPr txBox="1"/>
          <p:nvPr/>
        </p:nvSpPr>
        <p:spPr>
          <a:xfrm>
            <a:off x="1042920" y="333360"/>
            <a:ext cx="685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хи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24000" y="1197000"/>
            <a:ext cx="561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)Если ожог вызван кислот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2843280" y="2564640"/>
            <a:ext cx="6551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Если же ожог от щёло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79280" y="393300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)Если на кожу попал фосф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2195640" y="5012280"/>
            <a:ext cx="6589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)Когда на кожу попадает негашеная изве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гл"/>
          <p:cNvPicPr/>
          <p:nvPr/>
        </p:nvPicPr>
        <p:blipFill>
          <a:blip r:embed="rId1"/>
          <a:stretch/>
        </p:blipFill>
        <p:spPr>
          <a:xfrm>
            <a:off x="6156360" y="119700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фосфор"/>
          <p:cNvPicPr/>
          <p:nvPr/>
        </p:nvPicPr>
        <p:blipFill>
          <a:blip r:embed="rId2"/>
          <a:stretch/>
        </p:blipFill>
        <p:spPr>
          <a:xfrm>
            <a:off x="6588000" y="378936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известь"/>
          <p:cNvPicPr/>
          <p:nvPr/>
        </p:nvPicPr>
        <p:blipFill>
          <a:blip r:embed="rId3"/>
          <a:stretch/>
        </p:blipFill>
        <p:spPr>
          <a:xfrm>
            <a:off x="611280" y="501336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джэ"/>
          <p:cNvPicPr/>
          <p:nvPr/>
        </p:nvPicPr>
        <p:blipFill>
          <a:blip r:embed="rId4"/>
          <a:stretch/>
        </p:blipFill>
        <p:spPr>
          <a:xfrm>
            <a:off x="611280" y="2492280"/>
            <a:ext cx="18716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1042920" y="19238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971640" y="42390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971640" y="2111400"/>
            <a:ext cx="770580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900000" y="4843440"/>
            <a:ext cx="808848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2195640" y="549360"/>
            <a:ext cx="446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дар молние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484360" y="4653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258920" y="155736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р молнией – это мощнейшая электротрав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611280" y="213372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мол"/>
          <p:cNvPicPr/>
          <p:nvPr/>
        </p:nvPicPr>
        <p:blipFill>
          <a:blip r:embed="rId1"/>
          <a:stretch/>
        </p:blipFill>
        <p:spPr>
          <a:xfrm>
            <a:off x="4932360" y="2060640"/>
            <a:ext cx="3240000" cy="2422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мол1"/>
          <p:cNvPicPr/>
          <p:nvPr/>
        </p:nvPicPr>
        <p:blipFill>
          <a:blip r:embed="rId2"/>
          <a:stretch/>
        </p:blipFill>
        <p:spPr>
          <a:xfrm>
            <a:off x="755640" y="3789360"/>
            <a:ext cx="1528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1332000" y="404640"/>
            <a:ext cx="6410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избежать удара молнией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468360" y="155700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W12"/>
          <p:cNvPicPr/>
          <p:nvPr/>
        </p:nvPicPr>
        <p:blipFill>
          <a:blip r:embed="rId1"/>
          <a:stretch/>
        </p:blipFill>
        <p:spPr>
          <a:xfrm>
            <a:off x="5940360" y="1268280"/>
            <a:ext cx="2774880" cy="20815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3276720" y="34286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File0107"/>
          <p:cNvPicPr/>
          <p:nvPr/>
        </p:nvPicPr>
        <p:blipFill>
          <a:blip r:embed="rId2"/>
          <a:stretch/>
        </p:blipFill>
        <p:spPr>
          <a:xfrm>
            <a:off x="468360" y="2997360"/>
            <a:ext cx="2663640" cy="2232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1258920" y="54446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Утес"/>
          <p:cNvPicPr/>
          <p:nvPr/>
        </p:nvPicPr>
        <p:blipFill>
          <a:blip r:embed="rId3"/>
          <a:stretch/>
        </p:blipFill>
        <p:spPr>
          <a:xfrm>
            <a:off x="5940360" y="4365720"/>
            <a:ext cx="2671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539640" y="1557360"/>
            <a:ext cx="49690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ытом мето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708360" y="3860640"/>
            <a:ext cx="52196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ый мет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применяют в двух вид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ез обработки поверхности ожога дубящими веще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050920" y="659772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900000" y="5950080"/>
            <a:ext cx="40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6" name="Picture 8" descr="9851"/>
          <p:cNvPicPr/>
          <p:nvPr/>
        </p:nvPicPr>
        <p:blipFill>
          <a:blip r:embed="rId1"/>
          <a:stretch/>
        </p:blipFill>
        <p:spPr>
          <a:xfrm>
            <a:off x="5651640" y="1628640"/>
            <a:ext cx="2808000" cy="2232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445315_20020714153547"/>
          <p:cNvPicPr/>
          <p:nvPr/>
        </p:nvPicPr>
        <p:blipFill>
          <a:blip r:embed="rId2"/>
          <a:stretch/>
        </p:blipFill>
        <p:spPr>
          <a:xfrm>
            <a:off x="611280" y="3933720"/>
            <a:ext cx="287964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2195640" y="4292640"/>
            <a:ext cx="5041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68360" y="1916280"/>
            <a:ext cx="4392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1" name="Picture 6" descr="ит"/>
          <p:cNvPicPr/>
          <p:nvPr/>
        </p:nvPicPr>
        <p:blipFill>
          <a:blip r:embed="rId1"/>
          <a:stretch/>
        </p:blipFill>
        <p:spPr>
          <a:xfrm>
            <a:off x="5435640" y="1916280"/>
            <a:ext cx="266364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2411280" y="476280"/>
            <a:ext cx="3889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58920" y="1772640"/>
            <a:ext cx="8785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788000" y="529992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т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64000" y="2781360"/>
            <a:ext cx="2592720" cy="217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шрамы от ожогов 3 степени"/>
          <p:cNvPicPr/>
          <p:nvPr/>
        </p:nvPicPr>
        <p:blipFill>
          <a:blip r:embed="rId2"/>
          <a:stretch/>
        </p:blipFill>
        <p:spPr>
          <a:xfrm>
            <a:off x="1116000" y="3357720"/>
            <a:ext cx="23446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395280" y="1700280"/>
            <a:ext cx="543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6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2987640" y="4005360"/>
            <a:ext cx="5797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жоговая болезн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лдлжож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5651640" y="170028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images"/>
          <p:cNvPicPr/>
          <p:nvPr/>
        </p:nvPicPr>
        <p:blipFill>
          <a:blip r:embed="rId2"/>
          <a:stretch/>
        </p:blipFill>
        <p:spPr>
          <a:xfrm>
            <a:off x="684360" y="3716280"/>
            <a:ext cx="194292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4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68360" y="1557360"/>
            <a:ext cx="5400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851280" y="4005360"/>
            <a:ext cx="5040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ораьлор"/>
          <p:cNvPicPr/>
          <p:nvPr/>
        </p:nvPicPr>
        <p:blipFill>
          <a:blip r:embed="rId1"/>
          <a:stretch/>
        </p:blipFill>
        <p:spPr>
          <a:xfrm>
            <a:off x="5867280" y="1773360"/>
            <a:ext cx="2409840" cy="1971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аологдл"/>
          <p:cNvPicPr/>
          <p:nvPr/>
        </p:nvPicPr>
        <p:blipFill>
          <a:blip r:embed="rId2"/>
          <a:stretch/>
        </p:blipFill>
        <p:spPr>
          <a:xfrm>
            <a:off x="1187280" y="3500280"/>
            <a:ext cx="20736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1042920" y="1699920"/>
            <a:ext cx="72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995640" y="2637000"/>
            <a:ext cx="48974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116000" y="5084280"/>
            <a:ext cx="770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возвращение больного к его обычному образу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7"/>
          <p:cNvSpPr txBox="1"/>
          <p:nvPr/>
        </p:nvSpPr>
        <p:spPr>
          <a:xfrm>
            <a:off x="755640" y="549360"/>
            <a:ext cx="7677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апы помощи при тяжелы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6" name="Picture 11" descr="огл"/>
          <p:cNvPicPr/>
          <p:nvPr/>
        </p:nvPicPr>
        <p:blipFill>
          <a:blip r:embed="rId1"/>
          <a:stretch/>
        </p:blipFill>
        <p:spPr>
          <a:xfrm>
            <a:off x="1258920" y="2565360"/>
            <a:ext cx="216072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5"/>
          <p:cNvSpPr/>
          <p:nvPr/>
        </p:nvSpPr>
        <p:spPr>
          <a:xfrm>
            <a:off x="3059280" y="1268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ерм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468360" y="1560240"/>
            <a:ext cx="842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р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4427640" y="2923920"/>
            <a:ext cx="4321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324000" y="5013360"/>
            <a:ext cx="864072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WordArt 9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2" name="Picture 10" descr="хим ож"/>
          <p:cNvPicPr/>
          <p:nvPr/>
        </p:nvPicPr>
        <p:blipFill>
          <a:blip r:embed="rId1"/>
          <a:stretch/>
        </p:blipFill>
        <p:spPr>
          <a:xfrm>
            <a:off x="1547640" y="2637000"/>
            <a:ext cx="194472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1549800" y="1340640"/>
            <a:ext cx="61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и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кислотными и щелочны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324000" y="184428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995640" y="2736360"/>
            <a:ext cx="482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мптомы и теч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395280" y="5084640"/>
            <a:ext cx="8532720" cy="119124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ьбоб"/>
          <p:cNvPicPr/>
          <p:nvPr/>
        </p:nvPicPr>
        <p:blipFill>
          <a:blip r:embed="rId1"/>
          <a:stretch/>
        </p:blipFill>
        <p:spPr>
          <a:xfrm>
            <a:off x="826920" y="285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238" name="WordArt 8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468360" y="1512000"/>
            <a:ext cx="8675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Щелоч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324000" y="4784760"/>
            <a:ext cx="8497800" cy="177048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5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2" name="Picture 6" descr="ожог глаз канцелярским клеем"/>
          <p:cNvPicPr/>
          <p:nvPr/>
        </p:nvPicPr>
        <p:blipFill>
          <a:blip r:embed="rId1"/>
          <a:stretch/>
        </p:blipFill>
        <p:spPr>
          <a:xfrm>
            <a:off x="5940360" y="256536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ернп"/>
          <p:cNvPicPr/>
          <p:nvPr/>
        </p:nvPicPr>
        <p:blipFill>
          <a:blip r:embed="rId2"/>
          <a:stretch/>
        </p:blipFill>
        <p:spPr>
          <a:xfrm>
            <a:off x="1979640" y="2708280"/>
            <a:ext cx="17287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1042920" y="1844640"/>
            <a:ext cx="7201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427640" y="335772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1042920" y="3284640"/>
            <a:ext cx="3056040" cy="3074760"/>
          </a:xfrm>
          <a:prstGeom prst="rect">
            <a:avLst/>
          </a:prstGeom>
          <a:ln w="0">
            <a:noFill/>
          </a:ln>
        </p:spPr>
      </p:pic>
      <p:sp>
        <p:nvSpPr>
          <p:cNvPr id="247" name="WordArt 6"/>
          <p:cNvSpPr txBox="1"/>
          <p:nvPr/>
        </p:nvSpPr>
        <p:spPr>
          <a:xfrm>
            <a:off x="2340000" y="620640"/>
            <a:ext cx="41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лнечный ожо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903600" y="134064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711240" y="3715560"/>
            <a:ext cx="46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68360" y="53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468360" y="191628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419640" y="42919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содержат вещества, частично отражающие ультрафиолетовые лу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специальный аква гель от солнечныхожогов"/>
          <p:cNvPicPr/>
          <p:nvPr/>
        </p:nvPicPr>
        <p:blipFill>
          <a:blip r:embed="rId1"/>
          <a:stretch/>
        </p:blipFill>
        <p:spPr>
          <a:xfrm>
            <a:off x="1258920" y="3429000"/>
            <a:ext cx="1730520" cy="16272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солнцезащитный крем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724360" y="1413000"/>
            <a:ext cx="2170440" cy="2170080"/>
          </a:xfrm>
          <a:prstGeom prst="rect">
            <a:avLst/>
          </a:prstGeom>
          <a:ln w="0">
            <a:noFill/>
          </a:ln>
        </p:spPr>
      </p:pic>
      <p:sp>
        <p:nvSpPr>
          <p:cNvPr id="255" name="WordArt 10"/>
          <p:cNvSpPr txBox="1"/>
          <p:nvPr/>
        </p:nvSpPr>
        <p:spPr>
          <a:xfrm>
            <a:off x="154764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филактические сред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468360" y="5229360"/>
            <a:ext cx="8280360" cy="1368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611280" y="1341000"/>
            <a:ext cx="817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4500720" y="2708280"/>
            <a:ext cx="43192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пр"/>
          <p:cNvPicPr/>
          <p:nvPr/>
        </p:nvPicPr>
        <p:blipFill>
          <a:blip r:embed="rId1"/>
          <a:stretch/>
        </p:blipFill>
        <p:spPr>
          <a:xfrm>
            <a:off x="1187280" y="2565360"/>
            <a:ext cx="2953080" cy="3457440"/>
          </a:xfrm>
          <a:prstGeom prst="rect">
            <a:avLst/>
          </a:prstGeom>
          <a:ln w="0">
            <a:noFill/>
          </a:ln>
        </p:spPr>
      </p:pic>
      <p:sp>
        <p:nvSpPr>
          <p:cNvPr id="260" name="WordArt 6"/>
          <p:cNvSpPr txBox="1"/>
          <p:nvPr/>
        </p:nvSpPr>
        <p:spPr>
          <a:xfrm>
            <a:off x="2556000" y="404640"/>
            <a:ext cx="3743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пловой уд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3"/>
          <p:cNvSpPr/>
          <p:nvPr/>
        </p:nvSpPr>
        <p:spPr>
          <a:xfrm>
            <a:off x="971640" y="191628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692360" y="494172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5"/>
          <p:cNvSpPr txBox="1"/>
          <p:nvPr/>
        </p:nvSpPr>
        <p:spPr>
          <a:xfrm>
            <a:off x="2556000" y="404640"/>
            <a:ext cx="421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971640" y="1844640"/>
            <a:ext cx="7056360" cy="2376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1692360" y="4869000"/>
            <a:ext cx="597528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26920" y="1268280"/>
            <a:ext cx="21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24000" y="1700280"/>
            <a:ext cx="59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73528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3348000" y="3644640"/>
            <a:ext cx="5616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9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0" name="Picture 12" descr="лд"/>
          <p:cNvPicPr/>
          <p:nvPr/>
        </p:nvPicPr>
        <p:blipFill>
          <a:blip r:embed="rId2"/>
          <a:stretch/>
        </p:blipFill>
        <p:spPr>
          <a:xfrm>
            <a:off x="1042920" y="3141720"/>
            <a:ext cx="1717920" cy="2232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3"/>
          <p:cNvSpPr/>
          <p:nvPr/>
        </p:nvSpPr>
        <p:spPr>
          <a:xfrm>
            <a:off x="755640" y="5516280"/>
            <a:ext cx="7559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зникают в результате соприкосновения кожи с тверды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ами. Они возникают в 10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>
            <a:off x="755640" y="1988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284720" y="2852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468360" y="544464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4032360" y="400500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ы"/>
          <p:cNvPicPr/>
          <p:nvPr/>
        </p:nvPicPr>
        <p:blipFill>
          <a:blip r:embed="rId1"/>
          <a:stretch/>
        </p:blipFill>
        <p:spPr>
          <a:xfrm>
            <a:off x="611280" y="2924280"/>
            <a:ext cx="3238560" cy="2185920"/>
          </a:xfrm>
          <a:prstGeom prst="rect">
            <a:avLst/>
          </a:prstGeom>
          <a:ln w="0">
            <a:noFill/>
          </a:ln>
        </p:spPr>
      </p:pic>
      <p:sp>
        <p:nvSpPr>
          <p:cNvPr id="271" name="WordArt 8"/>
          <p:cNvSpPr txBox="1"/>
          <p:nvPr/>
        </p:nvSpPr>
        <p:spPr>
          <a:xfrm>
            <a:off x="1835280" y="40464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акция организ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жаркую погоду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2627280" y="1413000"/>
            <a:ext cx="586908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042920" y="4365360"/>
            <a:ext cx="45356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ходен с ожогом пламенем. Кожа становится черной из-за импрегнации металл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i"/>
          <p:cNvPicPr/>
          <p:nvPr/>
        </p:nvPicPr>
        <p:blipFill>
          <a:blip r:embed="rId1"/>
          <a:stretch/>
        </p:blipFill>
        <p:spPr>
          <a:xfrm>
            <a:off x="539640" y="1341360"/>
            <a:ext cx="1702080" cy="1728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р"/>
          <p:cNvPicPr/>
          <p:nvPr/>
        </p:nvPicPr>
        <p:blipFill>
          <a:blip r:embed="rId2"/>
          <a:stretch/>
        </p:blipFill>
        <p:spPr>
          <a:xfrm>
            <a:off x="6012000" y="4221000"/>
            <a:ext cx="2590560" cy="16560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8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406440" y="3428280"/>
            <a:ext cx="58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1979640" y="692280"/>
            <a:ext cx="496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900000" y="1989000"/>
            <a:ext cx="5759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)Ожоги электрическим то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молн"/>
          <p:cNvPicPr/>
          <p:nvPr/>
        </p:nvPicPr>
        <p:blipFill>
          <a:blip r:embed="rId1"/>
          <a:stretch/>
        </p:blipFill>
        <p:spPr>
          <a:xfrm>
            <a:off x="2987640" y="3573360"/>
            <a:ext cx="337176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684360" y="1484280"/>
            <a:ext cx="59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276720" y="3284280"/>
            <a:ext cx="568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826920" y="5229000"/>
            <a:ext cx="53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) Ожоги фосфором и изве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ь"/>
          <p:cNvPicPr/>
          <p:nvPr/>
        </p:nvPicPr>
        <p:blipFill>
          <a:blip r:embed="rId1"/>
          <a:stretch/>
        </p:blipFill>
        <p:spPr>
          <a:xfrm>
            <a:off x="971640" y="3213000"/>
            <a:ext cx="1917720" cy="1871640"/>
          </a:xfrm>
          <a:prstGeom prst="rect">
            <a:avLst/>
          </a:prstGeom>
          <a:ln w="0">
            <a:noFill/>
          </a:ln>
        </p:spPr>
      </p:pic>
      <p:sp>
        <p:nvSpPr>
          <p:cNvPr id="125" name="WordArt 8"/>
          <p:cNvSpPr txBox="1"/>
          <p:nvPr/>
        </p:nvSpPr>
        <p:spPr>
          <a:xfrm>
            <a:off x="2124000" y="404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6" name="Picture 10" descr="известь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580000" y="4365720"/>
            <a:ext cx="2808360" cy="1854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P+O2"/>
          <p:cNvPicPr/>
          <p:nvPr/>
        </p:nvPicPr>
        <p:blipFill>
          <a:blip r:embed="rId3"/>
          <a:stretch/>
        </p:blipFill>
        <p:spPr>
          <a:xfrm>
            <a:off x="6516720" y="1557360"/>
            <a:ext cx="208908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2124000" y="620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учевы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71640" y="1923120"/>
            <a:ext cx="655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)Радиацион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ключаются в себя: ожоги УФ-излуч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ло"/>
          <p:cNvPicPr/>
          <p:nvPr/>
        </p:nvPicPr>
        <p:blipFill>
          <a:blip r:embed="rId1"/>
          <a:stretch/>
        </p:blipFill>
        <p:spPr>
          <a:xfrm>
            <a:off x="1403280" y="2997360"/>
            <a:ext cx="2808360" cy="280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4788000" y="285264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2470320" cy="1598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191448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5796000" y="4005360"/>
            <a:ext cx="2468520" cy="158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009520" cy="266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3203640" y="1483920"/>
            <a:ext cx="57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3276720" y="2492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468360" y="4142880"/>
            <a:ext cx="42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традают все слои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468360" y="4868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ное разрушение кожи и нижележащего мышечного сло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395280" y="566064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12"/>
          <p:cNvSpPr txBox="1"/>
          <p:nvPr/>
        </p:nvSpPr>
        <p:spPr>
          <a:xfrm>
            <a:off x="1619280" y="404640"/>
            <a:ext cx="5761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ификация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1187280" y="2205000"/>
            <a:ext cx="3529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лад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девя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Глубина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846760" y="1916280"/>
            <a:ext cx="1893960" cy="4752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1042920" y="5013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площадь поражения кожи превышает 10% - следует ожидать развития ожогового ш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1619280" y="404640"/>
            <a:ext cx="57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определ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агноза нужно знать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1042920" y="5013360"/>
            <a:ext cx="0" cy="1079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1042920" y="6093000"/>
            <a:ext cx="38894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1042920" y="5013360"/>
            <a:ext cx="3889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4932360" y="501336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06:16:37Z</dcterms:created>
  <dc:creator>Киска</dc:creator>
  <dc:description/>
  <dc:language>en-US</dc:language>
  <cp:lastModifiedBy>Admin</cp:lastModifiedBy>
  <dcterms:modified xsi:type="dcterms:W3CDTF">2012-05-16T12:15:15Z</dcterms:modified>
  <cp:revision>13</cp:revision>
  <dc:subject/>
  <dc:title>Слайд 1</dc:title>
</cp:coreProperties>
</file>