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5CEFC-BEDD-45FB-B10F-D5F693D6452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5BD23-51D4-4411-AB08-38A31052C2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8B242-635A-4B46-818B-6DF0E09A1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7B0BB-8AE5-4B0A-85F0-BF798F5064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A5C9B-296E-4C8B-89CF-90EFA2374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B0AFC-95B1-4336-9885-C303D20E40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186DD-10AD-4397-A83B-2EEED365C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B1E20-95EF-4179-A483-111616B078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2C8F6-77E3-451B-9BF8-97414A667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D95A-F8EF-4E71-97FD-BB4865A909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CFDDD-ABD9-44F7-8621-AF6B6FDFB02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3CED6-17B8-4096-8C58-7402427F9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46DDC-39B1-454C-8B2E-D0DF03D66D0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C4BF5-45F2-4AD8-82F1-D35F75C8C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D222-9876-4CF9-AE1F-EC3A0B8D3D6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A5DE5-DD85-4A54-89C4-B662B2CD0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DFA28-B01B-46D4-A269-F7CEEF87918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FF85C-8C37-4EB2-812A-F70CC0CE3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9C520-6BE8-47BD-87B3-02EAE83A50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0F70E-EBA5-49ED-8A0C-2B49AE7DF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9EF89-BF05-4845-A562-A951365254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5AA4A-8E8B-4957-AC13-F893C64D1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75F00-2781-4FF6-8E11-F43DF513BFC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E023F-F8B5-4BCB-83EC-26EAF514C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C66A5-CB67-4F20-9052-7F1562E2319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3214F-3EE0-4654-AF22-B9AA94D2F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4970-C432-4C22-9D2D-7710FC8A4A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8AEE-912F-4C46-BFEC-8990CBC6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88F1-E1CF-4242-BA6C-3212992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EB1A-95AE-49FD-96B1-C80B8C463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69A27-2C35-4EEB-B3F3-6C0105AD44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B9AD-AFD2-4A78-BB50-E272944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C6CD6-A972-4FD4-A2B6-8B7A8872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C365E-CFAD-48B5-B5B7-350C3FA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9D296-6FBE-4E46-87EE-BB1414EB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4ED62-2AE2-4C06-AAE3-F95FEA85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048DC-FA8E-4ADA-AA6C-5351C30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8CBD-27BB-41C8-8B3D-40327D88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D89F2-2626-4B25-886C-3CF71A7B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DD97A-F335-4937-B56A-E835D0BB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B06E4-6834-4D20-8856-3F91C8D1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5C90-1168-438C-A63F-A54F1110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521E6-7C3B-47A9-9B1D-54B7111CB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279-094E-4185-86F5-86E5A68DF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222B-B3C0-4B24-BF1B-D99468E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701-5BC5-4A27-9776-5BDE507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916B-5D42-4D9B-A223-9230CE6C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125C-41FE-4E1A-B7B1-251EA4B4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091D-3781-47DE-89D3-A474D68F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C739-127B-4818-8228-C4882CE0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B254-17AD-4B23-B6B1-4DB2CEA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0B9F-5A22-40C9-A0BF-0FB2425E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D6D8-E8B0-44F0-845F-B7497AC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E329-8F83-48F4-8DDE-DAE64D55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851C-C767-405B-B755-3BA6461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3DCD-3AFE-4F1E-BB76-EAF317AD4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EDEA4-8486-4C08-9EFC-C5E820881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9302B-B025-47BA-B4E1-98684679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D4C4E-554E-47C9-80E5-B3EAD520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374E-0AC7-4359-A75C-66EF421F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62D62-1F31-4ACE-B747-8AA2F49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8E667-1E13-49AD-9BC7-D381E4C9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8C045-2A25-4168-81BF-1B0FAEC6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E0B04-0499-4EDD-B732-93FC6EF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D4CAD-5CF6-4E10-A445-0C1CF33A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1AB77-3BE0-4457-A1F6-7D2C7292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CB78B-18D6-4B77-87D2-675DB5C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815BF-FDEA-4C39-A879-F05D187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4FDB9-4B70-4F7B-B2F5-7BEE95D55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CC532-30C1-4BFA-8B68-B12F20BFEC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9CD8-86B6-4A4C-A26D-6B787AC3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356B5-E10D-4293-B286-74AA315A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9ABC0-CDA5-49EB-9830-A0920A76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CE982-09E2-4869-8F8B-137600C0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51250-8619-4F43-BDAA-37DB2048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B0F42-57E4-4AA4-9A80-1274EFC7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0C1A4-1E7D-43D9-BD83-C910630B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2E7B8-0FB2-4320-A468-119066E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A451A-9DE2-4B8F-AF9F-56EA2AB4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9CD05-6E5A-4FCD-83D4-0582D1A4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5EF27-EF0E-4526-BF6A-1D1F8D4E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CE6F-FD0D-4D16-97C7-C3BCDCFA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4E129-DCA4-43B7-A4CB-2E89C90AC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98CB-883F-432C-BA8B-F0242F272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51B3-E308-4B9B-BA5A-241EB2E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7A8C-715E-4A34-83AD-50182F90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9D93-B694-4DD4-BA2E-85F1FE8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4805-C37C-43F6-8B32-16C148FC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7E41-2E2A-4549-9043-5A67AD0B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C468-4F64-49F4-8B98-FFBC2FE0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3A94B-F42F-4AA4-9C5A-5F20C8A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1BE22-E9D0-4ABD-B845-D328DD58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7018-6EC1-414D-9D28-943774E6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376F-71B3-451C-8BCB-589AFE65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5D9C-3106-4998-9120-588806A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C101-C82A-49B6-8D59-6F71FAFDC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8F1D4-CD53-4F23-86D0-40C5F5620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B3C01-798E-4099-976C-D67A8C81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1B916-A282-4042-8D3B-3EC077EA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BA5AC-CBAF-4868-9176-065EA28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DD460-18AC-449C-9C11-C0E56DF6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C5225-DE74-406E-8A1E-1CECA406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FBB4E-CBB2-484F-A4AA-93205467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B2C1-E683-48B8-A04D-FB539ED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37E71-9262-4693-9B3C-B5050CE6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51561-D451-4727-90F6-78FB448F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E5416-46E0-474A-9D34-FDBD8E74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068CC-DADD-4638-96EE-041798B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775DD-A2A1-44EF-A7FD-3EF075ED2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C24F-EA1F-4425-B503-BF3A2CC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60E6B-899B-43D9-AE50-DA2BE565BF7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F384D6-499A-4C5C-B9E3-15ACD56D670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39C55D-6794-4696-8666-6FEDDB50D7F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20CBD6-B494-4AF3-B2AB-D1E6F9ED591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543BBD-BACD-477C-B625-04666289E62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D472B8-E3B4-4087-9C3D-EBE43BEBD14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25099E-9EA8-4F79-8D02-DD02C7B8304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Автор: Беляева С.Л., МБОУ СОШ №1 г.о.Красноармейск МО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-776160" y="-447840"/>
            <a:ext cx="10698120" cy="77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Admin</cp:lastModifiedBy>
  <dcterms:modified xsi:type="dcterms:W3CDTF">2012-09-30T12:54:33Z</dcterms:modified>
  <cp:revision>26</cp:revision>
  <dc:subject/>
  <dc:title>Слайд 1</dc:title>
</cp:coreProperties>
</file>