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0341C-FCE2-4C3D-84C8-67ECF2B712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F10D5-7F30-4928-BB0D-9CD73B01FB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DBB4D-44CD-4D47-9F1F-4689147DC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63D05-25A0-4F99-BC3F-555A8980C39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E2E19-4FA5-4A0E-8597-21C514A66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C8924-BF45-477E-8E97-93B9D385D6E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87585-345C-4D80-9E05-2944AA963E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E3C61-3F2A-45B5-9563-97CD104F164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D7D9B-4E3E-416F-8DD1-20868DFF8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A3A37-7C11-4BA2-A33D-10C2C5CD3E6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F080A-C46E-4056-8C13-517348F97F3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86CB7-8570-487D-BAE7-EC28BFB62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5219A-83A8-404F-9625-FB4DFF1C25F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A7AF9-5086-4B18-86C7-86464386A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5BB24-1B2D-46EC-85B6-19CA1871B67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0000F-9A57-4664-9F9B-9754048D0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C3B25-FBA5-4DE3-A3EE-653E1E60B0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D12DB-102E-470A-B070-A65CE55F1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7E305-2EDF-4DFA-B011-3C11FF1B9C7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67A4-36DA-4B26-9BE0-33B4C8D94E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1E36D-A92F-41CB-B57A-9353F5DFD2A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2924D-C0A9-4EA9-9C55-FECC07D41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6744F-9AD3-4CA8-924B-A5508874FA1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7C5AF-EE62-47C1-8019-999378851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CB3BD-36CF-45E6-8EF0-EFE2D73E5D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FF174-4963-418D-A69F-870BA9CF5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6BD93-93EC-4F4B-9E25-D5966D476E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07C4-BDF5-48CF-B086-C62E37AF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D33D-0B2F-4FD4-84E9-FAD0CE55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7E96-DF8B-492A-80BF-965224A3F0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6DE1B-0563-4E51-8000-950547A55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99A5F-DB35-4D37-9373-3FCB20BB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692A2-A780-4EB1-A7BE-47B045F0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10081-B4BA-4882-A9BD-0A50B677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AEC5A-58EA-4813-B0BA-B5430B8C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7B126-AA0C-429C-BFC5-530B802A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0CBFE-92B8-4437-9772-BE4ADFE9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66D3-9503-4A12-844C-900CFF57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95DD8-1CD7-46D0-AB42-C4FBFB1E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13CF3-6CF8-4513-9078-A7A4643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770A2-A766-4AFC-8E75-7B033653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58DE9-5AA2-4939-A997-AF3C0636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4ED3C-9450-4368-B24D-E98560F458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B923-9F48-4487-B8D8-01322E475F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BF98-BECF-4C41-A93C-40808646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04C5-4CCB-453B-9FE1-0B31695A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1B16-70EA-4CC2-8B62-016976F7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B508-9DC1-45AD-96DA-3163207D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26A67-5A4A-4C63-A6A4-A831A449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CD57-5C4C-4AB7-99C6-DC9D7B87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F6F2-87EC-4F5E-B510-67E820F5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5DD8-083F-4D7B-9BF0-A496D36F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DE9B-BABF-4713-B2C9-76811B6E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E5B8-EB56-4D95-8753-A147ECAB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AABE-2D72-412E-A462-998D033A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3835-C57E-4DFA-9F9A-198A8403DC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A6D9E-03DA-4473-A8F1-9BE349E76A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4E18F-4B07-4B59-9068-071CB825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5F9D2-EF0F-4C7D-9229-8A64004D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06AB-D4C4-446F-AD8C-F4BAAEAD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7E1FC-F362-49C3-86B4-71BF2CB0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2854D-3BCF-4602-848D-8B86B8B6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B4F2A-D704-482B-9EED-AC134807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B3E69-3E02-4159-87D1-83946917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02650-DC1C-4DCA-AF97-93D81153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2B7ED-E3B0-4C24-94BE-303B234F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43B3A-9A9E-489C-9A5E-EA5B037E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55ED1-2DC5-4A46-B41A-2D8B5F54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EE56C-1BA9-4F69-93F8-51DA1EFEE6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B8708-095D-443B-AD8F-3735406B0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FD26-B24B-4DAE-A054-FF6C4C14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A9E36-165D-44EF-B7E4-622A5EDA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0AD9A-F2D4-4126-824A-F20D7B59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FA9EC-4B02-41AA-BEBD-26A1200F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2FF743-989C-40CF-AEEA-BB7B112D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5CDEA-42A9-4380-9C01-BF88F69B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E7D47-C2DE-48DE-8832-6C40F3E6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418C0-12A4-4661-9DD0-AC7D7514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4ABB3-5B7E-459B-8D38-59816420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64C1A-8A64-468B-B530-7051D3B0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279AAC-9F04-4E56-8217-635C276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9C132-195F-4B01-A9FD-4A9A0F33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A4D85-91CE-4161-9525-89A2EEAC3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2B5E3-3091-4079-8A40-F0F854B99C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20A1-A2F8-4A6C-9871-40294697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5892E-DE6B-4EED-A15B-7DF66048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A8B2-4980-4127-9A11-FFD28DDB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CCBF-260B-4229-8BC8-03355541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FB1D-2EDB-41FE-B509-AA837555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074C-9E32-4F23-B63C-58D20012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4C57-022E-4D61-816A-EE24EFAB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B52F-8564-45E0-B251-23A47143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B24D-5B00-45E7-AE20-5773E2AB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92708-EAC9-4EF0-8ADF-96B3739B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5997-BD02-463F-9DBE-E8BAD70D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BD3C-B590-440C-8DD1-26DEAAC84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0ED45-B3C5-46C2-8071-AF8CCF5158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4E436-CDFC-4B7A-A001-18C8E31E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03EDB-A1FD-4BB0-AAF0-7594EC6F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A730B-60C4-48F0-93E0-0644F99A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A369C-C818-459B-A540-DFB458C2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7D8866-2DBC-493B-84CF-D081F4B1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09E56-F202-48A2-8CD3-290324ED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279B-9597-4F3A-AFAD-A73B41FB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38043-4DB1-430D-9884-86795E28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93CB8-E669-4B8E-8C26-126EF7F7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7E4CD-4703-41D5-A026-70ED626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A0702C-69AE-4B8D-A889-DD01367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EF347-48B4-40AA-96A5-571CA67F0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8613-86C6-40EF-8980-C53F836A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C6E2F-9D3C-4FBE-8CD9-D8C48551868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2CE146-E66F-4D87-9164-CD740052AD8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6EB54B-E315-4D41-AD7C-9B69BA576BD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7C3AC4-BAE0-4462-840A-8437364E267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6D6F27-3AF0-4EC5-B359-9CD925CF5F7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410495-498E-459D-B8B6-8277C786A09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F8F69B-920C-4E9E-9194-FFCDF607222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Schoolbook"/>
              </a:rPr>
              <a:t>Автор: Беляева С.Л., МБОУ СОШ №1 г.о.Красноармейск МО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1" descr=""/>
          <p:cNvPicPr/>
          <p:nvPr/>
        </p:nvPicPr>
        <p:blipFill>
          <a:blip r:embed="rId1"/>
          <a:stretch/>
        </p:blipFill>
        <p:spPr>
          <a:xfrm>
            <a:off x="-776160" y="-447840"/>
            <a:ext cx="10698120" cy="775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Admin</cp:lastModifiedBy>
  <dcterms:modified xsi:type="dcterms:W3CDTF">2012-09-30T12:54:33Z</dcterms:modified>
  <cp:revision>26</cp:revision>
  <dc:subject/>
  <dc:title>Слайд 1</dc:title>
</cp:coreProperties>
</file>