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CCA4E-9E09-4D4F-B8D6-884ADFF5DE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E5F0B-B9E6-4C73-8D99-A2200B15DBE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3D807-5BA5-40AA-8202-38F3C408E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349B9-E8BE-4C9E-88EB-A092000EC93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8E28C-1A8E-416F-AE95-C819392B6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91781-C3EB-4A19-8D7F-62B04ADFAE4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078A7-114B-4E05-90AC-1840EBA49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FFF23-B155-4794-A897-35BDDBFA989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5AAE4-629B-4220-A4D6-995EB3261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FB453-C2DD-486F-96BE-B9E263E315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32529-AC48-4F12-8743-B0AFDB1726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2C5F2-04DA-45FE-92F9-8BA18A875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A35FB-63B8-4E24-BFB7-7C17BA23AB8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3150C-B2BF-4649-A6F3-7893679CE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5CF25-6774-44CA-A5DE-589A3FB2158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A4A9A-17B1-4404-B2F6-CB8E770259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05416-DCBD-4B18-8E9D-8F9FBE2DAC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D7EEC-5BE0-4E06-BF6A-A9C008F49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E17D7-62BD-4759-99F1-4F0C52664B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25AD6-03AD-4777-88DB-284512996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F3908-96CE-4592-BA50-66E6BC92B52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875CA-ACC7-4AF4-9EDD-60E1D1B2E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47E47-F7EA-4FE1-A16F-D78F5DCC5E4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6FDC1-B7F2-4D13-98C6-DD63E7049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B1FA-0D96-4EC8-92B3-0DF01547EBE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FBAAB-60DD-4EC6-839D-0E65A461C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43A8-912F-4638-A7A0-3502D2AEE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6051-9368-4848-98CA-A0AA930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2F4F-1A07-433B-A8DE-986E315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A3CA-83B3-4A16-A8AF-CB98D6F2A3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F639-B077-4108-91B4-8211BF460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7C3F2-5E53-411F-86FE-4C48DF7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38441-7D8B-46D2-B9C4-4694EEC4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EEFFF-99EB-4CAB-992D-5D426402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3D239-DA75-4170-B708-5040AD1D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CDB88-E32A-451F-BD55-D3688269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A32AF-39BE-42B9-825E-F4C3D1AA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54C1-3043-4A06-9DFA-A525E40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E67B1-D1FB-449D-9BDA-8ED07AB2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35487-9F4B-4658-9EAA-57A6D122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EC99C-FAB1-43C9-8790-C6EDF7CC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F5ADE-7494-4A0D-93AB-234A78B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DF558-03BD-4A6F-9301-90F374C75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1A6-D914-41E1-9700-C327997AA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ECF2-01FF-454F-8C10-2D4F350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4063-1559-47BF-8BBD-3BB3FAF8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E7E0-D026-48EF-861D-8A370A0C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7C24-8654-4CE8-9F09-14163CC7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C9E4-15E1-4D56-BF2D-9950A3D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B3AD-639F-479C-B3D2-00DA8283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7175-8E58-477C-9D59-9246083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A0C4-5C9C-4139-80B7-82B6FC68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31E9-2F15-4B46-B64B-BF8F1708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3F32-65FC-4434-A1A0-8E86A55E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915C-2B7C-4989-AF52-079E8FC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BAF9-6913-4D5F-8868-2840929720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6D9AF-E580-40FC-8905-B04F212B6D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9CEAC-E441-493A-B459-B6E265CF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36A8D-6A91-4782-8B71-ADC93D8E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B633-E4A8-4BCA-AE62-7035932E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5C2BB-9E4F-48EA-9E41-9B3612DC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DE62B-87BB-4338-89D6-F5FD53BC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DAD1B-CCA3-4705-8F97-BDA81B39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265E9-E23D-40FF-B373-29BEFFE0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0E761-38E3-43B1-90D9-00E6B40C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EF5AC-3AB3-4DE7-9001-14542DD8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F7C45-166D-4104-8809-6F2E4EBB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B0FFA-510A-451E-983E-DD16EAA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2156B-D451-438B-B9E8-83AFC241C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0AEE9-FFD5-48CB-851E-6E5207806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F40E-579A-4268-9C73-597A578B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FA976-0C2D-4E96-99EF-3BC2B92C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F24BC-8EE4-4C5D-BC4A-2779FFA9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86BB5-F934-4CFE-A7F6-7737A2D4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1A327-39EC-4977-B4A8-AF540D15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43A2E-2D95-4E78-B47F-581813BF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0E363-A28D-4937-B08B-4165A71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49D60-930A-4B55-953A-289879C6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89721-1677-4C5B-B716-3C7E7092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3A9D0-66A1-4EEA-A157-CC587B1B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F4E6D-F890-46B3-8D97-395C67B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F4F5-9E49-437A-B553-1767C877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3DB38-9EAB-48FC-91D4-5F19EF80A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38C1-78BE-4F92-B330-80BF5B4630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1D5F-15FE-4B73-8C33-62E2BB20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DA6D1-C75C-49E5-8341-2A72F48C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8B02-0EE6-4A1A-974D-C0CD6A2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DA5A-7B6C-4342-8405-3AC48B5A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C65B-39A5-4499-A1D6-92DF194E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37F8-A7B0-4BF1-AF0E-86396B5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8828-DB0E-4420-8BED-9D988C08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6E9A-7192-4607-A99F-C5525AA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BF21-F887-4C2E-88E0-8E706F02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6267-CF04-4F3A-A00F-D1B6D2C8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ED16-1333-498A-93DD-2C4F80B9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C3EC4-846A-43AE-94D3-7876234539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89F4E-1F29-42D9-A541-B27DBBDDD8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5D61A-749B-4EF7-A154-D60A9C7C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BD69E-DA34-434A-A120-A2A3AD4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769CA-C072-4FF9-9145-335A088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30662-9923-4917-9471-89262BA0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FA136-A549-40F4-91FC-F7407551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97E69-B84D-4370-BB20-8454441D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D0E0-2EE7-4325-8912-EFE7E3F5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333FB-B759-403F-A7F6-F36921D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3E55B-A481-4A85-91B6-E97F6BEA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AB98F-9B49-4694-BF42-22D6A5FB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329CC-5936-4FDB-8397-0A6EEB3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B1F1E-4162-43C6-9054-5D55857915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AA78D-66CF-47E8-A74A-A6F5EC94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E5B96-4671-4A53-A9CE-E4F1032C231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4FF654-9FDE-4FFD-A42E-2F9ED356F0D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549BFF-1F66-4FAE-853D-2B45CDA76DC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F2264F-1A6B-4A56-9075-13301E614F6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7CF706-9058-4352-9957-069C387EC58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70E341-7224-42FC-A843-D8618DBEE5F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6F931D-3600-49C7-B93E-AAB39037A5C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Автор: Беляева С.Л., МБОУ СОШ №1 г.о.Красноармейск МО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-776160" y="-447840"/>
            <a:ext cx="10698120" cy="775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Admin</cp:lastModifiedBy>
  <dcterms:modified xsi:type="dcterms:W3CDTF">2012-09-30T12:54:33Z</dcterms:modified>
  <cp:revision>26</cp:revision>
  <dc:subject/>
  <dc:title>Слайд 1</dc:title>
</cp:coreProperties>
</file>