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F4DE-2F27-4B4A-9080-E779E8791F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548-C9F6-40CE-9955-CBFD32CF9F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C8BD-00A4-48CE-9CBE-D65CE39007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14D0-BD77-40C0-8249-873E2C356C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517F-14C9-415D-AD69-616D2314320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72AE-B100-414C-ACEC-CF7D17FE6E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2FD1-6AA7-4F82-8C55-E884ADA510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C0A5-AA1A-4784-9C0C-7973E40DCE7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509-D2A2-4DE9-B5C5-FB7415A7ED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69DB-33C2-426A-903D-1F81E441D0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96B1-DCED-4FEF-A8F0-CC5875B8DF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10B3-057C-4AB9-8A4D-2758C51951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21EB-4CB8-433D-A6C8-B04E7A4F00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8F0-61DE-425B-833B-060F8A5B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F26-8234-4435-8D7C-0FD99667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F06-D8CF-4DC1-8D54-A384B788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714-9162-43BC-99E7-FC48FBB4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682-E129-4B04-BE45-1A019D38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397-B615-4BE7-A19C-8CFD2D24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B45-F017-42C0-AC5E-D9BC6B53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633-84B2-48DD-9B9C-3577A1BD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658-7E03-4510-837E-FFE82CD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D4D-CEF6-4588-B3D5-92EA65F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39C-9143-4A73-900F-4E350598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E56-8EF9-464F-8EE0-B7F3935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E76F-5993-485F-B91A-268A125B9D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360" y="1341360"/>
            <a:ext cx="374328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Е ЧЕЛОВЕ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СТИ ЖИЗНЕОБЕСПЕЧ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00320" y="4385880"/>
            <a:ext cx="3957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резентация к уроку ОБЖ в 5 классе преподавателя-организатора ОБЖ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огребняка Сергея Федоровича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Нижегородской области, г. Бор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4" descr="0d2aea9ee10c.jpg"/>
          <p:cNvPicPr/>
          <p:nvPr/>
        </p:nvPicPr>
        <p:blipFill>
          <a:blip r:embed="rId1"/>
          <a:srcRect l="14998" t="0" r="26249" b="0"/>
          <a:stretch/>
        </p:blipFill>
        <p:spPr>
          <a:xfrm>
            <a:off x="0" y="-4680"/>
            <a:ext cx="44244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Овальная выноска 13"/>
          <p:cNvSpPr/>
          <p:nvPr/>
        </p:nvSpPr>
        <p:spPr>
          <a:xfrm>
            <a:off x="3071880" y="1428840"/>
            <a:ext cx="500040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аша задача сейчас, разбившись на группы, перечислить как можно больше опасных ситуаций, которые могут возникнуть у нас до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50020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ПАСНЫЕ СИТУАЦИИ В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0" y="1571760"/>
          <a:ext cx="6095880" cy="4214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ух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Ван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омнат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115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Овальная выноска 13"/>
          <p:cNvSpPr/>
          <p:nvPr/>
        </p:nvSpPr>
        <p:spPr>
          <a:xfrm>
            <a:off x="785880" y="2286000"/>
            <a:ext cx="5000400" cy="1214280"/>
          </a:xfrm>
          <a:prstGeom prst="wedgeEllipseCallout">
            <a:avLst>
              <a:gd name="adj1" fmla="val 59472"/>
              <a:gd name="adj2" fmla="val 77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истематизируем наши знания и заполним табли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857160" y="10717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ЧНИКИ ОПАСНЫХ СИТУАЦИЙ В ЖИЛИЩЕ И ИХ ПРИ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42960" y="1714680"/>
          <a:ext cx="5857920" cy="4143240"/>
        </p:xfrm>
        <a:graphic>
          <a:graphicData uri="http://schemas.openxmlformats.org/drawingml/2006/table">
            <a:tbl>
              <a:tblPr/>
              <a:tblGrid>
                <a:gridCol w="2114640"/>
                <a:gridCol w="3743280"/>
              </a:tblGrid>
              <a:tr h="782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опасных ситуаций в жи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х пр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0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TextBox 6"/>
          <p:cNvSpPr/>
          <p:nvPr/>
        </p:nvSpPr>
        <p:spPr>
          <a:xfrm>
            <a:off x="785880" y="26319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жа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42960" y="30970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ажение электрическим то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642960" y="374976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42960" y="433224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топ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42960" y="47973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равление (газом или химическими веществ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42960" y="53420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ение строительных констру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2786040" y="25416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ая электропроводка, техника, неосторожное обращение с огнем, утечка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2786040" y="310212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облюдение инструкций, неисправность в электротехни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786040" y="3643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ость газовой плиты, невыключенная плита, оставление рабочий плиты без присмотр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2786040" y="4214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ыв трубы, батареи; стиральная машина, оставленная без присмотра; незакрытый к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2786040" y="4786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сторожное обращение, нарушение инструкций, нарушение правил хранения, халат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2786040" y="5357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, землетрясение, аварии в подземных коммуникац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4" name="Овальная выноска 13"/>
          <p:cNvSpPr/>
          <p:nvPr/>
        </p:nvSpPr>
        <p:spPr>
          <a:xfrm>
            <a:off x="3000240" y="1285920"/>
            <a:ext cx="500076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умывались ли вы раньше о том, сколько опасных ситуаций может возникнуть у нас под боком, в нашем жилищ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TextBox 8"/>
          <p:cNvSpPr/>
          <p:nvPr/>
        </p:nvSpPr>
        <p:spPr>
          <a:xfrm>
            <a:off x="4143240" y="16286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3857760" y="3071880"/>
            <a:ext cx="4143240" cy="6429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3857760" y="3857760"/>
            <a:ext cx="4143240" cy="6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3857760" y="4714920"/>
            <a:ext cx="4143240" cy="6429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1" name="Овальная выноска 13"/>
          <p:cNvSpPr/>
          <p:nvPr/>
        </p:nvSpPr>
        <p:spPr>
          <a:xfrm>
            <a:off x="3071880" y="2214720"/>
            <a:ext cx="5000400" cy="135720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е пословицы и попробуйте проиллюстрировать ее приме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8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4929120" y="38685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1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3392640" y="429264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Выиграешь секунду – потеряешь жиз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4932360" y="47973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2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3419640" y="522936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Беда вымучит, беда и вылечи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785880" y="1285920"/>
            <a:ext cx="7500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А.Т.Смирнов, Б.О. Хренников; под общей редакцией А.Т.Смирнова. – 5-е изд. – М.: - Просвещение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М.П.Фролов, Е.Н.Литвинов, А.Т.Смирнов и др.; под общей редакцией Ю.Л.Воробьева. – 2-е изд. , испр. и дополн.– М.: АСТ: Астрель, 2007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p://s59.radikal.ru/i166/0906/6f/0d2aea9ee10c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ancienthistory.spb.ru/images/pervobyt/264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moda-history.ru/files/perv_costume/110209/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vokrugmira.com/images/foto/2006/08/01/0000000409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ob.ru/upimg/issue/20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day.ru/uploads/posts/1181786626_551029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hkolazhizni.ru/img/content/i11/11964_or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rc.lv/images/qna/428699_373972.jp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tarinism.ru/shop/products_pictures/sp_iron007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ar-roo.ru/cvr/graf/3/hist2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goodclipart.ru/files/preview/BUILDINGS_CITY/REALEST2/RL1610.p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dvk.ru/i/Gustavsberg/Basic-390392/00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grand-rozetki.ru/images/valena/old/images_valena/legrand_valena_77442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ifinews.ru/image/tema/pdp55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techguru.ru/foto/music_centers/lg_lm-k6530x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214280" y="5000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ЛИТЕРАТУРА 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нова с вами я -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, наверное, помните, что на прошлом уроке мы говорили о городе и его опасностя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Овальная выноска 5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гда я вам предлагаю ответить на вопросы маленького те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786040" y="1643040"/>
          <a:ext cx="5595840" cy="4214880"/>
        </p:xfrm>
        <a:graphic>
          <a:graphicData uri="http://schemas.openxmlformats.org/drawingml/2006/table">
            <a:tbl>
              <a:tblPr/>
              <a:tblGrid>
                <a:gridCol w="2798640"/>
                <a:gridCol w="2797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Источники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Зоны повышенной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6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57" name="TextBox 9"/>
          <p:cNvSpPr/>
          <p:nvPr/>
        </p:nvSpPr>
        <p:spPr>
          <a:xfrm>
            <a:off x="3214800" y="25876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071880" y="3249720"/>
            <a:ext cx="20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Железные доро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071880" y="38718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производств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071880" y="45450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грязнение окружающей сред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071880" y="522288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правонаруш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5715000" y="244944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адионы, места массовых развлеч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816520" y="3254400"/>
            <a:ext cx="23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окзалы, рын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5929200" y="38322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воры, пустыри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брошенные дом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5857920" y="465444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ьные трас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5429160" y="5164200"/>
            <a:ext cx="2954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реходы через железнодорожные 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мвайные пу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, а теперь, разделившись на команды, попробуйте отгадать мою шараду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едложенных слов составьте предложение и запишите его в тетрад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9"/>
          <p:cNvSpPr/>
          <p:nvPr/>
        </p:nvSpPr>
        <p:spPr>
          <a:xfrm>
            <a:off x="307188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307188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ДВИД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4929120" y="2928960"/>
            <a:ext cx="1714680" cy="500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4929120" y="3571920"/>
            <a:ext cx="1714680" cy="5000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678672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678672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347E-006 C 0.0151 -0.04859 0.03038 -0.09718 0.00069 -0.11777 C -0.029 -0.1386 -0.14393 -0.14392 -0.17796 -0.12402 C -0.21181 -0.10389 -0.20782 -0.05114 -0.20348 0.00208 E">
                                      <p:cBhvr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0208 C -0.00277 -0.0324 -0.0052 -0.06688 0.00365 -0.08841 C 0.01251 -0.10993 0.02101 -0.12034 0.05313 -0.12682 C 0.08525 -0.1333 0.17101 -0.14927 0.19636 -0.12798 C 0.22171 -0.10669 0.20365 -0.02037 0.20521 0.00116 E">
                                      <p:cBhvr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347 C -0.0125 -0.07288 -0.02257 -0.14924 0.004 -0.18626 C 0.03056 -0.22328 0.12292 -0.23554 0.15677 -0.21934 C 0.19063 -0.20315 0.19879 -0.14623 0.20712 -0.08931 E">
                                      <p:cBhvr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94633E-006 C 0.01007 0.06917 0.02014 0.13833 -0.00174 0.1728 C -0.02361 0.20727 -0.07135 0.20056 -0.13125 0.20634 C -0.19115 0.21213 -0.31441 0.22554 -0.36076 0.2075 C -0.40712 0.18946 -0.40833 0.14389 -0.40955 0.09855 E">
                                      <p:cBhvr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579 C 0.01336 0.0391 0.02708 0.07264 -0.00209 0.08929 C -0.03125 0.10595 -0.14115 0.11983 -0.175 0.10549 C -0.20886 0.09114 -0.2073 0.04719 -0.20556 0.00347 E">
                                      <p:cBhvr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486 C -0.01649 0.04141 -0.02951 0.07819 0.00625 0.09762 C 0.04202 0.11705 0.14775 0.11913 0.21146 0.12191 C 0.27518 0.12469 0.35591 0.13325 0.38889 0.11381 C 0.42188 0.09438 0.40625 0.02406 0.40973 0.00602 E">
                                      <p:cBhvr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лично справились с задание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теперь послушайте стихи и ответьте мне – о чем сегодня пойдет реч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 ЧЕМ ЭТИ СТИХИ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86040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Овальная выноска 9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т мой дом, моя квартир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есь учусь, играю, сп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ветьте мне, ребя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безопасности жив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22640" y="152208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Box 6"/>
          <p:cNvSpPr/>
          <p:nvPr/>
        </p:nvSpPr>
        <p:spPr>
          <a:xfrm>
            <a:off x="3446640" y="2682720"/>
            <a:ext cx="465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Е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И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ЗНЕОБЕСПЕ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8" descr="00000004091.jpg"/>
          <p:cNvPicPr/>
          <p:nvPr/>
        </p:nvPicPr>
        <p:blipFill>
          <a:blip r:embed="rId2"/>
          <a:stretch/>
        </p:blipFill>
        <p:spPr>
          <a:xfrm>
            <a:off x="2071800" y="2055960"/>
            <a:ext cx="4929120" cy="30877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5" descr="человек.gif"/>
          <p:cNvPicPr/>
          <p:nvPr/>
        </p:nvPicPr>
        <p:blipFill>
          <a:blip r:embed="rId3"/>
          <a:stretch/>
        </p:blipFill>
        <p:spPr>
          <a:xfrm>
            <a:off x="539640" y="1341360"/>
            <a:ext cx="2571840" cy="43210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Рисунок 2" descr="ad3a789759de.png"/>
          <p:cNvPicPr/>
          <p:nvPr/>
        </p:nvPicPr>
        <p:blipFill>
          <a:blip r:embed="rId4"/>
          <a:stretch/>
        </p:blipFill>
        <p:spPr>
          <a:xfrm>
            <a:off x="5572080" y="278604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6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ДРЕВНЕГО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Рисунок 8" descr="11964_or.jpg"/>
          <p:cNvPicPr/>
          <p:nvPr/>
        </p:nvPicPr>
        <p:blipFill>
          <a:blip r:embed="rId2"/>
          <a:stretch/>
        </p:blipFill>
        <p:spPr>
          <a:xfrm>
            <a:off x="1785960" y="2033640"/>
            <a:ext cx="4929120" cy="35528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10" descr="утюг.gif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11280" y="1125360"/>
            <a:ext cx="1571400" cy="16495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9" descr="лампа.gif"/>
          <p:cNvPicPr/>
          <p:nvPr/>
        </p:nvPicPr>
        <p:blipFill>
          <a:blip r:embed="rId4"/>
          <a:stretch/>
        </p:blipFill>
        <p:spPr>
          <a:xfrm>
            <a:off x="611280" y="2886120"/>
            <a:ext cx="1382760" cy="294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Рисунок 2" descr="ad3a789759de.png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TextBox 11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ЧЕЛОВЕКА НАЧАЛ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Рисунок 6" descr="2022.jpg"/>
          <p:cNvPicPr/>
          <p:nvPr/>
        </p:nvPicPr>
        <p:blipFill>
          <a:blip r:embed="rId2"/>
          <a:stretch/>
        </p:blipFill>
        <p:spPr>
          <a:xfrm>
            <a:off x="1947960" y="1752480"/>
            <a:ext cx="5214960" cy="38023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2" descr="ad3a789759de.png"/>
          <p:cNvPicPr/>
          <p:nvPr/>
        </p:nvPicPr>
        <p:blipFill>
          <a:blip r:embed="rId3"/>
          <a:stretch/>
        </p:blipFill>
        <p:spPr>
          <a:xfrm>
            <a:off x="55483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8" descr="ТЕЛЕВИЗОР.gif"/>
          <p:cNvPicPr/>
          <p:nvPr/>
        </p:nvPicPr>
        <p:blipFill>
          <a:blip r:embed="rId4"/>
          <a:stretch/>
        </p:blipFill>
        <p:spPr>
          <a:xfrm>
            <a:off x="1785960" y="4429080"/>
            <a:ext cx="2143080" cy="150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extBox 9"/>
          <p:cNvSpPr/>
          <p:nvPr/>
        </p:nvSpPr>
        <p:spPr>
          <a:xfrm>
            <a:off x="2000160" y="10717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 СОВРЕМЕННОГО 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10" descr="УМЫВАЛЬНИК.gif"/>
          <p:cNvPicPr/>
          <p:nvPr/>
        </p:nvPicPr>
        <p:blipFill>
          <a:blip r:embed="rId5"/>
          <a:stretch/>
        </p:blipFill>
        <p:spPr>
          <a:xfrm>
            <a:off x="5045040" y="4686480"/>
            <a:ext cx="1123920" cy="1218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11" descr="ПЛИТА.gif"/>
          <p:cNvPicPr/>
          <p:nvPr/>
        </p:nvPicPr>
        <p:blipFill>
          <a:blip r:embed="rId6"/>
          <a:stretch/>
        </p:blipFill>
        <p:spPr>
          <a:xfrm>
            <a:off x="4324320" y="4624560"/>
            <a:ext cx="906480" cy="1326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Рисунок 12" descr="УНИТАЗ.gif"/>
          <p:cNvPicPr/>
          <p:nvPr/>
        </p:nvPicPr>
        <p:blipFill>
          <a:blip r:embed="rId7"/>
          <a:stretch/>
        </p:blipFill>
        <p:spPr>
          <a:xfrm>
            <a:off x="3683160" y="4624560"/>
            <a:ext cx="736560" cy="13460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7" descr="человек 2.gif"/>
          <p:cNvPicPr/>
          <p:nvPr/>
        </p:nvPicPr>
        <p:blipFill>
          <a:blip r:embed="rId8"/>
          <a:stretch/>
        </p:blipFill>
        <p:spPr>
          <a:xfrm>
            <a:off x="539640" y="1628640"/>
            <a:ext cx="2286000" cy="433080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Овальная выноска 13"/>
          <p:cNvSpPr/>
          <p:nvPr/>
        </p:nvSpPr>
        <p:spPr>
          <a:xfrm>
            <a:off x="3357720" y="2214720"/>
            <a:ext cx="2714400" cy="2071440"/>
          </a:xfrm>
          <a:prstGeom prst="wedgeEllipseCallout">
            <a:avLst>
              <a:gd name="adj1" fmla="val 64268"/>
              <a:gd name="adj2" fmla="val 71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всегда ли мы выполняем обязательные правила безопасност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Рисунок 5" descr="замок.gif"/>
          <p:cNvPicPr/>
          <p:nvPr/>
        </p:nvPicPr>
        <p:blipFill>
          <a:blip r:embed="rId3"/>
          <a:stretch/>
        </p:blipFill>
        <p:spPr>
          <a:xfrm>
            <a:off x="785880" y="1158840"/>
            <a:ext cx="250020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TextBox 6"/>
          <p:cNvSpPr/>
          <p:nvPr/>
        </p:nvSpPr>
        <p:spPr>
          <a:xfrm>
            <a:off x="3286080" y="142884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Николай</cp:lastModifiedBy>
  <dcterms:modified xsi:type="dcterms:W3CDTF">2013-04-25T12:19:50Z</dcterms:modified>
  <cp:revision>107</cp:revision>
  <dc:subject/>
  <dc:title>ЖИЛИЩЕ ЧЕЛОВЕКА  ОСОБЕННОСТИ ЖИЗНЕОБЕСПЕЧЕНИЯ  ЖИЛИЩА</dc:title>
</cp:coreProperties>
</file>