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1.jpeg" ContentType="image/jpeg"/>
  <Override PartName="/ppt/media/image9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1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FCB58-181A-4222-943F-2854BEA9AE9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F4548-C609-4335-A659-B13FC9C6FC9D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E515C-1D3E-4C6E-A3BD-EFC69DD373D6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E57C1-2EE5-4C19-B31C-C3196BC3DB8A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1A52F-5307-4EAE-B150-70B7DF1C7452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43D1C-D61D-4B1F-B7C5-7F9EC70C43B6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6C2CF-7C4F-4847-90C5-DE1E6BC8E0B1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784F3-A2DF-4865-8020-490022C3AD76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5810F-7744-4B3E-9D3E-D2858F2479C4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B6245-2858-4C3D-A723-C03D897D0E0A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2E95B-BBDF-4487-AB93-732524F555A0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924BB-4445-4E06-B2D5-E831FFE3D510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2D2CD-C86E-421F-A0A8-73F10024417D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15386-67A8-401E-9A7F-87862057A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2C9E7-18C2-49E8-B052-32D80FA6B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396C0-68C7-4E8D-B9F5-22906A76C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ECB0F-A376-4F61-9E7D-0FEAE2189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2F2CA-AABC-4763-903D-956A76CD1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96FD1-3A9B-4742-A298-2CA9804D6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16CAA-0268-447E-9003-8400ACEAC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EF2D2-BCB1-4BF5-96AF-C37707334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82D57-160F-403B-9CAC-04A38008F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B59FD-D16D-4E95-B229-53F7BCE46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6288B-88B3-4ED9-9816-3819F69B5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96D01-DFBE-421E-9615-DEC77100A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DF76D-55FB-406B-8970-B900D16D8627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1.jpeg"/><Relationship Id="rId3" Type="http://schemas.openxmlformats.org/officeDocument/2006/relationships/image" Target="../media/image7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932360" y="1341360"/>
            <a:ext cx="3743280" cy="302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ЖИЛИЩЕ ЧЕЛОВЕКА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ОСОБЕННОСТИ ЖИЗНЕОБЕСПЕЧЕНИЯ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ЖИЛИЩА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900320" y="4385880"/>
            <a:ext cx="3957480" cy="132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Calibri"/>
              </a:rPr>
              <a:t>Презентация к уроку ОБЖ в 5 классе преподавателя-организатора ОБЖ</a:t>
            </a:r>
            <a:endParaRPr b="0" lang="en-US" sz="15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Calibri"/>
              </a:rPr>
              <a:t>Погребняка Сергея Федоровича</a:t>
            </a:r>
            <a:endParaRPr b="0" lang="en-US" sz="15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Calibri"/>
              </a:rPr>
              <a:t>МОУ СОШ №1</a:t>
            </a:r>
            <a:endParaRPr b="0" lang="en-US" sz="15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Calibri"/>
              </a:rPr>
              <a:t>Нижегородской области, г. Бор</a:t>
            </a:r>
            <a:endParaRPr b="0" lang="en-US" sz="15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0" name="Рисунок 4" descr="0d2aea9ee10c.jpg"/>
          <p:cNvPicPr/>
          <p:nvPr/>
        </p:nvPicPr>
        <p:blipFill>
          <a:blip r:embed="rId1"/>
          <a:srcRect l="14998" t="0" r="26249" b="0"/>
          <a:stretch/>
        </p:blipFill>
        <p:spPr>
          <a:xfrm>
            <a:off x="0" y="-4680"/>
            <a:ext cx="4424400" cy="68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C:\Documents and Settings\Sergey_2\Мои документы\Мои рисунки\РАЗНОЕ\ДОСКА Копировать.gif"/>
          <p:cNvPicPr/>
          <p:nvPr/>
        </p:nvPicPr>
        <p:blipFill>
          <a:blip r:embed="rId1"/>
          <a:stretch/>
        </p:blipFill>
        <p:spPr>
          <a:xfrm>
            <a:off x="198360" y="285840"/>
            <a:ext cx="8778960" cy="62150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12" name="Овальная выноска 13"/>
          <p:cNvSpPr/>
          <p:nvPr/>
        </p:nvSpPr>
        <p:spPr>
          <a:xfrm>
            <a:off x="3071880" y="1428840"/>
            <a:ext cx="5000400" cy="2214360"/>
          </a:xfrm>
          <a:prstGeom prst="wedgeEllipseCallout">
            <a:avLst>
              <a:gd name="adj1" fmla="val -57319"/>
              <a:gd name="adj2" fmla="val 49745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Ваша задача сейчас, разбившись на группы, перечислить как можно больше опасных ситуаций, которые могут возникнуть у нас дом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Box 6"/>
          <p:cNvSpPr/>
          <p:nvPr/>
        </p:nvSpPr>
        <p:spPr>
          <a:xfrm>
            <a:off x="2500200" y="1000080"/>
            <a:ext cx="557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ОПАСНЫЕ СИТУАЦИИ В ЖИЛИЩ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2286000" y="1571760"/>
          <a:ext cx="6095880" cy="4214520"/>
        </p:xfrm>
        <a:graphic>
          <a:graphicData uri="http://schemas.openxmlformats.org/drawingml/2006/table">
            <a:tbl>
              <a:tblPr/>
              <a:tblGrid>
                <a:gridCol w="2031840"/>
                <a:gridCol w="2032200"/>
                <a:gridCol w="2031840"/>
              </a:tblGrid>
              <a:tr h="623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 групп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«Кухня»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 групп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«Ванна»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3 групп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«Комната»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064a2"/>
                    </a:solidFill>
                  </a:tcPr>
                </a:tc>
              </a:tr>
              <a:tr h="512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</a:tr>
              <a:tr h="512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3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</a:tr>
              <a:tr h="512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4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</a:tr>
              <a:tr h="512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2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</a:tr>
            </a:tbl>
          </a:graphicData>
        </a:graphic>
      </p:graphicFrame>
      <p:pic>
        <p:nvPicPr>
          <p:cNvPr id="115" name="Рисунок 5" descr="ad3a789759de.png"/>
          <p:cNvPicPr/>
          <p:nvPr/>
        </p:nvPicPr>
        <p:blipFill>
          <a:blip r:embed="rId2"/>
          <a:stretch/>
        </p:blipFill>
        <p:spPr>
          <a:xfrm>
            <a:off x="324000" y="2819520"/>
            <a:ext cx="3228840" cy="4038480"/>
          </a:xfrm>
          <a:prstGeom prst="rect">
            <a:avLst/>
          </a:prstGeom>
          <a:ln w="0">
            <a:noFill/>
          </a:ln>
          <a:effectLst>
            <a:outerShdw dist="103859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2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2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C:\Documents and Settings\Sergey_2\Мои документы\Мои рисунки\РАЗНОЕ\ДОСКА Копировать.gif"/>
          <p:cNvPicPr/>
          <p:nvPr/>
        </p:nvPicPr>
        <p:blipFill>
          <a:blip r:embed="rId1"/>
          <a:stretch/>
        </p:blipFill>
        <p:spPr>
          <a:xfrm>
            <a:off x="198360" y="285840"/>
            <a:ext cx="8778960" cy="62150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17" name="Овальная выноска 13"/>
          <p:cNvSpPr/>
          <p:nvPr/>
        </p:nvSpPr>
        <p:spPr>
          <a:xfrm>
            <a:off x="785880" y="2286000"/>
            <a:ext cx="5000400" cy="1214280"/>
          </a:xfrm>
          <a:prstGeom prst="wedgeEllipseCallout">
            <a:avLst>
              <a:gd name="adj1" fmla="val 59472"/>
              <a:gd name="adj2" fmla="val 77745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Давайте систематизируем наши знания и заполним таблицу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Box 4"/>
          <p:cNvSpPr/>
          <p:nvPr/>
        </p:nvSpPr>
        <p:spPr>
          <a:xfrm>
            <a:off x="857160" y="1071720"/>
            <a:ext cx="742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ИСТОЧНИКИ ОПАСНЫХ СИТУАЦИЙ В ЖИЛИЩЕ И ИХ ПРИЧИН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42960" y="1714680"/>
          <a:ext cx="5857920" cy="4143240"/>
        </p:xfrm>
        <a:graphic>
          <a:graphicData uri="http://schemas.openxmlformats.org/drawingml/2006/table">
            <a:tbl>
              <a:tblPr/>
              <a:tblGrid>
                <a:gridCol w="2114640"/>
                <a:gridCol w="3743280"/>
              </a:tblGrid>
              <a:tr h="7822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Источники опасных ситуаций в жилищ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Их причины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6052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6052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5872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6052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6016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6052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pic>
        <p:nvPicPr>
          <p:cNvPr id="120" name="Рисунок 2" descr="ad3a789759de.png"/>
          <p:cNvPicPr/>
          <p:nvPr/>
        </p:nvPicPr>
        <p:blipFill>
          <a:blip r:embed="rId2"/>
          <a:stretch/>
        </p:blipFill>
        <p:spPr>
          <a:xfrm>
            <a:off x="5580000" y="2819520"/>
            <a:ext cx="3229200" cy="4038480"/>
          </a:xfrm>
          <a:prstGeom prst="rect">
            <a:avLst/>
          </a:prstGeom>
          <a:ln w="0">
            <a:noFill/>
          </a:ln>
          <a:effectLst>
            <a:outerShdw dist="103859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21" name="TextBox 6"/>
          <p:cNvSpPr/>
          <p:nvPr/>
        </p:nvSpPr>
        <p:spPr>
          <a:xfrm>
            <a:off x="785880" y="2631960"/>
            <a:ext cx="178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жар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Box 7"/>
          <p:cNvSpPr/>
          <p:nvPr/>
        </p:nvSpPr>
        <p:spPr>
          <a:xfrm>
            <a:off x="642960" y="3097080"/>
            <a:ext cx="20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ражение электрическим током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Box 8"/>
          <p:cNvSpPr/>
          <p:nvPr/>
        </p:nvSpPr>
        <p:spPr>
          <a:xfrm>
            <a:off x="642960" y="3749760"/>
            <a:ext cx="207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зрыв газ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Box 9"/>
          <p:cNvSpPr/>
          <p:nvPr/>
        </p:nvSpPr>
        <p:spPr>
          <a:xfrm>
            <a:off x="642960" y="4332240"/>
            <a:ext cx="207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топле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TextBox 10"/>
          <p:cNvSpPr/>
          <p:nvPr/>
        </p:nvSpPr>
        <p:spPr>
          <a:xfrm>
            <a:off x="642960" y="4797360"/>
            <a:ext cx="20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травление (газом или химическими веществам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Box 11"/>
          <p:cNvSpPr/>
          <p:nvPr/>
        </p:nvSpPr>
        <p:spPr>
          <a:xfrm>
            <a:off x="642960" y="5342040"/>
            <a:ext cx="20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азрушение строительных конструкци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Box 12"/>
          <p:cNvSpPr/>
          <p:nvPr/>
        </p:nvSpPr>
        <p:spPr>
          <a:xfrm>
            <a:off x="2786040" y="2541600"/>
            <a:ext cx="36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еисправная электропроводка, техника, неосторожное обращение с огнем, утечка газ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TextBox 14"/>
          <p:cNvSpPr/>
          <p:nvPr/>
        </p:nvSpPr>
        <p:spPr>
          <a:xfrm>
            <a:off x="2786040" y="3102120"/>
            <a:ext cx="36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есоблюдение инструкций, неисправность в электротехник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Box 15"/>
          <p:cNvSpPr/>
          <p:nvPr/>
        </p:nvSpPr>
        <p:spPr>
          <a:xfrm>
            <a:off x="2786040" y="3643200"/>
            <a:ext cx="36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еисправность газовой плиты, невыключенная плита, оставление рабочий плиты без присмотра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Box 16"/>
          <p:cNvSpPr/>
          <p:nvPr/>
        </p:nvSpPr>
        <p:spPr>
          <a:xfrm>
            <a:off x="2786040" y="4214880"/>
            <a:ext cx="36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азрыв трубы, батареи; стиральная машина, оставленная без присмотра; незакрытый кран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Box 17"/>
          <p:cNvSpPr/>
          <p:nvPr/>
        </p:nvSpPr>
        <p:spPr>
          <a:xfrm>
            <a:off x="2786040" y="4786200"/>
            <a:ext cx="36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еосторожное обращение, нарушение инструкций, нарушение правил хранения, халатность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Box 18"/>
          <p:cNvSpPr/>
          <p:nvPr/>
        </p:nvSpPr>
        <p:spPr>
          <a:xfrm>
            <a:off x="2786040" y="5357880"/>
            <a:ext cx="36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зрыв, землетрясение, аварии в подземных коммуникациях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nodeType="clickEffect" fill="hold">
                      <p:stCondLst>
                        <p:cond delay="0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5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C:\Documents and Settings\Sergey_2\Мои документы\Мои рисунки\РАЗНОЕ\ДОСКА Копировать.gif"/>
          <p:cNvPicPr/>
          <p:nvPr/>
        </p:nvPicPr>
        <p:blipFill>
          <a:blip r:embed="rId1"/>
          <a:stretch/>
        </p:blipFill>
        <p:spPr>
          <a:xfrm>
            <a:off x="198360" y="285840"/>
            <a:ext cx="8778960" cy="62150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34" name="Овальная выноска 13"/>
          <p:cNvSpPr/>
          <p:nvPr/>
        </p:nvSpPr>
        <p:spPr>
          <a:xfrm>
            <a:off x="3000240" y="1285920"/>
            <a:ext cx="5000760" cy="2214360"/>
          </a:xfrm>
          <a:prstGeom prst="wedgeEllipseCallout">
            <a:avLst>
              <a:gd name="adj1" fmla="val -57319"/>
              <a:gd name="adj2" fmla="val 49745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Задумывались ли вы раньше о том, сколько опасных ситуаций может возникнуть у нас под боком, в нашем жилище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Рисунок 5" descr="ad3a789759de.png"/>
          <p:cNvPicPr/>
          <p:nvPr/>
        </p:nvPicPr>
        <p:blipFill>
          <a:blip r:embed="rId2"/>
          <a:stretch/>
        </p:blipFill>
        <p:spPr>
          <a:xfrm>
            <a:off x="324000" y="2819520"/>
            <a:ext cx="3228840" cy="4038480"/>
          </a:xfrm>
          <a:prstGeom prst="rect">
            <a:avLst/>
          </a:prstGeom>
          <a:ln w="0">
            <a:noFill/>
          </a:ln>
          <a:effectLst>
            <a:outerShdw dist="103859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36" name="TextBox 8"/>
          <p:cNvSpPr/>
          <p:nvPr/>
        </p:nvSpPr>
        <p:spPr>
          <a:xfrm>
            <a:off x="4143240" y="1628640"/>
            <a:ext cx="342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istral"/>
                <a:ea typeface="Tahoma"/>
              </a:rPr>
              <a:t>ОСНОВЫ БЕЗОПАСНОГО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istral"/>
                <a:ea typeface="Tahoma"/>
              </a:rPr>
              <a:t>ПОВЕД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Прямоугольник 9"/>
          <p:cNvSpPr/>
          <p:nvPr/>
        </p:nvSpPr>
        <p:spPr>
          <a:xfrm>
            <a:off x="3857760" y="3071880"/>
            <a:ext cx="4143240" cy="642960"/>
          </a:xfrm>
          <a:prstGeom prst="rect">
            <a:avLst/>
          </a:prstGeom>
          <a:gradFill rotWithShape="0">
            <a:gsLst>
              <a:gs pos="0">
                <a:srgbClr val="2787a0"/>
              </a:gs>
              <a:gs pos="100000">
                <a:srgbClr val="34b3d6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ПРЕДВИДЕТЬ  ОПАСНОСТ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Прямоугольник 10"/>
          <p:cNvSpPr/>
          <p:nvPr/>
        </p:nvSpPr>
        <p:spPr>
          <a:xfrm>
            <a:off x="3857760" y="3857760"/>
            <a:ext cx="4143240" cy="64296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ПО ВОЗМОЖНОСТИ ИЗБЕГАТЬ Е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Прямоугольник 11"/>
          <p:cNvSpPr/>
          <p:nvPr/>
        </p:nvSpPr>
        <p:spPr>
          <a:xfrm>
            <a:off x="3857760" y="4714920"/>
            <a:ext cx="4143240" cy="642960"/>
          </a:xfrm>
          <a:prstGeom prst="rect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ПРИ НЕОБХОДИМОСТИ ДЕЙСТВОВАТ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nodeType="clickEffect" fill="hold">
                      <p:stCondLst>
                        <p:cond delay="0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3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0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7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4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C:\Documents and Settings\Sergey_2\Мои документы\Мои рисунки\РАЗНОЕ\ДОСКА Копировать.gif"/>
          <p:cNvPicPr/>
          <p:nvPr/>
        </p:nvPicPr>
        <p:blipFill>
          <a:blip r:embed="rId1"/>
          <a:stretch/>
        </p:blipFill>
        <p:spPr>
          <a:xfrm>
            <a:off x="198360" y="285840"/>
            <a:ext cx="8778960" cy="62150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41" name="Овальная выноска 13"/>
          <p:cNvSpPr/>
          <p:nvPr/>
        </p:nvSpPr>
        <p:spPr>
          <a:xfrm>
            <a:off x="3071880" y="2214720"/>
            <a:ext cx="5000400" cy="1357200"/>
          </a:xfrm>
          <a:prstGeom prst="wedgeEllipseCallout">
            <a:avLst>
              <a:gd name="adj1" fmla="val -57319"/>
              <a:gd name="adj2" fmla="val 49745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Объясните пословицы и попробуйте проиллюстрировать ее примерам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Рисунок 5" descr="ad3a789759de.png"/>
          <p:cNvPicPr/>
          <p:nvPr/>
        </p:nvPicPr>
        <p:blipFill>
          <a:blip r:embed="rId2"/>
          <a:stretch/>
        </p:blipFill>
        <p:spPr>
          <a:xfrm>
            <a:off x="324000" y="2819520"/>
            <a:ext cx="3228840" cy="4038480"/>
          </a:xfrm>
          <a:prstGeom prst="rect">
            <a:avLst/>
          </a:prstGeom>
          <a:ln w="0">
            <a:noFill/>
          </a:ln>
          <a:effectLst>
            <a:outerShdw dist="103859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43" name="TextBox 8"/>
          <p:cNvSpPr/>
          <p:nvPr/>
        </p:nvSpPr>
        <p:spPr>
          <a:xfrm>
            <a:off x="2571840" y="1285920"/>
            <a:ext cx="485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Mistral"/>
                <a:ea typeface="Tahoma"/>
              </a:rPr>
              <a:t>ДОМАШНЕЕ ЗАДАНИ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Box 12"/>
          <p:cNvSpPr/>
          <p:nvPr/>
        </p:nvSpPr>
        <p:spPr>
          <a:xfrm>
            <a:off x="4929120" y="3868560"/>
            <a:ext cx="19288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6d9f1"/>
                </a:solidFill>
                <a:latin typeface="Calibri"/>
              </a:rPr>
              <a:t>1 вариант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Box 14"/>
          <p:cNvSpPr/>
          <p:nvPr/>
        </p:nvSpPr>
        <p:spPr>
          <a:xfrm>
            <a:off x="3392640" y="4292640"/>
            <a:ext cx="50022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Calibri"/>
              </a:rPr>
              <a:t>«Выиграешь секунду – потеряешь жизнь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Box 15"/>
          <p:cNvSpPr/>
          <p:nvPr/>
        </p:nvSpPr>
        <p:spPr>
          <a:xfrm>
            <a:off x="4932360" y="4797360"/>
            <a:ext cx="19288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6d9f1"/>
                </a:solidFill>
                <a:latin typeface="Calibri"/>
              </a:rPr>
              <a:t>2 вариант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Box 16"/>
          <p:cNvSpPr/>
          <p:nvPr/>
        </p:nvSpPr>
        <p:spPr>
          <a:xfrm>
            <a:off x="3419640" y="5229360"/>
            <a:ext cx="50022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Calibri"/>
              </a:rPr>
              <a:t>«Беда вымучит, беда и вылечит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nodeType="clickEffect" fill="hold">
                      <p:stCondLst>
                        <p:cond delay="0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3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4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9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6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1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Box 1"/>
          <p:cNvSpPr/>
          <p:nvPr/>
        </p:nvSpPr>
        <p:spPr>
          <a:xfrm>
            <a:off x="785880" y="1285920"/>
            <a:ext cx="7500960" cy="45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Основы безопасности жизнедеятельности: учебник для 5 классов общеобразовательных учреждений / А.Т.Смирнов, Б.О. Хренников; под общей редакцией А.Т.Смирнова. – 5-е изд. – М.: - Просвещение, 2008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Основы безопасности жизнедеятельности: учебник для 5 классов общеобразовательных учреждений / М.П.Фролов, Е.Н.Литвинов, А.Т.Смирнов и др.; под общей редакцией Ю.Л.Воробьева. – 2-е изд. , испр. и дополн.– М.: АСТ: Астрель, 2007  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tp://s59.radikal.ru/i166/0906/6f/0d2aea9ee10c.jpg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http://www.ancienthistory.spb.ru/images/pervobyt/264.jp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http://moda-history.ru/files/perv_costume/110209/1.jp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http://www.vokrugmira.com/images/foto/2006/08/01/00000004091.jp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http://sob.ru/upimg/issue/202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http://allday.ru/uploads/posts/1181786626_551029.jp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http://shkolazhizni.ru/img/content/i11/11964_or.jp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http://irc.lv/images/qna/428699_373972.jpe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http://www.starinism.ru/shop/products_pictures/sp_iron007_1.jp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http://www.sar-roo.ru/cvr/graf/3/hist2.JP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http://www.goodclipart.ru/files/preview/BUILDINGS_CITY/REALEST2/RL1610.p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http://sdvk.ru/i/Gustavsberg/Basic-390392/000.jp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http://www.legrand-rozetki.ru/images/valena/old/images_valena/legrand_valena_774420.jp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http://www.hifinews.ru/image/tema/pdp550.jp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http://techguru.ru/foto/music_centers/lg_lm-k6530x_1.jp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Box 2"/>
          <p:cNvSpPr/>
          <p:nvPr/>
        </p:nvSpPr>
        <p:spPr>
          <a:xfrm>
            <a:off x="1214280" y="500040"/>
            <a:ext cx="678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Mistral"/>
                <a:ea typeface="Tahoma"/>
              </a:rPr>
              <a:t>ЛИТЕРАТУРА И ИНТЕРНЕТ ССЫЛК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2" dur="indefinite" restart="never" nodeType="tmRoot">
          <p:childTnLst>
            <p:seq>
              <p:cTn id="503" dur="indefinite" nodeType="mainSeq">
                <p:childTnLst>
                  <p:par>
                    <p:cTn id="504" nodeType="clickEffect" fill="hold">
                      <p:stCondLst>
                        <p:cond delay="0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0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4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C:\Documents and Settings\Sergey_2\Мои документы\Мои рисунки\РАЗНОЕ\ДОСКА Копировать.gif"/>
          <p:cNvPicPr/>
          <p:nvPr/>
        </p:nvPicPr>
        <p:blipFill>
          <a:blip r:embed="rId1"/>
          <a:stretch/>
        </p:blipFill>
        <p:spPr>
          <a:xfrm>
            <a:off x="198360" y="285840"/>
            <a:ext cx="8778960" cy="62150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52" name="Овальная выноска 4"/>
          <p:cNvSpPr/>
          <p:nvPr/>
        </p:nvSpPr>
        <p:spPr>
          <a:xfrm>
            <a:off x="3214800" y="2000160"/>
            <a:ext cx="5072040" cy="2500560"/>
          </a:xfrm>
          <a:prstGeom prst="wedgeEllipseCallout">
            <a:avLst>
              <a:gd name="adj1" fmla="val -57574"/>
              <a:gd name="adj2" fmla="val 55550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Здравствуйте!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нова с вами я - профессор Галилео!  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Вы, наверное, помните, что на прошлом уроке мы говорили о городе и его опасностях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0040" y="713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ПОВТОРИМ ТЕМУ ПРОШЛОГО УРОКА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" name="Овальная выноска 5"/>
          <p:cNvSpPr/>
          <p:nvPr/>
        </p:nvSpPr>
        <p:spPr>
          <a:xfrm>
            <a:off x="3214800" y="2000160"/>
            <a:ext cx="5072040" cy="2500560"/>
          </a:xfrm>
          <a:prstGeom prst="wedgeEllipseCallout">
            <a:avLst>
              <a:gd name="adj1" fmla="val -57574"/>
              <a:gd name="adj2" fmla="val 55550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Отлично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Тогда я вам предлагаю ответить на вопросы маленького тест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2786040" y="1643040"/>
          <a:ext cx="5595840" cy="4214880"/>
        </p:xfrm>
        <a:graphic>
          <a:graphicData uri="http://schemas.openxmlformats.org/drawingml/2006/table">
            <a:tbl>
              <a:tblPr/>
              <a:tblGrid>
                <a:gridCol w="2798640"/>
                <a:gridCol w="2797200"/>
              </a:tblGrid>
              <a:tr h="703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dce6f2"/>
                          </a:solidFill>
                          <a:latin typeface="Arial"/>
                          <a:ea typeface="Arial"/>
                        </a:rPr>
                        <a:t>Источники опасност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dce6f2"/>
                          </a:solidFill>
                          <a:latin typeface="Arial"/>
                          <a:ea typeface="Arial"/>
                        </a:rPr>
                        <a:t>Зоны повышенной опасност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701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03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01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03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01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56" name="Рисунок 2" descr="ad3a789759de.png"/>
          <p:cNvPicPr/>
          <p:nvPr/>
        </p:nvPicPr>
        <p:blipFill>
          <a:blip r:embed="rId2"/>
          <a:stretch/>
        </p:blipFill>
        <p:spPr>
          <a:xfrm>
            <a:off x="324000" y="2819520"/>
            <a:ext cx="3228840" cy="40384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333333">
                <a:alpha val="50000"/>
              </a:srgbClr>
            </a:outerShdw>
          </a:effectLst>
        </p:spPr>
      </p:pic>
      <p:sp>
        <p:nvSpPr>
          <p:cNvPr id="57" name="TextBox 9"/>
          <p:cNvSpPr/>
          <p:nvPr/>
        </p:nvSpPr>
        <p:spPr>
          <a:xfrm>
            <a:off x="3214800" y="2587680"/>
            <a:ext cx="17859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  <a:ea typeface="Arial"/>
              </a:rPr>
              <a:t>Транспорт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TextBox 10"/>
          <p:cNvSpPr/>
          <p:nvPr/>
        </p:nvSpPr>
        <p:spPr>
          <a:xfrm>
            <a:off x="3071880" y="3249720"/>
            <a:ext cx="20718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  <a:ea typeface="Arial"/>
              </a:rPr>
              <a:t>Железные дороги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Box 11"/>
          <p:cNvSpPr/>
          <p:nvPr/>
        </p:nvSpPr>
        <p:spPr>
          <a:xfrm>
            <a:off x="3071880" y="3871800"/>
            <a:ext cx="2071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  <a:ea typeface="Arial"/>
              </a:rPr>
              <a:t>Промышленное производство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TextBox 12"/>
          <p:cNvSpPr/>
          <p:nvPr/>
        </p:nvSpPr>
        <p:spPr>
          <a:xfrm>
            <a:off x="3071880" y="4545000"/>
            <a:ext cx="2071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  <a:ea typeface="Arial"/>
              </a:rPr>
              <a:t>Загрязнение окружающей среды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TextBox 13"/>
          <p:cNvSpPr/>
          <p:nvPr/>
        </p:nvSpPr>
        <p:spPr>
          <a:xfrm>
            <a:off x="3071880" y="5222880"/>
            <a:ext cx="2071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  <a:ea typeface="Arial"/>
              </a:rPr>
              <a:t>Концентрация правонарушений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TextBox 15"/>
          <p:cNvSpPr/>
          <p:nvPr/>
        </p:nvSpPr>
        <p:spPr>
          <a:xfrm>
            <a:off x="5715000" y="2449440"/>
            <a:ext cx="2571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  <a:ea typeface="Arial"/>
              </a:rPr>
              <a:t>Стадионы, места массовых развлечений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TextBox 16"/>
          <p:cNvSpPr/>
          <p:nvPr/>
        </p:nvSpPr>
        <p:spPr>
          <a:xfrm>
            <a:off x="5816520" y="3254400"/>
            <a:ext cx="23576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  <a:ea typeface="Arial"/>
              </a:rPr>
              <a:t>Вокзалы, рынки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TextBox 17"/>
          <p:cNvSpPr/>
          <p:nvPr/>
        </p:nvSpPr>
        <p:spPr>
          <a:xfrm>
            <a:off x="5929200" y="3832200"/>
            <a:ext cx="2143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  <a:ea typeface="Arial"/>
              </a:rPr>
              <a:t>Дворы, пустыри,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  <a:ea typeface="Arial"/>
              </a:rPr>
              <a:t>заброшенные дома</a:t>
            </a:r>
            <a:r>
              <a:rPr b="1" lang="ru-RU" sz="13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TextBox 18"/>
          <p:cNvSpPr/>
          <p:nvPr/>
        </p:nvSpPr>
        <p:spPr>
          <a:xfrm>
            <a:off x="5857920" y="4654440"/>
            <a:ext cx="2286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  <a:ea typeface="Arial"/>
              </a:rPr>
              <a:t>Автомобильные трассы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TextBox 19"/>
          <p:cNvSpPr/>
          <p:nvPr/>
        </p:nvSpPr>
        <p:spPr>
          <a:xfrm>
            <a:off x="5429160" y="5164200"/>
            <a:ext cx="2954520" cy="6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  <a:ea typeface="Arial"/>
              </a:rPr>
              <a:t>Переходы через железнодорожные и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  <a:ea typeface="Arial"/>
              </a:rPr>
              <a:t>трамвайные пути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C:\Documents and Settings\Sergey_2\Мои документы\Мои рисунки\РАЗНОЕ\ДОСКА Копировать.gif"/>
          <p:cNvPicPr/>
          <p:nvPr/>
        </p:nvPicPr>
        <p:blipFill>
          <a:blip r:embed="rId1"/>
          <a:stretch/>
        </p:blipFill>
        <p:spPr>
          <a:xfrm>
            <a:off x="198360" y="285840"/>
            <a:ext cx="8778960" cy="62150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68" name="Овальная выноска 4"/>
          <p:cNvSpPr/>
          <p:nvPr/>
        </p:nvSpPr>
        <p:spPr>
          <a:xfrm>
            <a:off x="3214800" y="2000160"/>
            <a:ext cx="5072040" cy="2500560"/>
          </a:xfrm>
          <a:prstGeom prst="wedgeEllipseCallout">
            <a:avLst>
              <a:gd name="adj1" fmla="val -57574"/>
              <a:gd name="adj2" fmla="val 55550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Ну, а теперь, разделившись на команды, попробуйте отгадать мою шараду!!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Из предложенных слов составьте предложение и запишите его в тетрад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00040" y="85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ПОВТОРИМ ТЕМУ ПРОШЛОГО УРОКА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0" name="Рисунок 2" descr="ad3a789759de.png"/>
          <p:cNvPicPr/>
          <p:nvPr/>
        </p:nvPicPr>
        <p:blipFill>
          <a:blip r:embed="rId2"/>
          <a:stretch/>
        </p:blipFill>
        <p:spPr>
          <a:xfrm>
            <a:off x="324000" y="2819520"/>
            <a:ext cx="3228840" cy="4038480"/>
          </a:xfrm>
          <a:prstGeom prst="rect">
            <a:avLst/>
          </a:prstGeom>
          <a:ln w="0">
            <a:noFill/>
          </a:ln>
        </p:spPr>
      </p:pic>
      <p:sp>
        <p:nvSpPr>
          <p:cNvPr id="71" name="Прямоугольник 9"/>
          <p:cNvSpPr/>
          <p:nvPr/>
        </p:nvSpPr>
        <p:spPr>
          <a:xfrm>
            <a:off x="3071880" y="2928960"/>
            <a:ext cx="1714320" cy="50004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СИТУАЦ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Прямоугольник 10"/>
          <p:cNvSpPr/>
          <p:nvPr/>
        </p:nvSpPr>
        <p:spPr>
          <a:xfrm>
            <a:off x="3071880" y="3571920"/>
            <a:ext cx="1714320" cy="500040"/>
          </a:xfrm>
          <a:prstGeom prst="rect">
            <a:avLst/>
          </a:prstGeom>
          <a:gradFill rotWithShape="0">
            <a:gsLst>
              <a:gs pos="0">
                <a:srgbClr val="cb6c1d"/>
              </a:gs>
              <a:gs pos="100000">
                <a:srgbClr val="ff8f26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ПРЕДВИДЕ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Прямоугольник 11"/>
          <p:cNvSpPr/>
          <p:nvPr/>
        </p:nvSpPr>
        <p:spPr>
          <a:xfrm>
            <a:off x="4929120" y="2928960"/>
            <a:ext cx="1714680" cy="500040"/>
          </a:xfrm>
          <a:prstGeom prst="rect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ОПАСН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Прямоугольник 12"/>
          <p:cNvSpPr/>
          <p:nvPr/>
        </p:nvSpPr>
        <p:spPr>
          <a:xfrm>
            <a:off x="4929120" y="3571920"/>
            <a:ext cx="1714680" cy="500040"/>
          </a:xfrm>
          <a:prstGeom prst="rect">
            <a:avLst/>
          </a:prstGeom>
          <a:gradFill rotWithShape="0">
            <a:gsLst>
              <a:gs pos="0">
                <a:srgbClr val="2787a0"/>
              </a:gs>
              <a:gs pos="100000">
                <a:srgbClr val="34b3d6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МОЖН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Прямоугольник 13"/>
          <p:cNvSpPr/>
          <p:nvPr/>
        </p:nvSpPr>
        <p:spPr>
          <a:xfrm>
            <a:off x="6786720" y="2928960"/>
            <a:ext cx="1714320" cy="50004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Прямоугольник 14"/>
          <p:cNvSpPr/>
          <p:nvPr/>
        </p:nvSpPr>
        <p:spPr>
          <a:xfrm>
            <a:off x="6786720" y="3571920"/>
            <a:ext cx="1714320" cy="500040"/>
          </a:xfrm>
          <a:prstGeom prst="rect">
            <a:avLst/>
          </a:prstGeom>
          <a:gradFill rotWithShape="0">
            <a:gsLst>
              <a:gs pos="0">
                <a:srgbClr val="5d417e"/>
              </a:gs>
              <a:gs pos="100000">
                <a:srgbClr val="7b57a8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НУЖН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0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2.50347E-006 C 0.0151 -0.04859 0.03038 -0.09718 0.00069 -0.11777 C -0.029 -0.1386 -0.14393 -0.14392 -0.17796 -0.12402 C -0.21181 -0.10389 -0.20782 -0.05114 -0.20348 0.00208 E">
                                      <p:cBhvr>
                                        <p:cTn id="164" dur="1000" fill="hold"/>
                                        <p:tgtEl>
                                          <p:spTgt spid="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0.00208 C -0.00277 -0.0324 -0.0052 -0.06688 0.00365 -0.08841 C 0.01251 -0.10993 0.02101 -0.12034 0.05313 -0.12682 C 0.08525 -0.1333 0.17101 -0.14927 0.19636 -0.12798 C 0.22171 -0.10669 0.20365 -0.02037 0.20521 0.00116 E">
                                      <p:cBhvr>
                                        <p:cTn id="166" dur="1000" fill="hold"/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43 0.00347 C -0.0125 -0.07288 -0.02257 -0.14924 0.004 -0.18626 C 0.03056 -0.22328 0.12292 -0.23554 0.15677 -0.21934 C 0.19063 -0.20315 0.19879 -0.14623 0.20712 -0.08931 E">
                                      <p:cBhvr>
                                        <p:cTn id="168" dur="1000" fill="hold"/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3.94633E-006 C 0.01007 0.06917 0.02014 0.13833 -0.00174 0.1728 C -0.02361 0.20727 -0.07135 0.20056 -0.13125 0.20634 C -0.19115 0.21213 -0.31441 0.22554 -0.36076 0.2075 C -0.40712 0.18946 -0.40833 0.14389 -0.40955 0.09855 E">
                                      <p:cBhvr>
                                        <p:cTn id="170" dur="1000" fill="hold"/>
                                        <p:tgtEl>
                                          <p:spTgt spid="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5 0.00579 C 0.01336 0.0391 0.02708 0.07264 -0.00209 0.08929 C -0.03125 0.10595 -0.14115 0.11983 -0.175 0.10549 C -0.20886 0.09114 -0.2073 0.04719 -0.20556 0.00347 E">
                                      <p:cBhvr>
                                        <p:cTn id="172" dur="1000" fill="hold"/>
                                        <p:tgtEl>
                                          <p:spTgt spid="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3 0.00486 C -0.01649 0.04141 -0.02951 0.07819 0.00625 0.09762 C 0.04202 0.11705 0.14775 0.11913 0.21146 0.12191 C 0.27518 0.12469 0.35591 0.13325 0.38889 0.11381 C 0.42188 0.09438 0.40625 0.02406 0.40973 0.00602 E">
                                      <p:cBhvr>
                                        <p:cTn id="174" dur="1000" fill="hold"/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C:\Documents and Settings\Sergey_2\Мои документы\Мои рисунки\РАЗНОЕ\ДОСКА Копировать.gif"/>
          <p:cNvPicPr/>
          <p:nvPr/>
        </p:nvPicPr>
        <p:blipFill>
          <a:blip r:embed="rId1"/>
          <a:stretch/>
        </p:blipFill>
        <p:spPr>
          <a:xfrm>
            <a:off x="198360" y="285840"/>
            <a:ext cx="8778960" cy="62150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78" name="Овальная выноска 4"/>
          <p:cNvSpPr/>
          <p:nvPr/>
        </p:nvSpPr>
        <p:spPr>
          <a:xfrm>
            <a:off x="3214800" y="2000160"/>
            <a:ext cx="5072040" cy="2500560"/>
          </a:xfrm>
          <a:prstGeom prst="wedgeEllipseCallout">
            <a:avLst>
              <a:gd name="adj1" fmla="val -57574"/>
              <a:gd name="adj2" fmla="val 55550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Молодцы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Вы отлично справились с заданием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А теперь послушайте стихи и ответьте мне – о чем сегодня пойдет речь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00040" y="85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О ЧЕМ ЭТИ СТИХИ?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0" name="Рисунок 2" descr="ad3a789759de.png"/>
          <p:cNvPicPr/>
          <p:nvPr/>
        </p:nvPicPr>
        <p:blipFill>
          <a:blip r:embed="rId2"/>
          <a:stretch/>
        </p:blipFill>
        <p:spPr>
          <a:xfrm>
            <a:off x="324000" y="2819520"/>
            <a:ext cx="3228840" cy="4038480"/>
          </a:xfrm>
          <a:prstGeom prst="rect">
            <a:avLst/>
          </a:prstGeom>
          <a:ln w="0">
            <a:noFill/>
          </a:ln>
          <a:effectLst>
            <a:outerShdw dist="86040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81" name="Овальная выноска 9"/>
          <p:cNvSpPr/>
          <p:nvPr/>
        </p:nvSpPr>
        <p:spPr>
          <a:xfrm>
            <a:off x="3214800" y="2000160"/>
            <a:ext cx="5072040" cy="2500560"/>
          </a:xfrm>
          <a:prstGeom prst="wedgeEllipseCallout">
            <a:avLst>
              <a:gd name="adj1" fmla="val -57574"/>
              <a:gd name="adj2" fmla="val 55550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Вот мой дом, моя квартира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Здесь учусь, играю, сплю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Вы ответьте мне, ребята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В безопасности живу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0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C:\Documents and Settings\Sergey_2\Мои документы\Мои рисунки\РАЗНОЕ\ДОСКА Копировать.gif"/>
          <p:cNvPicPr/>
          <p:nvPr/>
        </p:nvPicPr>
        <p:blipFill>
          <a:blip r:embed="rId1"/>
          <a:stretch/>
        </p:blipFill>
        <p:spPr>
          <a:xfrm>
            <a:off x="198360" y="285840"/>
            <a:ext cx="8778960" cy="62150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022640" y="1522080"/>
            <a:ext cx="3424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ТЕМА УРОКА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4" name="Рисунок 2" descr="ad3a789759de.png"/>
          <p:cNvPicPr/>
          <p:nvPr/>
        </p:nvPicPr>
        <p:blipFill>
          <a:blip r:embed="rId2"/>
          <a:stretch/>
        </p:blipFill>
        <p:spPr>
          <a:xfrm>
            <a:off x="324000" y="2819520"/>
            <a:ext cx="3228840" cy="4038480"/>
          </a:xfrm>
          <a:prstGeom prst="rect">
            <a:avLst/>
          </a:prstGeom>
          <a:ln w="0">
            <a:noFill/>
          </a:ln>
          <a:effectLst>
            <a:outerShdw dist="103859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85" name="TextBox 6"/>
          <p:cNvSpPr/>
          <p:nvPr/>
        </p:nvSpPr>
        <p:spPr>
          <a:xfrm>
            <a:off x="3446640" y="2682720"/>
            <a:ext cx="4654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Mistral"/>
                <a:ea typeface="Tahoma"/>
              </a:rPr>
              <a:t>ЖИЛИЩЕ ЧЕЛОВЕК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Mistral"/>
                <a:ea typeface="Tahoma"/>
              </a:rPr>
              <a:t>И ОСОБЕННОСТИ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Mistral"/>
                <a:ea typeface="Tahoma"/>
              </a:rPr>
              <a:t>ЖИЗНЕОБЕСПЕЧЕНИЯ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Mistral"/>
                <a:ea typeface="Tahoma"/>
              </a:rPr>
              <a:t>ЖИЛИЩ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0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C:\Documents and Settings\Sergey_2\Мои документы\Мои рисунки\РАЗНОЕ\ДОСКА Копировать.gif"/>
          <p:cNvPicPr/>
          <p:nvPr/>
        </p:nvPicPr>
        <p:blipFill>
          <a:blip r:embed="rId1"/>
          <a:stretch/>
        </p:blipFill>
        <p:spPr>
          <a:xfrm>
            <a:off x="198360" y="285840"/>
            <a:ext cx="8778960" cy="62150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87" name="Рисунок 8" descr="00000004091.jpg"/>
          <p:cNvPicPr/>
          <p:nvPr/>
        </p:nvPicPr>
        <p:blipFill>
          <a:blip r:embed="rId2"/>
          <a:stretch/>
        </p:blipFill>
        <p:spPr>
          <a:xfrm>
            <a:off x="2071800" y="2055960"/>
            <a:ext cx="4929120" cy="3087720"/>
          </a:xfrm>
          <a:prstGeom prst="rect">
            <a:avLst/>
          </a:prstGeom>
          <a:ln w="0">
            <a:noFill/>
          </a:ln>
          <a:effectLst>
            <a:outerShdw dist="103859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88" name="Рисунок 5" descr="человек.gif"/>
          <p:cNvPicPr/>
          <p:nvPr/>
        </p:nvPicPr>
        <p:blipFill>
          <a:blip r:embed="rId3"/>
          <a:stretch/>
        </p:blipFill>
        <p:spPr>
          <a:xfrm>
            <a:off x="539640" y="1341360"/>
            <a:ext cx="2571840" cy="4321080"/>
          </a:xfrm>
          <a:prstGeom prst="rect">
            <a:avLst/>
          </a:prstGeom>
          <a:ln w="0">
            <a:noFill/>
          </a:ln>
          <a:effectLst>
            <a:outerShdw dist="103859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89" name="Рисунок 2" descr="ad3a789759de.png"/>
          <p:cNvPicPr/>
          <p:nvPr/>
        </p:nvPicPr>
        <p:blipFill>
          <a:blip r:embed="rId4"/>
          <a:stretch/>
        </p:blipFill>
        <p:spPr>
          <a:xfrm>
            <a:off x="5572080" y="2786040"/>
            <a:ext cx="3229200" cy="4038480"/>
          </a:xfrm>
          <a:prstGeom prst="rect">
            <a:avLst/>
          </a:prstGeom>
          <a:ln w="0">
            <a:noFill/>
          </a:ln>
          <a:effectLst>
            <a:outerShdw dist="103859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90" name="TextBox 6"/>
          <p:cNvSpPr/>
          <p:nvPr/>
        </p:nvSpPr>
        <p:spPr>
          <a:xfrm>
            <a:off x="2357280" y="1285920"/>
            <a:ext cx="478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БЫТ ДРЕВНЕГО ЧЕЛОВЕ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C:\Documents and Settings\Sergey_2\Мои документы\Мои рисунки\РАЗНОЕ\ДОСКА Копировать.gif"/>
          <p:cNvPicPr/>
          <p:nvPr/>
        </p:nvPicPr>
        <p:blipFill>
          <a:blip r:embed="rId1"/>
          <a:stretch/>
        </p:blipFill>
        <p:spPr>
          <a:xfrm>
            <a:off x="198360" y="285840"/>
            <a:ext cx="8778960" cy="62150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92" name="Рисунок 8" descr="11964_or.jpg"/>
          <p:cNvPicPr/>
          <p:nvPr/>
        </p:nvPicPr>
        <p:blipFill>
          <a:blip r:embed="rId2"/>
          <a:stretch/>
        </p:blipFill>
        <p:spPr>
          <a:xfrm>
            <a:off x="1785960" y="2033640"/>
            <a:ext cx="4929120" cy="3552840"/>
          </a:xfrm>
          <a:prstGeom prst="rect">
            <a:avLst/>
          </a:prstGeom>
          <a:ln w="0">
            <a:noFill/>
          </a:ln>
          <a:effectLst>
            <a:outerShdw dist="103859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93" name="Рисунок 10" descr="утюг.gif"/>
          <p:cNvPicPr/>
          <p:nvPr/>
        </p:nvPicPr>
        <p:blipFill>
          <a:blip r:embed="rId3">
            <a:lum contrast="10000"/>
          </a:blip>
          <a:stretch/>
        </p:blipFill>
        <p:spPr>
          <a:xfrm>
            <a:off x="611280" y="1125360"/>
            <a:ext cx="1571400" cy="1649520"/>
          </a:xfrm>
          <a:prstGeom prst="rect">
            <a:avLst/>
          </a:prstGeom>
          <a:ln w="0">
            <a:noFill/>
          </a:ln>
          <a:effectLst>
            <a:outerShdw dist="103859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94" name="Рисунок 9" descr="лампа.gif"/>
          <p:cNvPicPr/>
          <p:nvPr/>
        </p:nvPicPr>
        <p:blipFill>
          <a:blip r:embed="rId4"/>
          <a:stretch/>
        </p:blipFill>
        <p:spPr>
          <a:xfrm>
            <a:off x="611280" y="2886120"/>
            <a:ext cx="1382760" cy="2940120"/>
          </a:xfrm>
          <a:prstGeom prst="rect">
            <a:avLst/>
          </a:prstGeom>
          <a:ln w="0">
            <a:noFill/>
          </a:ln>
          <a:effectLst>
            <a:outerShdw dist="103859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95" name="Рисунок 2" descr="ad3a789759de.png"/>
          <p:cNvPicPr/>
          <p:nvPr/>
        </p:nvPicPr>
        <p:blipFill>
          <a:blip r:embed="rId5"/>
          <a:stretch/>
        </p:blipFill>
        <p:spPr>
          <a:xfrm>
            <a:off x="5580000" y="2819520"/>
            <a:ext cx="3229200" cy="4038480"/>
          </a:xfrm>
          <a:prstGeom prst="rect">
            <a:avLst/>
          </a:prstGeom>
          <a:ln w="0">
            <a:noFill/>
          </a:ln>
          <a:effectLst>
            <a:outerShdw dist="103859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96" name="TextBox 11"/>
          <p:cNvSpPr/>
          <p:nvPr/>
        </p:nvSpPr>
        <p:spPr>
          <a:xfrm>
            <a:off x="2357280" y="1285920"/>
            <a:ext cx="478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БЫТ ЧЕЛОВЕКА НАЧАЛА 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XX </a:t>
            </a: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ВЕ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C:\Documents and Settings\Sergey_2\Мои документы\Мои рисунки\РАЗНОЕ\ДОСКА Копировать.gif"/>
          <p:cNvPicPr/>
          <p:nvPr/>
        </p:nvPicPr>
        <p:blipFill>
          <a:blip r:embed="rId1"/>
          <a:stretch/>
        </p:blipFill>
        <p:spPr>
          <a:xfrm>
            <a:off x="198360" y="285840"/>
            <a:ext cx="8778960" cy="62150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98" name="Рисунок 6" descr="2022.jpg"/>
          <p:cNvPicPr/>
          <p:nvPr/>
        </p:nvPicPr>
        <p:blipFill>
          <a:blip r:embed="rId2"/>
          <a:stretch/>
        </p:blipFill>
        <p:spPr>
          <a:xfrm>
            <a:off x="1947960" y="1752480"/>
            <a:ext cx="5214960" cy="3802320"/>
          </a:xfrm>
          <a:prstGeom prst="rect">
            <a:avLst/>
          </a:prstGeom>
          <a:ln w="0">
            <a:noFill/>
          </a:ln>
          <a:effectLst>
            <a:outerShdw dist="103859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99" name="Рисунок 2" descr="ad3a789759de.png"/>
          <p:cNvPicPr/>
          <p:nvPr/>
        </p:nvPicPr>
        <p:blipFill>
          <a:blip r:embed="rId3"/>
          <a:stretch/>
        </p:blipFill>
        <p:spPr>
          <a:xfrm>
            <a:off x="5548320" y="2819520"/>
            <a:ext cx="3228840" cy="4038480"/>
          </a:xfrm>
          <a:prstGeom prst="rect">
            <a:avLst/>
          </a:prstGeom>
          <a:ln w="0">
            <a:noFill/>
          </a:ln>
          <a:effectLst>
            <a:outerShdw dist="103859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00" name="Рисунок 8" descr="ТЕЛЕВИЗОР.gif"/>
          <p:cNvPicPr/>
          <p:nvPr/>
        </p:nvPicPr>
        <p:blipFill>
          <a:blip r:embed="rId4"/>
          <a:stretch/>
        </p:blipFill>
        <p:spPr>
          <a:xfrm>
            <a:off x="1785960" y="4429080"/>
            <a:ext cx="2143080" cy="1500120"/>
          </a:xfrm>
          <a:prstGeom prst="rect">
            <a:avLst/>
          </a:prstGeom>
          <a:ln w="0">
            <a:noFill/>
          </a:ln>
          <a:effectLst>
            <a:outerShdw dist="103859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01" name="TextBox 9"/>
          <p:cNvSpPr/>
          <p:nvPr/>
        </p:nvSpPr>
        <p:spPr>
          <a:xfrm>
            <a:off x="2000160" y="1071720"/>
            <a:ext cx="521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БЫТ  СОВРЕМЕННОГО  ЧЕЛОВЕ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Рисунок 10" descr="УМЫВАЛЬНИК.gif"/>
          <p:cNvPicPr/>
          <p:nvPr/>
        </p:nvPicPr>
        <p:blipFill>
          <a:blip r:embed="rId5"/>
          <a:stretch/>
        </p:blipFill>
        <p:spPr>
          <a:xfrm>
            <a:off x="5045040" y="4686480"/>
            <a:ext cx="1123920" cy="1218960"/>
          </a:xfrm>
          <a:prstGeom prst="rect">
            <a:avLst/>
          </a:prstGeom>
          <a:ln w="0">
            <a:noFill/>
          </a:ln>
          <a:effectLst>
            <a:outerShdw dist="103859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03" name="Рисунок 11" descr="ПЛИТА.gif"/>
          <p:cNvPicPr/>
          <p:nvPr/>
        </p:nvPicPr>
        <p:blipFill>
          <a:blip r:embed="rId6"/>
          <a:stretch/>
        </p:blipFill>
        <p:spPr>
          <a:xfrm>
            <a:off x="4324320" y="4624560"/>
            <a:ext cx="906480" cy="1326960"/>
          </a:xfrm>
          <a:prstGeom prst="rect">
            <a:avLst/>
          </a:prstGeom>
          <a:ln w="0">
            <a:noFill/>
          </a:ln>
          <a:effectLst>
            <a:outerShdw dist="103859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04" name="Рисунок 12" descr="УНИТАЗ.gif"/>
          <p:cNvPicPr/>
          <p:nvPr/>
        </p:nvPicPr>
        <p:blipFill>
          <a:blip r:embed="rId7"/>
          <a:stretch/>
        </p:blipFill>
        <p:spPr>
          <a:xfrm>
            <a:off x="3683160" y="4624560"/>
            <a:ext cx="736560" cy="1346040"/>
          </a:xfrm>
          <a:prstGeom prst="rect">
            <a:avLst/>
          </a:prstGeom>
          <a:ln w="0">
            <a:noFill/>
          </a:ln>
          <a:effectLst>
            <a:outerShdw dist="103859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05" name="Рисунок 7" descr="человек 2.gif"/>
          <p:cNvPicPr/>
          <p:nvPr/>
        </p:nvPicPr>
        <p:blipFill>
          <a:blip r:embed="rId8"/>
          <a:stretch/>
        </p:blipFill>
        <p:spPr>
          <a:xfrm>
            <a:off x="539640" y="1628640"/>
            <a:ext cx="2286000" cy="4330800"/>
          </a:xfrm>
          <a:prstGeom prst="rect">
            <a:avLst/>
          </a:prstGeom>
          <a:ln w="0">
            <a:noFill/>
          </a:ln>
          <a:effectLst>
            <a:outerShdw dist="103859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C:\Documents and Settings\Sergey_2\Мои документы\Мои рисунки\РАЗНОЕ\ДОСКА Копировать.gif"/>
          <p:cNvPicPr/>
          <p:nvPr/>
        </p:nvPicPr>
        <p:blipFill>
          <a:blip r:embed="rId1"/>
          <a:stretch/>
        </p:blipFill>
        <p:spPr>
          <a:xfrm>
            <a:off x="198360" y="285840"/>
            <a:ext cx="8778960" cy="62150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07" name="Овальная выноска 13"/>
          <p:cNvSpPr/>
          <p:nvPr/>
        </p:nvSpPr>
        <p:spPr>
          <a:xfrm>
            <a:off x="3357720" y="2214720"/>
            <a:ext cx="2714400" cy="2071440"/>
          </a:xfrm>
          <a:prstGeom prst="wedgeEllipseCallout">
            <a:avLst>
              <a:gd name="adj1" fmla="val 64268"/>
              <a:gd name="adj2" fmla="val 71310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А всегда ли мы выполняем обязательные правила безопасности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Рисунок 2" descr="ad3a789759de.png"/>
          <p:cNvPicPr/>
          <p:nvPr/>
        </p:nvPicPr>
        <p:blipFill>
          <a:blip r:embed="rId2"/>
          <a:stretch/>
        </p:blipFill>
        <p:spPr>
          <a:xfrm>
            <a:off x="5580000" y="2819520"/>
            <a:ext cx="3229200" cy="4038480"/>
          </a:xfrm>
          <a:prstGeom prst="rect">
            <a:avLst/>
          </a:prstGeom>
          <a:ln w="0">
            <a:noFill/>
          </a:ln>
          <a:effectLst>
            <a:outerShdw dist="103859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09" name="Рисунок 5" descr="замок.gif"/>
          <p:cNvPicPr/>
          <p:nvPr/>
        </p:nvPicPr>
        <p:blipFill>
          <a:blip r:embed="rId3"/>
          <a:stretch/>
        </p:blipFill>
        <p:spPr>
          <a:xfrm>
            <a:off x="785880" y="1158840"/>
            <a:ext cx="2500200" cy="45640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10" name="TextBox 6"/>
          <p:cNvSpPr/>
          <p:nvPr/>
        </p:nvSpPr>
        <p:spPr>
          <a:xfrm>
            <a:off x="3286080" y="1428840"/>
            <a:ext cx="5072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«МОЙ ДОМ – МОЯ КРЕПОСТЬ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nodeType="clickEffect" fill="hold">
                      <p:stCondLst>
                        <p:cond delay="0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05T12:14:22Z</dcterms:created>
  <dc:creator>WETER</dc:creator>
  <dc:description/>
  <dc:language>en-US</dc:language>
  <cp:lastModifiedBy>Николай</cp:lastModifiedBy>
  <dcterms:modified xsi:type="dcterms:W3CDTF">2013-04-25T12:19:50Z</dcterms:modified>
  <cp:revision>107</cp:revision>
  <dc:subject/>
  <dc:title>ЖИЛИЩЕ ЧЕЛОВЕКА  ОСОБЕННОСТИ ЖИЗНЕОБЕСПЕЧЕНИЯ  ЖИЛИЩА</dc:title>
</cp:coreProperties>
</file>