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D59-8D03-434A-A763-F3855F16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339-4630-4685-BE9E-C29C1879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78D-AA2E-4539-8F27-881E385F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905-54DE-47B2-94A2-0508AFEA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3CA-A901-4077-8A7E-203DEB6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759-956A-4F6E-88A6-010B21E6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B1D-533F-4295-B20D-FD6FF1BD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683-FAAB-4795-A852-E5158BA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125-C80A-4D8E-82A2-F72701D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5BE-6778-4047-B1C0-C866EA7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932-0607-4407-882D-D3EEF72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AFE-E955-47DD-928F-E460DA3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84D3-F880-4631-9E5B-0689087A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сновные  формулы  для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 со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54000"/>
            <a:ext cx="5400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50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53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57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61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65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69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73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77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81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85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89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93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97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101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105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109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13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251240" y="2801880"/>
            <a:ext cx="3736800" cy="3876840"/>
            <a:chOff x="4251240" y="2801880"/>
            <a:chExt cx="3736800" cy="3876840"/>
          </a:xfrm>
        </p:grpSpPr>
        <p:sp>
          <p:nvSpPr>
            <p:cNvPr id="120" name=""/>
            <p:cNvSpPr/>
            <p:nvPr/>
          </p:nvSpPr>
          <p:spPr>
            <a:xfrm flipV="1">
              <a:off x="4251240" y="2801160"/>
              <a:ext cx="3736800" cy="38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8400" y="5621400"/>
              <a:ext cx="3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05160" y="1314360"/>
            <a:ext cx="0" cy="5086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028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1052640"/>
            <a:ext cx="3808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3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059280" y="1341360"/>
            <a:ext cx="2217600" cy="2575080"/>
            <a:chOff x="3059280" y="1341360"/>
            <a:chExt cx="2217600" cy="2575080"/>
          </a:xfrm>
        </p:grpSpPr>
        <p:sp>
          <p:nvSpPr>
            <p:cNvPr id="134" name=""/>
            <p:cNvSpPr/>
            <p:nvPr/>
          </p:nvSpPr>
          <p:spPr>
            <a:xfrm flipV="1">
              <a:off x="4227480" y="210348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3059280" y="1341360"/>
            <a:ext cx="2217600" cy="95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9280" y="1341360"/>
                      <a:ext cx="2217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380880" y="3386160"/>
            <a:ext cx="3831840" cy="576360"/>
            <a:chOff x="380880" y="3386160"/>
            <a:chExt cx="3831840" cy="576360"/>
          </a:xfrm>
        </p:grpSpPr>
        <p:sp>
          <p:nvSpPr>
            <p:cNvPr id="138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380880" y="3386160"/>
            <a:ext cx="1998720" cy="5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3386160"/>
                      <a:ext cx="19987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3355920" y="3936960"/>
            <a:ext cx="1859040" cy="2736720"/>
            <a:chOff x="3355920" y="3936960"/>
            <a:chExt cx="1859040" cy="2736720"/>
          </a:xfrm>
        </p:grpSpPr>
        <p:sp>
          <p:nvSpPr>
            <p:cNvPr id="142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3355920" y="5715000"/>
            <a:ext cx="1859040" cy="958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5920" y="57150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207680" y="3931200"/>
            <a:ext cx="2718720" cy="2393280"/>
            <a:chOff x="4207680" y="3931200"/>
            <a:chExt cx="2718720" cy="2393280"/>
          </a:xfrm>
        </p:grpSpPr>
        <p:sp>
          <p:nvSpPr>
            <p:cNvPr id="146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067360" y="5338800"/>
            <a:ext cx="1859040" cy="98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67360" y="5338800"/>
                      <a:ext cx="18590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210560" y="3948480"/>
            <a:ext cx="3219120" cy="1918800"/>
            <a:chOff x="4210560" y="3948480"/>
            <a:chExt cx="3219120" cy="1918800"/>
          </a:xfrm>
        </p:grpSpPr>
        <p:sp>
          <p:nvSpPr>
            <p:cNvPr id="150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5570640" y="4908600"/>
            <a:ext cx="1859040" cy="958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70640" y="49086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54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164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67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171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4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175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179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183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6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187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191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195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199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03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07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11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15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8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219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2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223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227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0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2400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75480" y="3017880"/>
            <a:ext cx="1440" cy="1782720"/>
          </a:xfrm>
          <a:custGeom>
            <a:avLst/>
            <a:gdLst/>
            <a:ahLst/>
            <a:rect l="l" t="t" r="r" b="b"/>
            <a:pathLst>
              <a:path w="1" h="1123">
                <a:moveTo>
                  <a:pt x="0" y="0"/>
                </a:moveTo>
                <a:lnTo>
                  <a:pt x="0" y="1123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70560" y="2651040"/>
            <a:ext cx="31680" cy="2546280"/>
          </a:xfrm>
          <a:custGeom>
            <a:avLst/>
            <a:gdLst/>
            <a:ahLst/>
            <a:rect l="l" t="t" r="r" b="b"/>
            <a:pathLst>
              <a:path w="20" h="1604">
                <a:moveTo>
                  <a:pt x="20" y="0"/>
                </a:moveTo>
                <a:lnTo>
                  <a:pt x="0" y="16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89680" y="2362320"/>
            <a:ext cx="15840" cy="3093840"/>
          </a:xfrm>
          <a:custGeom>
            <a:avLst/>
            <a:gdLst/>
            <a:ahLst/>
            <a:rect l="l" t="t" r="r" b="b"/>
            <a:pathLst>
              <a:path w="10" h="1949">
                <a:moveTo>
                  <a:pt x="10" y="0"/>
                </a:moveTo>
                <a:lnTo>
                  <a:pt x="0" y="1949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6600" y="2362320"/>
            <a:ext cx="1800" cy="3124080"/>
          </a:xfrm>
          <a:custGeom>
            <a:avLst/>
            <a:gdLst/>
            <a:ahLst/>
            <a:rect l="l" t="t" r="r" b="b"/>
            <a:pathLst>
              <a:path w="1" h="1968">
                <a:moveTo>
                  <a:pt x="0" y="0"/>
                </a:moveTo>
                <a:lnTo>
                  <a:pt x="0" y="1968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25720" y="2651040"/>
            <a:ext cx="1800" cy="2590920"/>
          </a:xfrm>
          <a:custGeom>
            <a:avLst/>
            <a:gdLst/>
            <a:ahLst/>
            <a:rect l="l" t="t" r="r" b="b"/>
            <a:pathLst>
              <a:path w="1" h="1632">
                <a:moveTo>
                  <a:pt x="0" y="0"/>
                </a:moveTo>
                <a:lnTo>
                  <a:pt x="0" y="163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51040" y="3048120"/>
            <a:ext cx="1800" cy="1752480"/>
          </a:xfrm>
          <a:custGeom>
            <a:avLst/>
            <a:gdLst/>
            <a:ahLst/>
            <a:rect l="l" t="t" r="r" b="b"/>
            <a:pathLst>
              <a:path w="1" h="1104">
                <a:moveTo>
                  <a:pt x="0" y="0"/>
                </a:moveTo>
                <a:lnTo>
                  <a:pt x="0" y="11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247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25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254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258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262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5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266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270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3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274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278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282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86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90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3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94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7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98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1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302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5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306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310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2400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51040" y="3017880"/>
            <a:ext cx="3156120" cy="30240"/>
          </a:xfrm>
          <a:custGeom>
            <a:avLst/>
            <a:gdLst/>
            <a:ahLst/>
            <a:rect l="l" t="t" r="r" b="b"/>
            <a:pathLst>
              <a:path w="1988" h="19">
                <a:moveTo>
                  <a:pt x="0" y="0"/>
                </a:moveTo>
                <a:lnTo>
                  <a:pt x="1988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41560" y="2620800"/>
            <a:ext cx="2590920" cy="30240"/>
          </a:xfrm>
          <a:custGeom>
            <a:avLst/>
            <a:gdLst/>
            <a:ahLst/>
            <a:rect l="l" t="t" r="r" b="b"/>
            <a:pathLst>
              <a:path w="1632" h="19">
                <a:moveTo>
                  <a:pt x="0" y="0"/>
                </a:moveTo>
                <a:lnTo>
                  <a:pt x="1632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36840" y="2346480"/>
            <a:ext cx="1784520" cy="15840"/>
          </a:xfrm>
          <a:custGeom>
            <a:avLst/>
            <a:gdLst/>
            <a:ahLst/>
            <a:rect l="l" t="t" r="r" b="b"/>
            <a:pathLst>
              <a:path w="1124" h="10">
                <a:moveTo>
                  <a:pt x="0" y="10"/>
                </a:moveTo>
                <a:lnTo>
                  <a:pt x="112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sin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Знаки  тригонометрических  фун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2060640"/>
            <a:ext cx="3865680" cy="367344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3933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64160" y="1401840"/>
            <a:ext cx="14040" cy="5181480"/>
          </a:xfrm>
          <a:custGeom>
            <a:avLst/>
            <a:gdLst/>
            <a:ahLst/>
            <a:rect l="l" t="t" r="r" b="b"/>
            <a:pathLst>
              <a:path w="9" h="3264">
                <a:moveTo>
                  <a:pt x="9" y="326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2421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980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5440" y="4292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9800" y="4292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1413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22920" y="2205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1413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205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581360"/>
            <a:ext cx="2521080" cy="6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5373720"/>
            <a:ext cx="252072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22920" y="4653000"/>
            <a:ext cx="252108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5445000"/>
            <a:ext cx="252108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522936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42100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360" y="6237360"/>
            <a:ext cx="237492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365 -0.00394 -0.01337 -0.01737 -0.0217 -0.02408 C -0.03004 -0.03079 -0.03889 -0.03473 -0.05 -0.04005 C -0.06111 -0.04537 -0.07743 -0.05232 -0.0882 -0.05556 C -0.09896 -0.0588 -0.10521 -0.05926 -0.11493 -0.05996 C -0.12466 -0.06065 -0.1316 -0.0625 -0.14653 -0.05996 C -0.16146 -0.05741 -0.18716 -0.05232 -0.20486 -0.04445 C -0.22257 -0.03658 -0.2375 -0.02616 -0.2533 -0.0132 C -0.2691 -0.000240000000000001 -0.28941 0.01851 -0.3 0.03333 C -0.31059 0.04814 -0.31372 0.0618 -0.31667 0.07569 E">
                                      <p:cBhvr>
                                        <p:cTn id="49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48148E-006 C -0.00261 0.00532 -0.01181 0.01991 -0.01615 0.03102 C -0.02032 0.04329 -0.0224 0.05509 -0.02535 0.07037 C -0.0283 0.08542 -0.03195 0.1081 -0.03334 0.12222 C -0.03438 0.1368 -0.03525 0.14606 -0.03386 0.1581 C -0.03247 0.17014 -0.02848 0.17893 -0.025 0.19514 C -0.02153 0.21134 -0.01806 0.23935 -0.01337 0.25532 C -0.00868 0.27129 -0.00365 0.2794 0.00329 0.29074 C 0.01024 0.30208 0.02118 0.31481 0.02829 0.32407 C 0.03541 0.33333 0.0427 0.34167 0.04652 0.34629 E">
                                      <p:cBhvr>
                                        <p:cTn id="5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00312 0.00439 0.01284 0.01782 0.02118 0.02453 C 0.02951 0.03125 0.03836 0.03518 0.04948 0.04051 C 0.06059 0.04583 0.07691 0.05277 0.08767 0.05601 C 0.09843 0.05926 0.10468 0.05972 0.11441 0.06041 C 0.12413 0.06111 0.13107 0.06203 0.146 0.06041 C 0.16093 0.05879 0.18559 0.05648 0.20382 0.05092 C 0.22204 0.04537 0.23958 0.04027 0.25555 0.02639 C 0.27152 0.0125 0.28836 -0.01667 0.29948 -0.03287 C 0.31059 -0.04908 0.31753 -0.0632 0.32222 -0.0713 E">
                                      <p:cBhvr>
                                        <p:cTn id="56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Домашнее 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rot="381600">
            <a:off x="4965480" y="693720"/>
            <a:ext cx="3851280" cy="5319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1 (а,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9 (в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5:28:14Z</dcterms:created>
  <dc:creator>Марина</dc:creator>
  <dc:description/>
  <dc:language>en-US</dc:language>
  <cp:lastModifiedBy>Каратанова</cp:lastModifiedBy>
  <dcterms:modified xsi:type="dcterms:W3CDTF">2008-06-28T22:19:46Z</dcterms:modified>
  <cp:revision>3</cp:revision>
  <dc:subject/>
  <dc:title>Слайд 1</dc:title>
</cp:coreProperties>
</file>