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900-7D39-43EA-8FE8-CBC6D698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E62-1DF2-49E6-A7AA-77C5B82E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25B-EE08-4384-B1BB-1BD8B4E3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65E-74FD-436A-A877-CF6D9F2F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8AB-8019-48DA-AEB3-3AF5778D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B75-6C2D-42A0-B020-75FC3FAC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07F-9CF9-46EC-A54F-A05BBC61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20B-8C34-4604-AE4B-051010BC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597-08C6-4D0C-A0E1-3FE45C19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3AA-B309-4EBB-BDFC-406B2358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66B-8D03-4281-9AAA-2C8D279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4B5-5DE4-4185-83B6-7FD5D80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6482-52C7-4A77-830A-7E13114B5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013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Основные  формулы  для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i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 со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</a:t>
            </a:r>
            <a:r>
              <a:rPr b="1" i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54000"/>
            <a:ext cx="54007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5160" y="17524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8720" y="3500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2682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92880" y="1436400"/>
            <a:ext cx="3587040" cy="3528000"/>
            <a:chOff x="3692880" y="1436400"/>
            <a:chExt cx="3587040" cy="3528000"/>
          </a:xfrm>
        </p:grpSpPr>
        <p:sp>
          <p:nvSpPr>
            <p:cNvPr id="50" name=""/>
            <p:cNvSpPr/>
            <p:nvPr/>
          </p:nvSpPr>
          <p:spPr>
            <a:xfrm>
              <a:off x="3692880" y="1436400"/>
              <a:ext cx="3587040" cy="35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2232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33600" y="19130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53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" name=""/>
          <p:cNvGrpSpPr/>
          <p:nvPr/>
        </p:nvGrpSpPr>
        <p:grpSpPr>
          <a:xfrm>
            <a:off x="4188600" y="2492280"/>
            <a:ext cx="3033000" cy="1438920"/>
            <a:chOff x="4188600" y="2492280"/>
            <a:chExt cx="3033000" cy="1438920"/>
          </a:xfrm>
        </p:grpSpPr>
        <p:sp>
          <p:nvSpPr>
            <p:cNvPr id="57" name=""/>
            <p:cNvSpPr/>
            <p:nvPr/>
          </p:nvSpPr>
          <p:spPr>
            <a:xfrm flipV="1">
              <a:off x="4188600" y="30247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5880240" y="2492280"/>
            <a:ext cx="1341360" cy="98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0240" y="2492280"/>
                      <a:ext cx="134136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4215240" y="2027160"/>
            <a:ext cx="2719080" cy="1915560"/>
            <a:chOff x="4215240" y="2027160"/>
            <a:chExt cx="2719080" cy="1915560"/>
          </a:xfrm>
        </p:grpSpPr>
        <p:sp>
          <p:nvSpPr>
            <p:cNvPr id="61" name=""/>
            <p:cNvSpPr/>
            <p:nvPr/>
          </p:nvSpPr>
          <p:spPr>
            <a:xfrm flipV="1">
              <a:off x="421524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5564160" y="2027160"/>
            <a:ext cx="13701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4160" y="2027160"/>
                      <a:ext cx="13701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" name=""/>
          <p:cNvGrpSpPr/>
          <p:nvPr/>
        </p:nvGrpSpPr>
        <p:grpSpPr>
          <a:xfrm>
            <a:off x="4207680" y="1681200"/>
            <a:ext cx="2369160" cy="2258280"/>
            <a:chOff x="4207680" y="1681200"/>
            <a:chExt cx="2369160" cy="2258280"/>
          </a:xfrm>
        </p:grpSpPr>
        <p:sp>
          <p:nvSpPr>
            <p:cNvPr id="65" name=""/>
            <p:cNvSpPr/>
            <p:nvPr/>
          </p:nvSpPr>
          <p:spPr>
            <a:xfrm flipV="1">
              <a:off x="4207680" y="236916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207040" y="1681200"/>
            <a:ext cx="1369800" cy="98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7040" y="1681200"/>
                      <a:ext cx="13698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4211640" y="1413000"/>
            <a:ext cx="1411200" cy="2534400"/>
            <a:chOff x="4211640" y="1413000"/>
            <a:chExt cx="1411200" cy="2534400"/>
          </a:xfrm>
        </p:grpSpPr>
        <p:sp>
          <p:nvSpPr>
            <p:cNvPr id="69" name=""/>
            <p:cNvSpPr/>
            <p:nvPr/>
          </p:nvSpPr>
          <p:spPr>
            <a:xfrm flipV="1">
              <a:off x="4211640" y="2134800"/>
              <a:ext cx="0" cy="1812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4281480" y="1413000"/>
            <a:ext cx="1341360" cy="9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1480" y="1413000"/>
                      <a:ext cx="13413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"/>
          <p:cNvGrpSpPr/>
          <p:nvPr/>
        </p:nvGrpSpPr>
        <p:grpSpPr>
          <a:xfrm>
            <a:off x="1427040" y="1600200"/>
            <a:ext cx="2785320" cy="2342520"/>
            <a:chOff x="1427040" y="1600200"/>
            <a:chExt cx="2785320" cy="2342520"/>
          </a:xfrm>
        </p:grpSpPr>
        <p:sp>
          <p:nvSpPr>
            <p:cNvPr id="73" name=""/>
            <p:cNvSpPr/>
            <p:nvPr/>
          </p:nvSpPr>
          <p:spPr>
            <a:xfrm flipH="1" flipV="1">
              <a:off x="3305880" y="23724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1427040" y="1600200"/>
            <a:ext cx="1697040" cy="98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7040" y="160020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" name=""/>
          <p:cNvGrpSpPr/>
          <p:nvPr/>
        </p:nvGrpSpPr>
        <p:grpSpPr>
          <a:xfrm>
            <a:off x="1219320" y="1981080"/>
            <a:ext cx="2990160" cy="1961640"/>
            <a:chOff x="1219320" y="1981080"/>
            <a:chExt cx="2990160" cy="1961640"/>
          </a:xfrm>
        </p:grpSpPr>
        <p:sp>
          <p:nvSpPr>
            <p:cNvPr id="77" name=""/>
            <p:cNvSpPr/>
            <p:nvPr/>
          </p:nvSpPr>
          <p:spPr>
            <a:xfrm flipH="1" flipV="1">
              <a:off x="292788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1219320" y="1981080"/>
            <a:ext cx="16700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19320" y="1981080"/>
                      <a:ext cx="16700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" name=""/>
          <p:cNvGrpSpPr/>
          <p:nvPr/>
        </p:nvGrpSpPr>
        <p:grpSpPr>
          <a:xfrm>
            <a:off x="741240" y="2441520"/>
            <a:ext cx="3465000" cy="1504080"/>
            <a:chOff x="741240" y="2441520"/>
            <a:chExt cx="3465000" cy="1504080"/>
          </a:xfrm>
        </p:grpSpPr>
        <p:sp>
          <p:nvSpPr>
            <p:cNvPr id="81" name=""/>
            <p:cNvSpPr/>
            <p:nvPr/>
          </p:nvSpPr>
          <p:spPr>
            <a:xfrm flipH="1" flipV="1">
              <a:off x="2635920" y="30391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741240" y="2441520"/>
            <a:ext cx="1697040" cy="98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1240" y="244152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" name=""/>
          <p:cNvGrpSpPr/>
          <p:nvPr/>
        </p:nvGrpSpPr>
        <p:grpSpPr>
          <a:xfrm>
            <a:off x="835200" y="3386160"/>
            <a:ext cx="3377520" cy="576360"/>
            <a:chOff x="835200" y="3386160"/>
            <a:chExt cx="3377520" cy="576360"/>
          </a:xfrm>
        </p:grpSpPr>
        <p:sp>
          <p:nvSpPr>
            <p:cNvPr id="85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835200" y="3386160"/>
            <a:ext cx="1450800" cy="57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5200" y="3386160"/>
                      <a:ext cx="14508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" name=""/>
          <p:cNvGrpSpPr/>
          <p:nvPr/>
        </p:nvGrpSpPr>
        <p:grpSpPr>
          <a:xfrm>
            <a:off x="763560" y="3948840"/>
            <a:ext cx="3442680" cy="1347120"/>
            <a:chOff x="763560" y="3948840"/>
            <a:chExt cx="3442680" cy="1347120"/>
          </a:xfrm>
        </p:grpSpPr>
        <p:graphicFrame>
          <p:nvGraphicFramePr>
            <p:cNvPr id="89" name=""/>
            <p:cNvGraphicFramePr/>
            <p:nvPr/>
          </p:nvGraphicFramePr>
          <p:xfrm>
            <a:off x="763560" y="4309920"/>
            <a:ext cx="1751040" cy="98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3560" y="430992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 flipH="1">
              <a:off x="2635920" y="39488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66680" y="3948840"/>
            <a:ext cx="3142800" cy="1963080"/>
            <a:chOff x="1066680" y="3948840"/>
            <a:chExt cx="3142800" cy="1963080"/>
          </a:xfrm>
        </p:grpSpPr>
        <p:sp>
          <p:nvSpPr>
            <p:cNvPr id="93" name=""/>
            <p:cNvSpPr/>
            <p:nvPr/>
          </p:nvSpPr>
          <p:spPr>
            <a:xfrm flipH="1">
              <a:off x="2927880" y="394884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066680" y="4952880"/>
            <a:ext cx="1722600" cy="959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66680" y="4952880"/>
                      <a:ext cx="172260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638360" y="3931200"/>
            <a:ext cx="2574000" cy="2677680"/>
            <a:chOff x="1638360" y="3931200"/>
            <a:chExt cx="2574000" cy="2677680"/>
          </a:xfrm>
        </p:grpSpPr>
        <p:sp>
          <p:nvSpPr>
            <p:cNvPr id="97" name=""/>
            <p:cNvSpPr/>
            <p:nvPr/>
          </p:nvSpPr>
          <p:spPr>
            <a:xfrm flipH="1">
              <a:off x="33058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638360" y="5622840"/>
            <a:ext cx="1751040" cy="98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38360" y="562284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3424320" y="3936960"/>
            <a:ext cx="1722240" cy="2736720"/>
            <a:chOff x="3424320" y="3936960"/>
            <a:chExt cx="1722240" cy="2736720"/>
          </a:xfrm>
        </p:grpSpPr>
        <p:sp>
          <p:nvSpPr>
            <p:cNvPr id="101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3424320" y="5715000"/>
            <a:ext cx="1722240" cy="958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24320" y="5715000"/>
                      <a:ext cx="17222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4207680" y="3931200"/>
            <a:ext cx="2650320" cy="2393280"/>
            <a:chOff x="4207680" y="3931200"/>
            <a:chExt cx="2650320" cy="2393280"/>
          </a:xfrm>
        </p:grpSpPr>
        <p:sp>
          <p:nvSpPr>
            <p:cNvPr id="105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5135400" y="5338800"/>
            <a:ext cx="1722600" cy="985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135400" y="5338800"/>
                      <a:ext cx="17226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4210560" y="3948480"/>
            <a:ext cx="3150720" cy="1918800"/>
            <a:chOff x="4210560" y="3948480"/>
            <a:chExt cx="3150720" cy="1918800"/>
          </a:xfrm>
        </p:grpSpPr>
        <p:sp>
          <p:nvSpPr>
            <p:cNvPr id="109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5638680" y="4908600"/>
            <a:ext cx="1722600" cy="958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908600"/>
                      <a:ext cx="1722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2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113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" name=""/>
          <p:cNvGraphicFramePr/>
          <p:nvPr/>
        </p:nvGraphicFramePr>
        <p:xfrm>
          <a:off x="6027840" y="3921120"/>
          <a:ext cx="1668240" cy="574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27840" y="3921120"/>
                    <a:ext cx="1668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080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Градусы и ради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251240" y="2801880"/>
            <a:ext cx="3736800" cy="3876840"/>
            <a:chOff x="4251240" y="2801880"/>
            <a:chExt cx="3736800" cy="3876840"/>
          </a:xfrm>
        </p:grpSpPr>
        <p:sp>
          <p:nvSpPr>
            <p:cNvPr id="120" name=""/>
            <p:cNvSpPr/>
            <p:nvPr/>
          </p:nvSpPr>
          <p:spPr>
            <a:xfrm flipV="1">
              <a:off x="4251240" y="2801160"/>
              <a:ext cx="3736800" cy="387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28400" y="5621400"/>
              <a:ext cx="32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080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Градусы и ради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05160" y="1314360"/>
            <a:ext cx="0" cy="5086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50028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1052640"/>
            <a:ext cx="3808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130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059280" y="1341360"/>
            <a:ext cx="2217600" cy="2575080"/>
            <a:chOff x="3059280" y="1341360"/>
            <a:chExt cx="2217600" cy="2575080"/>
          </a:xfrm>
        </p:grpSpPr>
        <p:sp>
          <p:nvSpPr>
            <p:cNvPr id="134" name=""/>
            <p:cNvSpPr/>
            <p:nvPr/>
          </p:nvSpPr>
          <p:spPr>
            <a:xfrm flipV="1">
              <a:off x="4227480" y="210348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3059280" y="1341360"/>
            <a:ext cx="2217600" cy="95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59280" y="1341360"/>
                      <a:ext cx="2217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380880" y="3386160"/>
            <a:ext cx="3831840" cy="576360"/>
            <a:chOff x="380880" y="3386160"/>
            <a:chExt cx="3831840" cy="576360"/>
          </a:xfrm>
        </p:grpSpPr>
        <p:sp>
          <p:nvSpPr>
            <p:cNvPr id="138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380880" y="3386160"/>
            <a:ext cx="1998720" cy="5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3386160"/>
                      <a:ext cx="199872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" name=""/>
          <p:cNvGrpSpPr/>
          <p:nvPr/>
        </p:nvGrpSpPr>
        <p:grpSpPr>
          <a:xfrm>
            <a:off x="3355920" y="3936960"/>
            <a:ext cx="1859040" cy="2736720"/>
            <a:chOff x="3355920" y="3936960"/>
            <a:chExt cx="1859040" cy="2736720"/>
          </a:xfrm>
        </p:grpSpPr>
        <p:sp>
          <p:nvSpPr>
            <p:cNvPr id="142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3355920" y="5715000"/>
            <a:ext cx="1859040" cy="958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5920" y="5715000"/>
                      <a:ext cx="18590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4207680" y="3931200"/>
            <a:ext cx="2718720" cy="2393280"/>
            <a:chOff x="4207680" y="3931200"/>
            <a:chExt cx="2718720" cy="2393280"/>
          </a:xfrm>
        </p:grpSpPr>
        <p:sp>
          <p:nvSpPr>
            <p:cNvPr id="146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5067360" y="5338800"/>
            <a:ext cx="1859040" cy="98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67360" y="5338800"/>
                      <a:ext cx="18590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4210560" y="3948480"/>
            <a:ext cx="3219120" cy="1918800"/>
            <a:chOff x="4210560" y="3948480"/>
            <a:chExt cx="3219120" cy="1918800"/>
          </a:xfrm>
        </p:grpSpPr>
        <p:sp>
          <p:nvSpPr>
            <p:cNvPr id="150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5570640" y="4908600"/>
            <a:ext cx="1859040" cy="958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70640" y="4908600"/>
                      <a:ext cx="18590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3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154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05160" y="17524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3500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2682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692880" y="1436400"/>
            <a:ext cx="3587040" cy="3528000"/>
            <a:chOff x="3692880" y="1436400"/>
            <a:chExt cx="3587040" cy="3528000"/>
          </a:xfrm>
        </p:grpSpPr>
        <p:sp>
          <p:nvSpPr>
            <p:cNvPr id="164" name=""/>
            <p:cNvSpPr/>
            <p:nvPr/>
          </p:nvSpPr>
          <p:spPr>
            <a:xfrm>
              <a:off x="3692880" y="1436400"/>
              <a:ext cx="3587040" cy="35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2232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3600" y="19130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167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4188600" y="2492280"/>
            <a:ext cx="3033000" cy="1438920"/>
            <a:chOff x="4188600" y="2492280"/>
            <a:chExt cx="3033000" cy="1438920"/>
          </a:xfrm>
        </p:grpSpPr>
        <p:sp>
          <p:nvSpPr>
            <p:cNvPr id="171" name=""/>
            <p:cNvSpPr/>
            <p:nvPr/>
          </p:nvSpPr>
          <p:spPr>
            <a:xfrm flipV="1">
              <a:off x="4188600" y="30247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5880240" y="2492280"/>
            <a:ext cx="1341360" cy="98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0240" y="2492280"/>
                      <a:ext cx="134136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4" name=""/>
          <p:cNvGrpSpPr/>
          <p:nvPr/>
        </p:nvGrpSpPr>
        <p:grpSpPr>
          <a:xfrm>
            <a:off x="4215240" y="2027160"/>
            <a:ext cx="2719080" cy="1915560"/>
            <a:chOff x="4215240" y="2027160"/>
            <a:chExt cx="2719080" cy="1915560"/>
          </a:xfrm>
        </p:grpSpPr>
        <p:sp>
          <p:nvSpPr>
            <p:cNvPr id="175" name=""/>
            <p:cNvSpPr/>
            <p:nvPr/>
          </p:nvSpPr>
          <p:spPr>
            <a:xfrm flipV="1">
              <a:off x="421524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5564160" y="2027160"/>
            <a:ext cx="13701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4160" y="2027160"/>
                      <a:ext cx="13701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8" name=""/>
          <p:cNvGrpSpPr/>
          <p:nvPr/>
        </p:nvGrpSpPr>
        <p:grpSpPr>
          <a:xfrm>
            <a:off x="4207680" y="1681200"/>
            <a:ext cx="2369160" cy="2258280"/>
            <a:chOff x="4207680" y="1681200"/>
            <a:chExt cx="2369160" cy="2258280"/>
          </a:xfrm>
        </p:grpSpPr>
        <p:sp>
          <p:nvSpPr>
            <p:cNvPr id="179" name=""/>
            <p:cNvSpPr/>
            <p:nvPr/>
          </p:nvSpPr>
          <p:spPr>
            <a:xfrm flipV="1">
              <a:off x="4207680" y="236916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5207040" y="1681200"/>
            <a:ext cx="1369800" cy="98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7040" y="1681200"/>
                      <a:ext cx="13698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2" name=""/>
          <p:cNvGrpSpPr/>
          <p:nvPr/>
        </p:nvGrpSpPr>
        <p:grpSpPr>
          <a:xfrm>
            <a:off x="4211640" y="1413000"/>
            <a:ext cx="1411200" cy="2534400"/>
            <a:chOff x="4211640" y="1413000"/>
            <a:chExt cx="1411200" cy="2534400"/>
          </a:xfrm>
        </p:grpSpPr>
        <p:sp>
          <p:nvSpPr>
            <p:cNvPr id="183" name=""/>
            <p:cNvSpPr/>
            <p:nvPr/>
          </p:nvSpPr>
          <p:spPr>
            <a:xfrm flipV="1">
              <a:off x="4211640" y="2134800"/>
              <a:ext cx="0" cy="1812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4281480" y="1413000"/>
            <a:ext cx="1341360" cy="9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1480" y="1413000"/>
                      <a:ext cx="13413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6" name=""/>
          <p:cNvGrpSpPr/>
          <p:nvPr/>
        </p:nvGrpSpPr>
        <p:grpSpPr>
          <a:xfrm>
            <a:off x="1427040" y="1600200"/>
            <a:ext cx="2785320" cy="2342520"/>
            <a:chOff x="1427040" y="1600200"/>
            <a:chExt cx="2785320" cy="2342520"/>
          </a:xfrm>
        </p:grpSpPr>
        <p:sp>
          <p:nvSpPr>
            <p:cNvPr id="187" name=""/>
            <p:cNvSpPr/>
            <p:nvPr/>
          </p:nvSpPr>
          <p:spPr>
            <a:xfrm flipH="1" flipV="1">
              <a:off x="3305880" y="23724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1427040" y="1600200"/>
            <a:ext cx="1697040" cy="98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7040" y="160020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"/>
          <p:cNvGrpSpPr/>
          <p:nvPr/>
        </p:nvGrpSpPr>
        <p:grpSpPr>
          <a:xfrm>
            <a:off x="1219320" y="1981080"/>
            <a:ext cx="2990160" cy="1961640"/>
            <a:chOff x="1219320" y="1981080"/>
            <a:chExt cx="2990160" cy="1961640"/>
          </a:xfrm>
        </p:grpSpPr>
        <p:sp>
          <p:nvSpPr>
            <p:cNvPr id="191" name=""/>
            <p:cNvSpPr/>
            <p:nvPr/>
          </p:nvSpPr>
          <p:spPr>
            <a:xfrm flipH="1" flipV="1">
              <a:off x="292788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1219320" y="1981080"/>
            <a:ext cx="16700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19320" y="1981080"/>
                      <a:ext cx="16700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"/>
          <p:cNvGrpSpPr/>
          <p:nvPr/>
        </p:nvGrpSpPr>
        <p:grpSpPr>
          <a:xfrm>
            <a:off x="741240" y="2441520"/>
            <a:ext cx="3465000" cy="1504080"/>
            <a:chOff x="741240" y="2441520"/>
            <a:chExt cx="3465000" cy="1504080"/>
          </a:xfrm>
        </p:grpSpPr>
        <p:sp>
          <p:nvSpPr>
            <p:cNvPr id="195" name=""/>
            <p:cNvSpPr/>
            <p:nvPr/>
          </p:nvSpPr>
          <p:spPr>
            <a:xfrm flipH="1" flipV="1">
              <a:off x="2635920" y="30391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741240" y="2441520"/>
            <a:ext cx="1697040" cy="98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1240" y="244152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8" name=""/>
          <p:cNvGrpSpPr/>
          <p:nvPr/>
        </p:nvGrpSpPr>
        <p:grpSpPr>
          <a:xfrm>
            <a:off x="835200" y="3386160"/>
            <a:ext cx="3377520" cy="576360"/>
            <a:chOff x="835200" y="3386160"/>
            <a:chExt cx="3377520" cy="576360"/>
          </a:xfrm>
        </p:grpSpPr>
        <p:sp>
          <p:nvSpPr>
            <p:cNvPr id="199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835200" y="3386160"/>
            <a:ext cx="1450800" cy="57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5200" y="3386160"/>
                      <a:ext cx="14508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"/>
          <p:cNvGrpSpPr/>
          <p:nvPr/>
        </p:nvGrpSpPr>
        <p:grpSpPr>
          <a:xfrm>
            <a:off x="763560" y="3948840"/>
            <a:ext cx="3442680" cy="1347120"/>
            <a:chOff x="763560" y="3948840"/>
            <a:chExt cx="3442680" cy="1347120"/>
          </a:xfrm>
        </p:grpSpPr>
        <p:graphicFrame>
          <p:nvGraphicFramePr>
            <p:cNvPr id="203" name=""/>
            <p:cNvGraphicFramePr/>
            <p:nvPr/>
          </p:nvGraphicFramePr>
          <p:xfrm>
            <a:off x="763560" y="4309920"/>
            <a:ext cx="1751040" cy="98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3560" y="430992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"/>
            <p:cNvSpPr/>
            <p:nvPr/>
          </p:nvSpPr>
          <p:spPr>
            <a:xfrm flipH="1">
              <a:off x="2635920" y="39488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6680" y="3948840"/>
            <a:ext cx="3142800" cy="1963080"/>
            <a:chOff x="1066680" y="3948840"/>
            <a:chExt cx="3142800" cy="1963080"/>
          </a:xfrm>
        </p:grpSpPr>
        <p:sp>
          <p:nvSpPr>
            <p:cNvPr id="207" name=""/>
            <p:cNvSpPr/>
            <p:nvPr/>
          </p:nvSpPr>
          <p:spPr>
            <a:xfrm flipH="1">
              <a:off x="2927880" y="394884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1066680" y="4952880"/>
            <a:ext cx="1722600" cy="959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66680" y="4952880"/>
                      <a:ext cx="172260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"/>
          <p:cNvGrpSpPr/>
          <p:nvPr/>
        </p:nvGrpSpPr>
        <p:grpSpPr>
          <a:xfrm>
            <a:off x="1638360" y="3931200"/>
            <a:ext cx="2574000" cy="2677680"/>
            <a:chOff x="1638360" y="3931200"/>
            <a:chExt cx="2574000" cy="2677680"/>
          </a:xfrm>
        </p:grpSpPr>
        <p:sp>
          <p:nvSpPr>
            <p:cNvPr id="211" name=""/>
            <p:cNvSpPr/>
            <p:nvPr/>
          </p:nvSpPr>
          <p:spPr>
            <a:xfrm flipH="1">
              <a:off x="33058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2" name=""/>
            <p:cNvGraphicFramePr/>
            <p:nvPr/>
          </p:nvGraphicFramePr>
          <p:xfrm>
            <a:off x="1638360" y="5622840"/>
            <a:ext cx="1751040" cy="98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38360" y="562284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"/>
          <p:cNvGrpSpPr/>
          <p:nvPr/>
        </p:nvGrpSpPr>
        <p:grpSpPr>
          <a:xfrm>
            <a:off x="3424320" y="3936960"/>
            <a:ext cx="1722240" cy="2736720"/>
            <a:chOff x="3424320" y="3936960"/>
            <a:chExt cx="1722240" cy="2736720"/>
          </a:xfrm>
        </p:grpSpPr>
        <p:sp>
          <p:nvSpPr>
            <p:cNvPr id="215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6" name=""/>
            <p:cNvGraphicFramePr/>
            <p:nvPr/>
          </p:nvGraphicFramePr>
          <p:xfrm>
            <a:off x="3424320" y="5715000"/>
            <a:ext cx="1722240" cy="958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24320" y="5715000"/>
                      <a:ext cx="17222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8" name=""/>
          <p:cNvGrpSpPr/>
          <p:nvPr/>
        </p:nvGrpSpPr>
        <p:grpSpPr>
          <a:xfrm>
            <a:off x="4207680" y="3931200"/>
            <a:ext cx="2650320" cy="2393280"/>
            <a:chOff x="4207680" y="3931200"/>
            <a:chExt cx="2650320" cy="2393280"/>
          </a:xfrm>
        </p:grpSpPr>
        <p:sp>
          <p:nvSpPr>
            <p:cNvPr id="219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5135400" y="5338800"/>
            <a:ext cx="1722600" cy="985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135400" y="5338800"/>
                      <a:ext cx="17226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2" name=""/>
          <p:cNvGrpSpPr/>
          <p:nvPr/>
        </p:nvGrpSpPr>
        <p:grpSpPr>
          <a:xfrm>
            <a:off x="4210560" y="3948480"/>
            <a:ext cx="3150720" cy="1918800"/>
            <a:chOff x="4210560" y="3948480"/>
            <a:chExt cx="3150720" cy="1918800"/>
          </a:xfrm>
        </p:grpSpPr>
        <p:sp>
          <p:nvSpPr>
            <p:cNvPr id="223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5638680" y="4908600"/>
            <a:ext cx="1722600" cy="958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908600"/>
                      <a:ext cx="1722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6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227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0" name=""/>
          <p:cNvGraphicFramePr/>
          <p:nvPr/>
        </p:nvGraphicFramePr>
        <p:xfrm>
          <a:off x="6027840" y="3921120"/>
          <a:ext cx="1668240" cy="574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27840" y="3921120"/>
                    <a:ext cx="1668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24000" y="333360"/>
            <a:ext cx="3816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осин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75480" y="3017880"/>
            <a:ext cx="1440" cy="1782720"/>
          </a:xfrm>
          <a:custGeom>
            <a:avLst/>
            <a:gdLst/>
            <a:ahLst/>
            <a:rect l="l" t="t" r="r" b="b"/>
            <a:pathLst>
              <a:path w="1" h="1123">
                <a:moveTo>
                  <a:pt x="0" y="0"/>
                </a:moveTo>
                <a:lnTo>
                  <a:pt x="0" y="1123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70560" y="2651040"/>
            <a:ext cx="31680" cy="2546280"/>
          </a:xfrm>
          <a:custGeom>
            <a:avLst/>
            <a:gdLst/>
            <a:ahLst/>
            <a:rect l="l" t="t" r="r" b="b"/>
            <a:pathLst>
              <a:path w="20" h="1604">
                <a:moveTo>
                  <a:pt x="20" y="0"/>
                </a:moveTo>
                <a:lnTo>
                  <a:pt x="0" y="1604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89680" y="2362320"/>
            <a:ext cx="15840" cy="3093840"/>
          </a:xfrm>
          <a:custGeom>
            <a:avLst/>
            <a:gdLst/>
            <a:ahLst/>
            <a:rect l="l" t="t" r="r" b="b"/>
            <a:pathLst>
              <a:path w="10" h="1949">
                <a:moveTo>
                  <a:pt x="10" y="0"/>
                </a:moveTo>
                <a:lnTo>
                  <a:pt x="0" y="1949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06600" y="2362320"/>
            <a:ext cx="1800" cy="3124080"/>
          </a:xfrm>
          <a:custGeom>
            <a:avLst/>
            <a:gdLst/>
            <a:ahLst/>
            <a:rect l="l" t="t" r="r" b="b"/>
            <a:pathLst>
              <a:path w="1" h="1968">
                <a:moveTo>
                  <a:pt x="0" y="0"/>
                </a:moveTo>
                <a:lnTo>
                  <a:pt x="0" y="1968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25720" y="2651040"/>
            <a:ext cx="1800" cy="2590920"/>
          </a:xfrm>
          <a:custGeom>
            <a:avLst/>
            <a:gdLst/>
            <a:ahLst/>
            <a:rect l="l" t="t" r="r" b="b"/>
            <a:pathLst>
              <a:path w="1" h="1632">
                <a:moveTo>
                  <a:pt x="0" y="0"/>
                </a:moveTo>
                <a:lnTo>
                  <a:pt x="0" y="163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51040" y="3048120"/>
            <a:ext cx="1800" cy="1752480"/>
          </a:xfrm>
          <a:custGeom>
            <a:avLst/>
            <a:gdLst/>
            <a:ahLst/>
            <a:rect l="l" t="t" r="r" b="b"/>
            <a:pathLst>
              <a:path w="1" h="1104">
                <a:moveTo>
                  <a:pt x="0" y="0"/>
                </a:moveTo>
                <a:lnTo>
                  <a:pt x="0" y="1104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333360"/>
            <a:ext cx="3816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(-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419200" y="2116080"/>
            <a:ext cx="3598920" cy="359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05160" y="1752480"/>
            <a:ext cx="0" cy="426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9304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39607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500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40360" y="12682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92880" y="1436400"/>
            <a:ext cx="3587040" cy="3528000"/>
            <a:chOff x="3692880" y="1436400"/>
            <a:chExt cx="3587040" cy="3528000"/>
          </a:xfrm>
        </p:grpSpPr>
        <p:sp>
          <p:nvSpPr>
            <p:cNvPr id="247" name=""/>
            <p:cNvSpPr/>
            <p:nvPr/>
          </p:nvSpPr>
          <p:spPr>
            <a:xfrm>
              <a:off x="3692880" y="1436400"/>
              <a:ext cx="3587040" cy="35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62" y="965"/>
                  </a:moveTo>
                  <a:arcTo wR="10800" hR="10800" stAng="-3935906" swAng="2820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62" y="965"/>
                  </a:moveTo>
                  <a:arcTo wR="10800" hR="10800" stAng="-3935906" swAng="2820912"/>
                </a:path>
              </a:pathLst>
            </a:custGeom>
            <a:noFill/>
            <a:ln w="2232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3600" y="19130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4000" y="3386160"/>
            <a:ext cx="2992680" cy="574560"/>
            <a:chOff x="4194000" y="3386160"/>
            <a:chExt cx="2992680" cy="574560"/>
          </a:xfrm>
        </p:grpSpPr>
        <p:sp>
          <p:nvSpPr>
            <p:cNvPr id="250" name=""/>
            <p:cNvSpPr/>
            <p:nvPr/>
          </p:nvSpPr>
          <p:spPr>
            <a:xfrm>
              <a:off x="4194000" y="3935520"/>
              <a:ext cx="18129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6119640" y="3386160"/>
            <a:ext cx="106704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9640" y="3386160"/>
                      <a:ext cx="106704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"/>
          <p:cNvGrpSpPr/>
          <p:nvPr/>
        </p:nvGrpSpPr>
        <p:grpSpPr>
          <a:xfrm>
            <a:off x="4188600" y="2492280"/>
            <a:ext cx="3033000" cy="1438920"/>
            <a:chOff x="4188600" y="2492280"/>
            <a:chExt cx="3033000" cy="1438920"/>
          </a:xfrm>
        </p:grpSpPr>
        <p:sp>
          <p:nvSpPr>
            <p:cNvPr id="254" name=""/>
            <p:cNvSpPr/>
            <p:nvPr/>
          </p:nvSpPr>
          <p:spPr>
            <a:xfrm flipV="1">
              <a:off x="4188600" y="30247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5880240" y="2492280"/>
            <a:ext cx="1341360" cy="98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80240" y="2492280"/>
                      <a:ext cx="134136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7" name=""/>
          <p:cNvGrpSpPr/>
          <p:nvPr/>
        </p:nvGrpSpPr>
        <p:grpSpPr>
          <a:xfrm>
            <a:off x="4215240" y="2027160"/>
            <a:ext cx="2719080" cy="1915560"/>
            <a:chOff x="4215240" y="2027160"/>
            <a:chExt cx="2719080" cy="1915560"/>
          </a:xfrm>
        </p:grpSpPr>
        <p:sp>
          <p:nvSpPr>
            <p:cNvPr id="258" name=""/>
            <p:cNvSpPr/>
            <p:nvPr/>
          </p:nvSpPr>
          <p:spPr>
            <a:xfrm flipV="1">
              <a:off x="421524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5564160" y="2027160"/>
            <a:ext cx="13701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4160" y="2027160"/>
                      <a:ext cx="13701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1" name=""/>
          <p:cNvGrpSpPr/>
          <p:nvPr/>
        </p:nvGrpSpPr>
        <p:grpSpPr>
          <a:xfrm>
            <a:off x="4207680" y="1681200"/>
            <a:ext cx="2369160" cy="2258280"/>
            <a:chOff x="4207680" y="1681200"/>
            <a:chExt cx="2369160" cy="2258280"/>
          </a:xfrm>
        </p:grpSpPr>
        <p:sp>
          <p:nvSpPr>
            <p:cNvPr id="262" name=""/>
            <p:cNvSpPr/>
            <p:nvPr/>
          </p:nvSpPr>
          <p:spPr>
            <a:xfrm flipV="1">
              <a:off x="4207680" y="236916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5207040" y="1681200"/>
            <a:ext cx="1369800" cy="98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7040" y="1681200"/>
                      <a:ext cx="13698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5" name=""/>
          <p:cNvGrpSpPr/>
          <p:nvPr/>
        </p:nvGrpSpPr>
        <p:grpSpPr>
          <a:xfrm>
            <a:off x="4211640" y="1413000"/>
            <a:ext cx="1411200" cy="2534400"/>
            <a:chOff x="4211640" y="1413000"/>
            <a:chExt cx="1411200" cy="2534400"/>
          </a:xfrm>
        </p:grpSpPr>
        <p:sp>
          <p:nvSpPr>
            <p:cNvPr id="266" name=""/>
            <p:cNvSpPr/>
            <p:nvPr/>
          </p:nvSpPr>
          <p:spPr>
            <a:xfrm flipV="1">
              <a:off x="4211640" y="2134800"/>
              <a:ext cx="0" cy="1812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7" name=""/>
            <p:cNvGraphicFramePr/>
            <p:nvPr/>
          </p:nvGraphicFramePr>
          <p:xfrm>
            <a:off x="4281480" y="1413000"/>
            <a:ext cx="1341360" cy="95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1480" y="1413000"/>
                      <a:ext cx="13413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9" name=""/>
          <p:cNvGrpSpPr/>
          <p:nvPr/>
        </p:nvGrpSpPr>
        <p:grpSpPr>
          <a:xfrm>
            <a:off x="1427040" y="1600200"/>
            <a:ext cx="2785320" cy="2342520"/>
            <a:chOff x="1427040" y="1600200"/>
            <a:chExt cx="2785320" cy="2342520"/>
          </a:xfrm>
        </p:grpSpPr>
        <p:sp>
          <p:nvSpPr>
            <p:cNvPr id="270" name=""/>
            <p:cNvSpPr/>
            <p:nvPr/>
          </p:nvSpPr>
          <p:spPr>
            <a:xfrm flipH="1" flipV="1">
              <a:off x="3305880" y="23724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1427040" y="1600200"/>
            <a:ext cx="1697040" cy="98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7040" y="160020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3" name=""/>
          <p:cNvGrpSpPr/>
          <p:nvPr/>
        </p:nvGrpSpPr>
        <p:grpSpPr>
          <a:xfrm>
            <a:off x="1219320" y="1981080"/>
            <a:ext cx="2990160" cy="1961640"/>
            <a:chOff x="1219320" y="1981080"/>
            <a:chExt cx="2990160" cy="1961640"/>
          </a:xfrm>
        </p:grpSpPr>
        <p:sp>
          <p:nvSpPr>
            <p:cNvPr id="274" name=""/>
            <p:cNvSpPr/>
            <p:nvPr/>
          </p:nvSpPr>
          <p:spPr>
            <a:xfrm flipH="1" flipV="1">
              <a:off x="2927880" y="266112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5" name=""/>
            <p:cNvGraphicFramePr/>
            <p:nvPr/>
          </p:nvGraphicFramePr>
          <p:xfrm>
            <a:off x="1219320" y="1981080"/>
            <a:ext cx="16700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19320" y="1981080"/>
                      <a:ext cx="16700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7" name=""/>
          <p:cNvGrpSpPr/>
          <p:nvPr/>
        </p:nvGrpSpPr>
        <p:grpSpPr>
          <a:xfrm>
            <a:off x="741240" y="2441520"/>
            <a:ext cx="3465000" cy="1504080"/>
            <a:chOff x="741240" y="2441520"/>
            <a:chExt cx="3465000" cy="1504080"/>
          </a:xfrm>
        </p:grpSpPr>
        <p:sp>
          <p:nvSpPr>
            <p:cNvPr id="278" name=""/>
            <p:cNvSpPr/>
            <p:nvPr/>
          </p:nvSpPr>
          <p:spPr>
            <a:xfrm flipH="1" flipV="1">
              <a:off x="2635920" y="303912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741240" y="2441520"/>
            <a:ext cx="1697040" cy="98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1240" y="2441520"/>
                      <a:ext cx="16970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1" name=""/>
          <p:cNvGrpSpPr/>
          <p:nvPr/>
        </p:nvGrpSpPr>
        <p:grpSpPr>
          <a:xfrm>
            <a:off x="835200" y="3386160"/>
            <a:ext cx="3377520" cy="576360"/>
            <a:chOff x="835200" y="3386160"/>
            <a:chExt cx="3377520" cy="576360"/>
          </a:xfrm>
        </p:grpSpPr>
        <p:sp>
          <p:nvSpPr>
            <p:cNvPr id="282" name=""/>
            <p:cNvSpPr/>
            <p:nvPr/>
          </p:nvSpPr>
          <p:spPr>
            <a:xfrm flipH="1">
              <a:off x="2400120" y="3949560"/>
              <a:ext cx="181260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835200" y="3386160"/>
            <a:ext cx="1450800" cy="57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5200" y="3386160"/>
                      <a:ext cx="14508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"/>
          <p:cNvGrpSpPr/>
          <p:nvPr/>
        </p:nvGrpSpPr>
        <p:grpSpPr>
          <a:xfrm>
            <a:off x="763560" y="3948840"/>
            <a:ext cx="3442680" cy="1347120"/>
            <a:chOff x="763560" y="3948840"/>
            <a:chExt cx="3442680" cy="1347120"/>
          </a:xfrm>
        </p:grpSpPr>
        <p:graphicFrame>
          <p:nvGraphicFramePr>
            <p:cNvPr id="286" name=""/>
            <p:cNvGraphicFramePr/>
            <p:nvPr/>
          </p:nvGraphicFramePr>
          <p:xfrm>
            <a:off x="763560" y="4309920"/>
            <a:ext cx="1751040" cy="986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3560" y="430992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"/>
            <p:cNvSpPr/>
            <p:nvPr/>
          </p:nvSpPr>
          <p:spPr>
            <a:xfrm flipH="1">
              <a:off x="2635920" y="39488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66680" y="3948840"/>
            <a:ext cx="3142800" cy="1963080"/>
            <a:chOff x="1066680" y="3948840"/>
            <a:chExt cx="3142800" cy="1963080"/>
          </a:xfrm>
        </p:grpSpPr>
        <p:sp>
          <p:nvSpPr>
            <p:cNvPr id="290" name=""/>
            <p:cNvSpPr/>
            <p:nvPr/>
          </p:nvSpPr>
          <p:spPr>
            <a:xfrm flipH="1">
              <a:off x="2927880" y="394884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1" name=""/>
            <p:cNvGraphicFramePr/>
            <p:nvPr/>
          </p:nvGraphicFramePr>
          <p:xfrm>
            <a:off x="1066680" y="4952880"/>
            <a:ext cx="1722600" cy="959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66680" y="4952880"/>
                      <a:ext cx="172260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3" name=""/>
          <p:cNvGrpSpPr/>
          <p:nvPr/>
        </p:nvGrpSpPr>
        <p:grpSpPr>
          <a:xfrm>
            <a:off x="1638360" y="3931200"/>
            <a:ext cx="2574000" cy="2677680"/>
            <a:chOff x="1638360" y="3931200"/>
            <a:chExt cx="2574000" cy="2677680"/>
          </a:xfrm>
        </p:grpSpPr>
        <p:sp>
          <p:nvSpPr>
            <p:cNvPr id="294" name=""/>
            <p:cNvSpPr/>
            <p:nvPr/>
          </p:nvSpPr>
          <p:spPr>
            <a:xfrm flipH="1">
              <a:off x="33058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5" name=""/>
            <p:cNvGraphicFramePr/>
            <p:nvPr/>
          </p:nvGraphicFramePr>
          <p:xfrm>
            <a:off x="1638360" y="5622840"/>
            <a:ext cx="1751040" cy="98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38360" y="5622840"/>
                      <a:ext cx="175104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7" name=""/>
          <p:cNvGrpSpPr/>
          <p:nvPr/>
        </p:nvGrpSpPr>
        <p:grpSpPr>
          <a:xfrm>
            <a:off x="3424320" y="3936960"/>
            <a:ext cx="1722240" cy="2736720"/>
            <a:chOff x="3424320" y="3936960"/>
            <a:chExt cx="1722240" cy="2736720"/>
          </a:xfrm>
        </p:grpSpPr>
        <p:sp>
          <p:nvSpPr>
            <p:cNvPr id="298" name=""/>
            <p:cNvSpPr/>
            <p:nvPr/>
          </p:nvSpPr>
          <p:spPr>
            <a:xfrm>
              <a:off x="4203720" y="3936960"/>
              <a:ext cx="0" cy="1812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9" name=""/>
            <p:cNvGraphicFramePr/>
            <p:nvPr/>
          </p:nvGraphicFramePr>
          <p:xfrm>
            <a:off x="3424320" y="5715000"/>
            <a:ext cx="1722240" cy="958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24320" y="5715000"/>
                      <a:ext cx="172224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1" name=""/>
          <p:cNvGrpSpPr/>
          <p:nvPr/>
        </p:nvGrpSpPr>
        <p:grpSpPr>
          <a:xfrm>
            <a:off x="4207680" y="3931200"/>
            <a:ext cx="2650320" cy="2393280"/>
            <a:chOff x="4207680" y="3931200"/>
            <a:chExt cx="2650320" cy="2393280"/>
          </a:xfrm>
        </p:grpSpPr>
        <p:sp>
          <p:nvSpPr>
            <p:cNvPr id="302" name=""/>
            <p:cNvSpPr/>
            <p:nvPr/>
          </p:nvSpPr>
          <p:spPr>
            <a:xfrm>
              <a:off x="4207680" y="3931200"/>
              <a:ext cx="906480" cy="15703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3" name=""/>
            <p:cNvGraphicFramePr/>
            <p:nvPr/>
          </p:nvGraphicFramePr>
          <p:xfrm>
            <a:off x="5135400" y="5338800"/>
            <a:ext cx="1722600" cy="985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135400" y="5338800"/>
                      <a:ext cx="172260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5" name=""/>
          <p:cNvGrpSpPr/>
          <p:nvPr/>
        </p:nvGrpSpPr>
        <p:grpSpPr>
          <a:xfrm>
            <a:off x="4210560" y="3948480"/>
            <a:ext cx="3150720" cy="1918800"/>
            <a:chOff x="4210560" y="3948480"/>
            <a:chExt cx="3150720" cy="1918800"/>
          </a:xfrm>
        </p:grpSpPr>
        <p:sp>
          <p:nvSpPr>
            <p:cNvPr id="306" name=""/>
            <p:cNvSpPr/>
            <p:nvPr/>
          </p:nvSpPr>
          <p:spPr>
            <a:xfrm>
              <a:off x="4210560" y="3948480"/>
              <a:ext cx="1281600" cy="128160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5638680" y="4908600"/>
            <a:ext cx="1722600" cy="958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908600"/>
                      <a:ext cx="1722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"/>
          <p:cNvGrpSpPr/>
          <p:nvPr/>
        </p:nvGrpSpPr>
        <p:grpSpPr>
          <a:xfrm>
            <a:off x="4228200" y="3936240"/>
            <a:ext cx="3620520" cy="1473840"/>
            <a:chOff x="4228200" y="3936240"/>
            <a:chExt cx="3620520" cy="1473840"/>
          </a:xfrm>
        </p:grpSpPr>
        <p:sp>
          <p:nvSpPr>
            <p:cNvPr id="310" name=""/>
            <p:cNvSpPr/>
            <p:nvPr/>
          </p:nvSpPr>
          <p:spPr>
            <a:xfrm>
              <a:off x="4228200" y="3936240"/>
              <a:ext cx="1570320" cy="9064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5987880" y="4424400"/>
            <a:ext cx="1860840" cy="985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987880" y="4424400"/>
                      <a:ext cx="1860840" cy="9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6027840" y="3921120"/>
          <a:ext cx="1668240" cy="574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27840" y="3921120"/>
                    <a:ext cx="1668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24000" y="260280"/>
            <a:ext cx="38163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ин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51040" y="3017880"/>
            <a:ext cx="3156120" cy="30240"/>
          </a:xfrm>
          <a:custGeom>
            <a:avLst/>
            <a:gdLst/>
            <a:ahLst/>
            <a:rect l="l" t="t" r="r" b="b"/>
            <a:pathLst>
              <a:path w="1988" h="19">
                <a:moveTo>
                  <a:pt x="0" y="0"/>
                </a:moveTo>
                <a:lnTo>
                  <a:pt x="1988" y="19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41560" y="2620800"/>
            <a:ext cx="2590920" cy="30240"/>
          </a:xfrm>
          <a:custGeom>
            <a:avLst/>
            <a:gdLst/>
            <a:ahLst/>
            <a:rect l="l" t="t" r="r" b="b"/>
            <a:pathLst>
              <a:path w="1632" h="19">
                <a:moveTo>
                  <a:pt x="0" y="0"/>
                </a:moveTo>
                <a:lnTo>
                  <a:pt x="1632" y="19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36840" y="2346480"/>
            <a:ext cx="1784520" cy="15840"/>
          </a:xfrm>
          <a:custGeom>
            <a:avLst/>
            <a:gdLst/>
            <a:ahLst/>
            <a:rect l="l" t="t" r="r" b="b"/>
            <a:pathLst>
              <a:path w="1124" h="10">
                <a:moveTo>
                  <a:pt x="0" y="10"/>
                </a:moveTo>
                <a:lnTo>
                  <a:pt x="112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2360" y="260280"/>
            <a:ext cx="38163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 (-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sin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Знаки  тригонометрических  функ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2060640"/>
            <a:ext cx="3865680" cy="367344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03280" y="393372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64160" y="1401840"/>
            <a:ext cx="14040" cy="5181480"/>
          </a:xfrm>
          <a:custGeom>
            <a:avLst/>
            <a:gdLst/>
            <a:ahLst/>
            <a:rect l="l" t="t" r="r" b="b"/>
            <a:pathLst>
              <a:path w="9" h="3264">
                <a:moveTo>
                  <a:pt x="9" y="3264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242100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9800" y="28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9800" y="28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65440" y="4292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9800" y="4292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1413000"/>
            <a:ext cx="2521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22920" y="2205000"/>
            <a:ext cx="2521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1413000"/>
            <a:ext cx="252108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205000"/>
            <a:ext cx="252108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16360" y="285264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581360"/>
            <a:ext cx="2521080" cy="6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5373720"/>
            <a:ext cx="252072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22920" y="4653000"/>
            <a:ext cx="252108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5445000"/>
            <a:ext cx="2521080" cy="64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5229360"/>
            <a:ext cx="1429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42100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360" y="6237360"/>
            <a:ext cx="237492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0365 -0.00394 -0.01337 -0.01737 -0.0217 -0.02408 C -0.03004 -0.03079 -0.03889 -0.03473 -0.05 -0.04005 C -0.06111 -0.04537 -0.07743 -0.05232 -0.0882 -0.05556 C -0.09896 -0.0588 -0.10521 -0.05926 -0.11493 -0.05996 C -0.12466 -0.06065 -0.1316 -0.0625 -0.14653 -0.05996 C -0.16146 -0.05741 -0.18716 -0.05232 -0.20486 -0.04445 C -0.22257 -0.03658 -0.2375 -0.02616 -0.2533 -0.0132 C -0.2691 -0.000240000000000001 -0.28941 0.01851 -0.3 0.03333 C -0.31059 0.04814 -0.31372 0.0618 -0.31667 0.07569 E">
                                      <p:cBhvr>
                                        <p:cTn id="493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1.48148E-006 C -0.00261 0.00532 -0.01181 0.01991 -0.01615 0.03102 C -0.02032 0.04329 -0.0224 0.05509 -0.02535 0.07037 C -0.0283 0.08542 -0.03195 0.1081 -0.03334 0.12222 C -0.03438 0.1368 -0.03525 0.14606 -0.03386 0.1581 C -0.03247 0.17014 -0.02848 0.17893 -0.025 0.19514 C -0.02153 0.21134 -0.01806 0.23935 -0.01337 0.25532 C -0.00868 0.27129 -0.00365 0.2794 0.00329 0.29074 C 0.01024 0.30208 0.02118 0.31481 0.02829 0.32407 C 0.03541 0.33333 0.0427 0.34167 0.04652 0.34629 E">
                                      <p:cBhvr>
                                        <p:cTn id="53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00312 0.00439 0.01284 0.01782 0.02118 0.02453 C 0.02951 0.03125 0.03836 0.03518 0.04948 0.04051 C 0.06059 0.04583 0.07691 0.05277 0.08767 0.05601 C 0.09843 0.05926 0.10468 0.05972 0.11441 0.06041 C 0.12413 0.06111 0.13107 0.06203 0.146 0.06041 C 0.16093 0.05879 0.18559 0.05648 0.20382 0.05092 C 0.22204 0.04537 0.23958 0.04027 0.25555 0.02639 C 0.27152 0.0125 0.28836 -0.01667 0.29948 -0.03287 C 0.31059 -0.04908 0.31753 -0.0632 0.32222 -0.0713 E">
                                      <p:cBhvr>
                                        <p:cTn id="56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Домашнее 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6084720" cy="4564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rot="381600">
            <a:off x="4965480" y="693720"/>
            <a:ext cx="3851280" cy="5319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1 (а,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9 (в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5:28:14Z</dcterms:created>
  <dc:creator>Марина</dc:creator>
  <dc:description/>
  <dc:language>en-US</dc:language>
  <cp:lastModifiedBy>Каратанова</cp:lastModifiedBy>
  <dcterms:modified xsi:type="dcterms:W3CDTF">2008-06-28T22:19:46Z</dcterms:modified>
  <cp:revision>3</cp:revision>
  <dc:subject/>
  <dc:title>Слайд 1</dc:title>
</cp:coreProperties>
</file>