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9.jpeg" ContentType="image/jpeg"/>
  <Override PartName="/ppt/media/image28.png" ContentType="image/png"/>
  <Override PartName="/ppt/media/image16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D14-94AF-4275-BE93-3004F067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726-1740-49C9-B856-7AF20599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186-95E3-41DD-BDFE-7B1DA29E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737-59BA-4143-ACC6-80A3CF71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80D-DA4E-4E4D-B48F-E3C7FD46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AAE-49ED-47C3-AD7F-1795E379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9FB-1502-46A8-A7A4-200E0FBF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1E9-1284-409D-A331-99FC9D08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650-477C-41ED-BE88-B85CB86B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BAC-7793-4810-A8C5-8AC4D73F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2B4-0D3C-4993-AD86-077DD0D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058-9CAA-48A5-969C-A80887B8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A4D5-FBAE-417C-8D7C-91F9042FD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maya.ru/2008/04/15/znaki_razlichija._pogony.html" TargetMode="External"/><Relationship Id="rId3" Type="http://schemas.openxmlformats.org/officeDocument/2006/relationships/hyperlink" Target="http://www.9maya.ru/2008/04/15/znaki_razlichija._pogony.html" TargetMode="External"/><Relationship Id="rId4" Type="http://schemas.openxmlformats.org/officeDocument/2006/relationships/hyperlink" Target="http://kuhta.clan.su/index/0-15" TargetMode="External"/><Relationship Id="rId5" Type="http://schemas.openxmlformats.org/officeDocument/2006/relationships/hyperlink" Target="http://www.finsvoboda.com.ua/wp-content/uploads/2008/06/cel.jpg" TargetMode="External"/><Relationship Id="rId6" Type="http://schemas.openxmlformats.org/officeDocument/2006/relationships/hyperlink" Target="http://ru.wikipedia.org/wiki/&#1042;&#1086;&#1080;&#1085;&#1089;&#1082;&#1080;&#1077;_&#1079;&#1074;&#1072;&#1085;&#1080;&#1103;_&#1074;_&#1072;&#1088;&#1084;&#1080;&#1080;_&#1056;&#1060;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" Target="slide18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1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5796000" y="403560"/>
            <a:ext cx="3170160" cy="158436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940360" y="692280"/>
            <a:ext cx="28576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ы</a:t>
            </a:r>
            <a:endParaRPr b="0" lang="en-US" sz="4800" spc="1" strike="noStrike">
              <a:ln w="19080">
                <a:solidFill>
                  <a:srgbClr val="ff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5741640" y="3608280"/>
            <a:ext cx="3025800" cy="2376720"/>
          </a:xfrm>
          <a:prstGeom prst="flowChartDocument">
            <a:avLst/>
          </a:prstGeom>
          <a:solidFill>
            <a:srgbClr val="ffffff">
              <a:alpha val="85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2360" y="3249720"/>
            <a:ext cx="295272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СОШ с. Матвеев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Балак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еподаватель ОБЖ     Гольцев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664000"/>
            <a:ext cx="2835360" cy="49500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5920" y="233280"/>
            <a:ext cx="473364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395280" y="2997360"/>
            <a:ext cx="820728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период с 1 июня по 30 августа в год достижения гражданами возраста 16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395280" y="558972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период с 1 сентября по 30 ноября в год достижения гражданами возраста 15 лет?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395280" y="429264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период с 1 января по 31 марта в год достижения гражданами возраста 17 л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260280"/>
            <a:ext cx="8640720" cy="18003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В соответствии с Федеральным зако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«О воинской обязанности и военной службе» первоначальная постановка на учет осуществляется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4365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Ограниченно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92428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Не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250920" y="57340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Заключение по результатам освидетельствования категории «А» 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2276640"/>
            <a:ext cx="82072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статусе военнослужащих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22936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Указ Президента Российской Федерации «О создании Вооруженных Сил Российской Федераци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64500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воинской обязанности и военной службе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60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акой правовой акт устанавливает права и свободы военнослужащих: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3357720"/>
            <a:ext cx="8278560" cy="155700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овокупность норм, основанных на принципах гуманности и направленных на защиту жертв вооруженных конфликтов и ограничение средств и методов ведения вой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91628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жертв стихийных бедств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5516640"/>
            <a:ext cx="83516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прав человека в мирное врем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692280"/>
            <a:ext cx="828036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еждународное гуманитарное право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68360" y="836640"/>
          <a:ext cx="8229600" cy="5864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7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лд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ержанты и ста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апорщ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46640" y="1628640"/>
            <a:ext cx="1079640" cy="459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407360" y="2259000"/>
            <a:ext cx="1081080" cy="463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134520" y="13824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146640" y="2843280"/>
            <a:ext cx="1046160" cy="446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451640" y="3429000"/>
            <a:ext cx="1009800" cy="426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313800" y="1719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Ряд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rcRect l="5282" t="14509" r="12347" b="10728"/>
          <a:stretch/>
        </p:blipFill>
        <p:spPr>
          <a:xfrm>
            <a:off x="7362720" y="4778280"/>
            <a:ext cx="1081080" cy="48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rcRect l="2952" t="10979" r="4972" b="5904"/>
          <a:stretch/>
        </p:blipFill>
        <p:spPr>
          <a:xfrm>
            <a:off x="6102360" y="4149720"/>
            <a:ext cx="1152360" cy="52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rcRect l="0" t="7240" r="0" b="0"/>
          <a:stretch/>
        </p:blipFill>
        <p:spPr>
          <a:xfrm>
            <a:off x="6058080" y="5499000"/>
            <a:ext cx="968040" cy="39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rcRect l="0" t="7485" r="0" b="0"/>
          <a:stretch/>
        </p:blipFill>
        <p:spPr>
          <a:xfrm>
            <a:off x="7451640" y="6129360"/>
            <a:ext cx="946080" cy="374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313800" y="2259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Ефрей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13080" y="2889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лад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13440" y="3473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13440" y="41497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14520" y="486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14520" y="5499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040" y="61293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й 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684360" y="1052640"/>
          <a:ext cx="8229600" cy="4911480"/>
        </p:xfrm>
        <a:graphic>
          <a:graphicData uri="http://schemas.openxmlformats.org/drawingml/2006/table">
            <a:tbl>
              <a:tblPr/>
              <a:tblGrid>
                <a:gridCol w="2743200"/>
                <a:gridCol w="2728800"/>
                <a:gridCol w="275760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8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лад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тар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2"/>
          <a:srcRect l="0" t="11832" r="0" b="0"/>
          <a:stretch/>
        </p:blipFill>
        <p:spPr>
          <a:xfrm>
            <a:off x="6227640" y="184464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9187" r="0" b="0"/>
          <a:stretch/>
        </p:blipFill>
        <p:spPr>
          <a:xfrm>
            <a:off x="7596360" y="2492280"/>
            <a:ext cx="1152360" cy="436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0" t="1664" r="0" b="0"/>
          <a:stretch/>
        </p:blipFill>
        <p:spPr>
          <a:xfrm>
            <a:off x="6227640" y="3068640"/>
            <a:ext cx="1150920" cy="47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rcRect l="0" t="5551" r="0" b="0"/>
          <a:stretch/>
        </p:blipFill>
        <p:spPr>
          <a:xfrm>
            <a:off x="7632720" y="3645000"/>
            <a:ext cx="1116000" cy="439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192720" y="4238640"/>
            <a:ext cx="1108080" cy="452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7632720" y="4869000"/>
            <a:ext cx="1093680" cy="44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8"/>
          <a:srcRect l="0" t="5551" r="0" b="0"/>
          <a:stretch/>
        </p:blipFill>
        <p:spPr>
          <a:xfrm>
            <a:off x="6237360" y="5454720"/>
            <a:ext cx="1008000" cy="403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39880" y="18986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лад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4160" y="2484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5600" y="311472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Стар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4520" y="3654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Кап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4160" y="42847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5960" y="4869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од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9880" y="54547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95280" y="1268280"/>
          <a:ext cx="8229600" cy="4216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99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ыс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2"/>
          <a:srcRect l="0" t="3780" r="0" b="0"/>
          <a:stretch/>
        </p:blipFill>
        <p:spPr>
          <a:xfrm>
            <a:off x="5967360" y="2124000"/>
            <a:ext cx="1081080" cy="474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407360" y="2798640"/>
            <a:ext cx="1036440" cy="47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12000" y="3519360"/>
            <a:ext cx="1008000" cy="459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407360" y="4194000"/>
            <a:ext cx="1035000" cy="473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6012000" y="4915080"/>
            <a:ext cx="1106280" cy="406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25960" y="21240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Генерал-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79880" y="279864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Генерал-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27760" y="3608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Генерал-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6640" y="423864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Генерал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68440" y="486900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Маршал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1359000"/>
            <a:ext cx="8596080" cy="420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Колодецкий Г.А., Латчук В.Н., Марков В.В. и др. Оценка качества подготовки выпускников средней (полной) школы по ОБЖ. М.: Дрофа, 2007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www.9maya.ru/2008/04/15/znaki_razlichija._pogo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kuhta.clan.su/index/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oisk21.ru/userdata/plakati/MCS/02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finsvoboda.com.ua/wp-content/uploads/2008/06/ce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ru.wikipedia.org/wiki/%D0%92%D0%BE%D0%B8%D0%BD%D1%81%D0%BA%D0%B8%D0%B5_%D0%B7%D0%B2%D0%B0%D0%BD%D0%B8%D1%8F_%D0%B2_%D0%B0%D1%80%D0%BC%D0%B8%D0%B8_%D0%A0%D0%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33840" y="458640"/>
            <a:ext cx="3320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Используемый ресур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8532720" y="6264360"/>
            <a:ext cx="611280" cy="593640"/>
          </a:xfrm>
          <a:custGeom>
            <a:avLst/>
            <a:gdLst>
              <a:gd name="textAreaLeft" fmla="*/ 38160 w 611280"/>
              <a:gd name="textAreaRight" fmla="*/ 573120 w 611280"/>
              <a:gd name="textAreaTop" fmla="*/ 38160 h 593640"/>
              <a:gd name="textAreaBottom" fmla="*/ 555480 h 593640"/>
            </a:gdLst>
            <a:ahLst/>
            <a:rect l="textAreaLeft" t="textAreaTop" r="textAreaRight" b="textAreaBottom"/>
            <a:pathLst>
              <a:path w="22241" h="21600">
                <a:moveTo>
                  <a:pt x="0" y="0"/>
                </a:moveTo>
                <a:lnTo>
                  <a:pt x="22241" y="0"/>
                </a:lnTo>
                <a:lnTo>
                  <a:pt x="22241" y="21600"/>
                </a:lnTo>
                <a:lnTo>
                  <a:pt x="0" y="21600"/>
                </a:lnTo>
                <a:close/>
              </a:path>
              <a:path fill="lightenLess" w="22241" h="21600">
                <a:moveTo>
                  <a:pt x="0" y="0"/>
                </a:moveTo>
                <a:lnTo>
                  <a:pt x="22241" y="0"/>
                </a:lnTo>
                <a:lnTo>
                  <a:pt x="20841" y="1400"/>
                </a:lnTo>
                <a:lnTo>
                  <a:pt x="1400" y="1400"/>
                </a:lnTo>
                <a:close/>
              </a:path>
              <a:path fill="darken" w="22241" h="21600">
                <a:moveTo>
                  <a:pt x="22241" y="0"/>
                </a:moveTo>
                <a:lnTo>
                  <a:pt x="22241" y="21600"/>
                </a:lnTo>
                <a:lnTo>
                  <a:pt x="20841" y="20200"/>
                </a:lnTo>
                <a:lnTo>
                  <a:pt x="20841" y="1400"/>
                </a:lnTo>
                <a:close/>
              </a:path>
              <a:path fill="darkenLess" w="22241" h="21600">
                <a:moveTo>
                  <a:pt x="22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1" y="20200"/>
                </a:lnTo>
                <a:close/>
              </a:path>
              <a:path fill="lighten" w="22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1" h="21600">
                <a:moveTo>
                  <a:pt x="11121" y="3837"/>
                </a:moveTo>
                <a:lnTo>
                  <a:pt x="13697" y="6448"/>
                </a:ln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lnTo>
                  <a:pt x="18084" y="10800"/>
                </a:lnTo>
                <a:lnTo>
                  <a:pt x="16430" y="10800"/>
                </a:lnTo>
                <a:lnTo>
                  <a:pt x="16430" y="17989"/>
                </a:lnTo>
                <a:lnTo>
                  <a:pt x="5811" y="17989"/>
                </a:lnTo>
                <a:lnTo>
                  <a:pt x="5811" y="10800"/>
                </a:lnTo>
                <a:lnTo>
                  <a:pt x="4158" y="10800"/>
                </a:lnTo>
                <a:close/>
              </a:path>
              <a:path fill="darkenLess" w="22241" h="21600">
                <a:moveTo>
                  <a:pt x="13697" y="6448"/>
                </a:move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close/>
              </a:path>
              <a:path fill="darkenLess" w="22241" h="21600">
                <a:moveTo>
                  <a:pt x="10198" y="14299"/>
                </a:moveTo>
                <a:lnTo>
                  <a:pt x="12043" y="14299"/>
                </a:lnTo>
                <a:lnTo>
                  <a:pt x="12043" y="17989"/>
                </a:lnTo>
                <a:lnTo>
                  <a:pt x="16430" y="17989"/>
                </a:lnTo>
                <a:lnTo>
                  <a:pt x="16430" y="10800"/>
                </a:lnTo>
                <a:lnTo>
                  <a:pt x="5811" y="10800"/>
                </a:lnTo>
                <a:lnTo>
                  <a:pt x="5811" y="17989"/>
                </a:lnTo>
                <a:lnTo>
                  <a:pt x="10198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24000" y="3860640"/>
          <a:ext cx="8532360" cy="2736720"/>
        </p:xfrm>
        <a:graphic>
          <a:graphicData uri="http://schemas.openxmlformats.org/drawingml/2006/table">
            <a:tbl>
              <a:tblPr/>
              <a:tblGrid>
                <a:gridCol w="8532360"/>
              </a:tblGrid>
              <a:tr h="273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ухопутные войска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как вид Вооруженных Сил Российской Федерации предназначены для ведения боевых действий преимущественно на суш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 своим боевым возможностям они способны во взаимодействии с другими видами Вооруженных Сил Российской Федерации вести наступление в целях разгрома группировки противника и овладения его территорией, наносить огневые удары на большую глубину, отражать вторжение противника, его крупных воздушных десантов, прочно удерживать занимаемые территории, районы и рубеж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6" name="" descr="Эмблема Сухопутных войск Российской Федерации"/>
          <p:cNvPicPr/>
          <p:nvPr/>
        </p:nvPicPr>
        <p:blipFill>
          <a:blip r:embed="rId2"/>
          <a:stretch/>
        </p:blipFill>
        <p:spPr>
          <a:xfrm>
            <a:off x="2771640" y="981000"/>
            <a:ext cx="3384720" cy="2384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00000" y="25956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Сухопутные войск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50920" y="3573360"/>
          <a:ext cx="8713800" cy="30099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30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воздушные силы (ВВС)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– вид Вооруженных Сил Российской Федерации. Они предназначены для ведения разведки группировок противника; обеспечения завоевания господства (сдерживания) в воздухе; защиты от ударов с воздуха важных военно-экономических районов (объектов) страны и группировок войск; предупреждения о воздушном нападении; поражения объектов, составляющих основу военного и военно-экономического потенциала противника; поддержки с воздуха сухопутных войск и сил флота; десантирования воздушных десантов; перевозки войск и материальных средств по воздух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74120" y="259560"/>
            <a:ext cx="81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енно-воздушные силы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Эмблема Военно-воздушных сил Российской Федерации"/>
          <p:cNvPicPr/>
          <p:nvPr/>
        </p:nvPicPr>
        <p:blipFill>
          <a:blip r:embed="rId2"/>
          <a:stretch/>
        </p:blipFill>
        <p:spPr>
          <a:xfrm>
            <a:off x="2843280" y="836640"/>
            <a:ext cx="3311280" cy="2446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431640" y="3743280"/>
            <a:ext cx="8298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о призыву и в добровольном порядке (по контракту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324000" y="2349360"/>
            <a:ext cx="8297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Только в добровольном порядке (по контракту)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431640" y="5157720"/>
            <a:ext cx="8190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Только по призыву, по достижении определенного возра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Граждане Российской Федерации проходят военную службу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50920" y="3213000"/>
          <a:ext cx="8651880" cy="3299040"/>
        </p:xfrm>
        <a:graphic>
          <a:graphicData uri="http://schemas.openxmlformats.org/drawingml/2006/table">
            <a:tbl>
              <a:tblPr/>
              <a:tblGrid>
                <a:gridCol w="8651880"/>
              </a:tblGrid>
              <a:tr h="329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Морской Флот (ВМФ)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является видом Вооруженных Сил Российской Федерации. Он предназначен для вооруженной защиты интересов России, ведения боевых действий на морских и океанских театрах войны. ВМФ способен наносить ядерные удары по наземным объектам противника, уничтожать группировки его флота в море и базах, нарушать океанские и морские коммуникации противника и защищать свои морские перевозки, содействовать сухопутным войскам в операциях на континентальных театрах военных действий, высаживать морские десанты, участвовать в отражении десантов противника и выполнять другие задач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761040" y="25956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енно-Морской Флот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Эмблема Военно-Морского Флота&amp;nbsp; Российской Федерации"/>
          <p:cNvPicPr/>
          <p:nvPr/>
        </p:nvPicPr>
        <p:blipFill>
          <a:blip r:embed="rId2"/>
          <a:stretch/>
        </p:blipFill>
        <p:spPr>
          <a:xfrm>
            <a:off x="3132000" y="836640"/>
            <a:ext cx="3024360" cy="21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24000" y="3508200"/>
            <a:ext cx="8496000" cy="28382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Ракетные войска стратегического назначения (РВСН)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, род войск Вооруженных Сил Российской Федерации, главный компонент ее стратегических ядерных сил. Предназначены для ядерного сдерживания возможной агрессии и поражения в составе стратегических ядерных сил или самостоятельно массированными, групповыми или одиночными ракетно-ядерными ударами стратегических объектов, находящихся на одном или нескольких стратегических воздушно-космических направлениях и составляющих основу военных и военно-экономических потенциалов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Эмблема РВСН"/>
          <p:cNvPicPr/>
          <p:nvPr/>
        </p:nvPicPr>
        <p:blipFill>
          <a:blip r:embed="rId2"/>
          <a:stretch/>
        </p:blipFill>
        <p:spPr>
          <a:xfrm>
            <a:off x="2916360" y="1125360"/>
            <a:ext cx="3168360" cy="21560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833760" y="4762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Ракетные войска стратегического на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3787920"/>
            <a:ext cx="8335800" cy="253332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Космические войск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– принципиально новый род войск, который предназначен для обеспечения безопасности России в космическ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Основными задачами Космических войск являются доведение информации предупреждения высшего военно-политического руководства страны о ракетном нападении, противоракетная оборона г. Москвы, создание, развертывание, поддержание и управление орбитальной группировки космических аппаратов военного, двойного, социально-экономического и научного на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Эмблема Космических войск"/>
          <p:cNvPicPr/>
          <p:nvPr/>
        </p:nvPicPr>
        <p:blipFill>
          <a:blip r:embed="rId2"/>
          <a:stretch/>
        </p:blipFill>
        <p:spPr>
          <a:xfrm>
            <a:off x="2843280" y="1197000"/>
            <a:ext cx="3095640" cy="22874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2703600" y="33336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осмически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9640" y="4233960"/>
            <a:ext cx="7848720" cy="192348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Воздушно-десантные войска (ВДВ)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, высокомобильный род войск вооруженных сил, предназначенный для охвата противника по воздуху и ведения боевых действий в его тылу. ВДВ РФ являются средством ВГК и могут составлять основу мобильны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Они подчиняются непосредственно командующему ВДВ и состоят из воздушно-десантных дивизий, бригад, отд. частей и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Эмблема воздушно-десантных войск РФ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2771640" y="1125360"/>
            <a:ext cx="3456000" cy="2435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2126520" y="2602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здушно-десантны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916360" y="476280"/>
            <a:ext cx="310968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0" name=""/>
          <p:cNvSpPr txBox="1"/>
          <p:nvPr/>
        </p:nvSpPr>
        <p:spPr>
          <a:xfrm>
            <a:off x="971640" y="2708280"/>
            <a:ext cx="7489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Точно в цель!</a:t>
            </a:r>
            <a:endParaRPr b="0" lang="en-US" sz="7200" spc="1" strike="noStrike">
              <a:ln w="28440">
                <a:solidFill>
                  <a:srgbClr val="cc33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 rot="19798200">
            <a:off x="523800" y="2060280"/>
            <a:ext cx="86202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Надо подумать…</a:t>
            </a:r>
            <a:endParaRPr b="0" lang="en-US" sz="7200" spc="1" strike="noStrike">
              <a:ln w="381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 rot="299400">
            <a:off x="1908000" y="476280"/>
            <a:ext cx="20782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1280" y="2214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1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Русская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эскадра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од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команд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Ф. Ф. Ушакова нанесла поражение превосходящей по численности турецкой эскадре у мыса Тенд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6327720" y="5634000"/>
            <a:ext cx="2610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7.01.194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284720"/>
            <a:ext cx="864072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ень снятия блокады города Ленингра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664200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000" y="5634000"/>
            <a:ext cx="2520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.02.1943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7720" y="5634000"/>
            <a:ext cx="2385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7.09.1941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537000" y="2124000"/>
            <a:ext cx="20890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14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Гангутское сражение в ходе Сев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ежду русским и шведским флотами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Бородинское сражение между русской арм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М. И. Кутузова и французской армией Наполеона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236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1640" y="212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700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1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42000" y="563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82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507000" y="2079720"/>
            <a:ext cx="2016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олтавское сражение между русской и шведской армиями во время Северной войны произошл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24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Битва русского войска во главе с Александром Невским с рыцарями немецкого Ливонского ордена на льду Чудского озера произош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920" y="203364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3700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6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2736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38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164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 122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95280" y="3860640"/>
            <a:ext cx="8352000" cy="119124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артиллерийские войска, войска противовоздушной обор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395280" y="249228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здушно-десантные войска, танковые войска, мотострелков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324000" y="544500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енно-воздушные силы,             Военно-Морской Фл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9840" y="620640"/>
            <a:ext cx="852156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 видам Вооруженных Сил 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324000" y="364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Мотострелковые войска, танковые войска, артиллерийски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395280" y="515772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Космические войска, войска противовоздушной обороны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324000" y="220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космические войска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0760" y="692280"/>
            <a:ext cx="816660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 родам войск Российской Федерации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486900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92428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95480" y="330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Эмблема Сухопутных войск Российской Федерации"/>
          <p:cNvPicPr/>
          <p:nvPr/>
        </p:nvPicPr>
        <p:blipFill>
          <a:blip r:embed="rId2"/>
          <a:stretch/>
        </p:blipFill>
        <p:spPr>
          <a:xfrm>
            <a:off x="826920" y="1125360"/>
            <a:ext cx="1727280" cy="12178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5" name="" descr="Эмблема Военно-воздушных сил Российской Федерации"/>
          <p:cNvPicPr/>
          <p:nvPr/>
        </p:nvPicPr>
        <p:blipFill>
          <a:blip r:embed="rId3"/>
          <a:stretch/>
        </p:blipFill>
        <p:spPr>
          <a:xfrm>
            <a:off x="6516720" y="3068640"/>
            <a:ext cx="1800360" cy="13302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6" name="" descr="Эмблема Военно-Морского Флота&amp;nbsp; Российской Федерации"/>
          <p:cNvPicPr/>
          <p:nvPr/>
        </p:nvPicPr>
        <p:blipFill>
          <a:blip r:embed="rId4"/>
          <a:stretch/>
        </p:blipFill>
        <p:spPr>
          <a:xfrm>
            <a:off x="6516720" y="5013360"/>
            <a:ext cx="1800360" cy="1285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120680" y="18900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звать эмблемы видов и родов войск Р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Эмблема РВСН"/>
          <p:cNvPicPr/>
          <p:nvPr/>
        </p:nvPicPr>
        <p:blipFill>
          <a:blip r:embed="rId5"/>
          <a:stretch/>
        </p:blipFill>
        <p:spPr>
          <a:xfrm>
            <a:off x="6516720" y="1052640"/>
            <a:ext cx="1800360" cy="12254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9" name="" descr="Эмблема Космических войск"/>
          <p:cNvPicPr/>
          <p:nvPr/>
        </p:nvPicPr>
        <p:blipFill>
          <a:blip r:embed="rId6"/>
          <a:stretch/>
        </p:blipFill>
        <p:spPr>
          <a:xfrm>
            <a:off x="826920" y="3068640"/>
            <a:ext cx="1729080" cy="1278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00" name="" descr="Эмблема воздушно-десантных войск РФ"/>
          <p:cNvPicPr/>
          <p:nvPr/>
        </p:nvPicPr>
        <p:blipFill>
          <a:blip r:embed="rId7"/>
          <a:stretch/>
        </p:blipFill>
        <p:spPr>
          <a:xfrm>
            <a:off x="826920" y="4941720"/>
            <a:ext cx="1800360" cy="1268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627280" y="141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342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537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1413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3429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5373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324000" y="37162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оинская ч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395280" y="227664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Муже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324000" y="5157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Воинская добл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60280"/>
            <a:ext cx="849780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Самоотверженное, мужественное исполнение военнослужащим своего воинского долга и служебных обязанностей в мирное время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35:11Z</dcterms:created>
  <dc:creator>школа</dc:creator>
  <dc:description/>
  <dc:language>en-US</dc:language>
  <cp:lastModifiedBy>школа</cp:lastModifiedBy>
  <dcterms:modified xsi:type="dcterms:W3CDTF">2009-04-16T08:51:47Z</dcterms:modified>
  <cp:revision>133</cp:revision>
  <dc:subject/>
  <dc:title>Слайд 1</dc:title>
</cp:coreProperties>
</file>