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7D9E6-748F-428B-AA43-A764A8269C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6027D-5444-429D-A398-D2C7BCFBE2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AC8B0-6E2F-4388-9928-9B62D7888BD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6CD40-541B-433D-8B1E-404866435A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909BC-08C7-4E7F-89CF-4A582C45EB4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8A6AF-268F-48DA-B0B4-B1312F9F7F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48BC0-1908-4952-9A79-375E89E91F3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CDB1F-1477-4292-A473-B442C88C35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79D73-C7FE-4E52-BB2E-23BAB39393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EF129-3AA1-439C-AFBB-26B9112CE2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2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F9DB3-14C8-48A9-998B-1D2B635E5A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05BC7-64CE-4ED4-8985-1734828366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C46F3-D836-445B-A6B4-6EFBD7BEECE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D1B4F-6CFA-4829-B397-4C7D085DAD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2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1EFBE-5F56-439C-BA7D-88F805D2C2D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E5FC4-FE1F-41DA-A9ED-BDB5D06B0C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D3378-3E14-48CC-B27F-E5D75196900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5933B-9C1F-493F-AADF-A2061DD68B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FCA27-02A5-4C3E-B567-3A677565861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EB96E-E57D-47A0-935C-1E5D53F934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F6D2C-545D-42C4-87FF-D338068393D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18FCD-8BDB-49E0-92D2-AE66EA1AD2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6FB49-7CC7-423D-9FFB-1373900FF63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34F36-7910-478C-91B1-7C3A029A15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5486C-2826-43C3-9D22-583C9DA799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AF358-7234-4A07-8B4A-E1D5FEEAF6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1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4DF58-60B4-41C6-9656-A9C35036B22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76B82-83D4-4542-ABA0-16FB5618D6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01373-25B4-4288-83DD-0CCBC275E8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068D8-8AD8-4E64-A7BB-76482A7526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ADFCC-CC21-4FA7-9E33-92912450D9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BFC24-C3FC-47F3-B4C9-2DBED76AD2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2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E1185-8260-4316-95FC-AF21EC4FA50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D1C7-B741-4ACE-AC33-465565B66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2AC9-B113-47DF-9C04-668338EE7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7CD2-4ABF-4C1F-82FE-9A258112B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6B57-FF20-4EDE-8552-BA826D0C2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5B88-850A-4756-BAFC-899F699018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E8D2-063F-4947-AF4F-FCABAF3A00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F077-BBB9-4378-BE4A-E0B25EDAD6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9D0F-57C2-4077-8120-7CFBAF77B3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BDE0-0CDA-45B0-8588-BF2D425F1B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-206280"/>
            <a:ext cx="822636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05E7-7EEE-495C-9626-ED49C38873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3CC62-F3F8-4B5C-B781-690684FCB0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26C1-0E9F-482D-A672-8DDCCA2F4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9639-8B4D-47EB-8FE3-F751FA33E8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997F-CBF5-48B5-A409-8B7741A6B4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919F-2D7C-4283-AA5B-B7B672F922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5F3B-DE01-41F8-B751-F603C6088B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E978-C643-490D-9AF5-548C331419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5221-004B-4A25-8D27-CFB1BF857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B7D8-94FB-4546-ACFB-95996F408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7BCE-D926-4CEB-AC0E-CC82BFA9D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280"/>
            <a:ext cx="822636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175F-C839-44AB-A7AA-D4A2D6F39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37F8-1690-412B-A58A-45C352378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E200-898C-44FE-85B1-DCA50EC96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1277-7F28-4AB3-AEDE-62B5DCFFD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A13FD-0414-4421-9F32-D6D7BE33E4B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63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3072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0148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218A13-B15F-447D-A054-D69C452EC0D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14800" y="2928960"/>
            <a:ext cx="4214880" cy="15717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109865" dir="634411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вами я - профессор Галилео!  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102200" y="322200"/>
            <a:ext cx="4717800" cy="3538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95280" y="308124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158080" cy="4900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280" y="439560"/>
            <a:ext cx="83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открытой лесной поляне ягоды раньше созревают с ю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275000" cy="3198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3892320" cy="5008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27040" y="4508640"/>
            <a:ext cx="503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лесу у пней с южной стор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годы брусники, черни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рошки поспевают раньш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м на север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7142040" cy="4761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1280" y="3078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ь стороны света можно по направлению полёта птиц. Осенью они летят на юг, а весной на сев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квартальным столб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5880" y="1643040"/>
            <a:ext cx="7643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rcRect l="30446" t="0" r="0" b="0"/>
          <a:stretch/>
        </p:blipFill>
        <p:spPr>
          <a:xfrm>
            <a:off x="500040" y="1785960"/>
            <a:ext cx="3591000" cy="3286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214880" y="178596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построй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ущенный край нижней перекладины креста на куполе православной церкви обращен к югу, приподнятый - к севе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24772" r="58511" b="27728"/>
          <a:stretch/>
        </p:blipFill>
        <p:spPr>
          <a:xfrm>
            <a:off x="3000240" y="2357280"/>
            <a:ext cx="4286520" cy="3598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5786280" y="2357280"/>
            <a:ext cx="28670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построй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ри синагог и мусульманских мечетей обращены на сев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rcRect l="37501" t="0" r="0" b="0"/>
          <a:stretch/>
        </p:blipFill>
        <p:spPr>
          <a:xfrm>
            <a:off x="5214960" y="2500200"/>
            <a:ext cx="3335400" cy="3319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2786040" y="2571840"/>
            <a:ext cx="2475000" cy="3286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кма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5880" y="150012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DejaVu Sans"/>
              </a:rPr>
              <a:t>Полоска на земле в виде примятой трав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 и листьев, сдвинутых живым существом, а потому выделяющаяся более светлым оттенком от окружающей мест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40000" y="3367080"/>
            <a:ext cx="5219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Если ветки мешают, бьют по лицу либо ниже (по груди, по животу), значит, ходили здесь низкорослые звери, но никак не лю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тёсы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85880" y="150012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Сруб коры с частью древесины с обеих сторон деревь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Затесы делаются вдоль малопроторенных тр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уры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5880" y="150012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Ориентиры сложенные из камня или толстых деревьев, обозначающие тро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0040" y="2071800"/>
            <a:ext cx="42148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040" y="328608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040" y="457200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4240" y="1000080"/>
            <a:ext cx="5643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ориентиров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акое азиму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пределить нужное направление с помощью компас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еще можно определить стороны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риентироваться по звезда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86040" y="2214720"/>
            <a:ext cx="500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4» 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тр 52 – 56 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5» 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380880"/>
            <a:ext cx="8077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993080" cy="58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86040" y="2214720"/>
            <a:ext cx="500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4» 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тр 52 – 56 чи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5» 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 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22640" y="1522440"/>
            <a:ext cx="342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МА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143160" y="2682720"/>
            <a:ext cx="49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риентирование по местным призна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00040" y="2071800"/>
            <a:ext cx="42148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040" y="328608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040" y="4572000"/>
            <a:ext cx="514368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00680" y="1000080"/>
            <a:ext cx="435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7120" y="785880"/>
            <a:ext cx="8358120" cy="5286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14280" y="1928880"/>
            <a:ext cx="300060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мх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5880" y="1500120"/>
            <a:ext cx="4786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хи и лишайники – тенелюбивые и влаголюбивые растения -гуще растут с северной стороны деревьев и камней. Мох с северной стороны более влаж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500800" y="1714680"/>
            <a:ext cx="319068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муравейн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5880" y="1643040"/>
            <a:ext cx="7643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равьи, как правило, строят свои жилища к югу от дерева или пня. Если муравейник расположен не у дерева, то его южная сторона обычно более полог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28760" y="264312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таянию сне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вестно, что южная сторона предметов нагревается больше чем северная, соответственно и таяние снега с этой стороны происходит быстрее. Это хорошо видно на склонах оврагов, лунках у деревьев, снегу, прилипшему к камням. 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786120" y="2714760"/>
            <a:ext cx="4786560" cy="32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004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928800"/>
            <a:ext cx="79293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траве на опушке, поля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" y="1500120"/>
            <a:ext cx="79293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ва на северных окраинах полян а также с южной стороны отдельно стоящих деревьев, пней, больших камней весной бывает гуще. Летом же северные стороны полян выгорают. Жарким и засушливым летом роса на траве, растущей у дерева или камня, дольше сохраняется с северной стороны, а сама трава выглядит более свежей. 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105440" y="3000240"/>
            <a:ext cx="4581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6737400" cy="5052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26028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ибы растут в основном с северной стороны   деревьев,  пней, кустар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14:22Z</dcterms:created>
  <dc:creator>WETER</dc:creator>
  <dc:description/>
  <dc:language>en-US</dc:language>
  <cp:lastModifiedBy>Смирнова</cp:lastModifiedBy>
  <dcterms:modified xsi:type="dcterms:W3CDTF">2011-11-20T12:40:56Z</dcterms:modified>
  <cp:revision>263</cp:revision>
  <dc:subject/>
  <dc:title>ЖИЛИЩЕ ЧЕЛОВЕКА  ОСОБЕННОСТИ ЖИЗНЕОБЕСПЕЧЕНИЯ  ЖИЛИЩА</dc:title>
</cp:coreProperties>
</file>