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8884C-4550-4D82-B5DD-022D98D06E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2C348-FE13-4652-8FF5-88F5C01E4D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8CF2E-185D-4D4A-8D54-0E6C3FA5E4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D3B29-617B-4CDE-BD7E-D23E7698F5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E7AE6-EDE8-4229-A796-D12A7982E9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43D3F-3702-4929-A04D-DDBC20D8C5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A73C5-A0C2-457F-B286-23CB5863C9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6421A-E329-44B5-BEC8-32941FFD0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468BF-D4DF-47FE-BEF4-437521316F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9D372-153A-43AC-8418-1024C806B2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0A59A-B59E-4A53-A3E5-EDB491CCFC9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3AECC-BEE1-4B81-9BE1-24D3A7B6AD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A2EF0-32D0-4013-BBD4-467D70CF5A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75A18-7B4C-40AB-938D-0E8E9FA894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8083C-D29B-49A7-8FDD-2FE4AD68C9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54B74-54CD-4BD9-A91B-347AB7F492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C7BCF-E967-46EC-896C-4578903D91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0EEA1-3764-4898-8FC4-674D3A2927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ED510-E2E9-4B4B-8DBF-EB8E130CDF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7A82-DA94-46AE-AE23-E962352510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20A86-3278-4E23-919C-43D6315979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A74C9-BF9D-4FCF-8890-9462ABCAA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DBF0B-5998-4328-99AC-A4E59E68E4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8B5B6-8D65-45AD-A3F1-28BD87E2E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B0FC5-F8CB-47A8-93B1-F1C1A62821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926DE-E7B3-436C-977A-6B5FA781CF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8F666-1E26-4F12-842B-410022B46E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51F42-DFBF-470F-81D9-ADCCC912C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F584D-0D4A-4532-A1AE-3E4F64288E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48C9-052F-4AAE-9285-630BE7833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39CA-B25D-41CE-9424-65BDECD2A8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DD2C8-BE37-4AA2-9C87-3939EC9F4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CA29C-FE7C-4758-8FA5-C2B84DAA7F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B45D-4931-471C-A805-DFC490DCA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2816-8302-4416-ABE9-77099C7CC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69EB-6B84-4502-8F28-A250BF56C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D3B1-623F-4C65-BE49-3F124CCDC5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2ADC-097D-4AD3-A83A-8DD0E1D095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75C0-5DE4-47BA-BFDC-8E3E30D369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1C39-8205-4DB6-A415-934F064B42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77C1-DC37-4AD8-B5AE-893C4A505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5823-05BF-40B0-A753-3D240B73D7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63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4FFD-DE1F-4B09-B284-0FE50DE623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28AD-97E4-41E7-B994-36CB99137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400A-A10F-4D85-AFEB-19F0592D5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86FB-C199-4924-B337-D2E36D6C9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B036-C5E3-408C-9395-161FBF732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C1B9-2982-4BA5-AB38-1E268D802C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6BB56-6C87-47D3-9313-8832FA682B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19FD-108C-4398-8EE7-47A54F012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1AF2-1626-463B-A54C-E3405A037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C395-1727-4A69-AA43-E4492277E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FE00-FF80-4CE4-ACC4-4D711D8B5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63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E855-574C-4C81-B251-2016D0AEA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5907-7509-41CE-A986-20572B1CC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FAFD-7128-4855-85A2-069EA20CB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54C5-01D0-4C0D-A400-0FA93F9E2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56FF9-4FC3-4F48-BE6B-11A094D2A3F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3072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0148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796205-BFD2-4F3E-8D48-917E508979D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14800" y="2928960"/>
            <a:ext cx="4214880" cy="15717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вами я - профессор Галилео!  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102200" y="322200"/>
            <a:ext cx="4717800" cy="3538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5280" y="308124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158080" cy="4900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439560"/>
            <a:ext cx="83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открытой лесной поляне ягоды раньше созревают с ю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75000" cy="319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892320" cy="5008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27040" y="4508640"/>
            <a:ext cx="50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у у пней с южной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годы брусники, черн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ошки поспевают ран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м на север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142040" cy="4761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3078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ь стороны света можно по направлению полёта птиц. Осенью они летят на юг, а весной на сев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квартальным столб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5880" y="164304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30446" t="0" r="0" b="0"/>
          <a:stretch/>
        </p:blipFill>
        <p:spPr>
          <a:xfrm>
            <a:off x="500040" y="1785960"/>
            <a:ext cx="3591000" cy="328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214880" y="178596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строй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ущенный край нижней перекладины креста на куполе православной церкви обращен к югу, приподнятый - к сев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24772" r="58511" b="27728"/>
          <a:stretch/>
        </p:blipFill>
        <p:spPr>
          <a:xfrm>
            <a:off x="3000240" y="2357280"/>
            <a:ext cx="4286520" cy="359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786280" y="2357280"/>
            <a:ext cx="28670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строй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ри синагог и мусульманских мечетей обращены на сев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37501" t="0" r="0" b="0"/>
          <a:stretch/>
        </p:blipFill>
        <p:spPr>
          <a:xfrm>
            <a:off x="5214960" y="2500200"/>
            <a:ext cx="3335400" cy="331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86040" y="2571840"/>
            <a:ext cx="2475000" cy="328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км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DejaVu Sans"/>
              </a:rPr>
              <a:t>Полоска на земле в виде примятой трав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 и листьев, сдвинутых живым существом, а потому выделяющаяся более светлым оттенком от окружающей мест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40000" y="3367080"/>
            <a:ext cx="521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Если ветки мешают, бьют по лицу либо ниже (по груди, по животу), значит, ходили здесь низкорослые звери, но никак не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тёс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Сруб коры с частью древесины с обеих сторон дерев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Затесы делаются вдоль малопроторенных тр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ур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Ориентиры сложенные из камня или толстых деревьев, обозначающие тро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0040" y="2071800"/>
            <a:ext cx="42148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328608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57200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1000080"/>
            <a:ext cx="5643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ориентиров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азиму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пределить нужное направление с помощью компас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еще можно определить стороны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риентироваться по звезд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86040" y="2214720"/>
            <a:ext cx="500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4»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 52 – 56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5»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380880"/>
            <a:ext cx="8077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99308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86040" y="2214720"/>
            <a:ext cx="500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4»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 52 – 56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5»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22640" y="1522440"/>
            <a:ext cx="342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43160" y="2682720"/>
            <a:ext cx="49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риентирование по местным призна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0040" y="2071800"/>
            <a:ext cx="42148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040" y="328608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457200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0680" y="1000080"/>
            <a:ext cx="435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8358120" cy="5286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14280" y="1928880"/>
            <a:ext cx="30006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мх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5880" y="1500120"/>
            <a:ext cx="4786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хи и лишайники – тенелюбивые и влаголюбивые растения -гуще растут с северной стороны деревьев и камней. Мох с северной стороны более влаж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00800" y="1714680"/>
            <a:ext cx="319068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муравейн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5880" y="164304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равьи, как правило, строят свои жилища к югу от дерева или пня. Если муравейник расположен не у дерева, то его южная сторона обычно более полог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760" y="264312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таянию сне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, что южная сторона предметов нагревается больше чем северная, соответственно и таяние снега с этой стороны происходит быстрее. Это хорошо видно на склонах оврагов, лунках у деревьев, снегу, прилипшему к камням.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786120" y="2714760"/>
            <a:ext cx="478656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траве на опушке, поля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ва на северных окраинах полян а также с южной стороны отдельно стоящих деревьев, пней, больших камней весной бывает гуще. Летом же северные стороны полян выгорают. Жарким и засушливым летом роса на траве, растущей у дерева или камня, дольше сохраняется с северной стороны, а сама трава выглядит более свежей.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105440" y="3000240"/>
            <a:ext cx="458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737400" cy="505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260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бы растут в основном с северной стороны   деревьев,  пней, кустар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Смирнова</cp:lastModifiedBy>
  <dcterms:modified xsi:type="dcterms:W3CDTF">2011-11-20T12:40:56Z</dcterms:modified>
  <cp:revision>263</cp:revision>
  <dc:subject/>
  <dc:title>ЖИЛИЩЕ ЧЕЛОВЕКА  ОСОБЕННОСТИ ЖИЗНЕОБЕСПЕЧЕНИЯ  ЖИЛИЩА</dc:title>
</cp:coreProperties>
</file>