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392CF-2805-44A8-ADC8-40187C04A2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39F58-F14D-4296-8A2C-2125A594C8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1B024-51A1-4A12-A471-6D5305C4B18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01931-8433-41F3-B0A3-50E8761A79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16A8F-1D48-4CA4-8C49-DCD4469E02F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BBBAD-6622-4EE4-986E-93B63690F8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BB0E2-E201-46FE-9D54-97A4F028B67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F722C-8037-4B6E-B9B0-E27DD6CACC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8FBE5-5040-44E6-B19E-47D35A94F14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1C9F0-59EE-447C-8F82-36B3E930FE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  <p:sp>
        <p:nvSpPr>
          <p:cNvPr id="2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0D58A-236A-4439-884F-148BFF3602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208AB-5088-4341-91D9-D601B438B3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03F60-46A8-4333-9027-1DC7E9E7EE7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0E72C-4F49-4D77-93A9-E7D81DD9C7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  <p:sp>
        <p:nvSpPr>
          <p:cNvPr id="2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17956-EC21-4ADB-A964-E6E508A415A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4BDF5-B70A-462D-A1B8-82EB214AA1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B856C-ED2F-4A46-859B-E10B1F3B1EF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33597-3521-4A9A-9B0E-A4C020E623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00FDF-FD81-49D4-B5E5-DD30BEC89A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14861-5608-447E-A47B-F33EADAC19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59795-3798-4A58-BE10-283DDEA1F7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551F2-8C92-4837-8A87-BB45A01E49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E7427-92CF-4A93-9116-3AE9F5BA617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F2999-ED20-4733-A51F-E7A152CF15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5690F-056D-4F20-846A-01140CB007B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711D5-4B77-4737-B512-4FC70CB0A5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860AE-BF1A-4272-8902-F2C2C3E3FE9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B7908-7F70-4D72-B3F7-1542C46313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87AB0-C2DD-48ED-BBC6-052944F941B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C631C-6F15-4A19-BD35-59586149C7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51B14-349A-424A-91CF-7F24E44376D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A863D-70BF-448D-91D8-1C2F9A49B5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1B4F5-A3F8-48BC-B499-BACB747F811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EAC5-B9A8-4672-9A7B-D5DAF9EAD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1670-0435-476A-9750-442A3E9D7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7855-2A4A-4A40-B12F-002F10AB3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8CE1-2E87-410D-B80E-396BB85B8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0CD8D-4F73-40E6-B929-3A60313DE4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2A3C2-4B6B-4082-9041-1E004DAC12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62C8B-42A0-400C-9BDD-F6D987BEF5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F7383-CC03-4E64-A35E-5DD1843259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948B-28F9-4142-AAD7-9632E79C4F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-206280"/>
            <a:ext cx="822636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6FB91-4189-4790-9F28-A20C0EB548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01CF-D545-4287-8511-860E791917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793F-C8A1-42AC-8C5B-3751AE4BC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D502D-D072-40E1-ADD9-AE4ADED4F4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7502-D8AC-4703-82FB-47DBC7D59C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9208-C9FF-4A21-BD71-54BCE6D166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3BBEA-555E-43B4-9163-000531B68F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EEBB-AEB1-41AF-95AA-05BC3E2DEA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FA23-93D2-4AED-B08E-521ABAE77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224C-8C29-4E1D-81E8-0B9CD3844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E6C4-9F22-46F7-97BA-45CDC60C3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206280"/>
            <a:ext cx="822636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16C5-F916-4D5F-B89E-D18F50542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D9CF-1087-496B-B1CF-5AD782155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DF5F-0D89-48E1-8FDE-5DC312F50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6963-6C69-4F67-8BC1-5D09EA82B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328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D525B-20C6-470C-9176-BE0FAC69F38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3072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01488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5E7555-DDF9-4150-97AE-3E824C7CAB5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14800" y="2928960"/>
            <a:ext cx="4214880" cy="15717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 вами я - профессор Галилео!  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102200" y="322200"/>
            <a:ext cx="4717800" cy="3538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95280" y="3081240"/>
            <a:ext cx="4537080" cy="3402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5158080" cy="4900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5280" y="439560"/>
            <a:ext cx="83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открытой лесной поляне ягоды раньше созревают с ю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4275000" cy="3198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3892320" cy="5008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27040" y="4508640"/>
            <a:ext cx="503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лесу у пней с южной стор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годы брусники, черни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рошки поспевают раньш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м на север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7142040" cy="4761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11280" y="30780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ь стороны света можно по направлению полёта птиц. Осенью они летят на юг, а весной на сев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квартальным столб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5880" y="1643040"/>
            <a:ext cx="76438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rcRect l="30446" t="0" r="0" b="0"/>
          <a:stretch/>
        </p:blipFill>
        <p:spPr>
          <a:xfrm>
            <a:off x="500040" y="1785960"/>
            <a:ext cx="3591000" cy="3286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214880" y="1785960"/>
            <a:ext cx="2500200" cy="3333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постройк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5880" y="1500120"/>
            <a:ext cx="79293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ущенный край нижней перекладины креста на куполе православной церкви обращен к югу, приподнятый - к севе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24772" r="58511" b="27728"/>
          <a:stretch/>
        </p:blipFill>
        <p:spPr>
          <a:xfrm>
            <a:off x="3000240" y="2357280"/>
            <a:ext cx="4286520" cy="3598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5786280" y="2357280"/>
            <a:ext cx="28670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постройк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5880" y="1500120"/>
            <a:ext cx="79293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ри синагог и мусульманских мечетей обращены на сев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rcRect l="37501" t="0" r="0" b="0"/>
          <a:stretch/>
        </p:blipFill>
        <p:spPr>
          <a:xfrm>
            <a:off x="5214960" y="2500200"/>
            <a:ext cx="3335400" cy="3319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786040" y="2571840"/>
            <a:ext cx="2475000" cy="3286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кма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5880" y="1500120"/>
            <a:ext cx="79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DejaVu Sans"/>
              </a:rPr>
              <a:t>Полоска на земле в виде примятой трав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 и листьев, сдвинутых живым существом, а потому выделяющаяся более светлым оттенком от окружающей мест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240000" y="3367080"/>
            <a:ext cx="5219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Если ветки мешают, бьют по лицу либо ниже (по груди, по животу), значит, ходили здесь низкорослые звери, но никак не лю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тёсы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5880" y="1500120"/>
            <a:ext cx="79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Сруб коры с частью древесины с обеих сторон деревь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Затесы делаются вдоль малопроторенных тр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уры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5880" y="1500120"/>
            <a:ext cx="79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Ориентиры сложенные из камня или толстых деревьев, обозначающие троп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0040" y="2071800"/>
            <a:ext cx="42148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040" y="3286080"/>
            <a:ext cx="51436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4572000"/>
            <a:ext cx="51436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4240" y="1000080"/>
            <a:ext cx="5643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ориентирова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азиму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пределить нужное направление с помощью компас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еще можно определить стороны све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риентироваться по звезда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71840" y="1285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86040" y="2214720"/>
            <a:ext cx="500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«4» -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тр 52 – 56 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«5» 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ить на вопросы стр. 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380880"/>
            <a:ext cx="8077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993080" cy="586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571840" y="1285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86040" y="2214720"/>
            <a:ext cx="500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«4» -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тр 52 – 56 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«5» 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ить на вопросы стр. 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022640" y="1522440"/>
            <a:ext cx="342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МА У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143160" y="2682720"/>
            <a:ext cx="495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риентирование по местным призна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00040" y="2071800"/>
            <a:ext cx="42148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040" y="3286080"/>
            <a:ext cx="51436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040" y="4572000"/>
            <a:ext cx="51436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00680" y="1000080"/>
            <a:ext cx="4357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8358120" cy="5286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14280" y="1928880"/>
            <a:ext cx="300060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мх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5880" y="1500120"/>
            <a:ext cx="4786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хи и лишайники – тенелюбивые и влаголюбивые растения -гуще растут с северной стороны деревьев и камней. Мох с северной стороны более влаж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500800" y="1714680"/>
            <a:ext cx="3190680" cy="42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муравейни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5880" y="1643040"/>
            <a:ext cx="76438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равьи, как правило, строят свои жилища к югу от дерева или пня. Если муравейник расположен не у дерева, то его южная сторона обычно более полог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28760" y="264312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таянию сне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5880" y="1500120"/>
            <a:ext cx="79293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вестно, что южная сторона предметов нагревается больше чем северная, соответственно и таяние снега с этой стороны происходит быстрее. Это хорошо видно на склонах оврагов, лунках у деревьев, снегу, прилипшему к камням. </a:t>
            </a:r>
            <a:br>
              <a:rPr sz="24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786120" y="2714760"/>
            <a:ext cx="4786560" cy="32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траве на опушке, поля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" y="1500120"/>
            <a:ext cx="79293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ава на северных окраинах полян а также с южной стороны отдельно стоящих деревьев, пней, больших камней весной бывает гуще. Летом же северные стороны полян выгорают. Жарким и засушливым летом роса на траве, растущей у дерева или камня, дольше сохраняется с северной стороны, а сама трава выглядит более свежей. </a:t>
            </a:r>
            <a:br>
              <a:rPr sz="24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105440" y="3000240"/>
            <a:ext cx="45813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6737400" cy="5052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26028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ибы растут в основном с северной стороны   деревьев,  пней, кустар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2:14:22Z</dcterms:created>
  <dc:creator>WETER</dc:creator>
  <dc:description/>
  <dc:language>en-US</dc:language>
  <cp:lastModifiedBy>Смирнова</cp:lastModifiedBy>
  <dcterms:modified xsi:type="dcterms:W3CDTF">2011-11-20T12:40:56Z</dcterms:modified>
  <cp:revision>263</cp:revision>
  <dc:subject/>
  <dc:title>ЖИЛИЩЕ ЧЕЛОВЕКА  ОСОБЕННОСТИ ЖИЗНЕОБЕСПЕЧЕНИЯ  ЖИЛИЩА</dc:title>
</cp:coreProperties>
</file>