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9E364-58AB-4DFC-9863-CAC91EEDC42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86DA1-6CAC-4BAD-9CE3-B318F8FA669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D5AF1-EF65-48E1-B2FD-CD51206BA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948D4-45C9-4FCB-ACB8-7BB73A353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FA4897-9CAE-4B61-954B-A836F13AE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506482-4DEE-4C5E-BEB4-6BCFA8F18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884696-7027-4BE7-B122-A08BFFD39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D63778-F71D-4E6C-9BFE-08D4A233D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DEF955-96C2-42C7-BD16-970DE5402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402A0C-0E15-4DFA-8CD7-F4499EA47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67ACA5-4C7F-4F41-BB2B-2796CAA16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55F80A-A7B4-4EBB-99F2-7D8462B38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7C2633-A9B5-431B-8BE0-168D3A6A6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ED325-C13D-481B-89BB-6D09A95C3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4D8BC-437E-4129-B915-434B97335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7C8E5-46BA-40BF-96B2-51CFEDD11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78515-243C-4E51-BAF5-0A074EBAE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AC1F0-F61A-4FD8-A29C-EC9F097D6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2E7D6-66FF-4D56-85D9-E2BC7B5B1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5B23B-C0EC-4F2A-85CF-18802B4F5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0C725-FC6D-4DA0-9800-0ABF37B72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43E3F-54CB-4D26-BED6-D0C5876E3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B4DF9-C3EE-4D21-B562-9F913FF62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52375-0EE2-41E3-A365-293BFE589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B9FB5-5FE3-41EF-AAA5-962D09164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450D4-4733-41B0-AF48-9B13426C8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E401F-953A-42B1-97A2-3FEADDE1F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78B4B-91D7-45FB-8533-3DE5BFA0F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71D30F-8CB2-47EA-ADEA-84C250313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2648C2-88CB-4E72-A6AA-244DA9614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26B6E3-6896-4CAA-9CDE-00160F530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285A3D-321D-43BB-B44A-447D4929E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3CDC00-34E7-46AD-8D50-40948DA84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D4C8A-0D1B-4F14-98BB-D12952248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807725-F539-469E-9179-4E6B1C548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2B5D26-69E6-4237-B83B-9A677403D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D57BDD-A72E-4AB6-8BDC-BDCF5702E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B5B64F-9D4C-4576-ACCB-3E137016C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295A72-E0A4-4E5D-870A-2F7CC54F2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3C4B33-ADEF-4ECA-BF02-717D1606B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B0DD08-E7D6-42EB-BA89-06DD3FCF6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303812-981B-459E-BC4F-645903546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337CD8-396F-416B-B365-A286C4797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7B9749-D631-4372-AF65-AF313C97C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47AAA-6537-46A8-B0CC-2EB423D5E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1996FC-71BB-46AD-813E-EACC89047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797F11-CAE1-46B4-AD4A-1BED15FF3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3907C1-498C-43D1-ABEC-17E39102A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D24E7F-4D3F-4FB2-AEDE-F331B32FF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D06D3B-9234-4AB5-8725-F1112F6E8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685630-8BD5-4F3F-80E7-D1DC040CB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825C3E-1B2D-444D-A0AB-11393F2FA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C90191-3450-4010-BE7A-823313379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F4B1CA-DBC6-449E-AD3A-3FDB4E0B8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D12F74-B70B-4B65-A0F9-225EC1075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D1AAF-88B0-440A-8805-302D43804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13EB89-B0D8-4036-836F-79C4C91C0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ACE3A2-3E80-41BB-9D3D-88594D466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A5BC3A-B621-47BD-8719-4437EB55D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3EC193-18AF-4A2C-95A6-48C19F4E5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095395-F506-4E21-992E-892907DAB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C2C49E-EC29-4B92-983A-D725111C8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08101C-B680-4E38-A1A8-562E28BA8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E79CD0-0726-4E70-800E-EDE26890F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DCD41B-0411-42C6-AE10-DE6C9E1BE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0A6C2A-5985-495F-A975-58B950253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333C9-8FAA-4FA0-9248-D6C8C64D2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676991-0B4F-47EB-90E3-4AA4243CF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94F483-4991-4C6A-85A3-E784A83CE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0794C0-568B-4331-9B7B-7BD00182A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7F931A-3767-474D-BDCE-6805B0869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B5F1FE-23C5-4DF1-AD12-B2BB8A9CB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AD4B5F-5F70-4312-869D-70AF671B5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4C4D0F-9B99-408D-A229-FBE71FC42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67D361-936C-4742-95C3-EAB026592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C43960-20C5-45E7-A3F9-6F2801B81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24256F-7E96-4013-BA28-FA37CACEA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DCF6F-1C7C-4F2E-947B-242505873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CC8058-668F-42E7-AAD6-75253EEFA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6DB4DC-0277-43A5-87C1-8268B606A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28F5EE-BAFA-4041-A40A-1933D32C1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FA6DFD-42EC-4ACA-99DB-B124CA099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25B2AE-8F3C-49C2-94A8-A6627AD58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96B0A7-E443-4180-B54A-75B60E6B5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B44EA9-2893-4314-A1D6-CB66C0C1A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400E36-7AA1-4EA6-B841-8EB4C6E2E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D2884F-FBB7-48A4-9207-33561B864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083951-6A09-440B-8D61-D3DF35FA9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999F6-6E31-4842-8B9D-B0A4901A0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520D39-463B-41F8-AB59-61B140C53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FF4F74-9065-49A2-9232-F475A43C5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386E7E-3B08-4DC7-A6AA-1C937CC08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587F60-B5AD-4E09-AFC3-CF6545389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26DF1F-08F7-4093-B339-070044C0F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036C18-CE2A-41AF-AE38-22E52216B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178A62-EA4D-4E18-974F-42E85BDF2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7D9EE7-0398-4019-ADED-F439045DB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758E75-F5B5-4ABE-B9F1-8A8720647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CC79EC-9CEF-4C8C-B3B0-A7827C46D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C4C01-A61E-45D0-B260-8C484B338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66A7BE-7CF0-4402-8E7F-B2EF8E82B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E33352-9287-420A-8E4E-B791F5243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B777C4-709F-499C-A7F7-9BC19D16D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C53427-88EC-48F6-B8FC-6F131477A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9BDEE2-0182-47A4-95DD-E7E3F751E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CB0D1C-8653-47D5-A531-403AC0D50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FC6174-A073-4D80-9564-14A2C1AEE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077EF8-1C7C-4F57-9349-ABB6D44D0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DF3B3E-AB97-47C0-9C14-14A4CB9B9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BE6623-424F-4636-B505-13E9CA22A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2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6D553-2523-41BC-8C75-70176930B596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4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12640" y="5346720"/>
            <a:ext cx="8631360" cy="11160"/>
            <a:chOff x="512640" y="5346720"/>
            <a:chExt cx="8631360" cy="111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2"/>
            <a:stretch/>
          </p:blipFill>
          <p:spPr>
            <a:xfrm>
              <a:off x="512640" y="534672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F32BF-4BF9-4F23-8CF3-D63421BFB0D6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2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4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8AAF1-E260-420A-8F25-1DC080D8E5F1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12640" y="3438360"/>
            <a:ext cx="8631360" cy="11160"/>
            <a:chOff x="512640" y="3438360"/>
            <a:chExt cx="8631360" cy="111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2"/>
            <a:stretch/>
          </p:blipFill>
          <p:spPr>
            <a:xfrm>
              <a:off x="512640" y="34383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0374A-DE35-4F23-8C99-645BE0E0AC9E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12640" y="6016680"/>
            <a:ext cx="8631360" cy="12600"/>
            <a:chOff x="512640" y="6016680"/>
            <a:chExt cx="8631360" cy="1260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2"/>
            <a:stretch/>
          </p:blipFill>
          <p:spPr>
            <a:xfrm>
              <a:off x="512640" y="60166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84662-2D07-4FC4-A804-0D0FD54B960D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4096A-C12F-4E1A-A051-87FACADCF53E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12640" y="5846760"/>
            <a:ext cx="8631360" cy="11160"/>
            <a:chOff x="512640" y="5846760"/>
            <a:chExt cx="8631360" cy="1116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2"/>
            <a:stretch/>
          </p:blipFill>
          <p:spPr>
            <a:xfrm>
              <a:off x="512640" y="58467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6C644-7F4B-4915-AA04-C932DD73E0CB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0B889-1DF2-4013-B37C-EA91135D3602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0D48F-A980-4578-B21C-D6E6A2F7E067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Picture 3" descr="C:\Users\Екатерина\Desktop\8.jpg"/>
          <p:cNvPicPr/>
          <p:nvPr/>
        </p:nvPicPr>
        <p:blipFill>
          <a:blip r:embed="rId1"/>
          <a:stretch/>
        </p:blipFill>
        <p:spPr>
          <a:xfrm>
            <a:off x="0" y="0"/>
            <a:ext cx="3962520" cy="3962520"/>
          </a:xfrm>
          <a:prstGeom prst="rect">
            <a:avLst/>
          </a:prstGeom>
          <a:ln w="0">
            <a:noFill/>
          </a:ln>
        </p:spPr>
      </p:pic>
      <p:pic>
        <p:nvPicPr>
          <p:cNvPr id="407" name="Rectangle 2" descr=""/>
          <p:cNvPicPr/>
          <p:nvPr/>
        </p:nvPicPr>
        <p:blipFill>
          <a:blip r:embed="rId2"/>
          <a:stretch/>
        </p:blipFill>
        <p:spPr>
          <a:xfrm>
            <a:off x="689040" y="3322800"/>
            <a:ext cx="8302680" cy="25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Заголовок 1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8686800" cy="1000080"/>
          </a:xfrm>
          <a:prstGeom prst="rect">
            <a:avLst/>
          </a:prstGeom>
          <a:ln w="0">
            <a:noFill/>
          </a:ln>
        </p:spPr>
      </p:pic>
      <p:sp>
        <p:nvSpPr>
          <p:cNvPr id="409" name=""/>
          <p:cNvSpPr txBox="1"/>
          <p:nvPr/>
        </p:nvSpPr>
        <p:spPr>
          <a:xfrm>
            <a:off x="228600" y="1295280"/>
            <a:ext cx="86868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Подъем за час-полтора до выхода в школу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-3258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Утренняя зарядка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-3258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Горячий завтрак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-3258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Занятия в школе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-3258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Горячий обед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-3258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Отдых на свежем воздухе или сон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-3258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Домашнее задание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-3258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Свободное время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-3258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Сон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10" name="Picture 4" descr="D:\Work\ПРОЕКТ РОД.СОБ\Папка №2 Родительские собрания\Начальная школа\risunok.gif"/>
          <p:cNvPicPr/>
          <p:nvPr/>
        </p:nvPicPr>
        <p:blipFill>
          <a:blip r:embed="rId2"/>
          <a:stretch/>
        </p:blipFill>
        <p:spPr>
          <a:xfrm>
            <a:off x="4267080" y="4343400"/>
            <a:ext cx="4676760" cy="21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Заголовок 1" descr=""/>
          <p:cNvPicPr/>
          <p:nvPr/>
        </p:nvPicPr>
        <p:blipFill>
          <a:blip r:embed="rId1"/>
          <a:stretch/>
        </p:blipFill>
        <p:spPr>
          <a:xfrm>
            <a:off x="109440" y="457200"/>
            <a:ext cx="9053640" cy="1000080"/>
          </a:xfrm>
          <a:prstGeom prst="rect">
            <a:avLst/>
          </a:prstGeom>
          <a:ln w="0">
            <a:noFill/>
          </a:ln>
        </p:spPr>
      </p:pic>
      <p:sp>
        <p:nvSpPr>
          <p:cNvPr id="412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Первокласснику необходимо спать 11,5 часов в сутки, включая 1,5 часа дневного сна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В школе двигательная активность ребенка ограниченна. Поэтому очень важно дать ребенку возможность подвигаться во второй половине дня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13" name="Picture 4" descr="D:\Work\ПРОЕКТ РОД.СОБ\Папка №2 Родительские собрания\Начальная школа\0_1fdd1_8887bb72_XL.jpg"/>
          <p:cNvPicPr/>
          <p:nvPr/>
        </p:nvPicPr>
        <p:blipFill>
          <a:blip r:embed="rId2">
            <a:lum contrast="20000"/>
          </a:blip>
          <a:srcRect l="4997" t="3697" r="4997" b="6426"/>
          <a:stretch/>
        </p:blipFill>
        <p:spPr>
          <a:xfrm>
            <a:off x="6248520" y="4724280"/>
            <a:ext cx="2361960" cy="18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Лучшее время для приготовления уроков — 15-16 часов. Через каждые 25-30 минут необходим перерыв. Время, отведенное на приготовление уроков, не должно превышать одного часа.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Обратите внимание на то, как питается ваш ребенок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15" name="Picture 3" descr="D:\Work\ПРОЕКТ РОД.СОБ\Папка №2 Родительские собрания\Начальная школа\06493.gif"/>
          <p:cNvPicPr/>
          <p:nvPr/>
        </p:nvPicPr>
        <p:blipFill>
          <a:blip r:embed="rId1"/>
          <a:stretch/>
        </p:blipFill>
        <p:spPr>
          <a:xfrm>
            <a:off x="3886200" y="4724280"/>
            <a:ext cx="1857240" cy="19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Младшим школьникам не стоит смотреть телевизор дольше 40-45 минут в день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Нельзя смотреть телевизор лежа, только сидя на расстоянии 2-5,5 м от экрана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Тоже касается и компьютера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17" name="Picture 3" descr="D:\Work\ПРОЕКТ РОД.СОБ\Папка №2 Родительские собрания\Начальная школа\67282.jpg"/>
          <p:cNvPicPr/>
          <p:nvPr/>
        </p:nvPicPr>
        <p:blipFill>
          <a:blip r:embed="rId1"/>
          <a:stretch/>
        </p:blipFill>
        <p:spPr>
          <a:xfrm>
            <a:off x="838080" y="4495680"/>
            <a:ext cx="3152880" cy="21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Заголовок 1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8686800" cy="1000080"/>
          </a:xfrm>
          <a:prstGeom prst="rect">
            <a:avLst/>
          </a:prstGeom>
          <a:ln w="0">
            <a:noFill/>
          </a:ln>
        </p:spPr>
      </p:pic>
      <p:sp>
        <p:nvSpPr>
          <p:cNvPr id="419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Быть для ребёнка положительным примером в следовании навыкам гигиенического поведения, так как одна из психологических особенностей младших школьников- склонность к подражании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12120" indent="-31212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Поощрять попытки ребёнка  придерживаться  режима дня, выполнять гигиенические процедуры, соблюдать культуру умственного труда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Правильно организовать режим дня школьника :обеспечить ему достаточный по продолжительности сон со строго установленным  временем подъёма и отхода ко сну, предусмотреть регулярный приём пищи, установить определённое время приготовления уроков ,выделять время для отдыха на открытом воздухе, свободных занятий и помощи в семье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Проверять правильность осанки детей. При получении настораживающих результатов, проанализировать возможные причины отклонений, постараться устранить их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12120" indent="-31212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Не впадать в крайности, не ставить ребёнка под шквал замечаний и наказаний. Добиваться, чтобы он всё необходимое делал с первого же напоминания ,ни на что не отвлекаясь.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12120" indent="-31212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Обращать больше внимания на хорошее в ребёнке, чем на его ошибки ,но не захваливать, иначе стремление к одобрению, к похвале  может стать главным мотивом здравотворческой деятельности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23" name="Picture 4" descr="D:\Work\ПРОЕКТ РОД.СОБ\Папка №2 Родительские собрания\Начальная школа\1191269243_c4132.jpg"/>
          <p:cNvPicPr/>
          <p:nvPr/>
        </p:nvPicPr>
        <p:blipFill>
          <a:blip r:embed="rId1">
            <a:lum contrast="10000"/>
          </a:blip>
          <a:srcRect l="0" t="0" r="0" b="11660"/>
          <a:stretch/>
        </p:blipFill>
        <p:spPr>
          <a:xfrm>
            <a:off x="6858000" y="3657600"/>
            <a:ext cx="168264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2T17:15:59Z</dcterms:created>
  <dc:creator>Маша</dc:creator>
  <dc:description/>
  <dc:language>en-US</dc:language>
  <cp:lastModifiedBy>Коля</cp:lastModifiedBy>
  <dcterms:modified xsi:type="dcterms:W3CDTF">2013-04-06T16:45:25Z</dcterms:modified>
  <cp:revision>3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