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B56-C95E-466E-BDC6-A6737F4CA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FA7-A4F0-43D9-A63D-459D96840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4EE-35AC-43B6-B5E8-F5DF393E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C61-D4E6-4492-9F0D-FA62A82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1537B-FDE1-4537-85C1-562E1AB8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9C0C2-3959-4BD7-A199-37EE31DA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CECE0-202C-4CA0-BC4B-6546C74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81ED-E4C6-47A5-88B0-A256BAF1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DC11E-2D1E-462E-BD7E-3EB60DA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6299D-B69D-4EC5-B8FA-B3DA1B0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98A63-15D4-4324-844C-56C7DB3A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947CD-2609-44D8-A8E2-0EC75434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835B1-24E5-4419-987C-E3609D5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976-34C2-42A8-9C56-4733D04A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3FF-2E9A-473A-B25E-AF8A6996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5D8-20B7-4004-B082-02DAC503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7D7-928A-4B47-8305-0F4B6BE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ACAC-4FA4-42F8-B71D-A27AC687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05C1-31A7-460E-90F7-9BBE961B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C55-5062-4485-BE97-621AFEB0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78F-7083-4874-B54C-9E175AD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15A7-6509-42A2-B28B-911DE2A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F34-C52B-4CEB-B71A-DCEF31C2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4175-A5A6-4423-B430-B3D75AC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8D48-0D56-4397-8DE9-CCD8D1A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F54-0FCA-4956-9D66-737F080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A92-BB54-4EF3-A1AD-F1A5BCF1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438-2DDA-4712-84A9-1413D672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70E2-2107-455D-B87C-7DF4CBEC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61A8-6D32-49A1-A4BF-D7B79E7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8F2E-D0FB-4814-9ADE-142CD61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62ED-9C0E-4817-8F8D-D44561F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6FFC-4B76-4DBC-AC12-A42543E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361-3E5B-41D7-AC4E-92E9BE41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9363-274F-4108-9969-FCBB06D2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A498-0E5A-4024-8838-5B1EA9EF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5BE7-AB48-4C2E-ACF3-BAD4CD8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1FEB-AB33-412E-99BF-EA3455F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5409-F6B7-4AB5-A1F2-1DA2DC2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02D3-F1D5-41FE-BA2B-9600B128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815B-0401-49D8-A4C8-8B8A67C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2A95-195A-45BD-9CD9-E6313C5F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CAE6-3C81-49A8-BD59-63EDECA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0E9F-F556-4DDC-9E7F-E7D96F4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48E-A8C6-4DD0-B817-F156178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9048-AC6D-40B6-A072-C4945C9E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FB8B-41E6-4EA7-8921-4FA27722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90E7-7097-4A6C-B923-23558E4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A832-331C-4AA4-AF36-6E7F6F28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8190-8352-4FB7-94C5-C90F91D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82B3-E4D1-4A7C-B67B-3815DA3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7CA0-4CA3-4C11-B14F-38088A1B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0F0A-5325-496B-BCC8-63B2F4D4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24D1-8051-4841-9933-3E2DD7B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FBF3-D0FA-44F4-A3A3-2B3D4227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B99-98BB-42ED-82BF-8DC1C68F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C6E3-5F9D-44CD-8969-5046A3A5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FFEC-E74B-4043-A325-A58DFD9D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075B-B55A-44BD-A828-C11863F1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83CE-991F-425E-828D-2D48AAB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B221-FC54-49EB-B131-27F7B326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A4E1-FB96-4DF1-A864-64718DB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95A5-D468-4FF3-9204-E1FA29D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556D-351B-47DC-A91F-05A3D17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F3D5-6570-44DF-A550-7AB361F7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3F57-2246-4F26-A8A3-1394EA27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2EE-381E-430A-986C-90EB5AD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DD41-CE0A-416A-B2BB-D44C599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7EBF-A170-478E-961A-C6A7C4F2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F074-23A3-418C-8E52-3B09F45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7B3E-249D-42DE-8B24-5213D47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6FCE-7DEE-422B-8D15-32E5274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4D82-88C3-4F89-9F06-916E529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362F-EEEF-4CE2-A1D5-FF1D433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08BC-5E33-4B5E-93FC-B04B649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6D3B-B763-45DA-9AE9-AC29DF2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C1327-A2A2-4580-AB0E-F91CB67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41D-DC3C-432F-8785-1F4FA1E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EC168-D779-4BFE-92B7-D319DF91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82AE-2582-4C96-9922-A69D8CA3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3FD1-7E4A-4C18-871B-A56EFAD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74C55-FA7C-4DC7-9AEF-D89A0E70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95AE-30A7-42A5-A0FA-9D096C2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79CD-CEF5-459F-A2EA-C7FC2C55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DEB8-AF35-4E90-9F3F-7407C3DC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62A5-C875-48EB-A805-29DF8CB0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E9DB-2EFC-452F-8164-B38E31E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C006-B7DD-4527-AF51-5BEB2DC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CCC-8358-4D67-88EE-BCAE8BB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03D5-F687-4E01-B8F9-01263F6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E3DD-F7B2-4CD6-951C-D90D3C0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54DA-B841-47F6-B451-E4ECB69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4B73-6698-4E53-B86A-A0C3DF9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A1C2-3D93-420A-A585-857FDDF4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C882D-D425-4A0C-955A-A446A76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4CFD0-C946-4933-8119-D4523D6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FE6C0-B0FA-4551-A21E-C17FD8A8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7D97-FB9B-48AD-8E30-C9701E6E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D2FFD-75ED-4336-8178-078AE41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AA8-1FBA-4B49-B961-CAC5231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F9204-2E26-4F11-BB4F-6A54E6B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3143-5273-47D2-AF76-FEEA83F1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67B5-CB2E-4A04-80B1-484B882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9BFFD-6A92-4A7A-BABE-CD20BC5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990B3-4AC8-445D-88C6-D056518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4332D-59B7-4E99-A446-BEDE0F84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40EB-BB12-417D-980D-192E5FF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915DB-29E1-4B39-BC42-6BD43150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2C070-7C00-40D3-917C-1D2AC7D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1C4E4-3B4A-43A9-9471-0021B93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5A0-83C2-4671-9CC5-A6C9FBA961A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E90-FC07-49BE-A9D2-B757D9B2DB2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C685-F3F4-4C55-9B54-A5A4088423F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F1E3-7A33-43F6-9E00-6BE8AFDC876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E22-802F-4D54-B4E2-9DC75EFE75A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910-72AA-4DB6-B088-121267735DD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B9A8-6C58-404D-8366-170BD356242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A91-79ED-4F8E-B18C-74F4DB15452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93B-1E14-40BA-B09B-428026CDDD2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Users\Екатерина\Desktop\8.jpg"/>
          <p:cNvPicPr/>
          <p:nvPr/>
        </p:nvPicPr>
        <p:blipFill>
          <a:blip r:embed="rId1"/>
          <a:stretch/>
        </p:blipFill>
        <p:spPr>
          <a:xfrm>
            <a:off x="0" y="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689040" y="3322800"/>
            <a:ext cx="8302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ъем за час-полтора до выхода в школ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тренняя заряд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завтра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нятия в школ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обе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дых на свежем воздухе или 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машнее зад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ободное врем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D:\Work\ПРОЕКТ РОД.СОБ\Папка №2 Родительские собрания\Начальная школа\risunok.gif"/>
          <p:cNvPicPr/>
          <p:nvPr/>
        </p:nvPicPr>
        <p:blipFill>
          <a:blip r:embed="rId2"/>
          <a:stretch/>
        </p:blipFill>
        <p:spPr>
          <a:xfrm>
            <a:off x="4267080" y="4343400"/>
            <a:ext cx="46767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905364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вокласснику необходимо спать 11,5 часов в сутки, включая 1,5 часа дневного с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школе двигательная активность ребенка ограниченна. Поэтому очень важно дать ребенку возможность подвигаться во второй половине дн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D:\Work\ПРОЕКТ РОД.СОБ\Папка №2 Родительские собрания\Начальная школа\0_1fdd1_8887bb72_XL.jpg"/>
          <p:cNvPicPr/>
          <p:nvPr/>
        </p:nvPicPr>
        <p:blipFill>
          <a:blip r:embed="rId2">
            <a:lum contrast="20000"/>
          </a:blip>
          <a:srcRect l="4997" t="3697" r="4997" b="6426"/>
          <a:stretch/>
        </p:blipFill>
        <p:spPr>
          <a:xfrm>
            <a:off x="6248520" y="4724280"/>
            <a:ext cx="23619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учшее время для приготовления уроков — 15-16 часов. Через каждые 25-30 минут необходим перерыв. Время, отведенное на приготовление уроков, не должно превышать одного час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тите внимание на то, как питается ваш ребен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3" descr="D:\Work\ПРОЕКТ РОД.СОБ\Папка №2 Родительские собрания\Начальная школа\06493.gif"/>
          <p:cNvPicPr/>
          <p:nvPr/>
        </p:nvPicPr>
        <p:blipFill>
          <a:blip r:embed="rId1"/>
          <a:stretch/>
        </p:blipFill>
        <p:spPr>
          <a:xfrm>
            <a:off x="3886200" y="4724280"/>
            <a:ext cx="1857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ладшим школьникам не стоит смотреть телевизор дольше 40-45 минут в ден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льзя смотреть телевизор лежа, только сидя на расстоянии 2-5,5 м от экра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же касается и компьют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D:\Work\ПРОЕКТ РОД.СОБ\Папка №2 Родительские собрания\Начальная школа\67282.jpg"/>
          <p:cNvPicPr/>
          <p:nvPr/>
        </p:nvPicPr>
        <p:blipFill>
          <a:blip r:embed="rId1"/>
          <a:stretch/>
        </p:blipFill>
        <p:spPr>
          <a:xfrm>
            <a:off x="838080" y="4495680"/>
            <a:ext cx="31528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ть для ребёнка положительным примером в следовании навыкам гигиенического поведения, так как одна из психологических особенностей младших школьников- склонность к подража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ощрять попытки ребёнка  придерживаться  режима дня, выполнять гигиенические процедуры, соблюдать культуру умственного тр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ильно организовать режим дня школьника :обеспечить ему достаточный по продолжительности сон со строго установленным  временем подъёма и отхода ко сну, предусмотреть регулярный приём пищи, установить определённое время приготовления уроков ,выделять время для отдыха на открытом воздухе, свободных занятий и помощи в сем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ять правильность осанки детей. При получении настораживающих результатов, проанализировать возможные причины отклонений, постараться устранить 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впадать в крайности, не ставить ребёнка под шквал замечаний и наказаний. Добиваться, чтобы он всё необходимое делал с первого же напоминания ,ни на что не отвлекаяс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щать больше внимания на хорошее в ребёнке, чем на его ошибки ,но не захваливать, иначе стремление к одобрению, к похвале  может стать главным мотивом здравотворческой деятель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4" descr="D:\Work\ПРОЕКТ РОД.СОБ\Папка №2 Родительские собрания\Начальная школа\1191269243_c4132.jpg"/>
          <p:cNvPicPr/>
          <p:nvPr/>
        </p:nvPicPr>
        <p:blipFill>
          <a:blip r:embed="rId1">
            <a:lum contrast="10000"/>
          </a:blip>
          <a:srcRect l="0" t="0" r="0" b="11660"/>
          <a:stretch/>
        </p:blipFill>
        <p:spPr>
          <a:xfrm>
            <a:off x="6858000" y="3657600"/>
            <a:ext cx="1682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7:15:59Z</dcterms:created>
  <dc:creator>Маша</dc:creator>
  <dc:description/>
  <dc:language>en-US</dc:language>
  <cp:lastModifiedBy>Коля</cp:lastModifiedBy>
  <dcterms:modified xsi:type="dcterms:W3CDTF">2013-04-06T16:45:2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