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754D-73C6-4602-ACBA-DD365E579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A373-EFE3-42BE-A03B-27283F2C6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794-8119-4ADA-8462-E842199F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E20-6993-4AFE-B389-EE912D56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EAEF8-DC13-40C0-8416-63463BE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3BFA8-7D4B-4CDB-B6CC-8E52A027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6CF84-442E-42A5-AFD8-9E5BCFBB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22B27-06C0-408E-9A32-0B2096F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216D2-7BAA-425F-80CF-ACA28681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70C13-E56F-43D6-BAF1-391E005D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F3098-2582-430A-8069-0812A49A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1F38C-E114-4C17-BEEE-B9334BD5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D5EDB-7DFF-446B-99C3-38E15356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067-CBF4-43EA-9C48-B35F1729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81A-602B-435D-8F7D-82437A6F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8848-D0DF-4859-9E80-59ED8E3A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2DFA-1DBB-407D-80A7-E0B25E62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4BEA-09A6-4712-88BA-62C88788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6422-0B48-43B8-BB58-D66C2DBC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E3F9-75BB-4C84-8838-F296D968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9426-E6E5-45F8-B0FF-71A27CA8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BA8B-DE5D-48E1-A501-9A1AEFC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D99-3B8A-4953-9D16-80AC05E8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3604-3315-4C8E-B70C-6F2D608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4D3A-1B8B-4460-8DBB-99786EE0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656F-B639-4377-B8F1-157288CA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0CE-F3CE-42B4-949A-BE005D4D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7C81-2892-4DC4-894B-FC5F53CE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62DF-3A49-4CA2-AF7A-FCCCB6A9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BDEA-8941-4949-A5CB-0627273B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253F-8F00-4BE8-B920-83DE31F2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9307-C6C6-41CE-8575-4DCB2D5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926D-4523-4827-961C-C8FC300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8DE-F6DA-41AF-8D6B-A5DF39D7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457A-59D2-4FA4-8045-A5D56CDF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B4DE-7950-4956-B59A-0755DAFF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ADB7-C6F3-4FCA-A97D-2ED43AD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BFC8-923A-41C5-B1B7-1BD92D3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FD89-A2AF-4A1C-9536-CE950020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4E49-A8F0-4A09-B887-73586ADA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644F-D2A1-4CF9-B676-0FA9EF71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FF68-0F88-4DB5-B7D5-3DCD2410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55CC-9192-458E-9EBC-F482AECD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F93D-5E73-4821-BD2C-7C42B6F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C58-B64B-42BF-B99F-874BEF5B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87164-8EC0-45FD-96CF-84EA1151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C345B-2B3C-4697-AECD-67BE1FA1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8CE2-50AC-4935-BE7C-AF63826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4E1D-685A-4BC3-B3D2-07E2CEC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B30A-89DD-4B88-A70B-7E76DC3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F880-4E1F-485B-945C-DBFC3D3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BC3A-9CC9-4877-90EE-9BE68C24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2BD9-DABE-42DD-BB3B-7418EF30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44C1-D66F-4AB6-B924-16F972DE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F7BF-425E-4857-8018-344EA526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C79-3891-446D-BFB2-151B459E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194A-CE78-46C8-9850-A292374A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2C59-96CD-4BB3-A4F7-E977DFE5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86EFA-A5B7-415B-98CC-BCFA9F1E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C484-88B1-444A-8315-8B64FD79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8BA0-9D3E-487C-9733-A2B333BF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3F3B-096A-4ADE-AFBD-AAB42EC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2188-CE75-4A83-BBBB-9DC84B10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A6DE-BBB9-4D70-A6C8-2B2DFD17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E47BE-99FE-41D7-B189-7286D9DF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9BE5-4F08-4AF6-BBA8-7C3A9BC4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68E-0EFE-4D78-821C-39FD9075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C8E6-81A9-4699-B018-5192B7CD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4D5B-A723-48BF-AA64-A146B087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8C69-B0E2-42A0-B541-86CF9AC6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0DFC-EAC2-406E-80C5-D932AFCD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CA71C-3A66-49D7-958B-0D15EAAE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DA2F-9628-4FBA-A2F9-67F148F0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BC636-740E-45DC-B056-07F8796B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B2649-7ABC-439F-B399-0B1F3E8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E81B9-C96F-482D-9E96-DDE3E94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D630-57A2-4A85-B027-4FEB8C85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791-8295-4D8E-9FE2-837D1FC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638F-45EE-483E-A6FB-5C482598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EEC0-24EB-4222-A59F-F4F48A99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CBA60-1ADE-48A8-A995-0C203063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09CFC-6075-4C18-A481-D0628053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8D7E3-3786-4A5F-A180-48D65151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B5FE1-97F2-4838-A704-E4F69DE9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93448-FBB2-4460-BFBA-A0593190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85E3-7255-4879-906C-09793ED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2C835-AEBD-4BD4-814E-E5F1BFD5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2CDA-FB06-45E0-85AE-69EFD454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574-B94B-4C37-88D6-D5712211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9B36-2D1C-4F41-B756-3BD5857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90589-2D86-4C86-B9CF-AE69001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3723-C22B-43B0-9C51-9C114195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CFF93-80A7-4166-96B3-AC17F821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5B8D4-E6F6-4AA3-A468-ED1CBAFB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0655C-F685-4BDC-8715-D4EDBCF5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CB499-7502-4C56-AF66-71A8AA17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B43CD-C36F-46D6-8435-9DE228F5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8D3B-4207-4A54-8BF3-802F8848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45F5-2E88-444F-A04B-E4A663D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B91-519B-4DEB-85B4-DACE1DE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8218A-4B1C-4406-A965-95200FA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B6285-296F-4B04-939A-C2B2278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527AC-6F0B-4DCB-BF8E-F1CC3B1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770E-3A2F-49E8-9176-8BE1113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1710A-19F1-4E02-8281-30652923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3EF72-43B4-4B98-AFF5-AD07C57B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76283-E092-4505-ADCF-53C2D5E7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F55A9-2DB0-461D-B760-0841E754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93BD7-A494-47FD-9C61-F3F3840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E1808-A966-44D8-859F-4A0673B7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5502-5760-414F-A88E-42CD2CB67B1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9011-855C-4AAF-8A56-775D2EE0949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4879-BE0B-4991-B343-DD82D91E895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21F3-A439-45AD-8CCC-AC1D0D9B2D7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A36-D217-4373-86CE-C912FB2FAD0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E292-ECF2-4EEF-8044-B662EB11664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CFB-F40C-4329-AD44-6983C68F046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794E-9F72-403F-9CE1-F040F89ECEB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8F9-86E8-4350-AB81-8626ECA75CE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C:\Users\Екатерина\Desktop\8.jpg"/>
          <p:cNvPicPr/>
          <p:nvPr/>
        </p:nvPicPr>
        <p:blipFill>
          <a:blip r:embed="rId1"/>
          <a:stretch/>
        </p:blipFill>
        <p:spPr>
          <a:xfrm>
            <a:off x="0" y="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689040" y="3322800"/>
            <a:ext cx="8302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ъем за час-полтора до выхода в школ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тренняя заряд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рячий завтра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нятия в школ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рячий обе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дых на свежем воздухе или со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машнее зад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ободное врем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4" descr="D:\Work\ПРОЕКТ РОД.СОБ\Папка №2 Родительские собрания\Начальная школа\risunok.gif"/>
          <p:cNvPicPr/>
          <p:nvPr/>
        </p:nvPicPr>
        <p:blipFill>
          <a:blip r:embed="rId2"/>
          <a:stretch/>
        </p:blipFill>
        <p:spPr>
          <a:xfrm>
            <a:off x="4267080" y="4343400"/>
            <a:ext cx="46767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905364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вокласснику необходимо спать 11,5 часов в сутки, включая 1,5 часа дневного с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школе двигательная активность ребенка ограниченна. Поэтому очень важно дать ребенку возможность подвигаться во второй половине дн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D:\Work\ПРОЕКТ РОД.СОБ\Папка №2 Родительские собрания\Начальная школа\0_1fdd1_8887bb72_XL.jpg"/>
          <p:cNvPicPr/>
          <p:nvPr/>
        </p:nvPicPr>
        <p:blipFill>
          <a:blip r:embed="rId2">
            <a:lum contrast="20000"/>
          </a:blip>
          <a:srcRect l="4997" t="3697" r="4997" b="6426"/>
          <a:stretch/>
        </p:blipFill>
        <p:spPr>
          <a:xfrm>
            <a:off x="6248520" y="4724280"/>
            <a:ext cx="23619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учшее время для приготовления уроков — 15-16 часов. Через каждые 25-30 минут необходим перерыв. Время, отведенное на приготовление уроков, не должно превышать одного час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тите внимание на то, как питается ваш ребен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3" descr="D:\Work\ПРОЕКТ РОД.СОБ\Папка №2 Родительские собрания\Начальная школа\06493.gif"/>
          <p:cNvPicPr/>
          <p:nvPr/>
        </p:nvPicPr>
        <p:blipFill>
          <a:blip r:embed="rId1"/>
          <a:stretch/>
        </p:blipFill>
        <p:spPr>
          <a:xfrm>
            <a:off x="3886200" y="4724280"/>
            <a:ext cx="18572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ладшим школьникам не стоит смотреть телевизор дольше 40-45 минут в ден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льзя смотреть телевизор лежа, только сидя на расстоянии 2-5,5 м от экра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оже касается и компьюте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3" descr="D:\Work\ПРОЕКТ РОД.СОБ\Папка №2 Родительские собрания\Начальная школа\67282.jpg"/>
          <p:cNvPicPr/>
          <p:nvPr/>
        </p:nvPicPr>
        <p:blipFill>
          <a:blip r:embed="rId1"/>
          <a:stretch/>
        </p:blipFill>
        <p:spPr>
          <a:xfrm>
            <a:off x="838080" y="4495680"/>
            <a:ext cx="31528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ыть для ребёнка положительным примером в следовании навыкам гигиенического поведения, так как одна из психологических особенностей младших школьников- склонность к подражан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ощрять попытки ребёнка  придерживаться  режима дня, выполнять гигиенические процедуры, соблюдать культуру умственного тру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авильно организовать режим дня школьника :обеспечить ему достаточный по продолжительности сон со строго установленным  временем подъёма и отхода ко сну, предусмотреть регулярный приём пищи, установить определённое время приготовления уроков ,выделять время для отдыха на открытом воздухе, свободных занятий и помощи в сем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рять правильность осанки детей. При получении настораживающих результатов, проанализировать возможные причины отклонений, постараться устранить 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 впадать в крайности, не ставить ребёнка под шквал замечаний и наказаний. Добиваться, чтобы он всё необходимое делал с первого же напоминания ,ни на что не отвлекаясь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щать больше внимания на хорошее в ребёнке, чем на его ошибки ,но не захваливать, иначе стремление к одобрению, к похвале  может стать главным мотивом здравотворческой деятель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4" descr="D:\Work\ПРОЕКТ РОД.СОБ\Папка №2 Родительские собрания\Начальная школа\1191269243_c4132.jpg"/>
          <p:cNvPicPr/>
          <p:nvPr/>
        </p:nvPicPr>
        <p:blipFill>
          <a:blip r:embed="rId1">
            <a:lum contrast="10000"/>
          </a:blip>
          <a:srcRect l="0" t="0" r="0" b="11660"/>
          <a:stretch/>
        </p:blipFill>
        <p:spPr>
          <a:xfrm>
            <a:off x="6858000" y="3657600"/>
            <a:ext cx="1682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7:15:59Z</dcterms:created>
  <dc:creator>Маша</dc:creator>
  <dc:description/>
  <dc:language>en-US</dc:language>
  <cp:lastModifiedBy>Коля</cp:lastModifiedBy>
  <dcterms:modified xsi:type="dcterms:W3CDTF">2013-04-06T16:45:2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