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0C9-2A84-479B-9CF3-15331BC4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E78-F660-4914-BD23-AAF02F7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C30-90D2-4531-939F-121E9DB7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42B-2E69-4EF2-99B1-71DA73C3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B60-F0A1-4662-AB08-CF578176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FBF-161B-4946-A344-1B2EFFD4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0D3-DB46-46C1-99F0-182C4FB5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7F7-B95E-47A1-9572-C7F8E832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6C2-AC12-4E90-AB10-3BC14FD5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88D-79D7-467D-A9C3-2E71DDAE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C00-CC55-4D39-AA19-BAFC8728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513-0372-48EC-88C9-E03D965D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fonbok_zvezdopad.jpg"/>
          <p:cNvPicPr/>
          <p:nvPr/>
        </p:nvPicPr>
        <p:blipFill>
          <a:blip r:embed="rId2"/>
          <a:stretch/>
        </p:blipFill>
        <p:spPr>
          <a:xfrm>
            <a:off x="0" y="0"/>
            <a:ext cx="11336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EE1A-A82F-463A-B179-60F653A5AC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195120" y="4468680"/>
            <a:ext cx="933264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5711760" y="281160"/>
            <a:ext cx="3187800" cy="2133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353880" y="2206800"/>
            <a:ext cx="3248280" cy="221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3706920" y="1852560"/>
            <a:ext cx="2097000" cy="2560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011240" y="-6480"/>
            <a:ext cx="8139240" cy="1670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Прямоугольник 5"/>
          <p:cNvGrpSpPr/>
          <p:nvPr/>
        </p:nvGrpSpPr>
        <p:grpSpPr>
          <a:xfrm>
            <a:off x="6297480" y="1463760"/>
            <a:ext cx="2633760" cy="968400"/>
            <a:chOff x="6297480" y="1463760"/>
            <a:chExt cx="2633760" cy="968400"/>
          </a:xfrm>
        </p:grpSpPr>
        <p:pic>
          <p:nvPicPr>
            <p:cNvPr id="124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297480" y="1463760"/>
              <a:ext cx="26337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357960" y="1500120"/>
              <a:ext cx="2500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МУЖСКАЯ ГАМЕТА сперматозоид (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Прямоугольник 6"/>
          <p:cNvGrpSpPr/>
          <p:nvPr/>
        </p:nvGrpSpPr>
        <p:grpSpPr>
          <a:xfrm>
            <a:off x="1298520" y="1463760"/>
            <a:ext cx="2614680" cy="968400"/>
            <a:chOff x="1298520" y="1463760"/>
            <a:chExt cx="2614680" cy="968400"/>
          </a:xfrm>
        </p:grpSpPr>
        <p:pic>
          <p:nvPicPr>
            <p:cNvPr id="127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298520" y="146376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357200" y="1500120"/>
              <a:ext cx="2500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ЖЕНСКАЯ ГАМЕТА яйцеклетка 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Прямоугольник 7"/>
          <p:cNvGrpSpPr/>
          <p:nvPr/>
        </p:nvGrpSpPr>
        <p:grpSpPr>
          <a:xfrm>
            <a:off x="3749760" y="2876400"/>
            <a:ext cx="2949480" cy="1214640"/>
            <a:chOff x="3749760" y="2876400"/>
            <a:chExt cx="2949480" cy="1214640"/>
          </a:xfrm>
        </p:grpSpPr>
        <p:pic>
          <p:nvPicPr>
            <p:cNvPr id="13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749760" y="2876400"/>
              <a:ext cx="29494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57760" y="2928960"/>
              <a:ext cx="27144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ОПЛОДОТВОРЕННАЯ ЯЙЦЕКЛЕТ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зигота (2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32" name="Прямая со стрелкой 9"/>
          <p:cNvCxnSpPr/>
          <p:nvPr/>
        </p:nvCxnSpPr>
        <p:spPr>
          <a:xfrm>
            <a:off x="2605680" y="2357280"/>
            <a:ext cx="2537640" cy="572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3" name="Прямая со стрелкой 14"/>
          <p:cNvCxnSpPr/>
          <p:nvPr/>
        </p:nvCxnSpPr>
        <p:spPr>
          <a:xfrm flipH="1">
            <a:off x="5071320" y="2357280"/>
            <a:ext cx="2537640" cy="572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grpSp>
        <p:nvGrpSpPr>
          <p:cNvPr id="134" name="Прямоугольник 10"/>
          <p:cNvGrpSpPr/>
          <p:nvPr/>
        </p:nvGrpSpPr>
        <p:grpSpPr>
          <a:xfrm>
            <a:off x="3906720" y="4389480"/>
            <a:ext cx="2633760" cy="907920"/>
            <a:chOff x="3906720" y="4389480"/>
            <a:chExt cx="2633760" cy="907920"/>
          </a:xfrm>
        </p:grpSpPr>
        <p:pic>
          <p:nvPicPr>
            <p:cNvPr id="135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720" y="4389480"/>
              <a:ext cx="26337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976560" y="4429080"/>
              <a:ext cx="25005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ЗАРОДЫ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37" name="Прямая со стрелкой 12"/>
          <p:cNvCxnSpPr>
            <a:stCxn id="130" idx="2"/>
            <a:endCxn id="135" idx="0"/>
          </p:cNvCxnSpPr>
          <p:nvPr/>
        </p:nvCxnSpPr>
        <p:spPr>
          <a:xfrm>
            <a:off x="5213880" y="4000680"/>
            <a:ext cx="11880" cy="429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138" name="Прямоугольник 28"/>
          <p:cNvGrpSpPr/>
          <p:nvPr/>
        </p:nvGrpSpPr>
        <p:grpSpPr>
          <a:xfrm>
            <a:off x="3938760" y="5608800"/>
            <a:ext cx="2614320" cy="963360"/>
            <a:chOff x="3938760" y="5608800"/>
            <a:chExt cx="2614320" cy="963360"/>
          </a:xfrm>
        </p:grpSpPr>
        <p:pic>
          <p:nvPicPr>
            <p:cNvPr id="139" name="Прямоугольник 28" descr=""/>
            <p:cNvPicPr/>
            <p:nvPr/>
          </p:nvPicPr>
          <p:blipFill>
            <a:blip r:embed="rId6"/>
            <a:stretch/>
          </p:blipFill>
          <p:spPr>
            <a:xfrm>
              <a:off x="3938760" y="5608800"/>
              <a:ext cx="26143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000680" y="5643720"/>
              <a:ext cx="2500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ПЛО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41" name="Прямая со стрелкой 30"/>
          <p:cNvCxnSpPr/>
          <p:nvPr/>
        </p:nvCxnSpPr>
        <p:spPr>
          <a:xfrm flipH="1">
            <a:off x="5214600" y="5214600"/>
            <a:ext cx="2160" cy="4294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1133640" y="-6480"/>
            <a:ext cx="801684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285920" y="1071720"/>
            <a:ext cx="7558200" cy="56689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1133640" y="-6480"/>
            <a:ext cx="8016840" cy="142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214280" y="1214280"/>
            <a:ext cx="4442040" cy="39294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6" name="Рисунок 4" descr="Placenta.jpg"/>
          <p:cNvPicPr/>
          <p:nvPr/>
        </p:nvPicPr>
        <p:blipFill>
          <a:blip r:embed="rId3"/>
          <a:stretch/>
        </p:blipFill>
        <p:spPr>
          <a:xfrm>
            <a:off x="5587920" y="1155600"/>
            <a:ext cx="3556080" cy="57024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214280" y="5429160"/>
            <a:ext cx="4286520" cy="916920"/>
          </a:xfrm>
          <a:prstGeom prst="rect">
            <a:avLst/>
          </a:prstGeom>
          <a:noFill/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лацента имеет форму диска диаметром около 20 см и толщиной около 5 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1133640" y="-36360"/>
            <a:ext cx="8016840" cy="13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214200" y="785880"/>
          <a:ext cx="8786880" cy="5940360"/>
        </p:xfrm>
        <a:graphic>
          <a:graphicData uri="http://schemas.openxmlformats.org/drawingml/2006/table">
            <a:tbl>
              <a:tblPr/>
              <a:tblGrid>
                <a:gridCol w="1000080"/>
                <a:gridCol w="778680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5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ыстро образуются структуры будущего младенца: голова, хвостик, сердце (уже сокращается); лица и конечностей нет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5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мм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10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являются руки, ноги. Хвост пропадает. Вырисовывается лицо. Развивается НС: головной мозг с извилинами. Развивается мочевыводящая система. ДС, сердце, желудок, кишечник. Появляются мышцы, окостенение скелета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3 с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11 гр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личаются половые органы, появляются голосовые связки. Лицо похоже на человеческое. Плод начинает двигаться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10 с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45 гр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пропорции, сердце бьется в 2 раза быстрее, чем у взрослого. Начинают функционировать сальные и потовые железы, печень, желудок, желчный пузырь, печень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1133640" y="-36360"/>
            <a:ext cx="8016840" cy="13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214200" y="785880"/>
          <a:ext cx="8786880" cy="5843520"/>
        </p:xfrm>
        <a:graphic>
          <a:graphicData uri="http://schemas.openxmlformats.org/drawingml/2006/table">
            <a:tbl>
              <a:tblPr/>
              <a:tblGrid>
                <a:gridCol w="1043280"/>
                <a:gridCol w="7743600"/>
              </a:tblGrid>
              <a:tr h="67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рактерист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ь ощущает движения ребенка. Волосы на голове. Плод совершает дыхательные движения, учится глотать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25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5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величивается активность ребенка, 20-60 движений за 30 минут. Видны брови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=31 см. М=10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буждаются чувства: способен слышать, появляется вкус. Ребенок жизнеспособный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=40 см. М=17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ые органы уже сформированы. ЧСС=120-140. Принимает окончательное положение перед родами, вниз головой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45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24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сса тела увеличивается по 20-30 гр/сутки. Череп окостенел, но есть роднички. Ребенок готов к рождению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50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3000-35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857240" y="138240"/>
            <a:ext cx="5715000" cy="656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5:59:05Z</dcterms:created>
  <dc:creator>Лена</dc:creator>
  <dc:description/>
  <dc:language>en-US</dc:language>
  <cp:lastModifiedBy>Лена</cp:lastModifiedBy>
  <dcterms:modified xsi:type="dcterms:W3CDTF">2011-04-24T16:34:39Z</dcterms:modified>
  <cp:revision>5</cp:revision>
  <dc:subject/>
  <dc:title>Оплодотворение  и развитие зародыша</dc:title>
</cp:coreProperties>
</file>