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C9D-B745-4CC5-BF31-3B71C2DD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9D4-9686-409A-A042-65267257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256-1E1A-48C9-A40A-6B6FB7AE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5BD-70DD-4711-9AED-AD4C62C9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18F-B735-4B79-9266-9889B330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C4A-95B1-469F-A0D8-0CCC66EA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2C2-1374-4307-997A-D7142020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0C2-3F50-40A1-992D-94188656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329-1E84-4866-8256-270D91DF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7CD-32AA-4141-92CB-5D7BF35B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5CE-5A84-4B83-835A-B3CAB310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324-47B4-4EDF-BC54-0754D77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fonbok_zvezdopad.jpg"/>
          <p:cNvPicPr/>
          <p:nvPr/>
        </p:nvPicPr>
        <p:blipFill>
          <a:blip r:embed="rId2"/>
          <a:stretch/>
        </p:blipFill>
        <p:spPr>
          <a:xfrm>
            <a:off x="0" y="0"/>
            <a:ext cx="11336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FD03-9916-4B76-AAED-3C5964D4A5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195120" y="4468680"/>
            <a:ext cx="933264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5711760" y="281160"/>
            <a:ext cx="3187800" cy="2133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353880" y="2206800"/>
            <a:ext cx="3248280" cy="2212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3706920" y="1852560"/>
            <a:ext cx="2097000" cy="2560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011240" y="-6480"/>
            <a:ext cx="8139240" cy="1670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Прямоугольник 5"/>
          <p:cNvGrpSpPr/>
          <p:nvPr/>
        </p:nvGrpSpPr>
        <p:grpSpPr>
          <a:xfrm>
            <a:off x="6297480" y="1463760"/>
            <a:ext cx="2633760" cy="968400"/>
            <a:chOff x="6297480" y="1463760"/>
            <a:chExt cx="2633760" cy="968400"/>
          </a:xfrm>
        </p:grpSpPr>
        <p:pic>
          <p:nvPicPr>
            <p:cNvPr id="124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6297480" y="1463760"/>
              <a:ext cx="26337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357960" y="1500120"/>
              <a:ext cx="25002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МУЖСКАЯ ГАМЕТА сперматозоид (</a:t>
              </a: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n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Прямоугольник 6"/>
          <p:cNvGrpSpPr/>
          <p:nvPr/>
        </p:nvGrpSpPr>
        <p:grpSpPr>
          <a:xfrm>
            <a:off x="1298520" y="1463760"/>
            <a:ext cx="2614680" cy="968400"/>
            <a:chOff x="1298520" y="1463760"/>
            <a:chExt cx="2614680" cy="968400"/>
          </a:xfrm>
        </p:grpSpPr>
        <p:pic>
          <p:nvPicPr>
            <p:cNvPr id="127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298520" y="146376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357200" y="1500120"/>
              <a:ext cx="25005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ЖЕНСКАЯ ГАМЕТА яйцеклетка </a:t>
              </a: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Прямоугольник 7"/>
          <p:cNvGrpSpPr/>
          <p:nvPr/>
        </p:nvGrpSpPr>
        <p:grpSpPr>
          <a:xfrm>
            <a:off x="3749760" y="2876400"/>
            <a:ext cx="2949480" cy="1214640"/>
            <a:chOff x="3749760" y="2876400"/>
            <a:chExt cx="2949480" cy="1214640"/>
          </a:xfrm>
        </p:grpSpPr>
        <p:pic>
          <p:nvPicPr>
            <p:cNvPr id="130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749760" y="2876400"/>
              <a:ext cx="29494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57760" y="2928960"/>
              <a:ext cx="27144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ОПЛОДОТВОРЕННАЯ ЯЙЦЕКЛЕТК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зигота (2</a:t>
              </a: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n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32" name="Прямая со стрелкой 9"/>
          <p:cNvCxnSpPr/>
          <p:nvPr/>
        </p:nvCxnSpPr>
        <p:spPr>
          <a:xfrm>
            <a:off x="2605680" y="2357280"/>
            <a:ext cx="2537640" cy="572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3" name="Прямая со стрелкой 14"/>
          <p:cNvCxnSpPr/>
          <p:nvPr/>
        </p:nvCxnSpPr>
        <p:spPr>
          <a:xfrm flipH="1">
            <a:off x="5071320" y="2357280"/>
            <a:ext cx="2537640" cy="572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grpSp>
        <p:nvGrpSpPr>
          <p:cNvPr id="134" name="Прямоугольник 10"/>
          <p:cNvGrpSpPr/>
          <p:nvPr/>
        </p:nvGrpSpPr>
        <p:grpSpPr>
          <a:xfrm>
            <a:off x="3906720" y="4389480"/>
            <a:ext cx="2633760" cy="907920"/>
            <a:chOff x="3906720" y="4389480"/>
            <a:chExt cx="2633760" cy="907920"/>
          </a:xfrm>
        </p:grpSpPr>
        <p:pic>
          <p:nvPicPr>
            <p:cNvPr id="135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3906720" y="4389480"/>
              <a:ext cx="26337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976560" y="4429080"/>
              <a:ext cx="25005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onstantia"/>
                </a:rPr>
                <a:t>ЗАРОДЫ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37" name="Прямая со стрелкой 12"/>
          <p:cNvCxnSpPr>
            <a:stCxn id="130" idx="2"/>
            <a:endCxn id="135" idx="0"/>
          </p:cNvCxnSpPr>
          <p:nvPr/>
        </p:nvCxnSpPr>
        <p:spPr>
          <a:xfrm>
            <a:off x="5213880" y="4000680"/>
            <a:ext cx="11880" cy="4291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138" name="Прямоугольник 28"/>
          <p:cNvGrpSpPr/>
          <p:nvPr/>
        </p:nvGrpSpPr>
        <p:grpSpPr>
          <a:xfrm>
            <a:off x="3938760" y="5608800"/>
            <a:ext cx="2614320" cy="963360"/>
            <a:chOff x="3938760" y="5608800"/>
            <a:chExt cx="2614320" cy="963360"/>
          </a:xfrm>
        </p:grpSpPr>
        <p:pic>
          <p:nvPicPr>
            <p:cNvPr id="139" name="Прямоугольник 28" descr=""/>
            <p:cNvPicPr/>
            <p:nvPr/>
          </p:nvPicPr>
          <p:blipFill>
            <a:blip r:embed="rId6"/>
            <a:stretch/>
          </p:blipFill>
          <p:spPr>
            <a:xfrm>
              <a:off x="3938760" y="5608800"/>
              <a:ext cx="26143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000680" y="5643720"/>
              <a:ext cx="25002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onstantia"/>
                </a:rPr>
                <a:t>ПЛОД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41" name="Прямая со стрелкой 30"/>
          <p:cNvCxnSpPr/>
          <p:nvPr/>
        </p:nvCxnSpPr>
        <p:spPr>
          <a:xfrm flipH="1">
            <a:off x="5214600" y="5214600"/>
            <a:ext cx="2160" cy="4294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1133640" y="-6480"/>
            <a:ext cx="801684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285920" y="1071720"/>
            <a:ext cx="7558200" cy="56689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1133640" y="-6480"/>
            <a:ext cx="8016840" cy="142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214280" y="1214280"/>
            <a:ext cx="4442040" cy="39294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46" name="Рисунок 4" descr="Placenta.jpg"/>
          <p:cNvPicPr/>
          <p:nvPr/>
        </p:nvPicPr>
        <p:blipFill>
          <a:blip r:embed="rId3"/>
          <a:stretch/>
        </p:blipFill>
        <p:spPr>
          <a:xfrm>
            <a:off x="5587920" y="1155600"/>
            <a:ext cx="3556080" cy="57024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214280" y="5429160"/>
            <a:ext cx="4286520" cy="916920"/>
          </a:xfrm>
          <a:prstGeom prst="rect">
            <a:avLst/>
          </a:prstGeom>
          <a:noFill/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лацента имеет форму диска диаметром около 20 см и толщиной около 5 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1133640" y="-36360"/>
            <a:ext cx="8016840" cy="131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214200" y="785880"/>
          <a:ext cx="8786880" cy="5940360"/>
        </p:xfrm>
        <a:graphic>
          <a:graphicData uri="http://schemas.openxmlformats.org/drawingml/2006/table">
            <a:tbl>
              <a:tblPr/>
              <a:tblGrid>
                <a:gridCol w="1000080"/>
                <a:gridCol w="778680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5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ыстро образуются структуры будущего младенца: голова, хвостик, сердце (уже сокращается); лица и конечностей нет.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5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мм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10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являются руки, ноги. Хвост пропадает. Вырисовывается лицо. Развивается НС: головной мозг с извилинами. Развивается мочевыводящая система. ДС, сердце, желудок, кишечник. Появляются мышцы, окостенение скелета.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3 с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11 гр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401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личаются половые органы, появляются голосовые связки. Лицо похоже на человеческое. Плод начинает двигаться.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10 с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45 гр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401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пропорции, сердце бьется в 2 раза быстрее, чем у взрослого. Начинают функционировать сальные и потовые железы, печень, желудок, желчный пузырь, печень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1133640" y="-36360"/>
            <a:ext cx="8016840" cy="131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214200" y="785880"/>
          <a:ext cx="8786880" cy="5843520"/>
        </p:xfrm>
        <a:graphic>
          <a:graphicData uri="http://schemas.openxmlformats.org/drawingml/2006/table">
            <a:tbl>
              <a:tblPr/>
              <a:tblGrid>
                <a:gridCol w="1043280"/>
                <a:gridCol w="7743600"/>
              </a:tblGrid>
              <a:tr h="67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рактеристи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ь ощущает движения ребенка. Волосы на голове. Плод совершает дыхательные движения, учится глотать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25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5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величивается активность ребенка, 20-60 движений за 30 минут. Видны брови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=31 см. М=10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буждаются чувства: способен слышать, появляется вкус. Ребенок жизнеспособный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=40 см. М=17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новные органы уже сформированы. ЧСС=120-140. Принимает окончательное положение перед родами, вниз головой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45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24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сса тела увеличивается по 20-30 гр/сутки. Череп окостенел, но есть роднички. Ребенок готов к рождению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50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3000-35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857240" y="138240"/>
            <a:ext cx="5715000" cy="656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5:59:05Z</dcterms:created>
  <dc:creator>Лена</dc:creator>
  <dc:description/>
  <dc:language>en-US</dc:language>
  <cp:lastModifiedBy>Лена</cp:lastModifiedBy>
  <dcterms:modified xsi:type="dcterms:W3CDTF">2011-04-24T16:34:39Z</dcterms:modified>
  <cp:revision>5</cp:revision>
  <dc:subject/>
  <dc:title>Оплодотворение  и развитие зародыша</dc:title>
</cp:coreProperties>
</file>