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B3E-E36D-4E4C-A0A4-9742411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74F-A2D6-4E77-AE7C-A4CAEA9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77F-5CBD-44B0-B0C5-B55EACAB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FB4-437B-4659-8D1C-43483220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17F-22B4-4A08-B9F7-16F97A5F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C48-4C4D-471E-9CAB-589BD96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1AE-AD7E-431D-8076-ED4E76CE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5252-8E8A-4579-8104-3980CB9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320-0202-4E1C-B59B-CCF0F39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C1BF-1C69-4448-ADDB-43B7E75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405B-82CD-4D89-8BCF-E63E0C2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A46-B567-44E6-9D2C-8E09F31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B6C7-3DC2-48D2-BAC3-B634C71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C530-6DD4-4D20-B8E4-FD8E887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C923-3639-4F0F-83E2-0F468C46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4D5A-4432-4BF3-8CC9-9AFD7384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EC5-7025-4F92-A231-3D90FBEE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1F9-1A46-4513-8627-211F45E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D1E-B45E-4853-8508-619FAC7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B65-2353-409F-AE21-B9CBF518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DB8-D6AF-4A08-A00A-FCE8519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731-3863-4A09-A7E1-4B585D8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6F1-AA82-4B74-B499-15E4B4B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285-3BAA-43DF-8DF6-3D9D5B7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FDD-EE01-482D-9DB4-8AADB1F971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F3E0-AB6B-4B81-B42E-B8094AAA343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9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Николай</cp:lastModifiedBy>
  <dcterms:modified xsi:type="dcterms:W3CDTF">2012-09-10T10:05:24Z</dcterms:modified>
  <cp:revision>9</cp:revision>
  <dc:subject/>
  <dc:title>Новые виды</dc:title>
</cp:coreProperties>
</file>