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E0E-D5D6-4374-B380-B75352B9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26B-5E6F-4AD4-988A-CFF5142B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7A2-F698-4638-A209-B9497F4F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623-E379-4E77-9217-320361D8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212D-17E8-421B-A275-9CDC34E1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1296-CC7D-4DA4-81B5-A03F6ABD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527D-02FC-4DE2-98A5-EFC67502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D15E-9D95-484A-BBF8-0CD8AFDD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7B31-363D-4A03-89FD-F3B5CD1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4DFC-F256-4B87-862A-D0364FFC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5F31-8E29-45B8-8DA2-1E7C4365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468-6701-41E0-BA38-D4BC1CB9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E8A4-3FE0-45B1-9E33-F8ADA75D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B2E3-2ECA-4C18-B7C3-E9F95364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09AD-15DE-4BDC-8CD2-E12C71A1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ADB7-6E0D-43F0-B36A-004A3F37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CEB4-0448-453B-8B64-880BF031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A2E-4567-40A2-8962-65748EA4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86B-E2D0-4943-8D0A-B78AB6BB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6F6-F448-4D78-AC7C-6EA9DB20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302-C04D-48FE-875D-96963269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6AC-800A-418D-96EF-31EDA504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9CD-45DC-447A-A1A6-B2D38D51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F03-33E1-4A6A-838A-415EF435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B455-3EC3-4CA9-83F6-9B185D9B16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7B16-40ED-4F44-BBBB-6F559B064AA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11426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9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Николай</cp:lastModifiedBy>
  <dcterms:modified xsi:type="dcterms:W3CDTF">2012-09-10T10:05:24Z</dcterms:modified>
  <cp:revision>9</cp:revision>
  <dc:subject/>
  <dc:title>Новые виды</dc:title>
</cp:coreProperties>
</file>