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6B3-5725-441A-949F-69A6405B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D9-A26E-41AA-9D10-462923CA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7AB-3300-461F-B4A6-C416588C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944-E26D-4773-99DB-69B42240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985-3C24-4D65-8A39-8FAAC319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CB7F-0FD1-45C0-87EA-A58CFD0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8C9C-8C7E-4F15-8A42-26AF39F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CE5F-7156-4812-A2A9-D65B8466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363-6C0E-412D-B259-43CE8F1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1805-EA61-4F44-8237-E74495F6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5CCF-DA90-4605-BD4C-866853DE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4E1-A350-4082-B189-5E57AAB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7A3-5F8D-4E8B-BAA8-6BC50CA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9241-27A9-4C41-9BE8-1A1D98C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9FF8-DBE5-45CE-96AE-95CD73E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72BA-8946-4447-BEFF-F99F54DC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9392-6D3C-455A-AB56-909C1723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220-BF2B-4A04-85A6-516FDBD7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EF8-24E2-46A3-836F-2251A763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A7C-906D-4CE6-9C2D-52DE1E7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525-BB4E-4DBC-9E0C-A02C3D8B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087-D166-499E-8DF0-273F60E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351-6BCF-4FD2-BA22-97B2D62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C6B-2D8D-414E-8B7B-01324439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A40-7E74-4DD9-B27B-A84516CCD7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C71-3AD5-4FD3-A9C3-261F966CF77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9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Николай</cp:lastModifiedBy>
  <dcterms:modified xsi:type="dcterms:W3CDTF">2012-09-10T10:05:24Z</dcterms:modified>
  <cp:revision>9</cp:revision>
  <dc:subject/>
  <dc:title>Новые виды</dc:title>
</cp:coreProperties>
</file>