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994-CF1B-4A45-9010-25748D69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4FA-8946-43CE-B2F5-C1CDB174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CE5-6501-4001-933A-70D1A71A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D12-4B2A-45BD-B813-997D19F9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B685-42F3-4BA9-A1FA-2F3C406A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CF86-A908-4B76-8C13-905FCFDF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A191-08D3-46FF-B69F-189B1057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C9DB-321E-4107-A324-C06E2941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5B0D-43ED-49E4-B435-0D42AAF7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EE8A-D457-40E6-9EB5-0A05BBF7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3B15-D5EF-4019-B133-C7A1CA1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55B-4F6F-4F3B-A018-E9C47638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DE72-0017-4F8A-9274-E5F09097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C13C-DB2B-4070-A83C-961B8ED9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1A6B-3C72-42B0-AFBA-8C64767B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A595-8E5D-49B4-8DC9-DDF0B9AA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85C4-A460-4F60-9265-746A1662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DA2-1F00-448A-B366-6E734565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364-199A-4AC9-9F9F-1111BC26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819-76AD-4802-BEC6-860C28E7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F9B-28B2-4D72-9D16-DCA8B9FC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74D-D235-4E70-85E3-94112C87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10C-BA51-40C2-867F-4C180D9A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0E7-3966-4B16-A428-08A38837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E275-8D95-4C15-805C-EFA56154B0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8965-1881-4D3A-933D-2F47E4EA91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ksu.kz/images/site/Students/DKS/220308/IMG_0004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бро пожаловать, Наурыз!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2000" y="952560"/>
            <a:ext cx="416376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91120" y="2897280"/>
            <a:ext cx="4762440" cy="3762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Биржан сал Кожагулов (1831-1894)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174960" y="649080"/>
            <a:ext cx="9318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дающийся казахский акын, композитор, основоположник народно-профессиональной песенной школы. Одна из самых замечательных фигур казахской музыки XIX века. Закономерно, что к его имени навсегда прикрепилось слов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а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любимец народа, артист, щёголь. Приобрел широкую известность как певец, обладающий выдающимися вокальными данными и мастерски аккомпанирующий себе на домб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95120" y="2986200"/>
            <a:ext cx="4681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ъезжал по аулам, участвовал в народных празднествах, айтысах – своеобразном поединке остроумия и песенного мастерства; собрав вокруг себя талантливую молодёжь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л своеобразный кочующий театр. Сохранилось свыше 40 песен Бирж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айра Шамсутдинова (1896-1929)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10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историю казахской музыкальной культуры Майра вошла как талантливая певица и композитор, исполнявшая свои мелодичные песни, сопровождая пение игрой на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ырна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гармони).      Известный этнограф и собиратель казахских народных песен          А. Затаевич записал и включил 14 песен Майры в свой знаменитый сборник «1000 песен казахского народа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60760" y="750960"/>
            <a:ext cx="388800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уйинш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174600" y="519120"/>
            <a:ext cx="906768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 переводе с казахского – радуйтесь, восторгайтесь;             в казахском языке возглас, оповещающей о хорошей новости. Смысл возгласа таков: «Всем, кто слышит, подарок мне за радостную весть!»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060640"/>
            <a:ext cx="838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ыдыр А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22320" y="2637000"/>
            <a:ext cx="867420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вятой старец, традиционный персонаж театрализованного праздника Наурыз-мейрамы, один из его символов. Именно в мартовскую ночь, согласно казахской мифологии, землю обходит святой старец Кыдыр Ата – полубожество, мудрый волшебник, способный взглядом растопить камень и превратить его в поляну, усеянную тюльпанами или подснежниками.    От Кыдыр Ата ждут подарков, чего-то доброго и хорошего, с ним связывают надежды. Кыдыр Ата приходит не только для того, чтобы сделать землю плодородной,  он дает благословение людям, несёт враждующим мир, немощным – исцеле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24720" y="1628640"/>
            <a:ext cx="1338120" cy="1106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5907240"/>
            <a:ext cx="996840" cy="75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588080" y="5659560"/>
            <a:ext cx="1278000" cy="105408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6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4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6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6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Шашу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3320" y="1010880"/>
            <a:ext cx="88916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ловно означает «осыпать», «разбрасывать», «врассыпную»; обычно у казахов во время свадеб, торжественных встреч и других радостных событий женщины аула, смешав в пригоршнях конфеты, сладости, серебряные монеты, бросают все это в собравшихся людей с криками «Шашу! Шашу!». Шашу – «фейерверк» из конфет и монет – можно сравнить с мифологическим рогом изобилия, из которого сыплются в толпу сладости, и угощения. Принято  ловить и подбирать шашу, чтобы потом в качестве гостинца преподнести своим детям и домочадца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08360" y="5084640"/>
            <a:ext cx="1338480" cy="1106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5300640"/>
            <a:ext cx="1582560" cy="120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380360" y="5397480"/>
            <a:ext cx="1422360" cy="11732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6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6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262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урыз кутты болсын!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3320" y="1420560"/>
            <a:ext cx="8015400" cy="37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переводе с казахского                  «Будет счастливым Наурыз!» Традиционное поздравление             с Наурызом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64000" y="3551400"/>
            <a:ext cx="2087640" cy="1726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400" y="4917960"/>
            <a:ext cx="208764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732720" y="4862520"/>
            <a:ext cx="2070000" cy="1708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6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6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6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астарх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1440" y="912960"/>
            <a:ext cx="91296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огатое и красочное казахское застолье; праздничный, накрытый скатертью стол.             </a:t>
            </a:r>
            <a:r>
              <a:rPr b="1" lang="ru-RU" sz="2600" spc="-1" strike="noStrike">
                <a:solidFill>
                  <a:srgbClr val="ffffb7"/>
                </a:solidFill>
                <a:latin typeface="Arial"/>
              </a:rPr>
              <a:t>Той дастархан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– особое торжество, организуемое   к праздник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713800" cy="4060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96000" y="1844640"/>
            <a:ext cx="3151080" cy="28861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680" y="98280"/>
            <a:ext cx="85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сык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528120"/>
            <a:ext cx="9333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гральная кость; путовые суставы (надкопытные кости) мелкого рогатого скота (бараньей ноги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0280" y="1328760"/>
            <a:ext cx="846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Игра в асы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" y="1868400"/>
            <a:ext cx="577512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циональная казахская игра (распространена у некоторых других азиатских народов), правила которой передаются     из поколение в поколение.       Для игры применяются асыки разных размеров, и «сака» – асык-биток (бита), залитый свинцом или обмотанный медной проволокой, которым игроки по очереди с расстояния 2-5 м выбивают асы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00" y="5302080"/>
            <a:ext cx="8964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Когда степь расцветала и покрывалась сочным зеленым ковром, не только дети, но и взрослые выходили на прогретую весенним солнцем землю и начинали свои состяз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5000">
    <p:zoom dir="ou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4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бро пожаловать, Наурыз!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2000" y="952560"/>
            <a:ext cx="416376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65760" y="5084640"/>
            <a:ext cx="2376720" cy="1589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48360" y="3573360"/>
            <a:ext cx="2016360" cy="166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00720" y="1827360"/>
            <a:ext cx="2664000" cy="1652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урыз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7164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евний праздник весны и труда, возникший у многих народов Востока, отмечаемый в день весеннего равноденствия, 22 марта. К Наурызу каждая семья готовила  ритуальное блюдо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урыз  коже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хлебку, сделанную на кислом молоке из семи компонентов) – символ благоденствия и благополуч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приводили в порядок дома, расплачивались с долгами; находившиеся в ссор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илис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нь Наурыза все старались быть в добром расположении духа, при встрече заключали друг друга в объятия, высказывали самые добрые пожелания. В день празднования разыгрываются театрализованные представления и сценки из народной жизни, проводя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йтыс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ловесные состязани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кын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поэтов-импровизаторов) в сопровождении домбры. Побеждает тот, кто лучше прославит Добро! Молодёжь собирается у качелей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лтыбака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Все поют, танцуют, веселятся, играют в национальные игры. Традиции Наурыза передавались из поколения в поколения и сохранили свое основное содержание и сегод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564000" y="115920"/>
            <a:ext cx="1944720" cy="90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16720" y="189000"/>
            <a:ext cx="2448000" cy="18349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18080" y="200160"/>
            <a:ext cx="4205160" cy="63291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ерней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4032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ревний казахский народный духовой музыкальный инструмент, представлявший собой длинную деревянную трубку, вдетую в верблюжью гортань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прошлом использовался для подачи сигнала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походах. Исполнитель при игре на кернее поворачивался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разные стороны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1241280"/>
            <a:ext cx="6337440" cy="42595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385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Шанырак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676440"/>
            <a:ext cx="410544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асть строения юрты, купольный круг, круговое навершие для закрепления в нем верхних концов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ы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купольных жердей, образующих крышу юрты), являющееся одновременно дымоходом и окном юрты. Шанырак имеет огромное значение в жизни казахов. Шанырак поднимает глава семьи, мужчина. Когда остов юрты приходил в негодность, можно было менять любую его деталь, за исключением шанырака, он передавался из поколения  в  поколение. Слово «шанырак» употребляют в значении «домашний очаг», «дом», «семья», как символ преемственности и незыблемости домашнего очаг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051800">
            <a:off x="5734080" y="420480"/>
            <a:ext cx="863640" cy="1296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26800 h 1296720"/>
              <a:gd name="textAreaBottom" fmla="*/ 9403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омбра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4640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азахский народный струнный музыкальный инструмент (щипковый).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елается из дерева. Имеет 2 жильные струны, настроенные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кварту. Одна из них мелодическая. Длина инструмента 80–130 см. Пьесы для домбры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юи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– могут быть одно- или двухголосны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25880" y="260280"/>
            <a:ext cx="3967200" cy="6408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3680" y="79200"/>
            <a:ext cx="3512880" cy="6672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быз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0320" y="1052640"/>
            <a:ext cx="4894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евнейший казахский народный музыкальный инструмент (струнный смычковый), корпус которого изготавливае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цельного куска дерева. Имеет ковшеобразный корпус. Общая длина 60–73 см. Струны и смычок – из конского волоса. Строй квартовый. При игре кобыз опирается на пол или колено.  По звуку слегка напоминает виолончель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рошлом на кобызе играли только мужчины; женщины стали играть лишь в начале XX в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есня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6160" y="873000"/>
            <a:ext cx="464184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й жанр вокальной музыки, соединяющий музыкальный образ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поэтическим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ная песня – одна из древнейших форм музыкально-поэтического творчества, художественный итог творчества многих поко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245120" cy="6138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95520"/>
            <a:ext cx="8769240" cy="3321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880" y="83880"/>
            <a:ext cx="878508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ю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252720" y="549000"/>
            <a:ext cx="939636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захская инструментальная пьеса, наигрыш, исполняемая на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домбре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других народных инструментах. Подлинным расцветом традиционного инструментального искусства в жанре кюя стал XIX век, представленный авторским творчеством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кюйши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– создателей и исполнителей кюев, профессионалов устной традиции. Кюй носит программный характер. Кюй как основной жанр традиционной казахской инструментальной культуры продолжает развиваться и в наши дни. Теперь кюи звучат  не только в сольном исполнении, но и в ансамблевых, оркестровых аранжировка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5000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31320"/>
            <a:ext cx="8385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ары Ар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9440" y="698040"/>
            <a:ext cx="86868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переводе с казахского золотая степь; название казахской степи; символическое название территории Центрального Казахстана. Один из самых любимых образов, воспетых казахскими поэтами, художниками, музыкан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6040" y="2262240"/>
            <a:ext cx="8302680" cy="4416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09:12Z</dcterms:created>
  <dc:creator>1</dc:creator>
  <dc:description/>
  <dc:language>en-US</dc:language>
  <cp:lastModifiedBy>USER</cp:lastModifiedBy>
  <dcterms:modified xsi:type="dcterms:W3CDTF">2009-08-30T10:18:36Z</dcterms:modified>
  <cp:revision>179</cp:revision>
  <dc:subject/>
  <dc:title>Слайд 1</dc:title>
</cp:coreProperties>
</file>