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2AB-51ED-475D-88D6-2367E7F8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0D06-75B8-4B80-BDA1-8082116D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A10-543F-4220-84CC-B7B242B6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077-0BB4-464E-A643-BF42F28D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D7BE-DAAC-4983-925E-CCC00FD3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715B-3B65-43BB-8DBA-7F341E3D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FC8C-FBBA-41C0-925C-C084C947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10E3-0B5E-45C5-8943-C053A333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F9A4-8E1F-45F6-B7CB-6F767EB4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7268-63D1-4BC5-B081-388E044B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2B63-FAEC-4ABB-9659-7FF2D8BE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51BB-2CD3-415E-BCA1-E14DB9FC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6FF7-9074-4B8F-97F2-B24C4B0B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D383-6435-4DAA-98B5-FAD17E7C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5DBB-35CB-45B5-B7B1-9F70ED49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1783-5499-4B0C-AA12-ED097417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CCDD-07A5-4C6E-90BE-2245EFFA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816A-BA92-43B4-8CFE-79046F3B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61E-A1C9-4F95-B005-F0CA634A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85B0-2029-44DA-ACA5-784AC4BA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E6D-2372-4BED-BAB7-9742071E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937-F372-41EA-9621-96DD478D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432-0104-4ACC-8D3C-45A934B1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E5A-550C-4CA1-A3DE-E011825A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B109-6F0E-4629-A132-FFBD3757B1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3241-3966-4EEE-B948-80A5A14AAB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www.ksu.kz/images/site/Students/DKS/220308/IMG_0004.JPG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обро пожаловать, Наурыз!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569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2000" y="952560"/>
            <a:ext cx="4163760" cy="5543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191120" y="2897280"/>
            <a:ext cx="4762440" cy="3762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9440" y="12240"/>
            <a:ext cx="83851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Биржан сал Кожагулов (1831-1894)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174960" y="649080"/>
            <a:ext cx="93186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дающийся казахский акын, композитор, основоположник народно-профессиональной песенной школы. Одна из самых замечательных фигур казахской музыки XIX века. Закономерно, что к его имени навсегда прикрепилось слов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а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любимец народа, артист, щёголь. Приобрел широкую известность как певец, обладающий выдающимися вокальными данными и мастерски аккомпанирующий себе на домбр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195120" y="2986200"/>
            <a:ext cx="4681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ъезжал по аулам, участвовал в народных празднествах, айтысах – своеобразном поединке остроумия и песенного мастерства; собрав вокруг себя талантливую молодёжь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здал своеобразный кочующий театр. Сохранилось свыше 40 песен Биржа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440" y="12240"/>
            <a:ext cx="83851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Майра Шамсутдинова (1896-1929)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4105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историю казахской музыкальной культуры Майра вошла как талантливая певица и композитор, исполнявшая свои мелодичные песни, сопровождая пение игрой на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ырна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гармони).      Известный этнограф и собиратель казахских народных песен          А. Затаевич записал и включил 14 песен Майры в свой знаменитый сборник «1000 песен казахского народа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460760" y="750960"/>
            <a:ext cx="3888000" cy="5832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9440" y="12240"/>
            <a:ext cx="83851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Суйинши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174600" y="519120"/>
            <a:ext cx="906768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в переводе с казахского – радуйтесь, восторгайтесь;             в казахском языке возглас, оповещающей о хорошей новости. Смысл возгласа таков: «Всем, кто слышит, подарок мне за радостную весть!»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2060640"/>
            <a:ext cx="83851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ыдыр А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22320" y="2637000"/>
            <a:ext cx="867420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вятой старец, традиционный персонаж театрализованного праздника Наурыз-мейрамы, один из его символов. Именно в мартовскую ночь, согласно казахской мифологии, землю обходит святой старец Кыдыр Ата – полубожество, мудрый волшебник, способный взглядом растопить камень и превратить его в поляну, усеянную тюльпанами или подснежниками.    От Кыдыр Ата ждут подарков, чего-то доброго и хорошего, с ним связывают надежды. Кыдыр Ата приходит не только для того, чтобы сделать землю плодородной,  он дает благословение людям, несёт враждующим мир, немощным – исцелен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524720" y="1628640"/>
            <a:ext cx="1338120" cy="1106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95280" y="5907240"/>
            <a:ext cx="996840" cy="757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588080" y="5659560"/>
            <a:ext cx="1278000" cy="105408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zoom dir="ou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6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4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9000"/>
                            </p:stCondLst>
                            <p:childTnLst>
                              <p:par>
                                <p:cTn id="3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6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6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6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440" y="12240"/>
            <a:ext cx="838512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Шашу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3320" y="1010880"/>
            <a:ext cx="88916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словно означает «осыпать», «разбрасывать», «врассыпную»; обычно у казахов во время свадеб, торжественных встреч и других радостных событий женщины аула, смешав в пригоршнях конфеты, сладости, серебряные монеты, бросают все это в собравшихся людей с криками «Шашу! Шашу!». Шашу – «фейерверк» из конфет и монет – можно сравнить с мифологическим рогом изобилия, из которого сыплются в толпу сладости, и угощения. Принято  ловить и подбирать шашу, чтобы потом в качестве гостинца преподнести своим детям и домочадцам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708360" y="5084640"/>
            <a:ext cx="1338480" cy="1106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8360" y="5300640"/>
            <a:ext cx="1582560" cy="120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380360" y="5397480"/>
            <a:ext cx="1422360" cy="11732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6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6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6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0"/>
                            </p:stCondLst>
                            <p:childTnLst>
                              <p:par>
                                <p:cTn id="3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6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6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262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аурыз кутты болсын!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3320" y="1420560"/>
            <a:ext cx="8015400" cy="37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переводе с казахского                  «Будет счастливым Наурыз!» Традиционное поздравление             с Наурызом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564000" y="3551400"/>
            <a:ext cx="2087640" cy="1726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7400" y="4917960"/>
            <a:ext cx="2087640" cy="1584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732720" y="4862520"/>
            <a:ext cx="2070000" cy="17082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6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6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6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6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6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6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астархан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1440" y="912960"/>
            <a:ext cx="91296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богатое и красочное казахское застолье; праздничный, накрытый скатертью стол.             </a:t>
            </a:r>
            <a:r>
              <a:rPr b="1" lang="ru-RU" sz="2600" spc="-1" strike="noStrike">
                <a:solidFill>
                  <a:srgbClr val="ffffb7"/>
                </a:solidFill>
                <a:latin typeface="Arial"/>
              </a:rPr>
              <a:t>Той дастархан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– особое торжество, организуемое   к праздник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713800" cy="4060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96000" y="1844640"/>
            <a:ext cx="3151080" cy="28861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7680" y="98280"/>
            <a:ext cx="8594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Асык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528120"/>
            <a:ext cx="9333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гральная кость; путовые суставы (надкопытные кости) мелкого рогатого скота (бараньей ноги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0280" y="1328760"/>
            <a:ext cx="8461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Игра в асы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" y="1868400"/>
            <a:ext cx="5775120" cy="36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циональная казахская игра (распространена у некоторых других азиатских народов), правила которой передаются     из поколение в поколение.       Для игры применяются асыки разных размеров, и «сака» – асык-биток (бита), залитый свинцом или обмотанный медной проволокой, которым игроки по очереди с расстояния 2-5 м выбивают асы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00" y="5302080"/>
            <a:ext cx="89643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Когда степь расцветала и покрывалась сочным зеленым ковром, не только дети, но и взрослые выходили на прогретую весенним солнцем землю и начинали свои состязани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5000">
    <p:zoom dir="ou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6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0"/>
                            </p:stCondLst>
                            <p:childTnLst>
                              <p:par>
                                <p:cTn id="4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4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800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3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обро пожаловать, Наурыз!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569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2000" y="952560"/>
            <a:ext cx="4163760" cy="5543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665760" y="5084640"/>
            <a:ext cx="2376720" cy="1589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948360" y="3573360"/>
            <a:ext cx="2016360" cy="1668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300720" y="1827360"/>
            <a:ext cx="2664000" cy="1652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аурыз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7164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ревний праздник весны и труда, возникший у многих народов Востока, отмечаемый в день весеннего равноденствия, 22 марта. К Наурызу каждая семья готовила  ритуальное блюдо 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урыз  коже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хлебку, сделанную на кислом молоке из семи компонентов) – символ благоденствия и благополуч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и приводили в порядок дома, расплачивались с долгами; находившиеся в ссор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илис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ень Наурыза все старались быть в добром расположении духа, при встрече заключали друг друга в объятия, высказывали самые добрые пожелания. В день празднования разыгрываются театрализованные представления и сценки из народной жизни, проводятс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йтыс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словесные состязани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кын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поэтов-импровизаторов) в сопровождении домбры. Побеждает тот, кто лучше прославит Добро! Молодёжь собирается у качелей 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лтыбака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Все поют, танцуют, веселятся, играют в национальные игры. Традиции Наурыза передавались из поколения в поколения и сохранили свое основное содержание и сегодн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564000" y="115920"/>
            <a:ext cx="1944720" cy="901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16720" y="189000"/>
            <a:ext cx="2448000" cy="18349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4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18080" y="200160"/>
            <a:ext cx="4205160" cy="63291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ерней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4032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ревний казахский народный духовой музыкальный инструмент, представлявший собой длинную деревянную трубку, вдетую в верблюжью гортань.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прошлом использовался для подачи сигнала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походах. Исполнитель при игре на кернее поворачивался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разные стороны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27280" y="1241280"/>
            <a:ext cx="6337440" cy="42595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385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Шанырак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676440"/>
            <a:ext cx="410544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асть строения юрты, купольный круг, круговое навершие для закрепления в нем верхних концов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ык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купольных жердей, образующих крышу юрты), являющееся одновременно дымоходом и окном юрты. Шанырак имеет огромное значение в жизни казахов. Шанырак поднимает глава семьи, мужчина. Когда остов юрты приходил в негодность, можно было менять любую его деталь, за исключением шанырака, он передавался из поколения  в  поколение. Слово «шанырак» употребляют в значении «домашний очаг», «дом», «семья», как символ преемственности и незыблемости домашнего очага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9051800">
            <a:off x="5734080" y="420480"/>
            <a:ext cx="863640" cy="1296720"/>
          </a:xfrm>
          <a:custGeom>
            <a:avLst/>
            <a:gdLst>
              <a:gd name="textAreaLeft" fmla="*/ 115560 w 863640"/>
              <a:gd name="textAreaRight" fmla="*/ 748080 w 863640"/>
              <a:gd name="textAreaTop" fmla="*/ 226800 h 1296720"/>
              <a:gd name="textAreaBottom" fmla="*/ 94032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Домбра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44640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азахский народный струнный музыкальный инструмент (щипковый).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елается из дерева. Имеет 2 жильные струны, настроенные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кварту. Одна из них мелодическая. Длина инструмента 80–130 см. Пьесы для домбры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кюи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– могут быть одно- или двухголосны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925880" y="260280"/>
            <a:ext cx="3967200" cy="6408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43680" y="79200"/>
            <a:ext cx="3512880" cy="66726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быз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0320" y="1052640"/>
            <a:ext cx="4894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ревнейший казахский народный музыкальный инструмент (струнный смычковый), корпус которого изготавливае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цельного куска дерева. Имеет ковшеобразный корпус. Общая длина 60–73 см. Струны и смычок – из конского волоса. Строй квартовый. При игре кобыз опирается на пол или колено.  По звуку слегка напоминает виолончель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рошлом на кобызе играли только мужчины; женщины стали играть лишь в начале XX ве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есня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6160" y="873000"/>
            <a:ext cx="464184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распространенный жанр вокальной музыки, соединяющий музыкальный образ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поэтическим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одная песня – одна из древнейших форм музыкально-поэтического творчества, художественный итог творчества многих покол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4245120" cy="6138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3395520"/>
            <a:ext cx="8769240" cy="3321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6880" y="83880"/>
            <a:ext cx="878508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ю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252720" y="549000"/>
            <a:ext cx="939636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азахская инструментальная пьеса, наигрыш, исполняемая на 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домбре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других народных инструментах. Подлинным расцветом традиционного инструментального искусства в жанре кюя стал XIX век, представленный авторским творчеством 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кюйши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– создателей и исполнителей кюев, профессионалов устной традиции. Кюй носит программный характер. Кюй как основной жанр традиционной казахской инструментальной культуры продолжает развиваться и в наши дни. Теперь кюи звучат  не только в сольном исполнении, но и в ансамблевых, оркестровых аранжировка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5000"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40" y="31320"/>
            <a:ext cx="83851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Сары Ар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9440" y="698040"/>
            <a:ext cx="86868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переводе с казахского золотая степь; название казахской степи; символическое название территории Центрального Казахстана. Один из самых любимых образов, воспетых казахскими поэтами, художниками, музыкан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6040" y="2262240"/>
            <a:ext cx="8302680" cy="4416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09:12Z</dcterms:created>
  <dc:creator>1</dc:creator>
  <dc:description/>
  <dc:language>en-US</dc:language>
  <cp:lastModifiedBy>USER</cp:lastModifiedBy>
  <dcterms:modified xsi:type="dcterms:W3CDTF">2009-08-30T10:18:36Z</dcterms:modified>
  <cp:revision>179</cp:revision>
  <dc:subject/>
  <dc:title>Слайд 1</dc:title>
</cp:coreProperties>
</file>