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2.png" ContentType="image/png"/>
  <Override PartName="/ppt/media/image24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4FEB-67B4-468F-BB70-B657C7C8C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5A4F-0CAB-45A0-98B9-20E479C6C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431D-0475-49D0-94FE-1B6C72122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F965-6FE0-4457-94C3-D65DC7EED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F6E7-7050-420E-A01B-34E9F29C4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47DE-8D1E-4CA3-B883-37B471F95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1ECD-7ED7-42E4-9030-E732FB322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9179-774B-4514-895D-8EE1B245F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0677-C64D-4B72-96CE-92DC2F867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88E6-7FBD-4360-85D3-07901DB4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BC12-CE95-4B9F-B68D-BE9B61E0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AD95-3842-43DB-A519-54FC7576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61090-058D-4A26-9F5B-67FE9E8089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узеи Краснода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Карта"/>
          <p:cNvPicPr/>
          <p:nvPr/>
        </p:nvPicPr>
        <p:blipFill>
          <a:blip r:embed="rId1"/>
          <a:stretch/>
        </p:blipFill>
        <p:spPr>
          <a:xfrm>
            <a:off x="755640" y="1341360"/>
            <a:ext cx="3384720" cy="482436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6"/>
          <p:cNvSpPr/>
          <p:nvPr/>
        </p:nvSpPr>
        <p:spPr>
          <a:xfrm>
            <a:off x="4500720" y="1305000"/>
            <a:ext cx="38876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крае работают 57 музеев, в том числе 6 филиалов. В настоящее время в музеях края экспонируется и хранится 1 млн. 116 тыс. подлинных предметов по истории, культуре, природе, изобразительному искусству. Это – уникальные коллекции древнего декоративно-прикладного искусства, русского и зарубежного изобразительного искусства, исторические реликвии, мемориальные фонды выдающихся деятелей России и Кубани, наших земляков – героев войны и труда, спортсменов, космонавтов, ученых, деятелей литературы и искусства, памятники прир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4"/>
          <p:cNvSpPr/>
          <p:nvPr/>
        </p:nvSpPr>
        <p:spPr>
          <a:xfrm>
            <a:off x="3714840" y="0"/>
            <a:ext cx="2286000" cy="500040"/>
          </a:xfrm>
          <a:prstGeom prst="rect">
            <a:avLst/>
          </a:prstGeom>
          <a:solidFill>
            <a:srgbClr val="ceb96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zentacii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http://kultura.kubangov.ru/html/nato-6jw43h.html/$FILE/5.JPG"/>
          <p:cNvPicPr/>
          <p:nvPr/>
        </p:nvPicPr>
        <p:blipFill>
          <a:blip r:embed="rId1"/>
          <a:stretch/>
        </p:blipFill>
        <p:spPr>
          <a:xfrm>
            <a:off x="395280" y="549360"/>
            <a:ext cx="813744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http://kultura.kubangov.ru/html/nato-6jw43h.html/$FILE/6.JPG"/>
          <p:cNvPicPr/>
          <p:nvPr/>
        </p:nvPicPr>
        <p:blipFill>
          <a:blip r:embed="rId1"/>
          <a:stretch/>
        </p:blipFill>
        <p:spPr>
          <a:xfrm>
            <a:off x="539640" y="620640"/>
            <a:ext cx="8136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http://kultura.kubangov.ru/html/nato-6jw43h.html/$FILE/7.JPG"/>
          <p:cNvPicPr/>
          <p:nvPr/>
        </p:nvPicPr>
        <p:blipFill>
          <a:blip r:embed="rId1"/>
          <a:stretch/>
        </p:blipFill>
        <p:spPr>
          <a:xfrm>
            <a:off x="468360" y="620640"/>
            <a:ext cx="820728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http://kultura.kubangov.ru/html/nato-6jw43h.html/$FILE/8.JPG"/>
          <p:cNvPicPr/>
          <p:nvPr/>
        </p:nvPicPr>
        <p:blipFill>
          <a:blip r:embed="rId1"/>
          <a:stretch/>
        </p:blipFill>
        <p:spPr>
          <a:xfrm>
            <a:off x="539640" y="54936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http://kultura.kubangov.ru/html/nato-6jw43h.html/$FILE/9.JPG"/>
          <p:cNvPicPr/>
          <p:nvPr/>
        </p:nvPicPr>
        <p:blipFill>
          <a:blip r:embed="rId1"/>
          <a:stretch/>
        </p:blipFill>
        <p:spPr>
          <a:xfrm>
            <a:off x="324000" y="549360"/>
            <a:ext cx="820872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http://kultura.kubangov.ru/html/nato-6jw43h.html/$FILE/10.JPG"/>
          <p:cNvPicPr/>
          <p:nvPr/>
        </p:nvPicPr>
        <p:blipFill>
          <a:blip r:embed="rId1"/>
          <a:stretch/>
        </p:blipFill>
        <p:spPr>
          <a:xfrm>
            <a:off x="395280" y="476280"/>
            <a:ext cx="82803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http://kultura.kubangov.ru/html/nato-6jw43h.html/$FILE/11.JPG"/>
          <p:cNvPicPr/>
          <p:nvPr/>
        </p:nvPicPr>
        <p:blipFill>
          <a:blip r:embed="rId1"/>
          <a:stretch/>
        </p:blipFill>
        <p:spPr>
          <a:xfrm>
            <a:off x="395280" y="476280"/>
            <a:ext cx="81374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http://kultura.kubangov.ru/html/nato-6jw43h.html/$FILE/13.JPG"/>
          <p:cNvPicPr/>
          <p:nvPr/>
        </p:nvPicPr>
        <p:blipFill>
          <a:blip r:embed="rId1"/>
          <a:stretch/>
        </p:blipFill>
        <p:spPr>
          <a:xfrm>
            <a:off x="468360" y="549360"/>
            <a:ext cx="813600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http://kultura.kubangov.ru/html/nato-6jw43h.html/$FILE/14.JPG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http://kultura.kubangov.ru/www/kultura.nsf/0/d2a931c64306a460c32570d1003edc65/body/0.84!OpenElement&amp;FieldElemFormat=jpg"/>
          <p:cNvPicPr/>
          <p:nvPr/>
        </p:nvPicPr>
        <p:blipFill>
          <a:blip r:embed="rId1"/>
          <a:stretch/>
        </p:blipFill>
        <p:spPr>
          <a:xfrm>
            <a:off x="395280" y="1628640"/>
            <a:ext cx="8280360" cy="4572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раснодарский краевой художественный музей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м. Ф.А. Коваленко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1"/>
          <p:cNvSpPr/>
          <p:nvPr/>
        </p:nvSpPr>
        <p:spPr>
          <a:xfrm>
            <a:off x="468360" y="1582560"/>
            <a:ext cx="35989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жегодно музеи Кубани посещают около 2 млн. жителей и гостей края. Сотрудниками музеев проводится в год около 45 тысяч экскурсий, более 4 тысяч лекций, около 2 тысяч массовых мероприят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узеями активно ведется выставочная деятельность. Ежегодно организуется около 600 стационарных выставок как из собственных фондов, так и из фондов музеев других регионов России, частных коллекций. Созданы и работают в городах и районах края более 200 передвижных выстав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http://kultura.kubangov.ru/www/kultura.nsf/0/c9a9b2be3c372c5ac32570c3005911a0/body/0.8930!OpenElement&amp;FieldElemFormat=jpg"/>
          <p:cNvPicPr/>
          <p:nvPr/>
        </p:nvPicPr>
        <p:blipFill>
          <a:blip r:embed="rId1"/>
          <a:stretch/>
        </p:blipFill>
        <p:spPr>
          <a:xfrm>
            <a:off x="4211640" y="1844640"/>
            <a:ext cx="4176720" cy="439272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3"/>
          <p:cNvSpPr/>
          <p:nvPr/>
        </p:nvSpPr>
        <p:spPr>
          <a:xfrm>
            <a:off x="539640" y="33336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раснодарский краевой выставочный зал изобразительных искусств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(ККВЗИИ)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20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раснодарский краевой художественный музей является одним из старейших музеев на Северном Кавказе. Его основание связано с именем екатеринодарского купца и мецената Федора Акимовича Коваленко. В течение нескольких десятилетий он собирал художественную коллекцию, которую в 1904 году безвозмездно передал в дар столице Кубани. С 1907 года и по сей день картинная галерея находится в здании инженера Батырбека Шарданова – великолепном здании, расположенном в центре Екатеринодар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2421000"/>
            <a:ext cx="403848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48320" y="2421000"/>
            <a:ext cx="403848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http://kultura.kubangov.ru/www/kultura.nsf/0/d2a931c64306a460c32570d1003edc65/body/2.362C!OpenElement&amp;FieldElemFormat=jpg"/>
          <p:cNvPicPr/>
          <p:nvPr/>
        </p:nvPicPr>
        <p:blipFill>
          <a:blip r:embed="rId1"/>
          <a:stretch/>
        </p:blipFill>
        <p:spPr>
          <a:xfrm>
            <a:off x="468360" y="2421000"/>
            <a:ext cx="828036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2004 году завершилась реставрация музейного здания – особняка Батырбека Шарданова, и с 25 марта 2005 года Краснодарский краевой художественный музей имени Ф.А. Коваленко возобновил свою работу в полном объем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2349000"/>
            <a:ext cx="403848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648320" y="2349000"/>
            <a:ext cx="403848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http://kultura.kubangov.ru/www/kultura.nsf/0/d2a931c64306a460c32570d1003edc65/body/5.3486!OpenElement&amp;FieldElemFormat=jpg"/>
          <p:cNvPicPr/>
          <p:nvPr/>
        </p:nvPicPr>
        <p:blipFill>
          <a:blip r:embed="rId1"/>
          <a:stretch/>
        </p:blipFill>
        <p:spPr>
          <a:xfrm>
            <a:off x="468360" y="2349360"/>
            <a:ext cx="828036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4"/>
          <p:cNvSpPr/>
          <p:nvPr/>
        </p:nvSpPr>
        <p:spPr>
          <a:xfrm>
            <a:off x="539640" y="333360"/>
            <a:ext cx="820908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овороссийский исторический музей-заповед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http://kultura.kubangov.ru/www/kultura.nsf/0/b83a5750432c436dc32570d40037000d/body/0.5234!OpenElement&amp;FieldElemFormat=gif"/>
          <p:cNvPicPr/>
          <p:nvPr/>
        </p:nvPicPr>
        <p:blipFill>
          <a:blip r:embed="rId1"/>
          <a:stretch/>
        </p:blipFill>
        <p:spPr>
          <a:xfrm>
            <a:off x="5651640" y="2133720"/>
            <a:ext cx="3241440" cy="417492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6"/>
          <p:cNvSpPr/>
          <p:nvPr/>
        </p:nvSpPr>
        <p:spPr>
          <a:xfrm>
            <a:off x="324000" y="2205000"/>
            <a:ext cx="5472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дин из крупнейших музеев-заповедников военно-исторического профиля юга России, в состав которого входят, кроме основных экспозиций, объекты периода Великой Отечественной войны 1941-1945 г.г., памятник-ансамбль «Малая земля», Дом-музей Н.А.Островского, выставочный за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оловной музей был образован в 1916 г. Решением исполкома Краснодарского краевого Совета народных депутатов в 1987 г. был создан Новороссийский государственный исторический музей-заповедн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казом Президента Российской Федерации от 20.02.1995 г. № 176 музей-заповедник был отнесен к объектам исторического и культурного наследия федерального / общероссийского / зна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http://kultura.kubangov.ru/html/nato-6jun8m.html/$FILE/1.jpg"/>
          <p:cNvPicPr/>
          <p:nvPr/>
        </p:nvPicPr>
        <p:blipFill>
          <a:blip r:embed="rId1"/>
          <a:stretch/>
        </p:blipFill>
        <p:spPr>
          <a:xfrm>
            <a:off x="539640" y="549360"/>
            <a:ext cx="792000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http://kultura.kubangov.ru/html/nato-6jun8m.html/$FILE/2.jpg"/>
          <p:cNvPicPr/>
          <p:nvPr/>
        </p:nvPicPr>
        <p:blipFill>
          <a:blip r:embed="rId1"/>
          <a:stretch/>
        </p:blipFill>
        <p:spPr>
          <a:xfrm>
            <a:off x="539640" y="692280"/>
            <a:ext cx="80647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http://kultura.kubangov.ru/html/nato-6jun8m.html/$FILE/3.jpg"/>
          <p:cNvPicPr/>
          <p:nvPr/>
        </p:nvPicPr>
        <p:blipFill>
          <a:blip r:embed="rId1"/>
          <a:stretch/>
        </p:blipFill>
        <p:spPr>
          <a:xfrm>
            <a:off x="468360" y="549360"/>
            <a:ext cx="820728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http://kultura.kubangov.ru/html/nato-6jun8m.html/$FILE/4.jpg"/>
          <p:cNvPicPr/>
          <p:nvPr/>
        </p:nvPicPr>
        <p:blipFill>
          <a:blip r:embed="rId1"/>
          <a:stretch/>
        </p:blipFill>
        <p:spPr>
          <a:xfrm>
            <a:off x="468360" y="549360"/>
            <a:ext cx="784872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http://kultura.kubangov.ru/html/nato-6jun8m.html/$FILE/5.jpg"/>
          <p:cNvPicPr/>
          <p:nvPr/>
        </p:nvPicPr>
        <p:blipFill>
          <a:blip r:embed="rId1"/>
          <a:stretch/>
        </p:blipFill>
        <p:spPr>
          <a:xfrm>
            <a:off x="468360" y="549360"/>
            <a:ext cx="806436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http://kultura.kubangov.ru/html/nato-6jun8m.html/$FILE/6.jpg"/>
          <p:cNvPicPr/>
          <p:nvPr/>
        </p:nvPicPr>
        <p:blipFill>
          <a:blip r:embed="rId1"/>
          <a:stretch/>
        </p:blipFill>
        <p:spPr>
          <a:xfrm>
            <a:off x="539640" y="476280"/>
            <a:ext cx="806472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http://kultura.kubangov.ru/html/nato-6jun8m.html/$FILE/7.jpg"/>
          <p:cNvPicPr/>
          <p:nvPr/>
        </p:nvPicPr>
        <p:blipFill>
          <a:blip r:embed="rId1"/>
          <a:stretch/>
        </p:blipFill>
        <p:spPr>
          <a:xfrm>
            <a:off x="468360" y="549360"/>
            <a:ext cx="820728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468360" y="890640"/>
            <a:ext cx="4174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раевой выставочный зал активно проводит работу по пропаганде детского творчества, выявлению, представлению и поддержке юных дарований. Стали традиционными выставки работ студентов Кубанских учебных заведений: художественно-графического факультета КубГУ, Университета культуры и искусств, Краснодарского художественного училища. ККВЗИИ поддерживает творчество самодеятельных художников Кубани, проводя ежегодно краевые и персональные выставки, которые помогают выявить творческий потенциал народных умельцев. Благодаря этой работе не единичны стали случаи признания творчества самодеятельных художников и принятия их Союз Художников Ро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http://kultura.kubangov.ru/www/kultura.nsf/0/c9a9b2be3c372c5ac32570c3005911a0/body/15.814!OpenElement&amp;FieldElemFormat=jpg"/>
          <p:cNvPicPr/>
          <p:nvPr/>
        </p:nvPicPr>
        <p:blipFill>
          <a:blip r:embed="rId1"/>
          <a:stretch/>
        </p:blipFill>
        <p:spPr>
          <a:xfrm>
            <a:off x="4572000" y="1052640"/>
            <a:ext cx="388764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http://kultura.kubangov.ru/html/nato-6jun8m.html/$FILE/8.jpg"/>
          <p:cNvPicPr/>
          <p:nvPr/>
        </p:nvPicPr>
        <p:blipFill>
          <a:blip r:embed="rId1"/>
          <a:stretch/>
        </p:blipFill>
        <p:spPr>
          <a:xfrm>
            <a:off x="539640" y="549360"/>
            <a:ext cx="784872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http://kultura.kubangov.ru/html/nato-6jun8m.html/$FILE/9.jpg"/>
          <p:cNvPicPr/>
          <p:nvPr/>
        </p:nvPicPr>
        <p:blipFill>
          <a:blip r:embed="rId1"/>
          <a:stretch/>
        </p:blipFill>
        <p:spPr>
          <a:xfrm>
            <a:off x="468360" y="476280"/>
            <a:ext cx="80643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http://kultura.kubangov.ru/html/nato-6jun8m.html/$FILE/10.jpg"/>
          <p:cNvPicPr/>
          <p:nvPr/>
        </p:nvPicPr>
        <p:blipFill>
          <a:blip r:embed="rId1"/>
          <a:stretch/>
        </p:blipFill>
        <p:spPr>
          <a:xfrm>
            <a:off x="395280" y="549360"/>
            <a:ext cx="813744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раснодарский государственный историко-археологический музей-заповедник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м. Е.Д. Фелицы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раснодарский государственный историко-археологический музей-заповедник им. Е.Д. Фелицына был создан в 1977 году на базе Краснодарского историко-краеведческого, Анапского и Темрюкского краеведческих музеев, музея семьи Степановых в Тимашевске, археологических памятников «Античный город Горгиппия» в Анапе и городища «Гермонасса-Тмутаракань» в Тамани. Позже в его состав вошли дом-музей М.Ю. Лермонтова и археологический музей в Таман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http://kultura.kubangov.ru/www/kultura.nsf/9575747b863dc907c32570bf00541915/a2ba38e5e3eec2eec32571a7001fca29/body/0.943A!OpenElement&amp;FieldElemFormat=jpg"/>
          <p:cNvPicPr/>
          <p:nvPr/>
        </p:nvPicPr>
        <p:blipFill>
          <a:blip r:embed="rId1"/>
          <a:stretch/>
        </p:blipFill>
        <p:spPr>
          <a:xfrm>
            <a:off x="5040360" y="1557360"/>
            <a:ext cx="410364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настоящее время Краснодарский музей-заповедник является самым крупным музейным объединением Северо-Кавказского региона, включенным в перечень объектов общероссийского значения. Ежегодно музей посещают около 600 тысяч человек, фонды музея насчитывают около 400 тысяч памятников материальной и духовной культур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раснодарский краеведческий – головной музей объединения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- 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здан в 1909 году как Кубанский этнографический и естественно-исторический музей казачьего войска. Историю свою музей ведет с 1879 года, когда Евгением Дмитриевичем Фелицыным, чье имя носит теперь музейное объединение, была заложена, при Кубанском областном статистическом комитете, основа фондового собрания. В настоящее время Краснодарский краеведческий музей находится в одном из красивейших зданий столицы Кубани - памятнике архитектуры конца XIX века доме купцов Богарсуковых. Постоянная экспозиция музея знакомит посетителей с разнообразной природой края и историческим прошлым народов, обитавших здесь с древнейших времен. Краснодарский краеведческий музей располагает богатейшими коллекциями, в первую очередь археологической (крупнейшая в мире коллекция амфор античного времени, огромное лапидарное собрание) и этнографической, известными специалистам и любителям древностей во всем мире. Широко известна и наша научная библиотека, и фонд редкой книг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http://kultura.kubangov.ru/html/nato-6jw43h.html/$FILE/1.JPG"/>
          <p:cNvPicPr/>
          <p:nvPr/>
        </p:nvPicPr>
        <p:blipFill>
          <a:blip r:embed="rId1"/>
          <a:stretch/>
        </p:blipFill>
        <p:spPr>
          <a:xfrm>
            <a:off x="500040" y="357120"/>
            <a:ext cx="828036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kultura.kubangov.ru/html/nato-6jw43h.html/$FILE/2.JPG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http://kultura.kubangov.ru/html/nato-6jw43h.html/$FILE/3.JPG"/>
          <p:cNvPicPr/>
          <p:nvPr/>
        </p:nvPicPr>
        <p:blipFill>
          <a:blip r:embed="rId1"/>
          <a:stretch/>
        </p:blipFill>
        <p:spPr>
          <a:xfrm>
            <a:off x="611280" y="333360"/>
            <a:ext cx="820872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http://kultura.kubangov.ru/html/nato-6jw43h.html/$FILE/4.JPG"/>
          <p:cNvPicPr/>
          <p:nvPr/>
        </p:nvPicPr>
        <p:blipFill>
          <a:blip r:embed="rId1"/>
          <a:stretch/>
        </p:blipFill>
        <p:spPr>
          <a:xfrm>
            <a:off x="826920" y="549360"/>
            <a:ext cx="770580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7T15:23:30Z</dcterms:created>
  <dc:creator>Алла</dc:creator>
  <dc:description/>
  <dc:language>en-US</dc:language>
  <cp:lastModifiedBy>Admin</cp:lastModifiedBy>
  <dcterms:modified xsi:type="dcterms:W3CDTF">2012-06-14T10:36:09Z</dcterms:modified>
  <cp:revision>28</cp:revision>
  <dc:subject/>
  <dc:title>Слайд 1</dc:title>
</cp:coreProperties>
</file>