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4E1-077F-40AB-93F3-8C90F4B8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4E1-9D22-489A-81CE-1D22F44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DB1-0B8D-4582-84F4-E39EBC97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70D-20EA-4D42-88F8-A1C57B4B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863-CBA7-450D-9277-58B9DAD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D9B-4F0B-4AA1-8557-6EC1D3E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378-A6A1-4053-9C06-93A1A949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775-09EC-4894-8F82-84C50D9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83D-68E4-4201-A5C9-F4EE4EC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3F0-46BA-47FD-B417-9415DEE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C91-ED44-4F27-A51F-57CD9BB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EE0-8B20-4092-91D8-E4A3A73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6330-25B7-483A-95C9-0A66F9671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еи Краснод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Карта"/>
          <p:cNvPicPr/>
          <p:nvPr/>
        </p:nvPicPr>
        <p:blipFill>
          <a:blip r:embed="rId1"/>
          <a:stretch/>
        </p:blipFill>
        <p:spPr>
          <a:xfrm>
            <a:off x="755640" y="1341360"/>
            <a:ext cx="338472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4500720" y="130500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е работают 57 музеев, в том числе 6 филиалов. В настоящее время в музеях края экспонируется и хранится 1 млн. 116 тыс. подлинных предметов по истории, культуре, природе, изобразительному искусству. Это – уникальные коллекции древнего декоративно-прикладного искусства, русского и зарубежного изобразительного искусства, исторические реликвии, мемориальные фонды выдающихся деятелей России и Кубани, наших земляков – героев войны и труда, спортсменов, космонавтов, ученых, деятелей литературы и искусства, памятник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ceb9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kultura.kubangov.ru/html/nato-6jw43h.html/$FILE/5.JPG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kultura.kubangov.ru/html/nato-6jw43h.html/$FILE/6.JPG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kultura.kubangov.ru/html/nato-6jw43h.html/$FILE/7.JPG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ultura.kubangov.ru/html/nato-6jw43h.html/$FILE/8.JPG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kultura.kubangov.ru/html/nato-6jw43h.html/$FILE/9.JPG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kultura.kubangov.ru/html/nato-6jw43h.html/$FILE/10.JPG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kultura.kubangov.ru/html/nato-6jw43h.html/$FILE/11.JPG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kultura.kubangov.ru/html/nato-6jw43h.html/$FILE/13.JPG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kultura.kubangov.ru/html/nato-6jw43h.html/$FILE/14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kultura.kubangov.ru/www/kultura.nsf/0/d2a931c64306a460c32570d1003edc65/body/0.84!OpenElement&amp;FieldElemFormat=jpg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снодарский краевой художественный муз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Ф.А. Коваленк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68360" y="1582560"/>
            <a:ext cx="359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музеи Кубани посещают около 2 млн. жителей и гостей края. Сотрудниками музеев проводится в год около 45 тысяч экскурсий, более 4 тысяч лекций, около 2 тысяч массов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еями активно ведется выставочная деятельность. Ежегодно организуется около 600 стационарных выставок как из собственных фондов, так и из фондов музеев других регионов России, частных коллекций. Созданы и работают в городах и районах края более 200 передвижных выста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kultura.kubangov.ru/www/kultura.nsf/0/c9a9b2be3c372c5ac32570c3005911a0/body/0.8930!OpenElement&amp;FieldElemFormat=jpg"/>
          <p:cNvPicPr/>
          <p:nvPr/>
        </p:nvPicPr>
        <p:blipFill>
          <a:blip r:embed="rId1"/>
          <a:stretch/>
        </p:blipFill>
        <p:spPr>
          <a:xfrm>
            <a:off x="4211640" y="184464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539640" y="333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одарский краевой выставочный зал изобразительных искус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ККВЗИИ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дарский краевой художественный музей является одним из старейших музеев на Северном Кавказе. Его основание связано с именем екатеринодарского купца и мецената Федора Акимовича Коваленко. В течение нескольких десятилетий он собирал художественную коллекцию, которую в 1904 году безвозмездно передал в дар столице Кубани. С 1907 года и по сей день картинная галерея находится в здании инженера Батырбека Шарданова – великолепном здании, расположенном в центре Екатеринод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kultura.kubangov.ru/www/kultura.nsf/0/d2a931c64306a460c32570d1003edc65/body/2.362C!OpenElement&amp;FieldElemFormat=jpg"/>
          <p:cNvPicPr/>
          <p:nvPr/>
        </p:nvPicPr>
        <p:blipFill>
          <a:blip r:embed="rId1"/>
          <a:stretch/>
        </p:blipFill>
        <p:spPr>
          <a:xfrm>
            <a:off x="468360" y="2421000"/>
            <a:ext cx="828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4 году завершилась реставрация музейного здания – особняка Батырбека Шарданова, и с 25 марта 2005 года Краснодарский краевой художественный музей имени Ф.А. Коваленко возобновил свою работу в полном объ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kultura.kubangov.ru/www/kultura.nsf/0/d2a931c64306a460c32570d1003edc65/body/5.3486!OpenElement&amp;FieldElemFormat=jpg"/>
          <p:cNvPicPr/>
          <p:nvPr/>
        </p:nvPicPr>
        <p:blipFill>
          <a:blip r:embed="rId1"/>
          <a:stretch/>
        </p:blipFill>
        <p:spPr>
          <a:xfrm>
            <a:off x="468360" y="2349360"/>
            <a:ext cx="8280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4"/>
          <p:cNvSpPr/>
          <p:nvPr/>
        </p:nvSpPr>
        <p:spPr>
          <a:xfrm>
            <a:off x="539640" y="333360"/>
            <a:ext cx="8209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вороссийский исторический музей-запове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kultura.kubangov.ru/www/kultura.nsf/0/b83a5750432c436dc32570d40037000d/body/0.5234!OpenElement&amp;FieldElemFormat=gif"/>
          <p:cNvPicPr/>
          <p:nvPr/>
        </p:nvPicPr>
        <p:blipFill>
          <a:blip r:embed="rId1"/>
          <a:stretch/>
        </p:blipFill>
        <p:spPr>
          <a:xfrm>
            <a:off x="5651640" y="2133720"/>
            <a:ext cx="3241440" cy="4174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24000" y="2205000"/>
            <a:ext cx="54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ин из крупнейших музеев-заповедников военно-исторического профиля юга России, в состав которого входят, кроме основных экспозиций, объекты периода Великой Отечественной войны 1941-1945 г.г., памятник-ансамбль «Малая земля», Дом-музей Н.А.Островского, выставочный 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ной музей был образован в 1916 г. Решением исполкома Краснодарского краевого Совета народных депутатов в 1987 г. был создан Новороссийский государственный исторический музей-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ом Президента Российской Федерации от 20.02.1995 г. № 176 музей-заповедник был отнесен к объектам исторического и культурного наследия федерального / общероссийского /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kultura.kubangov.ru/html/nato-6jun8m.html/$FILE/1.jpg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kultura.kubangov.ru/html/nato-6jun8m.html/$FILE/2.jpg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kultura.kubangov.ru/html/nato-6jun8m.html/$FILE/3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kultura.kubangov.ru/html/nato-6jun8m.html/$FILE/4.jpg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kultura.kubangov.ru/html/nato-6jun8m.html/$FILE/5.jpg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kultura.kubangov.ru/html/nato-6jun8m.html/$FILE/6.jp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kultura.kubangov.ru/html/nato-6jun8m.html/$FILE/7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890640"/>
            <a:ext cx="417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евой выставочный зал активно проводит работу по пропаганде детского творчества, выявлению, представлению и поддержке юных дарований. Стали традиционными выставки работ студентов Кубанских учебных заведений: художественно-графического факультета КубГУ, Университета культуры и искусств, Краснодарского художественного училища. ККВЗИИ поддерживает творчество самодеятельных художников Кубани, проводя ежегодно краевые и персональные выставки, которые помогают выявить творческий потенциал народных умельцев. Благодаря этой работе не единичны стали случаи признания творчества самодеятельных художников и принятия их Союз Художник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ultura.kubangov.ru/www/kultura.nsf/0/c9a9b2be3c372c5ac32570c3005911a0/body/15.814!OpenElement&amp;FieldElemFormat=jpg"/>
          <p:cNvPicPr/>
          <p:nvPr/>
        </p:nvPicPr>
        <p:blipFill>
          <a:blip r:embed="rId1"/>
          <a:stretch/>
        </p:blipFill>
        <p:spPr>
          <a:xfrm>
            <a:off x="4572000" y="1052640"/>
            <a:ext cx="3887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kultura.kubangov.ru/html/nato-6jun8m.html/$FILE/8.jpg"/>
          <p:cNvPicPr/>
          <p:nvPr/>
        </p:nvPicPr>
        <p:blipFill>
          <a:blip r:embed="rId1"/>
          <a:stretch/>
        </p:blipFill>
        <p:spPr>
          <a:xfrm>
            <a:off x="539640" y="549360"/>
            <a:ext cx="78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kultura.kubangov.ru/html/nato-6jun8m.html/$FILE/9.jpg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kultura.kubangov.ru/html/nato-6jun8m.html/$FILE/10.jpg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снодарский государственный историко-археологический музей-заповедник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Е.Д. Фелицы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дарский государственный историко-археологический музей-заповедник им. Е.Д. Фелицына был создан в 1977 году на базе Краснодарского историко-краеведческого, Анапского и Темрюкского краеведческих музеев, музея семьи Степановых в Тимашевске, археологических памятников «Античный город Горгиппия» в Анапе и городища «Гермонасса-Тмутаракань» в Тамани. Позже в его состав вошли дом-музей М.Ю. Лермонтова и археологический музей в Тама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kultura.kubangov.ru/www/kultura.nsf/9575747b863dc907c32570bf00541915/a2ba38e5e3eec2eec32571a7001fca29/body/0.943A!OpenElement&amp;FieldElemFormat=jpg"/>
          <p:cNvPicPr/>
          <p:nvPr/>
        </p:nvPicPr>
        <p:blipFill>
          <a:blip r:embed="rId1"/>
          <a:stretch/>
        </p:blipFill>
        <p:spPr>
          <a:xfrm>
            <a:off x="5040360" y="1557360"/>
            <a:ext cx="4103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астоящее время Краснодарский музей-заповедник является самым крупным музейным объединением Северо-Кавказского региона, включенным в перечень объектов общероссийского значения. Ежегодно музей посещают около 600 тысяч человек, фонды музея насчитывают около 400 тысяч памятников материальной и духовной куль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дарский краеведческий – головной музей объедин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-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 в 1909 году как Кубанский этнографический и естественно-исторический музей казачьего войска. Историю свою музей ведет с 1879 года, когда Евгением Дмитриевичем Фелицыным, чье имя носит теперь музейное объединение, была заложена, при Кубанском областном статистическом комитете, основа фондового собрания. В настоящее время Краснодарский краеведческий музей находится в одном из красивейших зданий столицы Кубани - памятнике архитектуры конца XIX века доме купцов Богарсуковых. Постоянная экспозиция музея знакомит посетителей с разнообразной природой края и историческим прошлым народов, обитавших здесь с древнейших времен. Краснодарский краеведческий музей располагает богатейшими коллекциями, в первую очередь археологической (крупнейшая в мире коллекция амфор античного времени, огромное лапидарное собрание) и этнографической, известными специалистам и любителям древностей во всем мире. Широко известна и наша научная библиотека, и фонд редкой кни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kultura.kubangov.ru/html/nato-6jw43h.html/$FILE/1.JPG"/>
          <p:cNvPicPr/>
          <p:nvPr/>
        </p:nvPicPr>
        <p:blipFill>
          <a:blip r:embed="rId1"/>
          <a:stretch/>
        </p:blipFill>
        <p:spPr>
          <a:xfrm>
            <a:off x="500040" y="35712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kultura.kubangov.ru/html/nato-6jw43h.html/$FILE/2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kultura.kubangov.ru/html/nato-6jw43h.html/$FILE/3.JPG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kultura.kubangov.ru/html/nato-6jw43h.html/$FILE/4.JPG"/>
          <p:cNvPicPr/>
          <p:nvPr/>
        </p:nvPicPr>
        <p:blipFill>
          <a:blip r:embed="rId1"/>
          <a:stretch/>
        </p:blipFill>
        <p:spPr>
          <a:xfrm>
            <a:off x="826920" y="54936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5:23:30Z</dcterms:created>
  <dc:creator>Алла</dc:creator>
  <dc:description/>
  <dc:language>en-US</dc:language>
  <cp:lastModifiedBy>Admin</cp:lastModifiedBy>
  <dcterms:modified xsi:type="dcterms:W3CDTF">2012-06-14T10:36:09Z</dcterms:modified>
  <cp:revision>28</cp:revision>
  <dc:subject/>
  <dc:title>Слайд 1</dc:title>
</cp:coreProperties>
</file>