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0.jpeg" ContentType="image/jpeg"/>
  <Override PartName="/ppt/media/image31.png" ContentType="image/png"/>
  <Override PartName="/ppt/media/image29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11.jpeg" ContentType="image/jpeg"/>
  <Override PartName="/ppt/media/image42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5BB-6AD4-4C2C-BFEA-DF761FEA0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A85-C26B-4C8D-BD6D-AE0478F15A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905A-56E0-46E1-8ABE-356EC890F0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140-24B6-41BB-A41F-9D4F2C6C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437-A0A1-4D5A-AA60-7E8D92D2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AE4-4F37-4D1B-A4D0-F3D30885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E6F-C551-45E5-9312-408D9080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D0DD-7FFA-49B0-9B6D-34A48B7C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30F-25B8-4DE3-8741-1535EDE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3AD-D779-4D5B-8B32-EF8C1EE6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685-8EA6-4A1E-B032-4D5E1FC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3E0E-FEAF-4629-83B4-2D6C6BC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D2B-6521-4F55-B519-321C872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B2FE-C605-4A1F-8892-003C6FDB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EF1-7DE5-4CAB-9C32-05B13A69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255-1B5E-4865-80A8-112D8C2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754-31E4-4CBB-A1F4-CD58CDC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93FA-ABC6-4DBB-BA87-733DE3C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4F5A-4782-4C45-85E2-A804D32E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F29-45B6-49AF-B6B7-E75DF46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9D9-FF78-4B50-807C-463B515E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A02-782C-41F1-B7E2-AB96C1B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0AE-C7AF-4B86-8AA0-E6D743F8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0B3-E1C1-46BB-B52B-B4DDDD48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894-B4F4-473B-B943-5E8F088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25B-36FE-4992-9C8E-7B3916B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D96-1FE8-414E-8B16-F486289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769-D6DA-493E-A996-2A35A73F31B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E46-3989-401C-81EB-2538E992923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ный час: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Мы против экстремизм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модулю «Граждановедение»  Я.В. Соко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C:\Documents and Settings\имя\Мои документы\1\untitled.bmp"/>
          <p:cNvPicPr/>
          <p:nvPr/>
        </p:nvPicPr>
        <p:blipFill>
          <a:blip r:embed="rId2"/>
          <a:stretch/>
        </p:blipFill>
        <p:spPr>
          <a:xfrm>
            <a:off x="1143000" y="2857680"/>
            <a:ext cx="67150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53 человека, более 80 получили ранения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1 август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торговом центре "Охотный ряд" на Манежной площади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ин человек погиб, 40 ране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многоквартирного дома в дагестанском Буйнакск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64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2BEFEF32-AD77-48FE-B7EC-12C07ACCBA75_mw800_mh600_s"/>
          <p:cNvPicPr/>
          <p:nvPr/>
        </p:nvPicPr>
        <p:blipFill>
          <a:blip r:embed="rId2"/>
          <a:stretch/>
        </p:blipFill>
        <p:spPr>
          <a:xfrm>
            <a:off x="4648320" y="1484280"/>
            <a:ext cx="431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на улице Гурьянова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90 человек, пострадали более 26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36"/>
          <p:cNvPicPr/>
          <p:nvPr/>
        </p:nvPicPr>
        <p:blipFill>
          <a:blip r:embed="rId2"/>
          <a:stretch/>
        </p:blipFill>
        <p:spPr>
          <a:xfrm>
            <a:off x="4762440" y="1628640"/>
            <a:ext cx="381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многоквартирном жилом доме на Каширском шоссе в Москв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118 человек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untitled"/>
          <p:cNvPicPr/>
          <p:nvPr/>
        </p:nvPicPr>
        <p:blipFill>
          <a:blip r:embed="rId2"/>
          <a:stretch/>
        </p:blipFill>
        <p:spPr>
          <a:xfrm>
            <a:off x="5214960" y="1500120"/>
            <a:ext cx="33577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жилого дома в городе Волгодонск Ростовской обла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8 человек погибли, более 20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166445675"/>
          <p:cNvPicPr/>
          <p:nvPr/>
        </p:nvPicPr>
        <p:blipFill>
          <a:blip r:embed="rId2"/>
          <a:stretch/>
        </p:blipFill>
        <p:spPr>
          <a:xfrm>
            <a:off x="5292720" y="1773360"/>
            <a:ext cx="324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рыв у центрального рынка Владикавказа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семь человек погибли, 20 ранен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т же день взорвалась бомба в универмаге в Ростове-на-Дону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ва человека погибли, еще два получили ран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8C11EDFA-61D2-45E8-8C08-7C0537DC6481_mw800_mh600_s"/>
          <p:cNvPicPr/>
          <p:nvPr/>
        </p:nvPicPr>
        <p:blipFill>
          <a:blip r:embed="rId2"/>
          <a:stretch/>
        </p:blipFill>
        <p:spPr>
          <a:xfrm>
            <a:off x="4643280" y="1773360"/>
            <a:ext cx="388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подземном переходе у станции метро "Пушкинск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3 человек погибли, более 90 получили ра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яяя"/>
          <p:cNvPicPr/>
          <p:nvPr/>
        </p:nvPicPr>
        <p:blipFill>
          <a:blip r:embed="rId2"/>
          <a:stretch/>
        </p:blipFill>
        <p:spPr>
          <a:xfrm>
            <a:off x="4572000" y="170028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4 мар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ы - почти одновременные - заминированных автомобилей в городах Минеральные Воды и Ессентуки и в деревне Адыге-Хабл в Карачаево-Черкесси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8 человек погибли, более 15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ять человек погибли, 6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8 апре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зрыв на рынке во Владикавказе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семь человек погибли, 40 ране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 ма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центре дагестанского города Каспийск, где проходили торжества по случаю Дня Побед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43 челове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800 человек в московском Театральном центре на Дубровке чеченскими сепаратистам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ходе штурма с применением отравляющего газа погибли все нападавшие (41 человек) и 129 заложников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инство погибших скончались в результате действия отравляющего г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еррор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1.  политика, основанная на систематическом применении терр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редумышленное, политически мотивированное насилие, совершаемое против мирного населения с целью повлиять на настроение общест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уть терроризм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асилие с целью устраш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смертницы рядом с автобусом, перевозившим вертолетчиков из Моздока на авиабазу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более 10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взрыва на многолюдном рок-фестивале "Крылья" на Тушинском аэродроме под Москв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16 человек, включая двух смертниц. Несколько десятков человек получили ран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ууу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 дека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зрыв в переполненной студентами электричке, шедшей по маршруту Кисловодск - Минеральные воды, неподалеку от города Ессентук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2 человека погибли, около 100 получили ра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февра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вагоне поезда московского метро, следовавшего от станции "Автозаводская" к "Павелецкой", во время утреннего часа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9 человек, ранены 134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а самолета, вылетевших из московского аэропорта Домодедово, одновременно потерпели катастрофу: один в районе Ростова-на-Дону, другой под Тулой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ли 89 пассажиров и членов экипаж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ФСБ нашла на обломках следы гексоге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оре"/>
          <p:cNvPicPr/>
          <p:nvPr/>
        </p:nvPicPr>
        <p:blipFill>
          <a:blip r:embed="rId2"/>
          <a:stretch/>
        </p:blipFill>
        <p:spPr>
          <a:xfrm>
            <a:off x="4932360" y="1628640"/>
            <a:ext cx="345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у станции метро "Рижская" в центре Москвы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 человек погибли, около 40 получили ранени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2314440" y="3296880"/>
            <a:ext cx="381816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99720" y="285480"/>
            <a:ext cx="796932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04 г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школе №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в городке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Беслан 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ал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imes New Roman"/>
              </a:rPr>
              <a:t>чёрным днем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72480" y="-428400"/>
            <a:ext cx="188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ват школы №1 в городе Беслан в Северной Осети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результате последовавшего штурма погибли 334 человека, 186 из них - дет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ще несколько человек скончались в последующие годы от полученных трав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87"/>
          <p:cNvPicPr/>
          <p:nvPr/>
        </p:nvPicPr>
        <p:blipFill>
          <a:blip r:embed="rId1"/>
          <a:stretch/>
        </p:blipFill>
        <p:spPr>
          <a:xfrm>
            <a:off x="1643040" y="2428920"/>
            <a:ext cx="56437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ы на станциях московского метро "Лубянка" и "Парк культуры" в утренний час пик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38 человек, десятки ране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420840" y="-139680"/>
            <a:ext cx="8229600" cy="149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57160" y="642960"/>
            <a:ext cx="7143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на рынке ВЛАДИКАВК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Ранено более 100,погибло при взрыве16 ,цифра еще некончательная.В больницах продолжают умирать лю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571760" y="350028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286240" y="42861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420840" y="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13840" y="642960"/>
            <a:ext cx="7643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4 января в московском аэропорту «Домодедово» произошел терак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зорвалась бомба, закрепленная на поясе у террориста-смертн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е мощность составляла до семи килограммов в тротиловом эквиваленте. От взрыва погибли 35 человек, 113 пострадавших были госпитализиров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16:32 в общей зоне в зале международных прилетов прогремел взрыв. Террорист-смертник находился среди встречающих. Перед взрывом он прокричал: «Я вас всех убью!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удя по тому, что на месте взрыва нет воронки, можно предположить, что самодельное взрывное устройство было закреплено на поясе. Это говорит о том, что взрыв произвел террорист-смертник. Безоболочное взрывное устройство было начинено поражающими элементами - рублеными гвоздями и острыми железными обрубками, - заявил журналистам официальный представитель Следственного Комитета РФ Владимир Маркин, сообщает РИА «Новости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словам свидетеля Александра, который был в зоне прилета среди встречающих, эпицентр взрыва находился в районе лифтов, ведущих на парковку. «Азия-кафе» – это противоположная сторона. Там люди и уцелели. Те, кто там сидел, они практически не пострадали. Все, кто находились ближе к эпицентру взрыва, погибли или получили тяжелые ране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sit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-254160"/>
            <a:ext cx="8001000" cy="71121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10082"/>
                </a:solidFill>
                <a:uFillTx/>
                <a:latin typeface="Times New Roman"/>
              </a:rPr>
              <a:t>Цель насил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добиться желательного для террористов развития событий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Times New Roman"/>
              </a:rPr>
              <a:t>революции, дестабилизации общест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развязывания войны с иностранным государств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обретения независимости некоторой территори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адения престижа вла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1998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imes New Roman"/>
              </a:rPr>
              <a:t>политических уступок со стороны власт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молодые люд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образование патриархаль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каженное представление об историческом прошл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ущемленная национальная горд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представление об «историческом обидчик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ранняя психологическая трав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лишены родительской з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познали раннее ун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подверглись религиозно-утопическим мечтам о совершенном ми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Содержимое 5" descr="i.jpg"/>
          <p:cNvPicPr/>
          <p:nvPr/>
        </p:nvPicPr>
        <p:blipFill>
          <a:blip r:embed="rId2"/>
          <a:stretch/>
        </p:blipFill>
        <p:spPr>
          <a:xfrm>
            <a:off x="5357880" y="1785960"/>
            <a:ext cx="35719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914400" y="225360"/>
            <a:ext cx="7888320" cy="1712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762120" y="18288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и причин роста терроризма в Росси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онденты указали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асслоение населения по имущественному признаку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8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граничное положение, близость к местности, где происходят межнациональные конфликты, войны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числа безработных в самых различных социальных группах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7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5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еятельность или влияние зарубежных террористических групп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%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инеральных вода Захват автобуса с детьми 4 кла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ть ране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20060401017"/>
          <p:cNvPicPr/>
          <p:nvPr/>
        </p:nvPicPr>
        <p:blipFill>
          <a:blip r:embed="rId2"/>
          <a:stretch/>
        </p:blipFill>
        <p:spPr>
          <a:xfrm>
            <a:off x="4648320" y="2486160"/>
            <a:ext cx="403848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73120" y="6048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 рук террористо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 те дни погибли 129 человек, в том числе 18 работников милиции и 17 военнослужащих, а огнестрельные ранения различной степени тяжести получили 415 человек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p22830"/>
          <p:cNvPicPr/>
          <p:nvPr/>
        </p:nvPicPr>
        <p:blipFill>
          <a:blip r:embed="rId2"/>
          <a:stretch/>
        </p:blipFill>
        <p:spPr>
          <a:xfrm>
            <a:off x="4786200" y="1500120"/>
            <a:ext cx="3889440" cy="243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463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хват 3 тысяч человек в больнице города Кизляр чеченскими сепаратистами под руководством Салмана Радуева. После переговоров большинство заложников освобождено. Нападавшие с заложниками (около 100 человек) начали отход в Чечню, но были остановлены российскими войсками. В боя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гибли около 80 челове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дуев скрыл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9" descr="09_01_1996"/>
          <p:cNvPicPr/>
          <p:nvPr/>
        </p:nvPicPr>
        <p:blipFill>
          <a:blip r:embed="rId2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23235-1"/>
          <p:cNvPicPr/>
          <p:nvPr/>
        </p:nvPicPr>
        <p:blipFill>
          <a:blip r:embed="rId3"/>
          <a:stretch/>
        </p:blipFill>
        <p:spPr>
          <a:xfrm>
            <a:off x="4929120" y="1285920"/>
            <a:ext cx="4214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рыв в девятиэтажном жилом доме для семей офицеров в дагестанском Каспийске. Часть здания рухнула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гибли почти 70 челов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Pogar_9"/>
          <p:cNvPicPr/>
          <p:nvPr/>
        </p:nvPicPr>
        <p:blipFill>
          <a:blip r:embed="rId2"/>
          <a:stretch/>
        </p:blipFill>
        <p:spPr>
          <a:xfrm>
            <a:off x="507204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21:27Z</dcterms:created>
  <dc:creator>www.PHILka.RU</dc:creator>
  <dc:description/>
  <dc:language>en-US</dc:language>
  <cp:lastModifiedBy>Алиночка Андреевна</cp:lastModifiedBy>
  <dcterms:modified xsi:type="dcterms:W3CDTF">2011-10-31T08:33:02Z</dcterms:modified>
  <cp:revision>15</cp:revision>
  <dc:subject/>
  <dc:title>1 декабря 1988 г. в Минеральных вода</dc:title>
</cp:coreProperties>
</file>