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jpeg" ContentType="image/jpeg"/>
  <Override PartName="/ppt/media/image2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0.jpeg" ContentType="image/jpeg"/>
  <Override PartName="/ppt/media/image31.png" ContentType="image/png"/>
  <Override PartName="/ppt/media/image29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40.png" ContentType="image/png"/>
  <Override PartName="/ppt/media/image11.jpeg" ContentType="image/jpeg"/>
  <Override PartName="/ppt/media/image42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9.png" ContentType="image/png"/>
  <Override PartName="/ppt/media/image12.png" ContentType="image/png"/>
  <Override PartName="/ppt/media/image48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D2B3-D7E8-4F0D-BE07-5C58005B5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90D6-BDF5-4D06-B4DE-AAE20B959D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140F-B7E8-40FF-B91D-77E0453181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36B-FFB2-4205-AB25-161298D6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43C-5C47-44F0-8A1F-CC7D1F0D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812-B53F-4D5D-AA54-45BBBD0E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B1A-9FD4-4993-90D4-AD7D6496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A033-49BD-48FD-96B4-9C3ECCA1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09CD-6EC9-4D34-B67B-C2F2F788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8A75-54E5-4D1B-A3F2-6A33D2F6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344B-3AFA-4B5D-9E83-71A66B48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3963-8B9E-4F48-B7B8-278E0DBB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FF14-0B7E-4D28-AE50-7C031986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A335-2C45-45EB-95BB-5FDFEACB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BED-B9D2-4D38-BD37-9BDA36B0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293E-63FD-4FCA-A897-BD45E7D0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97C0-63A1-482C-94FE-1091AD5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6AC6-1E85-4724-BFB2-3AF72309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441B-B3D8-4594-B95E-2A14FE42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D8DE-2C7A-40B1-BB85-40CD108D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379-9FA1-4D91-B548-D5848704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A53-DD7A-4111-B29D-9F376397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696-3D81-443D-B933-C2C0D7F0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2C6-4582-424D-9094-9D10F3B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20C-1D08-4F7E-B053-0292D03C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B1E-E15A-4F35-8907-F6FC9233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9FB-8EE4-467C-8377-F43E898E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0E5-A78A-400F-BD63-04765D250C1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F90C-3F79-4BE6-B60B-5EF08CE66FE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749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ный час: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Мы против экстремизм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модулю «Граждановедение»  Я.В. Сокол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C:\Documents and Settings\имя\Мои документы\1\untitled.bmp"/>
          <p:cNvPicPr/>
          <p:nvPr/>
        </p:nvPicPr>
        <p:blipFill>
          <a:blip r:embed="rId2"/>
          <a:stretch/>
        </p:blipFill>
        <p:spPr>
          <a:xfrm>
            <a:off x="1143000" y="2857680"/>
            <a:ext cx="67150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на рынке во Владикавказ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53 человека, более 80 получили ранения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1 август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торговом центре "Охотный ряд" на Манежной площади в центре Москв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ин человек погиб, 40 ране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у многоквартирного дома в дагестанском Буйнакск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64 челове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5" descr="2BEFEF32-AD77-48FE-B7EC-12C07ACCBA75_mw800_mh600_s"/>
          <p:cNvPicPr/>
          <p:nvPr/>
        </p:nvPicPr>
        <p:blipFill>
          <a:blip r:embed="rId2"/>
          <a:stretch/>
        </p:blipFill>
        <p:spPr>
          <a:xfrm>
            <a:off x="4648320" y="1484280"/>
            <a:ext cx="4316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девятиэтажном жилом доме на улице Гурьянова в Москв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более 90 человек, пострадали более 26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36"/>
          <p:cNvPicPr/>
          <p:nvPr/>
        </p:nvPicPr>
        <p:blipFill>
          <a:blip r:embed="rId2"/>
          <a:stretch/>
        </p:blipFill>
        <p:spPr>
          <a:xfrm>
            <a:off x="4762440" y="1628640"/>
            <a:ext cx="3810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многоквартирном жилом доме на Каширском шоссе в Москв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118 человек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untitled"/>
          <p:cNvPicPr/>
          <p:nvPr/>
        </p:nvPicPr>
        <p:blipFill>
          <a:blip r:embed="rId2"/>
          <a:stretch/>
        </p:blipFill>
        <p:spPr>
          <a:xfrm>
            <a:off x="5214960" y="1500120"/>
            <a:ext cx="33577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жилого дома в городе Волгодонск Ростовской обла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8 человек погибли, более 200 получили ра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" descr="166445675"/>
          <p:cNvPicPr/>
          <p:nvPr/>
        </p:nvPicPr>
        <p:blipFill>
          <a:blip r:embed="rId2"/>
          <a:stretch/>
        </p:blipFill>
        <p:spPr>
          <a:xfrm>
            <a:off x="5292720" y="1773360"/>
            <a:ext cx="3240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рыв у центрального рынка Владикавказа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семь человек погибли, 20 ранен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т же день взорвалась бомба в универмаге в Ростове-на-Дону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ва человека погибли, еще два получили ран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8C11EDFA-61D2-45E8-8C08-7C0537DC6481_mw800_mh600_s"/>
          <p:cNvPicPr/>
          <p:nvPr/>
        </p:nvPicPr>
        <p:blipFill>
          <a:blip r:embed="rId2"/>
          <a:stretch/>
        </p:blipFill>
        <p:spPr>
          <a:xfrm>
            <a:off x="4643280" y="1773360"/>
            <a:ext cx="3889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подземном переходе у станции метро "Пушкинска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в центре Москв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3 человек погибли, более 90 получили ра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яяя"/>
          <p:cNvPicPr/>
          <p:nvPr/>
        </p:nvPicPr>
        <p:blipFill>
          <a:blip r:embed="rId2"/>
          <a:stretch/>
        </p:blipFill>
        <p:spPr>
          <a:xfrm>
            <a:off x="4572000" y="1700280"/>
            <a:ext cx="424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4 мар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зрывы - почти одновременные - заминированных автомобилей в городах Минеральные Воды и Ессентуки и в деревне Адыге-Хабл в Карачаево-Черкесси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8 человек погибли, более 150 получили ра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зрыв на рынке во Владикавказе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ять человек погибли, 60 получили ра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8 апре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зрыв на рынке во Владикавказ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семь человек погибли, 40 ране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 ма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центре дагестанского города Каспийск, где проходили торжества по случаю Дня Побед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43 челове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хват 800 человек в московском Театральном центре на Дубровке чеченскими сепаратистам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ходе штурма с применением отравляющего газа погибли все нападавшие (41 человек) и 129 заложников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ольшинство погибших скончались в результате действия отравляющего г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Террориз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1.  политика, основанная на систематическом применении терр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редумышленное, политически мотивированное насилие, совершаемое против мирного населения с целью повлиять на настроение общест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уть терроризм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насилие с целью устраш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смертницы рядом с автобусом, перевозившим вертолетчиков из Моздока на авиабазу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более 10 челов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а взрыва на многолюдном рок-фестивале "Крылья" на Тушинском аэродроме под Москвой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гибли 16 человек, включая двух смертниц. Несколько десятков человек получили ран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ууу"/>
          <p:cNvPicPr/>
          <p:nvPr/>
        </p:nvPicPr>
        <p:blipFill>
          <a:blip r:embed="rId2"/>
          <a:stretch/>
        </p:blipFill>
        <p:spPr>
          <a:xfrm>
            <a:off x="4788000" y="134136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 дека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зрыв в переполненной студентами электричке, шедшей по маршруту Кисловодск - Минеральные воды, неподалеку от города Ессентук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2 человека погибли, около 100 получили ра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 февра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вагоне поезда московского метро, следовавшего от станции "Автозаводская" к "Павелецкой", во время утреннего часа пик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39 человек, ранены 134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а самолета, вылетевших из московского аэропорта Домодедово, одновременно потерпели катастрофу: один в районе Ростова-на-Дону, другой под Тулой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гибли 89 пассажиров и членов экипаже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ФСБ нашла на обломках следы гексоге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оре"/>
          <p:cNvPicPr/>
          <p:nvPr/>
        </p:nvPicPr>
        <p:blipFill>
          <a:blip r:embed="rId2"/>
          <a:stretch/>
        </p:blipFill>
        <p:spPr>
          <a:xfrm>
            <a:off x="4932360" y="1628640"/>
            <a:ext cx="345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у станции метро "Рижская" в центре Москв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1 человек погибли, около 40 получили ранения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30230_20070901135018"/>
          <p:cNvPicPr/>
          <p:nvPr/>
        </p:nvPicPr>
        <p:blipFill>
          <a:blip r:embed="rId1"/>
          <a:srcRect l="9862" t="22677" r="18011" b="14835"/>
          <a:stretch/>
        </p:blipFill>
        <p:spPr>
          <a:xfrm rot="1276800">
            <a:off x="2314440" y="3296880"/>
            <a:ext cx="3818160" cy="3240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999720" y="285480"/>
            <a:ext cx="796932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ервое сентябр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004 го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в школе №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в городке 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Беслан 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тало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imes New Roman"/>
              </a:rPr>
              <a:t>чёрным днем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572480" y="-428400"/>
            <a:ext cx="188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хват школы №1 в городе Беслан в Северной Осети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результате последовавшего штурма погибли 334 человека, 186 из них - дет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Еще несколько человек скончались в последующие годы от полученных трав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87"/>
          <p:cNvPicPr/>
          <p:nvPr/>
        </p:nvPicPr>
        <p:blipFill>
          <a:blip r:embed="rId1"/>
          <a:stretch/>
        </p:blipFill>
        <p:spPr>
          <a:xfrm>
            <a:off x="1643040" y="2428920"/>
            <a:ext cx="564372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ы на станциях московского метро "Лубянка" и "Парк культуры" в утренний час пик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38 человек, десятки ране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420840" y="-139680"/>
            <a:ext cx="8229600" cy="1498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57160" y="642960"/>
            <a:ext cx="71438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на рынке ВЛАДИКАВКА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Ранено более 100,погибло при взрыве16 ,цифра еще некончательная.В больницах продолжают умирать люд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1571760" y="350028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286240" y="428616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Заголовок 1" descr=""/>
          <p:cNvPicPr/>
          <p:nvPr/>
        </p:nvPicPr>
        <p:blipFill>
          <a:blip r:embed="rId2"/>
          <a:stretch/>
        </p:blipFill>
        <p:spPr>
          <a:xfrm>
            <a:off x="420840" y="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13840" y="642960"/>
            <a:ext cx="7643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24 января в московском аэропорту «Домодедово» произошел терак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Взорвалась бомба, закрепленная на поясе у террориста-смертни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е мощность составляла до семи килограммов в тротиловом эквиваленте. От взрыва погибли 35 человек, 113 пострадавших были госпитализирова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16:32 в общей зоне в зале международных прилетов прогремел взрыв. Террорист-смертник находился среди встречающих. Перед взрывом он прокричал: «Я вас всех убью!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удя по тому, что на месте взрыва нет воронки, можно предположить, что самодельное взрывное устройство было закреплено на поясе. Это говорит о том, что взрыв произвел террорист-смертник. Безоболочное взрывное устройство было начинено поражающими элементами - рублеными гвоздями и острыми железными обрубками, - заявил журналистам официальный представитель Следственного Комитета РФ Владимир Маркин, сообщает РИА «Новости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словам свидетеля Александра, который был в зоне прилета среди встречающих, эпицентр взрыва находился в районе лифтов, ведущих на парковку. «Азия-кафе» – это противоположная сторона. Там люди и уцелели. Те, кто там сидел, они практически не пострадали. Все, кто находились ближе к эпицентру взрыва, погибли или получили тяжелые ране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sit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-254160"/>
            <a:ext cx="8001000" cy="71121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Цель насил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добиться желательного для террористов развития событий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революции, дестабилизации обществ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развязывания войны с иностранным государство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обретения независимости некоторой территорие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падения престижа власт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политических уступок со стороны власти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молодые люд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образование патриархаль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искаженное представление об историческом прошл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ущемленная национальная горд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представление об «историческом обидчике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ранняя психологическая трав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лишены родительской забо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познали раннее уни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подверглись религиозно-утопическим мечтам о совершенном ми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Содержимое 5" descr="i.jpg"/>
          <p:cNvPicPr/>
          <p:nvPr/>
        </p:nvPicPr>
        <p:blipFill>
          <a:blip r:embed="rId2"/>
          <a:stretch/>
        </p:blipFill>
        <p:spPr>
          <a:xfrm>
            <a:off x="5357880" y="1785960"/>
            <a:ext cx="35719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914400" y="225360"/>
            <a:ext cx="7888320" cy="17128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762120" y="18288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и причин роста терроризма в Росси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спонденты указали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6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худшение социально-экономического положения населения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противоборства криминальных группировок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асслоение населения по имущественному признаку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еятельность национально- и регилиозно-экстремистских группировок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8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играничное положение, близость к местности, где происходят межнациональные конфликты, войны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7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числа безработных в самых различных социальных группах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7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иток мигрантов из стран ближнего зарубежья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5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национального самосознания, стремление этнических групп к национальному обособлению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еятельность или влияние зарубежных террористических групп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факторы дискриминации отдельных национальных общнос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Минеральных вода Захват автобуса с детьми 4 клас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сть ране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20060401017"/>
          <p:cNvPicPr/>
          <p:nvPr/>
        </p:nvPicPr>
        <p:blipFill>
          <a:blip r:embed="rId2"/>
          <a:stretch/>
        </p:blipFill>
        <p:spPr>
          <a:xfrm>
            <a:off x="4648320" y="2486160"/>
            <a:ext cx="403848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573120" y="6048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т рук террористов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 те дни погибли 129 человек, в том числе 18 работников милиции и 17 военнослужащих, а огнестрельные ранения различной степени тяжести получили 415 человек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8" descr="p22830"/>
          <p:cNvPicPr/>
          <p:nvPr/>
        </p:nvPicPr>
        <p:blipFill>
          <a:blip r:embed="rId2"/>
          <a:stretch/>
        </p:blipFill>
        <p:spPr>
          <a:xfrm>
            <a:off x="4786200" y="1500120"/>
            <a:ext cx="3889440" cy="243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3463"/>
          <p:cNvPicPr/>
          <p:nvPr/>
        </p:nvPicPr>
        <p:blipFill>
          <a:blip r:embed="rId3"/>
          <a:stretch/>
        </p:blipFill>
        <p:spPr>
          <a:xfrm>
            <a:off x="4857840" y="4143240"/>
            <a:ext cx="3857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хват 3 тысяч человек в больнице города Кизляр чеченскими сепаратистами под руководством Салмана Радуева. После переговоров большинство заложников освобождено. Нападавшие с заложниками (около 100 человек) начали отход в Чечню, но были остановлены российскими войсками. В боях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гибли около 80 человек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дуев скрыл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9" descr="09_01_1996"/>
          <p:cNvPicPr/>
          <p:nvPr/>
        </p:nvPicPr>
        <p:blipFill>
          <a:blip r:embed="rId2"/>
          <a:stretch/>
        </p:blipFill>
        <p:spPr>
          <a:xfrm>
            <a:off x="4929120" y="4286160"/>
            <a:ext cx="4214880" cy="257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23235-1"/>
          <p:cNvPicPr/>
          <p:nvPr/>
        </p:nvPicPr>
        <p:blipFill>
          <a:blip r:embed="rId3"/>
          <a:stretch/>
        </p:blipFill>
        <p:spPr>
          <a:xfrm>
            <a:off x="4929120" y="1285920"/>
            <a:ext cx="4214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девятиэтажном жилом доме для семей офицеров в дагестанском Каспийске. Часть здания рухнула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почти 70 челове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7" descr="Pogar_9"/>
          <p:cNvPicPr/>
          <p:nvPr/>
        </p:nvPicPr>
        <p:blipFill>
          <a:blip r:embed="rId2"/>
          <a:stretch/>
        </p:blipFill>
        <p:spPr>
          <a:xfrm>
            <a:off x="5072040" y="150012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21:27Z</dcterms:created>
  <dc:creator>www.PHILka.RU</dc:creator>
  <dc:description/>
  <dc:language>en-US</dc:language>
  <cp:lastModifiedBy>Алиночка Андреевна</cp:lastModifiedBy>
  <dcterms:modified xsi:type="dcterms:W3CDTF">2011-10-31T08:33:02Z</dcterms:modified>
  <cp:revision>15</cp:revision>
  <dc:subject/>
  <dc:title>1 декабря 1988 г. в Минеральных вода</dc:title>
</cp:coreProperties>
</file>