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0.jpeg" ContentType="image/jpeg"/>
  <Override PartName="/ppt/media/image31.png" ContentType="image/png"/>
  <Override PartName="/ppt/media/image29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11.jpeg" ContentType="image/jpeg"/>
  <Override PartName="/ppt/media/image42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48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21D9-A10C-464B-9778-CEA7E2A13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6FA5-C836-43A9-BF69-D21A46E135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3F4-2348-41BE-B05B-0A3FFF94A5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641-5E07-4187-BEFE-5208EC3B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22C-F1CF-4529-A5A3-157AAD53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31E-1A20-46D1-9B54-3FF45A70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769-CD26-47B7-ABB2-28958FFA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60E-6906-4FE0-9A65-5A9A0D0B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B55F-FCB0-4B1C-A2D7-FE3C3FE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CD03-4D8E-4A14-A60D-1F7E3F9F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B288-9655-4417-AFC7-D78A656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48B5-DA7A-4F33-9EB8-EE161355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D58C-D947-4F0D-9613-0C726BC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DCD7-A232-47B3-AB84-8A3EA5E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7EF-4231-4A56-9DFB-0198B21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B331-0677-430A-A8F2-4FB3F71D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E27-3239-4450-9BE3-4CEFAE0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CABF-1704-4F0F-BA95-2CBEFFD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3E6-249F-4E7B-AE55-78599571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A6F-75E7-4288-BCFE-0FC6FEB0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13B-B007-4189-BF6E-CFF5344A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33D-87C2-4C6B-BFFB-ABAB75B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D3A-017E-4B7D-986A-CA300496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1C8-A32F-40F6-85A4-65C3A82C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20F-9266-4002-A27C-20EF404E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A82-1137-4B9E-9E50-009C476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03F-1389-4841-A48F-8A99FC1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FF0-120A-4F87-9408-C7DC4587298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E24-73A6-4544-8BDC-E8B03D23FFF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749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ный час: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Мы против экстремизм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модулю «Граждановедение»  Я.В. Соко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C:\Documents and Settings\имя\Мои документы\1\untitled.bmp"/>
          <p:cNvPicPr/>
          <p:nvPr/>
        </p:nvPicPr>
        <p:blipFill>
          <a:blip r:embed="rId2"/>
          <a:stretch/>
        </p:blipFill>
        <p:spPr>
          <a:xfrm>
            <a:off x="1143000" y="2857680"/>
            <a:ext cx="67150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на рынке во Владикавказ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53 человека, более 80 получили ранения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1 август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торговом центре "Охотный ряд" на Манежной площади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ин человек погиб, 40 ран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у многоквартирного дома в дагестанском Буйнакск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64 челове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" descr="2BEFEF32-AD77-48FE-B7EC-12C07ACCBA75_mw800_mh600_s"/>
          <p:cNvPicPr/>
          <p:nvPr/>
        </p:nvPicPr>
        <p:blipFill>
          <a:blip r:embed="rId2"/>
          <a:stretch/>
        </p:blipFill>
        <p:spPr>
          <a:xfrm>
            <a:off x="4648320" y="1484280"/>
            <a:ext cx="431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девятиэтажном жилом доме на улице Гурьянова в Москв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более 90 человек, пострадали более 26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36"/>
          <p:cNvPicPr/>
          <p:nvPr/>
        </p:nvPicPr>
        <p:blipFill>
          <a:blip r:embed="rId2"/>
          <a:stretch/>
        </p:blipFill>
        <p:spPr>
          <a:xfrm>
            <a:off x="4762440" y="1628640"/>
            <a:ext cx="3810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многоквартирном жилом доме на Каширском шоссе в Москв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118 человек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untitled"/>
          <p:cNvPicPr/>
          <p:nvPr/>
        </p:nvPicPr>
        <p:blipFill>
          <a:blip r:embed="rId2"/>
          <a:stretch/>
        </p:blipFill>
        <p:spPr>
          <a:xfrm>
            <a:off x="5214960" y="1500120"/>
            <a:ext cx="33577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жилого дома в городе Волгодонск Ростовской обла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8 человек погибли, более 200 получили ра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166445675"/>
          <p:cNvPicPr/>
          <p:nvPr/>
        </p:nvPicPr>
        <p:blipFill>
          <a:blip r:embed="rId2"/>
          <a:stretch/>
        </p:blipFill>
        <p:spPr>
          <a:xfrm>
            <a:off x="5292720" y="1773360"/>
            <a:ext cx="324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рыв у центрального рынка Владикавказа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семь человек погибли, 20 ранен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т же день взорвалась бомба в универмаге в Ростове-на-Дону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ва человека погибли, еще два получили ран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8C11EDFA-61D2-45E8-8C08-7C0537DC6481_mw800_mh600_s"/>
          <p:cNvPicPr/>
          <p:nvPr/>
        </p:nvPicPr>
        <p:blipFill>
          <a:blip r:embed="rId2"/>
          <a:stretch/>
        </p:blipFill>
        <p:spPr>
          <a:xfrm>
            <a:off x="4643280" y="1773360"/>
            <a:ext cx="388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подземном переходе у станции метро "Пушкинск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3 человек погибли, более 90 получили ра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яяя"/>
          <p:cNvPicPr/>
          <p:nvPr/>
        </p:nvPicPr>
        <p:blipFill>
          <a:blip r:embed="rId2"/>
          <a:stretch/>
        </p:blipFill>
        <p:spPr>
          <a:xfrm>
            <a:off x="4572000" y="1700280"/>
            <a:ext cx="424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4 мар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ы - почти одновременные - заминированных автомобилей в городах Минеральные Воды и Ессентуки и в деревне Адыге-Хабл в Карачаево-Черкесси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8 человек погибли, более 15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 на рынке во Владикавказе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ять человек погибли, 6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8 апре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зрыв на рынке во Владикавказ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семь человек погибли, 40 ране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 ма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центре дагестанского города Каспийск, где проходили торжества по случаю Дня Побед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43 челове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ват 800 человек в московском Театральном центре на Дубровке чеченскими сепаратистам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ходе штурма с применением отравляющего газа погибли все нападавшие (41 человек) и 129 заложников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инство погибших скончались в результате действия отравляющего г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Террор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1.  политика, основанная на систематическом применении терр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редумышленное, политически мотивированное насилие, совершаемое против мирного населения с целью повлиять на настроение общест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уть терроризм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асилие с целью устраш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смертницы рядом с автобусом, перевозившим вертолетчиков из Моздока на авиабазу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более 10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взрыва на многолюдном рок-фестивале "Крылья" на Тушинском аэродроме под Москвой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ли 16 человек, включая двух смертниц. Несколько десятков человек получили ран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ууу"/>
          <p:cNvPicPr/>
          <p:nvPr/>
        </p:nvPicPr>
        <p:blipFill>
          <a:blip r:embed="rId2"/>
          <a:stretch/>
        </p:blipFill>
        <p:spPr>
          <a:xfrm>
            <a:off x="4788000" y="134136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 дека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 в переполненной студентами электричке, шедшей по маршруту Кисловодск - Минеральные воды, неподалеку от города Ессентук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2 человека погибли, около 10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февра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вагоне поезда московского метро, следовавшего от станции "Автозаводская" к "Павелецкой", во время утреннего часа пик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39 человек, ранены 134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самолета, вылетевших из московского аэропорта Домодедово, одновременно потерпели катастрофу: один в районе Ростова-на-Дону, другой под Тулой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ли 89 пассажиров и членов экипаж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СБ нашла на обломках следы гексоге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оре"/>
          <p:cNvPicPr/>
          <p:nvPr/>
        </p:nvPicPr>
        <p:blipFill>
          <a:blip r:embed="rId2"/>
          <a:stretch/>
        </p:blipFill>
        <p:spPr>
          <a:xfrm>
            <a:off x="4932360" y="1628640"/>
            <a:ext cx="34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у станции метро "Рижская"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 человек погибли, около 40 получили ранени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 rot="1276800">
            <a:off x="2314440" y="3296880"/>
            <a:ext cx="3818160" cy="3240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99720" y="285480"/>
            <a:ext cx="796932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ервое сентябр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004 го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школе №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городке 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Беслан 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ал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imes New Roman"/>
              </a:rPr>
              <a:t>чёрным днем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72480" y="-428400"/>
            <a:ext cx="188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ват школы №1 в городе Беслан в Северной Осети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результате последовавшего штурма погибли 334 человека, 186 из них - дет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Еще несколько человек скончались в последующие годы от полученных трав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87"/>
          <p:cNvPicPr/>
          <p:nvPr/>
        </p:nvPicPr>
        <p:blipFill>
          <a:blip r:embed="rId1"/>
          <a:stretch/>
        </p:blipFill>
        <p:spPr>
          <a:xfrm>
            <a:off x="1643040" y="2428920"/>
            <a:ext cx="56437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ы на станциях московского метро "Лубянка" и "Парк культуры" в утренний час пик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38 человек, десятки ране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420840" y="-139680"/>
            <a:ext cx="8229600" cy="149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57160" y="642960"/>
            <a:ext cx="7143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на рынке ВЛАДИКАВК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Ранено более 100,погибло при взрыве16 ,цифра еще некончательная.В больницах продолжают умирать лю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571760" y="350028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286240" y="428616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420840" y="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13840" y="642960"/>
            <a:ext cx="7643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24 января в московском аэропорту «Домодедово» произошел терак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Взорвалась бомба, закрепленная на поясе у террориста-смертн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е мощность составляла до семи килограммов в тротиловом эквиваленте. От взрыва погибли 35 человек, 113 пострадавших были госпитализирова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6:32 в общей зоне в зале международных прилетов прогремел взрыв. Террорист-смертник находился среди встречающих. Перед взрывом он прокричал: «Я вас всех убью!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удя по тому, что на месте взрыва нет воронки, можно предположить, что самодельное взрывное устройство было закреплено на поясе. Это говорит о том, что взрыв произвел террорист-смертник. Безоболочное взрывное устройство было начинено поражающими элементами - рублеными гвоздями и острыми железными обрубками, - заявил журналистам официальный представитель Следственного Комитета РФ Владимир Маркин, сообщает РИА «Новости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словам свидетеля Александра, который был в зоне прилета среди встречающих, эпицентр взрыва находился в районе лифтов, ведущих на парковку. «Азия-кафе» – это противоположная сторона. Там люди и уцелели. Те, кто там сидел, они практически не пострадали. Все, кто находились ближе к эпицентру взрыва, погибли или получили тяжелые ране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sit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-254160"/>
            <a:ext cx="8001000" cy="71121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Цель насил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добиться желательного для террористов развития событий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революции, дестабилизации общест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развязывания войны с иностранным государств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обретения независимости некоторой территорие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падения престижа влас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политических уступок со стороны власт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молодые люд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образование патриархаль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скаженное представление об историческом прошл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ущемленная национальная горд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представление об «историческом обидчике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ранняя психологическая трав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лишены родительской забо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познали раннее ун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подверглись религиозно-утопическим мечтам о совершенном ми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Содержимое 5" descr="i.jpg"/>
          <p:cNvPicPr/>
          <p:nvPr/>
        </p:nvPicPr>
        <p:blipFill>
          <a:blip r:embed="rId2"/>
          <a:stretch/>
        </p:blipFill>
        <p:spPr>
          <a:xfrm>
            <a:off x="5357880" y="1785960"/>
            <a:ext cx="3571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914400" y="225360"/>
            <a:ext cx="7888320" cy="1712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762120" y="18288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и причин роста терроризма в Росси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спонденты указали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6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худшение социально-экономического положения населения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противоборства криминальных группировок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асслоение населения по имущественному признаку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ятельность национально- и регилиозно-экстремистских группировок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8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играничное положение, близость к местности, где происходят межнациональные конфликты, войны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7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числа безработных в самых различных социальных группах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7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иток мигрантов из стран ближнего зарубежья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5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ятельность или влияние зарубежных террористических групп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факторы дискриминации отдельных национальных общнос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Минеральных вода Захват автобуса с детьми 4 кла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ть ране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20060401017"/>
          <p:cNvPicPr/>
          <p:nvPr/>
        </p:nvPicPr>
        <p:blipFill>
          <a:blip r:embed="rId2"/>
          <a:stretch/>
        </p:blipFill>
        <p:spPr>
          <a:xfrm>
            <a:off x="4648320" y="2486160"/>
            <a:ext cx="403848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573120" y="6048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 рук террористов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 те дни погибли 129 человек, в том числе 18 работников милиции и 17 военнослужащих, а огнестрельные ранения различной степени тяжести получили 415 человек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p22830"/>
          <p:cNvPicPr/>
          <p:nvPr/>
        </p:nvPicPr>
        <p:blipFill>
          <a:blip r:embed="rId2"/>
          <a:stretch/>
        </p:blipFill>
        <p:spPr>
          <a:xfrm>
            <a:off x="4786200" y="1500120"/>
            <a:ext cx="3889440" cy="243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463"/>
          <p:cNvPicPr/>
          <p:nvPr/>
        </p:nvPicPr>
        <p:blipFill>
          <a:blip r:embed="rId3"/>
          <a:stretch/>
        </p:blipFill>
        <p:spPr>
          <a:xfrm>
            <a:off x="4857840" y="4143240"/>
            <a:ext cx="3857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хват 3 тысяч человек в больнице города Кизляр чеченскими сепаратистами под руководством Салмана Радуева. После переговоров большинство заложников освобождено. Нападавшие с заложниками (около 100 человек) начали отход в Чечню, но были остановлены российскими войсками. В боя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гибли около 80 человек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дуев скрыл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9" descr="09_01_1996"/>
          <p:cNvPicPr/>
          <p:nvPr/>
        </p:nvPicPr>
        <p:blipFill>
          <a:blip r:embed="rId2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23235-1"/>
          <p:cNvPicPr/>
          <p:nvPr/>
        </p:nvPicPr>
        <p:blipFill>
          <a:blip r:embed="rId3"/>
          <a:stretch/>
        </p:blipFill>
        <p:spPr>
          <a:xfrm>
            <a:off x="4929120" y="1285920"/>
            <a:ext cx="4214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девятиэтажном жилом доме для семей офицеров в дагестанском Каспийске. Часть здания рухнула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почти 70 челове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Pogar_9"/>
          <p:cNvPicPr/>
          <p:nvPr/>
        </p:nvPicPr>
        <p:blipFill>
          <a:blip r:embed="rId2"/>
          <a:stretch/>
        </p:blipFill>
        <p:spPr>
          <a:xfrm>
            <a:off x="507204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21:27Z</dcterms:created>
  <dc:creator>www.PHILka.RU</dc:creator>
  <dc:description/>
  <dc:language>en-US</dc:language>
  <cp:lastModifiedBy>Алиночка Андреевна</cp:lastModifiedBy>
  <dcterms:modified xsi:type="dcterms:W3CDTF">2011-10-31T08:33:02Z</dcterms:modified>
  <cp:revision>15</cp:revision>
  <dc:subject/>
  <dc:title>1 декабря 1988 г. в Минеральных вода</dc:title>
</cp:coreProperties>
</file>