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102-42BA-41A2-8648-24C63DA6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EA1-511F-4842-B930-60CBEBFE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F7C-51C0-49B6-8903-195569CD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9C5-2E26-48BB-8E80-6896FA02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3CD-859F-49D7-9626-DE285A18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A4F-9848-44C8-B935-DB9BB84F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C26-76E3-424B-83F8-8684CB32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60D-5E91-4084-8E50-0645E3B9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203-1140-4F6A-92B0-A40D7B3D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54B-6D91-454D-BC40-EBE321F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746-FB54-4358-B245-2EF714B8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976-81D5-4E56-BE11-0B025508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6267-8C2A-4BD6-82E4-399A9E8AE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20.xm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1.xml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2.xml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3.xml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4.xml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5.xml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6.xml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7.xml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0.jpeg"/><Relationship Id="rId5" Type="http://schemas.openxmlformats.org/officeDocument/2006/relationships/slide" Target="slide28.xm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549360"/>
            <a:ext cx="784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тематический вечер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старшеклассников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357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Автор –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учитель математики 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Фомичева Ни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5157720"/>
            <a:ext cx="39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МБОУ «СОШ №17»  г.Новомосковс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Туль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916360" cy="21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04000" y="4149720"/>
            <a:ext cx="1465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771640" y="404640"/>
            <a:ext cx="5977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ра  "Клуб  знатоков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444760" cy="1833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588000" y="1268280"/>
            <a:ext cx="2152800" cy="142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149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4941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57340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42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013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Задача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4" action="ppaction://hlinksldjump"/>
          </p:cNvPr>
          <p:cNvSpPr/>
          <p:nvPr/>
        </p:nvSpPr>
        <p:spPr>
          <a:xfrm>
            <a:off x="7308720" y="6237360"/>
            <a:ext cx="1584360" cy="431640"/>
          </a:xfrm>
          <a:custGeom>
            <a:avLst/>
            <a:gdLst>
              <a:gd name="textAreaLeft" fmla="*/ 27720 w 1584360"/>
              <a:gd name="textAreaRight" fmla="*/ 1556640 w 1584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9236" h="21600">
                <a:moveTo>
                  <a:pt x="0" y="0"/>
                </a:moveTo>
                <a:lnTo>
                  <a:pt x="79236" y="0"/>
                </a:lnTo>
                <a:lnTo>
                  <a:pt x="79236" y="21600"/>
                </a:lnTo>
                <a:lnTo>
                  <a:pt x="0" y="21600"/>
                </a:lnTo>
                <a:close/>
              </a:path>
              <a:path fill="lightenLess" w="79236" h="21600">
                <a:moveTo>
                  <a:pt x="0" y="0"/>
                </a:moveTo>
                <a:lnTo>
                  <a:pt x="79236" y="0"/>
                </a:lnTo>
                <a:lnTo>
                  <a:pt x="77836" y="1400"/>
                </a:lnTo>
                <a:lnTo>
                  <a:pt x="1400" y="1400"/>
                </a:lnTo>
                <a:close/>
              </a:path>
              <a:path fill="darken" w="79236" h="21600">
                <a:moveTo>
                  <a:pt x="79236" y="0"/>
                </a:moveTo>
                <a:lnTo>
                  <a:pt x="79236" y="21600"/>
                </a:lnTo>
                <a:lnTo>
                  <a:pt x="77836" y="20200"/>
                </a:lnTo>
                <a:lnTo>
                  <a:pt x="77836" y="1400"/>
                </a:lnTo>
                <a:close/>
              </a:path>
              <a:path fill="darkenLess" w="79236" h="21600">
                <a:moveTo>
                  <a:pt x="79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836" y="20200"/>
                </a:lnTo>
                <a:close/>
              </a:path>
              <a:path fill="lighten" w="79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565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пишите, пожалуйста, два числа, чтобы их сумма, произведение и частное были равны между со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826920" y="69228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7236000" y="6237360"/>
            <a:ext cx="1728720" cy="36036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538" h="21600">
                <a:moveTo>
                  <a:pt x="0" y="0"/>
                </a:moveTo>
                <a:lnTo>
                  <a:pt x="103538" y="0"/>
                </a:lnTo>
                <a:lnTo>
                  <a:pt x="103538" y="21600"/>
                </a:lnTo>
                <a:lnTo>
                  <a:pt x="0" y="21600"/>
                </a:lnTo>
                <a:close/>
              </a:path>
              <a:path fill="lightenLess" w="103538" h="21600">
                <a:moveTo>
                  <a:pt x="0" y="0"/>
                </a:moveTo>
                <a:lnTo>
                  <a:pt x="103538" y="0"/>
                </a:lnTo>
                <a:lnTo>
                  <a:pt x="102138" y="1400"/>
                </a:lnTo>
                <a:lnTo>
                  <a:pt x="1400" y="1400"/>
                </a:lnTo>
                <a:close/>
              </a:path>
              <a:path fill="darken" w="103538" h="21600">
                <a:moveTo>
                  <a:pt x="103538" y="0"/>
                </a:moveTo>
                <a:lnTo>
                  <a:pt x="103538" y="21600"/>
                </a:lnTo>
                <a:lnTo>
                  <a:pt x="102138" y="20200"/>
                </a:lnTo>
                <a:lnTo>
                  <a:pt x="102138" y="1400"/>
                </a:lnTo>
                <a:close/>
              </a:path>
              <a:path fill="darkenLess" w="103538" h="21600">
                <a:moveTo>
                  <a:pt x="10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8" y="20200"/>
                </a:lnTo>
                <a:close/>
              </a:path>
              <a:path fill="lighten" w="10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20500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азету разорвали на 3 части, потом  одну из них разорвали еще на 3 части и так 40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колько получилось частей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5" action="ppaction://hlinksldjump"/>
          </p:cNvPr>
          <p:cNvSpPr/>
          <p:nvPr/>
        </p:nvSpPr>
        <p:spPr>
          <a:xfrm>
            <a:off x="7164360" y="6165720"/>
            <a:ext cx="1800360" cy="358920"/>
          </a:xfrm>
          <a:custGeom>
            <a:avLst/>
            <a:gdLst>
              <a:gd name="textAreaLeft" fmla="*/ 23040 w 1800360"/>
              <a:gd name="textAreaRight" fmla="*/ 1777320 w 180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8260" h="21600">
                <a:moveTo>
                  <a:pt x="0" y="0"/>
                </a:moveTo>
                <a:lnTo>
                  <a:pt x="108260" y="0"/>
                </a:lnTo>
                <a:lnTo>
                  <a:pt x="108260" y="21600"/>
                </a:lnTo>
                <a:lnTo>
                  <a:pt x="0" y="21600"/>
                </a:lnTo>
                <a:close/>
              </a:path>
              <a:path fill="lightenLess" w="108260" h="21600">
                <a:moveTo>
                  <a:pt x="0" y="0"/>
                </a:moveTo>
                <a:lnTo>
                  <a:pt x="108260" y="0"/>
                </a:lnTo>
                <a:lnTo>
                  <a:pt x="106860" y="1400"/>
                </a:lnTo>
                <a:lnTo>
                  <a:pt x="1400" y="1400"/>
                </a:lnTo>
                <a:close/>
              </a:path>
              <a:path fill="darken" w="108260" h="21600">
                <a:moveTo>
                  <a:pt x="108260" y="0"/>
                </a:moveTo>
                <a:lnTo>
                  <a:pt x="108260" y="21600"/>
                </a:lnTo>
                <a:lnTo>
                  <a:pt x="106860" y="20200"/>
                </a:lnTo>
                <a:lnTo>
                  <a:pt x="106860" y="1400"/>
                </a:lnTo>
                <a:close/>
              </a:path>
              <a:path fill="darkenLess" w="108260" h="21600">
                <a:moveTo>
                  <a:pt x="108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860" y="20200"/>
                </a:lnTo>
                <a:close/>
              </a:path>
              <a:path fill="lighten" w="108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2276640"/>
            <a:ext cx="73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важаемые знаток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е могли бы, вы, точно сообщить, когда начнется 22 ве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5" action="ppaction://hlinksldjump"/>
          </p:cNvPr>
          <p:cNvSpPr/>
          <p:nvPr/>
        </p:nvSpPr>
        <p:spPr>
          <a:xfrm>
            <a:off x="7093080" y="6237360"/>
            <a:ext cx="1800000" cy="360360"/>
          </a:xfrm>
          <a:custGeom>
            <a:avLst/>
            <a:gdLst>
              <a:gd name="textAreaLeft" fmla="*/ 23040 w 1800000"/>
              <a:gd name="textAreaRight" fmla="*/ 1776960 w 18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7806" h="21600">
                <a:moveTo>
                  <a:pt x="0" y="0"/>
                </a:moveTo>
                <a:lnTo>
                  <a:pt x="107806" y="0"/>
                </a:lnTo>
                <a:lnTo>
                  <a:pt x="107806" y="21600"/>
                </a:lnTo>
                <a:lnTo>
                  <a:pt x="0" y="21600"/>
                </a:lnTo>
                <a:close/>
              </a:path>
              <a:path fill="lightenLess" w="107806" h="21600">
                <a:moveTo>
                  <a:pt x="0" y="0"/>
                </a:moveTo>
                <a:lnTo>
                  <a:pt x="107806" y="0"/>
                </a:lnTo>
                <a:lnTo>
                  <a:pt x="106406" y="1400"/>
                </a:lnTo>
                <a:lnTo>
                  <a:pt x="1400" y="1400"/>
                </a:lnTo>
                <a:close/>
              </a:path>
              <a:path fill="darken" w="107806" h="21600">
                <a:moveTo>
                  <a:pt x="107806" y="0"/>
                </a:moveTo>
                <a:lnTo>
                  <a:pt x="107806" y="21600"/>
                </a:lnTo>
                <a:lnTo>
                  <a:pt x="106406" y="20200"/>
                </a:lnTo>
                <a:lnTo>
                  <a:pt x="106406" y="1400"/>
                </a:lnTo>
                <a:close/>
              </a:path>
              <a:path fill="darkenLess" w="107806" h="21600">
                <a:moveTo>
                  <a:pt x="107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06" y="20200"/>
                </a:lnTo>
                <a:close/>
              </a:path>
              <a:path fill="lighten" w="107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13372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 озере росли лилии. Каждый день их число удваивалось. На 20-й день заросло все озе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 какой день заросла половина озер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rId5" action="ppaction://hlinksldjump"/>
          </p:cNvPr>
          <p:cNvSpPr/>
          <p:nvPr/>
        </p:nvSpPr>
        <p:spPr>
          <a:xfrm>
            <a:off x="7093080" y="6165720"/>
            <a:ext cx="1871640" cy="358920"/>
          </a:xfrm>
          <a:custGeom>
            <a:avLst/>
            <a:gdLst>
              <a:gd name="textAreaLeft" fmla="*/ 23040 w 1871640"/>
              <a:gd name="textAreaRight" fmla="*/ 1848600 w 187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12545" h="21600">
                <a:moveTo>
                  <a:pt x="0" y="0"/>
                </a:moveTo>
                <a:lnTo>
                  <a:pt x="112545" y="0"/>
                </a:lnTo>
                <a:lnTo>
                  <a:pt x="112545" y="21600"/>
                </a:lnTo>
                <a:lnTo>
                  <a:pt x="0" y="21600"/>
                </a:lnTo>
                <a:close/>
              </a:path>
              <a:path fill="lightenLess" w="112545" h="21600">
                <a:moveTo>
                  <a:pt x="0" y="0"/>
                </a:moveTo>
                <a:lnTo>
                  <a:pt x="112545" y="0"/>
                </a:lnTo>
                <a:lnTo>
                  <a:pt x="111145" y="1400"/>
                </a:lnTo>
                <a:lnTo>
                  <a:pt x="1400" y="1400"/>
                </a:lnTo>
                <a:close/>
              </a:path>
              <a:path fill="darken" w="112545" h="21600">
                <a:moveTo>
                  <a:pt x="112545" y="0"/>
                </a:moveTo>
                <a:lnTo>
                  <a:pt x="112545" y="21600"/>
                </a:lnTo>
                <a:lnTo>
                  <a:pt x="111145" y="20200"/>
                </a:lnTo>
                <a:lnTo>
                  <a:pt x="111145" y="1400"/>
                </a:lnTo>
                <a:close/>
              </a:path>
              <a:path fill="darkenLess" w="112545" h="21600">
                <a:moveTo>
                  <a:pt x="112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145" y="20200"/>
                </a:lnTo>
                <a:close/>
              </a:path>
              <a:path fill="lighten" w="112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2133720"/>
            <a:ext cx="67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бассейн с горизонтальным дном площадью 1 га содержится миллион литров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ожно ли в этом бассейне проводить соревнования по плава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6948360" y="6165720"/>
            <a:ext cx="1944720" cy="358920"/>
          </a:xfrm>
          <a:custGeom>
            <a:avLst/>
            <a:gdLst>
              <a:gd name="textAreaLeft" fmla="*/ 23040 w 1944720"/>
              <a:gd name="textAreaRight" fmla="*/ 1921680 w 1944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16939" h="21600">
                <a:moveTo>
                  <a:pt x="0" y="0"/>
                </a:moveTo>
                <a:lnTo>
                  <a:pt x="116939" y="0"/>
                </a:lnTo>
                <a:lnTo>
                  <a:pt x="116939" y="21600"/>
                </a:lnTo>
                <a:lnTo>
                  <a:pt x="0" y="21600"/>
                </a:lnTo>
                <a:close/>
              </a:path>
              <a:path fill="lightenLess" w="116939" h="21600">
                <a:moveTo>
                  <a:pt x="0" y="0"/>
                </a:moveTo>
                <a:lnTo>
                  <a:pt x="116939" y="0"/>
                </a:lnTo>
                <a:lnTo>
                  <a:pt x="115539" y="1400"/>
                </a:lnTo>
                <a:lnTo>
                  <a:pt x="1400" y="1400"/>
                </a:lnTo>
                <a:close/>
              </a:path>
              <a:path fill="darken" w="116939" h="21600">
                <a:moveTo>
                  <a:pt x="116939" y="0"/>
                </a:moveTo>
                <a:lnTo>
                  <a:pt x="116939" y="21600"/>
                </a:lnTo>
                <a:lnTo>
                  <a:pt x="115539" y="20200"/>
                </a:lnTo>
                <a:lnTo>
                  <a:pt x="115539" y="1400"/>
                </a:lnTo>
                <a:close/>
              </a:path>
              <a:path fill="darkenLess" w="116939" h="21600">
                <a:moveTo>
                  <a:pt x="11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539" y="20200"/>
                </a:lnTo>
                <a:close/>
              </a:path>
              <a:path fill="lighten" w="11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060640"/>
            <a:ext cx="720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звестно, что все тела на Луне в 6 раз легче, чем на Земле. Представьте себе, что вам предложено отправиться на Луну и проверить этот факт эксперимент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акое оборудование вы возьмете с соб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5" action="ppaction://hlinksldjump"/>
          </p:cNvPr>
          <p:cNvSpPr/>
          <p:nvPr/>
        </p:nvSpPr>
        <p:spPr>
          <a:xfrm>
            <a:off x="6877080" y="6165720"/>
            <a:ext cx="2087640" cy="358920"/>
          </a:xfrm>
          <a:custGeom>
            <a:avLst/>
            <a:gdLst>
              <a:gd name="textAreaLeft" fmla="*/ 23040 w 2087640"/>
              <a:gd name="textAreaRight" fmla="*/ 2064600 w 208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5531" h="21600">
                <a:moveTo>
                  <a:pt x="0" y="0"/>
                </a:moveTo>
                <a:lnTo>
                  <a:pt x="125531" y="0"/>
                </a:lnTo>
                <a:lnTo>
                  <a:pt x="125531" y="21600"/>
                </a:lnTo>
                <a:lnTo>
                  <a:pt x="0" y="21600"/>
                </a:lnTo>
                <a:close/>
              </a:path>
              <a:path fill="lightenLess" w="125531" h="21600">
                <a:moveTo>
                  <a:pt x="0" y="0"/>
                </a:moveTo>
                <a:lnTo>
                  <a:pt x="125531" y="0"/>
                </a:lnTo>
                <a:lnTo>
                  <a:pt x="124131" y="1400"/>
                </a:lnTo>
                <a:lnTo>
                  <a:pt x="1400" y="1400"/>
                </a:lnTo>
                <a:close/>
              </a:path>
              <a:path fill="darken" w="125531" h="21600">
                <a:moveTo>
                  <a:pt x="125531" y="0"/>
                </a:moveTo>
                <a:lnTo>
                  <a:pt x="125531" y="21600"/>
                </a:lnTo>
                <a:lnTo>
                  <a:pt x="124131" y="20200"/>
                </a:lnTo>
                <a:lnTo>
                  <a:pt x="124131" y="1400"/>
                </a:lnTo>
                <a:close/>
              </a:path>
              <a:path fill="darkenLess" w="125531" h="21600">
                <a:moveTo>
                  <a:pt x="1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131" y="20200"/>
                </a:lnTo>
                <a:close/>
              </a:path>
              <a:path fill="lighten" w="1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198900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 уроках геометрии при решении задач, связанных с окружностью, обычно указывают, чему равен радиус окружности. А вот на технических чертежах и эскизах обязательно наносят диаметры окружностей, а не радиусы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ожете ли вы объяснить причину этого яв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rId5" action="ppaction://hlinksldjump"/>
          </p:cNvPr>
          <p:cNvSpPr/>
          <p:nvPr/>
        </p:nvSpPr>
        <p:spPr>
          <a:xfrm>
            <a:off x="6877080" y="6165720"/>
            <a:ext cx="2087640" cy="358920"/>
          </a:xfrm>
          <a:custGeom>
            <a:avLst/>
            <a:gdLst>
              <a:gd name="textAreaLeft" fmla="*/ 23040 w 2087640"/>
              <a:gd name="textAreaRight" fmla="*/ 2064600 w 208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5531" h="21600">
                <a:moveTo>
                  <a:pt x="0" y="0"/>
                </a:moveTo>
                <a:lnTo>
                  <a:pt x="125531" y="0"/>
                </a:lnTo>
                <a:lnTo>
                  <a:pt x="125531" y="21600"/>
                </a:lnTo>
                <a:lnTo>
                  <a:pt x="0" y="21600"/>
                </a:lnTo>
                <a:close/>
              </a:path>
              <a:path fill="lightenLess" w="125531" h="21600">
                <a:moveTo>
                  <a:pt x="0" y="0"/>
                </a:moveTo>
                <a:lnTo>
                  <a:pt x="125531" y="0"/>
                </a:lnTo>
                <a:lnTo>
                  <a:pt x="124131" y="1400"/>
                </a:lnTo>
                <a:lnTo>
                  <a:pt x="1400" y="1400"/>
                </a:lnTo>
                <a:close/>
              </a:path>
              <a:path fill="darken" w="125531" h="21600">
                <a:moveTo>
                  <a:pt x="125531" y="0"/>
                </a:moveTo>
                <a:lnTo>
                  <a:pt x="125531" y="21600"/>
                </a:lnTo>
                <a:lnTo>
                  <a:pt x="124131" y="20200"/>
                </a:lnTo>
                <a:lnTo>
                  <a:pt x="124131" y="1400"/>
                </a:lnTo>
                <a:close/>
              </a:path>
              <a:path fill="darkenLess" w="125531" h="21600">
                <a:moveTo>
                  <a:pt x="1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131" y="20200"/>
                </a:lnTo>
                <a:close/>
              </a:path>
              <a:path fill="lighten" w="1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91628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ящике лежат разноцветные шар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5-белы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12-красны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20-черны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кое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наименьшее число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шариков надо вынуть из ящика, не заглядывая внутрь, чтобы среди них оказалось обязательно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хотя бы по одному шарику всех указанных цветов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3348000" y="620640"/>
            <a:ext cx="247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адача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5" action="ppaction://hlinksldjump"/>
          </p:cNvPr>
          <p:cNvSpPr/>
          <p:nvPr/>
        </p:nvSpPr>
        <p:spPr>
          <a:xfrm>
            <a:off x="6948360" y="6093000"/>
            <a:ext cx="2016360" cy="431640"/>
          </a:xfrm>
          <a:custGeom>
            <a:avLst/>
            <a:gdLst>
              <a:gd name="textAreaLeft" fmla="*/ 27720 w 2016360"/>
              <a:gd name="textAreaRight" fmla="*/ 1988640 w 201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00836" h="21600">
                <a:moveTo>
                  <a:pt x="0" y="0"/>
                </a:moveTo>
                <a:lnTo>
                  <a:pt x="100836" y="0"/>
                </a:lnTo>
                <a:lnTo>
                  <a:pt x="100836" y="21600"/>
                </a:lnTo>
                <a:lnTo>
                  <a:pt x="0" y="21600"/>
                </a:lnTo>
                <a:close/>
              </a:path>
              <a:path fill="lightenLess" w="100836" h="21600">
                <a:moveTo>
                  <a:pt x="0" y="0"/>
                </a:moveTo>
                <a:lnTo>
                  <a:pt x="100836" y="0"/>
                </a:lnTo>
                <a:lnTo>
                  <a:pt x="99436" y="1400"/>
                </a:lnTo>
                <a:lnTo>
                  <a:pt x="1400" y="1400"/>
                </a:lnTo>
                <a:close/>
              </a:path>
              <a:path fill="darken" w="100836" h="21600">
                <a:moveTo>
                  <a:pt x="100836" y="0"/>
                </a:moveTo>
                <a:lnTo>
                  <a:pt x="100836" y="21600"/>
                </a:lnTo>
                <a:lnTo>
                  <a:pt x="99436" y="20200"/>
                </a:lnTo>
                <a:lnTo>
                  <a:pt x="99436" y="1400"/>
                </a:lnTo>
                <a:close/>
              </a:path>
              <a:path fill="darkenLess" w="100836" h="21600">
                <a:moveTo>
                  <a:pt x="100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36" y="20200"/>
                </a:lnTo>
                <a:close/>
              </a:path>
              <a:path fill="lighten" w="100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125360"/>
            <a:ext cx="83516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атематик, оказавшись случайно в небольшом городке и желая хоть как-то убить время, решил подстрич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городке имелось всего лишь два мастера (у каждого из них своя парикмахерска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глянув к одному мастеру, математик увидел, что в салоне грязно, сам мастер одет неряшливо и небрежно подстри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салоне другого мастера было чисто, а владелец его безукоризненно одет и аккуратно подстриж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размыслив, математик отправился стричься к первому парикмахер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Уважаемые знатоки! Не можете ли вы объяснить причину столь странного, на первый взгляд, решения 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916360" cy="218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88000" y="4292640"/>
            <a:ext cx="1511280" cy="118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54936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План проведения веч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Устный журнал «Математическое путешествие в мир  гармо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«Клуб знатоков» - иг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Конкурс « Мисс Математ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39640" y="47242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55640" y="836640"/>
            <a:ext cx="604836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-1 и 1/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05264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836640"/>
            <a:ext cx="604836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8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83664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2133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 января 2101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836640"/>
            <a:ext cx="60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63640" y="198900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 19- ден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836640"/>
            <a:ext cx="60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91628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ельзя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ысота уровня воды будет  1000000 дм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000000дм² = 1 дм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83664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87280" y="184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жно взять тело, вес которого вы знаете на Земле и пружинные весы - динамомет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836640"/>
            <a:ext cx="69850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ри вычерчивании окружности надо знать  её радиу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а в готовой детали проще замерять   диаметр окруж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Кроме того большинство    отверстий получают путем сверления, а для   этого надо знать диаметр сверла, а не его радиус.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836640"/>
            <a:ext cx="604836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20 + 12 + 1 = 33  шар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836640"/>
            <a:ext cx="720108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вет к задаче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оскольку в городе лишь два парикмахера,  каждый мастер вынужден стричься у друг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Математик выбрал того из мастеров, кто луч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одстриг своего конкур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rId3" action="ppaction://hlinksldjump"/>
          </p:cNvPr>
          <p:cNvSpPr/>
          <p:nvPr/>
        </p:nvSpPr>
        <p:spPr>
          <a:xfrm>
            <a:off x="395280" y="6021360"/>
            <a:ext cx="1728720" cy="538200"/>
          </a:xfrm>
          <a:custGeom>
            <a:avLst/>
            <a:gdLst>
              <a:gd name="textAreaLeft" fmla="*/ 34560 w 1728720"/>
              <a:gd name="textAreaRight" fmla="*/ 1694160 w 1728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69348" h="21600">
                <a:moveTo>
                  <a:pt x="0" y="0"/>
                </a:moveTo>
                <a:lnTo>
                  <a:pt x="69348" y="0"/>
                </a:lnTo>
                <a:lnTo>
                  <a:pt x="69348" y="21600"/>
                </a:lnTo>
                <a:lnTo>
                  <a:pt x="0" y="21600"/>
                </a:lnTo>
                <a:close/>
              </a:path>
              <a:path fill="lightenLess" w="69348" h="21600">
                <a:moveTo>
                  <a:pt x="0" y="0"/>
                </a:moveTo>
                <a:lnTo>
                  <a:pt x="69348" y="0"/>
                </a:lnTo>
                <a:lnTo>
                  <a:pt x="67948" y="1400"/>
                </a:lnTo>
                <a:lnTo>
                  <a:pt x="1400" y="1400"/>
                </a:lnTo>
                <a:close/>
              </a:path>
              <a:path fill="darken" w="69348" h="21600">
                <a:moveTo>
                  <a:pt x="69348" y="0"/>
                </a:moveTo>
                <a:lnTo>
                  <a:pt x="69348" y="21600"/>
                </a:lnTo>
                <a:lnTo>
                  <a:pt x="67948" y="20200"/>
                </a:lnTo>
                <a:lnTo>
                  <a:pt x="67948" y="1400"/>
                </a:lnTo>
                <a:close/>
              </a:path>
              <a:path fill="darkenLess" w="69348" h="21600">
                <a:moveTo>
                  <a:pt x="6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48" y="20200"/>
                </a:lnTo>
                <a:close/>
              </a:path>
              <a:path fill="lighten" w="6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836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58920" y="1125360"/>
            <a:ext cx="64818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ользуемый матери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я, рисунки:       http://images.yandex.ru/yandsearch?text=%D0%B7%D0%B0%D0%BD%D0%B8%D0%BC%D0%B0%D1%82%D0%B5%D0%BB%D1%8C%D0%BD%D0%B0%D1%8F%20%D0%BC%D0%B0%D1%82%D0%B5%D0%BC%D0%B0%D1%82%D0%B8%D0%BA%D0%B0%20-%D0%BA%D0%B0%D1%80%D1%82%D0%B8%D0%BD%D0%BA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text=%D1%81%D0%B8%D0%BC%D0%BC%D0%B5%D1%82%D1%80%D0%B8%D1%8F-%D0%BA%D0%B0%D1%80%D1%82%D0%B8%D0%BD%D0%BA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text=%D0%BC%D0%B0%D1%82%D0%B5%D0%BC%D0%B0%D1%82%D0%B8%D0%BA%D0%B0-%D0%BA%D0%B0%D1%80%D1%82%D0%B8%D0%BD%D0%BA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413000"/>
            <a:ext cx="86407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Явления всей Вселенной подчинены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ределенным числовым соотнош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Число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это закон и связь мир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 сила, царящая над богами и смерт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е упорядочивается в соответствии с числ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 слышите звуки музыки. Благозвучные, гармоничные аккорды не случа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ажнейшие, гармонично звучащие музыкальные интервалы могут быть получены при помощи отношений чисел 1, 2, 3,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260280"/>
            <a:ext cx="8496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Числовая гармония мира проявляется, например, и в том, как покрывается плоскость правильными многоугольниками. Было установлено, что возможны только три случая таких покры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 именно: вокруг одной точки плоскости можно плотно уложит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ри прави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шестиуго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 прави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реуг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2637000"/>
            <a:ext cx="720720" cy="647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3284640"/>
            <a:ext cx="720720" cy="647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284640"/>
            <a:ext cx="72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2637000"/>
            <a:ext cx="72072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4211640" y="494136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494172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94172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3851280" y="551628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4572000" y="551628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5516640"/>
            <a:ext cx="720720" cy="57636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5445000"/>
            <a:ext cx="142560" cy="144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3213000"/>
            <a:ext cx="1429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3716280"/>
            <a:ext cx="14292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776000">
            <a:off x="971640" y="2997000"/>
            <a:ext cx="1079280" cy="863280"/>
          </a:xfrm>
          <a:prstGeom prst="hexagon">
            <a:avLst>
              <a:gd name="adj" fmla="val 3125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6000">
            <a:off x="1476000" y="3789360"/>
            <a:ext cx="1079640" cy="863640"/>
          </a:xfrm>
          <a:prstGeom prst="hexagon">
            <a:avLst>
              <a:gd name="adj" fmla="val 3125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76000">
            <a:off x="539280" y="3789360"/>
            <a:ext cx="1079640" cy="863640"/>
          </a:xfrm>
          <a:prstGeom prst="hexagon">
            <a:avLst>
              <a:gd name="adj" fmla="val 3125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220500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260280"/>
            <a:ext cx="52563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построения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звездчатого многоугольник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пользов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ледующим свой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</a:rPr>
              <a:t>каждая из его пяти линий делит каждую другую в крайнем и среднем отношении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. е. </a:t>
            </a: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меньший отрезок АС относится к большему СВ, как  этот больший к целому отрезку АВ.  АС :СВ=СВ: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Это соотношени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впоследствии назвали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золотым сечение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3284640"/>
            <a:ext cx="820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олотым же сечение названо потому, что, где оно присутствует, ощущается красота и гармония. Пропорции хорошо сложенного человека подчиняются законам золотого сечения, что особенно заметно на примере золотой божественной пропорции в живоп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03640" y="189000"/>
            <a:ext cx="1368720" cy="1208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2592360" cy="191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96000" y="2421000"/>
            <a:ext cx="2521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349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2349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44000" y="2349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2800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948360" y="1412640"/>
            <a:ext cx="216000" cy="252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278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АС :СВ=СВ: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4936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е только пропорциями определяются законы гармо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основе красоты многих форм, существующих в приро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ежит, например,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симмет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чти все живые существа построены по законам симметрии.                / переводе с греческого слово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симметри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означает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соразмерность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217152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79280" y="2060640"/>
            <a:ext cx="3384720" cy="298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708360" y="2133720"/>
            <a:ext cx="3672000" cy="286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2771640" y="3860640"/>
            <a:ext cx="22860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51280" y="476280"/>
            <a:ext cx="5041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реди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цветов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например, наблюдается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поворотная симметри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 Многие цветы можно повернуть так, что каждый лепесток займет положение соседнего, цветок совместится сам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расположении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листьев на стебля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растений наблюдаетс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нтовая симметри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 Располагаясь  винтом по стеблю, листья как бы раскидываются в разные стороны и не заслоняют друг друга от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2232000" cy="1970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84360" y="3068640"/>
            <a:ext cx="2457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80360" y="486720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679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20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дивительна  симметрия и в ограненных драгоценных камнях. Многие гранильщики стараются придать бриллиантам форму тетраэдра, куба, октаэдра или икосаэдра. Но эти замечательные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ел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еще и потому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расивы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что в основе их пропорциональных линий лежит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олото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5520" y="4608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340000" y="765000"/>
            <a:ext cx="158112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64000" y="692280"/>
            <a:ext cx="122904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659640" y="115920"/>
            <a:ext cx="224784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692360" y="3933720"/>
            <a:ext cx="192384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3564000" y="5157720"/>
            <a:ext cx="156204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5076720" y="3789360"/>
            <a:ext cx="198144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179280" y="5157720"/>
            <a:ext cx="136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ериодич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–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акон гармон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иодические колебания  бесконечно разнообразны. Некоторые из них описываются тригонометрическими функц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021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прекрасны, бегущая волна, повторяющиеся соловьиные тр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2857680" cy="857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3311640" cy="20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3673440" cy="3422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093080" y="2637000"/>
            <a:ext cx="18493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4:36:34Z</dcterms:created>
  <dc:creator>Информатика</dc:creator>
  <dc:description/>
  <dc:language>en-US</dc:language>
  <cp:lastModifiedBy>Информатика</cp:lastModifiedBy>
  <dcterms:modified xsi:type="dcterms:W3CDTF">2012-11-19T06:08:14Z</dcterms:modified>
  <cp:revision>10</cp:revision>
  <dc:subject/>
  <dc:title>Слайд 1</dc:title>
</cp:coreProperties>
</file>