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FBA-1A3F-42BB-8129-2C7A67E9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EA6-320B-4A20-932A-653CFF8F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DB9-E0DF-48AA-BA7C-C294F9B6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B64-4F6F-46B5-9916-FB01F6E4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DDA-FE2E-43B7-AD2E-A3FF2D18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E45-6ED1-4205-A4D7-6E0F27A2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4BD-F148-4D16-88FE-AB9DA9FC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69B-EBB3-40A8-91A9-FDBDA71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672-7145-478D-927C-4ACAE38B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30D-F6CC-4BB1-A2E7-5F21476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BF9-FDDF-40DF-BBC5-9FC21E8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26F-5844-4753-801C-B05D342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42A-5ABF-406D-AA29-3AE4EA89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20.xm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1.xm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2.xml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3.xm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5.xml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6.xml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7.xml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8.xm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54936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ий вечер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старшеклассник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357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Автор –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учитель математики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Фомичева Ни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15772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МБОУ «СОШ №17»  г.Новомосковс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Туль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1465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71640" y="404640"/>
            <a:ext cx="59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  "Клуб  знатоков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444760" cy="183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588000" y="1268280"/>
            <a:ext cx="215280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94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7340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2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7308720" y="6237360"/>
            <a:ext cx="1584360" cy="43164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565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пишите, пожалуйста, два числа, чтобы их сумма, произведение и частное были равны между с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26920" y="6922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7236000" y="6237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20500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азету разорвали на 3 части, потом  одну из них разорвали еще на 3 части и так 4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колько получилось частей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7164360" y="6165720"/>
            <a:ext cx="1800360" cy="35892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8260" h="21600">
                <a:moveTo>
                  <a:pt x="0" y="0"/>
                </a:moveTo>
                <a:lnTo>
                  <a:pt x="108260" y="0"/>
                </a:lnTo>
                <a:lnTo>
                  <a:pt x="108260" y="21600"/>
                </a:lnTo>
                <a:lnTo>
                  <a:pt x="0" y="21600"/>
                </a:lnTo>
                <a:close/>
              </a:path>
              <a:path fill="lightenLess" w="108260" h="21600">
                <a:moveTo>
                  <a:pt x="0" y="0"/>
                </a:moveTo>
                <a:lnTo>
                  <a:pt x="108260" y="0"/>
                </a:lnTo>
                <a:lnTo>
                  <a:pt x="106860" y="1400"/>
                </a:lnTo>
                <a:lnTo>
                  <a:pt x="1400" y="1400"/>
                </a:lnTo>
                <a:close/>
              </a:path>
              <a:path fill="darken" w="108260" h="21600">
                <a:moveTo>
                  <a:pt x="108260" y="0"/>
                </a:moveTo>
                <a:lnTo>
                  <a:pt x="108260" y="21600"/>
                </a:lnTo>
                <a:lnTo>
                  <a:pt x="106860" y="20200"/>
                </a:lnTo>
                <a:lnTo>
                  <a:pt x="106860" y="1400"/>
                </a:lnTo>
                <a:close/>
              </a:path>
              <a:path fill="darkenLess" w="108260" h="21600">
                <a:moveTo>
                  <a:pt x="108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860" y="20200"/>
                </a:lnTo>
                <a:close/>
              </a:path>
              <a:path fill="lighten" w="108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227664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важаемые знато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могли бы, вы, точно сообщить, когда начнется 22 ве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5" action="ppaction://hlinksldjump"/>
          </p:cNvPr>
          <p:cNvSpPr/>
          <p:nvPr/>
        </p:nvSpPr>
        <p:spPr>
          <a:xfrm>
            <a:off x="7093080" y="623736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озере росли лилии. Каждый день их число удваивалось. На 20-й день заросло все озе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какой день заросла половина озер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7093080" y="6165720"/>
            <a:ext cx="1871640" cy="358920"/>
          </a:xfrm>
          <a:custGeom>
            <a:avLst/>
            <a:gdLst>
              <a:gd name="textAreaLeft" fmla="*/ 23040 w 1871640"/>
              <a:gd name="textAreaRight" fmla="*/ 1848600 w 187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2545" h="21600">
                <a:moveTo>
                  <a:pt x="0" y="0"/>
                </a:moveTo>
                <a:lnTo>
                  <a:pt x="112545" y="0"/>
                </a:lnTo>
                <a:lnTo>
                  <a:pt x="112545" y="21600"/>
                </a:lnTo>
                <a:lnTo>
                  <a:pt x="0" y="21600"/>
                </a:lnTo>
                <a:close/>
              </a:path>
              <a:path fill="lightenLess" w="112545" h="21600">
                <a:moveTo>
                  <a:pt x="0" y="0"/>
                </a:moveTo>
                <a:lnTo>
                  <a:pt x="112545" y="0"/>
                </a:lnTo>
                <a:lnTo>
                  <a:pt x="111145" y="1400"/>
                </a:lnTo>
                <a:lnTo>
                  <a:pt x="1400" y="1400"/>
                </a:lnTo>
                <a:close/>
              </a:path>
              <a:path fill="darken" w="112545" h="21600">
                <a:moveTo>
                  <a:pt x="112545" y="0"/>
                </a:moveTo>
                <a:lnTo>
                  <a:pt x="112545" y="21600"/>
                </a:lnTo>
                <a:lnTo>
                  <a:pt x="111145" y="20200"/>
                </a:lnTo>
                <a:lnTo>
                  <a:pt x="111145" y="1400"/>
                </a:lnTo>
                <a:close/>
              </a:path>
              <a:path fill="darkenLess" w="112545" h="21600">
                <a:moveTo>
                  <a:pt x="112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145" y="20200"/>
                </a:lnTo>
                <a:close/>
              </a:path>
              <a:path fill="lighten" w="112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213372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бассейн с горизонтальным дном площадью 1 га содержится миллион литров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но ли в этом бассейне проводить соревнования по плав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6948360" y="6165720"/>
            <a:ext cx="1944720" cy="358920"/>
          </a:xfrm>
          <a:custGeom>
            <a:avLst/>
            <a:gdLst>
              <a:gd name="textAreaLeft" fmla="*/ 23040 w 1944720"/>
              <a:gd name="textAreaRight" fmla="*/ 1921680 w 194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6939" h="21600">
                <a:moveTo>
                  <a:pt x="0" y="0"/>
                </a:moveTo>
                <a:lnTo>
                  <a:pt x="116939" y="0"/>
                </a:lnTo>
                <a:lnTo>
                  <a:pt x="116939" y="21600"/>
                </a:lnTo>
                <a:lnTo>
                  <a:pt x="0" y="21600"/>
                </a:lnTo>
                <a:close/>
              </a:path>
              <a:path fill="lightenLess" w="116939" h="21600">
                <a:moveTo>
                  <a:pt x="0" y="0"/>
                </a:moveTo>
                <a:lnTo>
                  <a:pt x="116939" y="0"/>
                </a:lnTo>
                <a:lnTo>
                  <a:pt x="115539" y="1400"/>
                </a:lnTo>
                <a:lnTo>
                  <a:pt x="1400" y="1400"/>
                </a:lnTo>
                <a:close/>
              </a:path>
              <a:path fill="darken" w="116939" h="21600">
                <a:moveTo>
                  <a:pt x="116939" y="0"/>
                </a:moveTo>
                <a:lnTo>
                  <a:pt x="116939" y="21600"/>
                </a:lnTo>
                <a:lnTo>
                  <a:pt x="115539" y="20200"/>
                </a:lnTo>
                <a:lnTo>
                  <a:pt x="115539" y="1400"/>
                </a:lnTo>
                <a:close/>
              </a:path>
              <a:path fill="darkenLess" w="116939" h="21600">
                <a:moveTo>
                  <a:pt x="11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539" y="20200"/>
                </a:lnTo>
                <a:close/>
              </a:path>
              <a:path fill="lighten" w="11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060640"/>
            <a:ext cx="720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вестно, что все тела на Луне в 6 раз легче, чем на Земле. Представьте себе, что вам предложено отправиться на Луну и проверить этот факт экспери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кое оборудование вы возьмете с со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1989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уроках геометрии при решении задач, связанных с окружностью, обычно указывают, чему равен радиус окружности. А вот на технических чертежах и эскизах обязательно наносят диаметры окружностей, а не радиусы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ете ли вы объяснить причину этого яв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9162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ящике лежат разноцветные ша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5-бел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2-крас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0-чер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кое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наименьшее числ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шариков надо вынуть из ящика, не заглядывая внутрь, чтобы среди них оказалось обязательн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хотя бы по одному шарику всех указанных цветов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5" action="ppaction://hlinksldjump"/>
          </p:cNvPr>
          <p:cNvSpPr/>
          <p:nvPr/>
        </p:nvSpPr>
        <p:spPr>
          <a:xfrm>
            <a:off x="6948360" y="6093000"/>
            <a:ext cx="2016360" cy="431640"/>
          </a:xfrm>
          <a:custGeom>
            <a:avLst/>
            <a:gdLst>
              <a:gd name="textAreaLeft" fmla="*/ 27720 w 2016360"/>
              <a:gd name="textAreaRight" fmla="*/ 1988640 w 201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36" h="21600">
                <a:moveTo>
                  <a:pt x="0" y="0"/>
                </a:moveTo>
                <a:lnTo>
                  <a:pt x="100836" y="0"/>
                </a:lnTo>
                <a:lnTo>
                  <a:pt x="100836" y="21600"/>
                </a:lnTo>
                <a:lnTo>
                  <a:pt x="0" y="21600"/>
                </a:lnTo>
                <a:close/>
              </a:path>
              <a:path fill="lightenLess" w="100836" h="21600">
                <a:moveTo>
                  <a:pt x="0" y="0"/>
                </a:moveTo>
                <a:lnTo>
                  <a:pt x="100836" y="0"/>
                </a:lnTo>
                <a:lnTo>
                  <a:pt x="99436" y="1400"/>
                </a:lnTo>
                <a:lnTo>
                  <a:pt x="1400" y="1400"/>
                </a:lnTo>
                <a:close/>
              </a:path>
              <a:path fill="darken" w="100836" h="21600">
                <a:moveTo>
                  <a:pt x="100836" y="0"/>
                </a:moveTo>
                <a:lnTo>
                  <a:pt x="100836" y="21600"/>
                </a:lnTo>
                <a:lnTo>
                  <a:pt x="99436" y="20200"/>
                </a:lnTo>
                <a:lnTo>
                  <a:pt x="99436" y="1400"/>
                </a:lnTo>
                <a:close/>
              </a:path>
              <a:path fill="darkenLess" w="100836" h="21600">
                <a:moveTo>
                  <a:pt x="100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36" y="20200"/>
                </a:lnTo>
                <a:close/>
              </a:path>
              <a:path fill="lighten" w="100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125360"/>
            <a:ext cx="8351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тематик, оказавшись случайно в небольшом городке и желая хоть как-то убить время, решил подстрич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городке имелось всего лишь два мастера (у каждого из них своя парикмахерска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глянув к одному мастеру, математик увидел, что в салоне грязно, сам мастер одет неряшливо и небрежно подстри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салоне другого мастера было чисто, а владелец его безукоризненно одет и аккуратно подстри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размыслив, математик отправился стричься к первому парикмахер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важаемые знатоки! Не можете ли вы объяснить причину столь странного, на первый взгляд, решения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151128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54936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План проведения веч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стный журнал «Математическое путешествие в мир  гармо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«Клуб знатоков» - 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онкурс « Мисс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-1 и 1/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052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2133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 января 2101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19890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19- д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91628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ельзя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сота уровня воды будет  1000000 дм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000000дм² = 1 дм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184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жно взять тело, вес которого вы знаете на Земле и пружинные весы - динамо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836640"/>
            <a:ext cx="69850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ри вычерчивании окружности надо знать  её ради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 в готовой детали проще замерять   диаметр 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оме того большинство    отверстий получают путем сверления, а для   этого надо знать диаметр сверла, а не его радиус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836640"/>
            <a:ext cx="60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20 + 12 + 1 = 33  шар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836640"/>
            <a:ext cx="72010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скольку в городе лишь два парикмахера,  каждый мастер вынужден стричься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Математик выбрал того из мастеров, кто луч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дстриг своего конкур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836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1125360"/>
            <a:ext cx="64818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ользуемый 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я, рисунки:       http://images.yandex.ru/yandsearch?text=%D0%B7%D0%B0%D0%BD%D0%B8%D0%BC%D0%B0%D1%82%D0%B5%D0%BB%D1%8C%D0%BD%D0%B0%D1%8F%20%D0%BC%D0%B0%D1%82%D0%B5%D0%BC%D0%B0%D1%82%D0%B8%D0%BA%D0%B0%2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1%81%D0%B8%D0%BC%D0%BC%D0%B5%D1%82%D1%80%D0%B8%D1%8F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0%BC%D0%B0%D1%82%D0%B5%D0%BC%D0%B0%D1%82%D0%B8%D0%BA%D0%B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413000"/>
            <a:ext cx="8640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Явления всей Вселенной подчинены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еделенным числовым соотнош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Число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это закон и связь мир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 сила, царящая над богами и смер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упорядочивается в соответствии с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 слышите звуки музыки. Благозвучные, гармоничные аккорды не случа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ажнейшие, гармонично звучащие музыкальные интервалы могут быть получены при помощи отношений чисел 1, 2, 3,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260280"/>
            <a:ext cx="849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исловая гармония мира проявляется, например, и в том, как покрывается плоскость правильными многоугольниками. Было установлено, что возможны только три случая таких покры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именно: вокруг одной точки плоскости можно плотно уложи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и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ести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637000"/>
            <a:ext cx="720720" cy="64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3284640"/>
            <a:ext cx="720720" cy="64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284640"/>
            <a:ext cx="72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2637000"/>
            <a:ext cx="720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4211640" y="494136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85128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7200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551664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445000"/>
            <a:ext cx="14256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213000"/>
            <a:ext cx="1429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7162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76000">
            <a:off x="971640" y="2997000"/>
            <a:ext cx="1079280" cy="863280"/>
          </a:xfrm>
          <a:prstGeom prst="hexagon">
            <a:avLst>
              <a:gd name="adj" fmla="val 312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6000">
            <a:off x="147600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76000">
            <a:off x="53928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20500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60280"/>
            <a:ext cx="52563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построения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звездчатого многоугольник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пользо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ледующим свой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</a:rPr>
              <a:t>каждая из его пяти линий делит каждую другую в крайнем и среднем отношени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. е. 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еньший отрезок АС относится к большему СВ, как  этот больший к целому отрезку АВ.  АС :СВ=СВ: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Это соотношени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последствии назвали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золотым сечение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3284640"/>
            <a:ext cx="820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олотым же сечение названо потому, что, где оно присутствует, ощущается красота и гармония. Пропорции хорошо сложенного человека подчиняются законам золотого сечения, что особенно заметно на примере золотой божественной пропорции в живоп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1368720" cy="120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592360" cy="191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96000" y="2421000"/>
            <a:ext cx="2521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48360" y="141264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278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С :СВ=СВ: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493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только пропорциями определяются законы гармо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основе красоты многих форм, существующих в прир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жит, например,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чти все живые существа построены по законам симметрии.                / переводе с греческого слов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означает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оразмерност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21715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3384720" cy="298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771640" y="3860640"/>
            <a:ext cx="22860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476280"/>
            <a:ext cx="5041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ред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вет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например, наблюдается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оворотн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Многие цветы можно повернуть так, что каждый лепесток займет положение соседнего, цветок совместится сам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расположени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листьев на стебл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растений наблюд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нтов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Располагаясь  винтом по стеблю, листья как бы раскидываются в разные стороны и не заслоняют друг друга от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2232000" cy="197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2457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ивительна  симметрия и в ограненных драгоценных камнях. Многие гранильщики стараются придать бриллиантам форму тетраэдра, куба, октаэдра или икосаэдра. Но эти замечательные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ел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еще и потому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расив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что в основе их пропорциональных линий лежи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олото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40000" y="765000"/>
            <a:ext cx="158112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64000" y="692280"/>
            <a:ext cx="12290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659640" y="115920"/>
            <a:ext cx="224784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692360" y="3933720"/>
            <a:ext cx="192384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564000" y="5157720"/>
            <a:ext cx="15620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5076720" y="378936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9280" y="515772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ериоди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–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кон гармо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иодические колебания  бесконечно разнообразны. Некоторые из них описываются тригонометрическими функц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екрасны, бегущая волна, повторяющиеся соловьиные тр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285768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311640" cy="20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3673440" cy="3422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93080" y="2637000"/>
            <a:ext cx="18493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4:36:34Z</dcterms:created>
  <dc:creator>Информатика</dc:creator>
  <dc:description/>
  <dc:language>en-US</dc:language>
  <cp:lastModifiedBy>Информатика</cp:lastModifiedBy>
  <dcterms:modified xsi:type="dcterms:W3CDTF">2012-11-19T06:08:14Z</dcterms:modified>
  <cp:revision>10</cp:revision>
  <dc:subject/>
  <dc:title>Слайд 1</dc:title>
</cp:coreProperties>
</file>