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7044-11D7-4077-A453-D72E75A6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41C-623D-4C21-82A8-F97165AC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99C1-66A5-42B9-A246-D69520E8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91EC-C933-4D4E-87ED-A0FC5357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8C9-EC2F-44E1-8113-B3396BF1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768B-A6D0-4B42-9DC7-B8596E43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B827-FD94-49B7-BDB1-068C5401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866-B69B-4E90-AFEF-4DED5572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74E5-67B8-4DE1-B724-3CBCA607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D92F-056C-44C0-A8D3-1D9E34AB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94FF-6761-4940-80CD-2E567088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6AE8-1B17-4F1F-BFA6-E3556030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906C-FAD0-4032-B850-A28598780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6.xml"/><Relationship Id="rId11" Type="http://schemas.openxmlformats.org/officeDocument/2006/relationships/slide" Target="slide17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" Target="slide20.xml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0.jpeg"/><Relationship Id="rId5" Type="http://schemas.openxmlformats.org/officeDocument/2006/relationships/slide" Target="slide21.xml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0.jpeg"/><Relationship Id="rId5" Type="http://schemas.openxmlformats.org/officeDocument/2006/relationships/slide" Target="slide22.xml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0.jpeg"/><Relationship Id="rId5" Type="http://schemas.openxmlformats.org/officeDocument/2006/relationships/slide" Target="slide23.xml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0.jpeg"/><Relationship Id="rId5" Type="http://schemas.openxmlformats.org/officeDocument/2006/relationships/slide" Target="slide24.xml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0.jpeg"/><Relationship Id="rId5" Type="http://schemas.openxmlformats.org/officeDocument/2006/relationships/slide" Target="slide25.xml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0.jpeg"/><Relationship Id="rId5" Type="http://schemas.openxmlformats.org/officeDocument/2006/relationships/slide" Target="slide26.xml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0.jpeg"/><Relationship Id="rId5" Type="http://schemas.openxmlformats.org/officeDocument/2006/relationships/slide" Target="slide27.xml"/><Relationship Id="rId6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0.jpeg"/><Relationship Id="rId5" Type="http://schemas.openxmlformats.org/officeDocument/2006/relationships/slide" Target="slide28.xml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5640" y="549360"/>
            <a:ext cx="7848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атематический вечер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ля старшеклассников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335772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Автор – </a:t>
            </a:r>
            <a:r>
              <a:rPr b="1" lang="en-US" sz="1600" spc="-1" strike="noStrike">
                <a:solidFill>
                  <a:srgbClr val="996633"/>
                </a:solidFill>
                <a:latin typeface="Arial"/>
              </a:rPr>
              <a:t>учитель математики  </a:t>
            </a: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Фомичева Нин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5157720"/>
            <a:ext cx="396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МБОУ «СОШ №17»  г.Новомосковск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Туль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940360" y="3789360"/>
            <a:ext cx="2916360" cy="218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04000" y="4149720"/>
            <a:ext cx="14652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2771640" y="404640"/>
            <a:ext cx="5977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гра  "Клуб  знатоков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444760" cy="1833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588000" y="1268280"/>
            <a:ext cx="2152800" cy="1428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8360" y="2708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429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41497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49417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57340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35280" y="2708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35280" y="3429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35280" y="4221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5013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48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4" action="ppaction://hlinksldjump"/>
          </p:cNvPr>
          <p:cNvSpPr/>
          <p:nvPr/>
        </p:nvSpPr>
        <p:spPr>
          <a:xfrm>
            <a:off x="7308720" y="6237360"/>
            <a:ext cx="1584360" cy="431640"/>
          </a:xfrm>
          <a:custGeom>
            <a:avLst/>
            <a:gdLst>
              <a:gd name="textAreaLeft" fmla="*/ 27720 w 1584360"/>
              <a:gd name="textAreaRight" fmla="*/ 1556640 w 1584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9236" h="21600">
                <a:moveTo>
                  <a:pt x="0" y="0"/>
                </a:moveTo>
                <a:lnTo>
                  <a:pt x="79236" y="0"/>
                </a:lnTo>
                <a:lnTo>
                  <a:pt x="79236" y="21600"/>
                </a:lnTo>
                <a:lnTo>
                  <a:pt x="0" y="21600"/>
                </a:lnTo>
                <a:close/>
              </a:path>
              <a:path fill="lightenLess" w="79236" h="21600">
                <a:moveTo>
                  <a:pt x="0" y="0"/>
                </a:moveTo>
                <a:lnTo>
                  <a:pt x="79236" y="0"/>
                </a:lnTo>
                <a:lnTo>
                  <a:pt x="77836" y="1400"/>
                </a:lnTo>
                <a:lnTo>
                  <a:pt x="1400" y="1400"/>
                </a:lnTo>
                <a:close/>
              </a:path>
              <a:path fill="darken" w="79236" h="21600">
                <a:moveTo>
                  <a:pt x="79236" y="0"/>
                </a:moveTo>
                <a:lnTo>
                  <a:pt x="79236" y="21600"/>
                </a:lnTo>
                <a:lnTo>
                  <a:pt x="77836" y="20200"/>
                </a:lnTo>
                <a:lnTo>
                  <a:pt x="77836" y="1400"/>
                </a:lnTo>
                <a:close/>
              </a:path>
              <a:path fill="darkenLess" w="79236" h="21600">
                <a:moveTo>
                  <a:pt x="79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836" y="20200"/>
                </a:lnTo>
                <a:close/>
              </a:path>
              <a:path fill="lighten" w="79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256536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апишите, пожалуйста, два числа, чтобы их сумма, произведение и частное были равны между соб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826920" y="692280"/>
            <a:ext cx="14288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1428840" cy="128592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rId5" action="ppaction://hlinksldjump"/>
          </p:cNvPr>
          <p:cNvSpPr/>
          <p:nvPr/>
        </p:nvSpPr>
        <p:spPr>
          <a:xfrm>
            <a:off x="7236000" y="6237360"/>
            <a:ext cx="1728720" cy="360360"/>
          </a:xfrm>
          <a:custGeom>
            <a:avLst/>
            <a:gdLst>
              <a:gd name="textAreaLeft" fmla="*/ 23040 w 1728720"/>
              <a:gd name="textAreaRight" fmla="*/ 1705680 w 172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03538" h="21600">
                <a:moveTo>
                  <a:pt x="0" y="0"/>
                </a:moveTo>
                <a:lnTo>
                  <a:pt x="103538" y="0"/>
                </a:lnTo>
                <a:lnTo>
                  <a:pt x="103538" y="21600"/>
                </a:lnTo>
                <a:lnTo>
                  <a:pt x="0" y="21600"/>
                </a:lnTo>
                <a:close/>
              </a:path>
              <a:path fill="lightenLess" w="103538" h="21600">
                <a:moveTo>
                  <a:pt x="0" y="0"/>
                </a:moveTo>
                <a:lnTo>
                  <a:pt x="103538" y="0"/>
                </a:lnTo>
                <a:lnTo>
                  <a:pt x="102138" y="1400"/>
                </a:lnTo>
                <a:lnTo>
                  <a:pt x="1400" y="1400"/>
                </a:lnTo>
                <a:close/>
              </a:path>
              <a:path fill="darken" w="103538" h="21600">
                <a:moveTo>
                  <a:pt x="103538" y="0"/>
                </a:moveTo>
                <a:lnTo>
                  <a:pt x="103538" y="21600"/>
                </a:lnTo>
                <a:lnTo>
                  <a:pt x="102138" y="20200"/>
                </a:lnTo>
                <a:lnTo>
                  <a:pt x="102138" y="1400"/>
                </a:lnTo>
                <a:close/>
              </a:path>
              <a:path fill="darkenLess" w="103538" h="21600">
                <a:moveTo>
                  <a:pt x="10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138" y="20200"/>
                </a:lnTo>
                <a:close/>
              </a:path>
              <a:path fill="lighten" w="10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2205000"/>
            <a:ext cx="784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Газету разорвали на 3 части, потом  одну из них разорвали еще на 3 части и так 40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Сколько получилось частей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64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1428840" cy="128592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rId5" action="ppaction://hlinksldjump"/>
          </p:cNvPr>
          <p:cNvSpPr/>
          <p:nvPr/>
        </p:nvSpPr>
        <p:spPr>
          <a:xfrm>
            <a:off x="7164360" y="6165720"/>
            <a:ext cx="1800360" cy="358920"/>
          </a:xfrm>
          <a:custGeom>
            <a:avLst/>
            <a:gdLst>
              <a:gd name="textAreaLeft" fmla="*/ 23040 w 1800360"/>
              <a:gd name="textAreaRight" fmla="*/ 1777320 w 180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08260" h="21600">
                <a:moveTo>
                  <a:pt x="0" y="0"/>
                </a:moveTo>
                <a:lnTo>
                  <a:pt x="108260" y="0"/>
                </a:lnTo>
                <a:lnTo>
                  <a:pt x="108260" y="21600"/>
                </a:lnTo>
                <a:lnTo>
                  <a:pt x="0" y="21600"/>
                </a:lnTo>
                <a:close/>
              </a:path>
              <a:path fill="lightenLess" w="108260" h="21600">
                <a:moveTo>
                  <a:pt x="0" y="0"/>
                </a:moveTo>
                <a:lnTo>
                  <a:pt x="108260" y="0"/>
                </a:lnTo>
                <a:lnTo>
                  <a:pt x="106860" y="1400"/>
                </a:lnTo>
                <a:lnTo>
                  <a:pt x="1400" y="1400"/>
                </a:lnTo>
                <a:close/>
              </a:path>
              <a:path fill="darken" w="108260" h="21600">
                <a:moveTo>
                  <a:pt x="108260" y="0"/>
                </a:moveTo>
                <a:lnTo>
                  <a:pt x="108260" y="21600"/>
                </a:lnTo>
                <a:lnTo>
                  <a:pt x="106860" y="20200"/>
                </a:lnTo>
                <a:lnTo>
                  <a:pt x="106860" y="1400"/>
                </a:lnTo>
                <a:close/>
              </a:path>
              <a:path fill="darkenLess" w="108260" h="21600">
                <a:moveTo>
                  <a:pt x="108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860" y="20200"/>
                </a:lnTo>
                <a:close/>
              </a:path>
              <a:path fill="lighten" w="108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2276640"/>
            <a:ext cx="734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Уважаемые знаток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е могли бы, вы, точно сообщить, когда начнется 22 ве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72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250920" y="333360"/>
            <a:ext cx="1428480" cy="128592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rId5" action="ppaction://hlinksldjump"/>
          </p:cNvPr>
          <p:cNvSpPr/>
          <p:nvPr/>
        </p:nvSpPr>
        <p:spPr>
          <a:xfrm>
            <a:off x="7093080" y="6237360"/>
            <a:ext cx="1800000" cy="360360"/>
          </a:xfrm>
          <a:custGeom>
            <a:avLst/>
            <a:gdLst>
              <a:gd name="textAreaLeft" fmla="*/ 23040 w 1800000"/>
              <a:gd name="textAreaRight" fmla="*/ 1776960 w 18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07806" h="21600">
                <a:moveTo>
                  <a:pt x="0" y="0"/>
                </a:moveTo>
                <a:lnTo>
                  <a:pt x="107806" y="0"/>
                </a:lnTo>
                <a:lnTo>
                  <a:pt x="107806" y="21600"/>
                </a:lnTo>
                <a:lnTo>
                  <a:pt x="0" y="21600"/>
                </a:lnTo>
                <a:close/>
              </a:path>
              <a:path fill="lightenLess" w="107806" h="21600">
                <a:moveTo>
                  <a:pt x="0" y="0"/>
                </a:moveTo>
                <a:lnTo>
                  <a:pt x="107806" y="0"/>
                </a:lnTo>
                <a:lnTo>
                  <a:pt x="106406" y="1400"/>
                </a:lnTo>
                <a:lnTo>
                  <a:pt x="1400" y="1400"/>
                </a:lnTo>
                <a:close/>
              </a:path>
              <a:path fill="darken" w="107806" h="21600">
                <a:moveTo>
                  <a:pt x="107806" y="0"/>
                </a:moveTo>
                <a:lnTo>
                  <a:pt x="107806" y="21600"/>
                </a:lnTo>
                <a:lnTo>
                  <a:pt x="106406" y="20200"/>
                </a:lnTo>
                <a:lnTo>
                  <a:pt x="106406" y="1400"/>
                </a:lnTo>
                <a:close/>
              </a:path>
              <a:path fill="darkenLess" w="107806" h="21600">
                <a:moveTo>
                  <a:pt x="107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06" y="20200"/>
                </a:lnTo>
                <a:close/>
              </a:path>
              <a:path fill="lighten" w="107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13372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 озере росли лилии. Каждый день их число удваивалось. На 20-й день заросло все озе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а какой день заросла половина озер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80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1428480" cy="128592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rId5" action="ppaction://hlinksldjump"/>
          </p:cNvPr>
          <p:cNvSpPr/>
          <p:nvPr/>
        </p:nvSpPr>
        <p:spPr>
          <a:xfrm>
            <a:off x="7093080" y="6165720"/>
            <a:ext cx="1871640" cy="358920"/>
          </a:xfrm>
          <a:custGeom>
            <a:avLst/>
            <a:gdLst>
              <a:gd name="textAreaLeft" fmla="*/ 23040 w 1871640"/>
              <a:gd name="textAreaRight" fmla="*/ 1848600 w 187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12545" h="21600">
                <a:moveTo>
                  <a:pt x="0" y="0"/>
                </a:moveTo>
                <a:lnTo>
                  <a:pt x="112545" y="0"/>
                </a:lnTo>
                <a:lnTo>
                  <a:pt x="112545" y="21600"/>
                </a:lnTo>
                <a:lnTo>
                  <a:pt x="0" y="21600"/>
                </a:lnTo>
                <a:close/>
              </a:path>
              <a:path fill="lightenLess" w="112545" h="21600">
                <a:moveTo>
                  <a:pt x="0" y="0"/>
                </a:moveTo>
                <a:lnTo>
                  <a:pt x="112545" y="0"/>
                </a:lnTo>
                <a:lnTo>
                  <a:pt x="111145" y="1400"/>
                </a:lnTo>
                <a:lnTo>
                  <a:pt x="1400" y="1400"/>
                </a:lnTo>
                <a:close/>
              </a:path>
              <a:path fill="darken" w="112545" h="21600">
                <a:moveTo>
                  <a:pt x="112545" y="0"/>
                </a:moveTo>
                <a:lnTo>
                  <a:pt x="112545" y="21600"/>
                </a:lnTo>
                <a:lnTo>
                  <a:pt x="111145" y="20200"/>
                </a:lnTo>
                <a:lnTo>
                  <a:pt x="111145" y="1400"/>
                </a:lnTo>
                <a:close/>
              </a:path>
              <a:path fill="darkenLess" w="112545" h="21600">
                <a:moveTo>
                  <a:pt x="112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145" y="20200"/>
                </a:lnTo>
                <a:close/>
              </a:path>
              <a:path fill="lighten" w="112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16000" y="2133720"/>
            <a:ext cx="676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 бассейн с горизонтальным дном площадью 1 га содержится миллион литров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ожно ли в этом бассейне проводить соревнования по плавани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88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324000" y="404640"/>
            <a:ext cx="1428480" cy="128592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rId5" action="ppaction://hlinksldjump"/>
          </p:cNvPr>
          <p:cNvSpPr/>
          <p:nvPr/>
        </p:nvSpPr>
        <p:spPr>
          <a:xfrm>
            <a:off x="6948360" y="6165720"/>
            <a:ext cx="1944720" cy="358920"/>
          </a:xfrm>
          <a:custGeom>
            <a:avLst/>
            <a:gdLst>
              <a:gd name="textAreaLeft" fmla="*/ 23040 w 1944720"/>
              <a:gd name="textAreaRight" fmla="*/ 1921680 w 1944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16939" h="21600">
                <a:moveTo>
                  <a:pt x="0" y="0"/>
                </a:moveTo>
                <a:lnTo>
                  <a:pt x="116939" y="0"/>
                </a:lnTo>
                <a:lnTo>
                  <a:pt x="116939" y="21600"/>
                </a:lnTo>
                <a:lnTo>
                  <a:pt x="0" y="21600"/>
                </a:lnTo>
                <a:close/>
              </a:path>
              <a:path fill="lightenLess" w="116939" h="21600">
                <a:moveTo>
                  <a:pt x="0" y="0"/>
                </a:moveTo>
                <a:lnTo>
                  <a:pt x="116939" y="0"/>
                </a:lnTo>
                <a:lnTo>
                  <a:pt x="115539" y="1400"/>
                </a:lnTo>
                <a:lnTo>
                  <a:pt x="1400" y="1400"/>
                </a:lnTo>
                <a:close/>
              </a:path>
              <a:path fill="darken" w="116939" h="21600">
                <a:moveTo>
                  <a:pt x="116939" y="0"/>
                </a:moveTo>
                <a:lnTo>
                  <a:pt x="116939" y="21600"/>
                </a:lnTo>
                <a:lnTo>
                  <a:pt x="115539" y="20200"/>
                </a:lnTo>
                <a:lnTo>
                  <a:pt x="115539" y="1400"/>
                </a:lnTo>
                <a:close/>
              </a:path>
              <a:path fill="darkenLess" w="116939" h="21600">
                <a:moveTo>
                  <a:pt x="116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539" y="20200"/>
                </a:lnTo>
                <a:close/>
              </a:path>
              <a:path fill="lighten" w="116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2060640"/>
            <a:ext cx="7201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звестно, что все тела на Луне в 6 раз легче, чем на Земле. Представьте себе, что вам предложено отправиться на Луну и проверить этот факт эксперимента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Какое оборудование вы возьмете с соб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1428840" cy="128592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rId5" action="ppaction://hlinksldjump"/>
          </p:cNvPr>
          <p:cNvSpPr/>
          <p:nvPr/>
        </p:nvSpPr>
        <p:spPr>
          <a:xfrm>
            <a:off x="6877080" y="6165720"/>
            <a:ext cx="2087640" cy="358920"/>
          </a:xfrm>
          <a:custGeom>
            <a:avLst/>
            <a:gdLst>
              <a:gd name="textAreaLeft" fmla="*/ 23040 w 2087640"/>
              <a:gd name="textAreaRight" fmla="*/ 2064600 w 208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5531" h="21600">
                <a:moveTo>
                  <a:pt x="0" y="0"/>
                </a:moveTo>
                <a:lnTo>
                  <a:pt x="125531" y="0"/>
                </a:lnTo>
                <a:lnTo>
                  <a:pt x="125531" y="21600"/>
                </a:lnTo>
                <a:lnTo>
                  <a:pt x="0" y="21600"/>
                </a:lnTo>
                <a:close/>
              </a:path>
              <a:path fill="lightenLess" w="125531" h="21600">
                <a:moveTo>
                  <a:pt x="0" y="0"/>
                </a:moveTo>
                <a:lnTo>
                  <a:pt x="125531" y="0"/>
                </a:lnTo>
                <a:lnTo>
                  <a:pt x="124131" y="1400"/>
                </a:lnTo>
                <a:lnTo>
                  <a:pt x="1400" y="1400"/>
                </a:lnTo>
                <a:close/>
              </a:path>
              <a:path fill="darken" w="125531" h="21600">
                <a:moveTo>
                  <a:pt x="125531" y="0"/>
                </a:moveTo>
                <a:lnTo>
                  <a:pt x="125531" y="21600"/>
                </a:lnTo>
                <a:lnTo>
                  <a:pt x="124131" y="20200"/>
                </a:lnTo>
                <a:lnTo>
                  <a:pt x="124131" y="1400"/>
                </a:lnTo>
                <a:close/>
              </a:path>
              <a:path fill="darkenLess" w="125531" h="21600">
                <a:moveTo>
                  <a:pt x="125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131" y="20200"/>
                </a:lnTo>
                <a:close/>
              </a:path>
              <a:path fill="lighten" w="125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00000" y="198900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 уроках геометрии при решении задач, связанных с окружностью, обычно указывают, чему равен радиус окружности. А вот на технических чертежах и эскизах обязательно наносят диаметры окружностей, а не радиусы.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ожете ли вы объяснить причину этого явл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04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1428480" cy="128592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rId5" action="ppaction://hlinksldjump"/>
          </p:cNvPr>
          <p:cNvSpPr/>
          <p:nvPr/>
        </p:nvSpPr>
        <p:spPr>
          <a:xfrm>
            <a:off x="6877080" y="6165720"/>
            <a:ext cx="2087640" cy="358920"/>
          </a:xfrm>
          <a:custGeom>
            <a:avLst/>
            <a:gdLst>
              <a:gd name="textAreaLeft" fmla="*/ 23040 w 2087640"/>
              <a:gd name="textAreaRight" fmla="*/ 2064600 w 208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5531" h="21600">
                <a:moveTo>
                  <a:pt x="0" y="0"/>
                </a:moveTo>
                <a:lnTo>
                  <a:pt x="125531" y="0"/>
                </a:lnTo>
                <a:lnTo>
                  <a:pt x="125531" y="21600"/>
                </a:lnTo>
                <a:lnTo>
                  <a:pt x="0" y="21600"/>
                </a:lnTo>
                <a:close/>
              </a:path>
              <a:path fill="lightenLess" w="125531" h="21600">
                <a:moveTo>
                  <a:pt x="0" y="0"/>
                </a:moveTo>
                <a:lnTo>
                  <a:pt x="125531" y="0"/>
                </a:lnTo>
                <a:lnTo>
                  <a:pt x="124131" y="1400"/>
                </a:lnTo>
                <a:lnTo>
                  <a:pt x="1400" y="1400"/>
                </a:lnTo>
                <a:close/>
              </a:path>
              <a:path fill="darken" w="125531" h="21600">
                <a:moveTo>
                  <a:pt x="125531" y="0"/>
                </a:moveTo>
                <a:lnTo>
                  <a:pt x="125531" y="21600"/>
                </a:lnTo>
                <a:lnTo>
                  <a:pt x="124131" y="20200"/>
                </a:lnTo>
                <a:lnTo>
                  <a:pt x="124131" y="1400"/>
                </a:lnTo>
                <a:close/>
              </a:path>
              <a:path fill="darkenLess" w="125531" h="21600">
                <a:moveTo>
                  <a:pt x="125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131" y="20200"/>
                </a:lnTo>
                <a:close/>
              </a:path>
              <a:path fill="lighten" w="125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191628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 ящике лежат разноцветные шар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5-белых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12-красных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20-черных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акое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наименьшее число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шариков надо вынуть из ящика, не заглядывая внутрь, чтобы среди них оказалось обязательно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хотя бы по одному шарику всех указанных цветов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1428480" cy="128592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rId5" action="ppaction://hlinksldjump"/>
          </p:cNvPr>
          <p:cNvSpPr/>
          <p:nvPr/>
        </p:nvSpPr>
        <p:spPr>
          <a:xfrm>
            <a:off x="6948360" y="6093000"/>
            <a:ext cx="2016360" cy="431640"/>
          </a:xfrm>
          <a:custGeom>
            <a:avLst/>
            <a:gdLst>
              <a:gd name="textAreaLeft" fmla="*/ 27720 w 2016360"/>
              <a:gd name="textAreaRight" fmla="*/ 1988640 w 201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00836" h="21600">
                <a:moveTo>
                  <a:pt x="0" y="0"/>
                </a:moveTo>
                <a:lnTo>
                  <a:pt x="100836" y="0"/>
                </a:lnTo>
                <a:lnTo>
                  <a:pt x="100836" y="21600"/>
                </a:lnTo>
                <a:lnTo>
                  <a:pt x="0" y="21600"/>
                </a:lnTo>
                <a:close/>
              </a:path>
              <a:path fill="lightenLess" w="100836" h="21600">
                <a:moveTo>
                  <a:pt x="0" y="0"/>
                </a:moveTo>
                <a:lnTo>
                  <a:pt x="100836" y="0"/>
                </a:lnTo>
                <a:lnTo>
                  <a:pt x="99436" y="1400"/>
                </a:lnTo>
                <a:lnTo>
                  <a:pt x="1400" y="1400"/>
                </a:lnTo>
                <a:close/>
              </a:path>
              <a:path fill="darken" w="100836" h="21600">
                <a:moveTo>
                  <a:pt x="100836" y="0"/>
                </a:moveTo>
                <a:lnTo>
                  <a:pt x="100836" y="21600"/>
                </a:lnTo>
                <a:lnTo>
                  <a:pt x="99436" y="20200"/>
                </a:lnTo>
                <a:lnTo>
                  <a:pt x="99436" y="1400"/>
                </a:lnTo>
                <a:close/>
              </a:path>
              <a:path fill="darkenLess" w="100836" h="21600">
                <a:moveTo>
                  <a:pt x="100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436" y="20200"/>
                </a:lnTo>
                <a:close/>
              </a:path>
              <a:path fill="lighten" w="100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1125360"/>
            <a:ext cx="835164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атематик, оказавшись случайно в небольшом городке и желая хоть как-то убить время, решил подстрич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 городке имелось всего лишь два мастера (у каждого из них своя парикмахерска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Заглянув к одному мастеру, математик увидел, что в салоне грязно, сам мастер одет неряшливо и небрежно подстриж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 салоне другого мастера было чисто, а владелец его безукоризненно одет и аккуратно подстриж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размыслив, математик отправился стричься к первому парикмахер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Уважаемые знатоки! Не можете ли вы объяснить причину столь странного, на первый взгляд, решения 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940360" y="3789360"/>
            <a:ext cx="2916360" cy="218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588000" y="4292640"/>
            <a:ext cx="1511280" cy="1189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8000" y="54936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1800" spc="-1" strike="noStrike">
                <a:solidFill>
                  <a:srgbClr val="009900"/>
                </a:solidFill>
                <a:latin typeface="Arial"/>
              </a:rPr>
              <a:t>План проведения веч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.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Устный журнал «Математическое путешествие в мир  гармо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I.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«Клуб знатоков» - иг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II.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Конкурс « Мисс Математ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04000" y="260280"/>
            <a:ext cx="1584360" cy="118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24000" y="2637000"/>
            <a:ext cx="2619360" cy="1742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39640" y="47242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55640" y="836640"/>
            <a:ext cx="604836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-1 и 1/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24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47640" y="1052640"/>
            <a:ext cx="63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836640"/>
            <a:ext cx="604836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8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836640"/>
            <a:ext cx="60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0" y="2133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 января 2101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836640"/>
            <a:ext cx="604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63640" y="198900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а 19- ден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836640"/>
            <a:ext cx="604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191628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ельзя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ысота уровня воды будет  1000000 дм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              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000000дм² = 1 дм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48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836640"/>
            <a:ext cx="60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87280" y="1844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ужно взять тело, вес которого вы знаете на Земле и пружинные весы - динамомет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54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5640" y="836640"/>
            <a:ext cx="698508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При вычерчивании окружности надо знать  её радиу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а в готовой детали проще замерять   диаметр окруж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Кроме того большинство    отверстий получают путем сверления, а для   этого надо знать диаметр сверла, а не его радиус.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836640"/>
            <a:ext cx="604836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20 + 12 + 1 = 33  шар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5640" y="836640"/>
            <a:ext cx="7201080" cy="29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Поскольку в городе лишь два парикмахера,  каждый мастер вынужден стричься у друг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Математик выбрал того из мастеров, кто лучш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                      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подстриг своего конкурен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69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55640" y="836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58920" y="1125360"/>
            <a:ext cx="648180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ользуемый матери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я, рисунки:       http://images.yandex.ru/yandsearch?text=%D0%B7%D0%B0%D0%BD%D0%B8%D0%BC%D0%B0%D1%82%D0%B5%D0%BB%D1%8C%D0%BD%D0%B0%D1%8F%20%D0%BC%D0%B0%D1%82%D0%B5%D0%BC%D0%B0%D1%82%D0%B8%D0%BA%D0%B0%20-%D0%BA%D0%B0%D1%80%D1%82%D0%B8%D0%BD%D0%BA%D0%B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ages.yandex.ru/yandsearch?text=%D1%81%D0%B8%D0%BC%D0%BC%D0%B5%D1%82%D1%80%D0%B8%D1%8F-%D0%BA%D0%B0%D1%80%D1%82%D0%B8%D0%BD%D0%BA%D0%B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ages.yandex.ru/yandsearch?text=%D0%BC%D0%B0%D1%82%D0%B5%D0%BC%D0%B0%D1%82%D0%B8%D0%BA%D0%B0-%D0%BA%D0%B0%D1%80%D1%82%D0%B8%D0%BD%D0%BA%D0%B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1413000"/>
            <a:ext cx="864072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Явления всей Вселенной подчинены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пределенным числовым соотнош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Число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это закон и связь мир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 сила, царящая над богами и смерт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се упорядочивается в соответствии с числ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ы слышите звуки музыки. Благозвучные, гармоничные аккорды не случа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ажнейшие, гармонично звучащие музыкальные интервалы могут быть получены при помощи отношений чисел 1, 2, 3,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260280"/>
            <a:ext cx="8496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Числовая гармония мира проявляется, например, и в том, как покрывается плоскость правильными многоугольниками. Было установлено, что возможны только три случая таких покры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А именно: вокруг одной точки плоскости можно плотно уложит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ри прави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шестиугольн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 прави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реуг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360" y="2637000"/>
            <a:ext cx="720720" cy="647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77080" y="3284640"/>
            <a:ext cx="720720" cy="647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56360" y="3284640"/>
            <a:ext cx="720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7080" y="2637000"/>
            <a:ext cx="72072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4211640" y="4941360"/>
            <a:ext cx="720720" cy="5763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51280" y="4941720"/>
            <a:ext cx="720720" cy="5763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4941720"/>
            <a:ext cx="720720" cy="57636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0800000">
            <a:off x="3851280" y="5516280"/>
            <a:ext cx="720720" cy="576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4572000" y="5516280"/>
            <a:ext cx="720720" cy="576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1640" y="5516640"/>
            <a:ext cx="720720" cy="576360"/>
          </a:xfrm>
          <a:prstGeom prst="triangle">
            <a:avLst>
              <a:gd name="adj" fmla="val 50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00720" y="5445000"/>
            <a:ext cx="142560" cy="144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04000" y="3213000"/>
            <a:ext cx="142920" cy="14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32000" y="3716280"/>
            <a:ext cx="142920" cy="14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776000">
            <a:off x="971640" y="2997000"/>
            <a:ext cx="1079280" cy="863280"/>
          </a:xfrm>
          <a:prstGeom prst="hexagon">
            <a:avLst>
              <a:gd name="adj" fmla="val 3125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776000">
            <a:off x="1476000" y="3789360"/>
            <a:ext cx="1079640" cy="863640"/>
          </a:xfrm>
          <a:prstGeom prst="hexagon">
            <a:avLst>
              <a:gd name="adj" fmla="val 3125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776000">
            <a:off x="539280" y="3789360"/>
            <a:ext cx="1079640" cy="863640"/>
          </a:xfrm>
          <a:prstGeom prst="hexagon">
            <a:avLst>
              <a:gd name="adj" fmla="val 3125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80000" y="220500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ямо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9280" y="260280"/>
            <a:ext cx="525636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ля построения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звездчатого многоугольник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пользовал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ледующим свой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6633"/>
                </a:solidFill>
                <a:uFillTx/>
                <a:latin typeface="Arial"/>
              </a:rPr>
              <a:t>каждая из его пяти линий делит каждую другую в крайнем и среднем отношении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т. е. </a:t>
            </a: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меньший отрезок АС относится к большему СВ, как  этот больший к целому отрезку АВ.  АС :СВ=СВ:А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Это соотношение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впоследствии назвали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золотым сечением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3284640"/>
            <a:ext cx="8209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Золотым же сечение названо потому, что, где оно присутствует, ощущается красота и гармония. Пропорции хорошо сложенного человека подчиняются законам золотого сечения, что особенно заметно на примере золотой божественной пропорции в живопис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003640" y="189000"/>
            <a:ext cx="1368720" cy="1208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0920" y="4508640"/>
            <a:ext cx="2592360" cy="1915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96000" y="2421000"/>
            <a:ext cx="2521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96000" y="2349360"/>
            <a:ext cx="7128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59640" y="2349360"/>
            <a:ext cx="7128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44000" y="2349360"/>
            <a:ext cx="7128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51640" y="19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43640" y="19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28000" y="19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6948360" y="1412640"/>
            <a:ext cx="216000" cy="2521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6000" y="2781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АС :СВ=СВ: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549360"/>
            <a:ext cx="89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е только пропорциями определяются законы гармо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 основе красоты многих форм, существующих в природ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лежит, например, </a:t>
            </a:r>
            <a:r>
              <a:rPr b="1" i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симмет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чти все живые существа построены по законам симметрии.                / переводе с греческого слово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симметрия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означает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соразмерность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68360" y="2205000"/>
            <a:ext cx="2171520" cy="2808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79280" y="2060640"/>
            <a:ext cx="3384720" cy="2984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3708360" y="2133720"/>
            <a:ext cx="3672000" cy="2868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2771640" y="3860640"/>
            <a:ext cx="22860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51280" y="476280"/>
            <a:ext cx="50418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реди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цветов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например, наблюдается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поворотная симметрия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 Многие цветы можно повернуть так, что каждый лепесток займет положение соседнего, цветок совместится сам с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 расположении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листьев на стеблях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растений наблюдается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интовая симметрия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 Располагаясь  винтом по стеблю, листья как бы раскидываются в разные стороны и не заслоняют друг друга от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84360" y="620640"/>
            <a:ext cx="2232000" cy="1970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84360" y="3068640"/>
            <a:ext cx="2457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220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Удивительна  симметрия и в ограненных драгоценных камнях. Многие гранильщики стараются придать бриллиантам форму тетраэдра, куба, октаэдра или икосаэдра. Но эти замечательные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тел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еще и потому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красивы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что в основе их пропорциональных линий лежит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золото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5520" y="46080"/>
            <a:ext cx="2162160" cy="1428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340000" y="765000"/>
            <a:ext cx="1581120" cy="1428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364000" y="692280"/>
            <a:ext cx="1229040" cy="1428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6659640" y="115920"/>
            <a:ext cx="2247840" cy="1428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692360" y="3933720"/>
            <a:ext cx="192384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3564000" y="5157720"/>
            <a:ext cx="156204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5076720" y="3789360"/>
            <a:ext cx="1981440" cy="1428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179280" y="5157720"/>
            <a:ext cx="1362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1413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ериодич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–е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закон гармон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ериодические колебания  бесконечно разнообразны. Некоторые из них описываются тригонометрическими функци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02136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прекрасны, бегущая волна, повторяющиеся соловьиные тр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2857680" cy="857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3311640" cy="20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95280" y="2637000"/>
            <a:ext cx="3673440" cy="3422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093080" y="2637000"/>
            <a:ext cx="184932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4:36:34Z</dcterms:created>
  <dc:creator>Информатика</dc:creator>
  <dc:description/>
  <dc:language>en-US</dc:language>
  <cp:lastModifiedBy>Информатика</cp:lastModifiedBy>
  <dcterms:modified xsi:type="dcterms:W3CDTF">2012-11-19T06:08:14Z</dcterms:modified>
  <cp:revision>10</cp:revision>
  <dc:subject/>
  <dc:title>Слайд 1</dc:title>
</cp:coreProperties>
</file>