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2CC-5BCF-41CF-8BDF-3DE2D53A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B2D-C552-4190-AF2E-B7D34490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C59-E13B-496D-9361-9B655640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215-7F95-477D-BF56-8D971DC4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87E9-FE32-47CB-919F-ABA6815B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9275-1162-4805-AFF8-E16AA40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C05F-8B7B-4E30-BF9C-E5A4F369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129C-BFB4-4F34-9058-59BA29F6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8D78-2A92-4BA4-B4CA-AE18928B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966-8E71-456A-9375-AC88C96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AAF7-0A38-4392-ABCA-DC29DFCA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495-1741-4D88-BF22-ACE936A8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34BC-5907-43F0-8B1A-4233592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B1F2-D796-4A7D-90AE-B68BE40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6579-2372-4535-A6F4-CA1EAE60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7357-B4FC-467D-9694-8E484EB6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76BC-9CB9-4C8C-9DF8-F90343BB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23B-19B2-4BAB-ABEF-D7FE96BD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12B-5292-4F4F-BEF2-4A91FA6D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0C7-C01A-433C-883C-C9465790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7A6-721C-4221-ADBE-2803F586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EAF-D43E-4E4C-9BF7-DAF3D57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A7E-C2DF-4B8F-AF79-45510D6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530-BDFF-4824-A989-71D68A7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50EA-57D9-42CC-A31E-5399B58387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4E09-6173-4D7B-AED4-C778A3A71B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4;&#1072;&#1076;&#1088;&#1072;&#1090;" TargetMode="External"/><Relationship Id="rId2" Type="http://schemas.openxmlformats.org/officeDocument/2006/relationships/hyperlink" Target="http://ru.wikipedia.org/wiki/&#1050;&#1074;&#1072;&#1076;&#1088;&#1072;&#1090;" TargetMode="External"/><Relationship Id="rId3" Type="http://schemas.openxmlformats.org/officeDocument/2006/relationships/hyperlink" Target="http://im7-tub.yandex.net/i?id=12096115-01" TargetMode="External"/><Relationship Id="rId4" Type="http://schemas.openxmlformats.org/officeDocument/2006/relationships/hyperlink" Target="http://im8-tub.yandex.net/i?id=34928717-11" TargetMode="External"/><Relationship Id="rId5" Type="http://schemas.openxmlformats.org/officeDocument/2006/relationships/hyperlink" Target="http://nsc.1september.ru/2004/02/2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Багиянц М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А клас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ихайловс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рдл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4581360"/>
            <a:ext cx="2340000" cy="2060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644400">
            <a:off x="3347640" y="1196640"/>
            <a:ext cx="41166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1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вадр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4464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97" name=""/>
          <p:cNvGraphicFramePr/>
          <p:nvPr/>
        </p:nvGraphicFramePr>
        <p:xfrm>
          <a:off x="900000" y="1989000"/>
          <a:ext cx="7945560" cy="4015080"/>
        </p:xfrm>
        <a:graphic>
          <a:graphicData uri="http://schemas.openxmlformats.org/drawingml/2006/table">
            <a:tbl>
              <a:tblPr/>
              <a:tblGrid>
                <a:gridCol w="4191120"/>
                <a:gridCol w="1879560"/>
                <a:gridCol w="1874880"/>
              </a:tblGrid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= 4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P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619280" y="1916280"/>
                <a:ext cx="41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596360" y="2565360"/>
            <a:ext cx="46980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346800" y="4076640"/>
                <a:ext cx="10684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826920" y="1557360"/>
          <a:ext cx="7921800" cy="4538160"/>
        </p:xfrm>
        <a:graphic>
          <a:graphicData uri="http://schemas.openxmlformats.org/drawingml/2006/table">
            <a:tbl>
              <a:tblPr/>
              <a:tblGrid>
                <a:gridCol w="4178520"/>
                <a:gridCol w="1873800"/>
                <a:gridCol w="1869480"/>
              </a:tblGrid>
              <a:tr h="16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= 4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P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76360" y="1484280"/>
                <a:ext cx="512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24720" y="2133720"/>
            <a:ext cx="469800" cy="422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2637000"/>
            <a:ext cx="2449800" cy="23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50760" y="2152800"/>
            <a:ext cx="131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86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2492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3284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40360" y="522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40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4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: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 = 10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852640"/>
            <a:ext cx="2448000" cy="23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26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01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сыл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im4-tub.yandex.net/i?id=159590343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ru.wikipedia.org/wiki/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im7-tub.yandex.net/i?id=12096115-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im8-tub.yandex.net/i?id=34928717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nsc.1september.ru/2004/02/2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fun4child.ru/1112-stikhi-po-matematike.-kvadra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polygon2.narod.ru/quadro_15_bl01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sai.msu.su/wm/paint/auth/malevich/sup/malevich.black-squa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irdetok.tomsk.ru/copper/albums/userpics/14069/square-bw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а на свете важная фигура. Важность ее признавалась всеми людьми, так как при изготовлении многих вещей форма ее служила образцом. Кого бы ни встретила она на своем пути, всем хвалилась: "Посмотрите, какой у меня красивый вид: стороны мои все равны, углы все прямые. Красивее меня нет фигуры на свете!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Квадрат- это прямоугольник, у которого все стороны ра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Квадрат- это ромб, у которого все углы пря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2879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ой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5084640"/>
            <a:ext cx="1224000" cy="10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5084640"/>
            <a:ext cx="12225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8000" y="5084280"/>
            <a:ext cx="12240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340000" y="5445000"/>
            <a:ext cx="712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10920" y="5516640"/>
            <a:ext cx="73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626920" y="5732640"/>
            <a:ext cx="7308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55640" y="5661000"/>
            <a:ext cx="73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661000"/>
            <a:ext cx="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73408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551664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5445000"/>
            <a:ext cx="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4360" y="1989000"/>
          <a:ext cx="8006760" cy="4190760"/>
        </p:xfrm>
        <a:graphic>
          <a:graphicData uri="http://schemas.openxmlformats.org/drawingml/2006/table">
            <a:tbl>
              <a:tblPr/>
              <a:tblGrid>
                <a:gridCol w="4003200"/>
                <a:gridCol w="4003560"/>
              </a:tblGrid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Диагонали точкой пересечения делятся попол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Диагонали взаимно перпендикулярн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Диагонали равн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Диагонали делят углы попол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132000" y="2924280"/>
            <a:ext cx="1079640" cy="86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2924280"/>
            <a:ext cx="10796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132000" y="2923920"/>
            <a:ext cx="10796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63640" y="3213000"/>
            <a:ext cx="730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80000" y="3429000"/>
            <a:ext cx="72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8360" y="321300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314172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429000"/>
            <a:ext cx="144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068640"/>
            <a:ext cx="108108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4360" y="3068640"/>
            <a:ext cx="1081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3068640"/>
            <a:ext cx="1081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573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59640" y="3573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43640" y="335736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4941720"/>
            <a:ext cx="115092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941720"/>
            <a:ext cx="115092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76360" y="4941720"/>
            <a:ext cx="115092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076720" y="4941360"/>
            <a:ext cx="216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76720" y="4941720"/>
            <a:ext cx="358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573408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5661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84360" y="566100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940360" y="5516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494172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4941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зна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Если в прямоугольнике диагонали взаимно перпендикулярны, то это- квадр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Если в прямоугольнике диагонали делят углы пополам, то это- квадр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                            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4508640"/>
            <a:ext cx="1511640" cy="151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4437000"/>
            <a:ext cx="165744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15116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47640" y="4508640"/>
            <a:ext cx="15116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23640" y="508464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522936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40000" y="530028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268360" y="5084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4437000"/>
            <a:ext cx="165744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35640" y="4436640"/>
            <a:ext cx="165744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587700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5734080"/>
            <a:ext cx="288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435640" y="4436640"/>
            <a:ext cx="14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35640" y="4437000"/>
            <a:ext cx="288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437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4437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877080" y="5877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732360" y="573408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35280" y="4724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72428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5661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5661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вадрат в жиз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 rot="393000">
            <a:off x="324000" y="1557000"/>
            <a:ext cx="213660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rot="21314400">
            <a:off x="2916360" y="4581360"/>
            <a:ext cx="2447640" cy="2030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 rot="21123600">
            <a:off x="5866920" y="2349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 rot="600600">
            <a:off x="2842920" y="1628640"/>
            <a:ext cx="2449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тересные фак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адрат обладает наибольшей симметрией среди всех четырёхугольников. Он име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у ось симметрии четвёртого порядка (ось, перпендикулярная плоскости квадрата и проходящая через его центр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тыре оси симметрии второго порядка (что для плоской фигуры эквивалентно отражениям), из которых две проходят вдоль диагоналей квадрата, а другие две — параллельно сторо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39120" y="5281560"/>
            <a:ext cx="16048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20896800">
            <a:off x="6227280" y="2060280"/>
            <a:ext cx="2070360" cy="3139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00000" y="227664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шёл из школы старший б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спичек выложил 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а мне мама шокол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дольку отломил - 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стол -квадрат, и стул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а стене плакат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ска, где шахматы сто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клетка каждая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оят там кони и сло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гуры бое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ВАДРАТ - четыре сторо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стороны его рав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все углы пря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орму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8000" y="1700280"/>
                <a:ext cx="579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4917960" y="1905120"/>
          <a:ext cx="3927600" cy="20192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332000" y="18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924280"/>
            <a:ext cx="22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а квадра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24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184464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4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242100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- периме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292428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- сторона квад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9640" y="1844640"/>
          <a:ext cx="3927600" cy="20192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12:39Z</dcterms:created>
  <dc:creator>1</dc:creator>
  <dc:description/>
  <dc:language>en-US</dc:language>
  <cp:lastModifiedBy>HOME</cp:lastModifiedBy>
  <dcterms:modified xsi:type="dcterms:W3CDTF">2011-02-08T19:51:28Z</dcterms:modified>
  <cp:revision>10</cp:revision>
  <dc:subject/>
  <dc:title>Квадрат</dc:title>
</cp:coreProperties>
</file>