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9BB8-70B2-4B58-9BEE-42D97D0C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F0C-A461-4FFC-8853-A45A1059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10CA-826B-4826-B583-83196487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1272-03D8-41D1-966B-00929B8B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CC3B-7B9E-4FF7-B702-F80B5C4E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BBB5-0938-4BAC-B534-65FFCF5E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E2BD-F010-45CE-A136-324C33AD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9DEC-0D55-457C-A6B7-FB653E79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6643-D1D3-4838-BAA0-DF63AC26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DB98-31AE-4935-A6E7-55644A8A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8DE6-6677-4546-82CA-C321AA18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F97-9D8E-4A5F-96AC-7CB13AD9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85C7-448C-41E5-9D64-D64F39F3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2746-13E3-4B9D-8C7C-08BAEDC6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BD35-9F1E-4FDE-AFA2-62AAAFD3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E6EF-E8F8-453F-8321-7E7E7F5D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595B-7A90-462E-9C7A-F99A0624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BB42-D326-4E24-BE92-A9BED8F3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F460-3C35-4738-A174-6A880D78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DCA-B8BD-44C0-AA0B-F4F02FCE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3EE-B385-46FB-B03C-D16B6569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0172-C6CF-4A4D-8398-36E1B0A6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39E-2CEF-4E59-B1EA-5352E0CE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D88-927D-44AB-A402-5DA13BC3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B5CD-8B88-4AE7-AF05-B468EC30FEB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A5FB-9668-475B-B85F-6476CE1020F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4;&#1072;&#1076;&#1088;&#1072;&#1090;" TargetMode="External"/><Relationship Id="rId2" Type="http://schemas.openxmlformats.org/officeDocument/2006/relationships/hyperlink" Target="http://ru.wikipedia.org/wiki/&#1050;&#1074;&#1072;&#1076;&#1088;&#1072;&#1090;" TargetMode="External"/><Relationship Id="rId3" Type="http://schemas.openxmlformats.org/officeDocument/2006/relationships/hyperlink" Target="http://im7-tub.yandex.net/i?id=12096115-01" TargetMode="External"/><Relationship Id="rId4" Type="http://schemas.openxmlformats.org/officeDocument/2006/relationships/hyperlink" Target="http://im8-tub.yandex.net/i?id=34928717-11" TargetMode="External"/><Relationship Id="rId5" Type="http://schemas.openxmlformats.org/officeDocument/2006/relationships/hyperlink" Target="http://nsc.1september.ru/2004/02/2.h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Багиянц Ма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А класс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Михайловск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ердлов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4581360"/>
            <a:ext cx="2340000" cy="2060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 rot="644400">
            <a:off x="3347640" y="1196640"/>
            <a:ext cx="41166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1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Квадр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744640" y="2806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97" name=""/>
          <p:cNvGraphicFramePr/>
          <p:nvPr/>
        </p:nvGraphicFramePr>
        <p:xfrm>
          <a:off x="900000" y="1989000"/>
          <a:ext cx="7945560" cy="4015080"/>
        </p:xfrm>
        <a:graphic>
          <a:graphicData uri="http://schemas.openxmlformats.org/drawingml/2006/table">
            <a:tbl>
              <a:tblPr/>
              <a:tblGrid>
                <a:gridCol w="4191120"/>
                <a:gridCol w="1879560"/>
                <a:gridCol w="1874880"/>
              </a:tblGrid>
              <a:tr h="14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= 4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P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619280" y="1916280"/>
                <a:ext cx="419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596360" y="2565360"/>
            <a:ext cx="469800" cy="422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346800" y="4076640"/>
                <a:ext cx="106848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826920" y="1557360"/>
          <a:ext cx="7921800" cy="4538160"/>
        </p:xfrm>
        <a:graphic>
          <a:graphicData uri="http://schemas.openxmlformats.org/drawingml/2006/table">
            <a:tbl>
              <a:tblPr/>
              <a:tblGrid>
                <a:gridCol w="4178520"/>
                <a:gridCol w="1873800"/>
                <a:gridCol w="1869480"/>
              </a:tblGrid>
              <a:tr h="16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= 4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P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476360" y="1484280"/>
                <a:ext cx="512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524720" y="2133720"/>
            <a:ext cx="469800" cy="4222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в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ч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2637000"/>
            <a:ext cx="2449800" cy="23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50760" y="2152800"/>
            <a:ext cx="131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23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4869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249228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24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16360" y="486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08360" y="32846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т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С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40360" y="5229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40с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о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C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4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ти: 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B = 10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2852640"/>
            <a:ext cx="2448000" cy="23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50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263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32000" y="270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59280" y="5013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ч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сыл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im4-tub.yandex.net/i?id=159590343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://ru.wikipedia.org/wiki/Квад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im7-tub.yandex.net/i?id=12096115-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http://im8-tub.yandex.net/i?id=34928717-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http://nsc.1september.ru/2004/02/2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fun4child.ru/1112-stikhi-po-matematike.-kvadrat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polygon2.narod.ru/quadro_15_bl01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sai.msu.su/wm/paint/auth/malevich/sup/malevich.black-squar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mirdetok.tomsk.ru/copper/albums/userpics/14069/square-bw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ла на свете важная фигура. Важность ее признавалась всеми людьми, так как при изготовлении многих вещей форма ее служила образцом. Кого бы ни встретила она на своем пути, всем хвалилась: "Посмотрите, какой у меня красивый вид: стороны мои все равны, углы все прямые. Красивее меня нет фигуры на свете!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редел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Квадрат- это прямоугольник, у которого все стороны рав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Квадрат- это ромб, у которого все углы прям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24360" y="3573360"/>
            <a:ext cx="2879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войст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5084640"/>
            <a:ext cx="1224000" cy="1081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5084640"/>
            <a:ext cx="122256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8000" y="5084280"/>
            <a:ext cx="122400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340000" y="5445000"/>
            <a:ext cx="7128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410920" y="5516640"/>
            <a:ext cx="730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626920" y="5732640"/>
            <a:ext cx="7308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555640" y="5661000"/>
            <a:ext cx="730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5661000"/>
            <a:ext cx="7164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5734080"/>
            <a:ext cx="712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56000" y="5516640"/>
            <a:ext cx="712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5445000"/>
            <a:ext cx="7164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4360" y="1989000"/>
          <a:ext cx="8006760" cy="4190760"/>
        </p:xfrm>
        <a:graphic>
          <a:graphicData uri="http://schemas.openxmlformats.org/drawingml/2006/table">
            <a:tbl>
              <a:tblPr/>
              <a:tblGrid>
                <a:gridCol w="4003200"/>
                <a:gridCol w="4003560"/>
              </a:tblGrid>
              <a:tr h="20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Диагонали точкой пересечения делятся попола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)Диагонали взаимно перпендикулярн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Диагонали равн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)Диагонали делят углы попола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3132000" y="2924280"/>
            <a:ext cx="1079640" cy="865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2924280"/>
            <a:ext cx="107964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132000" y="2923920"/>
            <a:ext cx="107964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563640" y="3213000"/>
            <a:ext cx="7308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780000" y="3429000"/>
            <a:ext cx="727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3500280"/>
            <a:ext cx="14436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08360" y="3213000"/>
            <a:ext cx="14436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314172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3429000"/>
            <a:ext cx="144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3068640"/>
            <a:ext cx="108108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084360" y="3068640"/>
            <a:ext cx="108108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4720" y="3068640"/>
            <a:ext cx="108108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3640" y="3573360"/>
            <a:ext cx="21600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659640" y="3573360"/>
            <a:ext cx="21600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443640" y="335736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335772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4941720"/>
            <a:ext cx="1150920" cy="93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4941720"/>
            <a:ext cx="115092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076360" y="4941720"/>
            <a:ext cx="115092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076720" y="4941360"/>
            <a:ext cx="2160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076720" y="4941720"/>
            <a:ext cx="3589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76720" y="5734080"/>
            <a:ext cx="1429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6720" y="566100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084360" y="5661000"/>
            <a:ext cx="1429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940360" y="5516640"/>
            <a:ext cx="287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4941720"/>
            <a:ext cx="1429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0360" y="494172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изна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Если в прямоугольнике диагонали взаимно перпендикулярны, то это- квадра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Если в прямоугольнике диагонали делят углы пополам, то это- квадра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                            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47640" y="4508640"/>
            <a:ext cx="1511640" cy="1512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35640" y="4437000"/>
            <a:ext cx="165744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4508640"/>
            <a:ext cx="151164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547640" y="4508640"/>
            <a:ext cx="151164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123640" y="5084640"/>
            <a:ext cx="14436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522936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340000" y="530028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2268360" y="508464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5640" y="4437000"/>
            <a:ext cx="165744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35640" y="4436640"/>
            <a:ext cx="165744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35640" y="587700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5640" y="5734080"/>
            <a:ext cx="28872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435640" y="4436640"/>
            <a:ext cx="14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435640" y="4437000"/>
            <a:ext cx="2887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443700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32720" y="4437000"/>
            <a:ext cx="3603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877080" y="587700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732360" y="5734080"/>
            <a:ext cx="3603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443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435280" y="472428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9640" y="443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59640" y="472428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35640" y="5661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566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732360" y="5661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2720" y="566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вадрат в жиз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 rot="393000">
            <a:off x="324000" y="1557000"/>
            <a:ext cx="2136600" cy="2305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 rot="21314400">
            <a:off x="2916360" y="4581360"/>
            <a:ext cx="2447640" cy="2030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 rot="21123600">
            <a:off x="5866920" y="234936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 rot="600600">
            <a:off x="2842920" y="1628640"/>
            <a:ext cx="24494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нтересные фак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вадрат обладает наибольшей симметрией среди всех четырёхугольников. Он име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у ось симметрии четвёртого порядка (ось, перпендикулярная плоскости квадрата и проходящая через его центр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тыре оси симметрии второго порядка (что для плоской фигуры эквивалентно отражениям), из которых две проходят вдоль диагоналей квадрата, а другие две — параллельно сторон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539120" y="5281560"/>
            <a:ext cx="160488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вадра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 rot="20896800">
            <a:off x="6227280" y="2060280"/>
            <a:ext cx="2070360" cy="3139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900000" y="227664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шёл из школы старший бра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 спичек выложил квадр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ла мне мама шокола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 дольку отломил - квадр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стол -квадрат, и стул - квадра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на стене плакат - квадра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ска, где шахматы стоя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клетка каждая - квадра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оят там кони и слон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игуры боев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ВАДРАТ - четыре сторон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 стороны его равн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все углы прям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ормул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908000" y="1700280"/>
                <a:ext cx="5796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87" name=""/>
          <p:cNvGraphicFramePr/>
          <p:nvPr/>
        </p:nvGraphicFramePr>
        <p:xfrm>
          <a:off x="4917960" y="1905120"/>
          <a:ext cx="3927600" cy="20192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20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1332000" y="184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924280"/>
            <a:ext cx="22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рона квадра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7280" y="2421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ощад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1844640"/>
            <a:ext cx="23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4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24360" y="242100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- периме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6000" y="292428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- сторона квадр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39640" y="1844640"/>
          <a:ext cx="3927600" cy="20192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20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5:12:39Z</dcterms:created>
  <dc:creator>1</dc:creator>
  <dc:description/>
  <dc:language>en-US</dc:language>
  <cp:lastModifiedBy>HOME</cp:lastModifiedBy>
  <dcterms:modified xsi:type="dcterms:W3CDTF">2011-02-08T19:51:28Z</dcterms:modified>
  <cp:revision>10</cp:revision>
  <dc:subject/>
  <dc:title>Квадрат</dc:title>
</cp:coreProperties>
</file>