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8.jpeg" ContentType="image/jpeg"/>
  <Override PartName="/ppt/media/image18.png" ContentType="image/png"/>
  <Override PartName="/ppt/media/image7.jpeg" ContentType="image/jpeg"/>
  <Override PartName="/ppt/media/image6.png" ContentType="image/png"/>
  <Override PartName="/ppt/media/image11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30.png" ContentType="image/png"/>
  <Override PartName="/ppt/media/image13.png" ContentType="image/pn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21.jpeg" ContentType="image/jpeg"/>
  <Override PartName="/ppt/media/image9.png" ContentType="image/png"/>
  <Override PartName="/ppt/media/image22.jpeg" ContentType="image/jpeg"/>
  <Override PartName="/ppt/media/image12.png" ContentType="image/png"/>
  <Override PartName="/ppt/media/image23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1225-6EFC-44B1-BC41-31FBE023F2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2ABF-1DB8-451A-911B-9A74735107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BA6C-294A-46ED-B662-6E942FBCB9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CE32-D536-40F8-9E60-32B830E665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E105-7BCF-4846-83DC-6CEB77CA71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6519-050B-4902-92B6-DD3D27AE48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21FF-6F45-4B11-9187-524CE4B505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AC7F-D30F-484C-9618-0F7699F580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BB76-92C3-42C5-A8DB-D6D3668AAF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2ECE-C079-4DDD-91F1-469DD68C6C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DF92-9AE2-4657-9BF9-C40D0FFAB8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52A2-AAFF-4BCB-80E4-43DB10A818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5BD6-A7CE-4EF4-996F-2C3E79DC49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3B79-682D-4176-8593-4125BBE539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D77-4DE1-40D1-8284-C81FE79A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9FFC-ABAF-4E2D-AAC9-4EA2358C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F95E4-7BD9-4553-90CA-A47DBDE6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C262E-254D-433A-B638-34C92B26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5BE7C-0DAE-4495-BC84-0BBE5404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47A9E-FCAA-4C7F-B67B-2967730E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1B3D6-7198-4FDB-9CEA-0CA8ACFA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ECF50-FC0B-43A8-B94B-9F6F5E12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EC978-63E2-44B7-91A6-B2AD130F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14929-9DA5-4DAA-AD67-C075FDB0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B296C-AE75-49B9-A964-602332CA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9A4B8-72C8-422C-8320-C6D6BBCD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2BAC-41DD-4FD4-A212-7C5A35B57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68A00-9BAA-4819-85C5-9F82EBD5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7C817-E98C-4032-B74F-DB1ACDA5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1BD88-5C30-412B-A602-485E1C4A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60D2C-4A64-46C3-9F64-36F600C8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43E25-4B8B-4F6E-942A-69527E9B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67C4C-1C14-4C9B-B041-919B37A6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CE548-D86D-4A5B-914A-A1B00C2E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C0AB4-B0C2-4C6B-B7E7-EA49B289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CD364-2224-4DFB-82DB-B98F9AA3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75F58-DC0B-4C80-BD91-F24C0F9C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2EBB-A68C-4A3E-B7FD-6A4EA869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AB2C3-CE4A-446E-87E7-DE8EBB88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652C-ECF6-4185-AEA4-9A716C8E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9C0A-4EC5-4BAD-9E61-99950A89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DC3B-D2E1-4983-9E21-8A60FB8E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44FE-46E3-4D4E-98D7-EFBA64A6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3A9A-6BB7-4B10-9672-38F037B8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A2EF-4496-4A36-B01D-52C2EB4C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FFAE-1753-4C48-80FE-7BFF955F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3F61-6098-4115-9C93-BDBCA559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4631-F9DC-40CC-9AC1-C6A695BD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A4B8-0351-4E56-98A4-7FC80C6C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F980-9AFC-41D0-B6AF-893425B0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5DD7-5AD5-4946-8E0B-8D7F7D24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3402-4F97-4FD2-9C00-299063FAA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52FEB-67F6-4C50-8F12-D16F2CE7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A9D81-AC59-4D17-9918-0850F9A1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FE37D-3FC3-48DC-AC79-8C2BF77D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A7BD9-2D43-48D9-A37A-9AD427D8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83B19-1148-4317-8EC4-DDF34C16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5FE3-286A-4782-9AED-7121C744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8332C-0477-4324-B9EC-617DB8D5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818EB-2C38-41E0-9559-0DD66749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98463-D29D-4DEA-AA6C-82276720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0A4D2-69E9-47E8-BBB3-2D315E2E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444E6-80AF-427F-A0C8-C72576AF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10874-9EB4-4758-87F8-9247207E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575A7-73ED-4220-B17D-D5CE3970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259EB-6F13-4DC5-A568-3817AF9B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2B7F1-8F8C-4522-8A26-6D5A51AB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0235D-5237-42A9-BFA2-7FA84A59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E49B-24E5-4E6D-8064-987807AE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E02CA-078B-4E52-B181-18547D2C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BD5E2-5E63-42E8-8DFB-77BF111C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E3A59-9594-4FF0-B041-D910FF61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F3E4D-E0F5-4360-83BA-22D0B044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6507B-24A6-4C97-BCC3-013E2BAE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9152E-F3DB-4E1C-B661-13B06971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BE1AA-0A23-4968-BBA8-D0E5A166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358AE-7A2D-4553-AB61-40F90250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31133-389B-4CD6-9E7E-2F5E0E06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5866F-1392-42F2-A5F9-26B8A83E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72EB-FE7B-49AE-99D4-B0D89AE9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9A3D1-E475-4165-9CD3-804FEFDB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B8CAD-A26F-4BB2-9D9B-EF4504FB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09FCE-93ED-443A-8964-732F7C9C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0468B-337E-4CF3-A7A2-06D5512A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2513E-9200-4432-AC38-919C27F6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37244-A20C-4481-8381-D6B92A6F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854BA-5B9F-4145-80DD-B4454110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0248F-700C-45CC-9CB2-037EEE0F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EFEAA-9B4D-46E6-997B-5D228B52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F3C23-DAD9-4756-9D7D-DA15EA731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D2AF-F2E9-444B-8769-8F38D94E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63F3A-F67F-421F-8A8E-0F9588DC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38665-DD86-4A60-A490-CA80D4EB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34C97-E61A-4089-B41F-1E0C277D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AD130-5D31-42CE-8A45-96FFF485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394B1-88DD-4906-8AC5-B1A24027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FFC93-C2D3-46C6-8130-70539862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DD21E-6018-4C76-A8C5-2DA4449F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E6DAE-704D-4E7A-A573-244A9328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0E8A9-C4F1-4AE2-A16C-BF1CA786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E2163-9826-4C36-9C6F-2A3FA3CA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F031-B7C6-40CA-903A-9A6743F7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833B8-7617-4997-9620-9E5C3D63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59C90-3442-4524-A6F7-E9DCE405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A8C1A-23B1-423B-9616-65460BA2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6EFAB-C4AD-4B40-87E9-C099F480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50D25-DE7E-4067-9857-4A858D34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BC684-6251-4069-ABE4-F412BF0D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F959F-401A-4F09-9459-4900B71E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9F806-003D-4724-8AB8-5552017A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0D003-CA50-483E-A927-677C2BB5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01E0D-2D15-49D6-AAF3-FDB4EC7E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F554-1913-4B9C-B7C0-36595AF1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76DEF-863E-4EDF-B110-5F5A3AA3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D45EC-C686-43C0-9923-2060E4AB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D2F70-7DEB-41F4-AC61-D5A96110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7BB72-4918-4ED7-B20E-98D208BC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57687-1F90-493A-B9E8-F49A80A9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65C57-BC28-44FD-B0F3-39068A97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E1FFD-431D-4DDD-8C42-14B607EC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420E6-AB49-4205-BAB7-D9D04665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455D4-9F8E-402D-9047-6F99ECFA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8A5A2-44D9-4E57-AC0A-66F05FCA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AF24-23DC-406A-8809-34CDF911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B2210-C7E8-4659-B8D6-7F886BC5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9C411-8EEE-46A6-AC76-C1B1E1E5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E1335-4B14-456C-B61F-F9484B7A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59F1A-D3E9-48E5-B833-F274E5C2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99D44-1840-48B2-8601-00A5CF17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8C400-6C83-4C45-B4F1-DCF35807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59B51-776A-46B9-AEE9-DE91628F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90E8F-A1FB-4710-8F55-4308512B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A7F47-6FD0-4A13-BD3C-F6D1F4FE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D58A0-A94D-4287-88CF-5D551F6B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AF74-67A8-462D-BF6E-00FF6AF6119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0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EB2A-D30F-48D6-A910-41490961221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902C-B4AC-4724-A5C0-E128294A42C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BDE1-003D-4C74-8E13-86D0F3BDBA4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183B-1478-4DF0-AF87-6447EAD9998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4F3B-9E8B-48CE-BA5B-0402FF4B505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A1BA-8172-4A1A-B172-227B12944A5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5A54-E3A9-4E9A-AE89-3CDBEC92683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1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159A-AE74-418B-B832-602EA02548A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5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5B87-2928-4BEC-8731-A1355C628F0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785960" y="500040"/>
            <a:ext cx="6858000" cy="3643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Verdana"/>
              </a:rPr>
              <a:t>КРИМИНОГЕННЫЕ СИТУАЦИИ В ОБЩЕСТВЕННЫХ МЕСТАХ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3857760" y="4857480"/>
            <a:ext cx="4929120" cy="15001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Verdana"/>
              </a:rPr>
              <a:t>Автор: Ульданов В. Ученик 11 «А»клас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Verdana"/>
              </a:rPr>
              <a:t>МОУ СОШ № 3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6" descr="Герб-6-4"/>
          <p:cNvPicPr/>
          <p:nvPr/>
        </p:nvPicPr>
        <p:blipFill>
          <a:blip r:embed="rId1"/>
          <a:stretch/>
        </p:blipFill>
        <p:spPr>
          <a:xfrm>
            <a:off x="395280" y="404640"/>
            <a:ext cx="1676520" cy="1771920"/>
          </a:xfrm>
          <a:prstGeom prst="rect">
            <a:avLst/>
          </a:prstGeom>
          <a:ln w="0">
            <a:noFill/>
          </a:ln>
        </p:spPr>
      </p:pic>
      <p:pic>
        <p:nvPicPr>
          <p:cNvPr id="455" name="Бандитский Петербург (Игорь Корнелюк) - Город, которого нет (msong.com.ru).mid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2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4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12" descr="{08B8F6C6-4313-4CA8-A516-26805B3B5174}"/>
          <p:cNvPicPr/>
          <p:nvPr/>
        </p:nvPicPr>
        <p:blipFill>
          <a:blip r:embed="rId1"/>
          <a:stretch/>
        </p:blipFill>
        <p:spPr>
          <a:xfrm>
            <a:off x="0" y="0"/>
            <a:ext cx="4429080" cy="46432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3" descr="А (79)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45720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ff"/>
                </a:solidFill>
                <a:uFillTx/>
                <a:latin typeface="Verdana"/>
              </a:rPr>
              <a:t>Девушки, помните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Большой процент сексуальных посягательств приходит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именно на долю знакомых и друзей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4000">
    <p:checker dir="vert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solidFill>
            <a:srgbClr val="d3cbb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Verdana"/>
              </a:rPr>
              <a:t>                 </a:t>
            </a:r>
            <a:r>
              <a:rPr b="1" lang="ru-RU" sz="3200" spc="-1" strike="noStrike">
                <a:solidFill>
                  <a:srgbClr val="ff6600"/>
                </a:solidFill>
                <a:latin typeface="Verdana"/>
              </a:rPr>
              <a:t>Девушки, помните!</a:t>
            </a:r>
            <a:br>
              <a:rPr sz="3200"/>
            </a:br>
            <a:r>
              <a:rPr b="1" lang="ru-RU" sz="3200" spc="-1" strike="noStrike" u="sng">
                <a:solidFill>
                  <a:srgbClr val="ff6600"/>
                </a:solidFill>
                <a:uFillTx/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80" name="Picture 8" descr="{718A40AB-8782-4663-91BD-981E343B462D}"/>
          <p:cNvPicPr/>
          <p:nvPr/>
        </p:nvPicPr>
        <p:blipFill>
          <a:blip r:embed="rId1"/>
          <a:stretch/>
        </p:blipFill>
        <p:spPr>
          <a:xfrm>
            <a:off x="642960" y="1214280"/>
            <a:ext cx="3855960" cy="37148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Й"/>
          <p:cNvPicPr/>
          <p:nvPr/>
        </p:nvPicPr>
        <p:blipFill>
          <a:blip r:embed="rId2"/>
          <a:stretch/>
        </p:blipFill>
        <p:spPr>
          <a:xfrm>
            <a:off x="5286240" y="1214280"/>
            <a:ext cx="3284640" cy="37864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0" y="4786200"/>
            <a:ext cx="9144000" cy="185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кромность, девичья честь и достоинство –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это обеспечение безопасности</a:t>
            </a:r>
            <a:r>
              <a:rPr b="1" lang="ru-RU" sz="2400" spc="-1" strike="noStrike">
                <a:solidFill>
                  <a:srgbClr val="00ffff"/>
                </a:solidFill>
                <a:latin typeface="Verdan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5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H:\Схемы\P_KS_03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6" descr="H:\Схемы\P_KS_04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blinds dir="horz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3" descr="H:\Схемы\P_KS_01.jpg"/>
          <p:cNvPicPr/>
          <p:nvPr/>
        </p:nvPicPr>
        <p:blipFill>
          <a:blip r:embed="rId1"/>
          <a:stretch/>
        </p:blipFill>
        <p:spPr>
          <a:xfrm>
            <a:off x="0" y="0"/>
            <a:ext cx="4429080" cy="68580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" descr="H:\Схемы\P_KS_02.jpg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blinds dir="horz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-142920" y="-360"/>
            <a:ext cx="9134640" cy="785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        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амооборон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9001080" cy="5643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Самозащит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реакция на напад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                       </a:t>
            </a: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Виды самозащи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Пассивны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шетки различных конструкций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аллические дверей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хранные и следящие системы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гнальные и отпугивающие   средства.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1000">
    <p:zoom dir="out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Активны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0" y="928440"/>
            <a:ext cx="392904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зоточивые баллонч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714560" y="2786040"/>
            <a:ext cx="4429080" cy="1357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ошок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2" name="Picture 3" descr="C:\Users\Наталия\Desktop\фото для фото\scorpion.jpg"/>
          <p:cNvPicPr/>
          <p:nvPr/>
        </p:nvPicPr>
        <p:blipFill>
          <a:blip r:embed="rId1"/>
          <a:stretch/>
        </p:blipFill>
        <p:spPr>
          <a:xfrm>
            <a:off x="4786200" y="928800"/>
            <a:ext cx="4357800" cy="18572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C:\Users\Наталия\Desktop\фото для фото\cobra.jpg"/>
          <p:cNvPicPr/>
          <p:nvPr/>
        </p:nvPicPr>
        <p:blipFill>
          <a:blip r:embed="rId2"/>
          <a:stretch/>
        </p:blipFill>
        <p:spPr>
          <a:xfrm>
            <a:off x="285840" y="2428920"/>
            <a:ext cx="4500360" cy="1857240"/>
          </a:xfrm>
          <a:prstGeom prst="rect">
            <a:avLst/>
          </a:prstGeom>
          <a:ln w="0">
            <a:noFill/>
          </a:ln>
        </p:spPr>
      </p:pic>
      <p:sp>
        <p:nvSpPr>
          <p:cNvPr id="494" name="Прямоугольник 6"/>
          <p:cNvSpPr/>
          <p:nvPr/>
        </p:nvSpPr>
        <p:spPr>
          <a:xfrm>
            <a:off x="357120" y="4214880"/>
            <a:ext cx="45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ешенное и неразрешенное холод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9" descr="C:\Users\Наталия\Desktop\фото для фото\1190203913_1.jpg"/>
          <p:cNvPicPr/>
          <p:nvPr/>
        </p:nvPicPr>
        <p:blipFill>
          <a:blip r:embed="rId3"/>
          <a:stretch/>
        </p:blipFill>
        <p:spPr>
          <a:xfrm>
            <a:off x="4786200" y="4286160"/>
            <a:ext cx="4357800" cy="257184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wedge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8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8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8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0" y="571680"/>
            <a:ext cx="6500880" cy="6286320"/>
          </a:xfrm>
          <a:prstGeom prst="rect">
            <a:avLst/>
          </a:prstGeom>
          <a:solidFill>
            <a:srgbClr val="4ea5d8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Необходимая оборон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 является преступлением причинение вреда посягающему лицу в состоянии необходимой обороны, то есть при защите личности и прав обороняющегося или других лиц, охраняемых законом интересов общества или государства от общественно опасного посягательства, если при этом не было допущено превышения пределов необходимой оборон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аво на необходимую оборону имеют в равной мере все лица независимо от их профессиональной или иной специальной подготовки и служебного положения. Это право принадлежит лицу независимо от возможности избежать общественно опасного посягательства или обратиться за помощью к другим лицам или органам власт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Право на самозащиту закреплено законом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98" name="Picture 1" descr="C:\Users\Наталия\Desktop\фото для фото\1210769885_big.jpg"/>
          <p:cNvPicPr/>
          <p:nvPr/>
        </p:nvPicPr>
        <p:blipFill>
          <a:blip r:embed="rId1"/>
          <a:stretch/>
        </p:blipFill>
        <p:spPr>
          <a:xfrm>
            <a:off x="6500880" y="571680"/>
            <a:ext cx="2643120" cy="17236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" descr="C:\Users\Наталия\Desktop\фото для фото\selfdefense1-2.jpg"/>
          <p:cNvPicPr/>
          <p:nvPr/>
        </p:nvPicPr>
        <p:blipFill>
          <a:blip r:embed="rId2"/>
          <a:stretch/>
        </p:blipFill>
        <p:spPr>
          <a:xfrm>
            <a:off x="6500880" y="2286000"/>
            <a:ext cx="2643120" cy="20480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" descr="C:\Users\Наталия\Desktop\фото для фото\x_8cf98390.jpg"/>
          <p:cNvPicPr/>
          <p:nvPr/>
        </p:nvPicPr>
        <p:blipFill>
          <a:blip r:embed="rId3"/>
          <a:stretch/>
        </p:blipFill>
        <p:spPr>
          <a:xfrm>
            <a:off x="6500880" y="4286160"/>
            <a:ext cx="2643120" cy="2571840"/>
          </a:xfrm>
          <a:prstGeom prst="rect">
            <a:avLst/>
          </a:prstGeom>
          <a:ln w="0">
            <a:noFill/>
          </a:ln>
        </p:spPr>
      </p:pic>
    </p:spTree>
  </p:cSld>
  <p:transition spd="slow" advTm="39000">
    <p:circle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8" dur="10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2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8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71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       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АМООБОРОН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502" name="31f5735618758d90d59fa5f639dcd207-0018-1209211611.mpg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8286840" cy="5500440"/>
          </a:xfrm>
          <a:prstGeom prst="rect">
            <a:avLst/>
          </a:prstGeom>
          <a:ln w="0">
            <a:noFill/>
          </a:ln>
        </p:spPr>
      </p:pic>
    </p:spTree>
  </p:cSld>
  <p:transition spd="slow" advTm="190000">
    <p:wipe dir="r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7" dur="185241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2" dur="1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Еще парочка приемов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504" name="cef451d4b9d45a243c070e08e6327a5a-0018-1209207325.mpg" descr=""/>
          <p:cNvPicPr/>
          <p:nvPr/>
        </p:nvPicPr>
        <p:blipFill>
          <a:blip r:embed="rId1"/>
          <a:stretch/>
        </p:blipFill>
        <p:spPr>
          <a:xfrm>
            <a:off x="500040" y="928800"/>
            <a:ext cx="8215200" cy="5000400"/>
          </a:xfrm>
          <a:prstGeom prst="rect">
            <a:avLst/>
          </a:prstGeom>
          <a:ln w="0">
            <a:noFill/>
          </a:ln>
        </p:spPr>
      </p:pic>
    </p:spTree>
  </p:cSld>
  <p:transition spd="slow" advTm="241000">
    <p:wipe dir="r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8" dur="237961" fill="hold"/>
                                        <p:tgtEl>
                                          <p:spTgt spid="5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3" dur="1" fill="hold"/>
                                        <p:tgtEl>
                                          <p:spTgt spid="5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Verdana"/>
              </a:rPr>
              <a:t>         </a:t>
            </a:r>
            <a:r>
              <a:rPr b="0" lang="ru-RU" sz="6600" spc="-1" strike="noStrike">
                <a:solidFill>
                  <a:srgbClr val="ff0000"/>
                </a:solidFill>
                <a:latin typeface="Verdana"/>
              </a:rPr>
              <a:t>КОНЕЦ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7000">
    <p:dissolve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428760" y="499680"/>
            <a:ext cx="4719600" cy="5519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Verdana"/>
              </a:rPr>
              <a:t>Криминогенный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33ccff"/>
                </a:solidFill>
                <a:latin typeface="Verdana"/>
              </a:rPr>
              <a:t>значит преступн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600"/>
                </a:solidFill>
                <a:uFillTx/>
                <a:latin typeface="Verdana"/>
              </a:rPr>
              <a:t>Основное правило безопасности</a:t>
            </a: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 – предвидеть опасность, избегать ее по возможности, действовать грамотно и решительно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7" name="Picture 9" descr="{13915DEB-16FF-4FB4-8C9D-B775263CE5E9}"/>
          <p:cNvPicPr/>
          <p:nvPr/>
        </p:nvPicPr>
        <p:blipFill>
          <a:blip r:embed="rId1"/>
          <a:stretch/>
        </p:blipFill>
        <p:spPr>
          <a:xfrm>
            <a:off x="5214960" y="357120"/>
            <a:ext cx="3429000" cy="5581800"/>
          </a:xfrm>
          <a:prstGeom prst="rect">
            <a:avLst/>
          </a:prstGeom>
          <a:ln w="0">
            <a:noFill/>
          </a:ln>
        </p:spPr>
      </p:pic>
      <p:pic>
        <p:nvPicPr>
          <p:cNvPr id="458" name="~PP851.WAV" descr=""/>
          <p:cNvPicPr/>
          <p:nvPr/>
        </p:nvPicPr>
        <p:blipFill>
          <a:blip r:embed="rId2"/>
          <a:stretch/>
        </p:blipFill>
        <p:spPr>
          <a:xfrm>
            <a:off x="85726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blinds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6" descr="{1EC5C3F4-0894-4980-8817-BB2B91584654}"/>
          <p:cNvPicPr/>
          <p:nvPr/>
        </p:nvPicPr>
        <p:blipFill>
          <a:blip r:embed="rId1">
            <a:lum contrast="82000"/>
          </a:blip>
          <a:stretch/>
        </p:blipFill>
        <p:spPr>
          <a:xfrm>
            <a:off x="357120" y="428760"/>
            <a:ext cx="8429760" cy="278280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428400" y="3286080"/>
            <a:ext cx="8358120" cy="3571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ccff"/>
                </a:solidFill>
                <a:uFillTx/>
                <a:latin typeface="Verdana"/>
              </a:rPr>
              <a:t>Криминальные ситуации делятся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Verdana"/>
              </a:rPr>
              <a:t>по месту совершения (в доме, вне жилища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Verdana"/>
              </a:rPr>
              <a:t>по целям (против личности, с целью овладения имуществом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7000">
    <p:zoom dir="in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250920" y="428400"/>
            <a:ext cx="5184720" cy="6429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6600"/>
                </a:solidFill>
                <a:uFillTx/>
                <a:latin typeface="Verdana"/>
              </a:rPr>
              <a:t>При столкновении с преступником необходимо запомни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Verdana"/>
              </a:rPr>
              <a:t>Во что оде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Verdana"/>
              </a:rPr>
              <a:t>Длину и цвет волос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Verdana"/>
              </a:rPr>
              <a:t>Цвет глаз и их посадк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Verdana"/>
              </a:rPr>
              <a:t>Рот, нос и уши преступни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Verdana"/>
              </a:rPr>
              <a:t>Шрамы, усы, бород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Verdana"/>
              </a:rPr>
              <a:t>Татуировки и что на них изображен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2" name="Picture 6" descr="{E2F06FB0-2337-4C67-8D01-94BA973CFC4C}"/>
          <p:cNvPicPr/>
          <p:nvPr/>
        </p:nvPicPr>
        <p:blipFill>
          <a:blip r:embed="rId1"/>
          <a:stretch/>
        </p:blipFill>
        <p:spPr>
          <a:xfrm>
            <a:off x="5357880" y="428760"/>
            <a:ext cx="3357360" cy="550044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plus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{2F0AB1B0-3832-4387-B119-F43CCEF34B71}"/>
          <p:cNvPicPr/>
          <p:nvPr/>
        </p:nvPicPr>
        <p:blipFill>
          <a:blip r:embed="rId1"/>
          <a:stretch/>
        </p:blipFill>
        <p:spPr>
          <a:xfrm>
            <a:off x="428760" y="428760"/>
            <a:ext cx="4286160" cy="550044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786200" y="571320"/>
            <a:ext cx="3929040" cy="5500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00"/>
                </a:solidFill>
                <a:uFillTx/>
                <a:latin typeface="Verdana"/>
              </a:rPr>
              <a:t>Чтобы избежать опасность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Быть внимательны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Замечать дета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Анализировать ситуацию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Не появляться в местах с «дурной славой»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Попадая в новое, незнакомое место внимательно осматриватьс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Игнорировать пустыри, стройплощадки, парки, скверы (особенно ночью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0000">
    <p:diamond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357120" y="428760"/>
            <a:ext cx="5905440" cy="6154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00"/>
                </a:solidFill>
                <a:uFillTx/>
                <a:latin typeface="Verdana"/>
              </a:rPr>
              <a:t>Безопасное поведение на улиц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Правильная оценка обстановк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Не находиться одной (одному) на улице в темное время суток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Не пользоваться подземными переходом, если он недостаточно освещен и малолюден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Не садиться в машину к незнакомым людя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Не заходите в чужие дома и квартир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Избегать проходные подъезды, дворы, пустыри, стройплощадки, безлюдные парки, скверы (особенно ночью) и т.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6" name="Picture 10" descr="{B087C367-A9AE-4565-A1E8-BE2A6149B82D}"/>
          <p:cNvPicPr/>
          <p:nvPr/>
        </p:nvPicPr>
        <p:blipFill>
          <a:blip r:embed="rId1">
            <a:lum contrast="100000"/>
          </a:blip>
          <a:stretch/>
        </p:blipFill>
        <p:spPr>
          <a:xfrm>
            <a:off x="6516720" y="428760"/>
            <a:ext cx="2198520" cy="33256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2" descr="{08501BB2-1BCE-45DE-AFED-C15B9E322278}"/>
          <p:cNvPicPr/>
          <p:nvPr/>
        </p:nvPicPr>
        <p:blipFill>
          <a:blip r:embed="rId2"/>
          <a:stretch/>
        </p:blipFill>
        <p:spPr>
          <a:xfrm>
            <a:off x="6500880" y="3714840"/>
            <a:ext cx="2214360" cy="2266920"/>
          </a:xfrm>
          <a:prstGeom prst="rect">
            <a:avLst/>
          </a:prstGeom>
          <a:ln w="0">
            <a:noFill/>
          </a:ln>
        </p:spPr>
      </p:pic>
    </p:spTree>
  </p:cSld>
  <p:transition spd="slow" advTm="37000">
    <p:blinds dir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250920" y="428400"/>
            <a:ext cx="5905440" cy="629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6600"/>
                </a:solidFill>
                <a:uFillTx/>
                <a:latin typeface="Verdana"/>
              </a:rPr>
              <a:t>Меры предосторожност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6600"/>
                </a:solidFill>
                <a:uFillTx/>
                <a:latin typeface="Verdana"/>
              </a:rPr>
              <a:t>для девушек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Не провоцировать мужчин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Не садиться в машину к незнакомым людя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Не заходите в чужие дома и квартир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Избегать проходные подъезды, дворы, пустыри, стройплощадки, безлюдные парки, скверы (особенно ночью) и т.д.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Идя на вечеринку хорошо знать всех ее участник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Если в компании незнакомые люди, то лучше сразу уй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9" name="Picture 8" descr="{D42B6180-5A8C-4DC0-A5FB-6C3BBE343B3E}"/>
          <p:cNvPicPr/>
          <p:nvPr/>
        </p:nvPicPr>
        <p:blipFill>
          <a:blip r:embed="rId1"/>
          <a:stretch/>
        </p:blipFill>
        <p:spPr>
          <a:xfrm>
            <a:off x="6227640" y="428760"/>
            <a:ext cx="2487600" cy="5429160"/>
          </a:xfrm>
          <a:prstGeom prst="rect">
            <a:avLst/>
          </a:prstGeom>
          <a:ln w="0">
            <a:noFill/>
          </a:ln>
        </p:spPr>
      </p:pic>
    </p:spTree>
  </p:cSld>
  <p:transition spd="slow" advTm="41000">
    <p:strips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428400" y="428400"/>
            <a:ext cx="4043160" cy="5500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7.</a:t>
            </a: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ffff"/>
                </a:solidFill>
                <a:latin typeface="Verdana"/>
              </a:rPr>
              <a:t>Идя в гости к юноше (мужчине) быть уверенной, что не останетесь с ним наедин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8.</a:t>
            </a: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ffff"/>
                </a:solidFill>
                <a:latin typeface="Verdana"/>
              </a:rPr>
              <a:t>Поведением (развязанность, громкий смех) не привлекать внимание .Приходить в компанию только с близкими, проверенными друзьями (с ними же уходить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9.</a:t>
            </a:r>
            <a:r>
              <a:rPr b="1" lang="ru-RU" sz="1800" spc="-1" strike="noStrike">
                <a:solidFill>
                  <a:srgbClr val="00ffff"/>
                </a:solidFill>
                <a:latin typeface="Verdana"/>
              </a:rPr>
              <a:t>Нельзя быть «центром внимания» в общественных мест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624200" y="190476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2" name="Picture 9" descr="{EDDFE3E9-B47A-448B-B6A5-4FE76C04ED3B}"/>
          <p:cNvPicPr/>
          <p:nvPr/>
        </p:nvPicPr>
        <p:blipFill>
          <a:blip r:embed="rId1"/>
          <a:stretch/>
        </p:blipFill>
        <p:spPr>
          <a:xfrm>
            <a:off x="4643280" y="428760"/>
            <a:ext cx="4071960" cy="550044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strips dir="ru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56760" y="428400"/>
            <a:ext cx="5799240" cy="5500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00"/>
                </a:solidFill>
                <a:uFillTx/>
                <a:latin typeface="Verdana"/>
              </a:rPr>
              <a:t>Меры предосторож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00"/>
                </a:solidFill>
                <a:uFillTx/>
                <a:latin typeface="Verdana"/>
              </a:rPr>
              <a:t>для девушек в темное время суто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Одежда не должна стеснять движ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Обувь - удобная для бега (без высоких каблу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Волосы не должны быть распущен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Иметь одно или несколько средств защиты (газовый баллончик, баллончик с лаком или дезодорантом, пакетик с молотым перцем, свисток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4" name="Picture 8" descr="{851278D3-10A6-499C-8F68-6C92799CDF68}"/>
          <p:cNvPicPr/>
          <p:nvPr/>
        </p:nvPicPr>
        <p:blipFill>
          <a:blip r:embed="rId1"/>
          <a:stretch/>
        </p:blipFill>
        <p:spPr>
          <a:xfrm>
            <a:off x="6156360" y="428760"/>
            <a:ext cx="2558880" cy="27860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9" descr="{E2968906-5477-4333-9B2F-C8E9D919389D}"/>
          <p:cNvPicPr/>
          <p:nvPr/>
        </p:nvPicPr>
        <p:blipFill>
          <a:blip r:embed="rId2"/>
          <a:stretch/>
        </p:blipFill>
        <p:spPr>
          <a:xfrm>
            <a:off x="6215040" y="3214800"/>
            <a:ext cx="2473200" cy="2695320"/>
          </a:xfrm>
          <a:prstGeom prst="rect">
            <a:avLst/>
          </a:prstGeom>
          <a:ln w="0">
            <a:noFill/>
          </a:ln>
        </p:spPr>
      </p:pic>
    </p:spTree>
  </p:cSld>
  <p:transition spd="slow" advTm="32000">
    <p:wheel spokes="8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10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1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10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10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1000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6:57:05Z</dcterms:created>
  <dc:creator>PASARELLA</dc:creator>
  <dc:description/>
  <dc:language>en-US</dc:language>
  <cp:lastModifiedBy>Николай</cp:lastModifiedBy>
  <dcterms:modified xsi:type="dcterms:W3CDTF">2013-07-02T10:43:21Z</dcterms:modified>
  <cp:revision>121</cp:revision>
  <dc:subject/>
  <dc:title>Криминогенные ситу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c13000000000001024140</vt:lpwstr>
  </property>
</Properties>
</file>