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13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377D-B634-409B-844D-9D5C8300A6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0D45-EED4-4A40-96BD-9B7DD433C5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EDF1-2A3D-4726-8D25-8C61CC7D47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A3E6-9DB0-403F-9E45-9FFCAFB1BA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8405-B443-4F38-8793-1734849783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297B-B3A9-4E97-83B9-04D1D7B06B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61F1-8631-4A6E-AB15-6B01B7D710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EBCF-D35B-4412-A267-7C43AC4155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0F9F-A0AA-4532-9D66-D1EB3C518E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43FC-7209-4A79-8091-D5E27560B3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6902-D47F-4EE5-B93A-ED20AD89D3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EE5E-B59A-4DB1-B29F-A03B28045F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AA28-86AA-405F-AB13-D6C65B2290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0B8-4788-473E-ACBC-7504ECA3F2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97E-64B6-4904-9235-7F1324E0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50A-064A-4552-BDE8-2E5F497C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B9F20-6FEB-44CE-B930-2C8D1151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A9D8B-7448-4532-8DAC-77BA59F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E9426-F83A-4C24-82F9-7C372616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D326B-BE9B-4BE4-BB7C-7AD3F0DD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3CE2C-7D6B-4A8C-A5D4-4C49C809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65245-1EA7-4DD4-B4DA-94A7BE6D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29614-4932-471D-8D49-0A6C6AFA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C1AA1-3B2A-42F5-944F-1C80D2F8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40CBA-9FC3-4EF2-A531-AC9B0676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70679-8A06-4026-B9BA-FE00CF23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39C-1A4C-4EF8-AC88-6BBF30B3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CDE84-8276-415E-A631-0067FBF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A3CE0-4E10-42EF-A833-2B915A13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EDC96-C919-4F6F-A66D-8E825A83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2720D-665A-4427-94C4-AA01AA6B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3408C-83DD-44C8-956D-726C073F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814F4-0FB1-48D4-A376-C39375C9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932D1-873B-4371-8E39-4E3ACF5C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9BD27-3561-435C-8BCF-BAC65BEC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21320-8211-4D7B-9672-57F8187D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82461-D4BE-4652-8940-4FB1F2D8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737-F43E-46EA-B5B1-434D3262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A3A70-174D-43FD-9512-C0E58163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64F2-CCD1-41DF-A19C-60029F2C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1392-23C1-4323-8AF1-178A76AA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1CE6-DE89-4372-8DB5-200BBCA5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FED6-C19B-4E6A-8637-9AC1161F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FD2-2E98-4782-95D5-16E429E7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4C27-1412-44FC-B98F-8EE28D91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002-A6E5-40A6-8255-7C13D18E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834-6B9D-4EC9-8675-78B087EB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B9B6-F21D-4C2B-A694-FCA9DF7A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A28B-9BEF-4A7A-92F5-7372E9EB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096A-A551-4AFA-B42E-332CADA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A278-ECA3-4314-B65F-28061D5B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A7F3-BFE3-4B1C-AF59-C6208746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1BD2-EA71-42A6-A5E1-06881741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03D3-6FBB-43B2-9634-95DD429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A955-2766-41A7-A265-8C2054AE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C1342-3BC6-45BF-8706-D5BA90AD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5D7B-A36E-41D3-A5E8-3EE72269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476-E751-42E8-A85A-2928DC16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288A-E22B-4F25-91D3-2D5FB5DC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6499-6ACC-474B-AEF8-7E1216FE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CB5B-E396-40CF-ABF4-161D50D2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706C-C350-4F5B-A0D0-F20FF40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5A24-7226-4DED-8683-1A9DC2D1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8BCA-4005-4829-83E9-657F3364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95BF-F293-47C1-855F-849BB084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9763-B800-42E1-893E-D48E3388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3D9B-5069-4D39-B779-4E9261E8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672AD-318E-4B2F-92DD-2F012ADA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EF6-5339-437E-A97A-44AFEA6C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6A09-5B41-40E8-9FF8-AB6C909E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7FA41-FD2D-41F7-B1D3-5394886C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EA2A-0DF9-4944-9E11-8B08542D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F0CA-F502-4F49-8512-DABA46D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F944-429D-4A13-9D67-4646FDA6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B52F-2D82-4EB8-AFD6-9E5DA38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59A5-E2A1-4FE7-9B1C-0256CEF7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1B69-7808-40C4-9266-ED9E4443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BDB24-425C-41B9-A2AB-3EBA2D1D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2BED-BEA9-4BF4-977A-CE3A61DB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4BA-54FA-4116-A56B-BFE94A07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1FAA-7740-471F-BD3F-F790B01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7F3A-203D-4B16-9A1D-2BCFBF55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880AC-3CF7-4A51-8A67-8BB5C46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33C9C-5F4E-49E3-9C2A-88146AEB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BE11D-45EF-4E69-84D8-457B6D82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4E05-2E74-475B-AFA7-C4F19A0A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6FCFF-F141-4693-A105-2AECD1BB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964B-0A59-4F42-9152-3E28E1A1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BEE4-EF0B-4942-9F81-9E21DD87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9715D-202B-4EC2-A43B-10AFD531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57C-2CD3-4696-8A8A-2427780C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BC451-77E7-46B3-9717-124BE706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EA1F-25EA-412E-9893-9FCA8FF9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001BD-1078-4302-A177-90450571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D3E82-03DA-470A-AA94-4F7B3AC4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69B5E-17D9-41E8-AC4D-C33A62D0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F09FD-1A5A-424E-8075-51BFBE02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64C4F-4CB0-4248-A809-D5688062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2D04-9F18-440E-9541-8AB503C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738A1-552E-4B8F-9EC0-A748407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DC32D-BAFF-4AA5-99C2-79A8FD7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F13-AAC6-4C80-A7AE-2B7B55D1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4CAD7-3941-4446-9E81-73FBB43C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2072C-802B-4D87-926A-E03C3CBD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78AFB-EC8E-4DD3-8378-0D701712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22B7E-B8C6-420D-8D35-F9153F19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0FE11-0821-4C5E-921E-50A4D588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D9B8E-3AA6-4D4F-9C61-352CA0E0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2D81E-3E4C-4F9E-8329-60D2CE9A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205EF-AED8-442A-BA70-2DA5875A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92EA2-96B1-4017-A354-B05FD189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1238C-C0B4-438D-B798-C6116A59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D9C-4B39-4E18-825D-3032442E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F67A0-512A-470C-8160-74FC68FD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07C2-D1D3-4CEF-992F-632F6590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076DE-0FCA-49B4-AA99-CC040B03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CCF19-126C-40EF-BD8F-14A0A756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9EDC-98FF-4B8B-94C5-02A1E06A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A582-520E-4082-AD72-79EC58BD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6A782-6CB0-41B8-9D2B-01343920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6213C-D197-4141-AFCF-8619CBD3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CAD3-BEC6-473E-84E0-0AB5E7F1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F81E-7F2C-4D97-9A3D-21D1C4E7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65C-EDC0-4F1D-AFF2-20AC9929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FE3AE-D544-4557-BE0B-D0A76261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D90DF-6D45-4324-B306-AA7981CB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C9DB8-2825-4C8E-856E-1332509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9616F-8910-4CA6-BB24-CC7033C7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4DFD3-1544-4B60-92F8-73F74FB0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FD806-B096-45BD-95B6-D461C4E9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6B545-2B82-49B3-8F61-0F19F85C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A637D-DA4F-41F7-AE14-213FC2BD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5CD9F-800F-4DC4-90A2-714150C4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C1AB2-F2D6-4FA4-862E-B9100FA6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49C1-0AAE-494F-8E34-56B743B5FE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F874-AED9-4F1F-B523-1C6C88E6CF5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6C46-3E4A-4BAD-975D-6D5CB29DC2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D9C5-DCCE-43B9-B9F9-A6EF899402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162E-93F4-48B6-BCF3-5C12804FA1F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F9E1-8897-406E-82CA-ABAF40F8C9A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E3A2-E67A-4C7C-B5A3-836F4DD9B3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BEAE-06ED-4AF3-8F79-F7F17B4EA8C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3C11-6CD1-4E67-80E6-611654BAA2C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10FA-390B-4406-B82C-0C4E3219A23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85960" y="50004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Verdana"/>
              </a:rPr>
              <a:t>КРИМИНОГЕННЫЕ СИТУАЦИИ В ОБЩЕСТВЕННЫХ МЕСТАХ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857760" y="4857480"/>
            <a:ext cx="4929120" cy="1500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Verdana"/>
              </a:rPr>
              <a:t>Автор: Ульданов В. Ученик 11 «А»клас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Verdana"/>
              </a:rPr>
              <a:t>МОУ СОШ № 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6" descr="Герб-6-4"/>
          <p:cNvPicPr/>
          <p:nvPr/>
        </p:nvPicPr>
        <p:blipFill>
          <a:blip r:embed="rId1"/>
          <a:stretch/>
        </p:blipFill>
        <p:spPr>
          <a:xfrm>
            <a:off x="395280" y="404640"/>
            <a:ext cx="1676520" cy="1771920"/>
          </a:xfrm>
          <a:prstGeom prst="rect">
            <a:avLst/>
          </a:prstGeom>
          <a:ln w="0">
            <a:noFill/>
          </a:ln>
        </p:spPr>
      </p:pic>
      <p:pic>
        <p:nvPicPr>
          <p:cNvPr id="455" name="Бандитский Петербург (Игорь Корнелюк) - Город, которого нет (msong.com.ru).mid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2" descr="{08B8F6C6-4313-4CA8-A516-26805B3B5174}"/>
          <p:cNvPicPr/>
          <p:nvPr/>
        </p:nvPicPr>
        <p:blipFill>
          <a:blip r:embed="rId1"/>
          <a:stretch/>
        </p:blipFill>
        <p:spPr>
          <a:xfrm>
            <a:off x="0" y="0"/>
            <a:ext cx="4429080" cy="4643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А (79)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4572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Verdana"/>
              </a:rPr>
              <a:t>Девушки, помнит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ольшой процент сексуальных посягательств приходи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именно на долю знакомых и друзей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4000">
    <p:checker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d3cbb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                 </a:t>
            </a: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Девушки, помните!</a:t>
            </a:r>
            <a:br>
              <a:rPr sz="3200"/>
            </a:br>
            <a:r>
              <a:rPr b="1" lang="ru-RU" sz="32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80" name="Picture 8" descr="{718A40AB-8782-4663-91BD-981E343B462D}"/>
          <p:cNvPicPr/>
          <p:nvPr/>
        </p:nvPicPr>
        <p:blipFill>
          <a:blip r:embed="rId1"/>
          <a:stretch/>
        </p:blipFill>
        <p:spPr>
          <a:xfrm>
            <a:off x="642960" y="1214280"/>
            <a:ext cx="3855960" cy="3714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Й"/>
          <p:cNvPicPr/>
          <p:nvPr/>
        </p:nvPicPr>
        <p:blipFill>
          <a:blip r:embed="rId2"/>
          <a:stretch/>
        </p:blipFill>
        <p:spPr>
          <a:xfrm>
            <a:off x="5286240" y="1214280"/>
            <a:ext cx="3284640" cy="37864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4786200"/>
            <a:ext cx="9144000" cy="18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кромность, девичья честь и достоинство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то обеспечение безопасности</a:t>
            </a: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H:\Схемы\P_KS_03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H:\Схемы\P_KS_0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3" descr="H:\Схемы\P_KS_01.jpg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H:\Схемы\P_KS_02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horz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142920" y="-360"/>
            <a:ext cx="9134640" cy="785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обор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Самозащи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реакция на напад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иды самозащи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ассивны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шетки различных конструкций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ллические двере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хранные и следящие системы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гнальные и отпугивающие   средства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1000">
    <p:zoom dir="ou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ктивны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928440"/>
            <a:ext cx="392904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зоточивые баллонч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714560" y="2786040"/>
            <a:ext cx="4429080" cy="135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шок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3" descr="C:\Users\Наталия\Desktop\фото для фото\scorpion.jpg"/>
          <p:cNvPicPr/>
          <p:nvPr/>
        </p:nvPicPr>
        <p:blipFill>
          <a:blip r:embed="rId1"/>
          <a:stretch/>
        </p:blipFill>
        <p:spPr>
          <a:xfrm>
            <a:off x="4786200" y="928800"/>
            <a:ext cx="4357800" cy="185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Users\Наталия\Desktop\фото для фото\cobra.jpg"/>
          <p:cNvPicPr/>
          <p:nvPr/>
        </p:nvPicPr>
        <p:blipFill>
          <a:blip r:embed="rId2"/>
          <a:stretch/>
        </p:blipFill>
        <p:spPr>
          <a:xfrm>
            <a:off x="285840" y="2428920"/>
            <a:ext cx="4500360" cy="185724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6"/>
          <p:cNvSpPr/>
          <p:nvPr/>
        </p:nvSpPr>
        <p:spPr>
          <a:xfrm>
            <a:off x="357120" y="4214880"/>
            <a:ext cx="45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ешенное и неразрешенное холод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9" descr="C:\Users\Наталия\Desktop\фото для фото\1190203913_1.jpg"/>
          <p:cNvPicPr/>
          <p:nvPr/>
        </p:nvPicPr>
        <p:blipFill>
          <a:blip r:embed="rId3"/>
          <a:stretch/>
        </p:blipFill>
        <p:spPr>
          <a:xfrm>
            <a:off x="4786200" y="4286160"/>
            <a:ext cx="435780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8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6500880" cy="6286320"/>
          </a:xfrm>
          <a:prstGeom prst="rect">
            <a:avLst/>
          </a:prstGeom>
          <a:solidFill>
            <a:srgbClr val="4ea5d8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Необходимая оборо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является преступлением причинение вреда посягающему лицу в состоянии необходимой обороны, то есть при защите личности и прав обороняющегося или других лиц, охраняемых законом интересов общества или государства от общественно опасного посягательства, если при этом не было допущено превышения пределов необходимой оборон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во на необходимую оборону имеют в равной мере все лица независимо от их профессиональной или иной специальной подготовки и служебного положения. Это право принадлежит лицу независимо от возможности избежать общественно опасного посягательства или обратиться за помощью к другим лицам или органам власт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аво на самозащиту закреплено законом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98" name="Picture 1" descr="C:\Users\Наталия\Desktop\фото для фото\1210769885_big.jpg"/>
          <p:cNvPicPr/>
          <p:nvPr/>
        </p:nvPicPr>
        <p:blipFill>
          <a:blip r:embed="rId1"/>
          <a:stretch/>
        </p:blipFill>
        <p:spPr>
          <a:xfrm>
            <a:off x="6500880" y="571680"/>
            <a:ext cx="2643120" cy="1723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Users\Наталия\Desktop\фото для фото\selfdefense1-2.jpg"/>
          <p:cNvPicPr/>
          <p:nvPr/>
        </p:nvPicPr>
        <p:blipFill>
          <a:blip r:embed="rId2"/>
          <a:stretch/>
        </p:blipFill>
        <p:spPr>
          <a:xfrm>
            <a:off x="6500880" y="2286000"/>
            <a:ext cx="2643120" cy="2048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Users\Наталия\Desktop\фото для фото\x_8cf98390.jpg"/>
          <p:cNvPicPr/>
          <p:nvPr/>
        </p:nvPicPr>
        <p:blipFill>
          <a:blip r:embed="rId3"/>
          <a:stretch/>
        </p:blipFill>
        <p:spPr>
          <a:xfrm>
            <a:off x="6500880" y="4286160"/>
            <a:ext cx="264312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circl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2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71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АМООБОРОН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2" name="31f5735618758d90d59fa5f639dcd207-0018-1209211611.mpg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28684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190000">
    <p:wipe dir="r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18524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2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ще парочка приемов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4" name="cef451d4b9d45a243c070e08e6327a5a-0018-1209207325.mpg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215200" cy="5000400"/>
          </a:xfrm>
          <a:prstGeom prst="rect">
            <a:avLst/>
          </a:prstGeom>
          <a:ln w="0">
            <a:noFill/>
          </a:ln>
        </p:spPr>
      </p:pic>
    </p:spTree>
  </p:cSld>
  <p:transition spd="slow" advTm="241000">
    <p:wipe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237961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3" dur="1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4719600" cy="551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Криминогенный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значит преступ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Основное правило безопасности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– предвидеть опасность, избегать ее по возможности, действовать грамотно и решительно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9" descr="{13915DEB-16FF-4FB4-8C9D-B775263CE5E9}"/>
          <p:cNvPicPr/>
          <p:nvPr/>
        </p:nvPicPr>
        <p:blipFill>
          <a:blip r:embed="rId1"/>
          <a:stretch/>
        </p:blipFill>
        <p:spPr>
          <a:xfrm>
            <a:off x="5214960" y="357120"/>
            <a:ext cx="3429000" cy="5581800"/>
          </a:xfrm>
          <a:prstGeom prst="rect">
            <a:avLst/>
          </a:prstGeom>
          <a:ln w="0">
            <a:noFill/>
          </a:ln>
        </p:spPr>
      </p:pic>
      <p:pic>
        <p:nvPicPr>
          <p:cNvPr id="458" name="~PP851.WAV" descr=""/>
          <p:cNvPicPr/>
          <p:nvPr/>
        </p:nvPicPr>
        <p:blipFill>
          <a:blip r:embed="rId2"/>
          <a:stretch/>
        </p:blipFill>
        <p:spPr>
          <a:xfrm>
            <a:off x="85726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{1EC5C3F4-0894-4980-8817-BB2B91584654}"/>
          <p:cNvPicPr/>
          <p:nvPr/>
        </p:nvPicPr>
        <p:blipFill>
          <a:blip r:embed="rId1">
            <a:lum contrast="82000"/>
          </a:blip>
          <a:stretch/>
        </p:blipFill>
        <p:spPr>
          <a:xfrm>
            <a:off x="357120" y="428760"/>
            <a:ext cx="8429760" cy="27828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28400" y="3286080"/>
            <a:ext cx="8358120" cy="3571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ccff"/>
                </a:solidFill>
                <a:uFillTx/>
                <a:latin typeface="Verdana"/>
              </a:rPr>
              <a:t>Криминальные ситуации делятс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Verdana"/>
              </a:rPr>
              <a:t>по месту совершения (в доме, вне жилищ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Verdana"/>
              </a:rPr>
              <a:t>по целям (против личности, с целью овладения имуществом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7000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920" y="428400"/>
            <a:ext cx="5184720" cy="642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Verdana"/>
              </a:rPr>
              <a:t>При столкновении с преступником необходимо запомни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Во что од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Длину и цвет волос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Цвет глаз и их посадк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Рот, нос и уши преступ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Шрамы, усы, бород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Татуировки и что на них изображе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Picture 6" descr="{E2F06FB0-2337-4C67-8D01-94BA973CFC4C}"/>
          <p:cNvPicPr/>
          <p:nvPr/>
        </p:nvPicPr>
        <p:blipFill>
          <a:blip r:embed="rId1"/>
          <a:stretch/>
        </p:blipFill>
        <p:spPr>
          <a:xfrm>
            <a:off x="5357880" y="428760"/>
            <a:ext cx="335736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plus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{2F0AB1B0-3832-4387-B119-F43CCEF34B71}"/>
          <p:cNvPicPr/>
          <p:nvPr/>
        </p:nvPicPr>
        <p:blipFill>
          <a:blip r:embed="rId1"/>
          <a:stretch/>
        </p:blipFill>
        <p:spPr>
          <a:xfrm>
            <a:off x="428760" y="428760"/>
            <a:ext cx="4286160" cy="55004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786200" y="571320"/>
            <a:ext cx="392904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Чтобы избежать опасност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Быть внимательны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Замечать дета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Анализировать ситуаци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оявляться в местах с «дурной славой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Попадая в новое, незнакомое место внимательно осматривать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гнорировать пустыри, стройплощадки, парки, скверы (особенно ночью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5905440" cy="6154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Безопасное поведение на улиц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Правильная оценка обстанов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находиться одной (одному) на улице в темное время суто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ользоваться подземными переходом, если он недостаточно освещен и малолюд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садиться в машину к незнакомым людя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заходите в чужие дома и кварти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збегать проходные подъезды, дворы, пустыри, стройплощадки, безлюдные парки, скверы (особенно ночью)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{B087C367-A9AE-4565-A1E8-BE2A6149B82D}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6516720" y="428760"/>
            <a:ext cx="2198520" cy="3325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{08501BB2-1BCE-45DE-AFED-C15B9E322278}"/>
          <p:cNvPicPr/>
          <p:nvPr/>
        </p:nvPicPr>
        <p:blipFill>
          <a:blip r:embed="rId2"/>
          <a:stretch/>
        </p:blipFill>
        <p:spPr>
          <a:xfrm>
            <a:off x="6500880" y="3714840"/>
            <a:ext cx="2214360" cy="2266920"/>
          </a:xfrm>
          <a:prstGeom prst="rect">
            <a:avLst/>
          </a:prstGeom>
          <a:ln w="0">
            <a:noFill/>
          </a:ln>
        </p:spPr>
      </p:pic>
    </p:spTree>
  </p:cSld>
  <p:transition spd="slow" advTm="37000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920" y="428400"/>
            <a:ext cx="5905440" cy="629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Меры предосторож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для девуше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ровоцировать мужчин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садиться в машину к незнакомым людя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заходите в чужие дома и кварти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збегать проходные подъезды, дворы, пустыри, стройплощадки, безлюдные парки, скверы (особенно ночью) и т.д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дя на вечеринку хорошо знать всех ее участни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Если в компании незнакомые люди, то лучше сразу уй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8" descr="{D42B6180-5A8C-4DC0-A5FB-6C3BBE343B3E}"/>
          <p:cNvPicPr/>
          <p:nvPr/>
        </p:nvPicPr>
        <p:blipFill>
          <a:blip r:embed="rId1"/>
          <a:stretch/>
        </p:blipFill>
        <p:spPr>
          <a:xfrm>
            <a:off x="6227640" y="428760"/>
            <a:ext cx="2487600" cy="542916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404316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Идя в гости к юноше (мужчине) быть уверенной, что не останетесь с ним наедин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Поведением (развязанность, громкий смех) не привлекать внимание .Приходить в компанию только с близкими, проверенными друзьями (с ними же уходить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9.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Нельзя быть «центром внимания» в общественных мес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2420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2" name="Picture 9" descr="{EDDFE3E9-B47A-448B-B6A5-4FE76C04ED3B}"/>
          <p:cNvPicPr/>
          <p:nvPr/>
        </p:nvPicPr>
        <p:blipFill>
          <a:blip r:embed="rId1"/>
          <a:stretch/>
        </p:blipFill>
        <p:spPr>
          <a:xfrm>
            <a:off x="4643280" y="428760"/>
            <a:ext cx="407196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trips dir="r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56760" y="428400"/>
            <a:ext cx="579924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Меры предосторож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для девушек в темное время суто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Одежда не должна стеснять движ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Обувь - удобная для бега (без высоких каблу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Волосы не должны быть распуще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меть одно или несколько средств защиты (газовый баллончик, баллончик с лаком или дезодорантом, пакетик с молотым перцем, свисток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4" name="Picture 8" descr="{851278D3-10A6-499C-8F68-6C92799CDF68}"/>
          <p:cNvPicPr/>
          <p:nvPr/>
        </p:nvPicPr>
        <p:blipFill>
          <a:blip r:embed="rId1"/>
          <a:stretch/>
        </p:blipFill>
        <p:spPr>
          <a:xfrm>
            <a:off x="6156360" y="428760"/>
            <a:ext cx="2558880" cy="2786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{E2968906-5477-4333-9B2F-C8E9D919389D}"/>
          <p:cNvPicPr/>
          <p:nvPr/>
        </p:nvPicPr>
        <p:blipFill>
          <a:blip r:embed="rId2"/>
          <a:stretch/>
        </p:blipFill>
        <p:spPr>
          <a:xfrm>
            <a:off x="6215040" y="3214800"/>
            <a:ext cx="2473200" cy="269532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wheel spokes="8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6:57:05Z</dcterms:created>
  <dc:creator>PASARELLA</dc:creator>
  <dc:description/>
  <dc:language>en-US</dc:language>
  <cp:lastModifiedBy>Николай</cp:lastModifiedBy>
  <dcterms:modified xsi:type="dcterms:W3CDTF">2013-07-02T10:43:21Z</dcterms:modified>
  <cp:revision>121</cp:revision>
  <dc:subject/>
  <dc:title>Криминогенные ситу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3000000000001024140</vt:lpwstr>
  </property>
</Properties>
</file>