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11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13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F19-8665-42B9-BD9D-60C998028E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4CD1-AC42-4606-99FA-7B0864392E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EF3C-21FA-4F65-A633-9E061308B9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17DB-98E2-4EF1-989D-9E4BE797EB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84F2-667C-49D9-B5CB-0FDBBA78B5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0AE4-CB27-48F6-8D82-8648B53227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EEE4-466E-43DC-9A91-3A6BEE7C76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4696-20BF-4B1E-A2D3-A67C07CAF0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8360-8358-484D-A42D-1ECE212422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B0FE-E58D-4CEA-9ACC-5D1E0A89C1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6B7D-3AFF-427C-8B54-927E8C6821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3F3C-14A6-4EDA-9F67-3135119950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6E39-5347-41D6-8A84-FF833F4428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7AE9-C3CE-437C-8A45-7767227AEC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8AB-1913-4E2E-BD64-D0D3AFD0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489-245F-4FA3-B928-4EA11339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2F5CD-60D8-4B08-9C7C-F5E38E47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BC21C-AB3E-4EC7-9B56-EE7BA526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FEE0A-D801-4CBB-BBE8-550318E8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6A26E-7334-4A3D-9F4D-8F5EC268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92401-E765-4F19-A1B0-59877D4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3260A-D617-43FB-82E4-490B5E8D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1DB83-0D25-43D4-B157-EC8681F4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0C1F1-3E0B-4CF2-B92E-C8D64D03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E3006-A3FE-4B53-BBD9-6CA4EE9D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D5007-BCB5-4723-831B-C833076C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3E1-D7B9-4BBC-830A-C817C18E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C7017-8475-440C-9DE6-8FC1060F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2F452-8330-4DC7-904B-99F5C3A5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95078-B854-484E-9B57-5D6FFCFB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03D27-2F3A-4B63-9016-35D59CCE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42256-7391-47F7-BEE7-26231231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658CE-31EA-4671-9093-DB306BEB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DC37B-1C84-480B-80EB-1BC9DFE3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67B5F-EFE3-46FC-97D0-5AD8DEFF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12D67-2EE9-4B26-8BD4-E270B0B9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36433-D8E3-42BF-B977-6B4C77A8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3DD-B611-4637-BF27-53E1E43F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2E0CB-ACC1-46F8-8967-9B1057BE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7B87-1047-4B30-AF36-8D0CDE24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B1ED-513E-4586-B0F5-A8912BA4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3BAD-5C82-4D4B-B651-F2CBE801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3B40-633A-4968-822B-2744AFD6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7A8A-A78E-443D-B3D7-F31C9038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7E61-8724-4CB6-881B-2052E636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09D3-AE2C-4A80-9777-9D335BDC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3E6-22C3-4AB9-B8A8-8CCE0581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C5DF-53C7-4037-9C31-3DEC0A3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8824-32E5-4AC7-BF7B-AC6411BA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8632-9C55-46EA-BA2A-CC1D373A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743B-92CC-40B1-92A5-591CC9B4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F5A0-7A80-499F-9E16-10448999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BABDA-ED2F-45F4-BADF-404CD05F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7530-8E2E-4E2B-A0A2-F1E22069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FE2FF-981C-49E7-B963-B38B57A7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19B2-B46B-4304-9413-F6561C82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2E5A-A9E3-4361-902B-B1267BBE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B80-44A2-4F4E-91EC-BFB1C047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F3904-0EDC-4A29-AE01-324A16C9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E65DB-6F67-477B-B704-8FC142BA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61FD-07E2-493D-82FF-30936FB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930CB-2630-4904-B331-4B0428BD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DBBC-E5C5-4DA2-AC84-9BCA01AA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6D72-6AB1-4688-BEE9-6DB3BDCE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4D100-8A34-475B-9404-230C2087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DD4FA-80DC-4B46-B9AB-F5CABD61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6F92E-80BE-44A3-95B8-99A19219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839AC-67EC-4AF7-B4D0-080A25BD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62D-D864-4B04-A860-67943575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E448A-C65C-413F-A400-271BD0FB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9926B-877C-4FF8-85CC-78821E12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816DF-8CFB-420E-9247-B046874F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4848F-18AF-4141-A5C5-1B4B350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B3400-09DA-4F07-BC3A-C6FC7D75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380E2-FCBD-4621-9145-741104C0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BA422-BA92-4DF9-9BE6-0C54EC96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F2A6-8702-4880-8F14-9603F578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18030-8237-45AA-BADF-3DCC4439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06E6C-8619-4F11-881A-6E243528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DC3-2371-4BA8-811E-A59F0882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0DD11-EA5B-4446-9C5A-281567B3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671ED-EE97-4938-B0F1-3E2E60CE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B5A4B-2159-4FB2-A20D-CAFB01D7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2702B-1AC6-4B9E-BFB6-D46783CA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A2905-633A-4AC6-9EBA-F4989F10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80D6A-CD4E-4CCD-9CF2-1638A06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42A2B-2BD0-4DA7-B4AF-548544B4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FF1A9-C9D5-4887-BFB8-370A55B6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1287-12A5-4CFF-9E78-3565A25F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9F8C3-64E1-41D4-BCEA-4F46143A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9C8-FED8-417A-BAE3-6EB049EF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3ECA-D589-4758-8096-319CF248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218D9-9153-4A8C-AEB3-D782BCC3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FBF6D-6F45-4441-A1D1-A099F906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C9949-2E86-40BD-90D0-95666254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8EE3-0800-4276-B502-AD2BF82F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11909-3A8F-4C13-A9B1-9988EA82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E49EB-2AA9-46C7-8809-87A41AC4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272A0-EDBE-4D23-99DB-0C6CF9B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A29C5-31CA-4BB3-9A42-AE545B07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757B8-2A87-4F9B-92C0-055C213D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7BA-E560-4765-A5A3-74D919E7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1539D-E74B-41EB-8821-9D95D050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24525-792B-4146-91D6-C5A42A56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B7DBC-FC07-40A1-90A7-221903D3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88868-FEF3-4967-BB2C-9AE7920F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BC274-B5AC-4A30-8F7F-3483AEDA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A141E-83D8-4F6D-8B3F-61C1F06B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DA404-2EDA-4452-887C-FE60AACE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8FCB0-464E-420A-9C0A-D7752379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DED55-1016-470D-880D-FCC73FF5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8B157-F671-463B-9575-0FDF573B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F4B-D7B2-4CC1-A8B0-15F59401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0C8AD-5099-424B-ABE2-E33452B8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1C02E-5A59-42ED-9378-C5AD957A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95C5-84F3-4AC4-8E4F-0345B2D1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219AD-114A-47B3-9401-C3F4C891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30965-0B03-4E0D-A458-200387CB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0FEAE-C9A0-45AA-8BA5-1E6E93A8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59B85-F4CB-442B-9479-73D48984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B7555-5430-4B8F-A46A-431F1810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69124-7667-494D-B135-F9C298EE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37E2A-310E-4C66-B2BA-8B42CFDC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999-15AF-410B-A104-38CE81EB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0A6A9-CB3F-48EB-944A-B46851CF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BA89F-0DC6-4C83-A012-12B3E60E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7A0E1-484A-4126-BAC8-BBB4326E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4264E-EDB7-4F72-9B78-A6DC45A4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C51A4-3002-4627-A5AF-34DE382C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241A7-730C-4A5B-8EE3-2F22F53D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9AC45-E3E8-48E5-BC90-124CDAF9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A4957-689E-4D31-8E3E-58FDDA1B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13791-5683-4401-9E16-468A4B71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BA2B2-953C-4344-9DC9-A625D726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DCE2-04C9-4512-AA56-F4A070D2DDF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B7C4-2B70-4B6F-9C86-901F85AB017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E479-E2A8-4C8E-845B-46B28BA11B8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F5D1-772F-4737-A263-544F4DA315D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4AC1-3213-4F3E-B1E2-7E9EE0C5C9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ECD7-ACEC-49D2-BBDD-F96CB1BAD88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512-18A0-4A42-8027-AB35CC750D2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C18C-FB08-4873-8189-37A83FC5076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151C-4A20-49D9-845B-A574189F501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E0B8-7731-48EC-818C-6FA8A396F71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85960" y="500040"/>
            <a:ext cx="6858000" cy="36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Verdana"/>
              </a:rPr>
              <a:t>КРИМИНОГЕННЫЕ СИТУАЦИИ В ОБЩЕСТВЕННЫХ МЕСТАХ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857760" y="4857480"/>
            <a:ext cx="4929120" cy="1500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Verdana"/>
              </a:rPr>
              <a:t>Автор: Ульданов В. Ученик 11 «А»клас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Verdana"/>
              </a:rPr>
              <a:t>МОУ СОШ № 3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6" descr="Герб-6-4"/>
          <p:cNvPicPr/>
          <p:nvPr/>
        </p:nvPicPr>
        <p:blipFill>
          <a:blip r:embed="rId1"/>
          <a:stretch/>
        </p:blipFill>
        <p:spPr>
          <a:xfrm>
            <a:off x="395280" y="404640"/>
            <a:ext cx="1676520" cy="1771920"/>
          </a:xfrm>
          <a:prstGeom prst="rect">
            <a:avLst/>
          </a:prstGeom>
          <a:ln w="0">
            <a:noFill/>
          </a:ln>
        </p:spPr>
      </p:pic>
      <p:pic>
        <p:nvPicPr>
          <p:cNvPr id="455" name="Бандитский Петербург (Игорь Корнелюк) - Город, которого нет (msong.com.ru).mid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2" descr="{08B8F6C6-4313-4CA8-A516-26805B3B5174}"/>
          <p:cNvPicPr/>
          <p:nvPr/>
        </p:nvPicPr>
        <p:blipFill>
          <a:blip r:embed="rId1"/>
          <a:stretch/>
        </p:blipFill>
        <p:spPr>
          <a:xfrm>
            <a:off x="0" y="0"/>
            <a:ext cx="4429080" cy="4643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А (79)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4572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Verdana"/>
              </a:rPr>
              <a:t>Девушки, помните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Большой процент сексуальных посягательств приходи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именно на долю знакомых и друзей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4000">
    <p:checker dir="vert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d3cbb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                 </a:t>
            </a:r>
            <a:r>
              <a:rPr b="1" lang="ru-RU" sz="3200" spc="-1" strike="noStrike">
                <a:solidFill>
                  <a:srgbClr val="ff6600"/>
                </a:solidFill>
                <a:latin typeface="Verdana"/>
              </a:rPr>
              <a:t>Девушки, помните!</a:t>
            </a:r>
            <a:br>
              <a:rPr sz="3200"/>
            </a:br>
            <a:r>
              <a:rPr b="1" lang="ru-RU" sz="32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80" name="Picture 8" descr="{718A40AB-8782-4663-91BD-981E343B462D}"/>
          <p:cNvPicPr/>
          <p:nvPr/>
        </p:nvPicPr>
        <p:blipFill>
          <a:blip r:embed="rId1"/>
          <a:stretch/>
        </p:blipFill>
        <p:spPr>
          <a:xfrm>
            <a:off x="642960" y="1214280"/>
            <a:ext cx="3855960" cy="3714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Й"/>
          <p:cNvPicPr/>
          <p:nvPr/>
        </p:nvPicPr>
        <p:blipFill>
          <a:blip r:embed="rId2"/>
          <a:stretch/>
        </p:blipFill>
        <p:spPr>
          <a:xfrm>
            <a:off x="5286240" y="1214280"/>
            <a:ext cx="3284640" cy="37864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0" y="4786200"/>
            <a:ext cx="9144000" cy="185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кромность, девичья честь и достоинство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то обеспечение безопасности</a:t>
            </a: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H:\Схемы\P_KS_03.jpg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6" descr="H:\Схемы\P_KS_04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blinds dir="horz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3" descr="H:\Схемы\P_KS_01.jpg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H:\Схемы\P_KS_02.jpg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blinds dir="horz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-142920" y="-360"/>
            <a:ext cx="9134640" cy="785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амообор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Самозащи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реакция на напад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     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иды самозащи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Пассивны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шетки различных конструкций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ллические дверей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хранные и следящие системы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гнальные и отпугивающие   средства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1000">
    <p:zoom dir="ou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ктивны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928440"/>
            <a:ext cx="392904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зоточивые баллонч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714560" y="2786040"/>
            <a:ext cx="4429080" cy="1357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шок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3" descr="C:\Users\Наталия\Desktop\фото для фото\scorpion.jpg"/>
          <p:cNvPicPr/>
          <p:nvPr/>
        </p:nvPicPr>
        <p:blipFill>
          <a:blip r:embed="rId1"/>
          <a:stretch/>
        </p:blipFill>
        <p:spPr>
          <a:xfrm>
            <a:off x="4786200" y="928800"/>
            <a:ext cx="4357800" cy="18572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Users\Наталия\Desktop\фото для фото\cobra.jpg"/>
          <p:cNvPicPr/>
          <p:nvPr/>
        </p:nvPicPr>
        <p:blipFill>
          <a:blip r:embed="rId2"/>
          <a:stretch/>
        </p:blipFill>
        <p:spPr>
          <a:xfrm>
            <a:off x="285840" y="2428920"/>
            <a:ext cx="4500360" cy="1857240"/>
          </a:xfrm>
          <a:prstGeom prst="rect">
            <a:avLst/>
          </a:prstGeom>
          <a:ln w="0">
            <a:noFill/>
          </a:ln>
        </p:spPr>
      </p:pic>
      <p:sp>
        <p:nvSpPr>
          <p:cNvPr id="494" name="Прямоугольник 6"/>
          <p:cNvSpPr/>
          <p:nvPr/>
        </p:nvSpPr>
        <p:spPr>
          <a:xfrm>
            <a:off x="357120" y="4214880"/>
            <a:ext cx="45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ешенное и неразрешенное холод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9" descr="C:\Users\Наталия\Desktop\фото для фото\1190203913_1.jpg"/>
          <p:cNvPicPr/>
          <p:nvPr/>
        </p:nvPicPr>
        <p:blipFill>
          <a:blip r:embed="rId3"/>
          <a:stretch/>
        </p:blipFill>
        <p:spPr>
          <a:xfrm>
            <a:off x="4786200" y="4286160"/>
            <a:ext cx="4357800" cy="257184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edg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8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6500880" cy="6286320"/>
          </a:xfrm>
          <a:prstGeom prst="rect">
            <a:avLst/>
          </a:prstGeom>
          <a:solidFill>
            <a:srgbClr val="4ea5d8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Необходимая оборо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является преступлением причинение вреда посягающему лицу в состоянии необходимой обороны, то есть при защите личности и прав обороняющегося или других лиц, охраняемых законом интересов общества или государства от общественно опасного посягательства, если при этом не было допущено превышения пределов необходимой оборон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аво на необходимую оборону имеют в равной мере все лица независимо от их профессиональной или иной специальной подготовки и служебного положения. Это право принадлежит лицу независимо от возможности избежать общественно опасного посягательства или обратиться за помощью к другим лицам или органам власт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4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аво на самозащиту закреплено законом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98" name="Picture 1" descr="C:\Users\Наталия\Desktop\фото для фото\1210769885_big.jpg"/>
          <p:cNvPicPr/>
          <p:nvPr/>
        </p:nvPicPr>
        <p:blipFill>
          <a:blip r:embed="rId1"/>
          <a:stretch/>
        </p:blipFill>
        <p:spPr>
          <a:xfrm>
            <a:off x="6500880" y="571680"/>
            <a:ext cx="2643120" cy="1723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C:\Users\Наталия\Desktop\фото для фото\selfdefense1-2.jpg"/>
          <p:cNvPicPr/>
          <p:nvPr/>
        </p:nvPicPr>
        <p:blipFill>
          <a:blip r:embed="rId2"/>
          <a:stretch/>
        </p:blipFill>
        <p:spPr>
          <a:xfrm>
            <a:off x="6500880" y="2286000"/>
            <a:ext cx="2643120" cy="2048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C:\Users\Наталия\Desktop\фото для фото\x_8cf98390.jpg"/>
          <p:cNvPicPr/>
          <p:nvPr/>
        </p:nvPicPr>
        <p:blipFill>
          <a:blip r:embed="rId3"/>
          <a:stretch/>
        </p:blipFill>
        <p:spPr>
          <a:xfrm>
            <a:off x="6500880" y="4286160"/>
            <a:ext cx="2643120" cy="2571840"/>
          </a:xfrm>
          <a:prstGeom prst="rect">
            <a:avLst/>
          </a:prstGeom>
          <a:ln w="0">
            <a:noFill/>
          </a:ln>
        </p:spPr>
      </p:pic>
    </p:spTree>
  </p:cSld>
  <p:transition spd="slow" advTm="39000">
    <p:circl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8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2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571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АМООБОРОН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2" name="31f5735618758d90d59fa5f639dcd207-0018-1209211611.mpg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8286840" cy="5500440"/>
          </a:xfrm>
          <a:prstGeom prst="rect">
            <a:avLst/>
          </a:prstGeom>
          <a:ln w="0">
            <a:noFill/>
          </a:ln>
        </p:spPr>
      </p:pic>
    </p:spTree>
  </p:cSld>
  <p:transition spd="slow" advTm="190000">
    <p:wipe dir="r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18524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2" dur="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Еще парочка приемов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4" name="cef451d4b9d45a243c070e08e6327a5a-0018-1209207325.mpg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8215200" cy="5000400"/>
          </a:xfrm>
          <a:prstGeom prst="rect">
            <a:avLst/>
          </a:prstGeom>
          <a:ln w="0">
            <a:noFill/>
          </a:ln>
        </p:spPr>
      </p:pic>
    </p:spTree>
  </p:cSld>
  <p:transition spd="slow" advTm="241000">
    <p:wipe dir="r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8" dur="237961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3" dur="1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0" lang="ru-RU" sz="6600" spc="-1" strike="noStrike">
                <a:solidFill>
                  <a:srgbClr val="ff0000"/>
                </a:solidFill>
                <a:latin typeface="Verdana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7000">
    <p:dissolv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28760" y="499680"/>
            <a:ext cx="4719600" cy="551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Криминогенный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значит преступ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Основное правило безопасности</a:t>
            </a: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 – предвидеть опасность, избегать ее по возможности, действовать грамотно и решительно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9" descr="{13915DEB-16FF-4FB4-8C9D-B775263CE5E9}"/>
          <p:cNvPicPr/>
          <p:nvPr/>
        </p:nvPicPr>
        <p:blipFill>
          <a:blip r:embed="rId1"/>
          <a:stretch/>
        </p:blipFill>
        <p:spPr>
          <a:xfrm>
            <a:off x="5214960" y="357120"/>
            <a:ext cx="3429000" cy="5581800"/>
          </a:xfrm>
          <a:prstGeom prst="rect">
            <a:avLst/>
          </a:prstGeom>
          <a:ln w="0">
            <a:noFill/>
          </a:ln>
        </p:spPr>
      </p:pic>
      <p:pic>
        <p:nvPicPr>
          <p:cNvPr id="458" name="~PP851.WAV" descr=""/>
          <p:cNvPicPr/>
          <p:nvPr/>
        </p:nvPicPr>
        <p:blipFill>
          <a:blip r:embed="rId2"/>
          <a:stretch/>
        </p:blipFill>
        <p:spPr>
          <a:xfrm>
            <a:off x="85726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{1EC5C3F4-0894-4980-8817-BB2B91584654}"/>
          <p:cNvPicPr/>
          <p:nvPr/>
        </p:nvPicPr>
        <p:blipFill>
          <a:blip r:embed="rId1">
            <a:lum contrast="82000"/>
          </a:blip>
          <a:stretch/>
        </p:blipFill>
        <p:spPr>
          <a:xfrm>
            <a:off x="357120" y="428760"/>
            <a:ext cx="8429760" cy="27828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28400" y="3286080"/>
            <a:ext cx="8358120" cy="3571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ccff"/>
                </a:solidFill>
                <a:uFillTx/>
                <a:latin typeface="Verdana"/>
              </a:rPr>
              <a:t>Криминальные ситуации делятс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Verdana"/>
              </a:rPr>
              <a:t>по месту совершения (в доме, вне жилища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Verdana"/>
              </a:rPr>
              <a:t>по целям (против личности, с целью овладения имуществом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7000"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250920" y="428400"/>
            <a:ext cx="5184720" cy="6429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Verdana"/>
              </a:rPr>
              <a:t>При столкновении с преступником необходимо запомни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Во что од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Длину и цвет волос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Цвет глаз и их посадк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Рот, нос и уши преступ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Шрамы, усы, бород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Verdana"/>
              </a:rPr>
              <a:t>Татуировки и что на них изображе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Picture 6" descr="{E2F06FB0-2337-4C67-8D01-94BA973CFC4C}"/>
          <p:cNvPicPr/>
          <p:nvPr/>
        </p:nvPicPr>
        <p:blipFill>
          <a:blip r:embed="rId1"/>
          <a:stretch/>
        </p:blipFill>
        <p:spPr>
          <a:xfrm>
            <a:off x="5357880" y="428760"/>
            <a:ext cx="3357360" cy="550044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plus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{2F0AB1B0-3832-4387-B119-F43CCEF34B71}"/>
          <p:cNvPicPr/>
          <p:nvPr/>
        </p:nvPicPr>
        <p:blipFill>
          <a:blip r:embed="rId1"/>
          <a:stretch/>
        </p:blipFill>
        <p:spPr>
          <a:xfrm>
            <a:off x="428760" y="428760"/>
            <a:ext cx="4286160" cy="55004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786200" y="571320"/>
            <a:ext cx="3929040" cy="5500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Чтобы избежать опасность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Быть внимательны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Замечать дета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Анализировать ситуацию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появляться в местах с «дурной славой»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Попадая в новое, незнакомое место внимательно осматриватьс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гнорировать пустыри, стройплощадки, парки, скверы (особенно ночью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amond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57120" y="428760"/>
            <a:ext cx="5905440" cy="6154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Безопасное поведение на улиц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Правильная оценка обстанов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находиться одной (одному) на улице в темное время суток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пользоваться подземными переходом, если он недостаточно освещен и малолюде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садиться в машину к незнакомым людя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заходите в чужие дома и кварти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збегать проходные подъезды, дворы, пустыри, стройплощадки, безлюдные парки, скверы (особенно ночью)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10" descr="{B087C367-A9AE-4565-A1E8-BE2A6149B82D}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6516720" y="428760"/>
            <a:ext cx="2198520" cy="33256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2" descr="{08501BB2-1BCE-45DE-AFED-C15B9E322278}"/>
          <p:cNvPicPr/>
          <p:nvPr/>
        </p:nvPicPr>
        <p:blipFill>
          <a:blip r:embed="rId2"/>
          <a:stretch/>
        </p:blipFill>
        <p:spPr>
          <a:xfrm>
            <a:off x="6500880" y="3714840"/>
            <a:ext cx="2214360" cy="2266920"/>
          </a:xfrm>
          <a:prstGeom prst="rect">
            <a:avLst/>
          </a:prstGeom>
          <a:ln w="0">
            <a:noFill/>
          </a:ln>
        </p:spPr>
      </p:pic>
    </p:spTree>
  </p:cSld>
  <p:transition spd="slow" advTm="37000"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50920" y="428400"/>
            <a:ext cx="5905440" cy="629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Verdana"/>
              </a:rPr>
              <a:t>Меры предосторож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Verdana"/>
              </a:rPr>
              <a:t>для девуше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провоцировать мужчин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садиться в машину к незнакомым людя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Не заходите в чужие дома и кварти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збегать проходные подъезды, дворы, пустыри, стройплощадки, безлюдные парки, скверы (особенно ночью) и т.д.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дя на вечеринку хорошо знать всех ее участник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Если в компании незнакомые люди, то лучше сразу уй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Picture 8" descr="{D42B6180-5A8C-4DC0-A5FB-6C3BBE343B3E}"/>
          <p:cNvPicPr/>
          <p:nvPr/>
        </p:nvPicPr>
        <p:blipFill>
          <a:blip r:embed="rId1"/>
          <a:stretch/>
        </p:blipFill>
        <p:spPr>
          <a:xfrm>
            <a:off x="6227640" y="428760"/>
            <a:ext cx="2487600" cy="5429160"/>
          </a:xfrm>
          <a:prstGeom prst="rect">
            <a:avLst/>
          </a:prstGeom>
          <a:ln w="0">
            <a:noFill/>
          </a:ln>
        </p:spPr>
      </p:pic>
    </p:spTree>
  </p:cSld>
  <p:transition spd="slow" advTm="41000"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4043160" cy="5500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7.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ffff"/>
                </a:solidFill>
                <a:latin typeface="Verdana"/>
              </a:rPr>
              <a:t>Идя в гости к юноше (мужчине) быть уверенной, что не останетесь с ним наедин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8.</a:t>
            </a: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ffff"/>
                </a:solidFill>
                <a:latin typeface="Verdana"/>
              </a:rPr>
              <a:t>Поведением (развязанность, громкий смех) не привлекать внимание .Приходить в компанию только с близкими, проверенными друзьями (с ними же уходить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9.</a:t>
            </a:r>
            <a:r>
              <a:rPr b="1" lang="ru-RU" sz="1800" spc="-1" strike="noStrike">
                <a:solidFill>
                  <a:srgbClr val="00ffff"/>
                </a:solidFill>
                <a:latin typeface="Verdana"/>
              </a:rPr>
              <a:t>Нельзя быть «центром внимания» в общественных мест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24200" y="190476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2" name="Picture 9" descr="{EDDFE3E9-B47A-448B-B6A5-4FE76C04ED3B}"/>
          <p:cNvPicPr/>
          <p:nvPr/>
        </p:nvPicPr>
        <p:blipFill>
          <a:blip r:embed="rId1"/>
          <a:stretch/>
        </p:blipFill>
        <p:spPr>
          <a:xfrm>
            <a:off x="4643280" y="428760"/>
            <a:ext cx="4071960" cy="55004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strips dir="r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56760" y="428400"/>
            <a:ext cx="5799240" cy="5500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Меры предосторож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Verdana"/>
              </a:rPr>
              <a:t>для девушек в темное время суто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Одежда не должна стеснять движ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Обувь - удобная для бега (без высоких каблу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Волосы не должны быть распущен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Verdana"/>
              </a:rPr>
              <a:t>Иметь одно или несколько средств защиты (газовый баллончик, баллончик с лаком или дезодорантом, пакетик с молотым перцем, свисток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4" name="Picture 8" descr="{851278D3-10A6-499C-8F68-6C92799CDF68}"/>
          <p:cNvPicPr/>
          <p:nvPr/>
        </p:nvPicPr>
        <p:blipFill>
          <a:blip r:embed="rId1"/>
          <a:stretch/>
        </p:blipFill>
        <p:spPr>
          <a:xfrm>
            <a:off x="6156360" y="428760"/>
            <a:ext cx="2558880" cy="27860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{E2968906-5477-4333-9B2F-C8E9D919389D}"/>
          <p:cNvPicPr/>
          <p:nvPr/>
        </p:nvPicPr>
        <p:blipFill>
          <a:blip r:embed="rId2"/>
          <a:stretch/>
        </p:blipFill>
        <p:spPr>
          <a:xfrm>
            <a:off x="6215040" y="3214800"/>
            <a:ext cx="2473200" cy="2695320"/>
          </a:xfrm>
          <a:prstGeom prst="rect">
            <a:avLst/>
          </a:prstGeom>
          <a:ln w="0">
            <a:noFill/>
          </a:ln>
        </p:spPr>
      </p:pic>
    </p:spTree>
  </p:cSld>
  <p:transition spd="slow" advTm="32000">
    <p:wheel spokes="8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1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10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6:57:05Z</dcterms:created>
  <dc:creator>PASARELLA</dc:creator>
  <dc:description/>
  <dc:language>en-US</dc:language>
  <cp:lastModifiedBy>Николай</cp:lastModifiedBy>
  <dcterms:modified xsi:type="dcterms:W3CDTF">2013-07-02T10:43:21Z</dcterms:modified>
  <cp:revision>121</cp:revision>
  <dc:subject/>
  <dc:title>Криминогенные ситу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3000000000001024140</vt:lpwstr>
  </property>
</Properties>
</file>