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3C8E-09EE-462C-B58B-3065CA674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2BF5-3F18-4E5B-962F-C7A6DEBA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77C1-A12F-4473-BBB4-328A9D6B0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9066-D271-41ED-A2E9-FE377AFAE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A004-42F4-4D41-97C5-59C4EEA16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CB38-B0B5-45CD-AA56-8D634AC6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A6D7-5188-4A51-815D-FBE366D1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3BE6-C2A1-4437-A1B9-57CA4F01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742A8-A0EA-4C1B-97EE-E178AA88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2C9B-C947-41CA-88A4-3A47E0D8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6193-3EC8-4132-9F21-A69CFF34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1225-B779-40C3-827D-8B072DFE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E90B-7821-4CD1-BE94-9426A3F5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C071C-1852-4897-8F28-D73CA736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78AF-1088-468E-BFE9-1ABEECD7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909E-2464-42DC-9F02-C525E1A05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B5534-06B5-47D8-B414-9FB844A15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C275-0F32-4215-B20D-4D4A30D1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7D2B-BA0B-48A6-A710-9C4A2369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26F4-8908-432B-885B-998B318A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6838-61B0-44A1-A0EB-B2A594D1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56DE-D3A2-4C7C-B6AF-0262B5AB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CCC4-9BA7-4429-8899-E040C2DF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1970-59B7-4581-96DB-A4A4760A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2262-1E70-4005-9D01-1FF6F36EE536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8509-5B83-4D01-8B8F-D82B36C58AEA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hyperlink" Target="http://ru.wikipedia.org/wiki/&#1045;&#1083;&#1080;&#1079;&#1072;&#1074;&#1077;&#1090;&#1072;_II" TargetMode="External"/><Relationship Id="rId4" Type="http://schemas.openxmlformats.org/officeDocument/2006/relationships/hyperlink" Target="http://ru.wikipedia.org/wiki/&#1060;&#1080;&#1083;&#1080;&#1087;&#1087;,_&#1075;&#1077;&#1088;&#1094;&#1086;&#1075;_&#1069;&#1076;&#1080;&#1085;&#1073;&#1091;&#1088;&#1075;&#1089;&#1082;&#1080;&#1081;" TargetMode="External"/><Relationship Id="rId5" Type="http://schemas.openxmlformats.org/officeDocument/2006/relationships/hyperlink" Target="http://ru.wikipedia.org/wiki/&#1060;&#1080;&#1083;&#1080;&#1087;&#1087;,_&#1075;&#1077;&#1088;&#1094;&#1086;&#1075;_&#1069;&#1076;&#1080;&#1085;&#1073;&#1091;&#1088;&#1075;&#1089;&#1082;&#1080;&#1081;" TargetMode="External"/><Relationship Id="rId6" Type="http://schemas.openxmlformats.org/officeDocument/2006/relationships/image" Target="../media/image3.png"/><Relationship Id="rId7" Type="http://schemas.openxmlformats.org/officeDocument/2006/relationships/hyperlink" Target="http://ru.wikipedia.org/wiki/&#1063;&#1072;&#1088;&#1083;&#1100;&#1079;,_&#1087;&#1088;&#1080;&#1085;&#1094;_&#1059;&#1101;&#1083;&#1100;&#1089;&#1082;&#1080;&#1081;" TargetMode="External"/><Relationship Id="rId8" Type="http://schemas.openxmlformats.org/officeDocument/2006/relationships/hyperlink" Target="http://ru.wikipedia.org/wiki/&#1050;&#1072;&#1084;&#1080;&#1083;&#1083;&#1072;,_&#1075;&#1077;&#1088;&#1094;&#1086;&#1075;&#1080;&#1085;&#1103;_&#1050;&#1086;&#1088;&#1085;&#1091;&#1086;&#1083;&#1100;&#1089;&#1082;&#1072;&#1103;" TargetMode="External"/><Relationship Id="rId9" Type="http://schemas.openxmlformats.org/officeDocument/2006/relationships/hyperlink" Target="http://ru.wikipedia.org/wiki/&#1050;&#1072;&#1084;&#1080;&#1083;&#1083;&#1072;,_&#1075;&#1077;&#1088;&#1094;&#1086;&#1075;&#1080;&#1085;&#1103;_&#1050;&#1086;&#1088;&#1085;&#1091;&#1086;&#1083;&#1100;&#1089;&#1082;&#1072;&#1103;" TargetMode="External"/><Relationship Id="rId10" Type="http://schemas.openxmlformats.org/officeDocument/2006/relationships/hyperlink" Target="http://ru.wikipedia.org/wiki/&#1050;&#1072;&#1084;&#1080;&#1083;&#1083;&#1072;,_&#1075;&#1077;&#1088;&#1094;&#1086;&#1075;&#1080;&#1085;&#1103;_&#1050;&#1086;&#1088;&#1085;&#1091;&#1086;&#1083;&#1100;&#1089;&#1082;&#1072;&#1103;" TargetMode="External"/><Relationship Id="rId11" Type="http://schemas.openxmlformats.org/officeDocument/2006/relationships/image" Target="../media/image6.png"/><Relationship Id="rId12" Type="http://schemas.openxmlformats.org/officeDocument/2006/relationships/hyperlink" Target="http://ru.wikipedia.org/wiki/&#1059;&#1080;&#1083;&#1100;&#1103;&#1084;_(&#1087;&#1088;&#1080;&#1085;&#1094;_&#1042;&#1077;&#1083;&#1080;&#1082;&#1086;&#1073;&#1088;&#1080;&#1090;&#1072;&#1085;&#1080;&#1080;)" TargetMode="External"/><Relationship Id="rId13" Type="http://schemas.openxmlformats.org/officeDocument/2006/relationships/image" Target="../media/image6.png"/><Relationship Id="rId14" Type="http://schemas.openxmlformats.org/officeDocument/2006/relationships/hyperlink" Target="http://ru.wikipedia.org/wiki/&#1043;&#1072;&#1088;&#1088;&#1080;_(&#1087;&#1088;&#1080;&#1085;&#1094;_&#1042;&#1077;&#1083;&#1080;&#1082;&#1086;&#1073;&#1088;&#1080;&#1090;&#1072;&#1085;&#1080;&#1080;)" TargetMode="External"/><Relationship Id="rId15" Type="http://schemas.openxmlformats.org/officeDocument/2006/relationships/image" Target="../media/image3.png"/><Relationship Id="rId16" Type="http://schemas.openxmlformats.org/officeDocument/2006/relationships/hyperlink" Target="http://ru.wikipedia.org/wiki/&#1069;&#1085;&#1076;&#1088;&#1102;,_&#1075;&#1077;&#1088;&#1094;&#1086;&#1075;_&#1049;&#1086;&#1088;&#1082;&#1089;&#1082;&#1080;&#1081;" TargetMode="External"/><Relationship Id="rId17" Type="http://schemas.openxmlformats.org/officeDocument/2006/relationships/image" Target="../media/image6.png"/><Relationship Id="rId18" Type="http://schemas.openxmlformats.org/officeDocument/2006/relationships/hyperlink" Target="http://ru.wikipedia.org/w/index.php?title=&#1055;&#1088;&#1080;&#1085;&#1094;&#1077;&#1089;&#1089;&#1072;_&#1041;&#1077;&#1072;&#1090;&#1088;&#1080;&#1089;&#1072;_&#1049;&#1086;&#1088;&#1082;&#1089;&#1082;&#1072;&#1103;&amp;action=edit&amp;redlink=1" TargetMode="External"/><Relationship Id="rId19" Type="http://schemas.openxmlformats.org/officeDocument/2006/relationships/hyperlink" Target="http://ru.wikipedia.org/w/index.php?title=&#1055;&#1088;&#1080;&#1085;&#1094;&#1077;&#1089;&#1089;&#1072;_&#1041;&#1077;&#1072;&#1090;&#1088;&#1080;&#1089;&#1072;_&#1049;&#1086;&#1088;&#1082;&#1089;&#1082;&#1072;&#1103;&amp;action=edit&amp;redlink=1" TargetMode="External"/><Relationship Id="rId20" Type="http://schemas.openxmlformats.org/officeDocument/2006/relationships/hyperlink" Target="http://ru.wikipedia.org/w/index.php?title=&#1055;&#1088;&#1080;&#1085;&#1094;&#1077;&#1089;&#1089;&#1072;_&#1041;&#1077;&#1072;&#1090;&#1088;&#1080;&#1089;&#1072;_&#1049;&#1086;&#1088;&#1082;&#1089;&#1082;&#1072;&#1103;&amp;action=edit&amp;redlink=1" TargetMode="External"/><Relationship Id="rId21" Type="http://schemas.openxmlformats.org/officeDocument/2006/relationships/image" Target="../media/image6.png"/><Relationship Id="rId22" Type="http://schemas.openxmlformats.org/officeDocument/2006/relationships/hyperlink" Target="http://ru.wikipedia.org/w/index.php?title=&#1055;&#1088;&#1080;&#1085;&#1094;&#1077;&#1089;&#1089;&#1072;_&#1045;&#1074;&#1075;&#1077;&#1085;&#1080;&#1103;_&#1049;&#1086;&#1088;&#1082;&#1089;&#1082;&#1072;&#1103;&amp;action=edit&amp;redlink=1" TargetMode="External"/><Relationship Id="rId23" Type="http://schemas.openxmlformats.org/officeDocument/2006/relationships/image" Target="../media/image3.png"/><Relationship Id="rId24" Type="http://schemas.openxmlformats.org/officeDocument/2006/relationships/hyperlink" Target="http://ru.wikipedia.org/wiki/&#1069;&#1076;&#1074;&#1072;&#1088;&#1076;,_&#1075;&#1088;&#1072;&#1092;_&#1059;&#1101;&#1089;&#1089;&#1077;&#1082;&#1089;&#1082;&#1080;&#1081;" TargetMode="External"/><Relationship Id="rId25" Type="http://schemas.openxmlformats.org/officeDocument/2006/relationships/hyperlink" Target="http://ru.wikipedia.org/wiki/&#1069;&#1076;&#1074;&#1072;&#1088;&#1076;,_&#1075;&#1088;&#1072;&#1092;_&#1059;&#1101;&#1089;&#1089;&#1077;&#1082;&#1089;&#1082;&#1080;&#1081;" TargetMode="External"/><Relationship Id="rId26" Type="http://schemas.openxmlformats.org/officeDocument/2006/relationships/hyperlink" Target="http://ru.wikipedia.org/w/index.php?title=&#1057;&#1086;&#1092;&#1080;&#1103;,_&#1075;&#1088;&#1072;&#1092;&#1080;&#1085;&#1103;_&#1059;&#1101;&#1089;&#1089;&#1077;&#1082;&#1089;&#1082;&#1072;&#1103;&amp;action=edit&amp;redlink=1" TargetMode="External"/><Relationship Id="rId27" Type="http://schemas.openxmlformats.org/officeDocument/2006/relationships/hyperlink" Target="http://ru.wikipedia.org/w/index.php?title=&#1057;&#1086;&#1092;&#1080;&#1103;,_&#1075;&#1088;&#1072;&#1092;&#1080;&#1085;&#1103;_&#1059;&#1101;&#1089;&#1089;&#1077;&#1082;&#1089;&#1082;&#1072;&#1103;&amp;action=edit&amp;redlink=1" TargetMode="External"/><Relationship Id="rId28" Type="http://schemas.openxmlformats.org/officeDocument/2006/relationships/image" Target="../media/image6.png"/><Relationship Id="rId29" Type="http://schemas.openxmlformats.org/officeDocument/2006/relationships/hyperlink" Target="http://ru.wikipedia.org/w/index.php?title=&#1044;&#1078;&#1101;&#1081;&#1084;&#1089;,_&#1074;&#1080;&#1082;&#1086;&#1085;&#1090;_&#1057;&#1077;&#1074;&#1077;&#1088;&#1085;&amp;action=edit&amp;redlink=1" TargetMode="External"/><Relationship Id="rId30" Type="http://schemas.openxmlformats.org/officeDocument/2006/relationships/hyperlink" Target="http://ru.wikipedia.org/w/index.php?title=&#1044;&#1078;&#1101;&#1081;&#1084;&#1089;,_&#1074;&#1080;&#1082;&#1086;&#1085;&#1090;_&#1057;&#1077;&#1074;&#1077;&#1088;&#1085;&amp;action=edit&amp;redlink=1" TargetMode="External"/><Relationship Id="rId31" Type="http://schemas.openxmlformats.org/officeDocument/2006/relationships/hyperlink" Target="http://ru.wikipedia.org/w/index.php?title=&#1044;&#1078;&#1101;&#1081;&#1084;&#1089;,_&#1074;&#1080;&#1082;&#1086;&#1085;&#1090;_&#1057;&#1077;&#1074;&#1077;&#1088;&#1085;&amp;action=edit&amp;redlink=1" TargetMode="External"/><Relationship Id="rId32" Type="http://schemas.openxmlformats.org/officeDocument/2006/relationships/hyperlink" Target="http://ru.wikipedia.org/wiki/&#1069;&#1076;&#1074;&#1072;&#1088;&#1076;,_&#1075;&#1088;&#1072;&#1092;_&#1059;&#1101;&#1089;&#1089;&#1077;&#1082;&#1089;&#1082;&#1080;&#1081;" TargetMode="External"/><Relationship Id="rId33" Type="http://schemas.openxmlformats.org/officeDocument/2006/relationships/image" Target="../media/image6.png"/><Relationship Id="rId34" Type="http://schemas.openxmlformats.org/officeDocument/2006/relationships/hyperlink" Target="http://ru.wikipedia.org/w/index.php?title=&#1051;&#1077;&#1076;&#1080;_&#1051;&#1091;&#1080;&#1079;&#1072;_&#1042;&#1080;&#1085;&#1076;&#1079;&#1086;&#1088;&amp;action=edit&amp;redlink=1" TargetMode="External"/><Relationship Id="rId35" Type="http://schemas.openxmlformats.org/officeDocument/2006/relationships/hyperlink" Target="http://ru.wikipedia.org/wiki/&#1069;&#1076;&#1074;&#1072;&#1088;&#1076;,_&#1075;&#1088;&#1072;&#1092;_&#1059;&#1101;&#1089;&#1089;&#1077;&#1082;&#1089;&#1082;&#1080;&#1081;" TargetMode="External"/><Relationship Id="rId36" Type="http://schemas.openxmlformats.org/officeDocument/2006/relationships/image" Target="../media/image3.png"/><Relationship Id="rId37" Type="http://schemas.openxmlformats.org/officeDocument/2006/relationships/hyperlink" Target="http://ru.wikipedia.org/wiki/&#1055;&#1088;&#1080;&#1085;&#1094;&#1077;&#1089;&#1089;&#1072;_&#1040;&#1085;&#1085;&#1072;" TargetMode="External"/><Relationship Id="rId38" Type="http://schemas.openxmlformats.org/officeDocument/2006/relationships/image" Target="../media/image3.png"/><Relationship Id="rId39" Type="http://schemas.openxmlformats.org/officeDocument/2006/relationships/hyperlink" Target="http://ru.wikipedia.org/wiki/&#1055;&#1088;&#1080;&#1085;&#1094;_&#1056;&#1080;&#1095;&#1072;&#1088;&#1076;,_&#1075;&#1077;&#1088;&#1094;&#1086;&#1075;_&#1043;&#1083;&#1086;&#1089;&#1090;&#1077;&#1088;" TargetMode="External"/><Relationship Id="rId40" Type="http://schemas.openxmlformats.org/officeDocument/2006/relationships/hyperlink" Target="http://ru.wikipedia.org/wiki/&#1055;&#1088;&#1080;&#1085;&#1094;_&#1056;&#1080;&#1095;&#1072;&#1088;&#1076;,_&#1075;&#1077;&#1088;&#1094;&#1086;&#1075;_&#1043;&#1083;&#1086;&#1089;&#1090;&#1077;&#1088;" TargetMode="External"/><Relationship Id="rId41" Type="http://schemas.openxmlformats.org/officeDocument/2006/relationships/hyperlink" Target="http://ru.wikipedia.org/w/index.php?title=&#1041;&#1088;&#1080;&#1076;&#1078;&#1080;&#1090;&#1072;,_&#1075;&#1077;&#1088;&#1094;&#1086;&#1075;&#1080;&#1085;&#1103;_&#1043;&#1083;&#1086;&#1089;&#1090;&#1077;&#1088;&amp;action=edit&amp;redlink=1" TargetMode="External"/><Relationship Id="rId42" Type="http://schemas.openxmlformats.org/officeDocument/2006/relationships/hyperlink" Target="http://ru.wikipedia.org/w/index.php?title=&#1041;&#1088;&#1080;&#1076;&#1078;&#1080;&#1090;&#1072;,_&#1075;&#1077;&#1088;&#1094;&#1086;&#1075;&#1080;&#1085;&#1103;_&#1043;&#1083;&#1086;&#1089;&#1090;&#1077;&#1088;&amp;action=edit&amp;redlink=1" TargetMode="External"/><Relationship Id="rId43" Type="http://schemas.openxmlformats.org/officeDocument/2006/relationships/hyperlink" Target="http://ru.wikipedia.org/w/index.php?title=&#1041;&#1088;&#1080;&#1076;&#1078;&#1080;&#1090;&#1072;,_&#1075;&#1077;&#1088;&#1094;&#1086;&#1075;&#1080;&#1085;&#1103;_&#1043;&#1083;&#1086;&#1089;&#1090;&#1077;&#1088;&amp;action=edit&amp;redlink=1" TargetMode="External"/><Relationship Id="rId44" Type="http://schemas.openxmlformats.org/officeDocument/2006/relationships/image" Target="../media/image3.png"/><Relationship Id="rId45" Type="http://schemas.openxmlformats.org/officeDocument/2006/relationships/hyperlink" Target="http://ru.wikipedia.org/wiki/&#1055;&#1088;&#1080;&#1085;&#1094;_&#1069;&#1076;&#1074;&#1072;&#1088;&#1076;,_&#1075;&#1077;&#1088;&#1094;&#1086;&#1075;_&#1050;&#1077;&#1085;&#1090;&#1089;&#1082;&#1080;&#1081;" TargetMode="External"/><Relationship Id="rId46" Type="http://schemas.openxmlformats.org/officeDocument/2006/relationships/hyperlink" Target="http://ru.wikipedia.org/w/index.php?title=&#1050;&#1072;&#1090;&#1072;&#1088;&#1080;&#1085;&#1072;,_&#1075;&#1077;&#1088;&#1094;&#1086;&#1075;&#1080;&#1085;&#1103;_&#1050;&#1077;&#1085;&#1090;&#1089;&#1082;&#1072;&#1103;&amp;action=edit&amp;redlink=1" TargetMode="External"/><Relationship Id="rId47" Type="http://schemas.openxmlformats.org/officeDocument/2006/relationships/hyperlink" Target="http://ru.wikipedia.org/w/index.php?title=&#1050;&#1072;&#1090;&#1072;&#1088;&#1080;&#1085;&#1072;,_&#1075;&#1077;&#1088;&#1094;&#1086;&#1075;&#1080;&#1085;&#1103;_&#1050;&#1077;&#1085;&#1090;&#1089;&#1082;&#1072;&#1103;&amp;action=edit&amp;redlink=1" TargetMode="External"/><Relationship Id="rId48" Type="http://schemas.openxmlformats.org/officeDocument/2006/relationships/image" Target="../media/image3.png"/><Relationship Id="rId49" Type="http://schemas.openxmlformats.org/officeDocument/2006/relationships/hyperlink" Target="http://ru.wikipedia.org/wiki/&#1055;&#1088;&#1080;&#1085;&#1094;_&#1052;&#1072;&#1081;&#1082;&#1083;_&#1050;&#1077;&#1085;&#1090;&#1089;&#1082;&#1080;&#1081;" TargetMode="External"/><Relationship Id="rId50" Type="http://schemas.openxmlformats.org/officeDocument/2006/relationships/hyperlink" Target="http://ru.wikipedia.org/w/index.php?title=&#1055;&#1088;&#1080;&#1085;&#1094;&#1077;&#1089;&#1089;&#1072;_&#1050;&#1077;&#1085;&#1090;&#1089;&#1082;&#1072;&#1103;&amp;action=edit&amp;redlink=1" TargetMode="External"/><Relationship Id="rId51" Type="http://schemas.openxmlformats.org/officeDocument/2006/relationships/image" Target="../media/image3.png"/><Relationship Id="rId52" Type="http://schemas.openxmlformats.org/officeDocument/2006/relationships/hyperlink" Target="http://ru.wikipedia.org/w/index.php?title=&#1055;&#1088;&#1080;&#1085;&#1094;&#1077;&#1089;&#1089;&#1072;_&#1040;&#1083;&#1077;&#1082;&#1089;&#1072;&#1085;&#1076;&#1088;&#1072;,_&#1041;&#1083;&#1072;&#1075;&#1086;&#1088;&#1086;&#1076;&#1085;&#1072;&#1103;_&#1051;&#1077;&#1076;&#1080;_&#1054;&#1075;&#1080;&#1083;&#1074;&#1080;&amp;action=edit&amp;redlink=1" TargetMode="External"/><Relationship Id="rId53" Type="http://schemas.openxmlformats.org/officeDocument/2006/relationships/hyperlink" Target="http://ru.wikipedia.org/w/index.php?title=&#1055;&#1088;&#1080;&#1085;&#1094;&#1077;&#1089;&#1089;&#1072;_&#1040;&#1083;&#1077;&#1082;&#1089;&#1072;&#1085;&#1076;&#1088;&#1072;,_&#1041;&#1083;&#1072;&#1075;&#1086;&#1088;&#1086;&#1076;&#1085;&#1072;&#1103;_&#1051;&#1077;&#1076;&#1080;_&#1054;&#1075;&#1080;&#1083;&#1074;&#1080;&amp;action=edit&amp;redlink=1" TargetMode="External"/><Relationship Id="rId5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ru.wikipedia.org/wiki/1917_&#1075;&#1086;&#1076;" TargetMode="External"/><Relationship Id="rId3" Type="http://schemas.openxmlformats.org/officeDocument/2006/relationships/hyperlink" Target="http://ru.wikipedia.org/wiki/&#1043;&#1077;&#1086;&#1088;&#1075;_V" TargetMode="External"/><Relationship Id="rId4" Type="http://schemas.openxmlformats.org/officeDocument/2006/relationships/hyperlink" Target="http://ru.wikipedia.org/wiki/&#1055;&#1077;&#1088;&#1074;&#1072;&#1103;_&#1084;&#1080;&#1088;&#1086;&#1074;&#1072;&#1103;_&#1074;&#1086;&#1081;&#1085;&#1072;" TargetMode="External"/><Relationship Id="rId5" Type="http://schemas.openxmlformats.org/officeDocument/2006/relationships/hyperlink" Target="http://ru.wikipedia.org/wiki/&#1057;&#1072;&#1082;&#1089;&#1077;&#1085;-&#1050;&#1086;&#1073;&#1091;&#1088;&#1075;-&#1043;&#1086;&#1090;&#1072;" TargetMode="External"/><Relationship Id="rId6" Type="http://schemas.openxmlformats.org/officeDocument/2006/relationships/hyperlink" Target="http://ru.wikipedia.org/wiki/&#1042;&#1080;&#1085;&#1076;&#1079;&#1086;&#1088;&#1089;&#1082;&#1072;&#1103;_&#1076;&#1080;&#1085;&#1072;&#1089;&#1090;&#1080;&#1103;" TargetMode="External"/><Relationship Id="rId7" Type="http://schemas.openxmlformats.org/officeDocument/2006/relationships/hyperlink" Target="http://ru.wikipedia.org/wiki/&#1042;&#1080;&#1085;&#1076;&#1079;&#1086;&#1088;&#1089;&#1082;&#1072;&#1103;_&#1076;&#1080;&#1085;&#1072;&#1089;&#1090;&#1080;&#1103;" TargetMode="External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1369800"/>
            <a:ext cx="71834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7d47d"/>
                </a:solidFill>
                <a:latin typeface="Arial"/>
              </a:rPr>
              <a:t>Королевская семья Великобритании</a:t>
            </a:r>
            <a:endParaRPr b="0" lang="en-US" sz="6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116000" y="4076280"/>
            <a:ext cx="625176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1a1a"/>
                </a:solidFill>
                <a:latin typeface="Arial"/>
              </a:rPr>
              <a:t>Отношения, семейное древо, тайны и многое другое..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475920"/>
            <a:ext cx="74768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d47d"/>
                </a:solidFill>
                <a:latin typeface="Arial"/>
              </a:rPr>
              <a:t>Члены британской королевской семьи</a:t>
            </a:r>
            <a:br>
              <a:rPr sz="2800"/>
            </a:b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125360"/>
            <a:ext cx="73864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1a1a"/>
                </a:solidFill>
                <a:latin typeface="Arial"/>
              </a:rPr>
              <a:t>Члены британской королевской семьи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3"/>
              </a:rPr>
              <a:t>Её Величество Королева Елизавета II</a:t>
            </a:r>
            <a:r>
              <a:rPr b="0" lang="ru-RU" sz="1600" spc="-1" strike="noStrike">
                <a:solidFill>
                  <a:srgbClr val="961a1a"/>
                </a:solidFill>
                <a:latin typeface="Arial"/>
              </a:rPr>
              <a:t> и принц-консорт </a:t>
            </a: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4"/>
              </a:rPr>
              <a:t>Филипп, герцог </a:t>
            </a: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5"/>
              </a:rPr>
              <a:t>Эдинбургский</a:t>
            </a:r>
            <a:r>
              <a:rPr b="0" lang="ru-RU" sz="1600" spc="-1" strike="noStrike">
                <a:solidFill>
                  <a:srgbClr val="961a1a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7"/>
              </a:rPr>
              <a:t>Чарльз, принц Уэльский</a:t>
            </a:r>
            <a:r>
              <a:rPr b="0" lang="ru-RU" sz="1600" spc="-1" strike="noStrike">
                <a:solidFill>
                  <a:srgbClr val="961a1a"/>
                </a:solidFill>
                <a:latin typeface="Arial"/>
              </a:rPr>
              <a:t> и его вторая жена </a:t>
            </a: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8"/>
              </a:rPr>
              <a:t>Камилла</a:t>
            </a: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9"/>
              </a:rPr>
              <a:t>, герцогиня </a:t>
            </a: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10"/>
              </a:rPr>
              <a:t>Корнуольская</a:t>
            </a:r>
            <a:r>
              <a:rPr b="0" lang="ru-RU" sz="1600" spc="-1" strike="noStrike">
                <a:solidFill>
                  <a:srgbClr val="961a1a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12"/>
              </a:rPr>
              <a:t>Принц Уильям Уэльский</a:t>
            </a:r>
            <a:r>
              <a:rPr b="0" lang="ru-RU" sz="1400" spc="-1" strike="noStrike">
                <a:solidFill>
                  <a:srgbClr val="961a1a"/>
                </a:solidFill>
                <a:latin typeface="Arial"/>
              </a:rPr>
              <a:t> сын Чарьза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14"/>
              </a:rPr>
              <a:t>Принц Генри Уэльский</a:t>
            </a:r>
            <a:r>
              <a:rPr b="0" lang="ru-RU" sz="1400" spc="-1" strike="noStrike">
                <a:solidFill>
                  <a:srgbClr val="961a1a"/>
                </a:solidFill>
                <a:latin typeface="Arial"/>
              </a:rPr>
              <a:t> чаще называемый Принц Гарри, второй сын Чарльза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16"/>
              </a:rPr>
              <a:t>Эндрю, герцог Йоркский</a:t>
            </a:r>
            <a:r>
              <a:rPr b="0" lang="ru-RU" sz="1600" spc="-1" strike="noStrike">
                <a:solidFill>
                  <a:srgbClr val="961a1a"/>
                </a:solidFill>
                <a:latin typeface="Arial"/>
              </a:rPr>
              <a:t> второй сын королевы Елизаветы II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18"/>
              </a:rPr>
              <a:t>Принцесса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19"/>
              </a:rPr>
              <a:t>Беатриса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20"/>
              </a:rPr>
              <a:t> Йоркская</a:t>
            </a:r>
            <a:r>
              <a:rPr b="0" lang="ru-RU" sz="1400" spc="-1" strike="noStrike">
                <a:solidFill>
                  <a:srgbClr val="961a1a"/>
                </a:solidFill>
                <a:latin typeface="Arial"/>
              </a:rPr>
              <a:t> дочь герцога Йоркского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22"/>
              </a:rPr>
              <a:t>Принцесса Евгения Йоркская</a:t>
            </a:r>
            <a:r>
              <a:rPr b="0" lang="ru-RU" sz="1400" spc="-1" strike="noStrike">
                <a:solidFill>
                  <a:srgbClr val="961a1a"/>
                </a:solidFill>
                <a:latin typeface="Arial"/>
              </a:rPr>
              <a:t> вторая дочь герцога Йоркского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24"/>
              </a:rPr>
              <a:t>Эдвард, граф </a:t>
            </a: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25"/>
              </a:rPr>
              <a:t>Уэссекский</a:t>
            </a:r>
            <a:r>
              <a:rPr b="0" lang="ru-RU" sz="1600" spc="-1" strike="noStrike">
                <a:solidFill>
                  <a:srgbClr val="961a1a"/>
                </a:solidFill>
                <a:latin typeface="Arial"/>
              </a:rPr>
              <a:t> третий сын королевы его жена </a:t>
            </a: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26"/>
              </a:rPr>
              <a:t>София, графиня </a:t>
            </a: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27"/>
              </a:rPr>
              <a:t>Уэссекская</a:t>
            </a:r>
            <a:r>
              <a:rPr b="0" lang="ru-RU" sz="1600" spc="-1" strike="noStrike">
                <a:solidFill>
                  <a:srgbClr val="961a1a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2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29"/>
              </a:rPr>
              <a:t>Джэймс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30"/>
              </a:rPr>
              <a:t>, виконт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31"/>
              </a:rPr>
              <a:t>Северн</a:t>
            </a:r>
            <a:r>
              <a:rPr b="0" lang="ru-RU" sz="1400" spc="-1" strike="noStrike">
                <a:solidFill>
                  <a:srgbClr val="961a1a"/>
                </a:solidFill>
                <a:latin typeface="Arial"/>
              </a:rPr>
              <a:t> сын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32"/>
              </a:rPr>
              <a:t>Эдварда</a:t>
            </a:r>
            <a:r>
              <a:rPr b="0" lang="ru-RU" sz="1400" spc="-1" strike="noStrike">
                <a:solidFill>
                  <a:srgbClr val="961a1a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34"/>
              </a:rPr>
              <a:t>Леди Луиза Виндзор</a:t>
            </a:r>
            <a:r>
              <a:rPr b="0" lang="ru-RU" sz="1400" spc="-1" strike="noStrike">
                <a:solidFill>
                  <a:srgbClr val="961a1a"/>
                </a:solidFill>
                <a:latin typeface="Arial"/>
              </a:rPr>
              <a:t> дочь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35"/>
              </a:rPr>
              <a:t>Эдварда</a:t>
            </a:r>
            <a:r>
              <a:rPr b="0" lang="ru-RU" sz="1400" spc="-1" strike="noStrike">
                <a:solidFill>
                  <a:srgbClr val="961a1a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37"/>
              </a:rPr>
              <a:t>Принцесса Анна</a:t>
            </a:r>
            <a:r>
              <a:rPr b="0" lang="ru-RU" sz="1600" spc="-1" strike="noStrike">
                <a:solidFill>
                  <a:srgbClr val="961a1a"/>
                </a:solidFill>
                <a:latin typeface="Arial"/>
              </a:rPr>
              <a:t> единственная дочь королевы Елизаветы II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39"/>
              </a:rPr>
              <a:t>Принц Ричард, герцог </a:t>
            </a: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40"/>
              </a:rPr>
              <a:t>Глостер</a:t>
            </a:r>
            <a:r>
              <a:rPr b="0" lang="ru-RU" sz="1600" spc="-1" strike="noStrike">
                <a:solidFill>
                  <a:srgbClr val="961a1a"/>
                </a:solidFill>
                <a:latin typeface="Arial"/>
              </a:rPr>
              <a:t> двоюродный брат королевы и его жена </a:t>
            </a: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41"/>
              </a:rPr>
              <a:t>Бриджита</a:t>
            </a: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42"/>
              </a:rPr>
              <a:t>, герцогиня </a:t>
            </a: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43"/>
              </a:rPr>
              <a:t>Глостер</a:t>
            </a:r>
            <a:r>
              <a:rPr b="0" lang="ru-RU" sz="1600" spc="-1" strike="noStrike">
                <a:solidFill>
                  <a:srgbClr val="961a1a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45"/>
              </a:rPr>
              <a:t>Принц Эдвард, герцог Кентский</a:t>
            </a:r>
            <a:r>
              <a:rPr b="0" lang="ru-RU" sz="1600" spc="-1" strike="noStrike">
                <a:solidFill>
                  <a:srgbClr val="961a1a"/>
                </a:solidFill>
                <a:latin typeface="Arial"/>
              </a:rPr>
              <a:t> двоюродный брат королевы и его жена </a:t>
            </a: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46"/>
              </a:rPr>
              <a:t>Катарина</a:t>
            </a: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47"/>
              </a:rPr>
              <a:t>, герцогиня Кентская</a:t>
            </a:r>
            <a:r>
              <a:rPr b="0" lang="ru-RU" sz="1600" spc="-1" strike="noStrike">
                <a:solidFill>
                  <a:srgbClr val="961a1a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49"/>
              </a:rPr>
              <a:t>Принц Майкл Кентский</a:t>
            </a:r>
            <a:r>
              <a:rPr b="0" lang="ru-RU" sz="1600" spc="-1" strike="noStrike">
                <a:solidFill>
                  <a:srgbClr val="961a1a"/>
                </a:solidFill>
                <a:latin typeface="Arial"/>
              </a:rPr>
              <a:t> двоюродный брат королевы и его жена </a:t>
            </a: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50"/>
              </a:rPr>
              <a:t>Принцесса Кентская</a:t>
            </a:r>
            <a:r>
              <a:rPr b="0" lang="ru-RU" sz="1600" spc="-1" strike="noStrike">
                <a:solidFill>
                  <a:srgbClr val="961a1a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52"/>
              </a:rPr>
              <a:t>Принцесса Александра, Благородная Леди </a:t>
            </a: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53"/>
              </a:rPr>
              <a:t>Огилви</a:t>
            </a:r>
            <a:r>
              <a:rPr b="0" lang="ru-RU" sz="1600" spc="-1" strike="noStrike">
                <a:solidFill>
                  <a:srgbClr val="961a1a"/>
                </a:solidFill>
                <a:latin typeface="Arial"/>
              </a:rPr>
              <a:t> двоюродная сестра королевы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6048360" cy="5977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Отношения…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032000" y="1196640"/>
            <a:ext cx="36176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7d47d"/>
                </a:solidFill>
                <a:latin typeface="Arial"/>
              </a:rPr>
              <a:t>Принц Чарльз недолюбливает принца Эдварда. Несколько лет назад Чарльз публично назвал брата "гребаным идиотом" за то, что телекомпания Эдварда сняла репортаж о сыне Чарльза принце Гарри. В репортаже Гарри был назвал "запасным наследником". Эдвард ненавидит старшего брата за то, что он не вкладывает деньги в его фирму Ardent Productions.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7d47d"/>
                </a:solidFill>
                <a:latin typeface="Arial"/>
              </a:rPr>
              <a:t>Принц Гарри недолюбливает своего дядю. Он не простил ему "запасного наследника". По словам одного из членов королевской семьи, "если бы Эдвард предложил Гарри оливковую ветвь в знак примирения, Гарри забил бы его ею до смерти".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7d47d"/>
                </a:solidFill>
                <a:latin typeface="Arial"/>
              </a:rPr>
              <a:t>Принц Чарльз недолюбливает свою мать, королеву Елизавету. Сначала она заставила его согласиться на гражданскую церемонию бракосочетания с Камиллой Паркер-Боулз, а потом отказалась на ней появляться. Чарльз назвал идею свадьбы во дворце бракосочетаний, а не в церкви, фарсом и очень обижен на мать.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7d47d"/>
                </a:solidFill>
                <a:latin typeface="Arial"/>
              </a:rPr>
              <a:t>Принц Чарльз недолюбливает и своего отца – принца Филиппа. Чарльз не может простить папу за то, что он испортил ему жизнь. Сначала принц Филипп отправил Чарльза в известную своей суровостью школу Гордонстоун, а затем фактически заставил жениться на нелюбимой принцессе Диане.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468360" y="1197000"/>
            <a:ext cx="32400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-20808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476280"/>
            <a:ext cx="330048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7480" indent="-8748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Принц Филипп недолюбливает своего сына принца Эндрю. Филипп считает, что его средний сын – избалованный лентяй, которому надо побольше заниматься королевскими делами и поменьше играть в гольф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87480" indent="-8748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Принц Эндрю тоже не большой поклонник своего отца. Он не может простить ему плохого отношения к своей бывшей жене Саре Фергюсон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87480" indent="-8748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Королева Елизавета на дух не переносит жену своего двоюродного брата принца Майкла Кентского. Баронесса Мари-Кристин заявила журналистам, что Ее Величество любит издеваться над людьми, разговаривая с ними с преувеличенным акцентом кокни. Королева обиделась и язвительно заметила, что у принцессы Кентской, видимо, "гораздо больше королевских привычек, чем у всей королевской семьи"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87480" indent="-8748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Королева также терпеть не может свою будущую невестку. Она презирает Камиллу Паркер-Боулз за то, что она была любовницей Чарльза в то время, когда он был женат на Диане. Как-то королева назвала Камиллу "эта ужасная женщина" и заявила, что никогда не хочет иметь с ней ничего общего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3708360" y="476280"/>
            <a:ext cx="39592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Тайны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3700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1917 году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3"/>
              </a:rPr>
              <a:t>Георг V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из-за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4"/>
              </a:rPr>
              <a:t>войны с Германией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отказался от всех немецких титулов за себя и наследников и переименовал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5"/>
              </a:rPr>
              <a:t>Саксен-Кобург-Готскую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династию в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6"/>
              </a:rPr>
              <a:t>дом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7"/>
              </a:rPr>
              <a:t>Виндзоров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Великобритании нет чёткого юридического либо формального определения члена королевской семьи, как правило членами королевской семьи считаются монарх, супруг монарха, вдовствующий супруг монарха, дети монарха, внуки монарха по мужской линии, супруги и овдовевшие супруги сыновей и внуков по мужской линии монарха. Члены британской королевской семьи носят титулы Их Королевского Величества и Их Королевского Высочества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Исторически члены британской королевской семьи представляли монарха по всей Британской империи и занимали ответственные и представительские посты, на сегодняшний день они выполняют церемониальные и социальные функции как в Великобритании, так и за границей, и кроме монарха не имеют никакой конституционной роли в делах правительства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0"/>
          <a:stretch/>
        </p:blipFill>
        <p:spPr>
          <a:xfrm>
            <a:off x="4032360" y="1052640"/>
            <a:ext cx="349236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74772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Многочисленная королевская семья…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526000" y="1598760"/>
            <a:ext cx="36180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1692360" y="2133720"/>
            <a:ext cx="4248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09:23:39Z</dcterms:created>
  <dc:creator>он</dc:creator>
  <dc:description/>
  <dc:language>en-US</dc:language>
  <cp:lastModifiedBy>он</cp:lastModifiedBy>
  <dcterms:modified xsi:type="dcterms:W3CDTF">2010-01-26T10:31:46Z</dcterms:modified>
  <cp:revision>2</cp:revision>
  <dc:subject/>
  <dc:title>Королевская семья Великобритании…</dc:title>
</cp:coreProperties>
</file>