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BF0D-6FD4-4A90-9394-C4C9F018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27B-80EC-406A-8C3B-C8D3582D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C4A-5582-476B-9F42-0DE8D5C6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C3B-4011-4CA4-B377-8B6ECF8D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F352-479C-47FF-AF41-F179FC89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DA36-11BF-4232-92BA-0F525F15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5027-DB3F-459E-BAF1-13E3648D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9554-B32B-4B02-ACDF-0EA8D8F0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B188-DB94-47A8-972C-598E5237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579A-419C-441A-9515-7CC7B47D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CCF2-E21E-4EF2-94B9-68ED5155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C32-2F31-4DF9-B824-168796E1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1E38-DAE5-4C52-B9F6-D1594A2C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61AF-B650-4EEC-80FD-093DEA2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039F-6254-4369-97F3-607E569B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76BC-B634-4166-B26C-D73E11DE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11A3-5D49-4EF7-80DB-E113B9BC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243-DD23-497F-8015-D6224EB2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C9F-B739-4231-8197-ACD0B023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222-1738-482E-93BC-4226FD8A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EEC-4760-48A0-8154-44CB3329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FD3-6A06-4444-827D-C0135948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310-9EC7-4733-8C1C-F6C50DA1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4AB-821E-452A-884D-40D00692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2923-5046-42CA-A7C3-8269DE716FE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C40B-B168-4D65-A889-74D5D71D980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ru.wikipedia.org/wiki/&#1045;&#1083;&#1080;&#1079;&#1072;&#1074;&#1077;&#1090;&#1072;_II" TargetMode="External"/><Relationship Id="rId4" Type="http://schemas.openxmlformats.org/officeDocument/2006/relationships/hyperlink" Target="http://ru.wikipedia.org/wiki/&#1060;&#1080;&#1083;&#1080;&#1087;&#1087;,_&#1075;&#1077;&#1088;&#1094;&#1086;&#1075;_&#1069;&#1076;&#1080;&#1085;&#1073;&#1091;&#1088;&#1075;&#1089;&#1082;&#1080;&#1081;" TargetMode="External"/><Relationship Id="rId5" Type="http://schemas.openxmlformats.org/officeDocument/2006/relationships/hyperlink" Target="http://ru.wikipedia.org/wiki/&#1060;&#1080;&#1083;&#1080;&#1087;&#1087;,_&#1075;&#1077;&#1088;&#1094;&#1086;&#1075;_&#1069;&#1076;&#1080;&#1085;&#1073;&#1091;&#1088;&#1075;&#1089;&#1082;&#1080;&#1081;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ru.wikipedia.org/wiki/&#1063;&#1072;&#1088;&#1083;&#1100;&#1079;,_&#1087;&#1088;&#1080;&#1085;&#1094;_&#1059;&#1101;&#1083;&#1100;&#1089;&#1082;&#1080;&#1081;" TargetMode="External"/><Relationship Id="rId8" Type="http://schemas.openxmlformats.org/officeDocument/2006/relationships/hyperlink" Target="http://ru.wikipedia.org/wiki/&#1050;&#1072;&#1084;&#1080;&#1083;&#1083;&#1072;,_&#1075;&#1077;&#1088;&#1094;&#1086;&#1075;&#1080;&#1085;&#1103;_&#1050;&#1086;&#1088;&#1085;&#1091;&#1086;&#1083;&#1100;&#1089;&#1082;&#1072;&#1103;" TargetMode="External"/><Relationship Id="rId9" Type="http://schemas.openxmlformats.org/officeDocument/2006/relationships/hyperlink" Target="http://ru.wikipedia.org/wiki/&#1050;&#1072;&#1084;&#1080;&#1083;&#1083;&#1072;,_&#1075;&#1077;&#1088;&#1094;&#1086;&#1075;&#1080;&#1085;&#1103;_&#1050;&#1086;&#1088;&#1085;&#1091;&#1086;&#1083;&#1100;&#1089;&#1082;&#1072;&#1103;" TargetMode="External"/><Relationship Id="rId10" Type="http://schemas.openxmlformats.org/officeDocument/2006/relationships/hyperlink" Target="http://ru.wikipedia.org/wiki/&#1050;&#1072;&#1084;&#1080;&#1083;&#1083;&#1072;,_&#1075;&#1077;&#1088;&#1094;&#1086;&#1075;&#1080;&#1085;&#1103;_&#1050;&#1086;&#1088;&#1085;&#1091;&#1086;&#1083;&#1100;&#1089;&#1082;&#1072;&#1103;" TargetMode="External"/><Relationship Id="rId11" Type="http://schemas.openxmlformats.org/officeDocument/2006/relationships/image" Target="../media/image6.png"/><Relationship Id="rId12" Type="http://schemas.openxmlformats.org/officeDocument/2006/relationships/hyperlink" Target="http://ru.wikipedia.org/wiki/&#1059;&#1080;&#1083;&#1100;&#1103;&#1084;_(&#1087;&#1088;&#1080;&#1085;&#1094;_&#1042;&#1077;&#1083;&#1080;&#1082;&#1086;&#1073;&#1088;&#1080;&#1090;&#1072;&#1085;&#1080;&#1080;)" TargetMode="External"/><Relationship Id="rId13" Type="http://schemas.openxmlformats.org/officeDocument/2006/relationships/image" Target="../media/image6.png"/><Relationship Id="rId14" Type="http://schemas.openxmlformats.org/officeDocument/2006/relationships/hyperlink" Target="http://ru.wikipedia.org/wiki/&#1043;&#1072;&#1088;&#1088;&#1080;_(&#1087;&#1088;&#1080;&#1085;&#1094;_&#1042;&#1077;&#1083;&#1080;&#1082;&#1086;&#1073;&#1088;&#1080;&#1090;&#1072;&#1085;&#1080;&#1080;)" TargetMode="External"/><Relationship Id="rId15" Type="http://schemas.openxmlformats.org/officeDocument/2006/relationships/image" Target="../media/image3.png"/><Relationship Id="rId16" Type="http://schemas.openxmlformats.org/officeDocument/2006/relationships/hyperlink" Target="http://ru.wikipedia.org/wiki/&#1069;&#1085;&#1076;&#1088;&#1102;,_&#1075;&#1077;&#1088;&#1094;&#1086;&#1075;_&#1049;&#1086;&#1088;&#1082;&#1089;&#1082;&#1080;&#1081;" TargetMode="External"/><Relationship Id="rId17" Type="http://schemas.openxmlformats.org/officeDocument/2006/relationships/image" Target="../media/image6.png"/><Relationship Id="rId18" Type="http://schemas.openxmlformats.org/officeDocument/2006/relationships/hyperlink" Target="http://ru.wikipedia.org/w/index.php?title=&#1055;&#1088;&#1080;&#1085;&#1094;&#1077;&#1089;&#1089;&#1072;_&#1041;&#1077;&#1072;&#1090;&#1088;&#1080;&#1089;&#1072;_&#1049;&#1086;&#1088;&#1082;&#1089;&#1082;&#1072;&#1103;&amp;action=edit&amp;redlink=1" TargetMode="External"/><Relationship Id="rId19" Type="http://schemas.openxmlformats.org/officeDocument/2006/relationships/hyperlink" Target="http://ru.wikipedia.org/w/index.php?title=&#1055;&#1088;&#1080;&#1085;&#1094;&#1077;&#1089;&#1089;&#1072;_&#1041;&#1077;&#1072;&#1090;&#1088;&#1080;&#1089;&#1072;_&#1049;&#1086;&#1088;&#1082;&#1089;&#1082;&#1072;&#1103;&amp;action=edit&amp;redlink=1" TargetMode="External"/><Relationship Id="rId20" Type="http://schemas.openxmlformats.org/officeDocument/2006/relationships/hyperlink" Target="http://ru.wikipedia.org/w/index.php?title=&#1055;&#1088;&#1080;&#1085;&#1094;&#1077;&#1089;&#1089;&#1072;_&#1041;&#1077;&#1072;&#1090;&#1088;&#1080;&#1089;&#1072;_&#1049;&#1086;&#1088;&#1082;&#1089;&#1082;&#1072;&#1103;&amp;action=edit&amp;redlink=1" TargetMode="External"/><Relationship Id="rId21" Type="http://schemas.openxmlformats.org/officeDocument/2006/relationships/image" Target="../media/image6.png"/><Relationship Id="rId22" Type="http://schemas.openxmlformats.org/officeDocument/2006/relationships/hyperlink" Target="http://ru.wikipedia.org/w/index.php?title=&#1055;&#1088;&#1080;&#1085;&#1094;&#1077;&#1089;&#1089;&#1072;_&#1045;&#1074;&#1075;&#1077;&#1085;&#1080;&#1103;_&#1049;&#1086;&#1088;&#1082;&#1089;&#1082;&#1072;&#1103;&amp;action=edit&amp;redlink=1" TargetMode="External"/><Relationship Id="rId23" Type="http://schemas.openxmlformats.org/officeDocument/2006/relationships/image" Target="../media/image3.png"/><Relationship Id="rId24" Type="http://schemas.openxmlformats.org/officeDocument/2006/relationships/hyperlink" Target="http://ru.wikipedia.org/wiki/&#1069;&#1076;&#1074;&#1072;&#1088;&#1076;,_&#1075;&#1088;&#1072;&#1092;_&#1059;&#1101;&#1089;&#1089;&#1077;&#1082;&#1089;&#1082;&#1080;&#1081;" TargetMode="External"/><Relationship Id="rId25" Type="http://schemas.openxmlformats.org/officeDocument/2006/relationships/hyperlink" Target="http://ru.wikipedia.org/wiki/&#1069;&#1076;&#1074;&#1072;&#1088;&#1076;,_&#1075;&#1088;&#1072;&#1092;_&#1059;&#1101;&#1089;&#1089;&#1077;&#1082;&#1089;&#1082;&#1080;&#1081;" TargetMode="External"/><Relationship Id="rId26" Type="http://schemas.openxmlformats.org/officeDocument/2006/relationships/hyperlink" Target="http://ru.wikipedia.org/w/index.php?title=&#1057;&#1086;&#1092;&#1080;&#1103;,_&#1075;&#1088;&#1072;&#1092;&#1080;&#1085;&#1103;_&#1059;&#1101;&#1089;&#1089;&#1077;&#1082;&#1089;&#1082;&#1072;&#1103;&amp;action=edit&amp;redlink=1" TargetMode="External"/><Relationship Id="rId27" Type="http://schemas.openxmlformats.org/officeDocument/2006/relationships/hyperlink" Target="http://ru.wikipedia.org/w/index.php?title=&#1057;&#1086;&#1092;&#1080;&#1103;,_&#1075;&#1088;&#1072;&#1092;&#1080;&#1085;&#1103;_&#1059;&#1101;&#1089;&#1089;&#1077;&#1082;&#1089;&#1082;&#1072;&#1103;&amp;action=edit&amp;redlink=1" TargetMode="External"/><Relationship Id="rId28" Type="http://schemas.openxmlformats.org/officeDocument/2006/relationships/image" Target="../media/image6.png"/><Relationship Id="rId29" Type="http://schemas.openxmlformats.org/officeDocument/2006/relationships/hyperlink" Target="http://ru.wikipedia.org/w/index.php?title=&#1044;&#1078;&#1101;&#1081;&#1084;&#1089;,_&#1074;&#1080;&#1082;&#1086;&#1085;&#1090;_&#1057;&#1077;&#1074;&#1077;&#1088;&#1085;&amp;action=edit&amp;redlink=1" TargetMode="External"/><Relationship Id="rId30" Type="http://schemas.openxmlformats.org/officeDocument/2006/relationships/hyperlink" Target="http://ru.wikipedia.org/w/index.php?title=&#1044;&#1078;&#1101;&#1081;&#1084;&#1089;,_&#1074;&#1080;&#1082;&#1086;&#1085;&#1090;_&#1057;&#1077;&#1074;&#1077;&#1088;&#1085;&amp;action=edit&amp;redlink=1" TargetMode="External"/><Relationship Id="rId31" Type="http://schemas.openxmlformats.org/officeDocument/2006/relationships/hyperlink" Target="http://ru.wikipedia.org/w/index.php?title=&#1044;&#1078;&#1101;&#1081;&#1084;&#1089;,_&#1074;&#1080;&#1082;&#1086;&#1085;&#1090;_&#1057;&#1077;&#1074;&#1077;&#1088;&#1085;&amp;action=edit&amp;redlink=1" TargetMode="External"/><Relationship Id="rId32" Type="http://schemas.openxmlformats.org/officeDocument/2006/relationships/hyperlink" Target="http://ru.wikipedia.org/wiki/&#1069;&#1076;&#1074;&#1072;&#1088;&#1076;,_&#1075;&#1088;&#1072;&#1092;_&#1059;&#1101;&#1089;&#1089;&#1077;&#1082;&#1089;&#1082;&#1080;&#1081;" TargetMode="External"/><Relationship Id="rId33" Type="http://schemas.openxmlformats.org/officeDocument/2006/relationships/image" Target="../media/image6.png"/><Relationship Id="rId34" Type="http://schemas.openxmlformats.org/officeDocument/2006/relationships/hyperlink" Target="http://ru.wikipedia.org/w/index.php?title=&#1051;&#1077;&#1076;&#1080;_&#1051;&#1091;&#1080;&#1079;&#1072;_&#1042;&#1080;&#1085;&#1076;&#1079;&#1086;&#1088;&amp;action=edit&amp;redlink=1" TargetMode="External"/><Relationship Id="rId35" Type="http://schemas.openxmlformats.org/officeDocument/2006/relationships/hyperlink" Target="http://ru.wikipedia.org/wiki/&#1069;&#1076;&#1074;&#1072;&#1088;&#1076;,_&#1075;&#1088;&#1072;&#1092;_&#1059;&#1101;&#1089;&#1089;&#1077;&#1082;&#1089;&#1082;&#1080;&#1081;" TargetMode="External"/><Relationship Id="rId36" Type="http://schemas.openxmlformats.org/officeDocument/2006/relationships/image" Target="../media/image3.png"/><Relationship Id="rId37" Type="http://schemas.openxmlformats.org/officeDocument/2006/relationships/hyperlink" Target="http://ru.wikipedia.org/wiki/&#1055;&#1088;&#1080;&#1085;&#1094;&#1077;&#1089;&#1089;&#1072;_&#1040;&#1085;&#1085;&#1072;" TargetMode="External"/><Relationship Id="rId38" Type="http://schemas.openxmlformats.org/officeDocument/2006/relationships/image" Target="../media/image3.png"/><Relationship Id="rId39" Type="http://schemas.openxmlformats.org/officeDocument/2006/relationships/hyperlink" Target="http://ru.wikipedia.org/wiki/&#1055;&#1088;&#1080;&#1085;&#1094;_&#1056;&#1080;&#1095;&#1072;&#1088;&#1076;,_&#1075;&#1077;&#1088;&#1094;&#1086;&#1075;_&#1043;&#1083;&#1086;&#1089;&#1090;&#1077;&#1088;" TargetMode="External"/><Relationship Id="rId40" Type="http://schemas.openxmlformats.org/officeDocument/2006/relationships/hyperlink" Target="http://ru.wikipedia.org/wiki/&#1055;&#1088;&#1080;&#1085;&#1094;_&#1056;&#1080;&#1095;&#1072;&#1088;&#1076;,_&#1075;&#1077;&#1088;&#1094;&#1086;&#1075;_&#1043;&#1083;&#1086;&#1089;&#1090;&#1077;&#1088;" TargetMode="External"/><Relationship Id="rId41" Type="http://schemas.openxmlformats.org/officeDocument/2006/relationships/hyperlink" Target="http://ru.wikipedia.org/w/index.php?title=&#1041;&#1088;&#1080;&#1076;&#1078;&#1080;&#1090;&#1072;,_&#1075;&#1077;&#1088;&#1094;&#1086;&#1075;&#1080;&#1085;&#1103;_&#1043;&#1083;&#1086;&#1089;&#1090;&#1077;&#1088;&amp;action=edit&amp;redlink=1" TargetMode="External"/><Relationship Id="rId42" Type="http://schemas.openxmlformats.org/officeDocument/2006/relationships/hyperlink" Target="http://ru.wikipedia.org/w/index.php?title=&#1041;&#1088;&#1080;&#1076;&#1078;&#1080;&#1090;&#1072;,_&#1075;&#1077;&#1088;&#1094;&#1086;&#1075;&#1080;&#1085;&#1103;_&#1043;&#1083;&#1086;&#1089;&#1090;&#1077;&#1088;&amp;action=edit&amp;redlink=1" TargetMode="External"/><Relationship Id="rId43" Type="http://schemas.openxmlformats.org/officeDocument/2006/relationships/hyperlink" Target="http://ru.wikipedia.org/w/index.php?title=&#1041;&#1088;&#1080;&#1076;&#1078;&#1080;&#1090;&#1072;,_&#1075;&#1077;&#1088;&#1094;&#1086;&#1075;&#1080;&#1085;&#1103;_&#1043;&#1083;&#1086;&#1089;&#1090;&#1077;&#1088;&amp;action=edit&amp;redlink=1" TargetMode="External"/><Relationship Id="rId44" Type="http://schemas.openxmlformats.org/officeDocument/2006/relationships/image" Target="../media/image3.png"/><Relationship Id="rId45" Type="http://schemas.openxmlformats.org/officeDocument/2006/relationships/hyperlink" Target="http://ru.wikipedia.org/wiki/&#1055;&#1088;&#1080;&#1085;&#1094;_&#1069;&#1076;&#1074;&#1072;&#1088;&#1076;,_&#1075;&#1077;&#1088;&#1094;&#1086;&#1075;_&#1050;&#1077;&#1085;&#1090;&#1089;&#1082;&#1080;&#1081;" TargetMode="External"/><Relationship Id="rId46" Type="http://schemas.openxmlformats.org/officeDocument/2006/relationships/hyperlink" Target="http://ru.wikipedia.org/w/index.php?title=&#1050;&#1072;&#1090;&#1072;&#1088;&#1080;&#1085;&#1072;,_&#1075;&#1077;&#1088;&#1094;&#1086;&#1075;&#1080;&#1085;&#1103;_&#1050;&#1077;&#1085;&#1090;&#1089;&#1082;&#1072;&#1103;&amp;action=edit&amp;redlink=1" TargetMode="External"/><Relationship Id="rId47" Type="http://schemas.openxmlformats.org/officeDocument/2006/relationships/hyperlink" Target="http://ru.wikipedia.org/w/index.php?title=&#1050;&#1072;&#1090;&#1072;&#1088;&#1080;&#1085;&#1072;,_&#1075;&#1077;&#1088;&#1094;&#1086;&#1075;&#1080;&#1085;&#1103;_&#1050;&#1077;&#1085;&#1090;&#1089;&#1082;&#1072;&#1103;&amp;action=edit&amp;redlink=1" TargetMode="External"/><Relationship Id="rId48" Type="http://schemas.openxmlformats.org/officeDocument/2006/relationships/image" Target="../media/image3.png"/><Relationship Id="rId49" Type="http://schemas.openxmlformats.org/officeDocument/2006/relationships/hyperlink" Target="http://ru.wikipedia.org/wiki/&#1055;&#1088;&#1080;&#1085;&#1094;_&#1052;&#1072;&#1081;&#1082;&#1083;_&#1050;&#1077;&#1085;&#1090;&#1089;&#1082;&#1080;&#1081;" TargetMode="External"/><Relationship Id="rId50" Type="http://schemas.openxmlformats.org/officeDocument/2006/relationships/hyperlink" Target="http://ru.wikipedia.org/w/index.php?title=&#1055;&#1088;&#1080;&#1085;&#1094;&#1077;&#1089;&#1089;&#1072;_&#1050;&#1077;&#1085;&#1090;&#1089;&#1082;&#1072;&#1103;&amp;action=edit&amp;redlink=1" TargetMode="External"/><Relationship Id="rId51" Type="http://schemas.openxmlformats.org/officeDocument/2006/relationships/image" Target="../media/image3.png"/><Relationship Id="rId52" Type="http://schemas.openxmlformats.org/officeDocument/2006/relationships/hyperlink" Target="http://ru.wikipedia.org/w/index.php?title=&#1055;&#1088;&#1080;&#1085;&#1094;&#1077;&#1089;&#1089;&#1072;_&#1040;&#1083;&#1077;&#1082;&#1089;&#1072;&#1085;&#1076;&#1088;&#1072;,_&#1041;&#1083;&#1072;&#1075;&#1086;&#1088;&#1086;&#1076;&#1085;&#1072;&#1103;_&#1051;&#1077;&#1076;&#1080;_&#1054;&#1075;&#1080;&#1083;&#1074;&#1080;&amp;action=edit&amp;redlink=1" TargetMode="External"/><Relationship Id="rId53" Type="http://schemas.openxmlformats.org/officeDocument/2006/relationships/hyperlink" Target="http://ru.wikipedia.org/w/index.php?title=&#1055;&#1088;&#1080;&#1085;&#1094;&#1077;&#1089;&#1089;&#1072;_&#1040;&#1083;&#1077;&#1082;&#1089;&#1072;&#1085;&#1076;&#1088;&#1072;,_&#1041;&#1083;&#1072;&#1075;&#1086;&#1088;&#1086;&#1076;&#1085;&#1072;&#1103;_&#1051;&#1077;&#1076;&#1080;_&#1054;&#1075;&#1080;&#1083;&#1074;&#1080;&amp;action=edit&amp;redlink=1" TargetMode="External"/><Relationship Id="rId5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1917_&#1075;&#1086;&#1076;" TargetMode="External"/><Relationship Id="rId3" Type="http://schemas.openxmlformats.org/officeDocument/2006/relationships/hyperlink" Target="http://ru.wikipedia.org/wiki/&#1043;&#1077;&#1086;&#1088;&#1075;_V" TargetMode="External"/><Relationship Id="rId4" Type="http://schemas.openxmlformats.org/officeDocument/2006/relationships/hyperlink" Target="http://ru.wikipedia.org/wiki/&#1055;&#1077;&#1088;&#1074;&#1072;&#1103;_&#1084;&#1080;&#1088;&#1086;&#1074;&#1072;&#1103;_&#1074;&#1086;&#1081;&#1085;&#1072;" TargetMode="External"/><Relationship Id="rId5" Type="http://schemas.openxmlformats.org/officeDocument/2006/relationships/hyperlink" Target="http://ru.wikipedia.org/wiki/&#1057;&#1072;&#1082;&#1089;&#1077;&#1085;-&#1050;&#1086;&#1073;&#1091;&#1088;&#1075;-&#1043;&#1086;&#1090;&#1072;" TargetMode="External"/><Relationship Id="rId6" Type="http://schemas.openxmlformats.org/officeDocument/2006/relationships/hyperlink" Target="http://ru.wikipedia.org/wiki/&#1042;&#1080;&#1085;&#1076;&#1079;&#1086;&#1088;&#1089;&#1082;&#1072;&#1103;_&#1076;&#1080;&#1085;&#1072;&#1089;&#1090;&#1080;&#1103;" TargetMode="External"/><Relationship Id="rId7" Type="http://schemas.openxmlformats.org/officeDocument/2006/relationships/hyperlink" Target="http://ru.wikipedia.org/wiki/&#1042;&#1080;&#1085;&#1076;&#1079;&#1086;&#1088;&#1089;&#1082;&#1072;&#1103;_&#1076;&#1080;&#1085;&#1072;&#1089;&#1090;&#1080;&#1103;" TargetMode="External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369800"/>
            <a:ext cx="7183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Королевская семья Великобритании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6000" y="4076280"/>
            <a:ext cx="625176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1a1a"/>
                </a:solidFill>
                <a:latin typeface="Arial"/>
              </a:rPr>
              <a:t>Отношения, семейное древо, тайны и многое другое.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475920"/>
            <a:ext cx="7476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Члены британской королевской семьи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125360"/>
            <a:ext cx="73864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1a1a"/>
                </a:solidFill>
                <a:latin typeface="Arial"/>
              </a:rPr>
              <a:t>Члены британской королевской семь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Её Величество Королева Елизавета II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и принц-консорт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Филипп, герцог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Эдинбург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Чарльз, принц Уэль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и его вторая жена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8"/>
              </a:rPr>
              <a:t>Камилла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, герцогиня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10"/>
              </a:rPr>
              <a:t>Корнуольская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Принц Уильям Уэльский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сын Чарьза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4"/>
              </a:rPr>
              <a:t>Принц Генри Уэльский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чаще называемый Принц Гарри, второй сын Чарльза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Эндрю, герцог Йорк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второй сын королевы Елизаветы II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Принцесса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9"/>
              </a:rPr>
              <a:t>Беатриса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0"/>
              </a:rPr>
              <a:t> Йоркская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дочь герцога Йоркского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2"/>
              </a:rPr>
              <a:t>Принцесса Евгения Йоркская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вторая дочь герцога Йоркского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24"/>
              </a:rPr>
              <a:t>Эдвард, граф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25"/>
              </a:rPr>
              <a:t>Уэссек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третий сын королевы его жена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26"/>
              </a:rPr>
              <a:t>София, графиня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27"/>
              </a:rPr>
              <a:t>Уэссекская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9"/>
              </a:rPr>
              <a:t>Джэймс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0"/>
              </a:rPr>
              <a:t>, виконт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1"/>
              </a:rPr>
              <a:t>Северн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сын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2"/>
              </a:rPr>
              <a:t>Эдварда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4"/>
              </a:rPr>
              <a:t>Леди Луиза Виндзор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дочь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5"/>
              </a:rPr>
              <a:t>Эдварда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37"/>
              </a:rPr>
              <a:t>Принцесса Анна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единственная дочь королевы Елизаветы II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39"/>
              </a:rPr>
              <a:t>Принц Ричард, герцог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0"/>
              </a:rPr>
              <a:t>Глостер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двоюродный брат королевы и его жена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1"/>
              </a:rPr>
              <a:t>Бриджита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2"/>
              </a:rPr>
              <a:t>, герцогиня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3"/>
              </a:rPr>
              <a:t>Глостер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5"/>
              </a:rPr>
              <a:t>Принц Эдвард, герцог Кент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двоюродный брат королевы и его жена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6"/>
              </a:rPr>
              <a:t>Катарина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7"/>
              </a:rPr>
              <a:t>, герцогиня Кентская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9"/>
              </a:rPr>
              <a:t>Принц Майкл Кент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двоюродный брат королевы и его жена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50"/>
              </a:rPr>
              <a:t>Принцесса Кентская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52"/>
              </a:rPr>
              <a:t>Принцесса Александра, Благородная Леди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53"/>
              </a:rPr>
              <a:t>Огилви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двоюродная сестра королевы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6048360" cy="597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тношения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2000" y="1196640"/>
            <a:ext cx="3617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d47d"/>
                </a:solidFill>
                <a:latin typeface="Arial"/>
              </a:rPr>
              <a:t>Принц Чарльз недолюбливает принца Эдварда. Несколько лет назад Чарльз публично назвал брата "гребаным идиотом" за то, что телекомпания Эдварда сняла репортаж о сыне Чарльза принце Гарри. В репортаже Гарри был назвал "запасным наследником". Эдвард ненавидит старшего брата за то, что он не вкладывает деньги в его фирму Ardent Productions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d47d"/>
                </a:solidFill>
                <a:latin typeface="Arial"/>
              </a:rPr>
              <a:t>Принц Гарри недолюбливает своего дядю. Он не простил ему "запасного наследника". По словам одного из членов королевской семьи, "если бы Эдвард предложил Гарри оливковую ветвь в знак примирения, Гарри забил бы его ею до смерти"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d47d"/>
                </a:solidFill>
                <a:latin typeface="Arial"/>
              </a:rPr>
              <a:t>Принц Чарльз недолюбливает свою мать, королеву Елизавету. Сначала она заставила его согласиться на гражданскую церемонию бракосочетания с Камиллой Паркер-Боулз, а потом отказалась на ней появляться. Чарльз назвал идею свадьбы во дворце бракосочетаний, а не в церкви, фарсом и очень обижен на мать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d47d"/>
                </a:solidFill>
                <a:latin typeface="Arial"/>
              </a:rPr>
              <a:t>Принц Чарльз недолюбливает и своего отца – принца Филиппа. Чарльз не может простить папу за то, что он испортил ему жизнь. Сначала принц Филипп отправил Чарльза в известную своей суровостью школу Гордонстоун, а затем фактически заставил жениться на нелюбимой принцессе Диане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3240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33004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Принц Филипп недолюбливает своего сына принца Эндрю. Филипп считает, что его средний сын – избалованный лентяй, которому надо побольше заниматься королевскими делами и поменьше играть в гольф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87480" indent="-87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Принц Эндрю тоже не большой поклонник своего отца. Он не может простить ему плохого отношения к своей бывшей жене Саре Фергюсон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87480" indent="-87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Королева Елизавета на дух не переносит жену своего двоюродного брата принца Майкла Кентского. Баронесса Мари-Кристин заявила журналистам, что Ее Величество любит издеваться над людьми, разговаривая с ними с преувеличенным акцентом кокни. Королева обиделась и язвительно заметила, что у принцессы Кентской, видимо, "гораздо больше королевских привычек, чем у всей королевской семьи"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87480" indent="-87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Королева также терпеть не может свою будущую невестку. Она презирает Камиллу Паркер-Боулз за то, что она была любовницей Чарльза в то время, когда он был женат на Диане. Как-то королева назвала Камиллу "эта ужасная женщина" и заявила, что никогда не хочет иметь с ней ничего общего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708360" y="476280"/>
            <a:ext cx="3959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Тайн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3700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1917 году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Георг V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из-за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войны с Германией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отказался от всех немецких титулов за себя и наследников и переименовал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Саксен-Кобург-Готскую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династию в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дом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Виндзоров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Великобритании нет чёткого юридического либо формального определения члена королевской семьи, как правило членами королевской семьи считаются монарх, супруг монарха, вдовствующий супруг монарха, дети монарха, внуки монарха по мужской линии, супруги и овдовевшие супруги сыновей и внуков по мужской линии монарха. Члены британской королевской семьи носят титулы Их Королевского Величества и Их Королевского Высоче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Исторически члены британской королевской семьи представляли монарха по всей Британской империи и занимали ответственные и представительские посты, на сегодняшний день они выполняют церемониальные и социальные функции как в Великобритании, так и за границей, и кроме монарха не имеют никакой конституционной роли в делах правитель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4032360" y="1052640"/>
            <a:ext cx="349236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477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Многочисленная королевская семья…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2600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4248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9:23:39Z</dcterms:created>
  <dc:creator>он</dc:creator>
  <dc:description/>
  <dc:language>en-US</dc:language>
  <cp:lastModifiedBy>он</cp:lastModifiedBy>
  <dcterms:modified xsi:type="dcterms:W3CDTF">2010-01-26T10:31:46Z</dcterms:modified>
  <cp:revision>2</cp:revision>
  <dc:subject/>
  <dc:title>Королевская семья Великобритании…</dc:title>
</cp:coreProperties>
</file>