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947-85AA-4D69-AA13-ACB72E1D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F4F-B23B-45B2-976C-0D53E9B8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16E-920D-46B1-8B4D-EFC5A184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2D4-EC26-4221-BA48-C648D57B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5EF-025A-4572-BF32-152DC186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72A-A30B-4381-8CB3-5403FB95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A87A-6CEB-4318-8BF6-27DC9E67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0C6-4C90-4F3E-89D6-E84E6F3A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09BF-BD29-4487-BB54-848A311F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E715-E91C-44F1-80D9-6DEE64DF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7928-51E4-4B02-B4B3-DB55ECC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80A-CAEB-4981-BE0D-0A18DD68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B5B-9A5E-4D10-B302-BB818D9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AA0A-123A-40E4-B951-0AF6C7C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C5D-2D0B-407C-BEFC-5BF072C0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2346-4B30-4175-9531-A83B4D92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BB00-D461-47E4-B089-39C3896C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97F-F591-4810-9F66-0DBF706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5D2-1956-43A2-A956-54EB2C9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462-3F9B-4BB2-A556-F834F070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3E2-4DB5-441A-A64E-BEA1429E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C32-3F35-4120-A3E1-02663E4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7E4-4CF5-4096-8035-566CDEB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8B7-DDAE-4819-BD26-9F39BCA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2C3E-7EDB-469D-9E07-2064D5C956C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266-ABAD-4A18-B8F1-88D0C85BC87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83;&#1080;&#1079;&#1072;&#1074;&#1077;&#1090;&#1072;_II" TargetMode="External"/><Relationship Id="rId4" Type="http://schemas.openxmlformats.org/officeDocument/2006/relationships/hyperlink" Target="http://ru.wikipedia.org/wiki/&#1060;&#1080;&#1083;&#1080;&#1087;&#1087;,_&#1075;&#1077;&#1088;&#1094;&#1086;&#1075;_&#1069;&#1076;&#1080;&#1085;&#1073;&#1091;&#1088;&#1075;&#1089;&#1082;&#1080;&#1081;" TargetMode="External"/><Relationship Id="rId5" Type="http://schemas.openxmlformats.org/officeDocument/2006/relationships/hyperlink" Target="http://ru.wikipedia.org/wiki/&#1060;&#1080;&#1083;&#1080;&#1087;&#1087;,_&#1075;&#1077;&#1088;&#1094;&#1086;&#1075;_&#1069;&#1076;&#1080;&#1085;&#1073;&#1091;&#1088;&#1075;&#1089;&#1082;&#1080;&#1081;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ru.wikipedia.org/wiki/&#1063;&#1072;&#1088;&#1083;&#1100;&#1079;,_&#1087;&#1088;&#1080;&#1085;&#1094;_&#1059;&#1101;&#1083;&#1100;&#1089;&#1082;&#1080;&#1081;" TargetMode="External"/><Relationship Id="rId8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9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10" Type="http://schemas.openxmlformats.org/officeDocument/2006/relationships/hyperlink" Target="http://ru.wikipedia.org/wiki/&#1050;&#1072;&#1084;&#1080;&#1083;&#1083;&#1072;,_&#1075;&#1077;&#1088;&#1094;&#1086;&#1075;&#1080;&#1085;&#1103;_&#1050;&#1086;&#1088;&#1085;&#1091;&#1086;&#1083;&#1100;&#1089;&#1082;&#1072;&#1103;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ru.wikipedia.org/wiki/&#1059;&#1080;&#1083;&#1100;&#1103;&#1084;_(&#1087;&#1088;&#1080;&#1085;&#1094;_&#1042;&#1077;&#1083;&#1080;&#1082;&#1086;&#1073;&#1088;&#1080;&#1090;&#1072;&#1085;&#1080;&#1080;)" TargetMode="External"/><Relationship Id="rId13" Type="http://schemas.openxmlformats.org/officeDocument/2006/relationships/image" Target="../media/image6.png"/><Relationship Id="rId14" Type="http://schemas.openxmlformats.org/officeDocument/2006/relationships/hyperlink" Target="http://ru.wikipedia.org/wiki/&#1043;&#1072;&#1088;&#1088;&#1080;_(&#1087;&#1088;&#1080;&#1085;&#1094;_&#1042;&#1077;&#1083;&#1080;&#1082;&#1086;&#1073;&#1088;&#1080;&#1090;&#1072;&#1085;&#1080;&#1080;)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ru.wikipedia.org/wiki/&#1069;&#1085;&#1076;&#1088;&#1102;,_&#1075;&#1077;&#1088;&#1094;&#1086;&#1075;_&#1049;&#1086;&#1088;&#1082;&#1089;&#1082;&#1080;&#1081;" TargetMode="External"/><Relationship Id="rId17" Type="http://schemas.openxmlformats.org/officeDocument/2006/relationships/image" Target="../media/image6.png"/><Relationship Id="rId18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19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20" Type="http://schemas.openxmlformats.org/officeDocument/2006/relationships/hyperlink" Target="http://ru.wikipedia.org/w/index.php?title=&#1055;&#1088;&#1080;&#1085;&#1094;&#1077;&#1089;&#1089;&#1072;_&#1041;&#1077;&#1072;&#1090;&#1088;&#1080;&#1089;&#1072;_&#1049;&#1086;&#1088;&#1082;&#1089;&#1082;&#1072;&#1103;&amp;action=edit&amp;redlink=1" TargetMode="External"/><Relationship Id="rId21" Type="http://schemas.openxmlformats.org/officeDocument/2006/relationships/image" Target="../media/image6.png"/><Relationship Id="rId22" Type="http://schemas.openxmlformats.org/officeDocument/2006/relationships/hyperlink" Target="http://ru.wikipedia.org/w/index.php?title=&#1055;&#1088;&#1080;&#1085;&#1094;&#1077;&#1089;&#1089;&#1072;_&#1045;&#1074;&#1075;&#1077;&#1085;&#1080;&#1103;_&#1049;&#1086;&#1088;&#1082;&#1089;&#1082;&#1072;&#1103;&amp;action=edit&amp;redlink=1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25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26" Type="http://schemas.openxmlformats.org/officeDocument/2006/relationships/hyperlink" Target="http://ru.wikipedia.org/w/index.php?title=&#1057;&#1086;&#1092;&#1080;&#1103;,_&#1075;&#1088;&#1072;&#1092;&#1080;&#1085;&#1103;_&#1059;&#1101;&#1089;&#1089;&#1077;&#1082;&#1089;&#1082;&#1072;&#1103;&amp;action=edit&amp;redlink=1" TargetMode="External"/><Relationship Id="rId27" Type="http://schemas.openxmlformats.org/officeDocument/2006/relationships/hyperlink" Target="http://ru.wikipedia.org/w/index.php?title=&#1057;&#1086;&#1092;&#1080;&#1103;,_&#1075;&#1088;&#1072;&#1092;&#1080;&#1085;&#1103;_&#1059;&#1101;&#1089;&#1089;&#1077;&#1082;&#1089;&#1082;&#1072;&#1103;&amp;action=edit&amp;redlink=1" TargetMode="External"/><Relationship Id="rId28" Type="http://schemas.openxmlformats.org/officeDocument/2006/relationships/image" Target="../media/image6.png"/><Relationship Id="rId29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0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1" Type="http://schemas.openxmlformats.org/officeDocument/2006/relationships/hyperlink" Target="http://ru.wikipedia.org/w/index.php?title=&#1044;&#1078;&#1101;&#1081;&#1084;&#1089;,_&#1074;&#1080;&#1082;&#1086;&#1085;&#1090;_&#1057;&#1077;&#1074;&#1077;&#1088;&#1085;&amp;action=edit&amp;redlink=1" TargetMode="External"/><Relationship Id="rId32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33" Type="http://schemas.openxmlformats.org/officeDocument/2006/relationships/image" Target="../media/image6.png"/><Relationship Id="rId34" Type="http://schemas.openxmlformats.org/officeDocument/2006/relationships/hyperlink" Target="http://ru.wikipedia.org/w/index.php?title=&#1051;&#1077;&#1076;&#1080;_&#1051;&#1091;&#1080;&#1079;&#1072;_&#1042;&#1080;&#1085;&#1076;&#1079;&#1086;&#1088;&amp;action=edit&amp;redlink=1" TargetMode="External"/><Relationship Id="rId35" Type="http://schemas.openxmlformats.org/officeDocument/2006/relationships/hyperlink" Target="http://ru.wikipedia.org/wiki/&#1069;&#1076;&#1074;&#1072;&#1088;&#1076;,_&#1075;&#1088;&#1072;&#1092;_&#1059;&#1101;&#1089;&#1089;&#1077;&#1082;&#1089;&#1082;&#1080;&#1081;" TargetMode="External"/><Relationship Id="rId36" Type="http://schemas.openxmlformats.org/officeDocument/2006/relationships/image" Target="../media/image3.png"/><Relationship Id="rId37" Type="http://schemas.openxmlformats.org/officeDocument/2006/relationships/hyperlink" Target="http://ru.wikipedia.org/wiki/&#1055;&#1088;&#1080;&#1085;&#1094;&#1077;&#1089;&#1089;&#1072;_&#1040;&#1085;&#1085;&#1072;" TargetMode="External"/><Relationship Id="rId38" Type="http://schemas.openxmlformats.org/officeDocument/2006/relationships/image" Target="../media/image3.png"/><Relationship Id="rId39" Type="http://schemas.openxmlformats.org/officeDocument/2006/relationships/hyperlink" Target="http://ru.wikipedia.org/wiki/&#1055;&#1088;&#1080;&#1085;&#1094;_&#1056;&#1080;&#1095;&#1072;&#1088;&#1076;,_&#1075;&#1077;&#1088;&#1094;&#1086;&#1075;_&#1043;&#1083;&#1086;&#1089;&#1090;&#1077;&#1088;" TargetMode="External"/><Relationship Id="rId40" Type="http://schemas.openxmlformats.org/officeDocument/2006/relationships/hyperlink" Target="http://ru.wikipedia.org/wiki/&#1055;&#1088;&#1080;&#1085;&#1094;_&#1056;&#1080;&#1095;&#1072;&#1088;&#1076;,_&#1075;&#1077;&#1088;&#1094;&#1086;&#1075;_&#1043;&#1083;&#1086;&#1089;&#1090;&#1077;&#1088;" TargetMode="External"/><Relationship Id="rId41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2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3" Type="http://schemas.openxmlformats.org/officeDocument/2006/relationships/hyperlink" Target="http://ru.wikipedia.org/w/index.php?title=&#1041;&#1088;&#1080;&#1076;&#1078;&#1080;&#1090;&#1072;,_&#1075;&#1077;&#1088;&#1094;&#1086;&#1075;&#1080;&#1085;&#1103;_&#1043;&#1083;&#1086;&#1089;&#1090;&#1077;&#1088;&amp;action=edit&amp;redlink=1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ru.wikipedia.org/wiki/&#1055;&#1088;&#1080;&#1085;&#1094;_&#1069;&#1076;&#1074;&#1072;&#1088;&#1076;,_&#1075;&#1077;&#1088;&#1094;&#1086;&#1075;_&#1050;&#1077;&#1085;&#1090;&#1089;&#1082;&#1080;&#1081;" TargetMode="External"/><Relationship Id="rId46" Type="http://schemas.openxmlformats.org/officeDocument/2006/relationships/hyperlink" Target="http://ru.wikipedia.org/w/index.php?title=&#1050;&#1072;&#1090;&#1072;&#1088;&#1080;&#1085;&#1072;,_&#1075;&#1077;&#1088;&#1094;&#1086;&#1075;&#1080;&#1085;&#1103;_&#1050;&#1077;&#1085;&#1090;&#1089;&#1082;&#1072;&#1103;&amp;action=edit&amp;redlink=1" TargetMode="External"/><Relationship Id="rId47" Type="http://schemas.openxmlformats.org/officeDocument/2006/relationships/hyperlink" Target="http://ru.wikipedia.org/w/index.php?title=&#1050;&#1072;&#1090;&#1072;&#1088;&#1080;&#1085;&#1072;,_&#1075;&#1077;&#1088;&#1094;&#1086;&#1075;&#1080;&#1085;&#1103;_&#1050;&#1077;&#1085;&#1090;&#1089;&#1082;&#1072;&#1103;&amp;action=edit&amp;redlink=1" TargetMode="External"/><Relationship Id="rId48" Type="http://schemas.openxmlformats.org/officeDocument/2006/relationships/image" Target="../media/image3.png"/><Relationship Id="rId49" Type="http://schemas.openxmlformats.org/officeDocument/2006/relationships/hyperlink" Target="http://ru.wikipedia.org/wiki/&#1055;&#1088;&#1080;&#1085;&#1094;_&#1052;&#1072;&#1081;&#1082;&#1083;_&#1050;&#1077;&#1085;&#1090;&#1089;&#1082;&#1080;&#1081;" TargetMode="External"/><Relationship Id="rId50" Type="http://schemas.openxmlformats.org/officeDocument/2006/relationships/hyperlink" Target="http://ru.wikipedia.org/w/index.php?title=&#1055;&#1088;&#1080;&#1085;&#1094;&#1077;&#1089;&#1089;&#1072;_&#1050;&#1077;&#1085;&#1090;&#1089;&#1082;&#1072;&#1103;&amp;action=edit&amp;redlink=1" TargetMode="External"/><Relationship Id="rId51" Type="http://schemas.openxmlformats.org/officeDocument/2006/relationships/image" Target="../media/image3.png"/><Relationship Id="rId52" Type="http://schemas.openxmlformats.org/officeDocument/2006/relationships/hyperlink" Target="http://ru.wikipedia.org/w/index.php?title=&#1055;&#1088;&#1080;&#1085;&#1094;&#1077;&#1089;&#1089;&#1072;_&#1040;&#1083;&#1077;&#1082;&#1089;&#1072;&#1085;&#1076;&#1088;&#1072;,_&#1041;&#1083;&#1072;&#1075;&#1086;&#1088;&#1086;&#1076;&#1085;&#1072;&#1103;_&#1051;&#1077;&#1076;&#1080;_&#1054;&#1075;&#1080;&#1083;&#1074;&#1080;&amp;action=edit&amp;redlink=1" TargetMode="External"/><Relationship Id="rId53" Type="http://schemas.openxmlformats.org/officeDocument/2006/relationships/hyperlink" Target="http://ru.wikipedia.org/w/index.php?title=&#1055;&#1088;&#1080;&#1085;&#1094;&#1077;&#1089;&#1089;&#1072;_&#1040;&#1083;&#1077;&#1082;&#1089;&#1072;&#1085;&#1076;&#1088;&#1072;,_&#1041;&#1083;&#1072;&#1075;&#1086;&#1088;&#1086;&#1076;&#1085;&#1072;&#1103;_&#1051;&#1077;&#1076;&#1080;_&#1054;&#1075;&#1080;&#1083;&#1074;&#1080;&amp;action=edit&amp;redlink=1" TargetMode="External"/><Relationship Id="rId5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1917_&#1075;&#1086;&#1076;" TargetMode="External"/><Relationship Id="rId3" Type="http://schemas.openxmlformats.org/officeDocument/2006/relationships/hyperlink" Target="http://ru.wikipedia.org/wiki/&#1043;&#1077;&#1086;&#1088;&#1075;_V" TargetMode="External"/><Relationship Id="rId4" Type="http://schemas.openxmlformats.org/officeDocument/2006/relationships/hyperlink" Target="http://ru.wikipedia.org/wiki/&#1055;&#1077;&#1088;&#1074;&#1072;&#1103;_&#1084;&#1080;&#1088;&#1086;&#1074;&#1072;&#1103;_&#1074;&#1086;&#1081;&#1085;&#1072;" TargetMode="External"/><Relationship Id="rId5" Type="http://schemas.openxmlformats.org/officeDocument/2006/relationships/hyperlink" Target="http://ru.wikipedia.org/wiki/&#1057;&#1072;&#1082;&#1089;&#1077;&#1085;-&#1050;&#1086;&#1073;&#1091;&#1088;&#1075;-&#1043;&#1086;&#1090;&#1072;" TargetMode="External"/><Relationship Id="rId6" Type="http://schemas.openxmlformats.org/officeDocument/2006/relationships/hyperlink" Target="http://ru.wikipedia.org/wiki/&#1042;&#1080;&#1085;&#1076;&#1079;&#1086;&#1088;&#1089;&#1082;&#1072;&#1103;_&#1076;&#1080;&#1085;&#1072;&#1089;&#1090;&#1080;&#1103;" TargetMode="External"/><Relationship Id="rId7" Type="http://schemas.openxmlformats.org/officeDocument/2006/relationships/hyperlink" Target="http://ru.wikipedia.org/wiki/&#1042;&#1080;&#1085;&#1076;&#1079;&#1086;&#1088;&#1089;&#1082;&#1072;&#1103;_&#1076;&#1080;&#1085;&#1072;&#1089;&#1090;&#1080;&#1103;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369800"/>
            <a:ext cx="7183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Королевская семья Великобритании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076280"/>
            <a:ext cx="62517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a1a"/>
                </a:solidFill>
                <a:latin typeface="Arial"/>
              </a:rPr>
              <a:t>Отношения, семейное древо, тайны и многое другое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Члены британской королевской семьи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125360"/>
            <a:ext cx="7386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1a1a"/>
                </a:solidFill>
                <a:latin typeface="Arial"/>
              </a:rPr>
              <a:t>Члены британской королевской семь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Её Величество Королева Елизавета II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и принц-консорт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Филипп, герцог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Эдинбург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Чарльз, принц Уэль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и его вторая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Камилл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, герцог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Корнуоль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Принц Уильям Уэльский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сын Чарьз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Принц Генри Уэльский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чаще называемый Принц Гарри, второй сын Чарльз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Эндрю, герцог Йорк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второй сын королевы Елизаветы II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Принцесса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Беатриса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 Йоркская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дочь герцога Йоркско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Принцесса Евгения Йоркская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вторая дочь герцога Йоркско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Эдвард, граф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5"/>
              </a:rPr>
              <a:t>Уэссек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третий сын королевы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6"/>
              </a:rPr>
              <a:t>София, граф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27"/>
              </a:rPr>
              <a:t>Уэссек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9"/>
              </a:rPr>
              <a:t>Джэймс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, виконт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1"/>
              </a:rPr>
              <a:t>Северн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сын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2"/>
              </a:rPr>
              <a:t>Эдварда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4"/>
              </a:rPr>
              <a:t>Леди Луиза Виндзор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 доч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5"/>
              </a:rPr>
              <a:t>Эдварда</a:t>
            </a:r>
            <a:r>
              <a:rPr b="0" lang="ru-RU" sz="14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7"/>
              </a:rPr>
              <a:t>Принцесса Анна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единственная дочь королевы Елизаветы II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39"/>
              </a:rPr>
              <a:t>Принц Ричард, герцог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0"/>
              </a:rPr>
              <a:t>Глостер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1"/>
              </a:rPr>
              <a:t>Бриджит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2"/>
              </a:rPr>
              <a:t>, герцогиня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3"/>
              </a:rPr>
              <a:t>Глостер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5"/>
              </a:rPr>
              <a:t>Принц Эдвард, герцог Кент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6"/>
              </a:rPr>
              <a:t>Катарина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7"/>
              </a:rPr>
              <a:t>, герцогиня Кент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49"/>
              </a:rPr>
              <a:t>Принц Майкл Кентский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ый брат королевы и его жена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0"/>
              </a:rPr>
              <a:t>Принцесса Кентская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2"/>
              </a:rPr>
              <a:t>Принцесса Александра, Благородная Леди </a:t>
            </a:r>
            <a:r>
              <a:rPr b="0" lang="ru-RU" sz="1600" spc="-1" strike="noStrike" u="sng">
                <a:solidFill>
                  <a:srgbClr val="f0b854"/>
                </a:solidFill>
                <a:uFillTx/>
                <a:latin typeface="Arial"/>
                <a:hlinkClick r:id="rId53"/>
              </a:rPr>
              <a:t>Огилви</a:t>
            </a:r>
            <a:r>
              <a:rPr b="0" lang="ru-RU" sz="1600" spc="-1" strike="noStrike">
                <a:solidFill>
                  <a:srgbClr val="961a1a"/>
                </a:solidFill>
                <a:latin typeface="Arial"/>
              </a:rPr>
              <a:t> двоюродная сестра королевы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048360" cy="597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ношения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2000" y="1196640"/>
            <a:ext cx="361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принца Эдварда. Несколько лет назад Чарльз публично назвал брата "гребаным идиотом" за то, что телекомпания Эдварда сняла репортаж о сыне Чарльза принце Гарри. В репортаже Гарри был назвал "запасным наследником". Эдвард ненавидит старшего брата за то, что он не вкладывает деньги в его фирму Ardent Productions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Гарри недолюбливает своего дядю. Он не простил ему "запасного наследника". По словам одного из членов королевской семьи, "если бы Эдвард предложил Гарри оливковую ветвь в знак примирения, Гарри забил бы его ею до смерти"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свою мать, королеву Елизавету. Сначала она заставила его согласиться на гражданскую церемонию бракосочетания с Камиллой Паркер-Боулз, а потом отказалась на ней появляться. Чарльз назвал идею свадьбы во дворце бракосочетаний, а не в церкви, фарсом и очень обижен на мать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Принц Чарльз недолюбливает и своего отца – принца Филиппа. Чарльз не может простить папу за то, что он испортил ему жизнь. Сначала принц Филипп отправил Чарльза в известную своей суровостью школу Гордонстоун, а затем фактически заставил жениться на нелюбимой принцессе Диане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3240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3300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инц Филипп недолюбливает своего сына принца Эндрю. Филипп считает, что его средний сын – избалованный лентяй, которому надо побольше заниматься королевскими делами и поменьше играть в гольф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инц Эндрю тоже не большой поклонник своего отца. Он не может простить ему плохого отношения к своей бывшей жене Саре Фергюсон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оролева Елизавета на дух не переносит жену своего двоюродного брата принца Майкла Кентского. Баронесса Мари-Кристин заявила журналистам, что Ее Величество любит издеваться над людьми, разговаривая с ними с преувеличенным акцентом кокни. Королева обиделась и язвительно заметила, что у принцессы Кентской, видимо, "гораздо больше королевских привычек, чем у всей королевской семь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оролева также терпеть не может свою будущую невестку. Она презирает Камиллу Паркер-Боулз за то, что она была любовницей Чарльза в то время, когда он был женат на Диане. Как-то королева назвала Камиллу "эта ужасная женщина" и заявила, что никогда не хочет иметь с ней ничего общего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708360" y="476280"/>
            <a:ext cx="3959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ай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3700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1917 году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Георг 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з-за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войны с Германией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тказался от всех немецких титулов за себя и наследников и переименовал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Саксен-Кобург-Готскую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династию 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дом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Виндзоров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Великобритании нет чёткого юридического либо формального определения члена королевской семьи, как правило членами королевской семьи считаются монарх, супруг монарха, вдовствующий супруг монарха, дети монарха, внуки монарха по мужской линии, супруги и овдовевшие супруги сыновей и внуков по мужской линии монарха. Члены британской королевской семьи носят титулы Их Королевского Величества и Их Королевского Высоче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сторически члены британской королевской семьи представляли монарха по всей Британской империи и занимали ответственные и представительские посты, на сегодняшний день они выполняют церемониальные и социальные функции как в Великобритании, так и за границей, и кроме монарха не имеют никакой конституционной роли в делах правитель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4032360" y="1052640"/>
            <a:ext cx="3492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47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ногочисленная королевская семья…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9:23:39Z</dcterms:created>
  <dc:creator>он</dc:creator>
  <dc:description/>
  <dc:language>en-US</dc:language>
  <cp:lastModifiedBy>он</cp:lastModifiedBy>
  <dcterms:modified xsi:type="dcterms:W3CDTF">2010-01-26T10:31:46Z</dcterms:modified>
  <cp:revision>2</cp:revision>
  <dc:subject/>
  <dc:title>Королевская семья Великобритании…</dc:title>
</cp:coreProperties>
</file>