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D32-4721-4EB2-83CC-EEA66CCF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A85-9690-49B4-B6EC-640D1E1F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318-169A-4CA2-A10F-34EB0C4E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DF8-4C75-4E96-95FA-603E4856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6B1A-71A3-4482-A065-E26E8387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78FA-82F2-4A0B-9417-968A4E1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7480-8724-4B03-AAE8-70465810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481F-F819-4CAC-9A0C-FCDC2198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9591-0533-453C-B264-DA013DD0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7088-7D45-4697-8C76-E7279A61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EF74-4BB1-4054-9EA5-B8382F6F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850-B8CB-440D-B196-5D58BC64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E639-8F4C-4C12-911D-1BDE3F80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8D4E-2A98-45DC-9D54-2B2944E1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75EE-9233-437C-B844-0DF8C209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B4C5-5EB5-4E72-982B-6DEE7E82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16BD-06A1-4E3F-82A8-5E79F84E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A5B-E27A-4F99-B7F9-9A6532B9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7EA-210F-4C2C-8DF7-7F573DA0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BA8-048C-471B-A386-FD46B92D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D84-E59D-4E0D-8108-BC6D0786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756-D00A-45D2-A10D-20583118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AC0-81ED-4925-B909-1722B08A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86C-5042-4592-92ED-5FCD47CD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CFC3-ACB2-4CDE-8F69-76A5614E60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84A2-3F28-4C49-9806-A3A627A8C6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634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ириллица и глаголи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узнецова Кристин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ница 10 класса «Б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У-гимназия г.Переславля-Залесского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, какая азбука была создана раньше: кириллица или глагол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, авторами какой из двух азбук являлись Кирилл и Мефод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 сходства и различия между кириллицей и глагол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Что было сначала - глаголица или кириллица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ирилл и Мефодий, создав славянскую азбуку, перевели на славянский язык практически все важнейшие церковные книги и молитвы. Но до наших дней дошла не одна славянская азбука, а две: глаголица и кириллиц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акая из них возникла раньше? Существуют несколько гипотез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глаголицу, а кириллица - результат его позднейшего усовершенствования на основании греческого уставного пись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глаголицу, а кириллица к этому времени уже существова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кириллицу, для чего использовал уже существовавшую глаголиц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кириллицу, а глаголица развилась как «тайнопись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ириллица и глаголица существовали у славян, в частности у восточных, ещё в дохристианский перио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оисхождение кириллиц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звание «кириллица» происходит от имени св. Кирилла. Слово «кириллица» имеет много вариантов: «куриллица», «кирулица» и др. Но эти варианты происходят от  того же корня: в древности писали и Кирилл, и Курилл, и Кур, и Кир и др. Этот алфавит связывают с именем создате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ириллица отличается графически от глаголицы, являясь вариантом греческого письма. По своему строю является порождением глаголиц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ириллица – это комбинация двух алфавитов: как система фонем  она копирует глаголицу, как система начертаний – греческое письм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здание глагол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ществовало 3 теори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Фортунатова – глаголица происходит из нижнеегипетского курсив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Тейлора – Ягича – глаголица происходит из букв и буквенных сочетаний византийского курсив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е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Соболевского А.И. – глаголица происходит из кириллиц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голица старше кириллицы и совершеннее её фонетически. Следует отметить, что глаголица скорее порождение Запада. Там она развилась, там она всё более закреплялась, и там  она ещё и до сих пор существует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ор о превосходст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евнейшие глаголические рукописи происходят из тех областей, где работали Кирилл и Мефодий. Кириллические тексты написаны на востоке Балканского полуостро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голические памятники более архаичны по язык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кириллических текстах встречаются ошибки, свидетельствующие о том, что текст переписан с глаголического оригина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уквы в глаголице и кириллице имели совершенно разную форм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равнительная таблица глаголицы и кирилл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2057400"/>
          <a:ext cx="7162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162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17440"/>
            <a:ext cx="81928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лаголица  старше кириллиц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 преданию, кириллица была составлен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. Кириллом (Константином) в 863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сточником кириллицы и глаголицы стал древнегреческий алфави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 глаголица, и кириллица копировали греческий алфавит, давали буквам определенное цифровое знач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ириллица отличается графически от глаголиц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ьб И. Э. Изучение систем письменности у древних славян. М., 199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крелидзе Г. В. Системы раннехристианских письменностей // Вопросы языкознания. 1987. № 6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ргиев Е. Славянская письменность до Кирилла и Мефодия. София, 1952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дер Л. Р. Из истории письма. Л., 1979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 Е. Ф. Теоретические проблемы моделирования языка. Казань, 198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стантинов Н. А. История русской азбуки // Знание - сила. 1953. № 1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В. В. Краткий лингвистический справочник. Языки и письменность. М., 199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ч В. И. О психофизической сущности фонемы // Проблемы теоретической и прикладной фонетики и обучение произношению: Тезисы докладов. М., 197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х П. Я. Историческая грамматика русского языка. М., 195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0:10:44Z</dcterms:created>
  <dc:creator>ученик</dc:creator>
  <dc:description/>
  <dc:language>en-US</dc:language>
  <cp:lastModifiedBy>Учитель</cp:lastModifiedBy>
  <dcterms:modified xsi:type="dcterms:W3CDTF">2005-12-12T12:23:44Z</dcterms:modified>
  <cp:revision>13</cp:revision>
  <dc:subject/>
  <dc:title>Кириллица и Глаголица</dc:title>
</cp:coreProperties>
</file>