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3827-5163-4D5A-A00C-E001CD26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8ED4-FF98-44B2-AE3F-B449EEE1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BF40-E701-4D14-AC5F-F62F05779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703D-636D-4AB2-A25A-F31068C3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1510-38E6-436F-883C-8BB8B861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D394-4EB6-4C77-AD69-D0DE6D9D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6C96-9FEA-479D-8C0B-5604CFB7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6AAC-FED6-4B79-B2FA-5FDF3853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E19A-3326-460E-ADD7-054CC563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64C1-571D-40AE-86E1-AFD5E8A2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28D8-D99E-4942-A6D7-ED1788B1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4C2F-F130-4C3C-BFD8-82C60989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3185-9B13-4B0D-BDC6-6C209138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267A-9738-4CED-BA70-74F20429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46A8-8067-482D-B51A-2BACF1F8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8952-7554-4521-B764-F04987A7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4A10-DE3C-4394-B517-EDDAAA19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5546-5F02-46A5-AEF2-42E0ECC8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76DB-80AE-4B34-AD0D-F8A536C3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6230-BBFE-48F8-B33D-03F7B985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FF2C-E507-4105-A314-6F2A44B0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6714-FD60-4FDC-AD3B-852E5A62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7C09-5151-46D3-AF57-CF82D7C2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AA4E-D0C9-4398-92C3-9EB72A67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E3D0-DC3C-4A74-ACFA-A6716EDA02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231E-1303-498D-BAE8-1367B0EA22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634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ириллица и глаголиц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узнецова Кристин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еница 10 класса «Б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ОУ-гимназия г.Переславля-Залесского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, какая азбука была создана раньше: кириллица или глаголиц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, авторами какой из двух азбук являлись Кирилл и Мефод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йти сходства и различия между кириллицей и глаголиц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Что было сначала - глаголица или кириллица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17440"/>
            <a:ext cx="82692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ирилл и Мефодий, создав славянскую азбуку, перевели на славянский язык практически все важнейшие церковные книги и молитвы. Но до наших дней дошла не одна славянская азбука, а две: глаголица и кириллиц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Какая из них возникла раньше? Существуют несколько гипотез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нстантин создал глаголицу, а кириллица - результат его позднейшего усовершенствования на основании греческого уставного письм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нстантин создал глаголицу, а кириллица к этому времени уже существовал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нстантин создал кириллицу, для чего использовал уже существовавшую глаголиц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нстантин создал кириллицу, а глаголица развилась как «тайнопись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ириллица и глаголица существовали у славян, в частности у восточных, ещё в дохристианский период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714240"/>
            <a:ext cx="77929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Происхождение кириллиц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звание «кириллица» происходит от имени св. Кирилла. Слово «кириллица» имеет много вариантов: «куриллица», «кирулица» и др. Но эти варианты происходят от  того же корня: в древности писали и Кирилл, и Курилл, и Кур, и Кир и др. Этот алфавит связывают с именем создател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ириллица отличается графически от глаголицы, являясь вариантом греческого письма. По своему строю является порождением глаголиц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ириллица – это комбинация двух алфавитов: как система фонем  она копирует глаголицу, как система начертаний – греческое письм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оздание глаголиц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уществовало 3 теории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ория Фортунатова – глаголица происходит из нижнеегипетского курсив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ория Тейлора – Ягича – глаголица происходит из букв и буквенных сочетаний византийского курсив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X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ек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ория Соболевского А.И. – глаголица происходит из кириллиц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аголица старше кириллицы и совершеннее её фонетически. Следует отметить, что глаголица скорее порождение Запада. Там она развилась, там она всё более закреплялась, и там  она ещё и до сих пор существует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пор о превосходств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ревнейшие глаголические рукописи происходят из тех областей, где работали Кирилл и Мефодий. Кириллические тексты написаны на востоке Балканского полуостро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лаголические памятники более архаичны по язык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кириллических текстах встречаются ошибки, свидетельствующие о том, что текст переписан с глаголического оригинал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уквы в глаголице и кириллице имели совершенно разную форм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равнительная таблица глаголицы и кириллиц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43000" y="2057400"/>
          <a:ext cx="71629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71629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ывод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17440"/>
            <a:ext cx="819288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лаголица  старше кириллиц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 преданию, кириллица была составлена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в. Кириллом (Константином) в 863 г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сточником кириллицы и глаголицы стал древнегреческий алфави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 глаголица, и кириллица копировали греческий алфавит, давали буквам определенное цифровое значен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ириллица отличается графически от глаголиц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Литерату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льб И. Э. Изучение систем письменности у древних славян. М., 199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мкрелидзе Г. В. Системы раннехристианских письменностей // Вопросы языкознания. 1987. № 6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ргиев Е. Славянская письменность до Кирилла и Мефодия. София, 1952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ндер Л. Р. Из истории письма. Л., 1979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ов Е. Ф. Теоретические проблемы моделирования языка. Казань, 198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стантинов Н. А. История русской азбуки // Знание - сила. 1953. № 1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апов В. В. Краткий лингвистический справочник. Языки и письменность. М., 199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ич В. И. О психофизической сущности фонемы // Проблемы теоретической и прикладной фонетики и обучение произношению: Тезисы докладов. М., 197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ых П. Я. Историческая грамматика русского языка. М., 1954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0:10:44Z</dcterms:created>
  <dc:creator>ученик</dc:creator>
  <dc:description/>
  <dc:language>en-US</dc:language>
  <cp:lastModifiedBy>Учитель</cp:lastModifiedBy>
  <dcterms:modified xsi:type="dcterms:W3CDTF">2005-12-12T12:23:44Z</dcterms:modified>
  <cp:revision>13</cp:revision>
  <dc:subject/>
  <dc:title>Кириллица и Глаголица</dc:title>
</cp:coreProperties>
</file>