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040-59C8-4A61-9896-C64A1C84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48D-A685-43B2-9AC5-26DDC100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C12-B24E-43AF-83C8-4DA5CE68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5A9-677B-4869-B481-C8B55D15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3D8D-FD8A-438C-9760-BCE30879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FFBF-E60C-47C8-BCBE-4332C411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DA6C-CDB2-4351-B323-C062A9A8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E707-7CD8-4A7B-B00F-83C4A78A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1B9C-DBFE-4CDA-9B27-9A6A794E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BFC2-90F2-4CF9-8B2C-CA75EF93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C2B9-3980-4909-84E4-8F96284B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516-038A-404F-9F01-F6D80679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69AC-F884-4940-8D2F-7588EF71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46FF-47A0-43F6-BC77-F899E0A9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9C52-8B91-4DB0-B876-C31610FA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6DE0-1A3D-4E52-9C63-6989CDB8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BFCC-E87A-4321-BABA-F17819C8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40D-40AF-4797-8CC5-A4DD4041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875-486C-4218-958A-C7F7EB66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AC0-0F02-4FF6-9DFC-E7A502A3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787-4566-41D4-92BF-73A39727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E84-822E-4798-9C0B-5B304C6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C44-A0A8-4A76-9F11-D8684DC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1A9-372A-4104-8C5A-51A9343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0B31-49C2-43B0-B5F1-35229107F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61DD-878E-47BB-9D34-6B2CE50613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634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ириллица и глаголи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узнецова Кристин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ница 10 класса «Б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У-гимназия г.Переславля-Залесского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, какая азбука была создана раньше: кириллица или глагол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, авторами какой из двух азбук являлись Кирилл и Мефод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 сходства и различия между кириллицей и глагол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Что было сначала - глаголица или кириллица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рилл и Мефодий, создав славянскую азбуку, перевели на славянский язык практически все важнейшие церковные книги и молитвы. Но до наших дней дошла не одна славянская азбука, а две: глаголица и кириллиц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акая из них возникла раньше? Существуют несколько гипотез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глаголицу, а кириллица - результат его позднейшего усовершенствования на основании греческого уставного пись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глаголицу, а кириллица к этому времени уже существова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кириллицу, для чего использовал уже существовавшую глаголиц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антин создал кириллицу, а глаголица развилась как «тайнопись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риллица и глаголица существовали у славян, в частности у восточных, ещё в дохристианский перио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оисхождение кириллиц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звание «кириллица» происходит от имени св. Кирилла. Слово «кириллица» имеет много вариантов: «куриллица», «кирулица» и др. Но эти варианты происходят от  того же корня: в древности писали и Кирилл, и Курилл, и Кур, и Кир и др. Этот алфавит связывают с именем создат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ириллица отличается графически от глаголицы, являясь вариантом греческого письма. По своему строю является порождением глагол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ириллица – это комбинация двух алфавитов: как система фонем  она копирует глаголицу, как система начертаний – греческое письм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здание глаго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ествовало 3 теори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Фортунатова – глаголица происходит из нижнеегипетского курсив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Тейлора – Ягича – глаголица происходит из букв и буквенных сочетаний византийского курсив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е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Соболевского А.И. – глаголица происходит из кириллиц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голица старше кириллицы и совершеннее её фонетически. Следует отметить, что глаголица скорее порождение Запада. Там она развилась, там она всё более закреплялась, и там  она ещё и до сих пор существует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ор о превосходст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евнейшие глаголические рукописи происходят из тех областей, где работали Кирилл и Мефодий. Кириллические тексты написаны на востоке Балканского полуостр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голические памятники более архаичны по язык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кириллических текстах встречаются ошибки, свидетельствующие о том, что текст переписан с глаголического оригин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квы в глаголице и кириллице имели совершенно разную форм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равнительная таблица глаголицы и кирилл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2057400"/>
          <a:ext cx="7162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162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17440"/>
            <a:ext cx="8192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лаголица  старше кириллиц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 преданию, кириллица была составлен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. Кириллом (Константином) в 863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точником кириллицы и глаголицы стал древнегреческий алфави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 глаголица, и кириллица копировали греческий алфавит, давали буквам определенное цифровое знач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ириллица отличается графически от глаголиц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ьб И. Э. Изучение систем письменности у древних славян. М., 199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крелидзе Г. В. Системы раннехристианских письменностей // Вопросы языкознания. 1987. № 6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ргиев Е. Славянская письменность до Кирилла и Мефодия. София, 1952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дер Л. Р. Из истории письма. Л., 1979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 Е. Ф. Теоретические проблемы моделирования языка. Казань, 198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стантинов Н. А. История русской азбуки // Знание - сила. 1953. № 1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В. В. Краткий лингвистический справочник. Языки и письменность. М., 199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ч В. И. О психофизической сущности фонемы // Проблемы теоретической и прикладной фонетики и обучение произношению: Тезисы докладов. М., 197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х П. Я. Историческая грамматика русского языка. М., 195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0:10:44Z</dcterms:created>
  <dc:creator>ученик</dc:creator>
  <dc:description/>
  <dc:language>en-US</dc:language>
  <cp:lastModifiedBy>Учитель</cp:lastModifiedBy>
  <dcterms:modified xsi:type="dcterms:W3CDTF">2005-12-12T12:23:44Z</dcterms:modified>
  <cp:revision>13</cp:revision>
  <dc:subject/>
  <dc:title>Кириллица и Глаголица</dc:title>
</cp:coreProperties>
</file>