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4ACF-F8A9-4FD5-B71F-F6F0C687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2132-D620-4F4A-A922-C3D0737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DB40-EFAC-4221-944B-C1F671FA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19236-54BB-4B25-A938-A78B295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6AA57-2F98-42D6-9F92-8C06F18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225E-9D70-4EA6-A0ED-B016CC8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9E15B-0F3E-4B0E-8D02-B5B14E5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18D6-3824-4445-BC86-C26BBC34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2CEF9-37A6-4151-AF26-EAD98F7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93277-B5FF-4486-89ED-B5398F48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DC184-50B8-40C1-A133-21062E4E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89D4C-4E14-444C-8CAB-38FFCAD0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AD91-05A2-4CC9-84C5-621512F6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8458C-DF63-4311-B9F1-ACA8DBD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A0085-2474-4D92-91C8-C7B891C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98B8A-B777-43C6-8E16-9F3CBA10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342A3-4D4E-45CB-87E9-B0076176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43772-E0A7-48FC-9584-7DB0823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805D4-E50B-4B1E-B537-458042C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4BA80-AB14-4FB2-BFB3-B94FBB30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4641C-D81E-41D4-A021-212DCA4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B9B63-A6B9-4BEC-A5D0-8CB3730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E6647-D9B2-4DDC-8DFE-567CA2B8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AF63-5BB8-4BB7-9219-35E4BD9D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6F4B0-5134-436A-B824-F60CD6DA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2622F-1953-48E9-80B0-64E4B39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83347-D02C-4226-8906-3D61FFFB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C4AA-51F8-47C8-826B-2572F9D0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E20B0-67A3-4536-A235-D8E516B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D62F9-91D7-4B58-B2AB-436F639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85417-42AB-4B9E-90BA-EA3EB65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76FA-A9CC-4962-863D-AF6899A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5935D-B565-4354-992D-1AF4D30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C3666-1713-4AC4-8CB0-F913857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F8C-FDFB-489F-9B49-02DD91B1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F71E6-659E-47F3-9672-6330A37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5730-F799-4CC4-A50E-20CC422A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6712-B51C-4F24-AC1E-222689FB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49E60-17C8-48F7-AD7B-FBEBB31B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7164C-8DC3-4342-84B1-A3906E7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548D3-C672-4EF7-8E08-7D3E6C0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265F4-9D92-4240-AE33-014D9331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E3C2-9372-4D9A-96B6-2BEDA16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BCB3B-AA27-4F01-A695-F872242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92BF4-0BD2-48C9-9D15-C8CAA82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143-AA22-400A-BE0E-C8A60804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F2CB7-C446-4F34-B3E2-C1F400F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E171E-02B2-4118-B7D6-1371352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711F-4FB7-486E-B7DF-1CBFBA8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27D3A-E4E8-452A-A57B-5B9CB54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A1C3F-5F66-47C4-81BE-F3D69BA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5491B-7AC9-4B45-B7CB-A7AC0855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F0F5D-121E-48E3-A1ED-9DF4F4DB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B1FD6-CFB1-455F-BC56-6315AEB1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0B084-2941-4510-AE31-8A5D6C2D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5B505-5C99-47EA-8C21-D25E2F16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E00-2449-440B-BD74-0BF0F366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6D1D6-0364-4E1C-BB5B-F244981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9D81B-BDEF-48EF-BD49-EEF1B72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01A2E-F7D1-4056-9EEC-B426485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E6443-30D3-497C-AA31-F6300BC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83EB0-EE86-41CB-B993-226E59E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F31D2-C7E8-4A08-9CF0-BE79D402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E60B-B1D0-49EF-BAE4-21995FBF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22FE7-66F6-43C1-8870-118B2ED8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76D23-E550-484A-9DB9-65EA840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8213C-F8F6-4467-B24F-27AF7D33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544-A3DA-4D8E-8F5A-E3D7168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152D5-3A97-4156-9907-349DC2C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2DA99-A796-4DD4-8990-56314CC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DD5B8-B95F-4FA1-B3E7-C2B23121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5FB8B-F58F-439B-821B-E96A0BD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28764-85EC-49F5-9BB4-CE3117D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8E85F-1A4D-4BA5-A704-B54B131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6D2EC-5D83-4805-B9CB-79DE932B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374E2-2CF4-42E9-AF88-2AD3069A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B8EA3-7285-4E4A-ABC7-37BAA266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B37CC-50AD-4EC9-9E34-7799412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4720-FD6D-4010-AE60-4869595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73573-3FFA-4AC6-AA75-3DA12345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B96AD-F248-442A-BE6B-6A9472B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90EC9-674E-44DE-A793-7338F80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F3E39-8C49-4AC9-B180-3223212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EB745-F5EC-4743-8629-000AF7A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EBB06-5923-4FEE-9DF2-0BF82B4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F5260-EE25-4338-8C00-C825D54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97BEA-F784-4BE0-9DF9-B098937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84639-3093-4717-AB5B-117C7E1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F3CBE-D63D-4133-AFBE-B31D23DB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F646-ECF0-4091-B13E-75D0EB6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28AA2-AA60-4F24-8D30-5C4CC85B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92436-B990-4769-B4D8-07A5C28C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CAC9F-610B-42B3-9231-8901236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2D0B8-EA48-497C-8313-E6362F8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B5954-3E57-4567-9B7E-3BF49E9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AF25F-3011-40B9-8220-950F9F3C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317BB-E4A8-4F89-9C3E-15CFF7A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F0303-FE5A-437D-AFA5-30E2AF2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D6A32-CA5A-4664-8E57-ED19C15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8349E-3907-4125-8BF1-B101E1A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3A1B-DBA9-42D1-88BA-A6351F8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1F8D5-41A9-44C2-84C5-9BF4F1C1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C2656-8560-4FD8-9029-C5BABC7D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14239-615D-47EB-9802-FF3CC663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F5D8-FB8B-4C5E-BA21-26F9389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05D0-A2F7-43DC-B3E1-9F36550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C5EB-5E17-4EF4-99AB-0814E0C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3E0-5760-4344-BD29-B3A38BE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F24-FBB9-4E62-A3A6-FB181F74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25F-31D3-4DC7-AFCE-D1631143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12F3-CDFF-4FC5-A11E-FDB37E36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9D1A-E3CE-4BB6-BD48-9AFB4DA0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1DE0-F662-450F-974C-BF2907DB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93D4-03BB-48A5-B85C-63D6E4C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0DCA-16B7-4B77-964F-31AF992B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623D-FC86-42DD-A5CE-BD514D3D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EDC9-FD82-42CD-B16D-3BB90AE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92D6-B36A-4BB3-9BA1-0DA1856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22B5-8605-4D5B-9533-42F2A7E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66E0-79C0-4EA8-85A7-909111B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CE2D-1C49-4F9B-975D-2E454822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6B11-DAEB-4422-B7DF-40F9E439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C8DE-5A64-48C7-9719-BFCC7635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E621-C49C-4462-B8E9-3EF58A52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E003-B090-442D-9574-1CE435B6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F7D2-E19D-4A1D-A008-D52E4310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BC94-5F19-4D75-9E70-AC1BBB06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B104-157D-46B4-AED3-A2BEC31C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7735-F955-411D-B212-92337AA7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2D5A-E3E8-48C3-8FA6-CCDBA2BE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8A9E-D210-4493-AD39-4C19850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C6FD-ABAD-4BCA-9658-8960CCE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CFD7-2E43-4D1A-9213-8418556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C020-C871-40ED-8637-4758157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C74C-27FF-422D-B206-E1CE0CF3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6529-5C54-4872-96A8-193F408F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0391-135E-423F-8801-BFD61A8D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14E1-9E81-4C67-9A75-CE81D13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6DB3-63A4-45BD-9228-4323FD2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8C931-0948-4064-AF7F-A392BBB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4595-FD05-4E07-83DA-74AA5A6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15F8-1F76-4D76-8794-088BED3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267D-DB87-4C83-BF1F-F7F58DAA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45B8-EC37-4D71-BA85-B5E53FE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77A1-A346-4D2E-B992-DA2A793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0BA0-2303-403C-859A-4E8D8AF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5EBBF-811D-4965-8B05-2A73D5B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7E96-CDE2-44AB-AE16-507DC79A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2C27-2818-4FF2-9806-A7658FA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D99D-01F4-4859-A579-D446D017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02D1B-D6EE-471F-A305-F69937EE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C1DAA-CE1D-418D-A328-4603F438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2B7F1-750C-4478-99CD-885588D3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E8257-B55F-4B9A-855C-CEB3EE3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7F7CA-888E-455F-811C-D6979CD2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73CDE-6977-4913-AB25-E48A0D00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37E2F-8602-48DC-B3E1-C45E85A5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76534-3F5F-4682-9C67-24E0402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CED40-A5A3-428E-9D2E-288EDDB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1B8B-FBDB-4192-8CEB-2EF5DA1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5B9AF-FF65-4DB9-83EE-302689AC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01E3E-FDEC-47F8-BA1A-C0A664E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EE2FF-5C86-4FF1-AA7A-7F3DBD36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C236F-64A3-4032-AA17-C7BF5CCD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DCD70-4A1F-4228-99F5-098E54C7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7F217-5F47-4829-A9D3-A0CACE6B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A8B68-F620-4184-9462-D2B1580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E8E0E-D816-4962-B232-5877FD7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363D7-4692-497A-84FF-35A2958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3242F-8781-45A2-8AEE-A7F10A8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2E5C-79BE-48EC-B848-09FCD0F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B4F44-EF52-4EA0-A2B5-F58635D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A2ECF-FF2E-40EB-808F-1848B19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2AC33-FC56-4948-B11C-21ABA1C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D00DF-BBE0-49D9-B751-E075B6F4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27AA7-8125-436D-A893-8BD3D6C1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929D-C2DB-4502-B850-E083291E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8DE1D-A361-4CF8-9424-E5F39AD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E43A-678B-4438-8521-840B8CEC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A87E-1E71-4682-A68F-C1685C7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1771-BDB5-4D87-8626-368A52C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61BF-35B9-45D7-896E-FA2EE49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A31C2-BB57-4F44-AAC5-A8241A05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2C1F-3901-496F-9146-BBC4FD35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9F63-DB13-4559-B514-8E5EB06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D83D-2CAF-4835-A58E-6A607E9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D12A-5162-48E2-B799-CB0B0C6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DE73-5D3C-4A10-A268-38E8B758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C761-61CD-4ADE-8EDF-FF406CB3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42319-8AFF-4CFC-A4AE-3066F369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2D25-6468-4E73-BE6B-A1207B2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56C85-8331-4B1A-AF86-85214528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5FA0-4A40-4545-ADA8-355EBC94AA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B77-6349-4C23-B1D3-4D7CC9A8F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DD9-4565-4EAA-91D2-234CD0E32A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2F3B-F977-46F9-BAA2-A02469CCB4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2678-3E80-487F-A14F-8A8671A7C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AB89-D24C-4780-BB0D-FF38A1DB6D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63B-F7A2-40EE-8FBD-62EC07FB76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87C-4699-4AC6-8DF8-A9CF81B531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129F-7DFC-4E5A-8C3F-9B42B83427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C67-7FE2-49E0-BE78-26C32EC33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CD1B-0DF4-478B-B204-A049F6D990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5E5-548B-4CD2-A0D6-00E6E9D72E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2AD-C77A-4DDD-89B5-8EE410524E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D6F-D472-429E-B697-C2884ACE81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2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1A2-49C7-4ACA-9A92-0605927CAF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A565-F8E4-4764-B7B8-641F5F73C4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Родительское собрание по теме: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 –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пускать буквы в словах –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римерах  пропускают цифры и знаки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Если ребёнок переставляет слоги в словах, 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может бы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1f45"/>
                </a:solidFill>
                <a:latin typeface="Arial"/>
              </a:rPr>
              <a:t>Послепроизвольны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User</cp:lastModifiedBy>
  <dcterms:modified xsi:type="dcterms:W3CDTF">2006-12-17T13:20:27Z</dcterms:modified>
  <cp:revision>21</cp:revision>
  <dc:subject/>
  <dc:title>1. Часто ли Ваш ребёнок отвлекается во время выполнения заданий?</dc:title>
</cp:coreProperties>
</file>