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16A1F-5DDB-44EC-8259-29635B48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F916-AF2F-42F3-87E9-87F3320A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04003-7B33-4EC7-A430-55CD6473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7C555-0231-4416-89C2-BAB4A240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ACBAB-3BA6-471B-AFD9-00281972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030F4-C583-4490-932E-4284EE4F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D1241-610E-461B-AF42-E8FE2121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E3F18-7C01-4F45-87DE-17CA832B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0D4C1-5CA5-4243-8FE0-EBA185A0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01B2C-103A-49F2-AA63-81548BAE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1EBE2-4BC5-43FC-B5A7-D2A6E98C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FD76C-BD72-4933-AFCC-3E0E74B2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350E-3864-40C7-9E92-595DC60B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7A311-D647-4224-8932-43E60773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8A8CA-C090-4713-85AE-22BB9904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BC39F-FAF4-4A0E-883C-D630C544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7BF39-BFAC-4235-8BB3-AB6D4911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FB03B-C67C-4010-96E5-C5092FA3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E03B3-5C8B-4936-9B9F-162E8CA7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69426-B503-4872-B3A9-36BAD2FD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E6908-0152-4C13-BC9E-244BE68E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C0091-E97A-49AE-8E94-7C6376EB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61204-13C4-4AF5-B61B-5C371818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5B832-1848-4235-88B3-D0F8D308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75AAA-A857-410A-86F3-F152E8E0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62B1F-0DC9-441D-B800-D832C40F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4D130-11BD-4377-9EA5-F1CB64D0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209F7-02C3-41F5-AC14-45B3E9A8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9FB08-003D-4016-96B3-4E5650F2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87FAB-5FB0-4604-A6B4-24556D42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D3C49-C85E-4F50-AE6D-9F3123E3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26B80-6E05-45EE-A5DD-AA284C13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DA918-731A-4E4F-9725-CA9379FE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42DE6-DBC3-4352-AAAD-CC9C5F33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B82F-3A59-4BE6-8F3D-21A65AB2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18C0B-408B-4EEE-858A-CB70DD20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83C10-3307-4FE0-A947-6087E279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1656A-A2D9-4C9C-AB1D-3BAD5F63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F18D1-AD44-4414-8B35-C2EDC0BD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B3A13-D9B2-4E6F-970A-13EEE982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A2D65-9E1A-4459-A839-1F2A36CB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97471-A13E-489C-B4BE-CE9EE4F7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1E6A4-207C-4E01-BBEE-E794CC5E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2CC0A-F140-4132-AD47-765D2BEC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68547-1EDC-43CD-856E-DE96FB08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5A14-E5D5-40A9-9553-122144EC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10F15-F608-4798-8987-68D1AD7C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76610-A2B4-40F0-902D-7812264D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90562-49F2-4F72-8183-E74A745F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A6D57-9CFA-40D0-B884-0A413A21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A0401-DDDA-4D03-AC5C-5DBAA5DC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837E2-DBCB-489C-BD0E-646DDEE9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D1C45-4FC7-4384-B7E5-586D5C10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93E04-8AFB-4733-BE13-D78F45AE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B89A6-2BDE-4093-BBD6-91F3B293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33CBD-D83F-4723-B541-D5D69CA6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D11E-6B0C-4B35-ACE9-A5EE104E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40069-B7EE-407E-99CB-90A7D125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042AC-A7BF-472B-A213-3D9C10B8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A2338-F3F4-4870-B01D-08652BE3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6FB14-24CC-494F-8DFA-65280300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06002-7BFB-4526-A779-56295A03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0DA10-2700-42DE-8902-75E742FD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7A065-CDB3-48CD-A613-0EBDAADD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2D593-AE11-4382-B07E-8500849E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8F37C-B52E-4667-8D50-CBAF4548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6B1EE-FB65-4E89-9ECF-226A8666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369F-675B-4CC8-9783-84C7B197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D8580-9550-4DC3-82FF-6EDC5A51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965C29-4E80-47D9-AABE-9C967DA5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2C54E-DB60-4127-B88B-9C6FA1B1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53B67-2117-42E7-A92C-5675CE03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F2E98-39F4-40BD-A65E-1E3A3501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258A6-5591-4EE7-8694-C198E279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80AF92-0BB4-476A-A66C-EDDB8ACC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E735B4-19E7-44B0-94C9-7F134A53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A893D-DF8D-4E8B-A5B0-AF1A1CDF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12D503-CA57-4659-9A96-80D80EF4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02CD-1791-4FD8-95B0-CD6EB59A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601F8-8AF0-4F1A-A579-CC160974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E33176-9E9D-470E-8C91-2793746C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06E30-02F0-4CB0-8520-68789919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010A5-489C-483C-AFB1-8A3034F4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AFFEC-25D5-42DF-9849-9720E009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3EDC06-BB9A-44FA-9B42-AC606AAC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D76075-F110-4B0F-9D7E-E37B1D58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6611B-E915-49D3-AB9E-33B1B747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08694-AA9B-46B5-A373-3E2AA334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25B3DD-2B0C-476B-84AB-D00B683F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B389-3F62-44C3-88FD-FF4D8BC2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7AFDE0-AC5C-427F-AC9E-549B0784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5BC0C6-BEFF-4B1F-A559-0BA5D3A9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F178C1-8634-4287-A5E1-5B839148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6D884E-637B-4BCC-905B-A0491C38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671FDD-7D9A-4B18-9C57-A5C1A004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17438D-0B9E-4858-AF29-5854A43A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060BB-A2AA-421D-B52C-4FC9DB3A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443C61-8512-4E14-82E8-2491FCDC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30C579-0099-4342-A39C-33D8C376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05DC7-051C-4B13-89F1-8A10535E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5F1A-DB9C-4C3B-9A27-F608D677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6F6723-FC16-4058-914A-1E1B8364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C60F30-4D39-4003-95A8-E7DBA9BB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C537FA-955C-41A3-AEFC-31AE89FE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B964-A6CE-4F83-BEF6-3BE9AE27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AC7D-AC81-4B9C-B733-EBC5CA14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929E-077A-4075-AC28-BD526C8D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AAB3-E865-4C55-A825-209B6428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3D47-CF04-4542-9C12-2027562F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7FF4-CFFF-4419-85BA-4361F500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6E9FE-E34F-4859-A34F-0554B475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5B707-865E-41AE-96D4-8985CBA6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F2411-2A90-4E13-8CE8-DE958CC0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34B8B-C929-426D-BA58-BF0634E8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47EE-396D-4DF9-826D-F03428F1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3DED-5215-49F5-B2EA-C03E727F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C7E42-8EA1-4632-B2CE-17D2C770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7F569-ED35-4B84-9FBE-8C5F6CB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36B8-B02C-44E8-B012-9BC6D1FB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9747-DFF6-422B-ABA1-B5B8AC10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3F66-6F62-4C41-87F4-22F729E8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0FDCE-4554-4CF7-8752-8E90489B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C49A0-F409-4FEC-BC6A-F3A6D32F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F6134-00B5-4339-8475-1D6E0EBC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FBA04-ECCB-447E-9B22-38351C38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3D5B7-1C42-46FE-AA51-15950AB4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280D-EE31-450F-9CC4-0815268D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02055-A796-415B-BB90-6282A6E6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9A2D0-BA0D-4072-82B0-7F5766EE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ABF67-D9D3-424B-A0F9-369DBE8F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4DEED-F809-48A3-8A59-8303C9D5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A0850-0109-43A2-A06E-A35FB5BF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F3F12-3D94-4EA0-9D32-60D65215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04484-5369-4EEF-AF8F-F27312C3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3A5B0-7C60-4CED-B7A8-ED2817FB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5450C-AF1D-465A-A961-8564D2C2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D2894-3505-41D9-8A5A-DCDF4B44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81AF-713B-471F-BB28-8D6560B0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56529-C0C9-4FCE-A786-E435AA18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E3939-BAEA-49F7-A1AE-08FC8CA3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F62C8-2E53-4471-B295-49628C6B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911AF-8DC4-41F7-B736-CAB1CB23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C3EF2-DAAF-4268-8886-76FE16AD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458AF-E7D2-4B2D-9EE3-148CB030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B0005-A4B5-4FA5-86C9-A3DBC541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9CD23-1B5A-4163-BFE4-04A1D122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B900E-C217-4A1E-AE40-ED859AF2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23A5F-F6B9-4838-829A-410503DA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77189-C28D-46D1-A514-49FF95BC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F2E34-DD21-4C1F-9315-BFF22500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D1959-A877-40C4-8136-1B18D5C4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05B736-9AAC-49D3-BC7B-98821AC8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CAC7A5-B0CB-4BA9-ADBB-69EA4A97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9FA514-F0AC-4A44-9775-5A0249AE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D02DCF-312A-45D8-B16C-7831C4A4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AB555-CEB3-41D6-9003-599E2916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17141-D016-4A30-BF41-F39362F8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BCB17-6A1B-4088-8DB5-45848CC0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07263-E8E4-4E81-A987-16CBA10B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F600D-E04C-48C2-9526-7FF331BC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AB80B-D5B7-467F-81D2-ACAA3F61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B59ACC-7B3D-437E-8FC1-B3CD40C2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FC669-F7F4-4122-906E-F6A16937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F48A4F-EDE1-4AB8-A8E2-EA7C549B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60AE6F-A3E4-4F63-B7E8-3DE1ABF7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69FF13-0924-4061-978A-F8CA228E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FB5A64-7834-4465-AFA4-4B3659D7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20DA0F-3905-453D-812D-3E128589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89565-84F0-4E57-8338-07A77917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0DAEB-67E9-4772-8338-648F06F6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0780-EC70-42EC-9B6E-90EDDE43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F9D00-4E58-472F-AF62-D770A458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586E3-0082-4DA3-AE4E-42AECF70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AAEFC-5DCE-4B84-8A91-3F83602F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6D674-2B24-4994-B595-4DA36ADB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ECE76-9A43-40F2-81C0-81DAD537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252AA-948C-4DD6-A6F1-288AAF43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662F0-253D-4BB6-AFFE-A6FBF882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C919D-2F45-4A54-B3A5-D96DB28B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684D3-6AC5-43B9-A089-F23E3C0C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37969-E6C4-4BFD-80DD-C322D55B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85CE5-4501-4182-840A-BB9397E7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D52DA-74EF-4A90-B835-3D92E98F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EF397-9974-40BA-9954-511F34F1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A0851-FC80-4FE3-8454-048B85AE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4DCF0-9FFA-4B55-B0CC-DE907DE2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721E9-AECF-44F5-8856-2582CFCC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9B06C-BED6-46C2-8F5A-D92B5A94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26645-B7B3-44F3-BA47-0FF276D9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0B507-3645-45CE-8151-28767575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46765-8DA1-4476-A27E-A33C95DC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D3DC2-1FEE-4862-A8A5-79567907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5ED6-7E3B-4F4A-BEB6-9C47FE2E4E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9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E6B1-2E89-4F19-BD6C-399F48A384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DB9A-B2F2-4022-BAD2-5E06E45B29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4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5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6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7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9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351E-FF44-47A6-8AF6-DE08180390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237A-C167-4A85-B9E6-AE4EB48635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62D8-755E-4084-85CB-BC2F9D3F5F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5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4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4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501F-AA1C-4A9E-8ABE-7D61EF26C9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97" name="PlaceHolder 1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EECE-83A5-41CC-8DEC-CBC2098B64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AD70-6312-464E-9619-DE778213F5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A185-C864-40FD-B8A0-03B949BD4F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935F-7A7A-4442-87AE-A6C36C6823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D036-3EA4-424B-82D5-1C6E704DE37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6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9D9A-3ADF-4C6A-B9C0-DB9AA41882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D703-D5F2-4DF8-A984-00EE6BF66F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2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F613-F2E3-4FB0-B0AA-0E4F015393B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8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3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D36C-15B6-4E84-8A40-8937DFCFFA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-360" y="-603360"/>
            <a:ext cx="9396360" cy="7461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"/>
              </a:rPr>
              <a:t>Родительское собрание по теме: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33cccc"/>
                </a:solidFill>
                <a:uFillTx/>
                <a:latin typeface="Arial"/>
              </a:rPr>
              <a:t>« Как помочь ребенку стать внимательным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1f45"/>
                </a:solidFill>
                <a:latin typeface="Arial"/>
              </a:rPr>
              <a:t>Объём внимания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н характеризуется количеством одновременно воспринимаемых и удерживаемых в сознании объе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5724360" y="3789360"/>
            <a:ext cx="3203640" cy="28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f1f45"/>
                </a:solidFill>
                <a:latin typeface="Arial"/>
              </a:rPr>
              <a:t>Устойчивость вниман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возможность длительного сосредоточения на одном и том же объекте, одной и той же пробл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45"/>
                </a:solidFill>
                <a:latin typeface="Arial"/>
              </a:rPr>
              <a:t>Распределение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одновременное внимание к одному или нескольким объектам при одновременном выполнении действий с ними или наблюдений за н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5580000" y="306864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45"/>
                </a:solidFill>
                <a:latin typeface="Arial"/>
              </a:rPr>
              <a:t>Переключение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это перемещение внимания с одного объекта на другой или с одного вида деятельности на другой в связи с постановкой  новой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3399"/>
                </a:solidFill>
                <a:latin typeface="Arial"/>
              </a:rPr>
              <a:t>Внимание – это не раз и навсегда данное качество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имание можно и нужно развива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му ребёнку это сделать трудно.  Ему необходимо помочь научиться управлять своим вниманием. И главным помощниками ребёнку могут стать мама  и пап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стойчивое, но слабо переключаемое внимание: дети могут долго и старательно решать одну задачу, но с трудом переходят к следующ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Легко переключаемое внимание в процессе работы, но так же и легко отвлекаемое на посторонние момент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ндивидуальные особенности вним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Хорошо организованное внимание сочетается с малым объёмо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. Легко отвлекаемое внимание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ндивидуальные особенности вним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. Устойчивое непроизвольное внимание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ети  сосредотачивают  внимание  на интересных  особенностях  изучаемого  материал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Если у детей не сформировано произвольное внимание, то -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392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ни будут заменять буквы – гласные или согласные, близкие по  акустическим признакам:  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дети –тед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дети – бет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уки –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у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. Часто ли Ваш ребёнок отвлекается во время выполнения заданий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368360" y="3430080"/>
            <a:ext cx="6408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Да.                               -  17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Трудно сказать             -   3 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ет                              -   5 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Если  у детей недостаточно развита устойчивость внимания, то они будут: 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25916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опускать буквы в словах –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тава –трава, трва – трава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примерах  пропускают цифры и знаки: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12-6=5  1 -6=5   12- 6 5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Если ребёнок переставляет слоги в словах, то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8229600" cy="3538440"/>
          </a:xfrm>
          <a:prstGeom prst="rect">
            <a:avLst/>
          </a:prstGeom>
          <a:solidFill>
            <a:srgbClr val="f0b85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это связано с неустойчивостью внимания, например, стройка – сытыройка,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проходили – прохолиди,  собрались – собрасьли,   трава - твар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Если ребёнок добавляет в слова гласные, то -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это связано с неустойчивостью произвольного внимания, например, 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3514c2"/>
                </a:solidFill>
                <a:latin typeface="Arial"/>
              </a:rPr>
              <a:t>дрова –дорова, стройка – сытыройка.</a:t>
            </a:r>
            <a:r>
              <a:rPr b="0" lang="en-US" sz="3200" spc="-1" strike="noStrike">
                <a:solidFill>
                  <a:srgbClr val="3514c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95280" y="-7480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cc"/>
                </a:solidFill>
                <a:uFillTx/>
                <a:latin typeface="Arial"/>
              </a:rPr>
              <a:t>Рекомендации родителям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67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могите вашим детям стать вниматель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обретайте, читайте и используйте книги, в которых  можно найти упражнения и игры, способствующие развитию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основе внимания лежит интерес. Играйте вместе с детьми  в различные игры, развивающие все свойства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учитесь играть в шахматы и шашки, ведь эти игры называют «Школой внимания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забывайте о спортивных и подвижных играх, благодаря которым можно развивать не только силу и ловкость, но и внимание, воображение, быстроту мыш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 детей быть наблюдательными – умеющими замечать изменения, происходящие в окружающем мире, видеть необычное в обычном, незнакомое- в знаком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оянно тренируйте внимание своего ребенка. Используйте для этого прогулки на свежем воздухе, походы, любую возмож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имулируйте интерес к развитию внимания собственными примерами и примерами из жизни други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семейном кругу демонстрируйте достижения ребенка по развитию собственного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беритесь терпения и не ждите немедленных, успешных результа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411280" y="2636640"/>
            <a:ext cx="64008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С П А С И Б О </a:t>
            </a:r>
            <a:br>
              <a:rPr sz="3600"/>
            </a:b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                ЗА</a:t>
            </a:r>
            <a:br>
              <a:rPr sz="3600"/>
            </a:b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        ВНИМАНИЕ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37396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2.Можно ли назвать Вашего ребёнка сосредоточенным, усидчивым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46120" y="2349360"/>
            <a:ext cx="777240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Да                                   -     5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Трудно  сказать               -     9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Нет                                 -   11 че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Хотелось бы Вам, чтобы Ваш ребёнок был внимательны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302680" cy="40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а                                  24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рудно сказать                 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                                 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ругое                           1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4. Что Вы делаете для того, чтобы у Вашего ребёнка развивалось внимание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821844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Занимаемся                     17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Затрудняюсь ответить       3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Не знаем              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Без ответа                         4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026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5. Считаете ли Вы, что такие собрания необходимо посещать всей семьёй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4000" y="2781360"/>
            <a:ext cx="7848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а                               2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а, но не всег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учается                   2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обязательно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Без ответа      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989840" cy="28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Garamond"/>
              </a:rPr>
              <a:t>Внимание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– это способность человека сосредоточиться на определённом объекте и явлениях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новные свойства:  концентрация, объём, устойчивость, распределение, и переключ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нимание может быт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514c2"/>
                </a:solidFill>
                <a:latin typeface="Arial"/>
              </a:rPr>
              <a:t>Непроизволь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не имеющим цели и волевого усили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7920"/>
                </a:solidFill>
                <a:latin typeface="Arial"/>
              </a:rPr>
              <a:t>Произволь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наличие цели и  и активное её поддержание посредством  силы вол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1f45"/>
                </a:solidFill>
                <a:latin typeface="Arial"/>
              </a:rPr>
              <a:t>Послепроизвольны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наличие цели, но без волевого усилия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45"/>
                </a:solidFill>
                <a:latin typeface="Arial"/>
              </a:rPr>
              <a:t>Концентрация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это умение сосредоточиться на нужном объекте, отдельных его частях или признаках, способность вникнуть в проблему, задач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8:00:25Z</dcterms:created>
  <dc:creator>галина</dc:creator>
  <dc:description/>
  <dc:language>en-US</dc:language>
  <cp:lastModifiedBy>User</cp:lastModifiedBy>
  <dcterms:modified xsi:type="dcterms:W3CDTF">2006-12-17T13:20:27Z</dcterms:modified>
  <cp:revision>21</cp:revision>
  <dc:subject/>
  <dc:title>1. Часто ли Ваш ребёнок отвлекается во время выполнения заданий?</dc:title>
</cp:coreProperties>
</file>