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E2CA9-18A3-4FA1-9F0F-8AD70241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04217-47D2-4162-9365-F90FE184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23E9C-8D49-425C-AC40-CE44C684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FC0AD-D947-481F-A9D0-EDC5553B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2CBAF-2642-4C39-AC66-400834FA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6A113-8BEE-4B17-BEF9-8E1E9B63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563B2-5800-4AF7-86F1-9637723E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22161-E10A-4672-A943-D244EC64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A90B7-4583-4248-9FBE-D4C84572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A9F77-65B6-4B4F-985C-B74F6322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80A33-A9A4-450B-A011-2C41B484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BA7BB-116B-4B6F-9B65-7255C88D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F5C86-9AA3-4249-AF89-50B9BCD6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F0167-55E8-4268-A5CC-3583E4AD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9F6E7-D7B2-45B5-9771-0B12A6CA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BAFB9-D1BC-48F3-AF4C-E2FE9BBB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6A974-1F6A-4AFE-BBEB-4BF15206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A4BBC-6C53-4C2B-8F03-32161332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BD8C0-19DE-4768-A495-43D2A50C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2C832-159B-4929-A83C-A2344098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4B5D0-B7D8-4982-AC8B-78AD3780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6FA77-18BD-4CEB-8383-6379C58F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19F09-5282-4DFF-979B-FB9C4A00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805ED-7C12-410A-BA99-D14DFC58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C3EC4-E0F6-40DD-97F2-F5B35E24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6F8E2-FE16-48EA-8CDC-D499CB75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DE9FC-81BF-4146-BE97-B706E978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17350-62EE-4904-8CD8-B6B41EC1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B9549-AC1B-47F1-B5BF-38F2CCC9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A6A7A-56F0-4724-90CC-1F185FF1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C45EC-FAD1-497A-9B3D-7F9F5852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8BB13-633E-471A-B8D6-1B3B1CCB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BE583-E0EA-4604-95B5-A15DB0D7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F4F9C-BA28-4285-A226-50AEA908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CF19-8A3A-4A22-BE2D-A47C109A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11A6B-E379-43C0-A8E6-694EA20E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826AA-A599-4C87-B1C1-1BAE3167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C1E69-D6AA-45A7-8884-D21A6629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3C1AA-03F3-4D50-866B-05413B3A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C8B77-47ED-44F1-994F-81DC31EA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27DE5-0AB2-4AA5-B752-61D6AF67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7FF36-011D-46BF-AF93-951277F7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7CD65-F58D-4AF4-A62B-AD70EB2C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F067A-6A35-48CF-9313-C640A5C6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D4C20-F2B2-45C3-8A91-6B425D22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200B-276F-4123-9B3C-573AA9A3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7114A-1341-46DB-9D64-283EDE03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E0FCC-D953-4FDB-AB1E-FD9D09DC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7CF94-76CE-4131-AC10-11413D75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3A5DB-1350-4C96-AE9A-79067001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9D84C-6B15-4AD0-BBAB-12968104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B68960-6F2C-4C90-B95A-90DEF623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886D69-AAD2-4C2A-97D5-6F20E3C0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C5167-25C6-4619-AC99-C29DA497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FBF9A-4271-467D-8858-126B1A57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4EE9C-E4D2-4D3E-89C8-2D63A0F2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EB5E-5C22-4A5C-A07C-9CC729B4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64CA06-6D6A-426A-A30D-ADB549BC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5BF79-6359-4AAA-93A3-74052BEE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3C369A-69A6-4DEF-B586-226BFAD7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DCB54-AE69-4666-BD05-73F42001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70202-B594-49C5-B26D-DC6707DF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F430DA-AE93-4A30-A8F2-974DDFAC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326FF2-578B-48D0-A2F5-F13386FA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0B504D-BC36-4FD6-8C9C-D871EB40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6AFBC4-2DB7-4EA2-B4F4-78C39A08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57C2F-4820-49CA-93F7-70F7B3A4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5CEA-EF58-4912-B90B-A44A4D89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8E91D3-7A33-490E-AEBA-BFFA567C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A99BEE-4B64-4D9A-8A20-AFDB99C7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83DE5B-8C62-4456-A77B-D2720060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AF293E-D2D2-4549-BF68-CEA09BEB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48E334-286B-4C70-B7F4-EEE0A1B4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CCEB78-F58B-476D-BFF3-7A443FB5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DF7E4E-F407-414E-A1A4-B6DE35B0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A915A0-2CE2-49CC-B445-1426B608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F1A22-33A4-4A3A-BACE-D5EEB564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A5EF87-E6A9-4014-8AE1-D9AEA292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8DBE-4215-48D1-BF3D-95FD67E9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9BF530-5CA8-4D16-ADD1-34F65BBE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5AF3C5-22B6-4D04-ADDA-6DD4E89F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974158-8A1D-4355-B65D-4DB49003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3FD2BB-B7FF-4C97-B496-34F6DCF8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B30A3B-E936-43E6-8432-80159DE6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E92DB6-7326-4C7E-AE30-8E6095F3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8AED39-18E3-4D05-8DB3-3D179105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98B4FB-1721-48E3-A7B5-BA7C0A6F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AD2866-861C-4A24-93AB-B42CBACF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1F24E8-46AC-48AE-A941-FD10295A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4298-F1D1-4C4E-8200-77FD740B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3230B7-7840-46BE-AC5B-D0809496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F48935-B59C-44A8-A219-EDFD2B5E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B27B4C-8DDE-4B22-97C5-AB7EB1A2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7D19DE-756D-4E92-BF5D-545E3E02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DE022A-0344-494F-B4E8-A19307D7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DFDCA3-2932-4290-AD94-43D7497B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34D3DF-017B-4536-9B56-F0A45827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50F9CA-012B-4544-BE64-23926A7C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91EFC7-B8F6-4037-96E3-CEB8C5A0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80ED13-E29E-4D3D-88E0-620B1CEE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0CBA-26BD-46A3-BCD1-7E4FDACF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94FD94-0EC5-4473-9015-AE0C04A1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B4B9B9-4537-4119-8D67-D164233E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67B8F8-EA63-4D07-BE3F-CFD5B13D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39F38-B0D0-4CF0-9961-ED10E8EF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2ADA-3D71-4AD5-8949-7DF3F9F7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13B2-65B9-40BC-92C3-7B657CC8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8FFD-4977-4D3F-B101-A046295E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0252-111A-4777-BB5D-BD07968C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6862-ACAD-4279-ADF7-ED1DF005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272E0-A53C-49E9-AEA1-2B2FC5BF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81F07-37CF-42EE-B079-8EC129C9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430FD-F8A9-4925-98C4-BC634CE0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90E21-67F5-4231-8634-F3C9EFA6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AED73-F283-4411-AF1C-DBD7F26C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377EA-DA98-40C8-B66F-782F0CC0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EE63C-084F-445D-949A-96FC431B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BF850-BC5F-46E0-BD8E-B33E426E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68F17-10DA-4D0D-8935-674FA730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44C21-FDF2-4C92-BB26-6B319347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554D0-6298-46E8-A01F-CF7EBB29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F9C12-9D23-4E74-A86B-7B5AE088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EFE6D-DBAA-40D1-B3C5-345C0C2D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C912D-D509-439B-A1D3-10EA9AD6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5A9DA-2FD5-49AE-B42E-9BB3E823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45806-2623-4E22-ACA8-92ED6295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13A2D-B61A-4E86-9D73-878053F7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3FD95-C3F9-46A8-9C27-C1199679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CB65C-D340-4A45-889D-A66DF6F2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52A7D-532D-4F45-8F1E-FF2662F8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F5331-71EC-4912-ADDA-9FFB5833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35A65-381C-4883-86D6-825C5681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8DAB3-1FE1-472A-8601-0B01C13B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41E85-B131-4E09-9FAE-718C5627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A08C2-7053-446C-B4CA-0790B537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554D6-BF10-4C3D-B6D9-83E2F5E3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93C99-BEE7-4E4E-AE58-C77FE90C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55D41-06A2-4635-92FA-26EA3B0E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C4284-BD92-4377-98BC-0823334F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D3366-F9A3-48EE-80EE-6EF6DCB5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7D4C5-C464-4A5C-ABEB-611A8A45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9A468-1228-4651-9EF6-5E49A594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00CC4-195C-4DEE-A74C-69B7D086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50537-D68D-4C5C-9B92-A98A1BC0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F3140-8B67-4B6D-8754-512A84BF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EC3C5-9E4B-459F-B674-26354919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CDC51-432A-4D20-86D5-C923CB89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D361F-4B98-456A-AFB4-07D29CB9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54EB2-DFE7-4A95-9879-D19CF5FD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4A6C9-B02B-40A7-91EC-A582CA39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87AF9-0CA7-4207-9D96-4CD039F5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8C6A37-F8FD-4A3F-A357-C607AFF5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7BDA8B-8B76-4BDD-970D-E282393C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1C06AB-158C-430B-B7CD-631FB1EB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B059E2-E82B-439A-9AE7-E23A4259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FF4E7D-4952-48C8-A7B7-652FB731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35A867-8F62-45A9-9956-8D62753A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29E7A-4814-43D7-B0D7-ACC89894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FF34CC-5BB4-4DD2-8B06-2BA874E9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FA0FA-E1DB-4A85-ADB1-9538ECFA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14B2CB-3437-4A54-B09C-D8171446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39F5B2-4CCD-435F-8800-EFBF5310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BC4EAF-B962-48F9-A60F-56596003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C51E16-CE07-4E23-8CF5-165B243D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5D300B-798A-484C-94B4-698EEE8A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179BBF-B10D-4D68-93C6-733D04AF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94449F-6849-43A7-93DE-16090553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C319E4-A883-4859-9A04-BED774AB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1C97D9-5635-4B31-83EC-6A595F2D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F9EDC6-1734-4007-83F2-37A340F0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AE68D-5429-40F7-B00D-04B4443A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0A382B-E6E2-4FB2-89BC-2D066565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482546-488B-48AE-83A4-8F187242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43A57F-D6DC-42B9-9F57-999E1AF5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FED713-3C66-43EE-A829-A1EBA624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3295CA-4AF5-4F5A-9BB2-F64608C5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297FE-D25A-455D-9636-B66B1819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264C0-3FC5-47AA-9B00-08ABE220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53AF4-2645-496E-9F33-61A13EEB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7D769-A0F5-4796-A040-822AE51C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DFFB9-A604-42CB-BBFA-DAD8F4E6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24960-A847-42DE-9DFC-A2045508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28007-AFC5-417B-980B-058AC673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A76E7-371C-4EC3-9025-E5F17AD2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0E332-F252-4F3C-80D0-2BAEA249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F2441-A157-430E-9996-76FB7DD4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65DD9-56CF-41CF-B26D-4C554268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D42D3-9776-43E3-84DE-4FB82E48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E0D35-9980-4CEF-A83A-E250B0FE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A3981-2C3E-4C51-B9C5-9816EFEB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EA116-E389-481C-B8A8-1F442BE3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52724-BE8E-40E6-9D3A-6BC27774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21.xml"/><Relationship Id="rId35" Type="http://schemas.openxmlformats.org/officeDocument/2006/relationships/slideLayout" Target="../slideLayouts/slideLayout122.xml"/><Relationship Id="rId36" Type="http://schemas.openxmlformats.org/officeDocument/2006/relationships/slideLayout" Target="../slideLayouts/slideLayout123.xml"/><Relationship Id="rId37" Type="http://schemas.openxmlformats.org/officeDocument/2006/relationships/slideLayout" Target="../slideLayouts/slideLayout124.xml"/><Relationship Id="rId38" Type="http://schemas.openxmlformats.org/officeDocument/2006/relationships/slideLayout" Target="../slideLayouts/slideLayout125.xml"/><Relationship Id="rId39" Type="http://schemas.openxmlformats.org/officeDocument/2006/relationships/slideLayout" Target="../slideLayouts/slideLayout126.xml"/><Relationship Id="rId40" Type="http://schemas.openxmlformats.org/officeDocument/2006/relationships/slideLayout" Target="../slideLayouts/slideLayout127.xml"/><Relationship Id="rId41" Type="http://schemas.openxmlformats.org/officeDocument/2006/relationships/slideLayout" Target="../slideLayouts/slideLayout128.xml"/><Relationship Id="rId42" Type="http://schemas.openxmlformats.org/officeDocument/2006/relationships/slideLayout" Target="../slideLayouts/slideLayout129.xml"/><Relationship Id="rId43" Type="http://schemas.openxmlformats.org/officeDocument/2006/relationships/slideLayout" Target="../slideLayouts/slideLayout130.xml"/><Relationship Id="rId44" Type="http://schemas.openxmlformats.org/officeDocument/2006/relationships/slideLayout" Target="../slideLayouts/slideLayout131.xml"/><Relationship Id="rId4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3.xml"/><Relationship Id="rId32" Type="http://schemas.openxmlformats.org/officeDocument/2006/relationships/slideLayout" Target="../slideLayouts/slideLayout134.xml"/><Relationship Id="rId33" Type="http://schemas.openxmlformats.org/officeDocument/2006/relationships/slideLayout" Target="../slideLayouts/slideLayout135.xml"/><Relationship Id="rId34" Type="http://schemas.openxmlformats.org/officeDocument/2006/relationships/slideLayout" Target="../slideLayouts/slideLayout136.xml"/><Relationship Id="rId35" Type="http://schemas.openxmlformats.org/officeDocument/2006/relationships/slideLayout" Target="../slideLayouts/slideLayout137.xml"/><Relationship Id="rId36" Type="http://schemas.openxmlformats.org/officeDocument/2006/relationships/slideLayout" Target="../slideLayouts/slideLayout138.xml"/><Relationship Id="rId37" Type="http://schemas.openxmlformats.org/officeDocument/2006/relationships/slideLayout" Target="../slideLayouts/slideLayout139.xml"/><Relationship Id="rId38" Type="http://schemas.openxmlformats.org/officeDocument/2006/relationships/slideLayout" Target="../slideLayouts/slideLayout140.xml"/><Relationship Id="rId39" Type="http://schemas.openxmlformats.org/officeDocument/2006/relationships/slideLayout" Target="../slideLayouts/slideLayout141.xml"/><Relationship Id="rId40" Type="http://schemas.openxmlformats.org/officeDocument/2006/relationships/slideLayout" Target="../slideLayouts/slideLayout142.xml"/><Relationship Id="rId41" Type="http://schemas.openxmlformats.org/officeDocument/2006/relationships/slideLayout" Target="../slideLayouts/slideLayout143.xml"/><Relationship Id="rId4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0497-B9C2-432C-9B96-B6A7C23250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9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191A-6A5D-417E-8E31-D56AF1EBCA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5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5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7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7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C51E-B12B-4A70-93E2-40E64CF4094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4"/>
    <p:sldLayoutId id="2147483780" r:id="rId35"/>
    <p:sldLayoutId id="2147483781" r:id="rId36"/>
    <p:sldLayoutId id="2147483782" r:id="rId37"/>
    <p:sldLayoutId id="2147483783" r:id="rId38"/>
    <p:sldLayoutId id="2147483784" r:id="rId39"/>
    <p:sldLayoutId id="2147483785" r:id="rId40"/>
    <p:sldLayoutId id="2147483786" r:id="rId41"/>
    <p:sldLayoutId id="2147483787" r:id="rId42"/>
    <p:sldLayoutId id="2147483788" r:id="rId43"/>
    <p:sldLayoutId id="2147483789" r:id="rId44"/>
    <p:sldLayoutId id="2147483790" r:id="rId4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4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5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5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5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6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7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7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9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6D1B-7927-4BCD-97B0-0FD65CC28E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1"/>
    <p:sldLayoutId id="2147483793" r:id="rId32"/>
    <p:sldLayoutId id="2147483794" r:id="rId33"/>
    <p:sldLayoutId id="2147483795" r:id="rId34"/>
    <p:sldLayoutId id="2147483796" r:id="rId35"/>
    <p:sldLayoutId id="2147483797" r:id="rId36"/>
    <p:sldLayoutId id="2147483798" r:id="rId37"/>
    <p:sldLayoutId id="2147483799" r:id="rId38"/>
    <p:sldLayoutId id="2147483800" r:id="rId39"/>
    <p:sldLayoutId id="2147483801" r:id="rId40"/>
    <p:sldLayoutId id="2147483802" r:id="rId41"/>
    <p:sldLayoutId id="2147483803" r:id="rId4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D746-25E2-4217-B5B0-EAD16A6C55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6A1F-3C69-4103-B5D1-AADCE00CFA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95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5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4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4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027D-1255-4BC7-BD14-7911984FAA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97" name="PlaceHolder 1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2E97-BE48-4853-B51E-177DDF0D6A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05AC-9C16-4E0A-B459-8C712FE1873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251C-1C03-4EC4-9088-DA33D339F9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C73E-0FF1-4FEE-B104-C0E9C797B1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0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0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9D91-0B57-4705-957D-4EFE8B19A93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6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6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3EA5-F67A-4EFC-9119-2B92F385BB6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7AB5-8B6B-4073-9040-5CDAC014800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26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9AF8-D828-4576-B518-266049C2D7C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82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3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B555-2F0F-4B15-8964-91DCAE8AD4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2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-360" y="-603360"/>
            <a:ext cx="9396360" cy="7461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Arial"/>
              </a:rPr>
              <a:t>Родительское собрание по теме: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33cccc"/>
                </a:solidFill>
                <a:uFillTx/>
                <a:latin typeface="Arial"/>
              </a:rPr>
              <a:t>« Как помочь ребенку стать внимательным»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1f45"/>
                </a:solidFill>
                <a:latin typeface="Arial"/>
              </a:rPr>
              <a:t>Объём внимания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н характеризуется количеством одновременно воспринимаемых и удерживаемых в сознании объек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5724360" y="3789360"/>
            <a:ext cx="3203640" cy="285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f1f45"/>
                </a:solidFill>
                <a:latin typeface="Arial"/>
              </a:rPr>
              <a:t>Устойчивость внимани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Это возможность длительного сосредоточения на одном и том же объекте, одной и той же пробл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45"/>
                </a:solidFill>
                <a:latin typeface="Arial"/>
              </a:rPr>
              <a:t>Распределение вним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это одновременное внимание к одному или нескольким объектам при одновременном выполнении действий с ними или наблюдений за н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5580000" y="306864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45"/>
                </a:solidFill>
                <a:latin typeface="Arial"/>
              </a:rPr>
              <a:t>Переключение вним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это перемещение внимания с одного объекта на другой или с одного вида деятельности на другой в связи с постановкой  новой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3399"/>
                </a:solidFill>
                <a:latin typeface="Arial"/>
              </a:rPr>
              <a:t>Внимание – это не раз и навсегда данное качество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нимание можно и нужно развиват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мому ребёнку это сделать трудно.  Ему необходимо помочь научиться управлять своим вниманием. И главным помощниками ребёнку могут стать мама  и пап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ндивидуальные особенности внимани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стойчивое, но слабо переключаемое внимание: дети могут долго и старательно решать одну задачу, но с трудом переходят к следующ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ндивидуальные особенности внима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 Легко переключаемое внимание в процессе работы, но так же и легко отвлекаемое на посторонние момент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ндивидуальные особенности внима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 Хорошо организованное внимание сочетается с малым объёмо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. Легко отвлекаемое внимание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ндивидуальные особенности внима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. Устойчивое непроизвольное внимание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ети  сосредотачивают  внимание  на интересных  особенностях  изучаемого  материал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Если у детей не сформировано произвольное внимание, то -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392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ни будут заменять буквы – гласные или согласные, близкие по  акустическим признакам:  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дети –теди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дети – бет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з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уки –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у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10920" y="1125000"/>
            <a:ext cx="78469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. Часто ли Ваш ребёнок отвлекается во время выполнения заданий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368360" y="3430080"/>
            <a:ext cx="6408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Да.                               -  17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Трудно сказать             -   3 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ет                              -   5 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Если  у детей недостаточно развита устойчивость внимания, то они будут: 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259160"/>
          </a:xfrm>
          <a:prstGeom prst="rect">
            <a:avLst/>
          </a:prstGeom>
          <a:solidFill>
            <a:srgbClr val="f0b854"/>
          </a:solidFill>
          <a:ln w="9360">
            <a:solidFill>
              <a:srgbClr val="2f131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ропускать буквы в словах –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тава –трава, трва – трава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примерах  пропускают цифры и знаки: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12-6=5  1 -6=5   12- 6 5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Если ребёнок переставляет слоги в словах, то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8229600" cy="3538440"/>
          </a:xfrm>
          <a:prstGeom prst="rect">
            <a:avLst/>
          </a:prstGeom>
          <a:solidFill>
            <a:srgbClr val="f0b85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это связано с неустойчивостью внимания, например, стройка – сытыройка,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проходили – прохолиди,  собрались – собрасьли,   трава - твар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Если ребёнок добавляет в слова гласные, то -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это связано с неустойчивостью произвольного внимания, например, 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3514c2"/>
                </a:solidFill>
                <a:latin typeface="Arial"/>
              </a:rPr>
              <a:t>дрова –дорова, стройка – сытыройка.</a:t>
            </a:r>
            <a:r>
              <a:rPr b="0" lang="en-US" sz="3200" spc="-1" strike="noStrike">
                <a:solidFill>
                  <a:srgbClr val="3514c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95280" y="-7480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cc"/>
                </a:solidFill>
                <a:uFillTx/>
                <a:latin typeface="Arial"/>
              </a:rPr>
              <a:t>Рекомендации родителям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67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могите вашим детям стать вниматель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обретайте, читайте и используйте книги, в которых  можно найти упражнения и игры, способствующие развитию вним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основе внимания лежит интерес. Играйте вместе с детьми  в различные игры, развивающие все свойства вним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учитесь играть в шахматы и шашки, ведь эти игры называют «Школой внимания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забывайте о спортивных и подвижных играх, благодаря которым можно развивать не только силу и ловкость, но и внимание, воображение, быстроту мыш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 детей быть наблюдательными – умеющими замечать изменения, происходящие в окружающем мире, видеть необычное в обычном, незнакомое- в знаком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тоянно тренируйте внимание своего ребенка. Используйте для этого прогулки на свежем воздухе, походы, любую возмож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имулируйте интерес к развитию внимания собственными примерами и примерами из жизни други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семейном кругу демонстрируйте достижения ребенка по развитию собственного вним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беритесь терпения и не ждите немедленных, успешных результа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411280" y="2636640"/>
            <a:ext cx="640080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С П А С И Б О </a:t>
            </a:r>
            <a:br>
              <a:rPr sz="3600"/>
            </a:b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                 ЗА</a:t>
            </a:r>
            <a:br>
              <a:rPr sz="3600"/>
            </a:b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         ВНИМАНИЕ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37396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2.Можно ли назвать Вашего ребёнка сосредоточенным, усидчивым?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46120" y="2349360"/>
            <a:ext cx="777240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Да                                   -     5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Трудно  сказать               -     9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Нет                                 -   11 чел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0088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3.Хотелось бы Вам, чтобы Ваш ребёнок был внимательным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8302680" cy="40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а                                  24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Трудно сказать                 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т                                  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ругое                           1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4. Что Вы делаете для того, чтобы у Вашего ребёнка развивалось внимание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821844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Занимаемся                     17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Затрудняюсь ответить       3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Не знаем                           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Без ответа                         4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026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5. Считаете ли Вы, что такие собрания необходимо посещать всей семьёй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4000" y="2781360"/>
            <a:ext cx="78483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а                               2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а, но не всег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учается                   2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обязательно             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Без ответа                   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989840" cy="28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Garamond"/>
              </a:rPr>
              <a:t>Внимание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– это способность человека сосредоточиться на определённом объекте и явлениях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новные свойства:  концентрация, объём, устойчивость, распределение, и переключ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нимание может быть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514c2"/>
                </a:solidFill>
                <a:latin typeface="Arial"/>
              </a:rPr>
              <a:t>Непроизвольны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не имеющим цели и волевого усилия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7920"/>
                </a:solidFill>
                <a:latin typeface="Arial"/>
              </a:rPr>
              <a:t>Произвольны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наличие цели и  и активное её поддержание посредством  силы вол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1f45"/>
                </a:solidFill>
                <a:latin typeface="Arial"/>
              </a:rPr>
              <a:t>Послепроизвольны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наличие цели, но без волевого усилия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45"/>
                </a:solidFill>
                <a:latin typeface="Arial"/>
              </a:rPr>
              <a:t>Концентрация вним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это умение сосредоточиться на нужном объекте, отдельных его частях или признаках, способность вникнуть в проблему, задач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8:00:25Z</dcterms:created>
  <dc:creator>галина</dc:creator>
  <dc:description/>
  <dc:language>en-US</dc:language>
  <cp:lastModifiedBy>User</cp:lastModifiedBy>
  <dcterms:modified xsi:type="dcterms:W3CDTF">2006-12-17T13:20:27Z</dcterms:modified>
  <cp:revision>21</cp:revision>
  <dc:subject/>
  <dc:title>1. Часто ли Ваш ребёнок отвлекается во время выполнения заданий?</dc:title>
</cp:coreProperties>
</file>