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0.gif" ContentType="image/gif"/>
  <Override PartName="/ppt/media/image18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254-D8CE-4809-B828-C6247A1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199-A58F-4A1A-B096-EF18CC13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0F7-78C2-481B-9316-A7A845AB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B5E-B0FC-4223-A086-74B9D9AB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B38-10BF-4F02-9F08-BED09F7F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013-18C5-437B-938B-185DB77A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7B8-36B6-4709-87DA-427530A1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75EC-614B-46C2-8AF5-1AB80E0F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F0F4-4379-4F1C-890A-6A9064F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702-E6EA-4949-8A72-BE0771E3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885A-9A7C-41F3-8000-44B37EC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79B-A8B0-47E4-BCB7-932220E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91CE-4E57-40AB-9E5C-60B8358D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DB25-0089-46CF-B93A-0B8231FF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E5A-6AC6-445E-A9D4-A0D08DF5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53F3-6061-49BD-897A-B93630F6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06DF-FE20-4242-838C-ADBDBA35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186-76AF-499A-92E3-0CDDE422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C55-5F99-45AC-9F1F-6A523F34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7D1-4624-494C-BEF9-C9A6B7B2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3F1-429D-4468-97AB-AA9DA87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DC9-D522-4EE8-ADB1-51056B85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89-8A76-43E6-82C2-791D971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B18-E758-49EC-82AC-FFF17C8B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0BB-1DED-4E37-AB4E-5D137D276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Rectangle 8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Picture 10" descr="dice2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46" name="Rectangle 8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10" descr="dice2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472-D9FF-40EA-AF14-C023BB15B8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ИГРОМАНИ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ла: Топчий Ирина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основ здоров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omodj_PROFF_EVA_FLAME_Mario_Overture_Club_Mix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держимый  игрок  обычно  проходит через четыре стади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вы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Игра   от   случая   к случаю, мечты о выигрышах, возрастающие ставки, большие выигрыши.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про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 Игра   в  одиночку,   уходы     с     работы,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рупные      займы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неоплаченные долги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перезаклады, ложь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" descr="Картинка 234 из 3404"/>
          <p:cNvPicPr/>
          <p:nvPr/>
        </p:nvPicPr>
        <p:blipFill>
          <a:blip r:embed="rId1"/>
          <a:srcRect l="0" t="11425" r="0" b="0"/>
          <a:stretch/>
        </p:blipFill>
        <p:spPr>
          <a:xfrm>
            <a:off x="5638680" y="4419720"/>
            <a:ext cx="24386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25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25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за отчая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испорченная репутация, разрыв с семьей, друзьями, раскаяние, перекладывание вины на других, паника, потеря работы, незаконные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надежн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чувство безысходности, мысли о самоубийстве и возможные попытки, аресты, алкоголь, эмоциональное крушение и симптомы безум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признаки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лощенность, озабоченность игрой (воспоминания о прошлых играх, планирование будущих ставок, мысли о том, как найти деньги на следующую игр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винченность и возбуждение во время игры, повышение ставок для усиления аза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380"/>
                            </p:stCondLst>
                            <p:childTnLst>
                              <p:par>
                                <p:cTn id="3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380"/>
                            </p:stCondLst>
                            <p:childTnLst>
                              <p:par>
                                <p:cTn id="3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пособность прервать игру до тех пор, пока есть наличные день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я тревоги или раздражения при необходимости ограничить ставки или остановить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игры как средства для того, чтобы избавиться от неприятных пережива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D:\Семейная\Ирина\Анимашки\192898247.jpg"/>
          <p:cNvPicPr/>
          <p:nvPr/>
        </p:nvPicPr>
        <p:blipFill>
          <a:blip r:embed="rId1"/>
          <a:stretch/>
        </p:blipFill>
        <p:spPr>
          <a:xfrm>
            <a:off x="7391520" y="5562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8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80"/>
                            </p:stCondLst>
                            <p:childTnLst>
                              <p:par>
                                <p:cTn id="3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8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ытки отыграться на следующий день после проигрыш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жь и попытки рационального оправдания своего поведения с целью скрыть истинную степень своей вовлеченности в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незаконных способов получения денег (подлог, обман, кража или растрата) для продолжения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80"/>
                            </p:stCondLst>
                            <p:childTnLst>
                              <p:par>
                                <p:cTn id="37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80"/>
                            </p:stCondLst>
                            <p:childTnLst>
                              <p:par>
                                <p:cTn id="3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80"/>
                            </p:stCondLst>
                            <p:childTnLst>
                              <p:par>
                                <p:cTn id="3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удшение отношений на работе, в семье, с друзья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алживание денег у других лиц, чтобы расплатиться с уж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ющими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ами, вызванны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Картинка 77 из 551"/>
          <p:cNvPicPr/>
          <p:nvPr/>
        </p:nvPicPr>
        <p:blipFill>
          <a:blip r:embed="rId1"/>
          <a:stretch/>
        </p:blipFill>
        <p:spPr>
          <a:xfrm>
            <a:off x="533412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5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несколько правил, которые помогут удержаться от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ку стоит решить заранее, сколько денег для игры он может позволить себе выделить. Также разумно будет установить лимит по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D:\Семейная\Ирина\Анимашки\28 (2).gif"/>
          <p:cNvPicPr/>
          <p:nvPr/>
        </p:nvPicPr>
        <p:blipFill>
          <a:blip r:embed="rId1"/>
          <a:stretch/>
        </p:blipFill>
        <p:spPr>
          <a:xfrm>
            <a:off x="6934320" y="4724280"/>
            <a:ext cx="123804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650"/>
                            </p:stCondLst>
                            <p:childTnLst>
                              <p:par>
                                <p:cTn id="4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083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играть с установкой на проигрыш, то рассчитать ту сумму, которую не жалко потерять. И не переоценивать случайный выигрыш, чтобы не воспринимать его как некую закономер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Картинка 173 из 255"/>
          <p:cNvPicPr/>
          <p:nvPr/>
        </p:nvPicPr>
        <p:blipFill>
          <a:blip r:embed="rId1"/>
          <a:stretch/>
        </p:blipFill>
        <p:spPr>
          <a:xfrm>
            <a:off x="5105520" y="4419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тоит использовать игру, как способ избавления от негативных эмоций, лучше сначала разобраться в проблемах с помощью специалиста, а уже потом решить, стоит играть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Картинка 45 из 255"/>
          <p:cNvPicPr/>
          <p:nvPr/>
        </p:nvPicPr>
        <p:blipFill>
          <a:blip r:embed="rId1"/>
          <a:stretch/>
        </p:blipFill>
        <p:spPr>
          <a:xfrm>
            <a:off x="5257800" y="4319640"/>
            <a:ext cx="3352680" cy="225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анимать денег для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тыгрыв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 чтобы «сбить» психологические факторы, влияющие на решение «играть», можно время от времени выходить на улицу, избавляясь от гипнотизма обстановки игровых за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D:\Семейная\Ирина\Анимашки\122.gif"/>
          <p:cNvPicPr/>
          <p:nvPr/>
        </p:nvPicPr>
        <p:blipFill>
          <a:blip r:embed="rId1"/>
          <a:stretch/>
        </p:blipFill>
        <p:spPr>
          <a:xfrm>
            <a:off x="5867280" y="542916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информационные материалы, объясняющие возникновение зависимости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снить как определить зависимость человека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 как удержаться от игровой зависи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ледует забывать, что расхожий в народе тезис относительно того, что «в жизни нужно попробовать все», не всем и не всегда подходит. Жизнь, она, может, и игра, но в ней лучше быть не игроком, а режиссером.  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46" descr="Картинка 213 из 265"/>
          <p:cNvPicPr/>
          <p:nvPr/>
        </p:nvPicPr>
        <p:blipFill>
          <a:blip r:embed="rId1"/>
          <a:stretch/>
        </p:blipFill>
        <p:spPr>
          <a:xfrm>
            <a:off x="6324480" y="4419720"/>
            <a:ext cx="1778040" cy="1993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76212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равно стоит помнить, что даже соблюдение этих правил не всегда и не всех может удержать от омута под названием «игромания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воря об игромании, невозможно не упомянуть о еще одной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диктивного   поведения   в совреме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х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ьютер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об этом мы поговори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й раз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D:\Семейная\Ирина\Анимашки\61.gif"/>
          <p:cNvPicPr/>
          <p:nvPr/>
        </p:nvPicPr>
        <p:blipFill>
          <a:blip r:embed="rId1"/>
          <a:stretch/>
        </p:blipFill>
        <p:spPr>
          <a:xfrm>
            <a:off x="6629400" y="4952880"/>
            <a:ext cx="2152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же 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же сейчас психологи бьют тревогу – игромания распространяется по стране с бешеной скорость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Можно ли как-то избежать этой пагубной зависимости? По мнению психологов, практически невозможно. Единственный способ – не подходить к игровым автоматам вообщ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85" descr="Картинка 196 из 17638"/>
          <p:cNvPicPr/>
          <p:nvPr/>
        </p:nvPicPr>
        <p:blipFill>
          <a:blip r:embed="rId1"/>
          <a:srcRect l="7089" t="5000" r="5513" b="5000"/>
          <a:stretch/>
        </p:blipFill>
        <p:spPr>
          <a:xfrm>
            <a:off x="5791320" y="1828800"/>
            <a:ext cx="2814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drpsy.ru/problemy/igrovayazavisimos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edinfa.ru/09/igromani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asters.donntu.edu.ua/2007/mech/torinets/ind/gam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34" descr="Картинка 142 из 267"/>
          <p:cNvPicPr/>
          <p:nvPr/>
        </p:nvPicPr>
        <p:blipFill>
          <a:blip r:embed="rId1"/>
          <a:stretch/>
        </p:blipFill>
        <p:spPr>
          <a:xfrm>
            <a:off x="5943600" y="3962520"/>
            <a:ext cx="216684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раничка ав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опч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рина Виктор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высшей категор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-методи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943600" y="1523880"/>
            <a:ext cx="28576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90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9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9900"/>
                            </p:stCondLst>
                            <p:childTnLst>
                              <p:par>
                                <p:cTn id="6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1760" y="4568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се мы отчасти люди азартные,         только у каждого азарт проявляется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-своему. Человек, ведущий здоровый образ жизни, азартно с тяжелом рюкзаком лезет в гору, дачник азартно засеивает свои шесть соток, кто-то азартно смотрит футбол, кто-то азартно читает книги, а некоторые азартно играют в азартные игры, попадают в зависимость от азарта под названием «игромания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09" descr="Картинка 98 из 9446"/>
          <p:cNvPicPr/>
          <p:nvPr/>
        </p:nvPicPr>
        <p:blipFill>
          <a:blip r:embed="rId1"/>
          <a:srcRect l="2982" t="0" r="0" b="689"/>
          <a:stretch/>
        </p:blipFill>
        <p:spPr>
          <a:xfrm>
            <a:off x="5029200" y="4800600"/>
            <a:ext cx="24764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6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3805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Игровая зависимость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(игромания,                      лудомания, патологический гэмблинг)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ет несколько имен у этой проблемы, суть которой состоит в неконтролируемой тяге к игре, которая называется «зависимостью». Это нехимическая, информационная зависимость от игровых автоматов, казино, компьютерных игр, Интернета, SMS-сообщ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52" descr="Картинка 243 из 267"/>
          <p:cNvPicPr/>
          <p:nvPr/>
        </p:nvPicPr>
        <p:blipFill>
          <a:blip r:embed="rId1"/>
          <a:stretch/>
        </p:blipFill>
        <p:spPr>
          <a:xfrm>
            <a:off x="51814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385 из 59973"/>
          <p:cNvPicPr/>
          <p:nvPr/>
        </p:nvPicPr>
        <p:blipFill>
          <a:blip r:embed="rId2"/>
          <a:stretch/>
        </p:blipFill>
        <p:spPr>
          <a:xfrm>
            <a:off x="160020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  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нцип возникновения игромании то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же, что у алкоголизма и наркоман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гра все больше притягивает, больной жалуется, что теряет ощущение времени, вообще ничего не помнит. Постепенно разрушается личность, всякая мораль, наступает депрессия и физическое нездоровье - плата гораздо более высокая, чем финансовые убытк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иминальных случае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олько угодн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70" descr="http://www.zelenograd41news.ru/files/images/avtomaty.jpg"/>
          <p:cNvPicPr/>
          <p:nvPr/>
        </p:nvPicPr>
        <p:blipFill>
          <a:blip r:embed="rId1"/>
          <a:stretch/>
        </p:blipFill>
        <p:spPr>
          <a:xfrm>
            <a:off x="5257800" y="4419720"/>
            <a:ext cx="3352680" cy="2222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на первый взгляд самая большая проблема игромании – долг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и – это не только деньги, занятые у банка, одолженные у друзей. Человек, увлеченный игрой, «подсевший» на азарт, занимает у себя же жизнь, радость, сильные эмо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4" descr="http://www.tula.rodgor.ru/art_images/663/IgrovAvtom.jpg"/>
          <p:cNvPicPr/>
          <p:nvPr/>
        </p:nvPicPr>
        <p:blipFill>
          <a:blip r:embed="rId1"/>
          <a:stretch/>
        </p:blipFill>
        <p:spPr>
          <a:xfrm>
            <a:off x="4648320" y="3657600"/>
            <a:ext cx="3809880" cy="3035160"/>
          </a:xfrm>
          <a:prstGeom prst="rect">
            <a:avLst/>
          </a:prstGeom>
          <a:ln w="0">
            <a:noFill/>
          </a:ln>
        </p:spPr>
      </p:pic>
      <p:sp>
        <p:nvSpPr>
          <p:cNvPr id="104" name="Блок-схема: процесс 3"/>
          <p:cNvSpPr/>
          <p:nvPr/>
        </p:nvSpPr>
        <p:spPr>
          <a:xfrm>
            <a:off x="5486400" y="571500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всплеск ощущения полноты существования во время игры, 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лачивается самым дорогим: семьей, отношениями с близкими, работой. Более того, этот всплеск он оплачивает потом  подавленностью,  стыдом,  вин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м отвра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ебе и безнадежно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118" descr="http://pivkom.com/uploads/posts/2009-04/thumbs/1239009044_s2img_37744038_15397_1.jpg"/>
          <p:cNvPicPr/>
          <p:nvPr/>
        </p:nvPicPr>
        <p:blipFill>
          <a:blip r:embed="rId1"/>
          <a:stretch/>
        </p:blipFill>
        <p:spPr>
          <a:xfrm>
            <a:off x="990720" y="3657600"/>
            <a:ext cx="2781360" cy="3022560"/>
          </a:xfrm>
          <a:prstGeom prst="rect">
            <a:avLst/>
          </a:prstGeom>
          <a:ln w="0">
            <a:noFill/>
          </a:ln>
        </p:spPr>
      </p:pic>
      <p:sp>
        <p:nvSpPr>
          <p:cNvPr id="107" name="Блок-схема: процесс 3"/>
          <p:cNvSpPr/>
          <p:nvPr/>
        </p:nvSpPr>
        <p:spPr>
          <a:xfrm>
            <a:off x="1447920" y="586728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2120" y="5331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частую некоторые игровые автом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лотереи кажутся развлечением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бидным средством для снятия стресса. Однако в последнее время люди стали массово "подсаживаться" на игру. Надо помнить, что игромания стоит в одном ряду с такими зависимостями, как алкоголизм, наркомания, токсикомания. И в своем развитии проходит все те же стад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115" descr="Картинка 61 из 9446"/>
          <p:cNvPicPr/>
          <p:nvPr/>
        </p:nvPicPr>
        <p:blipFill>
          <a:blip r:embed="rId1"/>
          <a:stretch/>
        </p:blipFill>
        <p:spPr>
          <a:xfrm>
            <a:off x="6629400" y="5283360"/>
            <a:ext cx="1905120" cy="1574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4" descr="Картинка 146 из 17638"/>
          <p:cNvPicPr/>
          <p:nvPr/>
        </p:nvPicPr>
        <p:blipFill>
          <a:blip r:embed="rId1"/>
          <a:srcRect l="9794" t="0" r="9418" b="8792"/>
          <a:stretch/>
        </p:blipFill>
        <p:spPr>
          <a:xfrm>
            <a:off x="2133720" y="1371600"/>
            <a:ext cx="5448240" cy="461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1 из 829"/>
          <p:cNvPicPr/>
          <p:nvPr/>
        </p:nvPicPr>
        <p:blipFill>
          <a:blip r:embed="rId2"/>
          <a:stretch/>
        </p:blipFill>
        <p:spPr>
          <a:xfrm>
            <a:off x="1371600" y="838080"/>
            <a:ext cx="7086600" cy="5586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7T18:53:35Z</dcterms:created>
  <dc:creator>Denis</dc:creator>
  <dc:description/>
  <dc:language>en-US</dc:language>
  <cp:lastModifiedBy>Denis</cp:lastModifiedBy>
  <dcterms:modified xsi:type="dcterms:W3CDTF">2010-11-22T12:47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21049</vt:lpwstr>
  </property>
</Properties>
</file>