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3.gif" ContentType="image/gif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20.gif" ContentType="image/gif"/>
  <Override PartName="/ppt/media/image18.gif" ContentType="image/gif"/>
  <Override PartName="/ppt/media/image14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E79-F6ED-4CCB-8FFA-74DA49D4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4B9-5E14-4E8E-91C9-494EC783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685A-8DE3-43E1-A923-7B7E814E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EEC-D46D-4547-A4A4-AA208F20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A866-A25C-444D-96EC-6E7401F7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227B-5543-49CD-8A65-27094D70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0A74-2260-4289-846A-508ABF1C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0FA6-AA76-4D45-824C-8AC0E535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E75C-FFCF-4A61-B9F6-4DCB7F63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70837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68F9-7F70-48F6-BDE4-F2B7AE79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3F60-C4B8-43E3-9543-1D2985D6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94C-1E54-4A99-942B-45C0B515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9EC0-42C0-4323-AB20-7564F48B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11D9-73DF-4DC4-930F-643D695F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8AFD-AC50-486B-9053-9C5276D1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B6E4-9DD3-4D48-8018-97818F40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43AC-A2F1-4518-98B0-D3554E5B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B7F-5A08-4C56-A24B-FC662B03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864-F3FC-4786-9146-D29D13FD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96D-1D25-4922-9AC7-7CBE446D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70837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D016-971E-48DD-ACA9-2E5DA594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31E-B035-46CD-9FF0-E5F72B3A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F20-BDD8-4F7A-9C36-DE62AE89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0BA-03AF-45CC-8525-1CA3EAB1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2E98-E57C-4C9F-A2B2-8A52EED24C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28600" y="228600"/>
            <a:ext cx="8763120" cy="6553080"/>
            <a:chOff x="228600" y="228600"/>
            <a:chExt cx="8763120" cy="6553080"/>
          </a:xfrm>
        </p:grpSpPr>
        <p:sp>
          <p:nvSpPr>
            <p:cNvPr id="6" name="Rectangle 8"/>
            <p:cNvSpPr/>
            <p:nvPr/>
          </p:nvSpPr>
          <p:spPr>
            <a:xfrm>
              <a:off x="1600200" y="228600"/>
              <a:ext cx="7391520" cy="763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228600" y="1752480"/>
              <a:ext cx="76320" cy="5029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Picture 10" descr="dice2"/>
          <p:cNvPicPr/>
          <p:nvPr/>
        </p:nvPicPr>
        <p:blipFill>
          <a:blip r:embed="rId2"/>
          <a:stretch/>
        </p:blipFill>
        <p:spPr>
          <a:xfrm>
            <a:off x="31680" y="0"/>
            <a:ext cx="1720800" cy="175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0" y="2457360"/>
            <a:ext cx="9067680" cy="4324320"/>
            <a:chOff x="0" y="2457360"/>
            <a:chExt cx="9067680" cy="4324320"/>
          </a:xfrm>
        </p:grpSpPr>
        <p:sp>
          <p:nvSpPr>
            <p:cNvPr id="46" name="Rectangle 8"/>
            <p:cNvSpPr/>
            <p:nvPr/>
          </p:nvSpPr>
          <p:spPr>
            <a:xfrm>
              <a:off x="1676520" y="2666880"/>
              <a:ext cx="7391160" cy="763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228600" y="4038480"/>
              <a:ext cx="76320" cy="2743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10" descr="dice2"/>
            <p:cNvPicPr/>
            <p:nvPr/>
          </p:nvPicPr>
          <p:blipFill>
            <a:blip r:embed="rId2"/>
            <a:stretch/>
          </p:blipFill>
          <p:spPr>
            <a:xfrm>
              <a:off x="0" y="2457360"/>
              <a:ext cx="155268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8B94-3F19-451E-BBA0-21F1EE6CD0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ИГРОМАНИ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880" y="41907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ила: Топчий Ирина Викторо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основ здоровь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орожской гимназии № 11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romodj_PROFF_EVA_FLAME_Mario_Overture_Club_Mix.mp3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тадии зависимости от иг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60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Одержимый  игрок  обычно  проходит через четыре стади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Стадия выигрышей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 -  Игра   от   случая   к случаю, мечты о выигрышах, возрастающие ставки, большие выигрыши.</a:t>
            </a: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Times New Roman"/>
              </a:rPr>
              <a:t>Стадия проигрышей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 -   Игра   в  одиночку,   уходы     с     работы,    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крупные      займы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неоплаченные долги,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перезаклады, ложь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" descr="Картинка 234 из 3404"/>
          <p:cNvPicPr/>
          <p:nvPr/>
        </p:nvPicPr>
        <p:blipFill>
          <a:blip r:embed="rId1"/>
          <a:srcRect l="0" t="11425" r="0" b="0"/>
          <a:stretch/>
        </p:blipFill>
        <p:spPr>
          <a:xfrm>
            <a:off x="5638680" y="4419720"/>
            <a:ext cx="2438640" cy="2158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725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225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тадии зависимости от иг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аза отчая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- испорченная репутация, разрыв с семьей, друзьями, раскаяние, перекладывание вины на других, паника, потеря работы, незаконные действ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знадежная стад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чувство безысходности, мысли о самоубийстве и возможные попытки, аресты, алкоголь, эмоциональное крушение и симптомы безум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100"/>
                            </p:stCondLst>
                            <p:childTnLst>
                              <p:par>
                                <p:cTn id="2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100"/>
                            </p:stCondLst>
                            <p:childTnLst>
                              <p:par>
                                <p:cTn id="2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знаки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16765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ествуют признаки игровой зависимо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глощенность, озабоченность игрой (воспоминания о прошлых играх, планирование будущих ставок, мысли о том, как найти деньги на следующую игру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винченность и возбуждение во время игры, повышение ставок для усиления азар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80"/>
                            </p:stCondLst>
                            <p:childTnLst>
                              <p:par>
                                <p:cTn id="3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380"/>
                            </p:stCondLst>
                            <p:childTnLst>
                              <p:par>
                                <p:cTn id="32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380"/>
                            </p:stCondLst>
                            <p:childTnLst>
                              <p:par>
                                <p:cTn id="32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знаки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способность прервать игру до тех пор, пока есть наличные деньг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живания тревоги или раздражения при необходимости ограничить ставки или остановить игр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игры как средства для того, чтобы избавиться от неприятных переживан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D:\Семейная\Ирина\Анимашки\192898247.jpg"/>
          <p:cNvPicPr/>
          <p:nvPr/>
        </p:nvPicPr>
        <p:blipFill>
          <a:blip r:embed="rId1"/>
          <a:stretch/>
        </p:blipFill>
        <p:spPr>
          <a:xfrm>
            <a:off x="7391520" y="55627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80"/>
                            </p:stCondLst>
                            <p:childTnLst>
                              <p:par>
                                <p:cTn id="3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80"/>
                            </p:stCondLst>
                            <p:childTnLst>
                              <p:par>
                                <p:cTn id="3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80"/>
                            </p:stCondLst>
                            <p:childTnLst>
                              <p:par>
                                <p:cTn id="35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знаки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ытки отыграться на следующий день после проигрыш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жь и попытки рационального оправдания своего поведения с целью скрыть истинную степень своей вовлеченности в игр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незаконных способов получения денег (подлог, обман, кража или растрата) для продолжения иг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80"/>
                            </p:stCondLst>
                            <p:childTnLst>
                              <p:par>
                                <p:cTn id="37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80"/>
                            </p:stCondLst>
                            <p:childTnLst>
                              <p:par>
                                <p:cTn id="38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80"/>
                            </p:stCondLst>
                            <p:childTnLst>
                              <p:par>
                                <p:cTn id="38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знаки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худшение отношений на работе, в семье, с друзья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алживание денег у других лиц, чтобы расплатиться с уж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ющими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гами, вызванны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Картинка 77 из 551"/>
          <p:cNvPicPr/>
          <p:nvPr/>
        </p:nvPicPr>
        <p:blipFill>
          <a:blip r:embed="rId1"/>
          <a:stretch/>
        </p:blipFill>
        <p:spPr>
          <a:xfrm>
            <a:off x="5334120" y="32767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95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45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083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удержаться от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212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несколько правил, которые помогут удержаться от игровой зависимо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оку стоит решить заранее, сколько денег для игры он может позволить себе выделить. Также разумно будет установить лимит по вре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D:\Семейная\Ирина\Анимашки\28 (2).gif"/>
          <p:cNvPicPr/>
          <p:nvPr/>
        </p:nvPicPr>
        <p:blipFill>
          <a:blip r:embed="rId1"/>
          <a:stretch/>
        </p:blipFill>
        <p:spPr>
          <a:xfrm>
            <a:off x="6934320" y="4724280"/>
            <a:ext cx="123804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650"/>
                            </p:stCondLst>
                            <p:childTnLst>
                              <p:par>
                                <p:cTn id="4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083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удержаться от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играть с установкой на проигрыш, то рассчитать ту сумму, которую не жалко потерять. И не переоценивать случайный выигрыш, чтобы не воспринимать его как некую закономерн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Картинка 173 из 255"/>
          <p:cNvPicPr/>
          <p:nvPr/>
        </p:nvPicPr>
        <p:blipFill>
          <a:blip r:embed="rId1"/>
          <a:stretch/>
        </p:blipFill>
        <p:spPr>
          <a:xfrm>
            <a:off x="5105520" y="44197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удержаться от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520" y="17524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стоит использовать игру, как способ избавления от негативных эмоций, лучше сначала разобраться в проблемах с помощью специалиста, а уже потом решить, стоит играть или 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Картинка 45 из 255"/>
          <p:cNvPicPr/>
          <p:nvPr/>
        </p:nvPicPr>
        <p:blipFill>
          <a:blip r:embed="rId1"/>
          <a:stretch/>
        </p:blipFill>
        <p:spPr>
          <a:xfrm>
            <a:off x="5257800" y="4319640"/>
            <a:ext cx="3352680" cy="2257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083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удержаться от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занимать денег для иг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отыгрыва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того чтобы «сбить» психологические факторы, влияющие на решение «играть», можно время от времени выходить на улицу, избавляясь от гипнотизма обстановки игровых за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D:\Семейная\Ирина\Анимашки\122.gif"/>
          <p:cNvPicPr/>
          <p:nvPr/>
        </p:nvPicPr>
        <p:blipFill>
          <a:blip r:embed="rId1"/>
          <a:stretch/>
        </p:blipFill>
        <p:spPr>
          <a:xfrm>
            <a:off x="5867280" y="5429160"/>
            <a:ext cx="25909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Цель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2120" y="20574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информационные материалы, объясняющие возникновение зависимости от иг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яснить как определить зависимость человека от иг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ить как удержаться от игровой зависим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удержаться от игровой зависим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следует забывать, что расхожий в народе тезис относительно того, что «в жизни нужно попробовать все», не всем и не всегда подходит. Жизнь, она, может, и игра, но в ней лучше быть не игроком, а режиссером.   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Рисунок 46" descr="Картинка 213 из 265"/>
          <p:cNvPicPr/>
          <p:nvPr/>
        </p:nvPicPr>
        <p:blipFill>
          <a:blip r:embed="rId1"/>
          <a:stretch/>
        </p:blipFill>
        <p:spPr>
          <a:xfrm>
            <a:off x="6324480" y="4419720"/>
            <a:ext cx="1778040" cy="19936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7720" y="762120"/>
            <a:ext cx="76964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се равно стоит помнить, что даже соблюдение этих правил не всегда и не всех может удержать от омута под названием «игромания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воря об игромании, невозможно не упомянуть о еще одной фор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диктивного   поведения   в совреме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х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ьютерной завис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 об этом мы поговорим 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ой раз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D:\Семейная\Ирина\Анимашки\61.gif"/>
          <p:cNvPicPr/>
          <p:nvPr/>
        </p:nvPicPr>
        <p:blipFill>
          <a:blip r:embed="rId1"/>
          <a:stretch/>
        </p:blipFill>
        <p:spPr>
          <a:xfrm>
            <a:off x="6629400" y="4952880"/>
            <a:ext cx="2152800" cy="1648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083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же дел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же сейчас психологи бьют тревогу – игромания распространяется по стране с бешеной скорость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Можно ли как-то избежать этой пагубной зависимости? По мнению психологов, практически невозможно. Единственный способ – не подходить к игровым автоматам вообще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Рисунок 85" descr="Картинка 196 из 17638"/>
          <p:cNvPicPr/>
          <p:nvPr/>
        </p:nvPicPr>
        <p:blipFill>
          <a:blip r:embed="rId1"/>
          <a:srcRect l="7089" t="5000" r="5513" b="5000"/>
          <a:stretch/>
        </p:blipFill>
        <p:spPr>
          <a:xfrm>
            <a:off x="5791320" y="1828800"/>
            <a:ext cx="28144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0"/>
                            </p:stCondLst>
                            <p:childTnLst>
                              <p:par>
                                <p:cTn id="5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спользованные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drpsy.ru/problemy/igrovayazavisimost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medinfa.ru/09/igromani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masters.donntu.edu.ua/2007/mech/torinets/ind/game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Рисунок 34" descr="Картинка 142 из 267"/>
          <p:cNvPicPr/>
          <p:nvPr/>
        </p:nvPicPr>
        <p:blipFill>
          <a:blip r:embed="rId1"/>
          <a:stretch/>
        </p:blipFill>
        <p:spPr>
          <a:xfrm>
            <a:off x="5943600" y="3962520"/>
            <a:ext cx="2166840" cy="2654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5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083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траничка авто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2193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опчи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рина Виктор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высшей категор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-методи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орожской гимназии №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rcRect l="2633" t="1533" r="0" b="1533"/>
          <a:stretch/>
        </p:blipFill>
        <p:spPr>
          <a:xfrm>
            <a:off x="5943600" y="1523880"/>
            <a:ext cx="285768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9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900"/>
                            </p:stCondLst>
                            <p:childTnLst>
                              <p:par>
                                <p:cTn id="6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7900"/>
                            </p:stCondLst>
                            <p:childTnLst>
                              <p:par>
                                <p:cTn id="62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9900"/>
                            </p:stCondLst>
                            <p:childTnLst>
                              <p:par>
                                <p:cTn id="63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1900"/>
                            </p:stCondLst>
                            <p:childTnLst>
                              <p:par>
                                <p:cTn id="6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61760" y="4568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се мы отчасти люди азартные,         только у каждого азарт проявляется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-своему. Человек, ведущий здоровый образ жизни, азартно с тяжелом рюкзаком лезет в гору, дачник азартно засеивает свои шесть соток, кто-то азартно смотрит футбол, кто-то азартно читает книги, а некоторые азартно играют в азартные игры, попадают в зависимость от азарта под названием «игромания»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109" descr="Картинка 98 из 9446"/>
          <p:cNvPicPr/>
          <p:nvPr/>
        </p:nvPicPr>
        <p:blipFill>
          <a:blip r:embed="rId1"/>
          <a:srcRect l="2982" t="0" r="0" b="689"/>
          <a:stretch/>
        </p:blipFill>
        <p:spPr>
          <a:xfrm>
            <a:off x="5029200" y="4800600"/>
            <a:ext cx="247644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6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6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6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6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80520" y="3805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Игровая зависимость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 (игромания,                      лудомания, патологический гэмблинг)–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ществует несколько имен у этой проблемы, суть которой состоит в неконтролируемой тяге к игре, которая называется «зависимостью». Это нехимическая, информационная зависимость от игровых автоматов, казино, компьютерных игр, Интернета, SMS-сообщ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Рисунок 52" descr="Картинка 243 из 267"/>
          <p:cNvPicPr/>
          <p:nvPr/>
        </p:nvPicPr>
        <p:blipFill>
          <a:blip r:embed="rId1"/>
          <a:stretch/>
        </p:blipFill>
        <p:spPr>
          <a:xfrm>
            <a:off x="5181480" y="4267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Картинка 385 из 59973"/>
          <p:cNvPicPr/>
          <p:nvPr/>
        </p:nvPicPr>
        <p:blipFill>
          <a:blip r:embed="rId2"/>
          <a:stretch/>
        </p:blipFill>
        <p:spPr>
          <a:xfrm>
            <a:off x="160020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0948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    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инцип возникновения игромании то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же, что у алкоголизма и наркоман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гра все больше притягивает, больной жалуется, что теряет ощущение времени, вообще ничего не помнит. Постепенно разрушается личность, всякая мораль, наступает депрессия и физическое нездоровье - плата гораздо более высокая, чем финансовые убытк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риминальных случае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колько угодно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70" descr="http://www.zelenograd41news.ru/files/images/avtomaty.jpg"/>
          <p:cNvPicPr/>
          <p:nvPr/>
        </p:nvPicPr>
        <p:blipFill>
          <a:blip r:embed="rId1"/>
          <a:stretch/>
        </p:blipFill>
        <p:spPr>
          <a:xfrm>
            <a:off x="5257800" y="4419720"/>
            <a:ext cx="3352680" cy="2222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61760" y="5331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лько на первый взгляд самая большая проблема игромании – долг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ги – это не только деньги, занятые у банка, одолженные у друзей. Человек, увлеченный игрой, «подсевший» на азарт, занимает у себя же жизнь, радость, сильные эмо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Рисунок 94" descr="http://www.tula.rodgor.ru/art_images/663/IgrovAvtom.jpg"/>
          <p:cNvPicPr/>
          <p:nvPr/>
        </p:nvPicPr>
        <p:blipFill>
          <a:blip r:embed="rId1"/>
          <a:stretch/>
        </p:blipFill>
        <p:spPr>
          <a:xfrm>
            <a:off x="4648320" y="3657600"/>
            <a:ext cx="3809880" cy="3035160"/>
          </a:xfrm>
          <a:prstGeom prst="rect">
            <a:avLst/>
          </a:prstGeom>
          <a:ln w="0">
            <a:noFill/>
          </a:ln>
        </p:spPr>
      </p:pic>
      <p:sp>
        <p:nvSpPr>
          <p:cNvPr id="104" name="Блок-схема: процесс 3"/>
          <p:cNvSpPr/>
          <p:nvPr/>
        </p:nvSpPr>
        <p:spPr>
          <a:xfrm>
            <a:off x="5486400" y="5715000"/>
            <a:ext cx="685800" cy="228600"/>
          </a:xfrm>
          <a:prstGeom prst="flowChartProcess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62120" y="456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 всплеск ощущения полноты существования во время игры, о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лачивается самым дорогим: семьей, отношениями с близкими, работой. Более того, этот всплеск он оплачивает потом  подавленностью,  стыдом,  вино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увством отвра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себе и безнадежност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Рисунок 118" descr="http://pivkom.com/uploads/posts/2009-04/thumbs/1239009044_s2img_37744038_15397_1.jpg"/>
          <p:cNvPicPr/>
          <p:nvPr/>
        </p:nvPicPr>
        <p:blipFill>
          <a:blip r:embed="rId1"/>
          <a:stretch/>
        </p:blipFill>
        <p:spPr>
          <a:xfrm>
            <a:off x="990720" y="3657600"/>
            <a:ext cx="2781360" cy="3022560"/>
          </a:xfrm>
          <a:prstGeom prst="rect">
            <a:avLst/>
          </a:prstGeom>
          <a:ln w="0">
            <a:noFill/>
          </a:ln>
        </p:spPr>
      </p:pic>
      <p:sp>
        <p:nvSpPr>
          <p:cNvPr id="107" name="Блок-схема: процесс 3"/>
          <p:cNvSpPr/>
          <p:nvPr/>
        </p:nvSpPr>
        <p:spPr>
          <a:xfrm>
            <a:off x="1447920" y="5867280"/>
            <a:ext cx="685800" cy="228600"/>
          </a:xfrm>
          <a:prstGeom prst="flowChartProcess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62120" y="5331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частую некоторые игровые автома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лотереи кажутся развлечением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зобидным средством для снятия стресса. Однако в последнее время люди стали массово "подсаживаться" на игру. Надо помнить, что игромания стоит в одном ряду с такими зависимостями, как алкоголизм, наркомания, токсикомания. И в своем развитии проходит все те же стад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115" descr="Картинка 61 из 9446"/>
          <p:cNvPicPr/>
          <p:nvPr/>
        </p:nvPicPr>
        <p:blipFill>
          <a:blip r:embed="rId1"/>
          <a:stretch/>
        </p:blipFill>
        <p:spPr>
          <a:xfrm>
            <a:off x="6629400" y="5283360"/>
            <a:ext cx="1905120" cy="1574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64" descr="Картинка 146 из 17638"/>
          <p:cNvPicPr/>
          <p:nvPr/>
        </p:nvPicPr>
        <p:blipFill>
          <a:blip r:embed="rId1"/>
          <a:srcRect l="9794" t="0" r="9418" b="8792"/>
          <a:stretch/>
        </p:blipFill>
        <p:spPr>
          <a:xfrm>
            <a:off x="2133720" y="1371600"/>
            <a:ext cx="5448240" cy="4610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Картинка 11 из 829"/>
          <p:cNvPicPr/>
          <p:nvPr/>
        </p:nvPicPr>
        <p:blipFill>
          <a:blip r:embed="rId2"/>
          <a:stretch/>
        </p:blipFill>
        <p:spPr>
          <a:xfrm>
            <a:off x="1371600" y="838080"/>
            <a:ext cx="7086600" cy="5586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7T18:53:35Z</dcterms:created>
  <dc:creator>Denis</dc:creator>
  <dc:description/>
  <dc:language>en-US</dc:language>
  <cp:lastModifiedBy>Denis</cp:lastModifiedBy>
  <dcterms:modified xsi:type="dcterms:W3CDTF">2010-11-22T12:47:32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21049</vt:lpwstr>
  </property>
</Properties>
</file>