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1F0-2947-43B5-9D5D-DC53360D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500-6256-4185-B7C2-FE82F77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639-287A-406D-902C-E2A9C108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27D-F487-4E73-A040-8238F74B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9DD-F19E-4BD6-A301-EBDBA66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567-9904-4540-8BFD-9B951E1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176-4C71-4DFE-82F4-0E9B3CBC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065-80B0-470A-84CE-7DAEC34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CC9-406B-4D24-83BF-23C413F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F9B-0057-449C-92AF-54458701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9F5-B41D-4268-8C04-9D61BB2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8B1-263D-4011-A7C8-D16203B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C972-7743-479B-AB57-2447312EF1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ражданско-правовой договор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MCj04281050000[1]"/>
          <p:cNvPicPr/>
          <p:nvPr/>
        </p:nvPicPr>
        <p:blipFill>
          <a:blip r:embed="rId1"/>
          <a:stretch/>
        </p:blipFill>
        <p:spPr>
          <a:xfrm>
            <a:off x="3505320" y="2133720"/>
            <a:ext cx="2236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560" y="22093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официальным документом, который представляет собой соглашение двух или нескольких лиц об установлении, изменении или прекращении гражданских прав и обязанносте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0996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209680" cy="1846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Гражданско-правовой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вид договора: купли-продажи, трудовой или гражданско-правовой, и др. –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олжен быть составлен грамот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соответствии со всеми нормами законодательства и состоять из вводной части (преамбулы) и условий, которые можно поделить на три группы: существенные, обычные и про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819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 догов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ущественных усл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контраг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условий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писание(+ печать, если ес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2438280" y="3728880"/>
            <a:ext cx="396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ущественные усло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говора являются самой важной частью договора, так как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читается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ишь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с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стижения сторонам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оглашения по всем существенным условия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762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ормы заключения договор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фер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ожение одного лица другому заключить до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кцеп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гласие адресата оферты на заключение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ая оферта: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я в С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ые торг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аукцион, конкур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испол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учи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стойка (пени, штра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38120" cy="21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048120" y="914400"/>
            <a:ext cx="26668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догов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 цели совер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в собств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на временное поль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изводству работ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 приобретению собствен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упли-прода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по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онрактации (на передачу с/х продук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энергоснаб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пля –продаж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упка треб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щного най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09480" y="227160"/>
            <a:ext cx="83059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говор должен соответствовать требованиям законодательства Российской Федер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ем точнее и правильнее составлен договор, тем меньше рисков, что сделка обернется убытками в виде реального ущерба, неполученной прибыли, расходов на судебные разбирательства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2:14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