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D9C-9BED-45FC-AA22-D4EFE78E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2EF-9E1E-4E1C-82AF-6D9D1B6F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B1E-CC9B-49D0-9DD6-24D46DE0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463-5897-47AB-9FC8-350AB9DE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81E-F337-4C5A-BED6-AA50E70E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984-756D-4DB5-90B7-5D469D33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F5B8-AC9E-4AFE-9CAE-70BD1EEF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2A4-8710-4B4E-B7CD-08313CE1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58D-B533-4B48-B1D1-F4B3F2A4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CC2-1B7D-4835-A0CB-35B76FA3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701-57E2-44B9-A94F-01A068A0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529-FA07-4B82-9F84-BF9BF0F5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74ED-8E3C-4AE0-8F5D-A697AA3DB7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Гражданско-правовой договор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5105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4" descr="MCj04281050000[1]"/>
          <p:cNvPicPr/>
          <p:nvPr/>
        </p:nvPicPr>
        <p:blipFill>
          <a:blip r:embed="rId1"/>
          <a:stretch/>
        </p:blipFill>
        <p:spPr>
          <a:xfrm>
            <a:off x="3505320" y="2133720"/>
            <a:ext cx="22366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04560" y="2209320"/>
            <a:ext cx="5181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Догово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является официальным документом, который представляет собой соглашение двух или нескольких лиц об установлении, изменении или прекращении гражданских прав и обязанностей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300996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2209680" cy="1846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819160" y="45684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Гражданско-правовой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ой вид договора: купли-продажи, трудовой или гражданско-правовой, и др. –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олжен быть составлен грамотн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 соответствии со всеми нормами законодательства и состоять из вводной части (преамбулы) и условий, которые можно поделить на три группы: существенные, обычные и проч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5791320" y="3352680"/>
            <a:ext cx="2819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ие договор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ие существенных усло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ор контраг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гласование условий до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писание(+ печать, если ес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2" descr=""/>
          <p:cNvPicPr/>
          <p:nvPr/>
        </p:nvPicPr>
        <p:blipFill>
          <a:blip r:embed="rId1"/>
          <a:stretch/>
        </p:blipFill>
        <p:spPr>
          <a:xfrm>
            <a:off x="2438280" y="3728880"/>
            <a:ext cx="39625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Существенные усло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оговора являются самой важной частью договора, так как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догово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читается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ны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лишь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ос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остижения сторонами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соглашения по всем существенным условиям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6762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Формы заключения договор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Оферт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ложение одного лица другому заключить догов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Акцеп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гласие адресата оферты на заключение до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убличная оферта: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вления в С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убличные торг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аукцион, конкур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е исполн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ан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учите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устойка (пени, штраф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238120" cy="212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048120" y="914400"/>
            <a:ext cx="26668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ы догов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По цели соверш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передачу имущества в собстве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передачу имущества на временное польз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производству работ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о приобретению собственнос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говор купли-прода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говор поста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говор конрактации (на передачу с/х продукц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говор энергоснаб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пля –продажа недвиж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ен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упка треб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ищного най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09480" y="227160"/>
            <a:ext cx="8305920" cy="62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оговор должен соответствовать требованиям законодательства Российской Федер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Чем точнее и правильнее составлен договор, тем меньше рисков, что сделка обернется убытками в виде реального ущерба, неполученной прибыли, расходов на судебные разбирательства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581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1-10-11T12:14:3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