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4BF-D6B9-4E09-AD24-12305AC3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BCE-B770-4BBF-B528-4C47F80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C4A-7FA6-41C0-A4A4-0B0003AB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9F-0873-4991-A544-5C279035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512-B761-4F1A-9701-1CAEB09D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FCC-FA9E-4D57-8CD3-5FB6A3EC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B85-92E2-474A-8713-9E5298B0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216-7186-42F9-944F-1608224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813-533E-4386-9328-3C12B68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5EC-36E9-46D7-8C41-4E56F65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32B-E666-4DED-BBAB-D8F3852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2F4-DBC4-42DB-9AFB-3B9E4A7B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9643-CA51-4E4A-9D5E-D9280428C0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ражданско-правовой договор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MCj04281050000[1]"/>
          <p:cNvPicPr/>
          <p:nvPr/>
        </p:nvPicPr>
        <p:blipFill>
          <a:blip r:embed="rId1"/>
          <a:stretch/>
        </p:blipFill>
        <p:spPr>
          <a:xfrm>
            <a:off x="3505320" y="2133720"/>
            <a:ext cx="2236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560" y="22093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официальным документом, который представляет собой соглашение двух или нескольких лиц об установлении, изменении или прекращении гражданских прав и обязанносте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0996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209680" cy="1846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Гражданско-правовой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вид договора: купли-продажи, трудовой или гражданско-правовой, и др. –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олжен быть составлен грамот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соответствии со всеми нормами законодательства и состоять из вводной части (преамбулы) и условий, которые можно поделить на три группы: существенные, обычные и про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819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 догов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ущественных усл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ор контраг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условий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писание(+ печать, если ес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2438280" y="3728880"/>
            <a:ext cx="396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ущественные усло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говора являются самой важной частью договора, так как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огов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читается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н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ишь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с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стижения сторонам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оглашения по всем существенным условия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762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ормы заключения договор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ферт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ожение одного лица другому заключить до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кцеп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гласие адресата оферты на заключение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ая оферта: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я в С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убличные торг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аукцион, конкур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испол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учи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стойка (пени, штра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38120" cy="21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048120" y="914400"/>
            <a:ext cx="26668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договор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 цели совер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в собств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ачу имущества на временное поль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изводству работ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 приобретению собствен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упли-прода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по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конрактации (на передачу с/х продук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 энергоснаб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пля –продаж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упка треб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щного най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09480" y="227160"/>
            <a:ext cx="83059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говор должен соответствовать требованиям законодательства Российской Федер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ем точнее и правильнее составлен договор, тем меньше рисков, что сделка обернется убытками в виде реального ущерба, неполученной прибыли, расходов на судебные разбирательства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2:14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