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F28-B22A-4EBA-BF99-D57264A1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1C2-340C-4B97-A9DD-538DA36A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30D-5A90-480A-84D4-739F085D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C69-497C-40DF-BF6D-3034098C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31C-F67D-4891-B787-D03193FF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A0CF-8DA4-4AE4-AD79-AF23C85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A64-886A-4FB0-A1B3-213E99D8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1D9D-1742-4DAC-BB0D-2D870BB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A63-3FB3-4356-854D-5AF8C27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C1B5-A4A2-46AB-B09B-06D01C3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EF2D-1DB8-4334-8E26-0C0BBC5A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00C-1830-4AD4-8D2D-D3AE9AD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76B-E8EC-40CE-A022-8361606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8B2B-7668-4447-AE6F-91EF3A6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68A-012F-4170-8320-B2408EF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8BA3-927C-4FAE-8E56-707D33F6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1B03-4E29-41E9-BF09-11D70653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53E-1603-4266-A6BA-74013E5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44E-F1A7-4D69-8F16-2D60441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6AC-5799-404F-80A1-815B0680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19A-3074-467D-8124-4BE2C95A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ACA-FDC3-483E-8947-FA561EB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DC6-71FD-4D04-BC6C-B656409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CE6-58EF-486F-81F6-BFC40D6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6EFE-DE53-4F95-A8F3-CA826A719F1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548F-51AE-45BF-8AAD-FA7FC55262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Deutschland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Reichstagsgeb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ud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Alexanderplatz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Zoo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34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ünche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381880" cy="47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M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ünche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810240" cy="37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M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ünchens – die Frauenkirch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791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 Herz der Stadt – die Marie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äu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372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Residenz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utzutage gibt es hier Sammlungen und Mus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lte Pinakothek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Neue Pinakothek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Die Staatsflagge Deutschlands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Englische Garte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62120" y="4633920"/>
            <a:ext cx="3886200" cy="22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Olympia - Stad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utsches Museum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Wappen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der Stadt – der K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ölner Do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mit Glockenspie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in der Nacht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Universit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ä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s Museum 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ür Ostasiatische Kun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66"/>
                </a:solidFill>
                <a:latin typeface="Arial"/>
              </a:rPr>
              <a:t>Das Wappen Deutschlands</a:t>
            </a:r>
            <a:endParaRPr b="1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er Karnev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Symbol des Karneval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ischwass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 am Rei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Karte Deutschland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627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Pr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sident Deutschland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8672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Arial"/>
              </a:rPr>
              <a:t>Der Bundeskanzler Deutschlands</a:t>
            </a:r>
            <a:endParaRPr b="1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Berlin - die Hauptstadt Deutschland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621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Symbol Berlins – das Brandenburger Tor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</cp:lastModifiedBy>
  <dcterms:modified xsi:type="dcterms:W3CDTF">2010-03-01T15:17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