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F5E-02D8-491C-8CFC-8F5F631E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E1C-1911-4CA8-8965-E4CBFF4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24E-D825-492E-8144-EF5EFEC9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631-989D-4C35-BC6F-99EE3DE6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39A-89B8-48FD-B062-1D17E9DC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583F-7C9D-40F0-9D00-2C2E146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3B5-A330-49AD-83EE-3068359E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E0C-5766-47A1-8B0E-66576F68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661-AAF4-459D-B51E-53F4F51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86B5-3E4A-431D-AC98-373DF80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70D0-4F9E-4EFA-A8C5-BD9867D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628-6403-40E2-BBDD-117E82DA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55AF-A831-4717-AE31-B9D7418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7636-DE41-45B1-9CC6-6121CC0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EDEC-3C1F-48D0-B9DC-33C36814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75E-414B-4A2D-9B70-EBBE4159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0A78-0228-420F-B979-5CD4861B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577-573A-4EBE-B552-0A57AD3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9F7-C0A9-4906-951B-AD40112C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593-E5CC-458C-90EE-0724C61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E93-42D6-43B7-A4E6-B3E2BC2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BC3-7C2B-4685-901D-E043EBC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8FC-6434-41B5-AF8C-AF2B591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152-9342-4195-8565-D9CA198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127A-86DC-4065-BB83-A128AF87E6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8624-C1E9-48C9-A5F0-F3F2F9014B3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Deutschland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Reichstagsgeb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ud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Alexanderplatz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Zoo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734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ünche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381880" cy="47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M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ünche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810240" cy="37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M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ünchens – die Frauenkirch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791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 Herz der Stadt – die Marie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äu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372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Residenz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utzutage gibt es hier Sammlungen und Mus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lte Pinakothek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Neue Pinakothek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Die Staatsflagge Deutschlands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er Englische Garte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62120" y="4633920"/>
            <a:ext cx="3886200" cy="22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Olympia - Stadio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utsches Museum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Wappen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as Symbol der Stadt – der K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ölner Dom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mit Glockenspie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Rathaus in der Nacht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Universit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ä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s Museum 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ür Ostasiatische Kun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66"/>
                </a:solidFill>
                <a:latin typeface="Arial"/>
              </a:rPr>
              <a:t>Das Wappen Deutschlands</a:t>
            </a:r>
            <a:endParaRPr b="1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er Karnev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as Symbol des Karneval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Das 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ischwass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öln am Rein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e Karte Deutschland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627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er Pr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äsident Deutschland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8672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Arial"/>
              </a:rPr>
              <a:t>Der Bundeskanzler Deutschlands</a:t>
            </a:r>
            <a:endParaRPr b="1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Berlin - die Hauptstadt Deutschland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as Wappen Berlins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6216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as Symbol Berlins – das Brandenburger Tor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</cp:lastModifiedBy>
  <dcterms:modified xsi:type="dcterms:W3CDTF">2010-03-01T15:17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