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38C-CE7D-41A4-ABCA-9A0E4046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94D-7DC2-4E83-B18E-8AD33F8D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4BA-568B-4AEB-9A73-338E4698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896-4458-457B-B479-76A8CE38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A23A-609B-4267-9EB4-10AE28D0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8880-D11A-4590-B3CF-3A34B7FF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4469-F04E-4CB2-95B1-7B38A190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7639-DE52-4497-9C9C-1D898A7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9BF-8E4C-41E5-8A5E-869B3D3E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B98C-B8F8-4A3F-A465-E92BCD7F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C539-64CB-4A6B-A7FC-027E3A6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80F-AACD-49D9-B68D-4D88A65B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2014-A8DC-47D2-AF63-6F4E89F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5D7F-D405-441B-AC65-6EA067FA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9905-01F0-4595-9BEB-D493EAE6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3047-24C3-4955-A992-E3404A33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3EC0-52A9-4E22-AD0F-47DF205C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107-FE32-4D99-B681-9CBD0D59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614-633D-4E5E-BE34-73CCAF0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2D5-8CC1-428F-A134-CBB52121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F81-B368-4E5F-8E28-EB05827E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3EB-EF42-4B1D-85F6-BCA2C926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537-6D65-4614-A48E-52A45967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FBC-718F-4E71-8F2B-0150BA0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9BA0-88FC-4573-95C8-34EA8BD5C2E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C0C5-F194-488F-80A5-410F30EAEB6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Deutschland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as Reichstagsgeb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äud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er Alexanderplatz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441936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er Zoo Berlin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7340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ünchen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8381880" cy="472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as Wappen M</a:t>
            </a:r>
            <a:r>
              <a:rPr b="1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ünchen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810240" cy="37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as Symbol M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ünchens – die Frauenkirch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79132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s Herz der Stadt – die Marie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äu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3722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er Residenz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utzutage gibt es hier Sammlungen und Mus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5105520" cy="35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Alte Pinakothek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343400" cy="4419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Neue Pinakothek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5181480" cy="4495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Die Staatsflagge Deutschlands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er Englische Garte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4495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62120" y="4633920"/>
            <a:ext cx="3886200" cy="222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Olympia - Stadio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eutsches Museum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429000" cy="4419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Das Wappen 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as Symbol der Stadt – der K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ölner Dom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as Rathaus mit Glockenspiel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as Rathaus in der Nacht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6095880" cy="464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ie Universit</a:t>
            </a:r>
            <a:r>
              <a:rPr b="1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ä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5105520" cy="4343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s Museum f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ür Ostasiatische Kun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66"/>
                </a:solidFill>
                <a:latin typeface="Arial"/>
              </a:rPr>
              <a:t>Das Wappen Deutschlands</a:t>
            </a:r>
            <a:endParaRPr b="1" lang="en-US" sz="4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er Karnev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72428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as Symbol des Karneval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Das 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ischwass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32004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48387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 am Rein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ie Karte Deutschland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627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er Pr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äsident Deutschland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58672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Arial"/>
              </a:rPr>
              <a:t>Der Bundeskanzler Deutschlands</a:t>
            </a:r>
            <a:endParaRPr b="1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Berlin - die Hauptstadt Deutschland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as Wappen Berlin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9621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as Symbol Berlins – das Brandenburger Tor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</cp:lastModifiedBy>
  <dcterms:modified xsi:type="dcterms:W3CDTF">2010-03-01T15:17:3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