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4.gif" ContentType="image/gif"/>
  <Override PartName="/ppt/media/image3.gif" ContentType="image/gif"/>
  <Override PartName="/ppt/media/image1.jpeg" ContentType="image/jpeg"/>
  <Override PartName="/ppt/media/image4.gif" ContentType="image/gif"/>
  <Override PartName="/ppt/media/image5.gif" ContentType="image/gif"/>
  <Override PartName="/ppt/media/image8.wmf" ContentType="image/x-wmf"/>
  <Override PartName="/ppt/media/image9.png" ContentType="image/png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2.png" ContentType="image/png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F583-83D4-4873-AE33-2DA95D648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BBD8-AF87-4077-A814-50E7E46D6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FC09-7DD3-4E8C-AF53-0C6461C3B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0677-5B0E-413B-9A48-431DD9D0A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32A9-D9C3-42E9-A90A-B52FF3459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CA4F-A221-499C-8698-805F82896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BA76-8D03-4299-8A91-1D2EA8779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050C-F729-47FB-AE4B-7C15EC76E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BFC5-3140-4403-8C8B-3086B0DF6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1BA0-4248-4A29-9BE2-0E2376C5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274F-A5C1-41AE-856A-1B4EA6424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7BFD-3202-471E-9004-F1BE24F7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509CA-514E-492E-BA18-8EF3881598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2" descr="рамка полотно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92000" y="1125360"/>
            <a:ext cx="6048360" cy="482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Monotype Corsiva"/>
              </a:rPr>
              <a:t>Факториа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оле 4"/>
          <p:cNvSpPr/>
          <p:nvPr/>
        </p:nvSpPr>
        <p:spPr>
          <a:xfrm>
            <a:off x="3924360" y="443700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9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91520" cy="17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семье – шесть человек, а за столом в кухне – шесть стульев. В семье решили каждый вечер, ужиная, рассаживаться на эти шесть стульев по-новому. Сколько дней члены семьи смогут делать это без повторени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Для удобства будем считать , что семья (бабушка, дедушка, мама, папа, дочь, сын) будет рассаживаться поочеред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 бабушки – 6 вариантов выбора сту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 дедушки – 5 вариантов выбора сту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 мамы – 4 варианта выбора сту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 папы – 3 варианта выбора сту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 дочери – 2 варианта выбора сту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 сына – 1 вариант выбора сту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По правилу умножения: 6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×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Arial"/>
              </a:rPr>
              <a:t>5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×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Arial"/>
              </a:rPr>
              <a:t>4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×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Arial"/>
              </a:rPr>
              <a:t>3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×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Arial"/>
              </a:rPr>
              <a:t>2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×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Arial"/>
              </a:rPr>
              <a:t>1 = 720 (дне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4" descr="Mouse28"/>
          <p:cNvPicPr/>
          <p:nvPr/>
        </p:nvPicPr>
        <p:blipFill>
          <a:blip r:embed="rId1"/>
          <a:stretch/>
        </p:blipFill>
        <p:spPr>
          <a:xfrm>
            <a:off x="6622920" y="3933720"/>
            <a:ext cx="2521080" cy="12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6300"/>
                            </p:stCondLst>
                            <p:childTnLst>
                              <p:par>
                                <p:cTn id="2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8400"/>
                            </p:stCondLst>
                            <p:childTnLst>
                              <p:par>
                                <p:cTn id="3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2400"/>
                            </p:stCondLst>
                            <p:childTnLst>
                              <p:par>
                                <p:cTn id="4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4300"/>
                            </p:stCondLst>
                            <p:childTnLst>
                              <p:par>
                                <p:cTn id="5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6300"/>
                            </p:stCondLst>
                            <p:childTnLst>
                              <p:par>
                                <p:cTn id="6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8150"/>
                            </p:stCondLst>
                            <p:childTnLst>
                              <p:par>
                                <p:cTn id="7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-360" y="1844640"/>
            <a:ext cx="8785080" cy="48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изведение подряд идущих первых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натуральных чисел обозначают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! и называют «эн факториал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! = 1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2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3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4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- 2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– 1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acto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» -  «множител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«эн факториал» - «состоящий из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множителей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4" descr="Копия h16"/>
          <p:cNvPicPr/>
          <p:nvPr/>
        </p:nvPicPr>
        <p:blipFill>
          <a:blip r:embed="rId1"/>
          <a:stretch/>
        </p:blipFill>
        <p:spPr>
          <a:xfrm>
            <a:off x="0" y="4653000"/>
            <a:ext cx="1297080" cy="1157400"/>
          </a:xfrm>
          <a:prstGeom prst="rect">
            <a:avLst/>
          </a:prstGeom>
          <a:ln w="0">
            <a:noFill/>
          </a:ln>
        </p:spPr>
      </p:pic>
      <p:sp>
        <p:nvSpPr>
          <p:cNvPr id="50" name="Объект WordArt 5"/>
          <p:cNvSpPr txBox="1"/>
          <p:nvPr/>
        </p:nvSpPr>
        <p:spPr>
          <a:xfrm rot="550800">
            <a:off x="684000" y="333360"/>
            <a:ext cx="727236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248000"/>
                </a:gradFill>
                <a:latin typeface="Impact"/>
              </a:rPr>
              <a:t>Определение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248000"/>
              </a:gradFill>
              <a:latin typeface="Impact"/>
              <a:ea typeface="Impact"/>
            </a:endParaRPr>
          </a:p>
        </p:txBody>
      </p:sp>
      <p:pic>
        <p:nvPicPr>
          <p:cNvPr id="51" name="Рисунок 6" descr="Копия h17"/>
          <p:cNvPicPr/>
          <p:nvPr/>
        </p:nvPicPr>
        <p:blipFill>
          <a:blip r:embed="rId2"/>
          <a:stretch/>
        </p:blipFill>
        <p:spPr>
          <a:xfrm>
            <a:off x="7826400" y="3068640"/>
            <a:ext cx="1317600" cy="11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9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Овал 35"/>
          <p:cNvSpPr/>
          <p:nvPr/>
        </p:nvSpPr>
        <p:spPr>
          <a:xfrm>
            <a:off x="2268360" y="5157720"/>
            <a:ext cx="525636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0" y="1413000"/>
          <a:ext cx="9144000" cy="3095640"/>
        </p:xfrm>
        <a:graphic>
          <a:graphicData uri="http://schemas.openxmlformats.org/drawingml/2006/table">
            <a:tbl>
              <a:tblPr/>
              <a:tblGrid>
                <a:gridCol w="368280"/>
                <a:gridCol w="291960"/>
                <a:gridCol w="1150920"/>
                <a:gridCol w="1413000"/>
                <a:gridCol w="1411200"/>
                <a:gridCol w="1619280"/>
                <a:gridCol w="1677960"/>
                <a:gridCol w="1211400"/>
              </a:tblGrid>
              <a:tr h="15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∙2=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!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∙3 =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!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∙4=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!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∙5=1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!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∙6=7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!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∙7=   =50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Объект WordArt 31"/>
          <p:cNvSpPr txBox="1"/>
          <p:nvPr/>
        </p:nvSpPr>
        <p:spPr>
          <a:xfrm>
            <a:off x="1547640" y="333360"/>
            <a:ext cx="6696360" cy="1366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5126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Таблица факториал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55" name="Рисунок 32" descr="мышнок пишет"/>
          <p:cNvPicPr/>
          <p:nvPr/>
        </p:nvPicPr>
        <p:blipFill>
          <a:blip r:embed="rId1"/>
          <a:stretch/>
        </p:blipFill>
        <p:spPr>
          <a:xfrm>
            <a:off x="7380360" y="4508640"/>
            <a:ext cx="1317600" cy="203184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33" descr="!!"/>
          <p:cNvPicPr/>
          <p:nvPr/>
        </p:nvPicPr>
        <p:blipFill>
          <a:blip r:embed="rId2"/>
          <a:stretch/>
        </p:blipFill>
        <p:spPr>
          <a:xfrm>
            <a:off x="684360" y="4941720"/>
            <a:ext cx="1295280" cy="1295640"/>
          </a:xfrm>
          <a:prstGeom prst="rect">
            <a:avLst/>
          </a:prstGeom>
          <a:ln w="0">
            <a:noFill/>
          </a:ln>
        </p:spPr>
      </p:pic>
      <p:sp>
        <p:nvSpPr>
          <p:cNvPr id="57" name="Поле 34"/>
          <p:cNvSpPr/>
          <p:nvPr/>
        </p:nvSpPr>
        <p:spPr>
          <a:xfrm>
            <a:off x="2411280" y="530064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! = 1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∙ 2 ∙ 3 ∙ ...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– 2) ∙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- 1) ∙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2" descr="бумага_рваная"/>
          <p:cNvPicPr/>
          <p:nvPr/>
        </p:nvPicPr>
        <p:blipFill>
          <a:blip r:embed="rId1"/>
          <a:stretch/>
        </p:blipFill>
        <p:spPr>
          <a:xfrm>
            <a:off x="1692360" y="0"/>
            <a:ext cx="5545080" cy="21859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! = (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- 1)!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 n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Объект 4"/>
              <p:cNvSpPr txBox="1"/>
              <p:nvPr/>
            </p:nvSpPr>
            <p:spPr>
              <a:xfrm>
                <a:off x="8172360" y="4365720"/>
                <a:ext cx="82728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,4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Рисунок 5" descr="98"/>
          <p:cNvPicPr/>
          <p:nvPr/>
        </p:nvPicPr>
        <p:blipFill>
          <a:blip r:embed="rId2"/>
          <a:stretch/>
        </p:blipFill>
        <p:spPr>
          <a:xfrm>
            <a:off x="684360" y="5373720"/>
            <a:ext cx="1195200" cy="919080"/>
          </a:xfrm>
          <a:prstGeom prst="rect">
            <a:avLst/>
          </a:prstGeom>
          <a:ln w="0">
            <a:noFill/>
          </a:ln>
        </p:spPr>
      </p:pic>
      <p:sp>
        <p:nvSpPr>
          <p:cNvPr id="62" name="Поле 6"/>
          <p:cNvSpPr/>
          <p:nvPr/>
        </p:nvSpPr>
        <p:spPr>
          <a:xfrm>
            <a:off x="826920" y="407664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мер:  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7!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∙ 4!      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  <a:ea typeface="Arial"/>
              </a:rPr>
              <a:t>6!∙ 7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∙ 4!       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6! ∙ 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  <a:ea typeface="Arial"/>
              </a:rPr>
              <a:t>5!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     6! ∙ 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  <a:ea typeface="Arial"/>
              </a:rPr>
              <a:t>4! ∙ 5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    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Линия 7"/>
          <p:cNvSpPr/>
          <p:nvPr/>
        </p:nvSpPr>
        <p:spPr>
          <a:xfrm>
            <a:off x="2843280" y="472428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Линия 8"/>
          <p:cNvSpPr/>
          <p:nvPr/>
        </p:nvSpPr>
        <p:spPr>
          <a:xfrm>
            <a:off x="4826160" y="473724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Линия 9"/>
          <p:cNvSpPr/>
          <p:nvPr/>
        </p:nvSpPr>
        <p:spPr>
          <a:xfrm>
            <a:off x="4356000" y="4653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Линия 10"/>
          <p:cNvSpPr/>
          <p:nvPr/>
        </p:nvSpPr>
        <p:spPr>
          <a:xfrm>
            <a:off x="4356000" y="4797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Линия 11"/>
          <p:cNvSpPr/>
          <p:nvPr/>
        </p:nvSpPr>
        <p:spPr>
          <a:xfrm>
            <a:off x="6877080" y="465300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Линия 12"/>
          <p:cNvSpPr/>
          <p:nvPr/>
        </p:nvSpPr>
        <p:spPr>
          <a:xfrm>
            <a:off x="6877080" y="479736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Линия 13"/>
          <p:cNvSpPr/>
          <p:nvPr/>
        </p:nvSpPr>
        <p:spPr>
          <a:xfrm>
            <a:off x="7308720" y="472428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Линия 14"/>
          <p:cNvSpPr/>
          <p:nvPr/>
        </p:nvSpPr>
        <p:spPr>
          <a:xfrm>
            <a:off x="7885080" y="4653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Линия 15"/>
          <p:cNvSpPr/>
          <p:nvPr/>
        </p:nvSpPr>
        <p:spPr>
          <a:xfrm>
            <a:off x="7885080" y="4797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16" descr="Рисунок10"/>
          <p:cNvPicPr/>
          <p:nvPr/>
        </p:nvPicPr>
        <p:blipFill>
          <a:blip r:embed="rId3"/>
          <a:stretch/>
        </p:blipFill>
        <p:spPr>
          <a:xfrm>
            <a:off x="6773760" y="2060640"/>
            <a:ext cx="237024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785440" cy="19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мер:</a:t>
            </a:r>
            <a:br>
              <a:rPr sz="3600"/>
            </a:b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Сколькими способами четыре вора могут по одному разбежаться на все четыре сторон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2060280"/>
            <a:ext cx="91440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шение: Пусть воры разбегаются поочеред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первого – 4 варианта выбо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второго – 3 варианта выб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третьего – 2 варианта выб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четвертого – 1 вариант выб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 правилу умножени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4 ∙ 3 ∙ 2 ∙ 1 = 4! = 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твет: 24 способ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5" descr="n5"/>
          <p:cNvPicPr/>
          <p:nvPr/>
        </p:nvPicPr>
        <p:blipFill>
          <a:blip r:embed="rId1"/>
          <a:stretch/>
        </p:blipFill>
        <p:spPr>
          <a:xfrm>
            <a:off x="7093080" y="2781360"/>
            <a:ext cx="1884240" cy="19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9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9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9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9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9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9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9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14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В 9 классе в среду семь уроков: алгебра, геометрия, литература, русский язык, английский язык, биология и физкультура. Сколько можно составить вариантов расписания на сред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3184560"/>
            <a:ext cx="752472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я алгебры – 7 вариантов расположения в расписа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я геометрии – 6 вариа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я литературы – 5 вариантов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 правилу умножения получа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∙ 6 ∙ 5 ∙ 4 ∙ 3 ∙ 2 ∙ 1 = 7! = 50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5" descr="album_1508082703_1812"/>
          <p:cNvPicPr/>
          <p:nvPr/>
        </p:nvPicPr>
        <p:blipFill>
          <a:blip r:embed="rId1"/>
          <a:stretch/>
        </p:blipFill>
        <p:spPr>
          <a:xfrm>
            <a:off x="7272360" y="4653000"/>
            <a:ext cx="1871640" cy="136368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8" descr="b17"/>
          <p:cNvPicPr/>
          <p:nvPr/>
        </p:nvPicPr>
        <p:blipFill>
          <a:blip r:embed="rId2"/>
          <a:stretch/>
        </p:blipFill>
        <p:spPr>
          <a:xfrm>
            <a:off x="7164360" y="2708280"/>
            <a:ext cx="1835280" cy="14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0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77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2" dur="77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4" dur="77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6" dur="77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77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2" dur="77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4" dur="77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6" dur="77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77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2" dur="77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4" dur="77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6" dur="77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2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77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6" dur="77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8" dur="77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0" dur="77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3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77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6" dur="77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8" dur="77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0" dur="77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Автофигура 2"/>
          <p:cNvSpPr/>
          <p:nvPr/>
        </p:nvSpPr>
        <p:spPr>
          <a:xfrm rot="781800">
            <a:off x="3276360" y="3716280"/>
            <a:ext cx="2952720" cy="1800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Arial"/>
              </a:rPr>
              <a:t>Теорема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различных элементов можно расставить по одному на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различных мест ровно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! способа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2636640"/>
            <a:ext cx="896472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исло всех перестановок множества из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элементов равна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 – перестанов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= 3! = 6,           Р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= 7! = 5040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5" descr="h41"/>
          <p:cNvPicPr/>
          <p:nvPr/>
        </p:nvPicPr>
        <p:blipFill>
          <a:blip r:embed="rId1"/>
          <a:stretch/>
        </p:blipFill>
        <p:spPr>
          <a:xfrm>
            <a:off x="6804000" y="1557360"/>
            <a:ext cx="2340000" cy="1228680"/>
          </a:xfrm>
          <a:prstGeom prst="rect">
            <a:avLst/>
          </a:prstGeom>
          <a:ln w="0">
            <a:noFill/>
          </a:ln>
        </p:spPr>
      </p:pic>
      <p:sp>
        <p:nvSpPr>
          <p:cNvPr id="84" name="Поле 6"/>
          <p:cNvSpPr/>
          <p:nvPr/>
        </p:nvSpPr>
        <p:spPr>
          <a:xfrm>
            <a:off x="2843280" y="249228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ли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8T05:53:45Z</dcterms:created>
  <dc:creator>DRAP</dc:creator>
  <dc:description/>
  <dc:language>en-US</dc:language>
  <cp:lastModifiedBy>Николай</cp:lastModifiedBy>
  <dcterms:modified xsi:type="dcterms:W3CDTF">2013-04-01T09:16:44Z</dcterms:modified>
  <cp:revision>5</cp:revision>
  <dc:subject/>
  <dc:title>Факториал</dc:title>
</cp:coreProperties>
</file>