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19B-2A0C-46B6-B0BF-83056756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A1D-88FB-4AC1-A3B6-66143E33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6C6-901D-4E7D-A79C-D6B69582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F40-E2C0-4BD1-AD85-7E20EF8F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895-5BA4-41BD-B87C-D6879148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92E-61AE-4D7E-BF34-A1E942A3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133-59F2-47F5-9DED-19F6F65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1C3-469E-4669-849F-80574E4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527-5371-4131-BC0F-41875FB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10A-8602-4980-BBB8-B895F6A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446-87D4-4C3A-9073-CC2C703B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511-7128-4661-9B0B-B7DF8A7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F42-CFB6-4DEA-B476-F0500E9F9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Николай</cp:lastModifiedBy>
  <dcterms:modified xsi:type="dcterms:W3CDTF">2013-04-01T09:16:44Z</dcterms:modified>
  <cp:revision>5</cp:revision>
  <dc:subject/>
  <dc:title>Факториал</dc:title>
</cp:coreProperties>
</file>