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7E45-EE02-4CE0-8474-AC068FA7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96C-BD7A-4363-9BBE-BE7F3E50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C9D1-9E32-48E6-8CC7-84D570E8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85C0-BF2A-4531-B8C7-BC408394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E89C-0B9F-4EB5-81A8-14FA0D7D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5FB-91C3-4C24-879A-53F36B94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A32-C0C8-48C0-88BF-6E8D3571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86E-8B0C-4B44-AC81-582135B6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5E2-12EF-435D-AD9A-3D02C2E1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3DB-DB3F-4234-A013-2B7590BF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0577-9B98-47B6-949B-3286CEFE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3BF-24FB-4DAA-ADDB-BBA58967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1117-385B-4FAC-8B29-78060C11E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2b2b2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ономика и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ница МОУСОШ № 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има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Ю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того чтобы получить одну тонну алюминия, металлургам нужно 4-8 тонн руды. Для получения одной тонны меди требуется от 20 до 150 тонн ру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6477120"/>
            <a:ext cx="5934240" cy="18576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ю обратную сторону имеет и электроэнергетика. Чтобы построить гидроэлектростанцию, реку перегораживают плотиной. Выше плотины река разливается и затапливает плодородные земли и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90720" y="61722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50000">
              <a:srgbClr val="0000ff"/>
            </a:gs>
            <a:gs pos="100000">
              <a:srgbClr val="00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постройке некоторых плотин под воду уходили целые деревни и города, из которых приходилось отсеять ж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52480" y="5334120"/>
            <a:ext cx="5715000" cy="95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52480" y="4648320"/>
            <a:ext cx="4496040" cy="745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тепловых электростанциях сжигают топливо, а ядовитый дым загрязняет возду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18426600">
            <a:off x="838080" y="685080"/>
            <a:ext cx="299880" cy="300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 rot="19776000">
            <a:off x="7924320" y="60444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500720" y="3357720"/>
            <a:ext cx="376200" cy="3762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50000">
              <a:srgbClr val="0033cc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атомных электростанциях применяют атомное топливо, которое очень опасно для всего живого. Если на такой электростанции случится авария, могут погибнуть или тяжело заболеть очень многие 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асные отходы выбрасывают в окружающую среду предприятия химической промышл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772400" y="205740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 и сама их продукция не всегда только полезна. Стиральные порошки и моющие средства, попадая через канализацию в реки и озёра, загрязняют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266760" cy="26676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а из важнейших задач общества в 21 веке – сделать экономику как можно более безопасной для людей и для всей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14800" y="495288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352680" y="4952880"/>
            <a:ext cx="300240" cy="300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876920" y="495288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343400" y="5638680"/>
            <a:ext cx="299880" cy="376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5486400" y="4800600"/>
            <a:ext cx="376200" cy="325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2819520" y="495288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914400" y="990720"/>
            <a:ext cx="114480" cy="1141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5000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будет, есл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во «прогноз» означает «научное предсказание». Конечно, прогнозы погоды ты слышал не раз. Но бывают  ещё 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ологические прогнозы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ченые-экологи, используя свои знания, предсказывают, к каким последствиям может привести то или иное вмешательство человека в при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будет, есл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 могут предсказать, например, что будет, ес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ойдет авария нефтеналивного танк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реке построят плоти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зеро сбросят ядовитые отходы произв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299880" cy="29988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2b2b2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ерпело аварию судно, которое везло нефть. Нефть вылилась в море. Растеклась по поверхности воды. Покрыла бере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77120" y="48006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077320" y="48006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315200" y="5410080"/>
            <a:ext cx="133200" cy="133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15200" y="464832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419720" y="337176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315200" y="4038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e5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будет, есл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 помогают решить, будет ли безопасным для окружающей среды предприятие, которое предполагается построить, можно ли его строить в том или ином 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038480" y="5638680"/>
            <a:ext cx="376200" cy="32544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будет, есл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ческие прогнозы могут уберечь людей от многих необдуманных поступков, опасных и для природы, и для сам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будет, есл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я подсказывает, как лучше вести хозяйство, чтобы сохранить природу, не повредить человеку. В этом огромное значение науки экологии для экономики и наше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267080" y="5791320"/>
            <a:ext cx="362160" cy="3618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изненно важное прави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зяйственная деятельность людей наносит окружающей среде большой вред. Задачей общества – сделать экономику как можно более безопасной для людей и для всей природы. Решать эту важнейшую задачу помогает наука эколог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рские гига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ые большие нефтеналивные танкеры вмещают столько нефти, сколько могут перевезти 10 тысяч железнодорожных цистерн! Если все эти цистерны соединить в один поезд, он будет длинной 150 километров. Представь, что вся эта нефть выльется в море… Неудивительно, что аварии танкеров приводят к очень тяжелым экологическим последств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153280" y="2133720"/>
            <a:ext cx="300240" cy="2998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А. Плешаков Окружающий  мир 2 ча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0574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ff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радали птицы и рыбы. Многие погибли. Некоторые из рыб уплыли подальше от опасного 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95680" y="480060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4038480"/>
            <a:ext cx="133560" cy="13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29200" y="4267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733920" y="419112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876920" y="7621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коре погибнут водоросли, крабы, моллюски. Они задохнутся , им не будет хватать кислорода. Люди не смогут здесь отдыхать, не смогут ловить ры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29240" y="421020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21345000">
            <a:off x="5905440" y="4481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 rot="13642200">
            <a:off x="3962160" y="441936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846d0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нефть, попавшая в море, вызвала в  природе настоящую катастрофу. Экологическую катастроф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пример того, как экономика поворачивается к людям другой своей стороной – опасной и неприят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124080" y="495288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343400" y="4952880"/>
            <a:ext cx="1143000" cy="8575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экономики две  стороны. Одна это та необходимая и полезная продукция, без которой ни отдельному человеку, ни всему обществу не пр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2578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886200" y="6496200"/>
            <a:ext cx="361800" cy="361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533520" y="99072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924680" y="1143000"/>
            <a:ext cx="376200" cy="376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7543800" y="43434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5943600" y="43434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1676520" y="4648320"/>
            <a:ext cx="114120" cy="1141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другая – вред, который наносится окружающей среде при производстве этой проду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62520" y="228600"/>
            <a:ext cx="780840" cy="343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315200" y="762120"/>
            <a:ext cx="619200" cy="272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04920" y="762120"/>
            <a:ext cx="618840" cy="272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4038480" y="1219320"/>
            <a:ext cx="695520" cy="306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828800" y="6783480"/>
            <a:ext cx="4457880" cy="745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отрасли экономики в той или иной мере вредят окружающей среде. Сельское хозяйство, к примеру, отравляет почву ядохимикат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5334120"/>
            <a:ext cx="4886280" cy="1141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анспорт загрязняет воздух выхлопными газ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чень много вреда природе и здоровью людей наносит промышленность. Вот несколько при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71600" y="6696000"/>
            <a:ext cx="5952960" cy="162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5933880" cy="20016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1-12-31T11:50:4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