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186-EA9E-48E4-9C83-600D5DA4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0E6-DEF9-4B71-B464-741F4E7F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FD4-2B15-45F0-A05D-B472AC76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29E-47D2-4E88-B7A5-C87B16A8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005-C24D-44DC-B5C7-91ECE5D9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0F1-1BAB-4250-B6E1-405E04FA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A2E-D501-41C5-B49C-111DE7AC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8EA-1AE0-4503-AF87-8143A8FF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64A-A084-4F6C-9D70-9FA0DC6B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77B-20AF-4192-9798-C236035E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E92-83D5-46A2-8E99-4D6A1FDC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5FE-9C60-4E62-BB2B-EB29604D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3E89-A170-4415-8508-5DF8846E1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2b2b2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номика 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ца МОУСОШ №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а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того чтобы получить одну тонну алюминия, металлургам нужно 4-8 тонн руды. Для получения одной тонны меди требуется от 20 до 150 тонн ру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6477120"/>
            <a:ext cx="5934240" cy="1857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ю обратную сторону имеет и электроэнергетика. Чтобы построить гидроэлектростанцию, реку перегораживают плотиной. Выше плотины река разливается и затапливает плодородные земли и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61722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50000">
              <a:srgbClr val="0000ff"/>
            </a:gs>
            <a:gs pos="100000">
              <a:srgbClr val="00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постройке некоторых плотин под воду уходили целые деревни и города, из которых приходилось отсеять ж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2480" y="533412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4648320"/>
            <a:ext cx="4496040" cy="745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тепловых электростанциях сжигают топливо, а ядовитый дым загрязняет возду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18426600">
            <a:off x="838080" y="685080"/>
            <a:ext cx="299880" cy="300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rot="19776000">
            <a:off x="7924320" y="6044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50000">
              <a:srgbClr val="0033cc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атомных электростанциях применяют атомное топливо, которое очень опасно для всего живого. Если на такой электростанции случится авария, могут погибнуть или тяжело заболеть очень многие 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асные отходы выбрасывают в окружающую среду предприятия химической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772400" y="205740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 и сама их продукция не всегда только полезна. Стиральные порошки и моющие средства, попадая через канализацию в реки и озёра, загрязняют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266760" cy="2667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а из важнейших задач общества в 21 веке – сделать экономику как можно более безопасной для людей и для всей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352680" y="4952880"/>
            <a:ext cx="300240" cy="300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876920" y="49528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343400" y="5638680"/>
            <a:ext cx="299880" cy="376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486400" y="4800600"/>
            <a:ext cx="376200" cy="3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819520" y="495288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914400" y="990720"/>
            <a:ext cx="114480" cy="1141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5000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о «прогноз» означает «научное предсказание». Конечно, прогнозы погоды ты слышал не раз. Но бывают  ещё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ологические прогноз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ченые-экологи, используя свои знания, предсказывают, к каким последствиям может привести то или иное вмешательство человека в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 могут предсказать, например, что будет, 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ойдет авария нефтеналивного танк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реке построят плоти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зеро сбросят ядовитые отходы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99880" cy="2998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2b2b2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ерпело аварию судно, которое везло нефть. Нефть вылилась в море. Растеклась по поверхности воды. Покрыла бер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7120" y="48006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077320" y="48006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15200" y="54100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15200" y="46483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419720" y="337176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315200" y="4038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e5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 помогают решить, будет ли безопасным для окружающей среды предприятие, которое предполагается построить, можно ли его строить в том или ином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038480" y="5638680"/>
            <a:ext cx="376200" cy="32544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е прогнозы могут уберечь людей от многих необдуманных поступков, опасных и для природы, и для сам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я подсказывает, как лучше вести хозяйство, чтобы сохранить природу, не повредить человеку. В этом огромное значение науки экологии для экономики и наше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67080" y="5791320"/>
            <a:ext cx="362160" cy="3618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зненно важное прави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зяйственная деятельность людей наносит окружающей среде большой вред. Задачей общества – сделать экономику как можно более безопасной для людей и для всей природы. Решать эту важнейшую задачу помогает наука эколо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рские гиг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е большие нефтеналивные танкеры вмещают столько нефти, сколько могут перевезти 10 тысяч железнодорожных цистерн! Если все эти цистерны соединить в один поезд, он будет длинной 150 километров. Представь, что вся эта нефть выльется в море… Неудивительно, что аварии танкеров приводят к очень тяжелым экологическим последств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153280" y="2133720"/>
            <a:ext cx="300240" cy="299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А. Плешаков Окружающий  мир 2 ча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адали птицы и рыбы. Многие погибли. Некоторые из рыб уплыли подальше от опасного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48006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40384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733920" y="41911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876920" y="7621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коре погибнут водоросли, крабы, моллюски. Они задохнутся , им не будет хватать кислорода. Люди не смогут здесь отдыхать, не смогут ловить ры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29240" y="421020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21345000">
            <a:off x="5905440" y="4481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13642200">
            <a:off x="3962160" y="4419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846d0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нефть, попавшая в море, вызвала в  природе настоящую катастрофу. Экологическую катастроф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имер того, как экономика поворачивается к людям другой своей стороной – опасной и неприят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343400" y="4952880"/>
            <a:ext cx="1143000" cy="8575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экономики две  стороны. Одна это та необходимая и полезная продукция, без которой ни отдельному человеку, ни всему обществу не пр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2578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86200" y="649620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33520" y="9907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924680" y="114300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7543800" y="43434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5943600" y="4343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1676520" y="4648320"/>
            <a:ext cx="114120" cy="1141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другая – вред, который наносится окружающей среде при производстве этой прод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228600"/>
            <a:ext cx="780840" cy="34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315200" y="762120"/>
            <a:ext cx="619200" cy="272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04920" y="762120"/>
            <a:ext cx="618840" cy="272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038480" y="1219320"/>
            <a:ext cx="695520" cy="30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828800" y="6783480"/>
            <a:ext cx="4457880" cy="745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отрасли экономики в той или иной мере вредят окружающей среде. Сельское хозяйство, к примеру, отравляет почву ядохимикат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5334120"/>
            <a:ext cx="4886280" cy="1141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нспорт загрязняет воздух выхлопными газ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нь много вреда природе и здоровью людей наносит промышленность. Вот несколько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6696000"/>
            <a:ext cx="5952960" cy="16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933880" cy="2001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1-12-31T11:50:4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