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534F-A32F-45A3-B8C3-2547DE80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B80D-EB55-467C-A2D2-76299167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39DF-DBFE-47D5-B086-919711F0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2085-13F6-4B5A-BA95-6B5A0745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F6EB-161A-470B-BFF3-956BBC35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1B3D-39A6-4892-8947-81901E32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1C24-A481-4D16-B3F6-E8D97BBB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F76C-94D1-469C-8C51-8C15487C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0A59-B6AD-4233-B55E-947AA6A8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40FF-F295-48AF-A2F3-6CA85F4A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7528-281A-4A50-B6C1-3D2AB833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39C-385F-403B-8CC0-5307C851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552D-CF5E-48EB-B8E8-211FE511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2043-3C0D-441E-BEB3-58AF26F2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4B67-1CDC-4163-A3D5-067EC35C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12B4-5A84-4C9A-B2A9-FC2A325D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72A0-E019-4D8C-B095-187FB217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5E04E-F15D-445F-B72B-3C0D52B0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D1DA6-4DD3-48F8-AAB0-CF6792A3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2B378-BE5B-4E4D-8B65-1411E139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138B9-3A16-4B08-BE0B-E5BA22BD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1F5F2-B9C5-4489-AF96-EABF0C4F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E81-1C11-4223-A5D9-1E0079F7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1ED12-73E2-4B23-AA0F-FB021DDB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F0A17-592E-4FC9-9B15-A668C4E7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B3B19-529E-4F37-A5C6-7F7B291F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D6BFA-8A0B-4965-8700-B38B2A04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B15BD-7BC8-4770-8E22-75CEF379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16705-EBAA-4020-97AF-8F1CD8BA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50B7C-5B41-48EF-9512-B23BBD85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7BD3D-C9E5-4E25-A018-DF188F64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30724-8880-48CA-84E2-67EF6A8A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7C901-7236-4F14-A556-DA9E887F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316-17E3-4EE4-91D5-60A3A2DD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6E49A-BD71-4786-B58A-C582DCD5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91F5C-FB04-4CA1-85BB-83EA8F9F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842D4-9DEA-4B2E-9B88-ED2C5992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5BB2D-0EFC-4690-B532-F2E03D22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39CD8-6581-4AC0-AEA4-BDEC9627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94B12-159D-4E12-9CDE-B3D40097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CB506-1F1A-4E1C-8BD4-984B7A87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D7A62-E18D-4DCE-8F92-C93E0636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A9825-2DE6-4302-A13F-F714FBCA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60116-FDCA-4613-AE34-47F5A060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E7B4-F572-4DCD-AB52-85FF99CE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371E8-4137-49FE-BBB5-DDB56A47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7087B-3B3E-4BF8-BF60-EFA7EF91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5CE6E-3DDB-4657-89D6-95C604AC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2302F-265A-4B46-BBE0-F7AD979D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FBE05-65E0-4804-8C58-9896E113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E2BF3-B27B-4DCC-90BF-CAE7EF73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A4342-AE70-4F43-B77F-BAB8C171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2760F-B986-45CA-A888-553AFACF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ED5CA-3136-4483-AFF3-C57B8C8C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41055-F96A-4143-B51C-6D4302C4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D458-C7D4-490F-A19D-C5FC494B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8C921-466B-42EA-BE85-C1CF59CC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BCC-3651-44F3-9460-BE135FAB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642-D54B-455A-BEB6-4191FFDA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730A-3F3A-407C-98C7-62C82346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A039-5917-4939-A15C-5C5AAAE43B7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2062-A1F7-48A1-88F8-5A1CE976D69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D512-6544-4419-B26A-50E81F8B695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6B3B-8CDE-490D-BDEC-BE5DA232734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4F16-180B-42F9-A658-D3E2969EA06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yazone.com/uploads/posts/1194243810_1163161158_42pozitivchi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500440" y="3286080"/>
            <a:ext cx="3429000" cy="33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Cambria"/>
              </a:rPr>
              <a:t>В чем причины детского непослушания или ошибочные цел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Презентацию подготовил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педагог-психолог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Шевченко Ольга Григорьевна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МАДОУ «Детский сад № 424» г. Перми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тское непослушание </a:t>
            </a:r>
            <a:endParaRPr b="0" lang="en-US" sz="8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0" name="Picture 27" descr="http://cryazone.com/uploads/posts/thumbs/1194243810_1163161158_42pozitivchi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3143160"/>
            <a:ext cx="464364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8186760" cy="987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34817"/>
                </a:solidFill>
                <a:latin typeface="Calibri"/>
              </a:rPr>
              <a:t>ПСИХОЛОГАМИ ВЫДЕЛЕНЫ ЧЕТЫРЕ ОСНОВНЫХ МОТИВА БЫТЬ НЕПОСЛУШНЫМ:</a:t>
            </a: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905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14800" y="1600200"/>
            <a:ext cx="547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mbria"/>
              </a:rPr>
              <a:t>Недостаток внимания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. Ребенок не получает того количества внимания, в котором нуждается. Родителям часто не хватает времени и сил, чтобы поиграть, поговорить, позаниматься с ребенком, но для того чтобы поругать или наказать, они всегда его найдут (говорят – это же и есть «воспитание»)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mbria"/>
              </a:rPr>
              <a:t>Борьба за самоутверждение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. Непослушанием ребенок проявляет свою самостоятельность, свой выбор, протестует против чрезмерной родительской опеки. Это происходит в том случае, когда родители пытаются предупредить каждый шаг ребенка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mbria"/>
              </a:rPr>
              <a:t>Желание отомстить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. Когда мы что-то пообещали и не выполнили, несправедливо наказали, даже не выслушав его объяснения. И ребенок начинает действовать по принципу «Вы мне сделали плохо, и я вам»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mbria"/>
              </a:rPr>
              <a:t>Потеря веры в собственный успех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. Это если взрослые слишком часто повторяют ребенку, что он тупица, криворукий и что он вообще в жизни ничего не добьется, ему ничего другого не остается, как только подтверждать своим поведением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Самое важное – понять, что ребенок делает что-то «не так» не «вам назло». Задача взрослого – разобраться, были ли веские причины у поступка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4" name="Содержимое 4" descr="Детская психология"/>
          <p:cNvPicPr/>
          <p:nvPr/>
        </p:nvPicPr>
        <p:blipFill>
          <a:blip r:embed="rId1"/>
          <a:stretch/>
        </p:blipFill>
        <p:spPr>
          <a:xfrm>
            <a:off x="785880" y="157176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Детская психология"/>
          <p:cNvPicPr/>
          <p:nvPr/>
        </p:nvPicPr>
        <p:blipFill>
          <a:blip r:embed="rId2"/>
          <a:stretch/>
        </p:blipFill>
        <p:spPr>
          <a:xfrm>
            <a:off x="857160" y="4000680"/>
            <a:ext cx="2000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ЕТЫРЕ ЦВЕТОВЫХ ЗОН ПОВЕДЕНИЯ РЕБЕНКА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7" name="Содержимое 5" descr="http://moikompas.ru/img/compas/2008-11-15/crazy_baby/81277249.jpg"/>
          <p:cNvPicPr/>
          <p:nvPr/>
        </p:nvPicPr>
        <p:blipFill>
          <a:blip r:embed="rId1"/>
          <a:stretch/>
        </p:blipFill>
        <p:spPr>
          <a:xfrm>
            <a:off x="500040" y="1500120"/>
            <a:ext cx="2770200" cy="4572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3357720" y="1447560"/>
            <a:ext cx="55720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Зеленая зон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то, что разрешается ребенку по его собственному усмотрению или желанию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mbria"/>
              </a:rPr>
              <a:t>Желтая зон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действия, в которых ребенку предоставляется относительная свобод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4817"/>
                </a:solidFill>
                <a:latin typeface="Cambria"/>
              </a:rPr>
              <a:t>Оранжевая зон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ребенка, которые, в общем, нами не приветствуются, но в виду особых обстоятельств сейчас допускаютс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b2d1f"/>
                </a:solidFill>
                <a:latin typeface="Cambria"/>
              </a:rPr>
              <a:t>Красная зон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действия, не приемлемые ни при каких обстоятельствах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22880" cy="1071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сли Вы хотите сначала сами попробовать справиться с проблемой, то Вам следует: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22160" y="257148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1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стись терпением, хорошо отдохнуть и выспаться, купить литературу по интересующей проблеме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2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 и ваш супруг или супруга готовы вместе обсудить поведение непослушного и любимого ребенка. Если слово «любимого» вызвало бурю негативных эмоций, вернитесь к Шагу 1. Возможно, надо будет пополнить Вашу домашнюю библиотеку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3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пробуйте посмотреть на ситуацию глазами ребенка. Восприятие мира у детей отличается от восприятия взрослых, даже незначительные изменения в семье или конфликтные ситуации могут восприниматься ими как сверхзначимые. Возможности логического мышления еще ограничены возрастом и окрашены особенностями возрастного психологического созревания. Вам не следует идти на поводу и во всем уступать, границы и законы внутрисемейного общения будут базой социальной адаптации и успешности ребенка. Может, Вы увидите в непослушном чаде себя в этом возрасте и вспомните, как вашим родителям удавалось справляться в этих ситуациях. Хочется ли Вам повторить опыт ваших родителей?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4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щите виновных. Если Вам удастся помочь ребенку в конструктивном взаимодействии с внешним миром, и Вы найдете возможность диалога, а не войны в семье – то Вы уже на верном пути. Но, если Вам покажется, что весь мир несправедлив именно по отношению к Вашему чаду, или Ваш ребенок или другой член семьи виновны в происходящем – это решение, к сожалению, Вам ничем не поможет в воспитании непослушного ребенка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286400" cy="2028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d34817"/>
                </a:solidFill>
                <a:latin typeface="Calibri"/>
              </a:rPr>
              <a:t>10 правил как научить ребёнка слушаться</a:t>
            </a:r>
            <a:br>
              <a:rPr sz="3600"/>
            </a:br>
            <a:endParaRPr b="0" lang="en-US" sz="4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9680" y="2714400"/>
            <a:ext cx="7994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1. Не отменяйте требования и распоряжения без крайней необходимости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2. Просьбы и распоряжения должны быть сформулированы ясно и четко. 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3. Приучайте детей сразу же выполнять порученное задание и слушаться с первого слова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4. В присутствии детей у родителей не должно быть разногласий, если же произошла ссора, то восстановить мир и согласие необходимо также в присутствии детей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5. Не оставляйте без наказания непослушание, усиливая наказание при повторном непослушании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6. Не изменяйте требований, разрешая сегодня то, что было запрещено вчера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7. Не командуйте постоянно детьми и не давайте им слишком частых приказаний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8. Давайте ребенку посильные задания (слишком легкие также плохи, как и слишком сложные)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9. Не позволять детям фамильярного к себе отношения (любовь, ласка и нежность должны сочетаться с уважением и почтением)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10. Сами давайте положительный пример. 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писок литературы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mbria"/>
              </a:rPr>
              <a:t>Интернет стать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mbria"/>
              </a:rPr>
              <a:t>Педагогика взаимодействия. О.В.Москалюк, Л.В. Погонцева, Волгоград,2010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08:01:37Z</dcterms:created>
  <dc:creator>Admin</dc:creator>
  <dc:description/>
  <dc:language>en-US</dc:language>
  <cp:lastModifiedBy>Ольга</cp:lastModifiedBy>
  <dcterms:modified xsi:type="dcterms:W3CDTF">2010-06-22T09:19:55Z</dcterms:modified>
  <cp:revision>15</cp:revision>
  <dc:subject/>
  <dc:title>Детское непослушание</dc:title>
</cp:coreProperties>
</file>