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B96-80A5-41C5-8B0D-1B6028C7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50F-C628-4A53-81EA-2DDCC92A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03B-C5B2-4104-A6E9-F2A3CF36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8B8-4154-4007-ADDB-EDF63BC4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4009-5E84-43B0-B430-9D9EED61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258D-58DD-483C-AECA-9A1052FC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2D97-E0AB-47B1-8CC8-F829F3A5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C8C0-B72C-4626-8AC1-FFA8F528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47BC-9E2C-42F4-A3BE-E3D38372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C752-50A7-4302-AA80-F0B86DA3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8FD5-3496-4FC3-AE1A-0FCE1047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55D-7DAB-4B58-8187-B1ACC323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6999-573F-481A-B3AE-488349DF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9CB0-A125-48A8-A678-A07F8EE0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A3F3-8F35-443A-9B6B-6BE99901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2017-B5D4-4D8C-824C-6598A8EC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5A2F-3906-483C-8C8A-99792726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4DC1D-E99B-405D-BCFB-5D15B7F5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8356-1F77-4F4D-875C-4C0BB120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5D22E-00B0-48D0-9FD7-CAB551A7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B4EA7-58C2-4B3A-8899-361E0E25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495CC-5A91-4EF7-ACC6-0946F245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704-347E-4D56-B167-AB9B2B1E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DA086-144F-456A-A5EA-C9664070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7C4BB-6EBC-4326-8852-419A528F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0ADE-2C3E-4F06-8CDE-FE6F9DC2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F3A1C-583F-4A82-BE9E-73CB3260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A067C-F95E-4272-A51C-0CF122E2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91C19-3CAC-46A4-89B9-5F2063AA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A7B71-9D4D-4384-ADB7-BF42112A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A8623-C12B-4469-9E40-DA468861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15F62-FC06-4FA4-95B1-F1B80A1B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76C4F-F627-413E-8E45-B16C725F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A47-BE0A-434C-A469-B28B7466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52FD6-CD23-4415-B039-4D727B3B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33EC4-9FD2-4626-8169-DCAA34D5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231B4-3738-4B75-9FB7-330D45B8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7A466-8F51-4AED-BEDE-18780374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167AC-E50C-49CF-889E-A1DFF0C7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59055-A91F-4D23-B4DC-225A7DC5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21F6E-4ED4-4F9B-BA8C-352279AC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2C7FB-211F-4C4A-ADD7-43A39CC1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E7F40-6242-4D25-A650-E91B4164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02A32-5FB7-4954-8310-0B0E9BF6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F98-45E2-498F-867A-AC6653F7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A5791-C8C6-414B-9B60-B96E0085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6467B-AA1B-40B9-9B87-038DE475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33616-4C35-4066-BF66-CFA3AF75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F6F87-3DA0-4269-BBD2-AE8170CF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0CCF1-A7B9-4081-8750-04D4CBDB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36B23-6092-4E48-AAB7-A828C608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41F2C-4104-4883-AD19-94CD4255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A6328-99E1-4278-9D18-47C17C0D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1A83B-75E5-412C-BEB6-FDF8E329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C9621-6ADE-480C-88D8-B4FCD600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C8C-F01F-4BC7-87F8-A94D17B3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9FE97-478C-4D99-B3EA-2DA86C94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08A-D2B7-42AF-A04C-8EB6458D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436-3BC4-4A6C-92EE-5054DA1C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06B-2EFE-4575-AC96-01EF7862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8BFE-79CF-4364-951F-391097C50CA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CBC1-66F3-44BC-BC90-219F91482F2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DFE3-2631-4C57-AB3B-673AF6FE754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527B-7C14-4CA3-AF92-5663FE3FFEE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47F6-CB6E-453B-A763-C52F551130D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yazone.com/uploads/posts/1194243810_1163161158_42pozitivchi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500440" y="3286080"/>
            <a:ext cx="3429000" cy="33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Cambria"/>
              </a:rPr>
              <a:t>В чем причины детского непослушания или ошибочные цел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Презентацию подготовил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педагог-психолог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Шевченко Ольга Григорьевна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МАДОУ «Детский сад № 424» г. Перми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тское непослушание </a:t>
            </a:r>
            <a:endParaRPr b="0" lang="en-US" sz="8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0" name="Picture 27" descr="http://cryazone.com/uploads/posts/thumbs/1194243810_1163161158_42pozitivchi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3143160"/>
            <a:ext cx="464364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186760" cy="987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34817"/>
                </a:solidFill>
                <a:latin typeface="Calibri"/>
              </a:rPr>
              <a:t>ПСИХОЛОГАМИ ВЫДЕЛЕНЫ ЧЕТЫРЕ ОСНОВНЫХ МОТИВА БЫТЬ НЕПОСЛУШНЫМ: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14800" y="1600200"/>
            <a:ext cx="547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mbria"/>
              </a:rPr>
              <a:t>Недостаток внимания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. Ребенок не получает того количества внимания, в котором нуждается. Родителям часто не хватает времени и сил, чтобы поиграть, поговорить, позаниматься с ребенком, но для того чтобы поругать или наказать, они всегда его найдут (говорят – это же и есть «воспитание»)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mbria"/>
              </a:rPr>
              <a:t>Борьба за самоутверждение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. Непослушанием ребенок проявляет свою самостоятельность, свой выбор, протестует против чрезмерной родительской опеки. Это происходит в том случае, когда родители пытаются предупредить каждый шаг ребенка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mbria"/>
              </a:rPr>
              <a:t>Желание отомстить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. Когда мы что-то пообещали и не выполнили, несправедливо наказали, даже не выслушав его объяснения. И ребенок начинает действовать по принципу «Вы мне сделали плохо, и я вам»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mbria"/>
              </a:rPr>
              <a:t>Потеря веры в собственный успех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. Это если взрослые слишком часто повторяют ребенку, что он тупица, криворукий и что он вообще в жизни ничего не добьется, ему ничего другого не остается, как только подтверждать своим поведением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Самое важное – понять, что ребенок делает что-то «не так» не «вам назло». Задача взрослого – разобраться, были ли веские причины у поступка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4" name="Содержимое 4" descr="Детская психология"/>
          <p:cNvPicPr/>
          <p:nvPr/>
        </p:nvPicPr>
        <p:blipFill>
          <a:blip r:embed="rId1"/>
          <a:stretch/>
        </p:blipFill>
        <p:spPr>
          <a:xfrm>
            <a:off x="785880" y="157176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Детская психология"/>
          <p:cNvPicPr/>
          <p:nvPr/>
        </p:nvPicPr>
        <p:blipFill>
          <a:blip r:embed="rId2"/>
          <a:stretch/>
        </p:blipFill>
        <p:spPr>
          <a:xfrm>
            <a:off x="857160" y="4000680"/>
            <a:ext cx="2000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ЕТЫРЕ ЦВЕТОВЫХ ЗОН ПОВЕДЕНИЯ РЕБЕНКА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7" name="Содержимое 5" descr="http://moikompas.ru/img/compas/2008-11-15/crazy_baby/81277249.jpg"/>
          <p:cNvPicPr/>
          <p:nvPr/>
        </p:nvPicPr>
        <p:blipFill>
          <a:blip r:embed="rId1"/>
          <a:stretch/>
        </p:blipFill>
        <p:spPr>
          <a:xfrm>
            <a:off x="500040" y="1500120"/>
            <a:ext cx="2770200" cy="4572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3357720" y="1447560"/>
            <a:ext cx="55720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Зеленая зон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то, что разрешается ребенку по его собственному усмотрению или желанию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mbria"/>
              </a:rPr>
              <a:t>Желтая зон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действия, в которых ребенку предоставляется относительная свобод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Оранжевая зон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ребенка, которые, в общем, нами не приветствуются, но в виду особых обстоятельств сейчас допускаютс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Cambria"/>
              </a:rPr>
              <a:t>Красная зон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действия, не приемлемые ни при каких обстоятельствах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22880" cy="1071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сли Вы хотите сначала сами попробовать справиться с проблемой, то Вам следует: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2160" y="257148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1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стись терпением, хорошо отдохнуть и выспаться, купить литературу по интересующей проблеме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2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 и ваш супруг или супруга готовы вместе обсудить поведение непослушного и любимого ребенка. Если слово «любимого» вызвало бурю негативных эмоций, вернитесь к Шагу 1. Возможно, надо будет пополнить Вашу домашнюю библиотеку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3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пробуйте посмотреть на ситуацию глазами ребенка. Восприятие мира у детей отличается от восприятия взрослых, даже незначительные изменения в семье или конфликтные ситуации могут восприниматься ими как сверхзначимые. Возможности логического мышления еще ограничены возрастом и окрашены особенностями возрастного психологического созревания. Вам не следует идти на поводу и во всем уступать, границы и законы внутрисемейного общения будут базой социальной адаптации и успешности ребенка. Может, Вы увидите в непослушном чаде себя в этом возрасте и вспомните, как вашим родителям удавалось справляться в этих ситуациях. Хочется ли Вам повторить опыт ваших родителей?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4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щите виновных. Если Вам удастся помочь ребенку в конструктивном взаимодействии с внешним миром, и Вы найдете возможность диалога, а не войны в семье – то Вы уже на верном пути. Но, если Вам покажется, что весь мир несправедлив именно по отношению к Вашему чаду, или Ваш ребенок или другой член семьи виновны в происходящем – это решение, к сожалению, Вам ничем не поможет в воспитании непослушного ребенка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286400" cy="2028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d34817"/>
                </a:solidFill>
                <a:latin typeface="Calibri"/>
              </a:rPr>
              <a:t>10 правил как научить ребёнка слушаться</a:t>
            </a:r>
            <a:br>
              <a:rPr sz="3600"/>
            </a:br>
            <a:endParaRPr b="0" lang="en-US" sz="4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9680" y="2714400"/>
            <a:ext cx="7994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1. Не отменяйте требования и распоряжения без крайней необходимости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2. Просьбы и распоряжения должны быть сформулированы ясно и четко. 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3. Приучайте детей сразу же выполнять порученное задание и слушаться с первого слова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4. В присутствии детей у родителей не должно быть разногласий, если же произошла ссора, то восстановить мир и согласие необходимо также в присутствии детей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5. Не оставляйте без наказания непослушание, усиливая наказание при повторном непослушании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6. Не изменяйте требований, разрешая сегодня то, что было запрещено вчера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7. Не командуйте постоянно детьми и не давайте им слишком частых приказаний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8. Давайте ребенку посильные задания (слишком легкие также плохи, как и слишком сложные)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9. Не позволять детям фамильярного к себе отношения (любовь, ласка и нежность должны сочетаться с уважением и почтением)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10. Сами давайте положительный пример. 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писок литературы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Интернет стать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Педагогика взаимодействия. О.В.Москалюк, Л.В. Погонцева, Волгоград,2010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8:01:37Z</dcterms:created>
  <dc:creator>Admin</dc:creator>
  <dc:description/>
  <dc:language>en-US</dc:language>
  <cp:lastModifiedBy>Ольга</cp:lastModifiedBy>
  <dcterms:modified xsi:type="dcterms:W3CDTF">2010-06-22T09:19:55Z</dcterms:modified>
  <cp:revision>15</cp:revision>
  <dc:subject/>
  <dc:title>Детское непослушание</dc:title>
</cp:coreProperties>
</file>