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13D4-4F11-4D14-92D2-AF90332AE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5C3D-2CC4-4F2E-9CA2-DE37A6A0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6D6A-4D99-435B-8BB2-5C449F03E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73E7-BF67-4AB3-A6B8-8B38262F0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D850-8BDC-4814-9899-88BD42C62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2186-32AF-4403-AF1C-3E60726E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5134-2C01-4261-B9D4-54DC3790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F282-EF99-41EA-9E9C-7B34FCFF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38AC-9F1F-474E-96F8-C70CC12E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B039-D9FF-4321-82A5-A1DDA9F1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3F471-0238-42AE-B56A-6E9E3CD1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ED43-9CFD-44CD-ACB4-2DCC5D4D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1FD05-0900-4E11-B1E5-9193F04A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BD36-E024-4FBD-9F79-4F511F46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E90C-DEB2-44FD-A57D-08469FE7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AE6A-45C0-416C-8CF8-A25D03553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D853-7D7E-4C8B-98B5-147F53B7C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3193F-68B4-4136-9621-01567BEBF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8143A-7A75-4DB0-AB62-E91F683D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0ECC4-2C7E-491D-BDD4-E9892EDD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17BF4-8936-4AC7-BE51-E426F1BF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67C95-777A-49E7-A2CC-16675FA4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101E-3A65-4559-841D-35F31C10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B543E-3FC5-4E8E-B727-BCE60A5E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F8710-B5FB-4B95-B824-986B2652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46831-DD43-4D2A-91BC-29C66BB6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18806-E249-4D66-9BD8-1E1FF59D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06084-AFEA-42DF-8AA0-FC3185B3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2FA07-DC8C-4BFD-ABC0-588F7150F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30E47-534A-4059-8C18-4C2E84488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18550-9EF2-4340-9821-4581167E3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2FEFA-A288-4F5A-A601-FC88A413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EEEF7-39B0-4D2A-8E7A-A4BD2CC2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FA1D-7983-4551-B39B-30616E25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3DA87-7220-4161-9E8D-65787D7D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B14C9-95E8-4C81-98F1-8C93D492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DDDBD-EAF7-4E60-8DC0-6EEA17A3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2307C-16B2-4DA1-B933-81D007BF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A3681-BA3E-46F1-B69A-2C14B4D9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1F917-8C3B-47C9-8391-557B0DBE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E7B0B-278B-4FCF-93A9-C23D0E56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995A6-F67F-4CFF-9C61-FD8944949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5F692-7022-4107-AC8A-610394F12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BDCAB-D328-48F9-A73B-1595A21F5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666F-FAB5-4751-8956-DB75C5CC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93464-D86B-4CC7-8E37-8EC16D75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053F5-9F53-489A-9BBC-C7B0A56B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2F21C-90AA-40D2-9703-F6BB4733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4A2B5-2889-4BEB-8363-808EB460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395B2-F72C-40D8-9AB1-C3267C7D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35CF3-B011-492E-BE1A-6EC1A58D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2D8DE-78D1-417C-A827-459FCD47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A5430-D2F4-499A-8842-1F69136B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698BF-DA41-439B-BA68-A34C7244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F0D80-A6EF-433D-8E8E-90842E551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D464-94F1-4849-813C-B951194E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B6AFC-8D03-4B3C-AF7E-509A093C4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BE60-390F-44B7-8F05-EC0CDB27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41C2-DD95-42CC-B1D1-923AB49C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A582-2EB8-4B6E-8397-44810F66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C396-FC91-429D-9531-D6DD94C4B45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D698-4918-44CE-8C2E-A7B9427B279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2F2F-D64F-4DED-A6A0-42E12B0116A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EA72-05B2-4E2C-AEC2-3F886B78EA4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5118-6A4F-431D-8A5C-CCFB35859B0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ryazone.com/uploads/posts/1194243810_1163161158_42pozitivchik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5500440" y="3286080"/>
            <a:ext cx="3429000" cy="33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b2d1f"/>
                </a:solidFill>
                <a:latin typeface="Cambria"/>
              </a:rPr>
              <a:t>В чем причины детского непослушания или ошибочные цели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Презентацию подготовила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педагог-психолог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Шевченко Ольга Григорьевна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МАДОУ «Детский сад № 424» г. Перми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етское непослушание </a:t>
            </a:r>
            <a:endParaRPr b="0" lang="en-US" sz="8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30" name="Picture 27" descr="http://cryazone.com/uploads/posts/thumbs/1194243810_1163161158_42pozitivchi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120" y="3143160"/>
            <a:ext cx="464364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99680" y="428760"/>
            <a:ext cx="8186760" cy="9871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d34817"/>
                </a:solidFill>
                <a:latin typeface="Calibri"/>
              </a:rPr>
              <a:t>ПСИХОЛОГАМИ ВЫДЕЛЕНЫ ЧЕТЫРЕ ОСНОВНЫХ МОТИВА БЫТЬ НЕПОСЛУШНЫМ:</a:t>
            </a:r>
            <a:endParaRPr b="0" lang="en-US" sz="29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1905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214800" y="1600200"/>
            <a:ext cx="5472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ambria"/>
              </a:rPr>
              <a:t>Недостаток внимания</a:t>
            </a: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. Ребенок не получает того количества внимания, в котором нуждается. Родителям часто не хватает времени и сил, чтобы поиграть, поговорить, позаниматься с ребенком, но для того чтобы поругать или наказать, они всегда его найдут (говорят – это же и есть «воспитание»)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ambria"/>
              </a:rPr>
              <a:t>Борьба за самоутверждение</a:t>
            </a: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. Непослушанием ребенок проявляет свою самостоятельность, свой выбор, протестует против чрезмерной родительской опеки. Это происходит в том случае, когда родители пытаются предупредить каждый шаг ребенка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ambria"/>
              </a:rPr>
              <a:t>Желание отомстить</a:t>
            </a: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. Когда мы что-то пообещали и не выполнили, несправедливо наказали, даже не выслушав его объяснения. И ребенок начинает действовать по принципу «Вы мне сделали плохо, и я вам»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ambria"/>
              </a:rPr>
              <a:t>Потеря веры в собственный успех</a:t>
            </a: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. Это если взрослые слишком часто повторяют ребенку, что он тупица, криворукий и что он вообще в жизни ничего не добьется, ему ничего другого не остается, как только подтверждать своим поведением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Самое важное – понять, что ребенок делает что-то «не так» не «вам назло». Задача взрослого – разобраться, были ли веские причины у поступка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4" name="Содержимое 4" descr="Детская психология"/>
          <p:cNvPicPr/>
          <p:nvPr/>
        </p:nvPicPr>
        <p:blipFill>
          <a:blip r:embed="rId1"/>
          <a:stretch/>
        </p:blipFill>
        <p:spPr>
          <a:xfrm>
            <a:off x="785880" y="1571760"/>
            <a:ext cx="2209680" cy="228600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6" descr="Детская психология"/>
          <p:cNvPicPr/>
          <p:nvPr/>
        </p:nvPicPr>
        <p:blipFill>
          <a:blip r:embed="rId2"/>
          <a:stretch/>
        </p:blipFill>
        <p:spPr>
          <a:xfrm>
            <a:off x="857160" y="4000680"/>
            <a:ext cx="20005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ЧЕТЫРЕ ЦВЕТОВЫХ ЗОН ПОВЕДЕНИЯ РЕБЕНКА: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37" name="Содержимое 5" descr="http://moikompas.ru/img/compas/2008-11-15/crazy_baby/81277249.jpg"/>
          <p:cNvPicPr/>
          <p:nvPr/>
        </p:nvPicPr>
        <p:blipFill>
          <a:blip r:embed="rId1"/>
          <a:stretch/>
        </p:blipFill>
        <p:spPr>
          <a:xfrm>
            <a:off x="500040" y="1500120"/>
            <a:ext cx="2770200" cy="45720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3357720" y="1447560"/>
            <a:ext cx="557208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Зеленая зона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– то, что разрешается ребенку по его собственному усмотрению или желанию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Cambria"/>
              </a:rPr>
              <a:t>Желтая зона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– действия, в которых ребенку предоставляется относительная свобода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34817"/>
                </a:solidFill>
                <a:latin typeface="Cambria"/>
              </a:rPr>
              <a:t>Оранжевая зона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– ребенка, которые, в общем, нами не приветствуются, но в виду особых обстоятельств сейчас допускаются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b2d1f"/>
                </a:solidFill>
                <a:latin typeface="Cambria"/>
              </a:rPr>
              <a:t>Красная зона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– действия, не приемлемые ни при каких обстоятельствах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1680" y="1428840"/>
            <a:ext cx="7922880" cy="1071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Если Вы хотите сначала сами попробовать справиться с проблемой, то Вам следует: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22160" y="2571480"/>
            <a:ext cx="77724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1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астись терпением, хорошо отдохнуть и выспаться, купить литературу по интересующей проблеме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2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 и ваш супруг или супруга готовы вместе обсудить поведение непослушного и любимого ребенка. Если слово «любимого» вызвало бурю негативных эмоций, вернитесь к Шагу 1. Возможно, надо будет пополнить Вашу домашнюю библиотеку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3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пробуйте посмотреть на ситуацию глазами ребенка. Восприятие мира у детей отличается от восприятия взрослых, даже незначительные изменения в семье или конфликтные ситуации могут восприниматься ими как сверхзначимые. Возможности логического мышления еще ограничены возрастом и окрашены особенностями возрастного психологического созревания. Вам не следует идти на поводу и во всем уступать, границы и законы внутрисемейного общения будут базой социальной адаптации и успешности ребенка. Может, Вы увидите в непослушном чаде себя в этом возрасте и вспомните, как вашим родителям удавалось справляться в этих ситуациях. Хочется ли Вам повторить опыт ваших родителей?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4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щите виновных. Если Вам удастся помочь ребенку в конструктивном взаимодействии с внешним миром, и Вы найдете возможность диалога, а не войны в семье – то Вы уже на верном пути. Но, если Вам покажется, что весь мир несправедлив именно по отношению к Вашему чаду, или Ваш ребенок или другой член семьи виновны в происходящем – это решение, к сожалению, Вам ничем не поможет в воспитании непослушного ребенка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28800" y="285480"/>
            <a:ext cx="7286400" cy="2028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d34817"/>
                </a:solidFill>
                <a:latin typeface="Calibri"/>
              </a:rPr>
              <a:t>10 правил как научить ребёнка слушаться</a:t>
            </a:r>
            <a:br>
              <a:rPr sz="3600"/>
            </a:br>
            <a:endParaRPr b="0" lang="en-US" sz="49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99680" y="2714400"/>
            <a:ext cx="799452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Cambria"/>
              </a:rPr>
              <a:t>1. Не отменяйте требования и распоряжения без крайней необходимости.</a:t>
            </a:r>
            <a:br>
              <a:rPr sz="1700"/>
            </a:br>
            <a:r>
              <a:rPr b="0" lang="ru-RU" sz="1700" spc="-1" strike="noStrike" u="sng">
                <a:solidFill>
                  <a:srgbClr val="000000"/>
                </a:solidFill>
                <a:uFillTx/>
                <a:latin typeface="Cambria"/>
              </a:rPr>
              <a:t>2. Просьбы и распоряжения должны быть сформулированы ясно и четко. </a:t>
            </a:r>
            <a:br>
              <a:rPr sz="1700"/>
            </a:br>
            <a:r>
              <a:rPr b="0" lang="ru-RU" sz="1700" spc="-1" strike="noStrike" u="sng">
                <a:solidFill>
                  <a:srgbClr val="000000"/>
                </a:solidFill>
                <a:uFillTx/>
                <a:latin typeface="Cambria"/>
              </a:rPr>
              <a:t>3. Приучайте детей сразу же выполнять порученное задание и слушаться с первого слова.</a:t>
            </a:r>
            <a:br>
              <a:rPr sz="1700"/>
            </a:br>
            <a:r>
              <a:rPr b="0" lang="ru-RU" sz="1700" spc="-1" strike="noStrike" u="sng">
                <a:solidFill>
                  <a:srgbClr val="000000"/>
                </a:solidFill>
                <a:uFillTx/>
                <a:latin typeface="Cambria"/>
              </a:rPr>
              <a:t>4. В присутствии детей у родителей не должно быть разногласий, если же произошла ссора, то восстановить мир и согласие необходимо также в присутствии детей.</a:t>
            </a:r>
            <a:br>
              <a:rPr sz="1700"/>
            </a:br>
            <a:r>
              <a:rPr b="0" lang="ru-RU" sz="1700" spc="-1" strike="noStrike" u="sng">
                <a:solidFill>
                  <a:srgbClr val="000000"/>
                </a:solidFill>
                <a:uFillTx/>
                <a:latin typeface="Cambria"/>
              </a:rPr>
              <a:t>5. Не оставляйте без наказания непослушание, усиливая наказание при повторном непослушании.</a:t>
            </a:r>
            <a:br>
              <a:rPr sz="1700"/>
            </a:br>
            <a:r>
              <a:rPr b="0" lang="ru-RU" sz="1700" spc="-1" strike="noStrike" u="sng">
                <a:solidFill>
                  <a:srgbClr val="000000"/>
                </a:solidFill>
                <a:uFillTx/>
                <a:latin typeface="Cambria"/>
              </a:rPr>
              <a:t>6. Не изменяйте требований, разрешая сегодня то, что было запрещено вчера.</a:t>
            </a:r>
            <a:br>
              <a:rPr sz="1700"/>
            </a:br>
            <a:r>
              <a:rPr b="0" lang="ru-RU" sz="1700" spc="-1" strike="noStrike" u="sng">
                <a:solidFill>
                  <a:srgbClr val="000000"/>
                </a:solidFill>
                <a:uFillTx/>
                <a:latin typeface="Cambria"/>
              </a:rPr>
              <a:t>7. Не командуйте постоянно детьми и не давайте им слишком частых приказаний.</a:t>
            </a:r>
            <a:br>
              <a:rPr sz="1700"/>
            </a:br>
            <a:r>
              <a:rPr b="0" lang="ru-RU" sz="1700" spc="-1" strike="noStrike" u="sng">
                <a:solidFill>
                  <a:srgbClr val="000000"/>
                </a:solidFill>
                <a:uFillTx/>
                <a:latin typeface="Cambria"/>
              </a:rPr>
              <a:t>8. Давайте ребенку посильные задания (слишком легкие также плохи, как и слишком сложные).</a:t>
            </a:r>
            <a:br>
              <a:rPr sz="1700"/>
            </a:br>
            <a:r>
              <a:rPr b="0" lang="ru-RU" sz="1700" spc="-1" strike="noStrike" u="sng">
                <a:solidFill>
                  <a:srgbClr val="000000"/>
                </a:solidFill>
                <a:uFillTx/>
                <a:latin typeface="Cambria"/>
              </a:rPr>
              <a:t>9. Не позволять детям фамильярного к себе отношения (любовь, ласка и нежность должны сочетаться с уважением и почтением).</a:t>
            </a:r>
            <a:br>
              <a:rPr sz="1700"/>
            </a:br>
            <a:r>
              <a:rPr b="0" lang="ru-RU" sz="1700" spc="-1" strike="noStrike" u="sng">
                <a:solidFill>
                  <a:srgbClr val="000000"/>
                </a:solidFill>
                <a:uFillTx/>
                <a:latin typeface="Cambria"/>
              </a:rPr>
              <a:t>10. Сами давайте положительный пример. 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22160" y="9522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Список литературы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22160" y="2547720"/>
            <a:ext cx="7772400" cy="13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mbria"/>
              </a:rPr>
              <a:t>Интернет стать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mbria"/>
              </a:rPr>
              <a:t>Педагогика взаимодействия. О.В.Москалюк, Л.В. Погонцева, Волгоград,2010г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08:01:37Z</dcterms:created>
  <dc:creator>Admin</dc:creator>
  <dc:description/>
  <dc:language>en-US</dc:language>
  <cp:lastModifiedBy>Ольга</cp:lastModifiedBy>
  <dcterms:modified xsi:type="dcterms:W3CDTF">2010-06-22T09:19:55Z</dcterms:modified>
  <cp:revision>15</cp:revision>
  <dc:subject/>
  <dc:title>Детское непослушание</dc:title>
</cp:coreProperties>
</file>