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BD0-BABB-4F6F-BDA0-3F710A5C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6E7-EC48-40D5-98B1-18288E31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CE2-42DD-408F-A9BD-2B4A5632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09C-6149-46E6-B10E-CE4F0238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952F-5D14-4CAA-A4AB-F53E6459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2CF-B51D-48EE-BD34-AC0EFE4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F753-EC02-4402-9236-550131B8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DFA0-B975-4376-82BD-A7CDCFA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CFD1-308B-4E1C-9B1C-E934193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56D7-297A-452D-9A08-7AB543B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269-A7EA-48D5-8434-476EA53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F75-7E65-4DCC-AABC-10E76F6F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81C-5876-4FA0-915C-0A10F845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3A15-22A5-42C6-BE8B-C581A82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3C6-1B12-4967-B0EC-BBD1EA55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96C3-0528-4733-9AEA-0B62FBF5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A17-2ED0-4745-828C-C677E599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738-F0B7-4EE2-9A02-F9F75E5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AA3-48E2-4966-AEA9-C29F8DF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0BF-4E1C-4055-A7B0-A7FE3EA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3EF-9393-4452-8625-E71A385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3D8-66A1-47C7-ABD6-C66E0CB8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164-E569-4E05-8629-7C1DAAE0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5D7-C73A-42E2-AF99-3C6955C1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9B45-FAAC-4395-9634-ACCD7D08CC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5C0-9145-4F29-A283-4BF1FD3C65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hyperlink" Target="http://smiles.33b.ru/smile.20435.html" TargetMode="Externa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Николай</cp:lastModifiedBy>
  <dcterms:modified xsi:type="dcterms:W3CDTF">2012-10-29T08:44:25Z</dcterms:modified>
  <cp:revision>37</cp:revision>
  <dc:subject/>
  <dc:title>Слайд 1</dc:title>
</cp:coreProperties>
</file>