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6.jpeg" ContentType="image/jpeg"/>
  <Override PartName="/ppt/media/image23.gif" ContentType="image/gif"/>
  <Override PartName="/ppt/media/image16.png" ContentType="image/png"/>
  <Override PartName="/ppt/media/image49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7.png" ContentType="image/png"/>
  <Override PartName="/ppt/media/image32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2.gif" ContentType="image/gif"/>
  <Override PartName="/ppt/media/image2.png" ContentType="image/png"/>
  <Override PartName="/ppt/media/image11.jpeg" ContentType="image/jpeg"/>
  <Override PartName="/ppt/media/image10.gif" ContentType="image/gif"/>
  <Override PartName="/ppt/media/image33.jpeg" ContentType="image/jpeg"/>
  <Override PartName="/ppt/media/image35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39.png" ContentType="image/png"/>
  <Override PartName="/ppt/media/image41.png" ContentType="image/png"/>
  <Override PartName="/ppt/media/image45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8.jpeg" ContentType="image/jpeg"/>
  <Override PartName="/ppt/media/image9.gif" ContentType="image/gif"/>
  <Override PartName="/ppt/media/image4.png" ContentType="image/png"/>
  <Override PartName="/ppt/media/image12.jpeg" ContentType="image/jpeg"/>
  <Override PartName="/ppt/media/image34.png" ContentType="image/png"/>
  <Override PartName="/ppt/media/image38.jpeg" ContentType="image/jpeg"/>
  <Override PartName="/ppt/media/image7.jpeg" ContentType="image/jpeg"/>
  <Override PartName="/ppt/media/image36.jpeg" ContentType="image/jpeg"/>
  <Override PartName="/ppt/media/image20.png" ContentType="image/png"/>
  <Override PartName="/ppt/media/image28.jpeg" ContentType="image/jpeg"/>
  <Override PartName="/ppt/media/image25.gif" ContentType="image/gif"/>
  <Override PartName="/ppt/media/image18.png" ContentType="image/png"/>
  <Override PartName="/ppt/media/image6.png" ContentType="image/png"/>
  <Override PartName="/ppt/media/image44.png" ContentType="image/png"/>
  <Override PartName="/ppt/media/image40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5A47-790F-487E-B6F1-F9AE15118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F651-D263-4176-A261-86FD2A38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70B6-F358-4AF5-8B22-D43F7B35A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1568-F131-45BD-9136-2CC0C998B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3D1A-A3BB-401F-9E83-E779C956B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E447-C831-4DB1-8395-4C0CACB1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E662-664E-440C-A969-38DB101C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5675-07E2-40EC-8AA4-AF011EC7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C016-C9BA-4453-BD8D-068FE724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FD4C-16B3-485C-A394-466DCB45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20D4-9384-43C3-BBD3-F8A903EC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9C2A-E2A7-42A8-B69C-E34AF03E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2321-CA30-45CC-B54E-C5E4DC52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803C-C606-4001-AEB2-F7EFC313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C1A8-22B3-4E4F-9DC1-5A3ABAAE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A0A8-D001-4AA1-AE60-94DDFFC6F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1F74-15F2-4C1C-8A92-C74DEC0F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2B57-43EB-4383-971B-1CFB8C72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3B3E-0275-4AD6-9B16-10778F48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69E9-9851-42A5-993D-C5B0BC66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A31B-D5A6-4AFE-BB4D-5322B8C0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D41D-03A6-41CD-95F0-57466703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7030-9A7F-42BB-AB23-411BA476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277A-AF36-4BF5-8305-4B4B639C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25B7-E4EE-49C2-A0AB-45F55EB0C69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5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6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8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9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487E-D395-4EAB-89D3-A3E476F614B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hyperlink" Target="http://smiles.33b.ru/smile.20434.html" TargetMode="External"/><Relationship Id="rId4" Type="http://schemas.openxmlformats.org/officeDocument/2006/relationships/image" Target="../media/image23.gif"/><Relationship Id="rId5" Type="http://schemas.openxmlformats.org/officeDocument/2006/relationships/hyperlink" Target="http://smiles.33b.ru/smile.20435.html" TargetMode="External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2.jpeg"/><Relationship Id="rId3" Type="http://schemas.openxmlformats.org/officeDocument/2006/relationships/image" Target="../media/image31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hyperlink" Target="http://smiles.33b.ru/smile.20435.html" TargetMode="External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7" name="Picture 4" descr="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4" descr=""/>
          <p:cNvPicPr/>
          <p:nvPr/>
        </p:nvPicPr>
        <p:blipFill>
          <a:blip r:embed="rId2"/>
          <a:stretch/>
        </p:blipFill>
        <p:spPr>
          <a:xfrm>
            <a:off x="212760" y="152280"/>
            <a:ext cx="7351560" cy="2425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"/>
          <p:cNvPicPr/>
          <p:nvPr/>
        </p:nvPicPr>
        <p:blipFill>
          <a:blip r:embed="rId3"/>
          <a:stretch/>
        </p:blipFill>
        <p:spPr>
          <a:xfrm>
            <a:off x="925560" y="2741760"/>
            <a:ext cx="7291440" cy="13111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857240" y="22320"/>
            <a:ext cx="5643720" cy="6835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79"/>
          <p:cNvPicPr/>
          <p:nvPr/>
        </p:nvPicPr>
        <p:blipFill>
          <a:blip r:embed="rId2"/>
          <a:stretch/>
        </p:blipFill>
        <p:spPr>
          <a:xfrm>
            <a:off x="4429080" y="2286000"/>
            <a:ext cx="1324080" cy="1028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http://s2.rimg.info/9b5d53b12861b06de95d78e03781d004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3720" y="4286160"/>
            <a:ext cx="1306440" cy="1290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http://s2.rimg.info/87e0156a94705012f409a083618740bb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29040" y="1143000"/>
            <a:ext cx="866880" cy="6764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76a3"/>
                </a:solidFill>
                <a:latin typeface="Times New Roman"/>
              </a:rPr>
              <a:t>Взаимодействие океана, атмосферы и суш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8" name="Picture 5" descr="Атлантический океан поверхность"/>
          <p:cNvPicPr/>
          <p:nvPr/>
        </p:nvPicPr>
        <p:blipFill>
          <a:blip r:embed="rId1"/>
          <a:stretch/>
        </p:blipFill>
        <p:spPr>
          <a:xfrm>
            <a:off x="3500280" y="2143080"/>
            <a:ext cx="4017960" cy="3929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облако"/>
          <p:cNvPicPr/>
          <p:nvPr/>
        </p:nvPicPr>
        <p:blipFill>
          <a:blip r:embed="rId2"/>
          <a:stretch/>
        </p:blipFill>
        <p:spPr>
          <a:xfrm>
            <a:off x="500040" y="2143080"/>
            <a:ext cx="2666880" cy="32767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2" name="Picture 3" descr="D:\Мои документы\Мои рисунки\Wallpapers\CoXtreme_Wallpaper_Pack\антаркти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C:\Documents and Settings\Сергей\Рабочий стол\10k00029i.bmp"/>
          <p:cNvPicPr/>
          <p:nvPr/>
        </p:nvPicPr>
        <p:blipFill>
          <a:blip r:embed="rId2"/>
          <a:stretch/>
        </p:blipFill>
        <p:spPr>
          <a:xfrm>
            <a:off x="4888080" y="3838680"/>
            <a:ext cx="3470040" cy="2590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4617b"/>
                </a:solidFill>
                <a:latin typeface="Calibri"/>
              </a:rPr>
              <a:t>Бермудский треугольник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48" name="Picture 5" descr="Бермудский Треугольник"/>
          <p:cNvPicPr/>
          <p:nvPr/>
        </p:nvPicPr>
        <p:blipFill>
          <a:blip r:embed="rId1"/>
          <a:stretch/>
        </p:blipFill>
        <p:spPr>
          <a:xfrm>
            <a:off x="2286000" y="1500120"/>
            <a:ext cx="4621320" cy="52149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Саргассово море</a:t>
            </a:r>
            <a:br>
              <a:rPr sz="5000"/>
            </a:b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Саргассовы водоросл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50" name="Picture 2" descr="http://relax.wild-mistress.ru/wm/relax.nsf/publicall/DF5D5263547E945AC325757000363EFA/$File/1.jpg"/>
          <p:cNvPicPr/>
          <p:nvPr/>
        </p:nvPicPr>
        <p:blipFill>
          <a:blip r:embed="rId1"/>
          <a:stretch/>
        </p:blipFill>
        <p:spPr>
          <a:xfrm>
            <a:off x="2214720" y="1785960"/>
            <a:ext cx="4786200" cy="48276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4617b"/>
                </a:solidFill>
                <a:latin typeface="Calibri"/>
              </a:rPr>
              <a:t>Органический мир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52" name="Picture 4" descr="Sebastes chlorostictus"/>
          <p:cNvPicPr/>
          <p:nvPr/>
        </p:nvPicPr>
        <p:blipFill>
          <a:blip r:embed="rId1"/>
          <a:stretch/>
        </p:blipFill>
        <p:spPr>
          <a:xfrm>
            <a:off x="714240" y="3429000"/>
            <a:ext cx="4167360" cy="2789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Сельдь"/>
          <p:cNvPicPr/>
          <p:nvPr/>
        </p:nvPicPr>
        <p:blipFill>
          <a:blip r:embed="rId2"/>
          <a:stretch/>
        </p:blipFill>
        <p:spPr>
          <a:xfrm>
            <a:off x="5072040" y="1928880"/>
            <a:ext cx="3000240" cy="1790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Атлантическая треска"/>
          <p:cNvPicPr/>
          <p:nvPr/>
        </p:nvPicPr>
        <p:blipFill>
          <a:blip r:embed="rId3"/>
          <a:stretch/>
        </p:blipFill>
        <p:spPr>
          <a:xfrm>
            <a:off x="4500720" y="4143240"/>
            <a:ext cx="3984480" cy="1702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5" name="Picture 2" descr="C:\Documents and Settings\Сергей\Рабочий стол\05B0011i.bmp"/>
          <p:cNvPicPr/>
          <p:nvPr/>
        </p:nvPicPr>
        <p:blipFill>
          <a:blip r:embed="rId4"/>
          <a:stretch/>
        </p:blipFill>
        <p:spPr>
          <a:xfrm>
            <a:off x="1143000" y="1908000"/>
            <a:ext cx="2286000" cy="1706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8" name="Picture 2" descr="D:\Мои документы\Мои рисунки\Wallpapers\sky1.jpg"/>
          <p:cNvPicPr/>
          <p:nvPr/>
        </p:nvPicPr>
        <p:blipFill>
          <a:blip r:embed="rId1"/>
          <a:stretch/>
        </p:blipFill>
        <p:spPr>
          <a:xfrm>
            <a:off x="0" y="-15840"/>
            <a:ext cx="9209160" cy="6873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C:\Documents and Settings\Сергей\Рабочий стол\k_541i.bmp"/>
          <p:cNvPicPr/>
          <p:nvPr/>
        </p:nvPicPr>
        <p:blipFill>
          <a:blip r:embed="rId2"/>
          <a:stretch/>
        </p:blipFill>
        <p:spPr>
          <a:xfrm rot="21051000">
            <a:off x="192240" y="4081320"/>
            <a:ext cx="2342880" cy="2606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C:\Documents and Settings\Сергей\Рабочий стол\a6773i.bmp"/>
          <p:cNvPicPr/>
          <p:nvPr/>
        </p:nvPicPr>
        <p:blipFill>
          <a:blip r:embed="rId3"/>
          <a:stretch/>
        </p:blipFill>
        <p:spPr>
          <a:xfrm>
            <a:off x="3071880" y="3571920"/>
            <a:ext cx="3068640" cy="3128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:\Documents and Settings\Сергей\Рабочий стол\t_534i.bmp"/>
          <p:cNvPicPr/>
          <p:nvPr/>
        </p:nvPicPr>
        <p:blipFill>
          <a:blip r:embed="rId4"/>
          <a:stretch/>
        </p:blipFill>
        <p:spPr>
          <a:xfrm rot="493800">
            <a:off x="6392520" y="4049280"/>
            <a:ext cx="2382840" cy="26510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Атлантик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4"/>
          <p:cNvSpPr/>
          <p:nvPr/>
        </p:nvSpPr>
        <p:spPr>
          <a:xfrm>
            <a:off x="571680" y="500040"/>
            <a:ext cx="8072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ХОЗЯЙСТВЕНН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ДЕЯТЕЛЬНО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4617b"/>
                </a:solidFill>
                <a:latin typeface="Calibri"/>
              </a:rPr>
              <a:t>Рыбный промысел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67" name="Picture 2" descr="C:\Documents and Settings\Сергей\Рабочий стол\05B0011i.bmp"/>
          <p:cNvPicPr/>
          <p:nvPr/>
        </p:nvPicPr>
        <p:blipFill>
          <a:blip r:embed="rId1"/>
          <a:stretch/>
        </p:blipFill>
        <p:spPr>
          <a:xfrm>
            <a:off x="1143000" y="1908000"/>
            <a:ext cx="2286000" cy="1706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Сельдь"/>
          <p:cNvPicPr/>
          <p:nvPr/>
        </p:nvPicPr>
        <p:blipFill>
          <a:blip r:embed="rId2"/>
          <a:stretch/>
        </p:blipFill>
        <p:spPr>
          <a:xfrm>
            <a:off x="5072040" y="1928880"/>
            <a:ext cx="3000240" cy="1790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Sebastes chlorostictus"/>
          <p:cNvPicPr/>
          <p:nvPr/>
        </p:nvPicPr>
        <p:blipFill>
          <a:blip r:embed="rId3"/>
          <a:stretch/>
        </p:blipFill>
        <p:spPr>
          <a:xfrm>
            <a:off x="714240" y="3429000"/>
            <a:ext cx="4167360" cy="2789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Атлантическая треска"/>
          <p:cNvPicPr/>
          <p:nvPr/>
        </p:nvPicPr>
        <p:blipFill>
          <a:blip r:embed="rId4"/>
          <a:stretch/>
        </p:blipFill>
        <p:spPr>
          <a:xfrm>
            <a:off x="4500720" y="4143240"/>
            <a:ext cx="3984480" cy="1702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wheel spokes="8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Карта Атлантиды из «Мундус Субтерануес» Р.А. Кирхера (1665 г.)</a:t>
            </a: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2" name="Picture 4" descr="Карта Атлантиды из «Мундус Субтерануес» Р.А.Кирхера (1665 год)"/>
          <p:cNvPicPr/>
          <p:nvPr/>
        </p:nvPicPr>
        <p:blipFill>
          <a:blip r:embed="rId1"/>
          <a:stretch/>
        </p:blipFill>
        <p:spPr>
          <a:xfrm>
            <a:off x="1214280" y="2143080"/>
            <a:ext cx="6643800" cy="440712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>
            <a:off x="857160" y="571680"/>
            <a:ext cx="7215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рта Атлантиды и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Мундус Субтерануес» Р.А. Кирхера (1665 г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4617b"/>
                </a:solidFill>
                <a:latin typeface="Calibri"/>
              </a:rPr>
              <a:t>Транспортные пути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72" name="Picture 4" descr="C:\Documents and Settings\Сергей\Рабочий стол\eg_43i.bmp"/>
          <p:cNvPicPr/>
          <p:nvPr/>
        </p:nvPicPr>
        <p:blipFill>
          <a:blip r:embed="rId1"/>
          <a:stretch/>
        </p:blipFill>
        <p:spPr>
          <a:xfrm rot="20987400">
            <a:off x="687240" y="2472840"/>
            <a:ext cx="3630600" cy="2710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C:\Documents and Settings\Сергей\Рабочий стол\BE50032i.bmp"/>
          <p:cNvPicPr/>
          <p:nvPr/>
        </p:nvPicPr>
        <p:blipFill>
          <a:blip r:embed="rId2"/>
          <a:stretch/>
        </p:blipFill>
        <p:spPr>
          <a:xfrm rot="713400">
            <a:off x="5160600" y="2118960"/>
            <a:ext cx="3508200" cy="2619360"/>
          </a:xfrm>
          <a:prstGeom prst="rect">
            <a:avLst/>
          </a:prstGeom>
          <a:ln w="0">
            <a:noFill/>
          </a:ln>
        </p:spPr>
      </p:pic>
      <p:pic>
        <p:nvPicPr>
          <p:cNvPr id="174" name="Прямоугольник 6" descr=""/>
          <p:cNvPicPr/>
          <p:nvPr/>
        </p:nvPicPr>
        <p:blipFill>
          <a:blip r:embed="rId3"/>
          <a:stretch/>
        </p:blipFill>
        <p:spPr>
          <a:xfrm>
            <a:off x="-55440" y="5572080"/>
            <a:ext cx="4981320" cy="1066680"/>
          </a:xfrm>
          <a:prstGeom prst="rect">
            <a:avLst/>
          </a:prstGeom>
          <a:ln w="0">
            <a:noFill/>
          </a:ln>
        </p:spPr>
      </p:pic>
      <p:pic>
        <p:nvPicPr>
          <p:cNvPr id="175" name="Прямоугольник 7" descr=""/>
          <p:cNvPicPr/>
          <p:nvPr/>
        </p:nvPicPr>
        <p:blipFill>
          <a:blip r:embed="rId4"/>
          <a:stretch/>
        </p:blipFill>
        <p:spPr>
          <a:xfrm>
            <a:off x="3571920" y="5072040"/>
            <a:ext cx="5572080" cy="968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4617b"/>
                </a:solidFill>
                <a:latin typeface="Calibri"/>
              </a:rPr>
              <a:t>Добыча </a:t>
            </a:r>
            <a:br>
              <a:rPr sz="5400"/>
            </a:br>
            <a:r>
              <a:rPr b="1" lang="ru-RU" sz="5400" spc="-1" strike="noStrike">
                <a:solidFill>
                  <a:srgbClr val="04617b"/>
                </a:solidFill>
                <a:latin typeface="Calibri"/>
              </a:rPr>
              <a:t>полезных ископаемых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4540320" y="2671920"/>
            <a:ext cx="1701720" cy="30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540320" y="2671920"/>
            <a:ext cx="188892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714240" y="2349360"/>
            <a:ext cx="2643480" cy="4197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Картинка 2 из 40"/>
          <p:cNvPicPr/>
          <p:nvPr/>
        </p:nvPicPr>
        <p:blipFill>
          <a:blip r:embed="rId2"/>
          <a:stretch/>
        </p:blipFill>
        <p:spPr>
          <a:xfrm>
            <a:off x="3571920" y="2143080"/>
            <a:ext cx="5286240" cy="4286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4617b"/>
                </a:solidFill>
                <a:latin typeface="Calibri"/>
              </a:rPr>
              <a:t>Рекреационные ресурсы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82" name="Picture 5" descr="Картинка 20 из 4062"/>
          <p:cNvPicPr/>
          <p:nvPr/>
        </p:nvPicPr>
        <p:blipFill>
          <a:blip r:embed="rId1"/>
          <a:stretch/>
        </p:blipFill>
        <p:spPr>
          <a:xfrm rot="562800">
            <a:off x="214200" y="3071880"/>
            <a:ext cx="5077080" cy="3400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Картинка 23 из 4062"/>
          <p:cNvPicPr/>
          <p:nvPr/>
        </p:nvPicPr>
        <p:blipFill>
          <a:blip r:embed="rId2"/>
          <a:stretch/>
        </p:blipFill>
        <p:spPr>
          <a:xfrm rot="20904600">
            <a:off x="3780000" y="2117520"/>
            <a:ext cx="5076720" cy="33717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Экологические проблем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85" name="Picture 5" descr="Картинка 10 из 471"/>
          <p:cNvPicPr/>
          <p:nvPr/>
        </p:nvPicPr>
        <p:blipFill>
          <a:blip r:embed="rId1"/>
          <a:stretch/>
        </p:blipFill>
        <p:spPr>
          <a:xfrm>
            <a:off x="357120" y="250020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Картинка 85 из 471"/>
          <p:cNvPicPr/>
          <p:nvPr/>
        </p:nvPicPr>
        <p:blipFill>
          <a:blip r:embed="rId2"/>
          <a:stretch/>
        </p:blipFill>
        <p:spPr>
          <a:xfrm>
            <a:off x="4214880" y="1785960"/>
            <a:ext cx="4619520" cy="30290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4617b"/>
                </a:solidFill>
                <a:latin typeface="Calibri"/>
              </a:rPr>
              <a:t>Кто это? Что это?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Саргассово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Викинги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Скумбрия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Суэцкий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Карибское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071600" y="1920960"/>
            <a:ext cx="4614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Мексиканский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Гольфстрим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Исландия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Срединно-Атлантический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Средиземное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§ 19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Номенклатура по Атлантическому океану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контурная карта – стр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2" name="Picture 14" descr="79"/>
          <p:cNvPicPr/>
          <p:nvPr/>
        </p:nvPicPr>
        <p:blipFill>
          <a:blip r:embed="rId1"/>
          <a:stretch/>
        </p:blipFill>
        <p:spPr>
          <a:xfrm>
            <a:off x="5819760" y="4071960"/>
            <a:ext cx="3324240" cy="2583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6" name="Picture 2" descr="D:\Мои документы\Мои рисунки\Wallpapers\sky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5"/>
          <p:cNvSpPr/>
          <p:nvPr/>
        </p:nvSpPr>
        <p:spPr>
          <a:xfrm>
            <a:off x="785880" y="642960"/>
            <a:ext cx="7715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«Атлантический океан! Необозримая водная равнина, величественная водная гладь! Из конца в конец бороздят эти воды корабли всех стран, под флагами  всех наций мира, и охраняют их два огромных стража, внушающих страх мореплавателям, - мыс Горн и мыс Бурь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Жюль  Вер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C:\Documents and Settings\Сергей\Рабочий стол\v03015i.bmp"/>
          <p:cNvPicPr/>
          <p:nvPr/>
        </p:nvPicPr>
        <p:blipFill>
          <a:blip r:embed="rId2"/>
          <a:stretch/>
        </p:blipFill>
        <p:spPr>
          <a:xfrm>
            <a:off x="571680" y="471492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http://s2.rimg.info/87e0156a94705012f409a083618740bb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15280" y="4929120"/>
            <a:ext cx="2104920" cy="1643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ЛАН  УРОК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Географическое положение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История исследования океан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Особенности природы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Хозяйственная деятельность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4617b"/>
                </a:solidFill>
                <a:latin typeface="Calibri"/>
              </a:rPr>
              <a:t>Происхождение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20960"/>
            <a:ext cx="4686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амый молодой океан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разовался около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60 млн. лет назад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 распаде Гондван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" name="Picture 8" descr="globus"/>
          <p:cNvPicPr/>
          <p:nvPr/>
        </p:nvPicPr>
        <p:blipFill>
          <a:blip r:embed="rId1"/>
          <a:stretch/>
        </p:blipFill>
        <p:spPr>
          <a:xfrm>
            <a:off x="5929200" y="2928960"/>
            <a:ext cx="1413000" cy="1413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4617b"/>
                </a:solidFill>
                <a:latin typeface="Calibri"/>
              </a:rPr>
              <a:t>  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1" lang="ru-RU" sz="66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1" lang="ru-RU" sz="6600" spc="-1" strike="noStrike">
                <a:solidFill>
                  <a:srgbClr val="04617b"/>
                </a:solidFill>
                <a:latin typeface="Calibri"/>
              </a:rPr>
              <a:t>Рельеф</a:t>
            </a:r>
            <a:br>
              <a:rPr sz="6600"/>
            </a:br>
            <a:r>
              <a:rPr b="1" lang="ru-RU" sz="6600" spc="-1" strike="noStrike">
                <a:solidFill>
                  <a:srgbClr val="04617b"/>
                </a:solidFill>
                <a:latin typeface="Calibri"/>
              </a:rPr>
              <a:t>     дна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очти посередине океана проходит Срединно -Атлантический хребе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Длина – 17000 к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Ложе – океанические равнин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" name="Picture 4" descr="atlantic-ocean"/>
          <p:cNvPicPr/>
          <p:nvPr/>
        </p:nvPicPr>
        <p:blipFill>
          <a:blip r:embed="rId1"/>
          <a:stretch/>
        </p:blipFill>
        <p:spPr>
          <a:xfrm>
            <a:off x="4357800" y="428760"/>
            <a:ext cx="4620960" cy="611496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История </a:t>
            </a:r>
            <a:br>
              <a:rPr sz="5000"/>
            </a:b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исследования океан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арусна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ладь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икинг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1" name="Picture 5" descr="C:\Documents and Settings\Сергей\Рабочий стол\v03017i.bmp"/>
          <p:cNvPicPr/>
          <p:nvPr/>
        </p:nvPicPr>
        <p:blipFill>
          <a:blip r:embed="rId1"/>
          <a:stretch/>
        </p:blipFill>
        <p:spPr>
          <a:xfrm>
            <a:off x="2786040" y="2071800"/>
            <a:ext cx="5143680" cy="38401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4617b"/>
                </a:solidFill>
                <a:latin typeface="Calibri"/>
              </a:rPr>
              <a:t>Эпоха Великих </a:t>
            </a:r>
            <a:br>
              <a:rPr sz="5400"/>
            </a:br>
            <a:r>
              <a:rPr b="1" lang="ru-RU" sz="5400" spc="-1" strike="noStrike">
                <a:solidFill>
                  <a:srgbClr val="04617b"/>
                </a:solidFill>
                <a:latin typeface="Calibri"/>
              </a:rPr>
              <a:t>географических открытий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23" name="Picture 2" descr="C:\Documents and Settings\Сергей\Рабочий стол\k03039i.bmp"/>
          <p:cNvPicPr/>
          <p:nvPr/>
        </p:nvPicPr>
        <p:blipFill>
          <a:blip r:embed="rId1"/>
          <a:stretch/>
        </p:blipFill>
        <p:spPr>
          <a:xfrm rot="21150600">
            <a:off x="731880" y="2641320"/>
            <a:ext cx="2343240" cy="2608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:\Documents and Settings\Сергей\Рабочий стол\gama2i.bmp"/>
          <p:cNvPicPr/>
          <p:nvPr/>
        </p:nvPicPr>
        <p:blipFill>
          <a:blip r:embed="rId2"/>
          <a:stretch/>
        </p:blipFill>
        <p:spPr>
          <a:xfrm>
            <a:off x="3571920" y="2214720"/>
            <a:ext cx="2282760" cy="2539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C:\Documents and Settings\Сергей\Рабочий стол\Pm01134.bmp"/>
          <p:cNvPicPr/>
          <p:nvPr/>
        </p:nvPicPr>
        <p:blipFill>
          <a:blip r:embed="rId3"/>
          <a:stretch/>
        </p:blipFill>
        <p:spPr>
          <a:xfrm rot="400800">
            <a:off x="6289200" y="3130560"/>
            <a:ext cx="2390760" cy="266076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9" descr=""/>
          <p:cNvPicPr/>
          <p:nvPr/>
        </p:nvPicPr>
        <p:blipFill>
          <a:blip r:embed="rId4"/>
          <a:stretch/>
        </p:blipFill>
        <p:spPr>
          <a:xfrm>
            <a:off x="396720" y="5181480"/>
            <a:ext cx="3205440" cy="102420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10" descr=""/>
          <p:cNvPicPr/>
          <p:nvPr/>
        </p:nvPicPr>
        <p:blipFill>
          <a:blip r:embed="rId5"/>
          <a:stretch/>
        </p:blipFill>
        <p:spPr>
          <a:xfrm>
            <a:off x="2359080" y="4784760"/>
            <a:ext cx="4638600" cy="798480"/>
          </a:xfrm>
          <a:prstGeom prst="rect">
            <a:avLst/>
          </a:prstGeom>
          <a:ln w="0">
            <a:noFill/>
          </a:ln>
        </p:spPr>
      </p:pic>
      <p:pic>
        <p:nvPicPr>
          <p:cNvPr id="128" name="Прямоугольник 11" descr=""/>
          <p:cNvPicPr/>
          <p:nvPr/>
        </p:nvPicPr>
        <p:blipFill>
          <a:blip r:embed="rId6"/>
          <a:stretch/>
        </p:blipFill>
        <p:spPr>
          <a:xfrm>
            <a:off x="5499000" y="5681520"/>
            <a:ext cx="3791160" cy="10242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Picture 2" descr="D:\Мои документы\Мои рисунки\Wallpapers\88.212.197.170_201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4" descr=""/>
          <p:cNvPicPr/>
          <p:nvPr/>
        </p:nvPicPr>
        <p:blipFill>
          <a:blip r:embed="rId2"/>
          <a:stretch/>
        </p:blipFill>
        <p:spPr>
          <a:xfrm>
            <a:off x="139680" y="-36360"/>
            <a:ext cx="6651720" cy="2871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5:34:50Z</dcterms:created>
  <dc:creator>Елена</dc:creator>
  <dc:description/>
  <dc:language>en-US</dc:language>
  <cp:lastModifiedBy>Николай</cp:lastModifiedBy>
  <dcterms:modified xsi:type="dcterms:W3CDTF">2012-10-29T08:44:25Z</dcterms:modified>
  <cp:revision>37</cp:revision>
  <dc:subject/>
  <dc:title>Слайд 1</dc:title>
</cp:coreProperties>
</file>