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B91-EA46-4D35-A0C9-97B3D8C3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6C7-9750-461A-A9AD-67D8082A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373-B5CF-4016-B50A-53ECA4DC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019-C14A-49B1-9225-9A2E849A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537E-BF06-4DFC-AD0A-C69A7234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63C1-2D8B-4ADE-B779-84A2A1B8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5037-25C5-41A4-95E1-C089178E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5336-D79C-4716-B905-4D1A79B3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46B5-8583-4C0C-A8F0-F7D34B69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9AD9-D52F-4897-93AA-FD845E11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3A14-DE70-44AA-B237-A941199D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CF5-107A-43C9-9519-938CF66B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D922-5D41-4F12-98E9-1536E862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3FE1-E269-4E94-9272-E021B452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4B57-DFD0-46DD-A987-6A24FE17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FD52-1D1F-46F3-884F-CABFC792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2092-5B20-459F-95A7-2387B77E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0A5-157A-4682-8B87-A24FB7BD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BA7-A6DA-4B0E-AF75-69811ADE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82E-BB37-4654-BCC4-94F7A399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32E-E001-4002-9F61-CBA2666B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CBB-0C92-475D-991B-CBB7BFB6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C43-88DD-4060-888F-FC51BFF2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C42-A91F-488F-BFAB-897A9021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B76D-61B5-4081-BEE2-DEA135834A5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8267-C465-470A-9D8A-BCF724DF9C3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2aac7c51bb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Административная юрисдикция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Конституционное судопроизвод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Выполни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Кудрявцев Серг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f8a5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800px-Конс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ституционный Суд Р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титуционный Суд РФ — судебный орган конституционного контроля, самостоятельно осуществляющий судебную власть посредством конституционного судопроизвод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титуционный Суд РФ состоит из 19 судей, назначаемых Советом Федерации по представлению Президента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ановления Конституционного Суда вступают в силу немедленно, являются окончательными и обжалованию не подлеж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дминистративная юрисдикция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дминистративная юрисдикция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еятельность органов государственного управления и их должностных лиц по разрешению индивидуальных административных дел и применению соответствующих санкций в административном поряд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бъектами административной ответственности могут быть: граждане(16 лет), должностные лица, юридические л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524443"/>
          <p:cNvPicPr/>
          <p:nvPr/>
        </p:nvPicPr>
        <p:blipFill>
          <a:blip r:embed="rId1"/>
          <a:stretch/>
        </p:blipFill>
        <p:spPr>
          <a:xfrm>
            <a:off x="2627280" y="378936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ы, рассматривающие дела об административном правонаруш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ды                                                    Органы МВ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иссии по делам          Районные коми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совершеннолет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23"/>
          <p:cNvSpPr/>
          <p:nvPr/>
        </p:nvSpPr>
        <p:spPr>
          <a:xfrm rot="2200200">
            <a:off x="1703160" y="1267920"/>
            <a:ext cx="276120" cy="1150920"/>
          </a:xfrm>
          <a:prstGeom prst="downArrow">
            <a:avLst>
              <a:gd name="adj1" fmla="val 50000"/>
              <a:gd name="adj2" fmla="val 10420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24"/>
          <p:cNvSpPr/>
          <p:nvPr/>
        </p:nvSpPr>
        <p:spPr>
          <a:xfrm rot="883200">
            <a:off x="3008160" y="1420920"/>
            <a:ext cx="276480" cy="1720800"/>
          </a:xfrm>
          <a:prstGeom prst="downArrow">
            <a:avLst>
              <a:gd name="adj1" fmla="val 50000"/>
              <a:gd name="adj2" fmla="val 15559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26"/>
          <p:cNvSpPr/>
          <p:nvPr/>
        </p:nvSpPr>
        <p:spPr>
          <a:xfrm rot="20644800">
            <a:off x="5479920" y="1425240"/>
            <a:ext cx="276480" cy="1724040"/>
          </a:xfrm>
          <a:prstGeom prst="downArrow">
            <a:avLst>
              <a:gd name="adj1" fmla="val 50000"/>
              <a:gd name="adj2" fmla="val 15589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27"/>
          <p:cNvSpPr/>
          <p:nvPr/>
        </p:nvSpPr>
        <p:spPr>
          <a:xfrm rot="19699200">
            <a:off x="7093080" y="1267920"/>
            <a:ext cx="276120" cy="1150920"/>
          </a:xfrm>
          <a:prstGeom prst="downArrow">
            <a:avLst>
              <a:gd name="adj1" fmla="val 50000"/>
              <a:gd name="adj2" fmla="val 10420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29" descr="736fd3326695c03e4fb73d65977d7ac5-45c5c0fcbee9ad22caada43890bc8fcb"/>
          <p:cNvPicPr/>
          <p:nvPr/>
        </p:nvPicPr>
        <p:blipFill>
          <a:blip r:embed="rId1"/>
          <a:stretch/>
        </p:blipFill>
        <p:spPr>
          <a:xfrm>
            <a:off x="684360" y="4292640"/>
            <a:ext cx="2376360" cy="234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0" descr="zal ygol"/>
          <p:cNvPicPr/>
          <p:nvPr/>
        </p:nvPicPr>
        <p:blipFill>
          <a:blip r:embed="rId2"/>
          <a:stretch/>
        </p:blipFill>
        <p:spPr>
          <a:xfrm>
            <a:off x="4716360" y="4076640"/>
            <a:ext cx="3457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5075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дминистративные наказ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упреждение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траф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ездное изъятие (или конфискац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шение специального пр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дворение за пределы Рос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0" descr="shtraf"/>
          <p:cNvPicPr/>
          <p:nvPr/>
        </p:nvPicPr>
        <p:blipFill>
          <a:blip r:embed="rId1"/>
          <a:stretch/>
        </p:blipFill>
        <p:spPr>
          <a:xfrm rot="20812200">
            <a:off x="2700360" y="3860280"/>
            <a:ext cx="61214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ры обеспечения произ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став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дминистративное задержание (кратковременное лишение свобод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ый досмотр, досмотр вещей, транспортного средства, докумен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цинское освидетельств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ест товаров, транспортных сред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GIBDD"/>
          <p:cNvPicPr/>
          <p:nvPr/>
        </p:nvPicPr>
        <p:blipFill>
          <a:blip r:embed="rId1"/>
          <a:stretch/>
        </p:blipFill>
        <p:spPr>
          <a:xfrm>
            <a:off x="2556000" y="3789360"/>
            <a:ext cx="41749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изводство по делу об административном правонару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буждение д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ка к разбирательств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биратель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несение и оглашение ре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н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4" descr="imgFull"/>
          <p:cNvPicPr/>
          <p:nvPr/>
        </p:nvPicPr>
        <p:blipFill>
          <a:blip r:embed="rId1"/>
          <a:stretch/>
        </p:blipFill>
        <p:spPr>
          <a:xfrm>
            <a:off x="5219640" y="263700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20071114184945"/>
          <p:cNvPicPr/>
          <p:nvPr/>
        </p:nvPicPr>
        <p:blipFill>
          <a:blip r:embed="rId2"/>
          <a:stretch/>
        </p:blipFill>
        <p:spPr>
          <a:xfrm>
            <a:off x="1042920" y="436572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clip4414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итуционное судопроизводство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нституционное судопроизводств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ссматривает вопросы о соответствии Конституции нормативных правовых актов, по толкованию положений Конституции Рос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щие принципы конституционного судопроизводства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езависимость судей, коллегиальность, гласность, устность разбирательства, язык судопроизводства, непрерывность судебного заседания, состязательность и равноправие стор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стадии Конституционного судопроиз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ращение в Су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варительное рассмотрение обращение секретариа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варительное рассмотрение обращение судь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начение и подготовка дела к слушан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дебное разбиратель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анов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6" descr="femida"/>
          <p:cNvPicPr/>
          <p:nvPr/>
        </p:nvPicPr>
        <p:blipFill>
          <a:blip r:embed="rId1"/>
          <a:stretch/>
        </p:blipFill>
        <p:spPr>
          <a:xfrm>
            <a:off x="826920" y="4076640"/>
            <a:ext cx="2592720" cy="25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KMO_036922_00333_1_t208"/>
          <p:cNvPicPr/>
          <p:nvPr/>
        </p:nvPicPr>
        <p:blipFill>
          <a:blip r:embed="rId2"/>
          <a:stretch/>
        </p:blipFill>
        <p:spPr>
          <a:xfrm>
            <a:off x="4427640" y="4076640"/>
            <a:ext cx="390528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во на обращение в Конституционный Суд Р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вопросу о соответствии Конституции законов, принятых органами власти Федерации и регионов, о разграничении полномочий между этими органами вправе обращаться только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сшие органы власти Федерации и регио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вопросу толкования Конституции РФ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сшие органы законодательной и исполнительной власти Федерации и органы законодательной власти регио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Граждане и суд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меют право обращаться в Конституционный Суд РФ для проверки конституционности только закона, уже применённого или подлежащего применению в конкретном де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6:50:29Z</dcterms:created>
  <dc:creator>Сергей</dc:creator>
  <dc:description/>
  <dc:language>en-US</dc:language>
  <cp:lastModifiedBy>Admin</cp:lastModifiedBy>
  <dcterms:modified xsi:type="dcterms:W3CDTF">2012-06-12T20:39:22Z</dcterms:modified>
  <cp:revision>4</cp:revision>
  <dc:subject/>
  <dc:title>Административная </dc:title>
</cp:coreProperties>
</file>