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6B4-C158-468E-98D3-19767CBA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1BA-3038-4B38-B7F4-DC3769F8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7FB-05F7-4E74-83CE-6F2A95D3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374-7D88-4F04-BBC5-0455D1F9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EA51-4218-4019-8637-C46B6B36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2D0C-ADF4-4985-85EF-546F1CBD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ED11-5D51-406B-AC88-320E3DA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0F7C-77DA-4DD1-885B-0A4A1FA3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5EEC-656E-4D0D-804F-C1F9FCE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CD35-51A4-472B-8EBD-90608F3C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CCC0-EBFE-4435-8FEE-BD2F24F9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6E6-C138-42DB-B1FC-CACD38C7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2D57-7ED4-4574-BD75-A7B87C0C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2105-87A6-4894-8BBE-5D78FA14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AF92-AFAA-4059-81F5-C894116F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DC64-3C12-49B1-B916-71129D31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D0DA-5A80-46B4-902C-131956C1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A2E-83C1-4A30-987F-4C372EC3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B53-3FF6-43A8-A3D7-B72B454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182-5FCF-4741-9BD8-ABA02270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8F4-70E9-4DB7-A007-6A9D033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7D2-01CF-42A4-9224-33A3079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129-A585-4AAC-8FCF-9A15E247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249-754F-4991-854E-A0CF0EA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4B50-D274-4A70-955E-ABBBDF59AE5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D224-F826-41EE-AB7E-ECCD9046153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2aac7c51bb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Административная юрисдикция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Конституционное судопроизвод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Выполни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Кудрявцев Серг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f8a5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800px-Кон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ституционный Суд Р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итуционный Суд РФ — судебный орган конституционного контроля, самостоятельно осуществляющий судебную власть посредством конституционного судопроизвод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итуционный Суд РФ состоит из 19 судей, назначаемых Советом Федерации по представлению Президента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ления Конституционного Суда вступают в силу немедленно, являются окончательными и обжалованию не подлеж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министративная юрисдикция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дминистративная юрисдикция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еятельность органов государственного управления и их должностных лиц по разрешению индивидуальных административных дел и применению соответствующих санкций в административном поряд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бъектами административной ответственности могут быть: граждане(16 лет), должностные лица, юридические л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524443"/>
          <p:cNvPicPr/>
          <p:nvPr/>
        </p:nvPicPr>
        <p:blipFill>
          <a:blip r:embed="rId1"/>
          <a:stretch/>
        </p:blipFill>
        <p:spPr>
          <a:xfrm>
            <a:off x="2627280" y="378936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ы, рассматривающие дела об административном правонаруш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ды                                                    Органы МВ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иссии по делам          Районные коми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совершеннолет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23"/>
          <p:cNvSpPr/>
          <p:nvPr/>
        </p:nvSpPr>
        <p:spPr>
          <a:xfrm rot="2200200">
            <a:off x="1703160" y="1267920"/>
            <a:ext cx="276120" cy="1150920"/>
          </a:xfrm>
          <a:prstGeom prst="downArrow">
            <a:avLst>
              <a:gd name="adj1" fmla="val 50000"/>
              <a:gd name="adj2" fmla="val 10420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24"/>
          <p:cNvSpPr/>
          <p:nvPr/>
        </p:nvSpPr>
        <p:spPr>
          <a:xfrm rot="883200">
            <a:off x="3008160" y="1420920"/>
            <a:ext cx="276480" cy="1720800"/>
          </a:xfrm>
          <a:prstGeom prst="downArrow">
            <a:avLst>
              <a:gd name="adj1" fmla="val 50000"/>
              <a:gd name="adj2" fmla="val 15559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26"/>
          <p:cNvSpPr/>
          <p:nvPr/>
        </p:nvSpPr>
        <p:spPr>
          <a:xfrm rot="20644800">
            <a:off x="5479920" y="1425240"/>
            <a:ext cx="276480" cy="1724040"/>
          </a:xfrm>
          <a:prstGeom prst="downArrow">
            <a:avLst>
              <a:gd name="adj1" fmla="val 50000"/>
              <a:gd name="adj2" fmla="val 15589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27"/>
          <p:cNvSpPr/>
          <p:nvPr/>
        </p:nvSpPr>
        <p:spPr>
          <a:xfrm rot="19699200">
            <a:off x="7093080" y="1267920"/>
            <a:ext cx="276120" cy="1150920"/>
          </a:xfrm>
          <a:prstGeom prst="downArrow">
            <a:avLst>
              <a:gd name="adj1" fmla="val 50000"/>
              <a:gd name="adj2" fmla="val 10420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9" descr="736fd3326695c03e4fb73d65977d7ac5-45c5c0fcbee9ad22caada43890bc8fcb"/>
          <p:cNvPicPr/>
          <p:nvPr/>
        </p:nvPicPr>
        <p:blipFill>
          <a:blip r:embed="rId1"/>
          <a:stretch/>
        </p:blipFill>
        <p:spPr>
          <a:xfrm>
            <a:off x="684360" y="4292640"/>
            <a:ext cx="2376360" cy="234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0" descr="zal ygol"/>
          <p:cNvPicPr/>
          <p:nvPr/>
        </p:nvPicPr>
        <p:blipFill>
          <a:blip r:embed="rId2"/>
          <a:stretch/>
        </p:blipFill>
        <p:spPr>
          <a:xfrm>
            <a:off x="4716360" y="4076640"/>
            <a:ext cx="3457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5075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министративные наказ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упреждение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траф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ездное изъятие (или конфискац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шение специального пр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дворение за пределы Ро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0" descr="shtraf"/>
          <p:cNvPicPr/>
          <p:nvPr/>
        </p:nvPicPr>
        <p:blipFill>
          <a:blip r:embed="rId1"/>
          <a:stretch/>
        </p:blipFill>
        <p:spPr>
          <a:xfrm rot="20812200">
            <a:off x="2700360" y="3860280"/>
            <a:ext cx="61214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ры обеспечения 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став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дминистративное задержание (кратковременное лишение свобод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ый досмотр, досмотр вещей, транспортного средства, докумен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цинское освидетельств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ест товаров, транспортных сред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GIBDD"/>
          <p:cNvPicPr/>
          <p:nvPr/>
        </p:nvPicPr>
        <p:blipFill>
          <a:blip r:embed="rId1"/>
          <a:stretch/>
        </p:blipFill>
        <p:spPr>
          <a:xfrm>
            <a:off x="2556000" y="3789360"/>
            <a:ext cx="41749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изводство по делу об административном правонару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буждение 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ка к разбирательст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биратель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несение и оглашение ре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imgFull"/>
          <p:cNvPicPr/>
          <p:nvPr/>
        </p:nvPicPr>
        <p:blipFill>
          <a:blip r:embed="rId1"/>
          <a:stretch/>
        </p:blipFill>
        <p:spPr>
          <a:xfrm>
            <a:off x="5219640" y="263700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20071114184945"/>
          <p:cNvPicPr/>
          <p:nvPr/>
        </p:nvPicPr>
        <p:blipFill>
          <a:blip r:embed="rId2"/>
          <a:stretch/>
        </p:blipFill>
        <p:spPr>
          <a:xfrm>
            <a:off x="1042920" y="436572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clip4414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итуционное судопроизводство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нституционное судопроизводств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ссматривает вопросы о соответствии Конституции нормативных правовых актов, по толкованию положений Конституции Ро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щие принципы конституционного судопроизводства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езависимость судей, коллегиальность, гласность, устность разбирательства, язык судопроизводства, непрерывность судебного заседания, состязательность и равноправие стор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стадии Конституционного судо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щение в Су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варительное рассмотрение обращение секретариа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варительное рассмотрение обращение судь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начение и подготовка дела к слуша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дебное разбиратель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6" descr="femida"/>
          <p:cNvPicPr/>
          <p:nvPr/>
        </p:nvPicPr>
        <p:blipFill>
          <a:blip r:embed="rId1"/>
          <a:stretch/>
        </p:blipFill>
        <p:spPr>
          <a:xfrm>
            <a:off x="826920" y="407664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KMO_036922_00333_1_t208"/>
          <p:cNvPicPr/>
          <p:nvPr/>
        </p:nvPicPr>
        <p:blipFill>
          <a:blip r:embed="rId2"/>
          <a:stretch/>
        </p:blipFill>
        <p:spPr>
          <a:xfrm>
            <a:off x="4427640" y="4076640"/>
            <a:ext cx="390528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во на обращение в Конституционный Суд Р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вопросу о соответствии Конституции законов, принятых органами власти Федерации и регионов, о разграничении полномочий между этими органами вправе обращаться только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шие органы власти Федерации и регио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вопросу толкования Конституции РФ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шие органы законодательной и исполнительной власти Федерации и органы законодательной власти регио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Граждане и суд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меют право обращаться в Конституционный Суд РФ для проверки конституционности только закона, уже применённого или подлежащего применению в конкретном де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6:50:29Z</dcterms:created>
  <dc:creator>Сергей</dc:creator>
  <dc:description/>
  <dc:language>en-US</dc:language>
  <cp:lastModifiedBy>Admin</cp:lastModifiedBy>
  <dcterms:modified xsi:type="dcterms:W3CDTF">2012-06-12T20:39:22Z</dcterms:modified>
  <cp:revision>4</cp:revision>
  <dc:subject/>
  <dc:title>Административная </dc:title>
</cp:coreProperties>
</file>