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041-C71D-4299-A18D-DFC36A54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750-4369-41BA-8181-E693EE62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37C-9A5E-476C-9430-72D76BCE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5BC6-F97A-4A19-AA8B-1EA486E1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0FC4-AD19-4E5D-B965-8E724D8E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705F-ED72-4A01-A848-D4AC383C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3062-35B3-4EDC-9824-B55E236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877-905E-4F03-84E8-94A94F7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820B-8542-429D-A2CB-A006900A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F874-B3F8-43B1-A23C-6EF60409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5F1E-76D7-45A3-8502-AF42AF4A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1BF-694B-41B5-9AE7-4D52096B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36E2-ADEA-4AE3-9249-4F096FAE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513B-30EF-4695-ACC5-39B22F8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AFD3-806B-4F0C-8E79-95F7F17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B34F-2932-4BAD-80FC-2B9BD42B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C0B7-B830-4CB6-852E-8932A57F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68C-77A6-4A9E-B3E6-C13ED781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5DC-EDA7-481B-9C61-88175182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1C6-4CBF-42F1-BDBF-6FE42FB5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52B-0369-4954-9D4E-C7461ACF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18C-8E33-4B6D-8678-3859FA49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376-0581-4B25-ADDD-8F2F2214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764-0367-4A80-B887-D4722FD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7C2C-075E-420B-845C-135F2F78C64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572D-2BCA-4B57-AA9C-48C46D23F8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2aac7c51bb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Административная юрисдикция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Конституционное судопроизвод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Выполни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Кудрявцев Серг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f8a5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800px-Кон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ституционный Суд Р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итуционный Суд РФ — судебный орган конституционного контроля, самостоятельно осуществляющий судебную власть посредством конституционного судопроизвод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итуционный Суд РФ состоит из 19 судей, назначаемых Советом Федерации по представлению Президента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ления Конституционного Суда вступают в силу немедленно, являются окончательными и обжалованию не подлеж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министративная юрисдикция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дминистративная юрисдикция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еятельность органов государственного управления и их должностных лиц по разрешению индивидуальных административных дел и применению соответствующих санкций в административном поряд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бъектами административной ответственности могут быть: граждане(16 лет), должностные лица, юридические л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524443"/>
          <p:cNvPicPr/>
          <p:nvPr/>
        </p:nvPicPr>
        <p:blipFill>
          <a:blip r:embed="rId1"/>
          <a:stretch/>
        </p:blipFill>
        <p:spPr>
          <a:xfrm>
            <a:off x="2627280" y="378936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ы, рассматривающие дела об административном правонаруш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ды                                                    Органы МВ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иссии по делам          Районные коми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совершеннолет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23"/>
          <p:cNvSpPr/>
          <p:nvPr/>
        </p:nvSpPr>
        <p:spPr>
          <a:xfrm rot="2200200">
            <a:off x="1703160" y="1267920"/>
            <a:ext cx="276120" cy="1150920"/>
          </a:xfrm>
          <a:prstGeom prst="downArrow">
            <a:avLst>
              <a:gd name="adj1" fmla="val 50000"/>
              <a:gd name="adj2" fmla="val 10420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24"/>
          <p:cNvSpPr/>
          <p:nvPr/>
        </p:nvSpPr>
        <p:spPr>
          <a:xfrm rot="883200">
            <a:off x="3008160" y="1420920"/>
            <a:ext cx="276480" cy="1720800"/>
          </a:xfrm>
          <a:prstGeom prst="downArrow">
            <a:avLst>
              <a:gd name="adj1" fmla="val 50000"/>
              <a:gd name="adj2" fmla="val 15559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26"/>
          <p:cNvSpPr/>
          <p:nvPr/>
        </p:nvSpPr>
        <p:spPr>
          <a:xfrm rot="20644800">
            <a:off x="5479920" y="1425240"/>
            <a:ext cx="276480" cy="1724040"/>
          </a:xfrm>
          <a:prstGeom prst="downArrow">
            <a:avLst>
              <a:gd name="adj1" fmla="val 50000"/>
              <a:gd name="adj2" fmla="val 15589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27"/>
          <p:cNvSpPr/>
          <p:nvPr/>
        </p:nvSpPr>
        <p:spPr>
          <a:xfrm rot="19699200">
            <a:off x="7093080" y="1267920"/>
            <a:ext cx="276120" cy="1150920"/>
          </a:xfrm>
          <a:prstGeom prst="downArrow">
            <a:avLst>
              <a:gd name="adj1" fmla="val 50000"/>
              <a:gd name="adj2" fmla="val 10420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9" descr="736fd3326695c03e4fb73d65977d7ac5-45c5c0fcbee9ad22caada43890bc8fcb"/>
          <p:cNvPicPr/>
          <p:nvPr/>
        </p:nvPicPr>
        <p:blipFill>
          <a:blip r:embed="rId1"/>
          <a:stretch/>
        </p:blipFill>
        <p:spPr>
          <a:xfrm>
            <a:off x="684360" y="4292640"/>
            <a:ext cx="2376360" cy="234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0" descr="zal ygol"/>
          <p:cNvPicPr/>
          <p:nvPr/>
        </p:nvPicPr>
        <p:blipFill>
          <a:blip r:embed="rId2"/>
          <a:stretch/>
        </p:blipFill>
        <p:spPr>
          <a:xfrm>
            <a:off x="4716360" y="4076640"/>
            <a:ext cx="3457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5075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министративные наказ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упреждение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траф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ездное изъятие (или конфискац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шение специального пр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дворение за пределы Ро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0" descr="shtraf"/>
          <p:cNvPicPr/>
          <p:nvPr/>
        </p:nvPicPr>
        <p:blipFill>
          <a:blip r:embed="rId1"/>
          <a:stretch/>
        </p:blipFill>
        <p:spPr>
          <a:xfrm rot="20812200">
            <a:off x="2700360" y="3860280"/>
            <a:ext cx="61214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ры обеспечения 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став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дминистративное задержание (кратковременное лишение свобод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ный досмотр, досмотр вещей, транспортного средства, докумен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цинское освидетельств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ест товаров, транспортных сред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GIBDD"/>
          <p:cNvPicPr/>
          <p:nvPr/>
        </p:nvPicPr>
        <p:blipFill>
          <a:blip r:embed="rId1"/>
          <a:stretch/>
        </p:blipFill>
        <p:spPr>
          <a:xfrm>
            <a:off x="2556000" y="3789360"/>
            <a:ext cx="41749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изводство по делу об административном правонару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буждение 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ка к разбирательст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биратель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несение и оглашение ре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imgFull"/>
          <p:cNvPicPr/>
          <p:nvPr/>
        </p:nvPicPr>
        <p:blipFill>
          <a:blip r:embed="rId1"/>
          <a:stretch/>
        </p:blipFill>
        <p:spPr>
          <a:xfrm>
            <a:off x="5219640" y="263700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20071114184945"/>
          <p:cNvPicPr/>
          <p:nvPr/>
        </p:nvPicPr>
        <p:blipFill>
          <a:blip r:embed="rId2"/>
          <a:stretch/>
        </p:blipFill>
        <p:spPr>
          <a:xfrm>
            <a:off x="1042920" y="436572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clip4414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итуционное судопроизводство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нституционное судопроизводств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ссматривает вопросы о соответствии Конституции нормативных правовых актов, по толкованию положений Конституции Ро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щие принципы конституционного судопроизводства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езависимость судей, коллегиальность, гласность, устность разбирательства, язык судопроизводства, непрерывность судебного заседания, состязательность и равноправие стор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стадии Конституционного судо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щение в Су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варительное рассмотрение обращение секретариа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варительное рассмотрение обращение судь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начение и подготовка дела к слуша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дебное разбиратель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6" descr="femida"/>
          <p:cNvPicPr/>
          <p:nvPr/>
        </p:nvPicPr>
        <p:blipFill>
          <a:blip r:embed="rId1"/>
          <a:stretch/>
        </p:blipFill>
        <p:spPr>
          <a:xfrm>
            <a:off x="826920" y="407664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KMO_036922_00333_1_t208"/>
          <p:cNvPicPr/>
          <p:nvPr/>
        </p:nvPicPr>
        <p:blipFill>
          <a:blip r:embed="rId2"/>
          <a:stretch/>
        </p:blipFill>
        <p:spPr>
          <a:xfrm>
            <a:off x="4427640" y="4076640"/>
            <a:ext cx="390528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во на обращение в Конституционный Суд Р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вопросу о соответствии Конституции законов, принятых органами власти Федерации и регионов, о разграничении полномочий между этими органами вправе обращаться только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шие органы власти Федерации и регио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вопросу толкования Конституции РФ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сшие органы законодательной и исполнительной власти Федерации и органы законодательной власти регио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Граждане и суд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меют право обращаться в Конституционный Суд РФ для проверки конституционности только закона, уже применённого или подлежащего применению в конкретном де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6:50:29Z</dcterms:created>
  <dc:creator>Сергей</dc:creator>
  <dc:description/>
  <dc:language>en-US</dc:language>
  <cp:lastModifiedBy>Admin</cp:lastModifiedBy>
  <dcterms:modified xsi:type="dcterms:W3CDTF">2012-06-12T20:39:22Z</dcterms:modified>
  <cp:revision>4</cp:revision>
  <dc:subject/>
  <dc:title>Административная </dc:title>
</cp:coreProperties>
</file>