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6AA-0B2B-4E13-A0D4-65DF53CF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0C8-F1D9-4C04-B55E-3922DCC9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57E-3691-44FF-ABE3-934AD538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D5D-3875-4FD0-B9C7-833103B4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7605-2C2D-4F2A-8542-677274DD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B188-3726-4063-8181-2621295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3ED4-B0F3-4060-ABC4-094381E1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5A15-D9B4-41AA-B484-0B633238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AC8E-0563-4ED5-B148-97583C0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62AE-FCE9-4B1F-AE65-660032DB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76A6-82DC-4D8A-8E97-A7E8683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025-7F72-4E69-A4A2-577CF02D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5EB4-6D38-487B-B4A9-C5B3138A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858-FD9B-4D29-922D-3ABB9B66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D701-8435-44C2-8B27-D9EE3C91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1E7E-1FE6-4183-8F8B-6C9DB8BF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6716-3ADC-4264-9A8B-BE5E6C5E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A60-3551-4E56-88F8-48093847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36C-0AC1-4DFE-B403-29000DD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E0B-58A0-47D2-B189-C5F4A716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117-5E64-47DF-A76B-A4FA7B5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457-3663-457D-8F25-6E32ECB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7C1-E722-4A11-B1B9-BC8E1C7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6E7-2338-4CB3-A8B8-8CC69F9D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5F25-DBE9-4A30-AEA8-667899D8E0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D3D-4F05-4BA5-B13A-BF3920A14A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hyperlink" Target="http://www.liveinternet.ru/commu...%204" TargetMode="External"/><Relationship Id="rId4" Type="http://schemas.openxmlformats.org/officeDocument/2006/relationships/hyperlink" Target="http://kykyevo.info/K-street.html" TargetMode="External"/><Relationship Id="rId5" Type="http://schemas.openxmlformats.org/officeDocument/2006/relationships/hyperlink" Target="http://kykyevo.info/K-street.html" TargetMode="External"/><Relationship Id="rId6" Type="http://schemas.openxmlformats.org/officeDocument/2006/relationships/hyperlink" Target="http://kykyevo.info/K-street.html" TargetMode="External"/><Relationship Id="rId7" Type="http://schemas.openxmlformats.org/officeDocument/2006/relationships/hyperlink" Target="http://kykyevo.info/K-street.html" TargetMode="External"/><Relationship Id="rId8" Type="http://schemas.openxmlformats.org/officeDocument/2006/relationships/hyperlink" Target="http://kykyevo.info/K-street.html" TargetMode="Externa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81000"/>
            <a:ext cx="914544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сследовательский проек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 мировой  художественной культур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вторы проекта: учащиеся 11 клас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ОУ – Грязновская СО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нтонян Эмм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яхина Юл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ртиков Сунатул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7280" y="3610080"/>
            <a:ext cx="2305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Мат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2259000"/>
            <a:ext cx="5827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Заслон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128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.М. Неменский «Мат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44760"/>
            <a:ext cx="49690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Выводы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удожники на своих полотнах создавали образы, отвечающие высокому  патриотическому  подъёму советского нар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артинах звучала горькая помять о пережитом, боль утрат, протест против фашистских злодея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5734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Наша гипотеза подтвердилась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6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тература и ресурсы Интерн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10400" y="5300640"/>
            <a:ext cx="1533600" cy="155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871640" cy="140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6080" y="2558160"/>
            <a:ext cx="79279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рамонов А.В., Червонная С.М. Советская живопись: -М.: Просвещение, 198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diary.ru/~watch-mute-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liveinternet.ru/commu..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sundukova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kykyevo.info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K-street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bse.sci-lib.com/p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99280" y="34297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ма народной жизни в живописи  военных лет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681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знакомиться с  картинами, изображавшими жизнь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народа в годы войны.</a:t>
            </a:r>
            <a:br>
              <a:rPr sz="2000"/>
            </a:br>
            <a:br>
              <a:rPr sz="18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яснить, кто из художников работал в этом жанр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яснить, как показана жизнь народа  в эти год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43280" y="4957920"/>
            <a:ext cx="35481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Гипотеза: </a:t>
            </a:r>
            <a:br>
              <a:rPr sz="48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советские художники показали бедствия и героизм нар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72520" y="0"/>
            <a:ext cx="16714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7680" y="904320"/>
            <a:ext cx="9008640" cy="9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.А. Пластов «Фашист пролетел» (194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78952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9280" y="908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.А. Пластов «Партизан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551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.Г.Гапоненко. «После изгнания фашистских оккупантов» (194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2373480"/>
            <a:ext cx="6180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.В. Куприянов, П.Н. Крылов,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Н.А. Соколов «Таня»(194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2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3640" y="548280"/>
            <a:ext cx="8675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.В. Герасимов «Мать партизана» (194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367000"/>
            <a:ext cx="64818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Провод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2814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9:10:51Z</dcterms:created>
  <dc:creator>Балабанова марина Александровна</dc:creator>
  <dc:description/>
  <dc:language>en-US</dc:language>
  <cp:lastModifiedBy>Admin</cp:lastModifiedBy>
  <dcterms:modified xsi:type="dcterms:W3CDTF">2010-01-10T06:53:04Z</dcterms:modified>
  <cp:revision>13</cp:revision>
  <dc:subject/>
  <dc:title>Слайд 1</dc:title>
</cp:coreProperties>
</file>