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29E-1560-4851-B965-1AD38E3C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1AA-EF24-4573-A831-2765A38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19-61DC-4161-BDAE-626F7299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BEC-9230-406C-87C8-07E9707D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789-4305-4F12-B554-14805630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8C9B-3DCB-47D4-99EE-80F283D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A68-E3CA-4A44-9497-BC575367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A05-E4FE-490F-9C7B-5A815D24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9710-4A24-4810-8B17-0071ADF0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749-6E2A-4801-95A2-6188AA86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755-B348-4AEC-B36D-E345DC0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037-D357-44DD-8248-6665287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A5B-3980-4A36-89B3-8D902674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C4B-6CFF-4A7C-858B-2215524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01A7-EB83-4D9C-98C3-A2481857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CBD0-3036-4512-8D94-C11160EA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FE4A-76DB-4FB9-BF6C-FE91A462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08-1D2B-4A11-B38C-AD3E24B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E8C-A6D7-498E-85DB-BACD14C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433-4A9F-4F03-8256-B8E30339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EDA-2CE9-4E39-AE99-48E6E3EF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E43-C5C5-45D8-A808-1C00C23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374-B6F8-441D-926E-78FAFC80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A63-C6A7-449E-85FC-6628C34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CA0-3688-4434-A98E-D65F104554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BC7-0870-4AA0-9458-F292E51281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hyperlink" Target="http://www.liveinternet.ru/commu...%204" TargetMode="External"/><Relationship Id="rId4" Type="http://schemas.openxmlformats.org/officeDocument/2006/relationships/hyperlink" Target="http://kykyevo.info/K-street.html" TargetMode="External"/><Relationship Id="rId5" Type="http://schemas.openxmlformats.org/officeDocument/2006/relationships/hyperlink" Target="http://kykyevo.info/K-street.html" TargetMode="External"/><Relationship Id="rId6" Type="http://schemas.openxmlformats.org/officeDocument/2006/relationships/hyperlink" Target="http://kykyevo.info/K-street.html" TargetMode="External"/><Relationship Id="rId7" Type="http://schemas.openxmlformats.org/officeDocument/2006/relationships/hyperlink" Target="http://kykyevo.info/K-street.html" TargetMode="External"/><Relationship Id="rId8" Type="http://schemas.openxmlformats.org/officeDocument/2006/relationships/hyperlink" Target="http://kykyevo.info/K-street.html" TargetMode="Externa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1000"/>
            <a:ext cx="914544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сследовательский проек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 мировой  художественной культур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вторы проекта: учащиеся 11 клас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У – Грязновская СО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нтонян Эмм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яхина Юл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ртиков Сунатул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7280" y="361008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2259000"/>
            <a:ext cx="5827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Заслон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12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.М. Неменский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44760"/>
            <a:ext cx="49690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ы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удожники на своих полотнах создавали образы, отвечающие высокому  патриотическому  подъёму советского нар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артинах звучала горькая помять о пережитом, боль утрат, протест против фашистских злодея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734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Наша гипотеза подтвердила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6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 и ресурсы Интерн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10400" y="5300640"/>
            <a:ext cx="153360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871640" cy="140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6080" y="2558160"/>
            <a:ext cx="79279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рамонов А.В., Червонная С.М. Советская живопись: -М.: Просвещение, 198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diary.ru/~watch-mute-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liveinternet.ru/commu..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sundukov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kykyevo.info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K-street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bse.sci-lib.com/p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99280" y="3429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народной жизни в живописи  военных лет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681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знакомиться с  картинами, изображавшими жизнь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народа в годы войны.</a:t>
            </a: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то из художников работал в этом жанр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ак показана жизнь народа  в эти год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4957920"/>
            <a:ext cx="35481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Гипотеза: </a:t>
            </a:r>
            <a:br>
              <a:rPr sz="48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оветские художники показали бедствия и героизм нар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72520" y="0"/>
            <a:ext cx="1671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7680" y="904320"/>
            <a:ext cx="900864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.А. Пластов «Фашист пролетел» 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895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928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.А. Пластов «Партизан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551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.Г.Гапоненко. «После изгнания фашистских оккупантов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373480"/>
            <a:ext cx="6180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.В. Куприянов, П.Н. Крылов,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Н.А. Соколов «Таня»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2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3640" y="548280"/>
            <a:ext cx="8675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.В. Герасимов «Мать партизана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367000"/>
            <a:ext cx="6481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Провод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2814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9:10:51Z</dcterms:created>
  <dc:creator>Балабанова марина Александровна</dc:creator>
  <dc:description/>
  <dc:language>en-US</dc:language>
  <cp:lastModifiedBy>Admin</cp:lastModifiedBy>
  <dcterms:modified xsi:type="dcterms:W3CDTF">2010-01-10T06:53:04Z</dcterms:modified>
  <cp:revision>13</cp:revision>
  <dc:subject/>
  <dc:title>Слайд 1</dc:title>
</cp:coreProperties>
</file>