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F0B-C399-4599-BE2F-AC8842A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A86-8769-4CEC-A864-E9D079F6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93C-735B-420F-A90E-B7B11677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240-4AC7-4B2E-8006-06B29A25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261-81BC-4D16-8273-21270591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1A7C-4C35-4270-AF24-6AF8E5FD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CF80-A2C3-4686-96E7-812C1A02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9D97-BE71-42CB-BCA2-1CF5B13E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695D-056C-4B3B-A1F4-1E5A324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8957-5D6D-44DD-985D-9FC1E6AC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30E0-5E96-4444-8E10-DF8416E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871-EC01-40B6-8EE9-CFCAF99C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EA6-20E1-4D15-A175-93D90D50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E06B-ACB5-4359-B66F-D9ABFE7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A41D-82E8-455F-9296-ADAB7BE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04F2-82D0-4596-BDF6-2175A802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C8D8-9E01-4072-BAC6-AEBB04C2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598-7FE4-433B-9570-30433C6B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127-077C-454A-94DD-0EECAA9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6A9-79C3-4A69-B1BD-E856521E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F29-A1F3-4D94-B695-563288D8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BE5-14FF-49FC-BDD5-374EC33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C83-30D9-4735-B9B1-338FFA7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2C1-1C53-47E9-A5BC-A3A8F1E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D9F2-3019-4CC0-B4A0-3F7EDEE348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9AD-C012-48BF-9FBE-C7FD8399A3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hyperlink" Target="http://www.liveinternet.ru/commu...%204" TargetMode="External"/><Relationship Id="rId4" Type="http://schemas.openxmlformats.org/officeDocument/2006/relationships/hyperlink" Target="http://kykyevo.info/K-street.html" TargetMode="External"/><Relationship Id="rId5" Type="http://schemas.openxmlformats.org/officeDocument/2006/relationships/hyperlink" Target="http://kykyevo.info/K-street.html" TargetMode="External"/><Relationship Id="rId6" Type="http://schemas.openxmlformats.org/officeDocument/2006/relationships/hyperlink" Target="http://kykyevo.info/K-street.html" TargetMode="External"/><Relationship Id="rId7" Type="http://schemas.openxmlformats.org/officeDocument/2006/relationships/hyperlink" Target="http://kykyevo.info/K-street.html" TargetMode="External"/><Relationship Id="rId8" Type="http://schemas.openxmlformats.org/officeDocument/2006/relationships/hyperlink" Target="http://kykyevo.info/K-street.html" TargetMode="External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81000"/>
            <a:ext cx="914544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сследовательский проек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 мировой  художественной культур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вторы проекта: учащиеся 11 клас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У – Грязновская СО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нтонян Эмм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яхина Юл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ртиков Сунатул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7280" y="3610080"/>
            <a:ext cx="2305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Мат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2259000"/>
            <a:ext cx="5827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Заслон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12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.М. Неменский «Мат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44760"/>
            <a:ext cx="49690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ы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удожники на своих полотнах создавали образы, отвечающие высокому  патриотическому  подъёму советского нар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артинах звучала горькая помять о пережитом, боль утрат, протест против фашистских злодея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734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Наша гипотеза подтвердила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6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 и ресурсы Интерн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10400" y="5300640"/>
            <a:ext cx="1533600" cy="155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871640" cy="140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6080" y="2558160"/>
            <a:ext cx="79279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рамонов А.В., Червонная С.М. Советская живопись: -М.: Просвещение, 198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diary.ru/~watch-mute-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liveinternet.ru/commu..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www.sundukova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kykyevo.info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K-street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bse.sci-lib.com/p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99280" y="34297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пасибо за внимани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ема народной жизни в живописи  военных лет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681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знакомиться с  картинами, изображавшими жизнь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народа в годы войны.</a:t>
            </a:r>
            <a:br>
              <a:rPr sz="2000"/>
            </a:br>
            <a:br>
              <a:rPr sz="18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яснить, кто из художников работал в этом жанр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яснить, как показана жизнь народа  в эти год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43280" y="4957920"/>
            <a:ext cx="35481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Гипотеза: </a:t>
            </a:r>
            <a:br>
              <a:rPr sz="48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советские художники показали бедствия и героизм нар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72520" y="0"/>
            <a:ext cx="16714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7680" y="904320"/>
            <a:ext cx="900864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.А. Пластов «Фашист пролетел» (194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895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928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.А. Пластов «Партизан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551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.Г.Гапоненко. «После изгнания фашистских оккупантов» (194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373480"/>
            <a:ext cx="6180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.В. Куприянов, П.Н. Крылов,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Н.А. Соколов «Таня»(194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2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3640" y="548280"/>
            <a:ext cx="8675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.В. Герасимов «Мать партизана» (1943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367000"/>
            <a:ext cx="64818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.М. Коржев «Проводы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2814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9:10:51Z</dcterms:created>
  <dc:creator>Балабанова марина Александровна</dc:creator>
  <dc:description/>
  <dc:language>en-US</dc:language>
  <cp:lastModifiedBy>Admin</cp:lastModifiedBy>
  <dcterms:modified xsi:type="dcterms:W3CDTF">2010-01-10T06:53:04Z</dcterms:modified>
  <cp:revision>13</cp:revision>
  <dc:subject/>
  <dc:title>Слайд 1</dc:title>
</cp:coreProperties>
</file>