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BD7-FE5E-4E4A-B8B8-DDB7D783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B71-3657-4B5C-A85F-F6C7C793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015-4146-47AE-AA4B-8D0C78C0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A9E-DF94-4E23-8AC0-F2BCCA2B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54D-AB81-409A-9E5D-EAC68105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51F-D051-4142-B3B3-CDA9ED77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6A3-3987-4F80-9652-F9EA49E1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B86-4F53-4746-85B6-82A6EF5F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163-3E80-488E-8714-0C9C16C2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F6C-C2E6-45DA-BB38-DA67D972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E74-95F5-4DC8-8520-75A032E6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BC7-97AF-45E9-9324-8127D099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34DA-050B-433A-8D2E-6C77467EAB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76280" y="2023920"/>
            <a:ext cx="8319960" cy="1584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357200" y="4287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99840" y="142884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§ 1, СТР.4 – 7, ЗАД.3 ПИСЬМЕ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43000" y="500040"/>
          <a:ext cx="7715160" cy="5786640"/>
        </p:xfrm>
        <a:graphic>
          <a:graphicData uri="http://schemas.openxmlformats.org/drawingml/2006/table">
            <a:tbl>
              <a:tblPr/>
              <a:tblGrid>
                <a:gridCol w="7715160"/>
              </a:tblGrid>
              <a:tr h="1239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роверьте свое умение определять координаты, высоты и глубин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   координаты: вершина Эверест, озеро Эйр, горы Аппалач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5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 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лубины и высоты: Бенгальский залив, Южно-Атлантический хребет, море Фиджи, горы Тибет, Прикаспийская низменность, пустыня Сахара, Бразильское плоскогорь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Вспомните основные понят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5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,карта, план, легенда карты,рельеф, погода, климат, горы, равнины,стороны горизонта,экватор, нулевой меридиан, река, озеро, ледник, ве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Прямоугольник 4"/>
          <p:cNvSpPr/>
          <p:nvPr/>
        </p:nvSpPr>
        <p:spPr>
          <a:xfrm>
            <a:off x="1143000" y="1928880"/>
            <a:ext cx="764388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143000" y="3286080"/>
            <a:ext cx="764388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1143000" y="5214960"/>
            <a:ext cx="771516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57168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ограф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аука, зародившаяся на заре развития человеческой мысли. Современная география - это целая система наук. В ней выделяются две группы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extBox 3" descr=""/>
          <p:cNvPicPr/>
          <p:nvPr/>
        </p:nvPicPr>
        <p:blipFill>
          <a:blip r:embed="rId1"/>
          <a:stretch/>
        </p:blipFill>
        <p:spPr>
          <a:xfrm>
            <a:off x="2212920" y="2798640"/>
            <a:ext cx="4724280" cy="432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286000" y="364320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ЭКОНОМИЧЕ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урсе 7 класса мы будем продолжать изучение физической географии. Мы познакомимся с природой нашей планеты. Узнаем, как люди открывали и осваивали новые земли. Подробнее изучим свойства оболочек Земли. Мы научимся работать с различными географическими картами, таблицами, картин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УЖНО НА УРОКАХ ГЕОГРАФИИ                  В 7 КЛА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26146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21156600">
            <a:off x="901800" y="2181240"/>
            <a:ext cx="1869840" cy="2495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571920" y="1714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ТЛ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 rot="596400">
            <a:off x="6557760" y="2468160"/>
            <a:ext cx="2104920" cy="282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3643200" y="2143080"/>
            <a:ext cx="2176560" cy="292896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500880" y="17859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УРНЫЕ КАР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 rot="20763000">
            <a:off x="1082160" y="866880"/>
            <a:ext cx="2189160" cy="2725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428760" y="28584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rcRect l="39063" t="0" r="0" b="0"/>
          <a:stretch/>
        </p:blipFill>
        <p:spPr>
          <a:xfrm>
            <a:off x="4429080" y="1000080"/>
            <a:ext cx="1666800" cy="2490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3571920" y="35712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ЫЕ КАРАНДА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857160" y="4643280"/>
            <a:ext cx="2963880" cy="1976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857160" y="414324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ОЙ КАРАНДА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4"/>
          <a:srcRect l="62460" t="12029" r="0" b="0"/>
          <a:stretch/>
        </p:blipFill>
        <p:spPr>
          <a:xfrm>
            <a:off x="6858000" y="3643200"/>
            <a:ext cx="1488960" cy="2587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6429240" y="271476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ЫЕ РУ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332424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357880" y="1571760"/>
            <a:ext cx="3214800" cy="3929040"/>
          </a:xfrm>
          <a:prstGeom prst="rect">
            <a:avLst/>
          </a:prstGeom>
          <a:ln w="0">
            <a:noFill/>
          </a:ln>
        </p:spPr>
      </p:pic>
      <p:sp>
        <p:nvSpPr>
          <p:cNvPr id="69" name="Счетверенная стрелка 5"/>
          <p:cNvSpPr/>
          <p:nvPr/>
        </p:nvSpPr>
        <p:spPr>
          <a:xfrm rot="2655000">
            <a:off x="1039320" y="261720"/>
            <a:ext cx="7259760" cy="696888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alibri"/>
              </a:rPr>
              <a:t>СКОЛЬКО НА ЗЕМЛЕ МАТЕРИКОВ И ОКЕАН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МАТЕРИКИ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Ф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СТРА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ЖНАЯ АМЕ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АРКТ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ВЕРНАЯ АМЕ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КЕ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Х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Й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ТЛАНТ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ВЕРНЫЙ ЛЕДОВИТ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0-08-08T16:47:07Z</dcterms:modified>
  <cp:revision>5</cp:revision>
  <dc:subject/>
  <dc:title>Что изучают в курсе географии материков и океанов. </dc:title>
</cp:coreProperties>
</file>