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FE0-4609-4822-B8F0-1966C228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B35-1614-45A9-A156-737F878A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092-84FA-4C65-8DED-DB44D633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522-097B-4C6A-A43C-8E5B3DAF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6CE-5800-449F-8AD2-C85E8D79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53D-32A7-4BC3-942D-A5C8E1F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9D3-CD91-4A3D-80D8-23F432A2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BFD-2446-43ED-B71C-4ED037D2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716-525A-4012-895A-D8FC51B3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69E-A80F-46DD-BE4D-D55E1DB6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5AC-59DB-4E84-81D2-4DCCAB98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D93-40D8-493F-BDF8-E4536EE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24A3-6D79-4D99-93D9-3BE577B92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76280" y="2023920"/>
            <a:ext cx="8319960" cy="158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357200" y="42876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99840" y="142884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§ 1, СТР.4 – 7, ЗАД.3 ПИСЬМ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43000" y="500040"/>
          <a:ext cx="7715160" cy="5786640"/>
        </p:xfrm>
        <a:graphic>
          <a:graphicData uri="http://schemas.openxmlformats.org/drawingml/2006/table">
            <a:tbl>
              <a:tblPr/>
              <a:tblGrid>
                <a:gridCol w="7715160"/>
              </a:tblGrid>
              <a:tr h="1239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Проверьте свое умение определять координаты, высоты и глуби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  координаты: вершина Эверест, озеро Эйр, горы Аппала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лубины и высоты: Бенгальский залив, Южно-Атлантический хребет, море Фиджи, горы Тибет, Прикаспийская низменность, пустыня Сахара, Бразильское плоскогорь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Вспомните основные поня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,карта, план, легенда карты,рельеф, погода, климат, горы, равнины,стороны горизонта,экватор, нулевой меридиан, река, озеро, ледник, ве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Прямоугольник 4"/>
          <p:cNvSpPr/>
          <p:nvPr/>
        </p:nvSpPr>
        <p:spPr>
          <a:xfrm>
            <a:off x="1143000" y="1928880"/>
            <a:ext cx="764388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143000" y="3286080"/>
            <a:ext cx="76438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1143000" y="5214960"/>
            <a:ext cx="771516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57168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ука, зародившаяся на заре развития человеческой мысли. Современная география - это целая система наук. В ней выделяются две группы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TextBox 3" descr=""/>
          <p:cNvPicPr/>
          <p:nvPr/>
        </p:nvPicPr>
        <p:blipFill>
          <a:blip r:embed="rId1"/>
          <a:stretch/>
        </p:blipFill>
        <p:spPr>
          <a:xfrm>
            <a:off x="2212920" y="2798640"/>
            <a:ext cx="4724280" cy="432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286000" y="36432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ЭКОНО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урсе 7 класса мы будем продолжать изучение физической географии. Мы познакомимся с природой нашей планеты. Узнаем, как люди открывали и осваивали новые земли. Подробнее изучим свойства оболочек Земли. Мы научимся работать с различными географическими картами, таблицами, картин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УЖНО НА УРОКАХ ГЕОГРАФИИ                  В 7 КЛА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26146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21156600">
            <a:off x="901800" y="2181240"/>
            <a:ext cx="1869840" cy="2495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571920" y="17146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ТЛ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 rot="596400">
            <a:off x="6557760" y="2468160"/>
            <a:ext cx="2104920" cy="282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3643200" y="2143080"/>
            <a:ext cx="217656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500880" y="1785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УРНЫЕ КАР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 rot="20763000">
            <a:off x="1082160" y="866880"/>
            <a:ext cx="2189160" cy="2725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428760" y="28584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ТРАД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rcRect l="39063" t="0" r="0" b="0"/>
          <a:stretch/>
        </p:blipFill>
        <p:spPr>
          <a:xfrm>
            <a:off x="4429080" y="1000080"/>
            <a:ext cx="1666800" cy="2490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3571920" y="35712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ЫЕ КАРАНДА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857160" y="4643280"/>
            <a:ext cx="2963880" cy="1976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857160" y="41432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ОЙ КАРАНДА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rcRect l="62460" t="12029" r="0" b="0"/>
          <a:stretch/>
        </p:blipFill>
        <p:spPr>
          <a:xfrm>
            <a:off x="6858000" y="3643200"/>
            <a:ext cx="1488960" cy="258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6429240" y="271476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ЫЕ РУ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332424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357880" y="1571760"/>
            <a:ext cx="3214800" cy="3929040"/>
          </a:xfrm>
          <a:prstGeom prst="rect">
            <a:avLst/>
          </a:prstGeom>
          <a:ln w="0">
            <a:noFill/>
          </a:ln>
        </p:spPr>
      </p:pic>
      <p:sp>
        <p:nvSpPr>
          <p:cNvPr id="69" name="Счетверенная стрелка 5"/>
          <p:cNvSpPr/>
          <p:nvPr/>
        </p:nvSpPr>
        <p:spPr>
          <a:xfrm rot="2655000">
            <a:off x="1039320" y="261720"/>
            <a:ext cx="7259760" cy="6968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alibri"/>
              </a:rPr>
              <a:t>СКОЛЬКО НА ЗЕМЛЕ МАТЕРИКОВ И ОКЕАН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МАТЕРИКИ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Ф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А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ЖНАЯ АМЕ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АРКТ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ВЕРНАЯ АМЕР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КЕ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Х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Й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ЛАНТ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ВЕРНЫЙ ЛЕДОВИ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8-08T16:47:07Z</dcterms:modified>
  <cp:revision>5</cp:revision>
  <dc:subject/>
  <dc:title>Что изучают в курсе географии материков и океанов. </dc:title>
</cp:coreProperties>
</file>