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69B-E283-4D82-87C4-C3D6065D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A52-4750-4403-BF69-996C5105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45B-5DD1-483A-A88F-B8EB559C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CC6-2905-4A34-B81A-134EDD06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829-4D61-488B-9FF7-AFE5754F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D74-C0EC-4F44-8A48-8090FD30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3B6-D676-4B03-AE3B-B73BAABF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031-989B-4A82-967B-7B36F075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113-2E33-444F-BDEC-22DCC0E6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7D2-E32A-4705-B95F-FCECA8D8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1F0-589B-4B64-8FE2-2A451778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D30-F183-4905-AFF9-74CB49F0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9DC7-C792-400E-A43B-E1938C7ABF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76280" y="2023920"/>
            <a:ext cx="8319960" cy="1584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357200" y="4287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РОК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99840" y="142884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§ 1, СТР.4 – 7, ЗАД.3 ПИСЬМЕН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43000" y="500040"/>
          <a:ext cx="7715160" cy="5786640"/>
        </p:xfrm>
        <a:graphic>
          <a:graphicData uri="http://schemas.openxmlformats.org/drawingml/2006/table">
            <a:tbl>
              <a:tblPr/>
              <a:tblGrid>
                <a:gridCol w="7715160"/>
              </a:tblGrid>
              <a:tr h="1239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роверьте свое умение определять координаты, высоты и глубин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   координаты: вершина Эверест, озеро Эйр, горы Аппалач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5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 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лубины и высоты: Бенгальский залив, Южно-Атлантический хребет, море Фиджи, горы Тибет, Прикаспийская низменность, пустыня Сахара, Бразильское плоскогорь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Вспомните основные понят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5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ия,карта, план, легенда карты,рельеф, погода, климат, горы, равнины,стороны горизонта,экватор, нулевой меридиан, река, озеро, ледник, ве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Прямоугольник 4"/>
          <p:cNvSpPr/>
          <p:nvPr/>
        </p:nvSpPr>
        <p:spPr>
          <a:xfrm>
            <a:off x="1143000" y="1928880"/>
            <a:ext cx="764388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143000" y="3286080"/>
            <a:ext cx="764388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1143000" y="5214960"/>
            <a:ext cx="771516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00040" y="571680"/>
            <a:ext cx="822960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еограф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аука, зародившаяся на заре развития человеческой мысли. Современная география - это целая система наук. В ней выделяются две группы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TextBox 3" descr=""/>
          <p:cNvPicPr/>
          <p:nvPr/>
        </p:nvPicPr>
        <p:blipFill>
          <a:blip r:embed="rId1"/>
          <a:stretch/>
        </p:blipFill>
        <p:spPr>
          <a:xfrm>
            <a:off x="2212920" y="2798640"/>
            <a:ext cx="4724280" cy="432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286000" y="364320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ЭКОНОМИЧЕС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урсе 7 класса мы будем продолжать изучение физической географии. Мы познакомимся с природой нашей планеты. Узнаем, как люди открывали и осваивали новые земли. Подробнее изучим свойства оболочек Земли. Мы научимся работать с различными географическими картами, таблицами, картин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УЖНО НА УРОКАХ ГЕОГРАФИИ                  В 7 КЛАСС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26146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ЕБ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 rot="21156600">
            <a:off x="901800" y="2181240"/>
            <a:ext cx="1869840" cy="2495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3571920" y="17146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ТЛА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 rot="596400">
            <a:off x="6557760" y="2468160"/>
            <a:ext cx="2104920" cy="282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3643200" y="2143080"/>
            <a:ext cx="2176560" cy="292896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500880" y="17859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УРНЫЕ КАР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 rot="20763000">
            <a:off x="1082160" y="866880"/>
            <a:ext cx="2189160" cy="27255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428760" y="28584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rcRect l="39063" t="0" r="0" b="0"/>
          <a:stretch/>
        </p:blipFill>
        <p:spPr>
          <a:xfrm>
            <a:off x="4429080" y="1000080"/>
            <a:ext cx="1666800" cy="2490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3571920" y="35712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ЫЕ КАРАНДА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857160" y="4643280"/>
            <a:ext cx="2963880" cy="1976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857160" y="414324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ОЙ КАРАНДА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4"/>
          <a:srcRect l="62460" t="12029" r="0" b="0"/>
          <a:stretch/>
        </p:blipFill>
        <p:spPr>
          <a:xfrm>
            <a:off x="6858000" y="3643200"/>
            <a:ext cx="1488960" cy="2587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1"/>
          <p:cNvSpPr/>
          <p:nvPr/>
        </p:nvSpPr>
        <p:spPr>
          <a:xfrm>
            <a:off x="6429240" y="271476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ЫЕ РУ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332424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357880" y="1571760"/>
            <a:ext cx="3214800" cy="3929040"/>
          </a:xfrm>
          <a:prstGeom prst="rect">
            <a:avLst/>
          </a:prstGeom>
          <a:ln w="0">
            <a:noFill/>
          </a:ln>
        </p:spPr>
      </p:pic>
      <p:sp>
        <p:nvSpPr>
          <p:cNvPr id="69" name="Счетверенная стрелка 5"/>
          <p:cNvSpPr/>
          <p:nvPr/>
        </p:nvSpPr>
        <p:spPr>
          <a:xfrm rot="2655000">
            <a:off x="1039320" y="261720"/>
            <a:ext cx="7259760" cy="696888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alibri"/>
              </a:rPr>
              <a:t>СКОЛЬКО НА ЗЕМЛЕ МАТЕРИКОВ И ОКЕАН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МАТЕРИКИ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Ф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СТРА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ЖНАЯ АМЕ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АРКТ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ВЕРНАЯ АМЕ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КЕ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Х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Й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ТЛАНТИЧЕ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ВЕРНЫЙ ЛЕДОВИТ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0-08-08T16:47:07Z</dcterms:modified>
  <cp:revision>5</cp:revision>
  <dc:subject/>
  <dc:title>Что изучают в курсе географии материков и океанов. </dc:title>
</cp:coreProperties>
</file>