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0E5-AAE8-4962-A09C-867BEC75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8C8-F1D8-4718-A915-D751160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4B4-32B8-4BCD-8849-D2A0B62E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C2F-2D94-4B0D-AF44-B9A75624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2EB4D-036D-4AB3-8C8E-B6CA640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CE5CB-79C5-4A0E-8597-80781C1E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91A7-4904-401F-BEB5-2D3F53C6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85B2-07DF-46D9-8AE1-9AFA5F14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0543-7F79-4E4E-BF27-F25D45B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33F3A-66A3-4905-8BF7-1220F95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9019-7012-41E0-8FDD-DB6EA8D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3B2-D187-4DAB-915E-BFE40660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130F-9E0A-4053-AA11-6EF2931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56CC-4A45-4D1D-B7AE-62F6B71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14E68-1623-4A06-9B0B-E8DF01E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DF91-B47F-412B-8D06-79519F71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98825-4524-42D2-BCBA-B58AE1D4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F402-CC52-4F7C-8D63-3A18881F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1FCF-21B9-4DCD-897A-7211EEDE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F3B2-ED7B-4A79-9F38-EC4C9733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2158-492E-4BF7-AEA0-F2689B4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0E1A-9F7B-4A98-9699-67B58E94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80D-3A1F-4EF8-BC71-0093244A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EF5E-828F-4A91-A37D-999DBA5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5DA7-21CB-4BB1-A5C6-C97FEB1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8668D-9DD9-4321-AC55-975BD1EA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8E10-3B32-4119-9FF3-1AA889C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5663-62EE-478B-A085-8976FD84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7C43-4A15-4593-BDB9-40A5A370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FB93-49FB-479C-9B31-FB3CCE23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ED8-CF4D-471D-BEBC-425FC163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C82-B81B-476B-A1CF-5C551CE8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C9C-3F4E-4EAF-9FA8-54895356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388-12B1-4060-9AD7-2F2421E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80F-C017-4068-9B48-D59B1BFB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B68-BA90-44FB-845F-5A9C208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5489-27B1-48FD-98B3-B788CADFF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0A59-E1E8-4604-8056-B8B89F6902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C9E-A05D-456D-B4FC-D37834EB68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0360" y="98100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учная-исследовательская рабо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ченика Гимназии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ru-RU" sz="2800" spc="-1" strike="noStrike" baseline="30000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Луцая Алекс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Измерение ускорения свободного па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4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00000" y="1628640"/>
          <a:ext cx="14794200" cy="421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628640"/>
                    <a:ext cx="147942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064360" y="2095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050920" y="2492280"/>
                <a:ext cx="4915080" cy="16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332000" y="1413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корость изменяется по линейному зако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64360" y="31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1413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равнение прямолинейного равноускорен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979640" y="2276640"/>
                <a:ext cx="5618160" cy="28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64360" y="37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1268280"/>
          <a:ext cx="7510320" cy="474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68280"/>
                    <a:ext cx="75103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659640" y="1773360"/>
            <a:ext cx="1367640" cy="3886920"/>
            <a:chOff x="6659640" y="1773360"/>
            <a:chExt cx="1367640" cy="3886920"/>
          </a:xfrm>
        </p:grpSpPr>
        <p:sp>
          <p:nvSpPr>
            <p:cNvPr id="240" name=""/>
            <p:cNvSpPr/>
            <p:nvPr/>
          </p:nvSpPr>
          <p:spPr>
            <a:xfrm>
              <a:off x="6659640" y="17733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59640" y="20512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23284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9640" y="260640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59640" y="28839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9640" y="31618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59640" y="34390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59640" y="371736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9640" y="39945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59640" y="42724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59640" y="45496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59640" y="482796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9640" y="51051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53830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164360" y="1197000"/>
            <a:ext cx="432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8000" y="1773360"/>
            <a:ext cx="4319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268000" y="3789000"/>
            <a:ext cx="4248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258920" y="2852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Webdings"/>
                <a:ea typeface="Webdings"/>
              </a:rPr>
              <a:t>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1.94444E-006 0.99467 E">
                                      <p:cBhvr>
                                        <p:cTn id="29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rcRect l="0" t="0" r="18189" b="0"/>
          <a:stretch/>
        </p:blipFill>
        <p:spPr>
          <a:xfrm>
            <a:off x="1332000" y="1052640"/>
            <a:ext cx="72738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-326880" y="1343160"/>
          <a:ext cx="9675720" cy="352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343160"/>
                    <a:ext cx="9675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03280" y="836640"/>
          <a:ext cx="6408720" cy="5232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836640"/>
                    <a:ext cx="640872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50920" y="5877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рафик движения тела в эксперименте по измерению ускорения свободного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132000" y="2349360"/>
                <a:ext cx="2880000" cy="23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8920" y="141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пределяем ускорение свободного па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67640" y="3357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41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тклонение от средн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332000" y="2060640"/>
                <a:ext cx="5688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332000" y="3500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Погрешность изме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403280" y="4292640"/>
                <a:ext cx="648180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8064360" y="2565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64360" y="49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30064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едме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476280"/>
            <a:ext cx="597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азработка способа и опытное измерение ускорения свободного падения с применением современного видеосъёмочного оборудова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азработать способ измерения ускорения свободного падения с применением современного видеосъёмочного обору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овести эксперимент по измерению ускорения свободного па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ычислить ускорение свободного па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пределить факторы влияющие на точность измерения.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пособ измерения ускорения свободного пад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Измеряемые величины: время и рассто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76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17002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43700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бъек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62064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184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57992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544500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-1184400" y="1343160"/>
          <a:ext cx="11812680" cy="335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84400" y="1343160"/>
                    <a:ext cx="118126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340000" y="5228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 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,85 ± 0,18 м/с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436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309680"/>
            <a:ext cx="7993080" cy="51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ено значение ускорения свободного падения, равное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0,85 ± 0,18 м/с</a:t>
            </a:r>
            <a:r>
              <a:rPr b="1" lang="ru-RU" sz="24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клонение найденного значения от измеренного другими методами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g=9,81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/с</a:t>
            </a:r>
            <a:r>
              <a:rPr b="1" lang="ru-RU" sz="24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составила около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0,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ля повышения точности определения ускорения свободного падения необходимо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высить точность измерения расстоя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ровести значительно большее число опытов и определить среднее значение по результатам этой с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50920" y="1700280"/>
            <a:ext cx="5256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27280" y="458640"/>
            <a:ext cx="61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Ускорение свободного падения можно определить следующим способ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а) Производится видеосъёмка падения объекта на фоне шкалы рас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б) На отдельных кадрах видеосъёмки определяется пройденное объектом расстоя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в) Производится вычисление ускорения свободного па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Анализ теоретической литературы, эксперимент, анализ экспериментальных данных.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6356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Гипотеза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90792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43700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Методы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458136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492360" y="333360"/>
            <a:ext cx="503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Аристо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384 г до н. э.-322 г до н. 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833560" cy="3456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19640" y="1484280"/>
            <a:ext cx="511308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Камень (как и все другие предметы) состоит из земли, поэтому он стремится вернуться к прородителю свой сущности – к зем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Так как природа не терпит пустоты, то воздух помогает движению камня, брошенного под углом к горизонт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Более тяжёлые тела всегда падают быстрее менее тяжёлы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Равномерное прямолинейное движение тела невозможно без приложенной к нему внешней сил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413000"/>
            <a:ext cx="5651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19360" y="404280"/>
            <a:ext cx="4812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Николай Копер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473 – 1543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855880" cy="309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348000" y="1873800"/>
            <a:ext cx="51116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 1543 году в свет вышла книга Николая Коперника «О вращении небесных сфер», в которой обосновывалась гелио-центрическая систем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о, что Земля и другие планеты вращаются вокруг Солнца, что было доказано с применением строгих математических расч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170028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95520" y="404280"/>
            <a:ext cx="4415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Галилео Галилей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564 – 1642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847960" cy="3168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48000" y="1739880"/>
            <a:ext cx="55450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корость падения тела не зависит от его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вободно падающее тело проходит путь пропорциональный квадрату (второй степени числа)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раектория падения тела, брошенного под углом к горизонту – пара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чение об инерциальных системах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184464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11000" y="404280"/>
            <a:ext cx="3676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Исаак Ньютон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643-1727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2127240"/>
            <a:ext cx="5545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ри закона классической меха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Закон всемирного тяго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Дифференциальное и интегральное счис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чение об инерциальных системах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184464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6510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05120" y="1557360"/>
            <a:ext cx="240192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852640"/>
            <a:ext cx="275904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вномерное прямолиней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корени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2852640"/>
            <a:ext cx="28810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корение 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437000"/>
            <a:ext cx="32194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вижение с постоянным ускорение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равноускоре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4437000"/>
            <a:ext cx="295272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вижение с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еменным ускор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1916280"/>
            <a:ext cx="754200" cy="936360"/>
          </a:xfrm>
          <a:custGeom>
            <a:avLst/>
            <a:gdLst/>
            <a:ahLst/>
            <a:rect l="l" t="t" r="r" b="b"/>
            <a:pathLst>
              <a:path w="900" h="720">
                <a:moveTo>
                  <a:pt x="900" y="0"/>
                </a:moveTo>
                <a:lnTo>
                  <a:pt x="3" y="3"/>
                </a:lnTo>
                <a:lnTo>
                  <a:pt x="0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07040" y="1916280"/>
            <a:ext cx="588960" cy="936360"/>
          </a:xfrm>
          <a:custGeom>
            <a:avLst/>
            <a:gdLst/>
            <a:ahLst/>
            <a:rect l="l" t="t" r="r" b="b"/>
            <a:pathLst>
              <a:path w="900" h="720">
                <a:moveTo>
                  <a:pt x="0" y="0"/>
                </a:moveTo>
                <a:lnTo>
                  <a:pt x="897" y="3"/>
                </a:lnTo>
                <a:lnTo>
                  <a:pt x="900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3357720"/>
            <a:ext cx="360360" cy="1079280"/>
          </a:xfrm>
          <a:custGeom>
            <a:avLst/>
            <a:gdLst/>
            <a:ahLst/>
            <a:rect l="l" t="t" r="r" b="b"/>
            <a:pathLst>
              <a:path w="360" h="903">
                <a:moveTo>
                  <a:pt x="360" y="3"/>
                </a:moveTo>
                <a:lnTo>
                  <a:pt x="3" y="0"/>
                </a:lnTo>
                <a:lnTo>
                  <a:pt x="0" y="9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3357720"/>
            <a:ext cx="432000" cy="1079280"/>
          </a:xfrm>
          <a:custGeom>
            <a:avLst/>
            <a:gdLst/>
            <a:ahLst/>
            <a:rect l="l" t="t" r="r" b="b"/>
            <a:pathLst>
              <a:path w="540" h="903">
                <a:moveTo>
                  <a:pt x="0" y="3"/>
                </a:moveTo>
                <a:lnTo>
                  <a:pt x="537" y="0"/>
                </a:lnTo>
                <a:lnTo>
                  <a:pt x="540" y="9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260280"/>
            <a:ext cx="5503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Виды движений в кин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692280"/>
            <a:ext cx="723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71640" y="404640"/>
            <a:ext cx="7200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мерное прямолиней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1844640"/>
          <a:ext cx="8139240" cy="382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844640"/>
                    <a:ext cx="8139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064360" y="20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26:12Z</dcterms:created>
  <dc:creator>ВЛ</dc:creator>
  <dc:description/>
  <dc:language>en-US</dc:language>
  <cp:lastModifiedBy>ВЛ</cp:lastModifiedBy>
  <dcterms:modified xsi:type="dcterms:W3CDTF">2010-03-21T16:49:02Z</dcterms:modified>
  <cp:revision>32</cp:revision>
  <dc:subject/>
  <dc:title>Слайд 1</dc:title>
</cp:coreProperties>
</file>