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ADD-D463-4B89-AB3C-EB22D9FF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700-806D-4C86-B3DF-C58C6541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193-3D56-4427-8189-96E07719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907-AE8B-4F36-BD2C-D6810F11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4D98-4F6F-41A1-B608-D8A715BA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1A6D-BC22-4603-BD5D-A941BFB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9ED25-3964-47B4-BE18-FAE3554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8DC8F-2A99-4A87-BFDC-34FC43E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91B7F-C2C6-4F46-879A-68A7D937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F4EC3-48C8-4362-9C3E-1ED543C6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B7F19-3467-49C1-846E-1A0824F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942-BA73-4E5E-B5D0-279DEA83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4260-8813-4596-8BAE-94FDB47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A4AE-9C89-4FA0-A52D-785CBF4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7C9B-CF29-48BE-9345-C56A281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92F0-3E51-483E-AE62-A848ECE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8DFE3-3409-42FB-A73C-8C4D9824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FB51-4738-4852-BCAF-531AAF6A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0858-D1F3-439D-802C-E1E07ED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86F0-9A23-4D5C-99F8-FE5A514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D4A0-0161-493D-987C-881191BF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6FA1-8457-4A3D-9122-1699AE3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320-B22F-4DB6-B7E3-CC1D0B6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D470-107C-47BA-ADFA-0A30BC5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4CDA-6508-4B05-9CC5-B213FD6B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9677-692A-4604-9AFB-62054C2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A502-44FF-4B1F-BE2A-EF0F50D0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9007-12B0-44B9-8982-0836A90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CE25-18E3-42CA-8253-96ED573B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C22F-D1DC-4CFC-A68E-0C1A3BA3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138-3263-4B4A-921C-166A5D6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BF3-EDA2-47A5-B139-8BB09D7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B57-3B50-425C-870C-A1AC3FD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CBD-70AD-4044-B9B7-0101FBE3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680-111E-4C57-B670-0FE3DE8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AFB-20D2-4E73-A8AC-88E2837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291-D61A-468E-99A6-31A19179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BFF7-9766-4332-8C8C-05184B5A1D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6675-D2BF-4FB4-9454-41D2FC9081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0360" y="9810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учная-исследовательская рабо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ченика Гимназии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2800" spc="-1" strike="noStrike" baseline="30000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Луцая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Измерение ускорения свободного па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00000" y="1628640"/>
          <a:ext cx="14794200" cy="421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628640"/>
                    <a:ext cx="147942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064360" y="2095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50920" y="2492280"/>
                <a:ext cx="4915080" cy="16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332000" y="1413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изменяется по линейному зако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64360" y="31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14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равнение прямолинейного равноускорен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979640" y="2276640"/>
                <a:ext cx="5618160" cy="28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64360" y="37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268280"/>
          <a:ext cx="7510320" cy="474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510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659640" y="1773360"/>
            <a:ext cx="1367640" cy="3886920"/>
            <a:chOff x="6659640" y="1773360"/>
            <a:chExt cx="1367640" cy="3886920"/>
          </a:xfrm>
        </p:grpSpPr>
        <p:sp>
          <p:nvSpPr>
            <p:cNvPr id="240" name=""/>
            <p:cNvSpPr/>
            <p:nvPr/>
          </p:nvSpPr>
          <p:spPr>
            <a:xfrm>
              <a:off x="6659640" y="17733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59640" y="20512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23284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260640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59640" y="28839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9640" y="31618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59640" y="34390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59640" y="37173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9640" y="39945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59640" y="42724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59640" y="45496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59640" y="48279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9640" y="51051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53830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164360" y="1197000"/>
            <a:ext cx="432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000" y="1773360"/>
            <a:ext cx="4319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268000" y="3789000"/>
            <a:ext cx="4248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258920" y="2852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ebdings"/>
                <a:ea typeface="Webdings"/>
              </a:rPr>
              <a:t>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1.94444E-006 0.99467 E">
                                      <p:cBhvr>
                                        <p:cTn id="29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0" t="0" r="18189" b="0"/>
          <a:stretch/>
        </p:blipFill>
        <p:spPr>
          <a:xfrm>
            <a:off x="1332000" y="1052640"/>
            <a:ext cx="7273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-326880" y="1343160"/>
          <a:ext cx="9675720" cy="352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343160"/>
                    <a:ext cx="9675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03280" y="836640"/>
          <a:ext cx="6408720" cy="523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836640"/>
                    <a:ext cx="640872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50920" y="5877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рафик движения тела в эксперименте по измерению ускорения свободного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132000" y="2349360"/>
                <a:ext cx="2880000" cy="23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пределяем ускорение свободного па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67640" y="3357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тклонение от средн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332000" y="2060640"/>
                <a:ext cx="5688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332000" y="3500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Погрешность изме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403280" y="4292640"/>
                <a:ext cx="648180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8064360" y="2565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64360" y="49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300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76280"/>
            <a:ext cx="597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ка способа и опытное измерение ускорения свободного падения с применением современного видеосъёмочного оборудова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ать способ измерения ускорения свободного падения с применением современного видеосъёмочного обору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овести эксперимент по измерению ускорения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ычислить ускорение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пределить факторы влияющие на точность измерения.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пособ измерения ускорения свободного пад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змеряемые величины: время и рассто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76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7002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43700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бъек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2064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184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57992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544500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-1184400" y="1343160"/>
          <a:ext cx="11812680" cy="335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84400" y="1343160"/>
                    <a:ext cx="118126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340000" y="5228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 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,85 ± 0,18 м/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436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309680"/>
            <a:ext cx="7993080" cy="51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ено значение ускорения свободного падения, равное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85 ± 0,18 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клонение найденного значения от измеренного другими методами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g=9,81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составила около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ля повышения точности определения ускорения свободного падения необходимо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высить точность измерения расстоя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ровести значительно большее число опытов и определить среднее значение по результатам этой с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50920" y="1700280"/>
            <a:ext cx="5256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7280" y="458640"/>
            <a:ext cx="61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Ускорение свободного падения можно определить следующим способ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) Производится видеосъёмка падения объекта на фоне шкалы рас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б) На отдельных кадрах видеосъёмки определяется пройденное объектом расстоя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в) Производится вычисление ускорения свободного па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нализ теоретической литературы, эксперимент, анализ экспериментальных данных.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6356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Гипотеза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90792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3700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Методы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458136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92360" y="333360"/>
            <a:ext cx="503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Аристо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384 г до н. э.-322 г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33560" cy="345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19640" y="1484280"/>
            <a:ext cx="511308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Камень (как и все другие предметы) состоит из земли, поэтому он стремится вернуться к прородителю свой сущности – к зем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Так как природа не терпит пустоты, то воздух помогает движению камня, брошенного под углом к горизон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Более тяжёлые тела всегда падают быстрее менее тяжёлы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Равномерное прямолинейное движение тела невозможно без приложенной к нему внешней сил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413000"/>
            <a:ext cx="5651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19360" y="404280"/>
            <a:ext cx="4812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Николай Копер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473 – 1543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55880" cy="309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48000" y="1873800"/>
            <a:ext cx="51116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 1543 году в свет вышла книга Николая Коперника «О вращении небесных сфер», в которой обосновывалась гелио-центрическая систем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о, что Земля и другие планеты вращаются вокруг Солнца, что было доказано с применением строгих математических расч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170028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95520" y="404280"/>
            <a:ext cx="4415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Галилео Галилей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564 – 1642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48000" y="1739880"/>
            <a:ext cx="5545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падения тела не зависит от его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вободно падающее тело проходит путь пропорциональный квадрату (второй степени числа)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аектория падения тела, брошенного под углом к горизонту – пара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11000" y="404280"/>
            <a:ext cx="3676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Исаак Ньютон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643-1727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2127240"/>
            <a:ext cx="5545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и закона классической меха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Закон всемирного тяго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Дифференциальное и интегральное счис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6510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05120" y="1557360"/>
            <a:ext cx="2401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852640"/>
            <a:ext cx="275904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вномерное прямолиней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2852640"/>
            <a:ext cx="28810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437000"/>
            <a:ext cx="32194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постоянным ускорение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равноускоре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4437000"/>
            <a:ext cx="295272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еменным ускор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1916280"/>
            <a:ext cx="75420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900" y="0"/>
                </a:moveTo>
                <a:lnTo>
                  <a:pt x="3" y="3"/>
                </a:lnTo>
                <a:lnTo>
                  <a:pt x="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7040" y="1916280"/>
            <a:ext cx="58896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0" y="0"/>
                </a:moveTo>
                <a:lnTo>
                  <a:pt x="897" y="3"/>
                </a:lnTo>
                <a:lnTo>
                  <a:pt x="90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3357720"/>
            <a:ext cx="360360" cy="1079280"/>
          </a:xfrm>
          <a:custGeom>
            <a:avLst/>
            <a:gdLst/>
            <a:ahLst/>
            <a:rect l="l" t="t" r="r" b="b"/>
            <a:pathLst>
              <a:path w="360" h="903">
                <a:moveTo>
                  <a:pt x="360" y="3"/>
                </a:moveTo>
                <a:lnTo>
                  <a:pt x="3" y="0"/>
                </a:lnTo>
                <a:lnTo>
                  <a:pt x="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3357720"/>
            <a:ext cx="432000" cy="1079280"/>
          </a:xfrm>
          <a:custGeom>
            <a:avLst/>
            <a:gdLst/>
            <a:ahLst/>
            <a:rect l="l" t="t" r="r" b="b"/>
            <a:pathLst>
              <a:path w="540" h="903">
                <a:moveTo>
                  <a:pt x="0" y="3"/>
                </a:moveTo>
                <a:lnTo>
                  <a:pt x="537" y="0"/>
                </a:lnTo>
                <a:lnTo>
                  <a:pt x="54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260280"/>
            <a:ext cx="5503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Виды движений в кин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692280"/>
            <a:ext cx="723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1640" y="404640"/>
            <a:ext cx="7200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мерное прямолиней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1844640"/>
          <a:ext cx="8139240" cy="382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44640"/>
                    <a:ext cx="8139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064360" y="20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26:12Z</dcterms:created>
  <dc:creator>ВЛ</dc:creator>
  <dc:description/>
  <dc:language>en-US</dc:language>
  <cp:lastModifiedBy>ВЛ</cp:lastModifiedBy>
  <dcterms:modified xsi:type="dcterms:W3CDTF">2010-03-21T16:49:02Z</dcterms:modified>
  <cp:revision>32</cp:revision>
  <dc:subject/>
  <dc:title>Слайд 1</dc:title>
</cp:coreProperties>
</file>