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E4C-6D9C-4188-B3F0-96763594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E16-C64E-4FD3-957B-31F7B54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622-62DF-491C-9CD1-F44F759C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076-46AE-4E98-BD5F-580F9814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09296-98E4-46DA-B424-A2FFAA55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36D20-85A8-4088-90E5-24191C4C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84CEC-5497-4D04-9547-2768078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54C3-11EF-457F-80A9-8560DDDA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B732-3BD9-4452-BB22-C843529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756F6-8EE1-4783-A362-C94F54F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162CC-72ED-48EA-A7D8-2CE2F2C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53F-472B-403F-8975-7683284C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79053-AB08-4A5F-B493-5808136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50F2C-75F6-4D25-8B18-9F25D57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DD828-BD86-4282-80DB-D28556B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00CC3-CD59-47DD-A714-8FFBEAEC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894E-EC7F-4B07-941C-0F36C321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1738-A4D4-4F27-92D2-40FDE22B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54DB-877B-4CF9-A66B-FF1924F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C6B1-9E03-4F40-9D09-C7E30810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FD28-3CAF-4312-9116-C26B7F6E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A4B4-8D07-419B-85F4-EC93E76B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F36-9E1D-4703-899E-847F98C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31AC-5EAE-440A-8D55-1D5EE8E9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6B33-78D5-46F6-A9E8-759B80A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F6D0-0A68-47E5-A9A6-5F66DD0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C3CE-7C9B-460D-B5ED-E90294B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148E-FC42-4144-B1D8-C14A6F0C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B53E-2435-411C-9790-66C71509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973B-CC17-4DB7-9125-540C1F3A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BF6-FD37-4048-A730-F5DEB55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669-E8C3-43E6-9E7F-9F7736F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15F-BD47-42B4-98F4-513C8EC9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298-12BC-4401-80F0-CAB6761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816-DA16-4020-A4C9-44558D62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09B-36BB-4C10-A0AC-9B29068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0F3A-89FE-409C-8E53-FAFF7098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908-2E0D-40F6-82CA-5ACA95CAC3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A05F-4E05-4D29-9CCC-053C7EF243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0360" y="9810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учная-исследовательская рабо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ченика Гимназии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2800" spc="-1" strike="noStrike" baseline="30000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Луцая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Измерение ускорения свободного па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4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00000" y="1628640"/>
          <a:ext cx="14794200" cy="421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628640"/>
                    <a:ext cx="147942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064360" y="2095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50920" y="2492280"/>
                <a:ext cx="4915080" cy="16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332000" y="1413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изменяется по линейному зако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64360" y="31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14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равнение прямолинейного равноускоренного дви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979640" y="2276640"/>
                <a:ext cx="5618160" cy="28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a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64360" y="37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404640"/>
            <a:ext cx="6913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ускорен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268280"/>
          <a:ext cx="7510320" cy="474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268280"/>
                    <a:ext cx="75103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659640" y="1773360"/>
            <a:ext cx="1367640" cy="3886920"/>
            <a:chOff x="6659640" y="1773360"/>
            <a:chExt cx="1367640" cy="3886920"/>
          </a:xfrm>
        </p:grpSpPr>
        <p:sp>
          <p:nvSpPr>
            <p:cNvPr id="240" name=""/>
            <p:cNvSpPr/>
            <p:nvPr/>
          </p:nvSpPr>
          <p:spPr>
            <a:xfrm>
              <a:off x="6659640" y="17733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59640" y="20512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59640" y="23284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9640" y="260640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59640" y="28839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9640" y="31618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59640" y="34390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59640" y="37173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9640" y="39945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59640" y="42724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59640" y="454968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59640" y="482796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59640" y="5105160"/>
              <a:ext cx="13676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5383080"/>
              <a:ext cx="1367640" cy="27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164360" y="1197000"/>
            <a:ext cx="432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000" y="1773360"/>
            <a:ext cx="4319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268000" y="3789000"/>
            <a:ext cx="4248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258920" y="2852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Webdings"/>
                <a:ea typeface="Webdings"/>
              </a:rPr>
              <a:t>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1.94444E-006 0.99467 E">
                                      <p:cBhvr>
                                        <p:cTn id="29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0" t="0" r="18189" b="0"/>
          <a:stretch/>
        </p:blipFill>
        <p:spPr>
          <a:xfrm>
            <a:off x="1332000" y="1052640"/>
            <a:ext cx="7273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-326880" y="1343160"/>
          <a:ext cx="9675720" cy="352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343160"/>
                    <a:ext cx="9675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03280" y="836640"/>
          <a:ext cx="6408720" cy="523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836640"/>
                    <a:ext cx="640872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50920" y="5877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рафик движения тела в эксперименте по измерению ускорения свободного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132000" y="2349360"/>
                <a:ext cx="2880000" cy="23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пределяем ускорение свободного па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67640" y="3357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413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Отклонение от средн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332000" y="2060640"/>
                <a:ext cx="5688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332000" y="3500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Погрешность изме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403280" y="4292640"/>
                <a:ext cx="648180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8064360" y="2565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064360" y="49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30064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476280"/>
            <a:ext cx="597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ка способа и опытное измерение ускорения свободного падения с применением современного видеосъёмочного оборудова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Разработать способ измерения ускорения свободного падения с применением современного видеосъёмочного обору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овести эксперимент по измерению ускорения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ычислить ускорение свободного па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пределить факторы влияющие на точность измерения.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пособ измерения ускорения свободного пад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Измеряемые величины: время и рассто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76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7002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43700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Объект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2064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184464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57992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5445000"/>
            <a:ext cx="216000" cy="360360"/>
          </a:xfrm>
          <a:custGeom>
            <a:avLst/>
            <a:gdLst>
              <a:gd name="textAreaLeft" fmla="*/ 0 w 216000"/>
              <a:gd name="textAreaRight" fmla="*/ 21636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5892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змерение ускорения свободного п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-1184400" y="1343160"/>
          <a:ext cx="11812680" cy="335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84400" y="1343160"/>
                    <a:ext cx="118126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2340000" y="5228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 =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,85 ± 0,18 м/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4360" y="404640"/>
            <a:ext cx="7634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309680"/>
            <a:ext cx="7993080" cy="51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ено значение ускорения свободного падения, равное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85 ± 0,18 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тклонение найденного значения от измеренного другими методами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g=9,81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/с</a:t>
            </a:r>
            <a:r>
              <a:rPr b="1" lang="ru-RU" sz="24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составила около 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10,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Для повышения точности определения ускорения свободного падения необходимо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овысить точность измерения расстоя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99"/>
              </a:buClr>
              <a:buFont typeface="Tahoma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провести значительно большее число опытов и определить среднее значение по результатам этой с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50920" y="1700280"/>
            <a:ext cx="5256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27280" y="458640"/>
            <a:ext cx="61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Ускорение свободного падения можно определить следующим способ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) Производится видеосъёмка падения объекта на фоне шкалы рас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б) На отдельных кадрах видеосъёмки определяется пройденное объектом расстоя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в) Производится вычисление ускорения свободного па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Анализ теоретической литературы, эксперимент, анализ экспериментальных данных.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6356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Гипотеза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90792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37000"/>
            <a:ext cx="21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Методы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4581360"/>
            <a:ext cx="216000" cy="3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e0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492360" y="333360"/>
            <a:ext cx="503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Аристо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384 г до н. э.-322 г до н. 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33560" cy="345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19640" y="1484280"/>
            <a:ext cx="511308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Камень (как и все другие предметы) состоит из земли, поэтому он стремится вернуться к прородителю свой сущности – к зем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Так как природа не терпит пустоты, то воздух помогает движению камня, брошенного под углом к горизон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Более тяжёлые тела всегда падают быстрее менее тяжёлы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«Равномерное прямолинейное движение тела невозможно без приложенной к нему внешней сил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413000"/>
            <a:ext cx="5651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19360" y="404280"/>
            <a:ext cx="4812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Николай Копер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473 – 1543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855880" cy="309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348000" y="1873800"/>
            <a:ext cx="51116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В 1543 году в свет вышла книга Николая Коперника «О вращении небесных сфер», в которой обосновывалась гелио-центрическая система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о, что Земля и другие планеты вращаются вокруг Солнца, что было доказано с применением строгих математических расч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170028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95520" y="404280"/>
            <a:ext cx="4415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Галилео Галилей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564 – 1642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48000" y="1739880"/>
            <a:ext cx="55450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корость падения тела не зависит от его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Свободно падающее тело проходит путь пропорциональный квадрату (второй степени числа)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аектория падения тела, брошенного под углом к горизонту – пара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11000" y="404280"/>
            <a:ext cx="3676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Исаак Ньютон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1643-1727 гг.)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2127240"/>
            <a:ext cx="5545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Три закона классической меха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Закон всемирного тяго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Дифференциальное и интегральное счис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Учение об инерциальных системах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1844640"/>
            <a:ext cx="5651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6510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05120" y="1557360"/>
            <a:ext cx="2401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852640"/>
            <a:ext cx="275904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вномерное прямолиней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2852640"/>
            <a:ext cx="28810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корение 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68360" y="4437000"/>
            <a:ext cx="32194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постоянным ускорение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(равноускоре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4437000"/>
            <a:ext cx="295272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вижение с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еменным ускор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0920" y="1916280"/>
            <a:ext cx="75420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900" y="0"/>
                </a:moveTo>
                <a:lnTo>
                  <a:pt x="3" y="3"/>
                </a:lnTo>
                <a:lnTo>
                  <a:pt x="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07040" y="1916280"/>
            <a:ext cx="588960" cy="936360"/>
          </a:xfrm>
          <a:custGeom>
            <a:avLst/>
            <a:gdLst/>
            <a:ahLst/>
            <a:rect l="l" t="t" r="r" b="b"/>
            <a:pathLst>
              <a:path w="900" h="720">
                <a:moveTo>
                  <a:pt x="0" y="0"/>
                </a:moveTo>
                <a:lnTo>
                  <a:pt x="897" y="3"/>
                </a:lnTo>
                <a:lnTo>
                  <a:pt x="900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3357720"/>
            <a:ext cx="360360" cy="1079280"/>
          </a:xfrm>
          <a:custGeom>
            <a:avLst/>
            <a:gdLst/>
            <a:ahLst/>
            <a:rect l="l" t="t" r="r" b="b"/>
            <a:pathLst>
              <a:path w="360" h="903">
                <a:moveTo>
                  <a:pt x="360" y="3"/>
                </a:moveTo>
                <a:lnTo>
                  <a:pt x="3" y="0"/>
                </a:lnTo>
                <a:lnTo>
                  <a:pt x="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4360" y="3357720"/>
            <a:ext cx="432000" cy="1079280"/>
          </a:xfrm>
          <a:custGeom>
            <a:avLst/>
            <a:gdLst/>
            <a:ahLst/>
            <a:rect l="l" t="t" r="r" b="b"/>
            <a:pathLst>
              <a:path w="540" h="903">
                <a:moveTo>
                  <a:pt x="0" y="3"/>
                </a:moveTo>
                <a:lnTo>
                  <a:pt x="537" y="0"/>
                </a:lnTo>
                <a:lnTo>
                  <a:pt x="540" y="9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260280"/>
            <a:ext cx="5503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Виды движений в кин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692280"/>
            <a:ext cx="723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1640" y="404640"/>
            <a:ext cx="7200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авномерное прямолинейн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907920"/>
            <a:ext cx="7812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1844640"/>
          <a:ext cx="8139240" cy="382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44640"/>
                    <a:ext cx="8139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064360" y="20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4:26:12Z</dcterms:created>
  <dc:creator>ВЛ</dc:creator>
  <dc:description/>
  <dc:language>en-US</dc:language>
  <cp:lastModifiedBy>ВЛ</cp:lastModifiedBy>
  <dcterms:modified xsi:type="dcterms:W3CDTF">2010-03-21T16:49:02Z</dcterms:modified>
  <cp:revision>32</cp:revision>
  <dc:subject/>
  <dc:title>Слайд 1</dc:title>
</cp:coreProperties>
</file>