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4B9C-1FF2-4CB6-9846-23A3BA81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EDEA-7F60-4B73-9E27-FDE3884F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746D-0DFB-424A-94D4-9A5087F8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F7F1-54A0-4E6F-9347-38FB646B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82A86-EB8A-417A-93D3-7BE59EE8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295BC-CAB5-451C-846A-87B65DC6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7399F-0A4E-4FF9-AED1-952E8D45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6B6E4-8C28-4BD6-97BF-B7B6F78C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8E754-4494-4C0C-B715-23B345A0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FFB79-BC2E-4B8A-B0DD-E802F0FD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AA554-3CF0-4145-9E6D-97AE1886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02FE-F160-41C4-BBF0-41927C78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DE2D4-8509-4170-80D3-FDABD95E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3A763-45A3-4297-AFC7-EB154FAF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D4321-2AA9-4EBD-ADD6-AC8A0C1D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837E9-EE24-4FB3-AB3C-87ECB349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B7179-3A78-4687-8711-10BF09F0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651A3-D1E9-4F0B-9D5C-6FFA19CF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6BC8F-2364-4D1F-9FE5-7B425CA4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E33B5-DEC5-459B-8767-E318D776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A92D9-C1DC-4A03-82FE-DA3ADB77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73B35-25F6-4E5C-A992-EDF7ACF9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2EE5-CEE5-4DDE-A89A-D9EF3A35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8BD35-863A-4503-A8C5-E1E9AC10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64F34-9358-42E4-9009-F52C313E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20F7F-2E3A-4932-8E4C-74BEF456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8CFE8-112A-49DC-BC03-DD64E5D9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4EBB4-88AF-4435-92AC-A7414B38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A4351-A3F4-4541-8F6B-F8980900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C2905-70C5-4A49-B4B1-CB3A04E1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8ACAB1-7425-4861-9D42-C7198B5F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105936-245A-4EE5-BBD2-C1889EE8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972569-4E8C-4395-AFAE-8EC92DB2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BB2F-F6CA-4B50-AAB2-4BC2CDE3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AD2A0F-EA55-46BE-94EB-83795915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0B29D8-3D12-4FBD-82C7-97F2D827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05BC1F-A522-4EF8-A0C8-039C10BD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E7BAC5-7B27-457B-A0C3-2D983623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815B68-9896-43C3-8E4F-728168A9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E753DE-3135-4691-A11F-A85B54AF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42B7D0-F693-4FA4-B4AD-3BD3DEAE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5F2F6A-13EF-40D6-B247-D79EE616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F59146-86C4-45A3-9C4F-5D097BB0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35D-8B7B-4E35-B437-5BA4F706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1603-1675-4BED-80EB-FA767C2B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5FC7-46F3-49BE-A8EE-ED848034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CF09-42EE-4C39-88C6-2EC72CB3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FAC3-EC8D-45FE-B14D-A0DEF665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c1d1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DEE3-7700-4B07-B536-BDA8C3D43A8C}" type="datetime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Миннахметова Янина Викто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7D62-CE04-44DE-84C1-4900867BBA32}" type="slidenum">
              <a:rPr b="0" lang="ru-RU" sz="16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aa2b1e"/>
          </a:solidFill>
          <a:ln w="38160">
            <a:solidFill>
              <a:srgbClr val="aa2b1e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c1d1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2399-39CF-44BE-A67B-09A1D43803E0}" type="datetime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0654-286F-47EB-9386-A0A64539C998}" type="slidenum">
              <a:rPr b="0" lang="ru-RU" sz="16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Миннахметова Янина Викто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c1d1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05AB-31F6-4CA6-9F7F-2741D730243B}" type="datetime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Миннахметова Янина Викто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8D90-6E49-4478-A307-5B371251F2E6}" type="slidenum">
              <a:rPr b="0" lang="ru-RU" sz="16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c1d1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02B3-759A-4A5E-A1DC-DD5653A755A9}" type="slidenum">
              <a:rPr b="0" lang="ru-RU" sz="16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Миннахметова Янина Викто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A57A-F314-4416-8483-34791A4D6E34}" type="datetime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otvetin.ru/uploads/posts/2009-11/1258396382_nota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ru.wikipedia.org/" TargetMode="External"/><Relationship Id="rId3" Type="http://schemas.openxmlformats.org/officeDocument/2006/relationships/hyperlink" Target="http://images.yandex.ru/yandsearchFstock-vector-vector-music-theme-22454539.jpg&amp;noreask=1&amp;lr=213&amp;p=17" TargetMode="External"/><Relationship Id="rId4" Type="http://schemas.openxmlformats.org/officeDocument/2006/relationships/hyperlink" Target="http://images.yandex.ru/yandsearchFstock-vector-vector-music-theme-22454539.jpg&amp;noreask=1&amp;lr=213&amp;p=17" TargetMode="External"/><Relationship Id="rId5" Type="http://schemas.openxmlformats.org/officeDocument/2006/relationships/hyperlink" Target="http://images.yandex.ru/yandsearchFstock-vector-vector-music-theme-22454539.jpg&amp;noreask=1&amp;lr=213&amp;p=17" TargetMode="External"/><Relationship Id="rId6" Type="http://schemas.openxmlformats.org/officeDocument/2006/relationships/hyperlink" Target="http://images.yandex.ru/yandsearch?text" TargetMode="External"/><Relationship Id="rId7" Type="http://schemas.openxmlformats.org/officeDocument/2006/relationships/hyperlink" Target="http://images.yandex.ru/yandsearch?text" TargetMode="External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bestpaper.ru/Games/age_of_mythology/wallpaper_age_of_mythology_02_1280x1024.jpg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rtalbum.org.ua/vc_thumb/prehistory/prehistorical_painting_02Dance.png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s52.radikal.ru/i138/0911/86/3f38be01a2be.png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ianoweb.free.fr/dictionnaire-musique/images/neume-1.gif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tihi.ru/pics/2009/01/31/2258.gif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етская школа искусств №1 г. Альметьевск Р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иннахметова Янина Викторов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еподаватель теории музык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квалификационной категори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Прямоугольник 3" descr=""/>
          <p:cNvPicPr/>
          <p:nvPr/>
        </p:nvPicPr>
        <p:blipFill>
          <a:blip r:embed="rId1"/>
          <a:stretch/>
        </p:blipFill>
        <p:spPr>
          <a:xfrm>
            <a:off x="646200" y="1805040"/>
            <a:ext cx="7802640" cy="1657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3408480" y="262080"/>
            <a:ext cx="2004840" cy="2004840"/>
          </a:xfrm>
          <a:prstGeom prst="rect">
            <a:avLst/>
          </a:prstGeom>
          <a:ln w="0">
            <a:noFill/>
          </a:ln>
        </p:spPr>
      </p:pic>
      <p:sp>
        <p:nvSpPr>
          <p:cNvPr id="173" name="Нижний колонтитул 5"/>
          <p:cNvSpPr/>
          <p:nvPr/>
        </p:nvSpPr>
        <p:spPr>
          <a:xfrm>
            <a:off x="2619360" y="6165720"/>
            <a:ext cx="35812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68360" y="333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е эти обозначения были не совсем удобными. Например,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Constantia"/>
              </a:rPr>
              <a:t>нев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рисовали над текстом. Они подсказывали певцу, как должна двигаться мелодия. Подсказка помогала лишь тогда, когда музыкант знал мелодию наизуст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Picture 6" descr="Картинка 199 из 1609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2649600"/>
            <a:ext cx="6553080" cy="3503520"/>
          </a:xfrm>
          <a:prstGeom prst="rect">
            <a:avLst/>
          </a:prstGeom>
          <a:ln w="0">
            <a:noFill/>
          </a:ln>
        </p:spPr>
      </p:pic>
      <p:sp>
        <p:nvSpPr>
          <p:cNvPr id="206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5280" y="260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узыкой в средние века могли заниматься только монахи и богословы. В конце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века один из них сделал гениальное изобретение. Он провел на бумаге линию, на которой нарисовал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Constantia"/>
              </a:rPr>
              <a:t>нев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одной высоты. Эта линия была красного цвета. Потом кто-то добавил к первой линии вторую. Она была желтой и означала другой звук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Picture 6" descr="http://im3-tub-ru.yandex.net/i?id=35794773-43-72"/>
          <p:cNvPicPr/>
          <p:nvPr/>
        </p:nvPicPr>
        <p:blipFill>
          <a:blip r:embed="rId1"/>
          <a:stretch/>
        </p:blipFill>
        <p:spPr>
          <a:xfrm>
            <a:off x="5132520" y="3754440"/>
            <a:ext cx="3902040" cy="2786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://im7-tub-ru.yandex.net/i?id=120753706-43-72"/>
          <p:cNvPicPr/>
          <p:nvPr/>
        </p:nvPicPr>
        <p:blipFill>
          <a:blip r:embed="rId2"/>
          <a:stretch/>
        </p:blipFill>
        <p:spPr>
          <a:xfrm>
            <a:off x="609480" y="4175280"/>
            <a:ext cx="2365560" cy="1847520"/>
          </a:xfrm>
          <a:prstGeom prst="rect">
            <a:avLst/>
          </a:prstGeom>
          <a:ln w="0">
            <a:noFill/>
          </a:ln>
        </p:spPr>
      </p:pic>
      <p:sp>
        <p:nvSpPr>
          <p:cNvPr id="210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95280" y="76500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ами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Constantia"/>
              </a:rPr>
              <a:t>нев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превратились из крючков в квадратики, затем в ромбы, а позднее стали круглыми.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Рисунок 3" descr="http://www.muz-urok.ru/nevmyi/b_ordinar.jpg"/>
          <p:cNvPicPr/>
          <p:nvPr/>
        </p:nvPicPr>
        <p:blipFill>
          <a:blip r:embed="rId1"/>
          <a:stretch/>
        </p:blipFill>
        <p:spPr>
          <a:xfrm>
            <a:off x="179280" y="2637000"/>
            <a:ext cx="3961080" cy="375264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4" descr="http://www.muz-urok.ru/nevmyi/02_b.jpg"/>
          <p:cNvPicPr/>
          <p:nvPr/>
        </p:nvPicPr>
        <p:blipFill>
          <a:blip r:embed="rId2"/>
          <a:stretch/>
        </p:blipFill>
        <p:spPr>
          <a:xfrm>
            <a:off x="4284720" y="2637000"/>
            <a:ext cx="4572000" cy="3752640"/>
          </a:xfrm>
          <a:prstGeom prst="rect">
            <a:avLst/>
          </a:prstGeom>
          <a:ln w="0">
            <a:noFill/>
          </a:ln>
        </p:spPr>
      </p:pic>
      <p:sp>
        <p:nvSpPr>
          <p:cNvPr id="214" name="Нижний колонтитул 5"/>
          <p:cNvSpPr/>
          <p:nvPr/>
        </p:nvSpPr>
        <p:spPr>
          <a:xfrm>
            <a:off x="2349360" y="6400800"/>
            <a:ext cx="3581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68360" y="549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ак появились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onstantia"/>
              </a:rPr>
              <a:t>ноты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которые разместились на линейках. Буквы, стоявшие в начале линейки, превратились в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onstantia"/>
              </a:rPr>
              <a:t>ключ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Таблица 5" descr=""/>
          <p:cNvPicPr/>
          <p:nvPr/>
        </p:nvPicPr>
        <p:blipFill>
          <a:blip r:embed="rId1"/>
          <a:stretch/>
        </p:blipFill>
        <p:spPr>
          <a:xfrm>
            <a:off x="878040" y="5535720"/>
            <a:ext cx="7248240" cy="64584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7" descr="Описание: http://www.muz-urok.ru/nevmyi/key_1.gif"/>
          <p:cNvPicPr/>
          <p:nvPr/>
        </p:nvPicPr>
        <p:blipFill>
          <a:blip r:embed="rId2"/>
          <a:stretch/>
        </p:blipFill>
        <p:spPr>
          <a:xfrm>
            <a:off x="1077840" y="2276640"/>
            <a:ext cx="2808360" cy="285588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6" descr="Описание: http://www.muz-urok.ru/nevmyi/key_3.gif"/>
          <p:cNvPicPr/>
          <p:nvPr/>
        </p:nvPicPr>
        <p:blipFill>
          <a:blip r:embed="rId3"/>
          <a:stretch/>
        </p:blipFill>
        <p:spPr>
          <a:xfrm>
            <a:off x="4859280" y="2766960"/>
            <a:ext cx="2971800" cy="2519280"/>
          </a:xfrm>
          <a:prstGeom prst="rect">
            <a:avLst/>
          </a:prstGeom>
          <a:ln w="0">
            <a:noFill/>
          </a:ln>
        </p:spPr>
      </p:pic>
      <p:sp>
        <p:nvSpPr>
          <p:cNvPr id="219" name="Нижний колонтитул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95280" y="404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 сами названия нот родились из первых слогов семи строчек латинского гимна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Constantia"/>
              </a:rPr>
              <a:t>святому Иоанну -покровителю певц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С тех самых пор во всем мире пользуются нотами для записи музык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Таблица 3" descr=""/>
          <p:cNvPicPr/>
          <p:nvPr/>
        </p:nvPicPr>
        <p:blipFill>
          <a:blip r:embed="rId1"/>
          <a:stretch/>
        </p:blipFill>
        <p:spPr>
          <a:xfrm>
            <a:off x="450720" y="2127240"/>
            <a:ext cx="8259840" cy="4365720"/>
          </a:xfrm>
          <a:prstGeom prst="rect">
            <a:avLst/>
          </a:prstGeom>
          <a:ln w="0">
            <a:noFill/>
          </a:ln>
        </p:spPr>
      </p:pic>
      <p:sp>
        <p:nvSpPr>
          <p:cNvPr id="222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Объект 1"/>
          <p:cNvGrpSpPr/>
          <p:nvPr/>
        </p:nvGrpSpPr>
        <p:grpSpPr>
          <a:xfrm>
            <a:off x="450720" y="1109520"/>
            <a:ext cx="8259840" cy="5284800"/>
            <a:chOff x="450720" y="1109520"/>
            <a:chExt cx="8259840" cy="5284800"/>
          </a:xfrm>
        </p:grpSpPr>
        <p:pic>
          <p:nvPicPr>
            <p:cNvPr id="224" name="Объект 1" descr=""/>
            <p:cNvPicPr/>
            <p:nvPr/>
          </p:nvPicPr>
          <p:blipFill>
            <a:blip r:embed="rId1"/>
            <a:stretch/>
          </p:blipFill>
          <p:spPr>
            <a:xfrm>
              <a:off x="450720" y="1109520"/>
              <a:ext cx="8259840" cy="528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68360" y="1125360"/>
              <a:ext cx="822960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spcBef>
                  <a:spcPts val="601"/>
                </a:spcBef>
                <a:buClr>
                  <a:srgbClr val="ff0000"/>
                </a:buClr>
                <a:buSzPct val="85000"/>
                <a:buFont typeface="IMG Symbols"/>
                <a:buChar char="9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nstantia"/>
                </a:rPr>
                <a:t>http://www.muz-urok.ru/muz_istorii_skazki.htm</a:t>
              </a:r>
              <a:r>
                <a:rPr b="0" lang="ru-RU" sz="2400" spc="-1" strike="noStrike" u="sng">
                  <a:solidFill>
                    <a:srgbClr val="ff0000"/>
                  </a:solidFill>
                  <a:uFillTx/>
                  <a:latin typeface="Constantia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– сайт «Детям о музыке»  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272880" indent="-272880">
                <a:spcBef>
                  <a:spcPts val="601"/>
                </a:spcBef>
                <a:buClr>
                  <a:srgbClr val="000000"/>
                </a:buClr>
                <a:buSzPct val="85000"/>
                <a:buFont typeface="IMG Symbols"/>
                <a:buChar char="9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d83e2c"/>
                  </a:solidFill>
                  <a:uFillTx/>
                  <a:latin typeface="Constantia"/>
                  <a:hlinkClick r:id="rId2"/>
                </a:rPr>
                <a:t>http://ru.wikipedia.org/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 - определения 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272880" indent="-272880">
                <a:spcBef>
                  <a:spcPts val="601"/>
                </a:spcBef>
                <a:buClr>
                  <a:srgbClr val="000000"/>
                </a:buClr>
                <a:buSzPct val="85000"/>
                <a:buFont typeface="IMG Symbols"/>
                <a:buChar char="9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d83e2c"/>
                  </a:solidFill>
                  <a:uFillTx/>
                  <a:latin typeface="Constantia"/>
                  <a:hlinkClick r:id="rId3"/>
                </a:rPr>
                <a:t>http</a:t>
              </a:r>
              <a:r>
                <a:rPr b="0" lang="ru-RU" sz="2400" spc="-1" strike="noStrike" u="sng">
                  <a:solidFill>
                    <a:srgbClr val="d83e2c"/>
                  </a:solidFill>
                  <a:uFillTx/>
                  <a:latin typeface="Constantia"/>
                  <a:hlinkClick r:id="rId4"/>
                </a:rPr>
                <a:t>://</a:t>
              </a:r>
              <a:r>
                <a:rPr b="0" lang="ru-RU" sz="2400" spc="-1" strike="noStrike" u="sng">
                  <a:solidFill>
                    <a:srgbClr val="d83e2c"/>
                  </a:solidFill>
                  <a:uFillTx/>
                  <a:latin typeface="Constantia"/>
                  <a:hlinkClick r:id="rId5"/>
                </a:rPr>
                <a:t>images.yandex.ru/yandsearchFstock-vector-vector-music-theme-22454539.jpg&amp;noreask=1&amp;lr=213&amp;p=17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 – изображение первобытного строя 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272880" indent="-272880">
                <a:spcBef>
                  <a:spcPts val="601"/>
                </a:spcBef>
                <a:buClr>
                  <a:srgbClr val="000000"/>
                </a:buClr>
                <a:buSzPct val="85000"/>
                <a:buFont typeface="IMG Symbols"/>
                <a:buChar char="9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d83e2c"/>
                  </a:solidFill>
                  <a:uFillTx/>
                  <a:latin typeface="Constantia"/>
                  <a:hlinkClick r:id="rId6"/>
                </a:rPr>
                <a:t>http://</a:t>
              </a:r>
              <a:r>
                <a:rPr b="0" lang="ru-RU" sz="2400" spc="-1" strike="noStrike" u="sng">
                  <a:solidFill>
                    <a:srgbClr val="d83e2c"/>
                  </a:solidFill>
                  <a:uFillTx/>
                  <a:latin typeface="Constantia"/>
                  <a:hlinkClick r:id="rId7"/>
                </a:rPr>
                <a:t>images.yandex.ru/yandsearch?text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 – изображения невм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272880" indent="-272880">
                <a:spcBef>
                  <a:spcPts val="601"/>
                </a:spcBef>
                <a:buClr>
                  <a:srgbClr val="000000"/>
                </a:buClr>
                <a:buSzPct val="85000"/>
                <a:buFont typeface="IMG Symbols"/>
                <a:buChar char="9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http://yandex.ru/yandsearch?text=%D0%BD%D0%BE%D1%82%D1%8B&amp;lr=213 – изображения нот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272880" indent="-272880">
                <a:spcBef>
                  <a:spcPts val="601"/>
                </a:spcBef>
                <a:buClr>
                  <a:srgbClr val="000000"/>
                </a:buClr>
                <a:buSzPct val="85000"/>
                <a:buFont typeface="IMG Symbols"/>
                <a:buChar char="9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http://images.yandex.ru/yandsearch?ed=1&amp;texturl=chrisstephenson.typepad.com%2F.a%2F6a00d8341fa9ad53ef01538f6b1777970b-400wi&amp;rpt=simage - крюки 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272880" indent="-272880">
                <a:spcBef>
                  <a:spcPts val="601"/>
                </a:spcBef>
                <a:buClr>
                  <a:srgbClr val="aa2b1e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226" name="Заголовок 2" descr=""/>
          <p:cNvPicPr/>
          <p:nvPr/>
        </p:nvPicPr>
        <p:blipFill>
          <a:blip r:embed="rId8"/>
          <a:stretch/>
        </p:blipFill>
        <p:spPr>
          <a:xfrm>
            <a:off x="457200" y="152280"/>
            <a:ext cx="8229600" cy="126216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6840" y="1484280"/>
            <a:ext cx="42591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nstantia"/>
              </a:rPr>
              <a:t>Этот вопрос давно волнует людей. Еще в глубокой древности было сложено немало легенд о происхождении музыки. Древние" греки считали, что музыка дарована им богами.</a:t>
            </a:r>
            <a:br>
              <a:rPr sz="2200"/>
            </a:b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Заголовок 3" descr=""/>
          <p:cNvPicPr/>
          <p:nvPr/>
        </p:nvPicPr>
        <p:blipFill>
          <a:blip r:embed="rId1"/>
          <a:stretch/>
        </p:blipFill>
        <p:spPr>
          <a:xfrm>
            <a:off x="469800" y="401760"/>
            <a:ext cx="8229600" cy="1330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Картинка 1 из 26436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13200" y="1573200"/>
            <a:ext cx="5310000" cy="360828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4"/>
          <p:cNvSpPr/>
          <p:nvPr/>
        </p:nvSpPr>
        <p:spPr>
          <a:xfrm>
            <a:off x="3000240" y="6215040"/>
            <a:ext cx="3581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259920"/>
            <a:ext cx="51703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ые же на основе археологических и этнографических исследований установили, что музыка появилась еще в первобытном обществе. У древних людей она была связана с их повседневной жизнью. Женщины напевали, баюкая детей, пастухи созывали стадо звуками рожков, воинственные возгласы повергали в ужас врагов. Музыка, ее ритм и мелодия оказывали на человека сильное эмоциональное воздействие.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Picture 2" descr="http://im8-tub-ru.yandex.net/i?id=90721486-31-72"/>
          <p:cNvPicPr/>
          <p:nvPr/>
        </p:nvPicPr>
        <p:blipFill>
          <a:blip r:embed="rId1"/>
          <a:stretch/>
        </p:blipFill>
        <p:spPr>
          <a:xfrm>
            <a:off x="5508720" y="115920"/>
            <a:ext cx="3502080" cy="2638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im7-tub-ru.yandex.net/i?id=120753706-43-72"/>
          <p:cNvPicPr/>
          <p:nvPr/>
        </p:nvPicPr>
        <p:blipFill>
          <a:blip r:embed="rId2"/>
          <a:stretch/>
        </p:blipFill>
        <p:spPr>
          <a:xfrm>
            <a:off x="6083280" y="4138560"/>
            <a:ext cx="2365560" cy="184788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39840" y="404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й была первобытная музыка, мы не знаем, но, вероятно, не очень благозвучной. В ней было много звукоподражаний: в песнях первобытные люди повторяли звуки окружающего их мира - крики диких зверей, птиц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Picture 2" descr="http://im2-tub-ru.yandex.net/i?id=44746542-42-72"/>
          <p:cNvPicPr/>
          <p:nvPr/>
        </p:nvPicPr>
        <p:blipFill>
          <a:blip r:embed="rId1"/>
          <a:stretch/>
        </p:blipFill>
        <p:spPr>
          <a:xfrm>
            <a:off x="4145040" y="2919240"/>
            <a:ext cx="5065560" cy="3805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http://im7-tub-ru.yandex.net/i?id=120753706-43-72"/>
          <p:cNvPicPr/>
          <p:nvPr/>
        </p:nvPicPr>
        <p:blipFill>
          <a:blip r:embed="rId2"/>
          <a:stretch/>
        </p:blipFill>
        <p:spPr>
          <a:xfrm>
            <a:off x="609480" y="4175280"/>
            <a:ext cx="2365560" cy="1847520"/>
          </a:xfrm>
          <a:prstGeom prst="rect">
            <a:avLst/>
          </a:prstGeom>
          <a:ln w="0">
            <a:noFill/>
          </a:ln>
        </p:spPr>
      </p:pic>
      <p:sp>
        <p:nvSpPr>
          <p:cNvPr id="185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95280" y="333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лавным элементом первобытной музыки был ритм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н помогал людям четко выполнять движения во время работы. Певцы подчеркивали ритм ударами в ладоши или притопыванием. Позже люди подметили, что ритмичные громкие звуки издают при ударе плоские камни, куски дерева, раковины. Он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о и стали первыми музыкальными инструментами.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Picture 2" descr="Картинка 295 из 19601">
            <a:hlinkClick r:id="rId1"/>
          </p:cNvPr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003640" y="3414600"/>
            <a:ext cx="3505320" cy="2805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http://im7-tub-ru.yandex.net/i?id=120753706-43-72"/>
          <p:cNvPicPr/>
          <p:nvPr/>
        </p:nvPicPr>
        <p:blipFill>
          <a:blip r:embed="rId3"/>
          <a:stretch/>
        </p:blipFill>
        <p:spPr>
          <a:xfrm>
            <a:off x="609480" y="4175280"/>
            <a:ext cx="2365560" cy="1847520"/>
          </a:xfrm>
          <a:prstGeom prst="rect">
            <a:avLst/>
          </a:prstGeom>
          <a:ln w="0">
            <a:noFill/>
          </a:ln>
        </p:spPr>
      </p:pic>
      <p:sp>
        <p:nvSpPr>
          <p:cNvPr id="189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360" y="69228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 африканских племен до сих пор существуют огромные барабаны из пустотелого ствола дерева, барабаны поменьше из высушенной тыквы, а также рога, раковины - прообразы современных ударных и духовых инструмен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Picture 4" descr="http://im2-tub-ru.yandex.net/i?id=308969637-59-72"/>
          <p:cNvPicPr/>
          <p:nvPr/>
        </p:nvPicPr>
        <p:blipFill>
          <a:blip r:embed="rId1"/>
          <a:stretch/>
        </p:blipFill>
        <p:spPr>
          <a:xfrm>
            <a:off x="5219640" y="2708280"/>
            <a:ext cx="3673440" cy="3673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http://im7-tub-ru.yandex.net/i?id=120753706-43-72"/>
          <p:cNvPicPr/>
          <p:nvPr/>
        </p:nvPicPr>
        <p:blipFill>
          <a:blip r:embed="rId2"/>
          <a:stretch/>
        </p:blipFill>
        <p:spPr>
          <a:xfrm>
            <a:off x="609480" y="4175280"/>
            <a:ext cx="2365560" cy="1847520"/>
          </a:xfrm>
          <a:prstGeom prst="rect">
            <a:avLst/>
          </a:prstGeom>
          <a:ln w="0">
            <a:noFill/>
          </a:ln>
        </p:spPr>
      </p:pic>
      <p:sp>
        <p:nvSpPr>
          <p:cNvPr id="193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глубокой древности люди стремились сохранить музыку, для этого необходимо было записать мелодию. Делали это везде по-разном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Заголовок 2" descr=""/>
          <p:cNvPicPr/>
          <p:nvPr/>
        </p:nvPicPr>
        <p:blipFill>
          <a:blip r:embed="rId1"/>
          <a:stretch/>
        </p:blipFill>
        <p:spPr>
          <a:xfrm>
            <a:off x="469800" y="146160"/>
            <a:ext cx="8229600" cy="1407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Картинка 55 из 16096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19280" y="2905200"/>
            <a:ext cx="5329080" cy="3477960"/>
          </a:xfrm>
          <a:prstGeom prst="rect">
            <a:avLst/>
          </a:prstGeom>
          <a:ln w="0">
            <a:noFill/>
          </a:ln>
        </p:spPr>
      </p:pic>
      <p:sp>
        <p:nvSpPr>
          <p:cNvPr id="197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94920" y="475920"/>
            <a:ext cx="3313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Древней Греции музыкальные звуки обозначали буквами греческого алфавит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средневековой Европе для этого использовали специальные значки -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Constantia"/>
              </a:rPr>
              <a:t>нев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Они выглядели как черточки, точки и запяты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Picture 2" descr="http://pianoweb.free.fr/dictionnaire-musique/images/neume-1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165240"/>
            <a:ext cx="5018040" cy="6406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00" name="Нижний колонтитул 3"/>
          <p:cNvSpPr/>
          <p:nvPr/>
        </p:nvSpPr>
        <p:spPr>
          <a:xfrm>
            <a:off x="179280" y="6184800"/>
            <a:ext cx="3581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0880" y="333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Руси для записи музыки придумали особые знаки - 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Constantia"/>
              </a:rPr>
              <a:t>крюк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Picture 2" descr="Картинка 1 из 2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628640"/>
            <a:ext cx="6905520" cy="4826160"/>
          </a:xfrm>
          <a:prstGeom prst="rect">
            <a:avLst/>
          </a:prstGeom>
          <a:ln w="0">
            <a:noFill/>
          </a:ln>
        </p:spPr>
      </p:pic>
      <p:sp>
        <p:nvSpPr>
          <p:cNvPr id="203" name="Нижний колонтитул 3"/>
          <p:cNvSpPr/>
          <p:nvPr/>
        </p:nvSpPr>
        <p:spPr>
          <a:xfrm>
            <a:off x="179280" y="6437160"/>
            <a:ext cx="35816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08:32:00Z</dcterms:created>
  <dc:creator>Ирина</dc:creator>
  <dc:description/>
  <dc:language>en-US</dc:language>
  <cp:lastModifiedBy>Ирина</cp:lastModifiedBy>
  <dcterms:modified xsi:type="dcterms:W3CDTF">2012-01-11T09:58:48Z</dcterms:modified>
  <cp:revision>24</cp:revision>
  <dc:subject/>
  <dc:title>Презентация PowerPoint</dc:title>
</cp:coreProperties>
</file>