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60F-79BF-4C76-8EFC-F4A69518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CDF-0C14-46CB-95CB-7A2BE0B0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A55-01A5-4FC2-A0DB-4CB1A047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C32-F386-47C2-A645-B5D7FD40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60E26-D8C5-4646-A30A-5A5CA92D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CAA41-09CB-41C3-BDB1-667D0E31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D5515-B063-4387-83B6-6EE1A2E1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3F921-894A-4507-9BA2-30302DFD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A0B80-EE6C-434B-A4F3-0E31E3A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5DAC8-CFFD-40D0-8B1D-35233C2D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4D90E-30C7-41C1-9709-5268E616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239-14E6-4B1E-802E-B15D706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03D3-5BCE-46FC-AC36-7BC2CC3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9C0E2-5690-4F9D-AE98-F34619E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92548-F881-43EB-B75B-DFABE962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0AC09-6AF7-451A-804F-EA7B4B4E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C4CCA-A4EE-4BD3-BB23-8C09F5B8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41FA-754E-4D05-B935-E7392A82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5943-3E0E-4A81-A1DD-BFE7CDDF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8FEE-CDFB-4528-822D-2A4D74AA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5BFF-D0F6-4BA9-9648-E47155D0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5C39-E956-41E2-87CB-F8A8963E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F70-35AC-42FA-B519-5200577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6E7E-DE2A-4481-982F-DABD1E73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DD4E-18BF-4934-B8ED-E7F37F03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DCDC2-1444-41E0-93D6-2DE13681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1F47-DEB1-4CD9-9579-D254FCB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8359-740B-4CDA-A398-DF488EBD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A327-E6E6-4061-A72A-DF083C22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DB15-0A49-4D2B-9DF8-304684C3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56B1E-57F8-45F7-8B39-7321FA73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3E7B3-141B-4DAC-84A8-4A6DB5C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C03F1-4474-49E7-BDA2-97182F27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431-6399-495B-BF7E-B30E002F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3B78B-0990-437B-BB1C-B686FA8D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319E4-712A-4D98-951E-13E1C671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8E619-FE45-4A49-BC6E-67413E2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9662D-C759-4766-BE94-BEBC238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9D2D0-C06E-4A34-963B-4DA45F0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635F0-4B10-4E45-BD26-14D3C45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BB7CE-8936-4ADC-8CBC-6783F65B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B709ED-5790-4BA7-AD9C-BEA2F04A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2FD79-AD22-40B4-A678-209E5056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792-F938-4552-B723-4971ED8A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DD3-377B-4D9E-8038-A3702AB7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E22-D83D-4102-A2BE-9013F39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ACB-DB38-458F-B16F-75362039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267-F39A-4735-A086-265E1CD0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D26-D1E7-4923-8210-D908731FA4D2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BD00-37CA-47F4-83A6-62BF6CA61A49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a2b1e"/>
          </a:solidFill>
          <a:ln w="38160">
            <a:solidFill>
              <a:srgbClr val="aa2b1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EE8C-91FF-4D93-BA94-F389F5878916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CF86-3F3F-4541-BE6D-00E1AA79FA37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F67-A507-46B3-AB68-A90AFE16B816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4424-93DC-40C0-BDFC-A70A5E38C2CC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c1d1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5251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8368-D5E4-4F34-8089-72DF60BAC9E0}" type="slidenum">
              <a:rPr b="0" lang="ru-RU" sz="16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Миннахметова Янина Викто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3F16-CB19-4B00-840E-BB8EB125563D}" type="datetime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tvetin.ru/uploads/posts/2009-11/1258396382_nota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images.yandex.ru/yandsearchFstock-vector-vector-music-theme-22454539.jpg&amp;noreask=1&amp;lr=213&amp;p=17" TargetMode="External"/><Relationship Id="rId4" Type="http://schemas.openxmlformats.org/officeDocument/2006/relationships/hyperlink" Target="http://images.yandex.ru/yandsearchFstock-vector-vector-music-theme-22454539.jpg&amp;noreask=1&amp;lr=213&amp;p=17" TargetMode="External"/><Relationship Id="rId5" Type="http://schemas.openxmlformats.org/officeDocument/2006/relationships/hyperlink" Target="http://images.yandex.ru/yandsearchFstock-vector-vector-music-theme-22454539.jpg&amp;noreask=1&amp;lr=213&amp;p=17" TargetMode="External"/><Relationship Id="rId6" Type="http://schemas.openxmlformats.org/officeDocument/2006/relationships/hyperlink" Target="http://images.yandex.ru/yandsearch?text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bestpaper.ru/Games/age_of_mythology/wallpaper_age_of_mythology_02_1280x1024.j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rtalbum.org.ua/vc_thumb/prehistory/prehistorical_painting_02Dance.pn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52.radikal.ru/i138/0911/86/3f38be01a2be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ianoweb.free.fr/dictionnaire-musique/images/neume-1.gif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1/31/2258.gif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тская школа искусств №1 г. Альметьевск Р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иннахметова Янина Виктор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подаватель теории музык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квалификационной категори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Прямоугольник 3" descr=""/>
          <p:cNvPicPr/>
          <p:nvPr/>
        </p:nvPicPr>
        <p:blipFill>
          <a:blip r:embed="rId1"/>
          <a:stretch/>
        </p:blipFill>
        <p:spPr>
          <a:xfrm>
            <a:off x="646200" y="1805040"/>
            <a:ext cx="780264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3408480" y="262080"/>
            <a:ext cx="2004840" cy="2004840"/>
          </a:xfrm>
          <a:prstGeom prst="rect">
            <a:avLst/>
          </a:prstGeom>
          <a:ln w="0">
            <a:noFill/>
          </a:ln>
        </p:spPr>
      </p:pic>
      <p:sp>
        <p:nvSpPr>
          <p:cNvPr id="173" name="Нижний колонтитул 5"/>
          <p:cNvSpPr/>
          <p:nvPr/>
        </p:nvSpPr>
        <p:spPr>
          <a:xfrm>
            <a:off x="2619360" y="6165720"/>
            <a:ext cx="35812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33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эти обозначения были не совсем удобными. Например,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рисовали над текстом. Они подсказывали певцу, как должна двигаться мелодия. Подсказка помогала лишь тогда, когда музыкант знал мелодию наизус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6" descr="Картинка 199 из 160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649600"/>
            <a:ext cx="6553080" cy="350352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5280" y="26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зыкой в средние века могли заниматься только монахи и богословы. В конц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ека один из них сделал гениальное изобретение. Он провел на бумаге линию, на которой нарисовал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одной высоты. Эта линия была красного цвета. Потом кто-то добавил к первой линии вторую. Она была желтой и означала другой звук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6" descr="http://im3-tub-ru.yandex.net/i?id=35794773-43-72"/>
          <p:cNvPicPr/>
          <p:nvPr/>
        </p:nvPicPr>
        <p:blipFill>
          <a:blip r:embed="rId1"/>
          <a:stretch/>
        </p:blipFill>
        <p:spPr>
          <a:xfrm>
            <a:off x="5132520" y="3754440"/>
            <a:ext cx="3902040" cy="278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528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и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ревратились из крючков в квадратики, затем в ромбы, а позднее стали круглым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Рисунок 3" descr="http://www.muz-urok.ru/nevmyi/b_ordinar.jpg"/>
          <p:cNvPicPr/>
          <p:nvPr/>
        </p:nvPicPr>
        <p:blipFill>
          <a:blip r:embed="rId1"/>
          <a:stretch/>
        </p:blipFill>
        <p:spPr>
          <a:xfrm>
            <a:off x="179280" y="2637000"/>
            <a:ext cx="3961080" cy="3752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www.muz-urok.ru/nevmyi/02_b.jpg"/>
          <p:cNvPicPr/>
          <p:nvPr/>
        </p:nvPicPr>
        <p:blipFill>
          <a:blip r:embed="rId2"/>
          <a:stretch/>
        </p:blipFill>
        <p:spPr>
          <a:xfrm>
            <a:off x="4284720" y="2637000"/>
            <a:ext cx="4572000" cy="3752640"/>
          </a:xfrm>
          <a:prstGeom prst="rect">
            <a:avLst/>
          </a:prstGeom>
          <a:ln w="0">
            <a:noFill/>
          </a:ln>
        </p:spPr>
      </p:pic>
      <p:sp>
        <p:nvSpPr>
          <p:cNvPr id="214" name="Нижний колонтитул 5"/>
          <p:cNvSpPr/>
          <p:nvPr/>
        </p:nvSpPr>
        <p:spPr>
          <a:xfrm>
            <a:off x="2349360" y="64008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36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к появились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ноты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которые разместились на линейках. Буквы, стоявшие в начале линейки, превратились в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ключ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Таблица 5" descr=""/>
          <p:cNvPicPr/>
          <p:nvPr/>
        </p:nvPicPr>
        <p:blipFill>
          <a:blip r:embed="rId1"/>
          <a:stretch/>
        </p:blipFill>
        <p:spPr>
          <a:xfrm>
            <a:off x="878040" y="5535720"/>
            <a:ext cx="7248240" cy="6458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Описание: http://www.muz-urok.ru/nevmyi/key_1.gif"/>
          <p:cNvPicPr/>
          <p:nvPr/>
        </p:nvPicPr>
        <p:blipFill>
          <a:blip r:embed="rId2"/>
          <a:stretch/>
        </p:blipFill>
        <p:spPr>
          <a:xfrm>
            <a:off x="1077840" y="2276640"/>
            <a:ext cx="2808360" cy="28558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Описание: http://www.muz-urok.ru/nevmyi/key_3.gif"/>
          <p:cNvPicPr/>
          <p:nvPr/>
        </p:nvPicPr>
        <p:blipFill>
          <a:blip r:embed="rId3"/>
          <a:stretch/>
        </p:blipFill>
        <p:spPr>
          <a:xfrm>
            <a:off x="4859280" y="2766960"/>
            <a:ext cx="2971800" cy="251928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528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сами названия нот родились из первых слогов семи строчек латинского гимна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святому Иоанну -покровителю певцов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 тех самых пор во всем мире пользуются нотами для записи музы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Таблица 3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8259840" cy="436572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Объект 1"/>
          <p:cNvGrpSpPr/>
          <p:nvPr/>
        </p:nvGrpSpPr>
        <p:grpSpPr>
          <a:xfrm>
            <a:off x="450720" y="1109520"/>
            <a:ext cx="8259840" cy="5284800"/>
            <a:chOff x="450720" y="1109520"/>
            <a:chExt cx="8259840" cy="5284800"/>
          </a:xfrm>
        </p:grpSpPr>
        <p:pic>
          <p:nvPicPr>
            <p:cNvPr id="224" name="Объект 1" descr=""/>
            <p:cNvPicPr/>
            <p:nvPr/>
          </p:nvPicPr>
          <p:blipFill>
            <a:blip r:embed="rId1"/>
            <a:stretch/>
          </p:blipFill>
          <p:spPr>
            <a:xfrm>
              <a:off x="450720" y="1109520"/>
              <a:ext cx="8259840" cy="52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68360" y="1125360"/>
              <a:ext cx="822960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Constantia"/>
                </a:rPr>
                <a:t>http://www.muz-urok.ru/muz_istorii_skazki.htm</a:t>
              </a:r>
              <a:r>
                <a:rPr b="0" lang="ru-RU" sz="2400" spc="-1" strike="noStrike" u="sng">
                  <a:solidFill>
                    <a:srgbClr val="ff0000"/>
                  </a:solidFill>
                  <a:uFillTx/>
                  <a:latin typeface="Constantia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– сайт «Детям о музыке» 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2"/>
                </a:rPr>
                <a:t>http://ru.wikipedia.org/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- определения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3"/>
                </a:rPr>
                <a:t>http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4"/>
                </a:rPr>
                <a:t>://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5"/>
                </a:rPr>
                <a:t>images.yandex.ru/yandsearchFstock-vector-vector-music-theme-22454539.jpg&amp;noreask=1&amp;lr=213&amp;p=17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– изображение первобытного строя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6"/>
                </a:rPr>
                <a:t>http://</a:t>
              </a:r>
              <a:r>
                <a:rPr b="0" lang="ru-RU" sz="2400" spc="-1" strike="noStrike" u="sng">
                  <a:solidFill>
                    <a:srgbClr val="d83e2c"/>
                  </a:solidFill>
                  <a:uFillTx/>
                  <a:latin typeface="Constantia"/>
                  <a:hlinkClick r:id="rId7"/>
                </a:rPr>
                <a:t>images.yandex.ru/yandsearch?text</a:t>
              </a: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 – изображения невм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http://yandex.ru/yandsearch?text=%D0%BD%D0%BE%D1%82%D1%8B&amp;lr=213 – изображения нот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00000"/>
                </a:buClr>
                <a:buSzPct val="85000"/>
                <a:buFont typeface="IMG Symbols"/>
                <a:buChar char="9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nstantia"/>
                </a:rPr>
                <a:t>http://images.yandex.ru/yandsearch?ed=1&amp;texturl=chrisstephenson.typepad.com%2F.a%2F6a00d8341fa9ad53ef01538f6b1777970b-400wi&amp;rpt=simage - крюки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marL="272880" indent="-272880">
                <a:spcBef>
                  <a:spcPts val="601"/>
                </a:spcBef>
                <a:buClr>
                  <a:srgbClr val="aa2b1e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226" name="Заголовок 2" descr=""/>
          <p:cNvPicPr/>
          <p:nvPr/>
        </p:nvPicPr>
        <p:blipFill>
          <a:blip r:embed="rId8"/>
          <a:stretch/>
        </p:blipFill>
        <p:spPr>
          <a:xfrm>
            <a:off x="457200" y="152280"/>
            <a:ext cx="8229600" cy="126216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484280"/>
            <a:ext cx="42591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Этот вопрос давно волнует людей. Еще в глубокой древности было сложено немало легенд о происхождении музыки. Древние" греки считали, что музыка дарована им богами.</a:t>
            </a:r>
            <a:br>
              <a:rPr sz="2200"/>
            </a:br>
            <a:endParaRPr b="0" lang="en-US" sz="3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3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8229600" cy="133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Картинка 1 из 26436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13200" y="1573200"/>
            <a:ext cx="5310000" cy="360828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4"/>
          <p:cNvSpPr/>
          <p:nvPr/>
        </p:nvSpPr>
        <p:spPr>
          <a:xfrm>
            <a:off x="3000240" y="621504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259920"/>
            <a:ext cx="5170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же на основе археологических и этнографических исследований установили, что музыка появилась еще в первобытном обществе. У древних людей она была связана с их повседневной жизнью. Женщины напевали, баюкая детей, пастухи созывали стадо звуками рожков, воинственные возгласы повергали в ужас врагов. Музыка, ее ритм и мелодия оказывали на человека сильное эмоциональное воздействие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2" descr="http://im8-tub-ru.yandex.net/i?id=90721486-31-72"/>
          <p:cNvPicPr/>
          <p:nvPr/>
        </p:nvPicPr>
        <p:blipFill>
          <a:blip r:embed="rId1"/>
          <a:stretch/>
        </p:blipFill>
        <p:spPr>
          <a:xfrm>
            <a:off x="5508720" y="115920"/>
            <a:ext cx="3502080" cy="2638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83280" y="4138560"/>
            <a:ext cx="2365560" cy="184788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3984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была первобытная музыка, мы не знаем, но, вероятно, не очень благозвучной. В ней было много звукоподражаний: в песнях первобытные люди повторяли звуки окружающего их мира - крики диких зверей, пти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2" descr="http://im2-tub-ru.yandex.net/i?id=44746542-42-72"/>
          <p:cNvPicPr/>
          <p:nvPr/>
        </p:nvPicPr>
        <p:blipFill>
          <a:blip r:embed="rId1"/>
          <a:stretch/>
        </p:blipFill>
        <p:spPr>
          <a:xfrm>
            <a:off x="4145040" y="2919240"/>
            <a:ext cx="5065560" cy="380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333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лавным элементом первобытной музыки был ритм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 помогал людям четко выполнять движения во время работы. Певцы подчеркивали ритм ударами в ладоши или притопыванием. Позже люди подметили, что ритмичные громкие звуки издают при ударе плоские камни, куски дерева, раковины. Он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о и стали первыми музыкальными инструментами.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Picture 2" descr="Картинка 295 из 19601">
            <a:hlinkClick r:id="rId1"/>
          </p:cNvPr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03640" y="3414600"/>
            <a:ext cx="3505320" cy="2805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http://im7-tub-ru.yandex.net/i?id=120753706-43-72"/>
          <p:cNvPicPr/>
          <p:nvPr/>
        </p:nvPicPr>
        <p:blipFill>
          <a:blip r:embed="rId3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360" y="692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африканских племен до сих пор существуют огромные барабаны из пустотелого ствола дерева, барабаны поменьше из высушенной тыквы, а также рога, раковины - прообразы современных ударных и духовых инстру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Picture 4" descr="http://im2-tub-ru.yandex.net/i?id=308969637-59-72"/>
          <p:cNvPicPr/>
          <p:nvPr/>
        </p:nvPicPr>
        <p:blipFill>
          <a:blip r:embed="rId1"/>
          <a:stretch/>
        </p:blipFill>
        <p:spPr>
          <a:xfrm>
            <a:off x="5219640" y="2708280"/>
            <a:ext cx="3673440" cy="367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7-tub-ru.yandex.net/i?id=120753706-43-72"/>
          <p:cNvPicPr/>
          <p:nvPr/>
        </p:nvPicPr>
        <p:blipFill>
          <a:blip r:embed="rId2"/>
          <a:stretch/>
        </p:blipFill>
        <p:spPr>
          <a:xfrm>
            <a:off x="609480" y="4175280"/>
            <a:ext cx="2365560" cy="184752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глубокой древности люди стремились сохранить музыку, для этого необходимо было записать мелодию. Делали это везде по-разном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8229600" cy="140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Картинка 55 из 1609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2905200"/>
            <a:ext cx="5329080" cy="347796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4920" y="475920"/>
            <a:ext cx="331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ревней Греции музыкальные звуки обозначали буквами греческого алфавит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средневековой Европе для этого использовали специальные значки - </a:t>
            </a:r>
            <a:r>
              <a:rPr b="1" lang="ru-RU" sz="2600" spc="-1" strike="noStrike" u="sng">
                <a:solidFill>
                  <a:srgbClr val="c00000"/>
                </a:solidFill>
                <a:uFillTx/>
                <a:latin typeface="Constantia"/>
              </a:rPr>
              <a:t>нев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Они выглядели как черточки, точки и запяты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Picture 2" descr="http://pianoweb.free.fr/dictionnaire-musique/images/neume-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165240"/>
            <a:ext cx="5018040" cy="64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0" name="Нижний колонтитул 3"/>
          <p:cNvSpPr/>
          <p:nvPr/>
        </p:nvSpPr>
        <p:spPr>
          <a:xfrm>
            <a:off x="179280" y="61848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0880" y="33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Руси для записи музыки придумали особые знаки -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onstantia"/>
              </a:rPr>
              <a:t>крю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Picture 2" descr="Картинка 1 из 2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628640"/>
            <a:ext cx="6905520" cy="4826160"/>
          </a:xfrm>
          <a:prstGeom prst="rect">
            <a:avLst/>
          </a:prstGeom>
          <a:ln w="0">
            <a:noFill/>
          </a:ln>
        </p:spPr>
      </p:pic>
      <p:sp>
        <p:nvSpPr>
          <p:cNvPr id="203" name="Нижний колонтитул 3"/>
          <p:cNvSpPr/>
          <p:nvPr/>
        </p:nvSpPr>
        <p:spPr>
          <a:xfrm>
            <a:off x="179280" y="6437160"/>
            <a:ext cx="3581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Constantia"/>
              </a:rPr>
              <a:t>Миннахметова Янина Викторовна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08:32:00Z</dcterms:created>
  <dc:creator>Ирина</dc:creator>
  <dc:description/>
  <dc:language>en-US</dc:language>
  <cp:lastModifiedBy>Ирина</cp:lastModifiedBy>
  <dcterms:modified xsi:type="dcterms:W3CDTF">2012-01-11T09:58:48Z</dcterms:modified>
  <cp:revision>24</cp:revision>
  <dc:subject/>
  <dc:title>Презентация PowerPoint</dc:title>
</cp:coreProperties>
</file>