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E2E-B07E-49B8-9675-49D21A3B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6EB-41CD-4A93-8FA2-C96046A0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9C03-2E52-42B5-9039-B188FD65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C9E1-6D17-439E-B5D4-06C20C4C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5A847-92E2-41B7-9FAB-196CFD26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9F59D-D170-48F2-A242-1CD54AD3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E6600-CA87-45E7-9C2D-5A0E3331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79336-68CB-4AB7-9CA1-046355FB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DD90A-B7FE-4B53-9F4B-89C7EAF6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1C8C1-986A-4F8D-8101-E08173CA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9C81B-D635-46A5-AC0C-B453863C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46FA-F035-4A69-BC81-54DEF5F7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45CB9-25E6-47F6-A763-45BBEA46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E583F-459F-4ED8-9B9E-53CB8670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E5994-7DAC-48CB-ABD7-0F3A4B40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9A2D5-8C90-4B96-BAED-720D2600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D0ABE-E0C0-4F6A-B20A-0042472E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665E7-4CC2-485F-8382-A596F43A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58A70-EFB1-4BB7-8D8B-1360AEAF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78A02-732E-43E3-8618-085870C8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78DF8-80DA-4ADC-803D-D978BD1F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AAD65-8E45-4F17-97F2-049454DF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40C5-256C-4A31-87B3-3D749DAF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44F94-6412-4052-A175-6C0B5849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472CA-A1AD-46F7-AFE5-24CD758D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51C7A-EB95-4322-A2A3-BBC10DD5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96A3B-EB0C-4909-9451-5DCA793C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E2496-E44F-45DA-B48E-72D461B6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E192B-F4D1-4D67-878A-80F6D24C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DEAA6-CA95-42D3-825D-1AB57F5F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F1D91D-5E64-41B3-9BE1-251B0848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EEBAA9-04E2-46E1-8AD1-053D61C9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7BB1AE-3A94-44A5-8B13-F55F1FC7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4855-46E1-4CDD-B95A-D0C7D71A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AC30C4-BF9C-49F8-9390-BD9AFD0E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4B9A40-108E-4E3C-97CF-98FE7D17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1A6FC1-5B24-426F-83AF-608751CD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A18E8F-70DB-4ECD-BA0E-E56B9EEF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700DFB-8479-4483-A8F4-68E837B5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B79B2B-3C8D-4A8F-A943-4403AA10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1756F7-65CC-4B26-A968-AE54EC2B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13F648-BD9D-4AD6-99BD-3A9FB2E1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22C388-7DDA-4F74-A46B-6A5DC85E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E5F0-B41B-488A-B61A-420DC632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D30-7D2F-4891-9FB2-8FCB8B7C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A854-12B1-4CF7-9BF3-86E00720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E0D-A5C9-46B7-80CD-085B690E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B64-CB88-490B-95F8-0F5D222B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c1d1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3087-764E-4006-9578-C45DA9BCC667}" type="datetime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Миннахметова Янина Викто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1843-2DA3-447A-AD40-2B9ED2D49977}" type="slidenum">
              <a:rPr b="0" lang="ru-RU" sz="16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aa2b1e"/>
          </a:solidFill>
          <a:ln w="38160">
            <a:solidFill>
              <a:srgbClr val="aa2b1e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c1d1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23C4-A311-4620-9DAF-14AD89C513A9}" type="datetime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185E-1B85-4EA5-8F54-D30B789B098B}" type="slidenum">
              <a:rPr b="0" lang="ru-RU" sz="16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Миннахметова Янина Викто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c1d1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28D0-18D4-422B-930F-FF762C782109}" type="datetime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Миннахметова Янина Викто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9FB8-3A70-45C0-82A4-6B2C3940D869}" type="slidenum">
              <a:rPr b="0" lang="ru-RU" sz="16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c1d1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FDD8-10AD-4CFB-B0F6-9BFC40879A51}" type="slidenum">
              <a:rPr b="0" lang="ru-RU" sz="16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Миннахметова Янина Викто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EAAD-1EC3-4133-8653-3D1F49A8E9DB}" type="datetime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tvetin.ru/uploads/posts/2009-11/1258396382_nota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ru.wikipedia.org/" TargetMode="External"/><Relationship Id="rId3" Type="http://schemas.openxmlformats.org/officeDocument/2006/relationships/hyperlink" Target="http://images.yandex.ru/yandsearchFstock-vector-vector-music-theme-22454539.jpg&amp;noreask=1&amp;lr=213&amp;p=17" TargetMode="External"/><Relationship Id="rId4" Type="http://schemas.openxmlformats.org/officeDocument/2006/relationships/hyperlink" Target="http://images.yandex.ru/yandsearchFstock-vector-vector-music-theme-22454539.jpg&amp;noreask=1&amp;lr=213&amp;p=17" TargetMode="External"/><Relationship Id="rId5" Type="http://schemas.openxmlformats.org/officeDocument/2006/relationships/hyperlink" Target="http://images.yandex.ru/yandsearchFstock-vector-vector-music-theme-22454539.jpg&amp;noreask=1&amp;lr=213&amp;p=17" TargetMode="External"/><Relationship Id="rId6" Type="http://schemas.openxmlformats.org/officeDocument/2006/relationships/hyperlink" Target="http://images.yandex.ru/yandsearch?text" TargetMode="External"/><Relationship Id="rId7" Type="http://schemas.openxmlformats.org/officeDocument/2006/relationships/hyperlink" Target="http://images.yandex.ru/yandsearch?text" TargetMode="External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bestpaper.ru/Games/age_of_mythology/wallpaper_age_of_mythology_02_1280x1024.jpg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rtalbum.org.ua/vc_thumb/prehistory/prehistorical_painting_02Dance.png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s52.radikal.ru/i138/0911/86/3f38be01a2be.png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ianoweb.free.fr/dictionnaire-musique/images/neume-1.gif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tihi.ru/pics/2009/01/31/2258.gif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етская школа искусств №1 г. Альметьевск Р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иннахметова Янина Викторов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еподаватель теории музык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квалификационной категори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Прямоугольник 3" descr=""/>
          <p:cNvPicPr/>
          <p:nvPr/>
        </p:nvPicPr>
        <p:blipFill>
          <a:blip r:embed="rId1"/>
          <a:stretch/>
        </p:blipFill>
        <p:spPr>
          <a:xfrm>
            <a:off x="646200" y="1805040"/>
            <a:ext cx="7802640" cy="1657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3408480" y="262080"/>
            <a:ext cx="2004840" cy="2004840"/>
          </a:xfrm>
          <a:prstGeom prst="rect">
            <a:avLst/>
          </a:prstGeom>
          <a:ln w="0">
            <a:noFill/>
          </a:ln>
        </p:spPr>
      </p:pic>
      <p:sp>
        <p:nvSpPr>
          <p:cNvPr id="173" name="Нижний колонтитул 5"/>
          <p:cNvSpPr/>
          <p:nvPr/>
        </p:nvSpPr>
        <p:spPr>
          <a:xfrm>
            <a:off x="2619360" y="6165720"/>
            <a:ext cx="35812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68360" y="333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эти обозначения были не совсем удобными. Например,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Constantia"/>
              </a:rPr>
              <a:t>нев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рисовали над текстом. Они подсказывали певцу, как должна двигаться мелодия. Подсказка помогала лишь тогда, когда музыкант знал мелодию наизуст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Picture 6" descr="Картинка 199 из 1609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649600"/>
            <a:ext cx="6553080" cy="3503520"/>
          </a:xfrm>
          <a:prstGeom prst="rect">
            <a:avLst/>
          </a:prstGeom>
          <a:ln w="0">
            <a:noFill/>
          </a:ln>
        </p:spPr>
      </p:pic>
      <p:sp>
        <p:nvSpPr>
          <p:cNvPr id="206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5280" y="260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узыкой в средние века могли заниматься только монахи и богословы. В конце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века один из них сделал гениальное изобретение. Он провел на бумаге линию, на которой нарисовал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Constantia"/>
              </a:rPr>
              <a:t>нев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одной высоты. Эта линия была красного цвета. Потом кто-то добавил к первой линии вторую. Она была желтой и означала другой звук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Picture 6" descr="http://im3-tub-ru.yandex.net/i?id=35794773-43-72"/>
          <p:cNvPicPr/>
          <p:nvPr/>
        </p:nvPicPr>
        <p:blipFill>
          <a:blip r:embed="rId1"/>
          <a:stretch/>
        </p:blipFill>
        <p:spPr>
          <a:xfrm>
            <a:off x="5132520" y="3754440"/>
            <a:ext cx="3902040" cy="2786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im7-tub-ru.yandex.net/i?id=120753706-43-72"/>
          <p:cNvPicPr/>
          <p:nvPr/>
        </p:nvPicPr>
        <p:blipFill>
          <a:blip r:embed="rId2"/>
          <a:stretch/>
        </p:blipFill>
        <p:spPr>
          <a:xfrm>
            <a:off x="609480" y="4175280"/>
            <a:ext cx="2365560" cy="1847520"/>
          </a:xfrm>
          <a:prstGeom prst="rect">
            <a:avLst/>
          </a:prstGeom>
          <a:ln w="0">
            <a:noFill/>
          </a:ln>
        </p:spPr>
      </p:pic>
      <p:sp>
        <p:nvSpPr>
          <p:cNvPr id="210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9528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ми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Constantia"/>
              </a:rPr>
              <a:t>нев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превратились из крючков в квадратики, затем в ромбы, а позднее стали круглыми.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Рисунок 3" descr="http://www.muz-urok.ru/nevmyi/b_ordinar.jpg"/>
          <p:cNvPicPr/>
          <p:nvPr/>
        </p:nvPicPr>
        <p:blipFill>
          <a:blip r:embed="rId1"/>
          <a:stretch/>
        </p:blipFill>
        <p:spPr>
          <a:xfrm>
            <a:off x="179280" y="2637000"/>
            <a:ext cx="3961080" cy="37526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4" descr="http://www.muz-urok.ru/nevmyi/02_b.jpg"/>
          <p:cNvPicPr/>
          <p:nvPr/>
        </p:nvPicPr>
        <p:blipFill>
          <a:blip r:embed="rId2"/>
          <a:stretch/>
        </p:blipFill>
        <p:spPr>
          <a:xfrm>
            <a:off x="4284720" y="2637000"/>
            <a:ext cx="4572000" cy="3752640"/>
          </a:xfrm>
          <a:prstGeom prst="rect">
            <a:avLst/>
          </a:prstGeom>
          <a:ln w="0">
            <a:noFill/>
          </a:ln>
        </p:spPr>
      </p:pic>
      <p:sp>
        <p:nvSpPr>
          <p:cNvPr id="214" name="Нижний колонтитул 5"/>
          <p:cNvSpPr/>
          <p:nvPr/>
        </p:nvSpPr>
        <p:spPr>
          <a:xfrm>
            <a:off x="2349360" y="6400800"/>
            <a:ext cx="3581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68360" y="549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ак появились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onstantia"/>
              </a:rPr>
              <a:t>ноты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которые разместились на линейках. Буквы, стоявшие в начале линейки, превратились в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onstantia"/>
              </a:rPr>
              <a:t>ключ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Таблица 5" descr=""/>
          <p:cNvPicPr/>
          <p:nvPr/>
        </p:nvPicPr>
        <p:blipFill>
          <a:blip r:embed="rId1"/>
          <a:stretch/>
        </p:blipFill>
        <p:spPr>
          <a:xfrm>
            <a:off x="878040" y="5535720"/>
            <a:ext cx="7248240" cy="6458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7" descr="Описание: http://www.muz-urok.ru/nevmyi/key_1.gif"/>
          <p:cNvPicPr/>
          <p:nvPr/>
        </p:nvPicPr>
        <p:blipFill>
          <a:blip r:embed="rId2"/>
          <a:stretch/>
        </p:blipFill>
        <p:spPr>
          <a:xfrm>
            <a:off x="1077840" y="2276640"/>
            <a:ext cx="2808360" cy="28558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6" descr="Описание: http://www.muz-urok.ru/nevmyi/key_3.gif"/>
          <p:cNvPicPr/>
          <p:nvPr/>
        </p:nvPicPr>
        <p:blipFill>
          <a:blip r:embed="rId3"/>
          <a:stretch/>
        </p:blipFill>
        <p:spPr>
          <a:xfrm>
            <a:off x="4859280" y="2766960"/>
            <a:ext cx="2971800" cy="2519280"/>
          </a:xfrm>
          <a:prstGeom prst="rect">
            <a:avLst/>
          </a:prstGeom>
          <a:ln w="0">
            <a:noFill/>
          </a:ln>
        </p:spPr>
      </p:pic>
      <p:sp>
        <p:nvSpPr>
          <p:cNvPr id="219" name="Нижний колонтитул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9528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сами названия нот родились из первых слогов семи строчек латинского гимна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Constantia"/>
              </a:rPr>
              <a:t>святому Иоанну -покровителю певц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С тех самых пор во всем мире пользуются нотами для записи музы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Таблица 3" descr=""/>
          <p:cNvPicPr/>
          <p:nvPr/>
        </p:nvPicPr>
        <p:blipFill>
          <a:blip r:embed="rId1"/>
          <a:stretch/>
        </p:blipFill>
        <p:spPr>
          <a:xfrm>
            <a:off x="450720" y="2127240"/>
            <a:ext cx="8259840" cy="4365720"/>
          </a:xfrm>
          <a:prstGeom prst="rect">
            <a:avLst/>
          </a:prstGeom>
          <a:ln w="0">
            <a:noFill/>
          </a:ln>
        </p:spPr>
      </p:pic>
      <p:sp>
        <p:nvSpPr>
          <p:cNvPr id="222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Объект 1"/>
          <p:cNvGrpSpPr/>
          <p:nvPr/>
        </p:nvGrpSpPr>
        <p:grpSpPr>
          <a:xfrm>
            <a:off x="450720" y="1109520"/>
            <a:ext cx="8259840" cy="5284800"/>
            <a:chOff x="450720" y="1109520"/>
            <a:chExt cx="8259840" cy="5284800"/>
          </a:xfrm>
        </p:grpSpPr>
        <p:pic>
          <p:nvPicPr>
            <p:cNvPr id="224" name="Объект 1" descr=""/>
            <p:cNvPicPr/>
            <p:nvPr/>
          </p:nvPicPr>
          <p:blipFill>
            <a:blip r:embed="rId1"/>
            <a:stretch/>
          </p:blipFill>
          <p:spPr>
            <a:xfrm>
              <a:off x="450720" y="1109520"/>
              <a:ext cx="8259840" cy="528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68360" y="1125360"/>
              <a:ext cx="822960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spcBef>
                  <a:spcPts val="601"/>
                </a:spcBef>
                <a:buClr>
                  <a:srgbClr val="ff0000"/>
                </a:buClr>
                <a:buSzPct val="85000"/>
                <a:buFont typeface="IMG Symbols"/>
                <a:buChar char="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nstantia"/>
                </a:rPr>
                <a:t>http://www.muz-urok.ru/muz_istorii_skazki.htm</a:t>
              </a:r>
              <a:r>
                <a:rPr b="0" lang="ru-RU" sz="2400" spc="-1" strike="noStrike" u="sng">
                  <a:solidFill>
                    <a:srgbClr val="ff0000"/>
                  </a:solidFill>
                  <a:uFillTx/>
                  <a:latin typeface="Constantia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– сайт «Детям о музыке»  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72880" indent="-272880">
                <a:spcBef>
                  <a:spcPts val="601"/>
                </a:spcBef>
                <a:buClr>
                  <a:srgbClr val="000000"/>
                </a:buClr>
                <a:buSzPct val="85000"/>
                <a:buFont typeface="IMG Symbols"/>
                <a:buChar char="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d83e2c"/>
                  </a:solidFill>
                  <a:uFillTx/>
                  <a:latin typeface="Constantia"/>
                  <a:hlinkClick r:id="rId2"/>
                </a:rPr>
                <a:t>http://ru.wikipedia.org/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 - определения 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72880" indent="-272880">
                <a:spcBef>
                  <a:spcPts val="601"/>
                </a:spcBef>
                <a:buClr>
                  <a:srgbClr val="000000"/>
                </a:buClr>
                <a:buSzPct val="85000"/>
                <a:buFont typeface="IMG Symbols"/>
                <a:buChar char="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d83e2c"/>
                  </a:solidFill>
                  <a:uFillTx/>
                  <a:latin typeface="Constantia"/>
                  <a:hlinkClick r:id="rId3"/>
                </a:rPr>
                <a:t>http</a:t>
              </a:r>
              <a:r>
                <a:rPr b="0" lang="ru-RU" sz="2400" spc="-1" strike="noStrike" u="sng">
                  <a:solidFill>
                    <a:srgbClr val="d83e2c"/>
                  </a:solidFill>
                  <a:uFillTx/>
                  <a:latin typeface="Constantia"/>
                  <a:hlinkClick r:id="rId4"/>
                </a:rPr>
                <a:t>://</a:t>
              </a:r>
              <a:r>
                <a:rPr b="0" lang="ru-RU" sz="2400" spc="-1" strike="noStrike" u="sng">
                  <a:solidFill>
                    <a:srgbClr val="d83e2c"/>
                  </a:solidFill>
                  <a:uFillTx/>
                  <a:latin typeface="Constantia"/>
                  <a:hlinkClick r:id="rId5"/>
                </a:rPr>
                <a:t>images.yandex.ru/yandsearchFstock-vector-vector-music-theme-22454539.jpg&amp;noreask=1&amp;lr=213&amp;p=17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 – изображение первобытного строя 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72880" indent="-272880">
                <a:spcBef>
                  <a:spcPts val="601"/>
                </a:spcBef>
                <a:buClr>
                  <a:srgbClr val="000000"/>
                </a:buClr>
                <a:buSzPct val="85000"/>
                <a:buFont typeface="IMG Symbols"/>
                <a:buChar char="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d83e2c"/>
                  </a:solidFill>
                  <a:uFillTx/>
                  <a:latin typeface="Constantia"/>
                  <a:hlinkClick r:id="rId6"/>
                </a:rPr>
                <a:t>http://</a:t>
              </a:r>
              <a:r>
                <a:rPr b="0" lang="ru-RU" sz="2400" spc="-1" strike="noStrike" u="sng">
                  <a:solidFill>
                    <a:srgbClr val="d83e2c"/>
                  </a:solidFill>
                  <a:uFillTx/>
                  <a:latin typeface="Constantia"/>
                  <a:hlinkClick r:id="rId7"/>
                </a:rPr>
                <a:t>images.yandex.ru/yandsearch?text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 – изображения невм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72880" indent="-272880">
                <a:spcBef>
                  <a:spcPts val="601"/>
                </a:spcBef>
                <a:buClr>
                  <a:srgbClr val="000000"/>
                </a:buClr>
                <a:buSzPct val="85000"/>
                <a:buFont typeface="IMG Symbols"/>
                <a:buChar char="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http://yandex.ru/yandsearch?text=%D0%BD%D0%BE%D1%82%D1%8B&amp;lr=213 – изображения нот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72880" indent="-272880">
                <a:spcBef>
                  <a:spcPts val="601"/>
                </a:spcBef>
                <a:buClr>
                  <a:srgbClr val="000000"/>
                </a:buClr>
                <a:buSzPct val="85000"/>
                <a:buFont typeface="IMG Symbols"/>
                <a:buChar char="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http://images.yandex.ru/yandsearch?ed=1&amp;texturl=chrisstephenson.typepad.com%2F.a%2F6a00d8341fa9ad53ef01538f6b1777970b-400wi&amp;rpt=simage - крюки 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72880" indent="-272880">
                <a:spcBef>
                  <a:spcPts val="601"/>
                </a:spcBef>
                <a:buClr>
                  <a:srgbClr val="aa2b1e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226" name="Заголовок 2" descr=""/>
          <p:cNvPicPr/>
          <p:nvPr/>
        </p:nvPicPr>
        <p:blipFill>
          <a:blip r:embed="rId8"/>
          <a:stretch/>
        </p:blipFill>
        <p:spPr>
          <a:xfrm>
            <a:off x="457200" y="152280"/>
            <a:ext cx="8229600" cy="126216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6840" y="1484280"/>
            <a:ext cx="42591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nstantia"/>
              </a:rPr>
              <a:t>Этот вопрос давно волнует людей. Еще в глубокой древности было сложено немало легенд о происхождении музыки. Древние" греки считали, что музыка дарована им богами.</a:t>
            </a:r>
            <a:br>
              <a:rPr sz="2200"/>
            </a:b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3" descr=""/>
          <p:cNvPicPr/>
          <p:nvPr/>
        </p:nvPicPr>
        <p:blipFill>
          <a:blip r:embed="rId1"/>
          <a:stretch/>
        </p:blipFill>
        <p:spPr>
          <a:xfrm>
            <a:off x="469800" y="401760"/>
            <a:ext cx="8229600" cy="1330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Картинка 1 из 26436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13200" y="1573200"/>
            <a:ext cx="5310000" cy="36082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4"/>
          <p:cNvSpPr/>
          <p:nvPr/>
        </p:nvSpPr>
        <p:spPr>
          <a:xfrm>
            <a:off x="3000240" y="6215040"/>
            <a:ext cx="3581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259920"/>
            <a:ext cx="51703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е же на основе археологических и этнографических исследований установили, что музыка появилась еще в первобытном обществе. У древних людей она была связана с их повседневной жизнью. Женщины напевали, баюкая детей, пастухи созывали стадо звуками рожков, воинственные возгласы повергали в ужас врагов. Музыка, ее ритм и мелодия оказывали на человека сильное эмоциональное воздействие.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Picture 2" descr="http://im8-tub-ru.yandex.net/i?id=90721486-31-72"/>
          <p:cNvPicPr/>
          <p:nvPr/>
        </p:nvPicPr>
        <p:blipFill>
          <a:blip r:embed="rId1"/>
          <a:stretch/>
        </p:blipFill>
        <p:spPr>
          <a:xfrm>
            <a:off x="5508720" y="115920"/>
            <a:ext cx="3502080" cy="2638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im7-tub-ru.yandex.net/i?id=120753706-43-72"/>
          <p:cNvPicPr/>
          <p:nvPr/>
        </p:nvPicPr>
        <p:blipFill>
          <a:blip r:embed="rId2"/>
          <a:stretch/>
        </p:blipFill>
        <p:spPr>
          <a:xfrm>
            <a:off x="6083280" y="4138560"/>
            <a:ext cx="2365560" cy="184788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39840" y="404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й была первобытная музыка, мы не знаем, но, вероятно, не очень благозвучной. В ней было много звукоподражаний: в песнях первобытные люди повторяли звуки окружающего их мира - крики диких зверей, птиц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Picture 2" descr="http://im2-tub-ru.yandex.net/i?id=44746542-42-72"/>
          <p:cNvPicPr/>
          <p:nvPr/>
        </p:nvPicPr>
        <p:blipFill>
          <a:blip r:embed="rId1"/>
          <a:stretch/>
        </p:blipFill>
        <p:spPr>
          <a:xfrm>
            <a:off x="4145040" y="2919240"/>
            <a:ext cx="5065560" cy="3805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im7-tub-ru.yandex.net/i?id=120753706-43-72"/>
          <p:cNvPicPr/>
          <p:nvPr/>
        </p:nvPicPr>
        <p:blipFill>
          <a:blip r:embed="rId2"/>
          <a:stretch/>
        </p:blipFill>
        <p:spPr>
          <a:xfrm>
            <a:off x="609480" y="4175280"/>
            <a:ext cx="2365560" cy="184752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95280" y="333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лавным элементом первобытной музыки был ритм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н помогал людям четко выполнять движения во время работы. Певцы подчеркивали ритм ударами в ладоши или притопыванием. Позже люди подметили, что ритмичные громкие звуки издают при ударе плоские камни, куски дерева, раковины. Он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о и стали первыми музыкальными инструментами.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Picture 2" descr="Картинка 295 из 19601">
            <a:hlinkClick r:id="rId1"/>
          </p:cNvPr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003640" y="3414600"/>
            <a:ext cx="3505320" cy="2805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http://im7-tub-ru.yandex.net/i?id=120753706-43-72"/>
          <p:cNvPicPr/>
          <p:nvPr/>
        </p:nvPicPr>
        <p:blipFill>
          <a:blip r:embed="rId3"/>
          <a:stretch/>
        </p:blipFill>
        <p:spPr>
          <a:xfrm>
            <a:off x="609480" y="4175280"/>
            <a:ext cx="2365560" cy="1847520"/>
          </a:xfrm>
          <a:prstGeom prst="rect">
            <a:avLst/>
          </a:prstGeom>
          <a:ln w="0">
            <a:noFill/>
          </a:ln>
        </p:spPr>
      </p:pic>
      <p:sp>
        <p:nvSpPr>
          <p:cNvPr id="189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360" y="6922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африканских племен до сих пор существуют огромные барабаны из пустотелого ствола дерева, барабаны поменьше из высушенной тыквы, а также рога, раковины - прообразы современных ударных и духовых инстру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Picture 4" descr="http://im2-tub-ru.yandex.net/i?id=308969637-59-72"/>
          <p:cNvPicPr/>
          <p:nvPr/>
        </p:nvPicPr>
        <p:blipFill>
          <a:blip r:embed="rId1"/>
          <a:stretch/>
        </p:blipFill>
        <p:spPr>
          <a:xfrm>
            <a:off x="5219640" y="2708280"/>
            <a:ext cx="3673440" cy="3673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http://im7-tub-ru.yandex.net/i?id=120753706-43-72"/>
          <p:cNvPicPr/>
          <p:nvPr/>
        </p:nvPicPr>
        <p:blipFill>
          <a:blip r:embed="rId2"/>
          <a:stretch/>
        </p:blipFill>
        <p:spPr>
          <a:xfrm>
            <a:off x="609480" y="4175280"/>
            <a:ext cx="2365560" cy="1847520"/>
          </a:xfrm>
          <a:prstGeom prst="rect">
            <a:avLst/>
          </a:prstGeom>
          <a:ln w="0">
            <a:noFill/>
          </a:ln>
        </p:spPr>
      </p:pic>
      <p:sp>
        <p:nvSpPr>
          <p:cNvPr id="193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глубокой древности люди стремились сохранить музыку, для этого необходимо было записать мелодию. Делали это везде по-разном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469800" y="146160"/>
            <a:ext cx="8229600" cy="1407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Картинка 55 из 16096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19280" y="2905200"/>
            <a:ext cx="5329080" cy="347796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4920" y="475920"/>
            <a:ext cx="3313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Древней Греции музыкальные звуки обозначали буквами греческого алфавит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средневековой Европе для этого использовали специальные значки -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Constantia"/>
              </a:rPr>
              <a:t>нев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Они выглядели как черточки, точки и запяты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Picture 2" descr="http://pianoweb.free.fr/dictionnaire-musique/images/neume-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165240"/>
            <a:ext cx="5018040" cy="6406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00" name="Нижний колонтитул 3"/>
          <p:cNvSpPr/>
          <p:nvPr/>
        </p:nvSpPr>
        <p:spPr>
          <a:xfrm>
            <a:off x="179280" y="6184800"/>
            <a:ext cx="3581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0880" y="333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Руси для записи музыки придумали особые знаки - 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Constantia"/>
              </a:rPr>
              <a:t>крюк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Picture 2" descr="Картинка 1 из 2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628640"/>
            <a:ext cx="6905520" cy="4826160"/>
          </a:xfrm>
          <a:prstGeom prst="rect">
            <a:avLst/>
          </a:prstGeom>
          <a:ln w="0">
            <a:noFill/>
          </a:ln>
        </p:spPr>
      </p:pic>
      <p:sp>
        <p:nvSpPr>
          <p:cNvPr id="203" name="Нижний колонтитул 3"/>
          <p:cNvSpPr/>
          <p:nvPr/>
        </p:nvSpPr>
        <p:spPr>
          <a:xfrm>
            <a:off x="179280" y="6437160"/>
            <a:ext cx="35816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08:32:00Z</dcterms:created>
  <dc:creator>Ирина</dc:creator>
  <dc:description/>
  <dc:language>en-US</dc:language>
  <cp:lastModifiedBy>Ирина</cp:lastModifiedBy>
  <dcterms:modified xsi:type="dcterms:W3CDTF">2012-01-11T09:58:48Z</dcterms:modified>
  <cp:revision>24</cp:revision>
  <dc:subject/>
  <dc:title>Презентация PowerPoint</dc:title>
</cp:coreProperties>
</file>