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26.png" ContentType="image/png"/>
  <Override PartName="/ppt/media/image8.wmf" ContentType="image/x-wmf"/>
  <Override PartName="/ppt/media/image13.png" ContentType="image/png"/>
  <Override PartName="/ppt/media/image10.wmf" ContentType="image/x-wmf"/>
  <Override PartName="/ppt/media/image25.png" ContentType="image/png"/>
  <Override PartName="/ppt/media/image7.jpeg" ContentType="image/jpeg"/>
  <Override PartName="/ppt/media/image12.wmf" ContentType="image/x-wmf"/>
  <Override PartName="/ppt/media/image4.png" ContentType="image/png"/>
  <Override PartName="/ppt/media/image27.png" ContentType="image/png"/>
  <Override PartName="/ppt/media/image6.jpeg" ContentType="image/jpeg"/>
  <Override PartName="/ppt/media/image28.wmf" ContentType="image/x-wmf"/>
  <Override PartName="/ppt/media/image9.wmf" ContentType="image/x-wmf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9F57-A317-4278-9C25-2E1B603B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C10-22B1-4315-85AB-21B56D8E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F2F-924C-4ECC-A9AD-E2CD86FA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9B2-7FA8-4E92-BC1F-367C64C5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AFB2-9786-4D19-99D2-1576EBF2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731A-F981-4EEA-BD74-1D601793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1CDB-F587-49A7-A724-09E2856E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AEF9-A37A-4054-A5B5-F5BEF351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5EF0-DFC1-4A67-9560-82680F4F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497B-768D-4ED1-ABE5-96762C76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8898-CE91-4D34-ACD0-91298997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C1DC-1373-4E35-AA31-B3A24E19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AE6B-8D52-4EC3-BCCB-AA9309BD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11F1-A02A-4F1E-8DC3-15F3D432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84CE-689C-4DA5-BE0B-6C64BFDE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10FB-D4AC-4ADD-B811-B43BE555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FA65-F895-4D65-940D-1696DC0F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524-D600-4EAD-96CD-950DF8B8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DE8-13E0-484F-BEAE-5114B123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2E8-88FC-4CF8-8206-51C596C1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21D-92FD-4729-A596-B066817C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692-BF7B-4181-8DCA-EC435A0C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DB6-9F23-4FDC-80FE-0E0B1223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7244-2D84-47BB-A47D-9127A2ED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4d6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E0E6-FA2F-48B1-B279-65D110DD5E3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C437-B16A-4679-A5B1-46A87642790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780000" y="2133360"/>
            <a:ext cx="5186160" cy="36716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fdfded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9966"/>
                </a:solidFill>
                <a:latin typeface="Tahoma"/>
              </a:rPr>
              <a:t>Твоя </a:t>
            </a:r>
            <a:r>
              <a:rPr b="0" lang="en-US" sz="4400" spc="-1" strike="noStrike">
                <a:solidFill>
                  <a:srgbClr val="339966"/>
                </a:solidFill>
                <a:latin typeface="Tahoma"/>
              </a:rPr>
              <a:t>профессиональная </a:t>
            </a:r>
            <a:r>
              <a:rPr b="0" lang="en-US" sz="5400" spc="-1" strike="noStrike">
                <a:solidFill>
                  <a:srgbClr val="339966"/>
                </a:solidFill>
                <a:latin typeface="Tahoma"/>
              </a:rPr>
              <a:t>карьера</a:t>
            </a:r>
            <a:endParaRPr b="1" lang="en-US" sz="5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547640" y="189000"/>
            <a:ext cx="60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e1c14"/>
                </a:solidFill>
                <a:latin typeface="Tahoma"/>
              </a:rPr>
              <a:t>Откидач Г.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e1c14"/>
                </a:solidFill>
                <a:latin typeface="Tahoma"/>
              </a:rPr>
              <a:t>педагог-псих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e1c14"/>
                </a:solidFill>
                <a:latin typeface="Tahoma"/>
              </a:rPr>
              <a:t>МОУ СОШ №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e1c14"/>
                </a:solidFill>
                <a:latin typeface="Tahoma"/>
              </a:rPr>
              <a:t>г. Усолье-Сибир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17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токарь1" descr=""/>
          <p:cNvPicPr/>
          <p:nvPr/>
        </p:nvPicPr>
        <p:blipFill>
          <a:blip r:embed="rId1"/>
          <a:stretch/>
        </p:blipFill>
        <p:spPr>
          <a:xfrm>
            <a:off x="108000" y="3789360"/>
            <a:ext cx="3598920" cy="251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швея1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05240" cy="327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doctor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1847880" cy="276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17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132000" y="1557360"/>
            <a:ext cx="231156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Если ты хочешь</a:t>
            </a:r>
            <a:endParaRPr b="1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3280" y="1981080"/>
            <a:ext cx="396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олучить помощь в выборе профиля дальнейшего обучения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2185920"/>
            <a:ext cx="40320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Если ты хочешь</a:t>
            </a:r>
            <a:endParaRPr b="1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0708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тать  участником деловой игры «Ярмарка вакансий» и узнать, как получить работу и для чего нужен портфоли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3529080" cy="2643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26920" y="4005360"/>
            <a:ext cx="37911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8230027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932360" y="3789360"/>
            <a:ext cx="3403440" cy="2263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2987640" y="260280"/>
            <a:ext cx="568800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ход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 нам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Факультативный курс</a:t>
            </a:r>
            <a:r>
              <a:rPr b="0" lang="en-US" sz="4800" spc="-1" strike="noStrike">
                <a:solidFill>
                  <a:srgbClr val="339966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3600" spc="-1" strike="noStrike">
                <a:solidFill>
                  <a:srgbClr val="339966"/>
                </a:solidFill>
                <a:latin typeface="Tahoma"/>
              </a:rPr>
              <a:t>«Твоя профессиональная карьера»</a:t>
            </a:r>
            <a:endParaRPr b="1" lang="en-US" sz="3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51280" y="3068640"/>
            <a:ext cx="4608360" cy="3279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900000" y="1773360"/>
            <a:ext cx="4581720" cy="26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ля вас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евятиклассник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00"/>
                </a:solidFill>
                <a:latin typeface="Tahoma"/>
              </a:rPr>
              <a:t>Где можно получить информацию о профессиональном будущем?</a:t>
            </a:r>
            <a:endParaRPr b="1" lang="en-US" sz="3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95280" y="1989000"/>
            <a:ext cx="6948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правочниках для поступающих в учебные завед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исковых программах  сет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рекламных объявления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библиотека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центре занятости насел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Рисунок 31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8532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и на занятиях курса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ahoma"/>
              </a:rPr>
              <a:t>«Твоя профессиональная карьера»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340000" y="3284640"/>
            <a:ext cx="4175280" cy="31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На занятиях Вы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42560" y="1916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идите свою дорогу, по которой Вам лучше всего следует идт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делаете обоснованный выбор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 нашей помощью выработаете свою стратегию поиска работы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знаете о таких профессиях, о которых раньше не знал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Формула успешного выбора профессии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2924280"/>
            <a:ext cx="2592360" cy="1439640"/>
          </a:xfrm>
          <a:prstGeom prst="cube">
            <a:avLst>
              <a:gd name="adj" fmla="val 25000"/>
            </a:avLst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НА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3640" y="3429000"/>
            <a:ext cx="2519280" cy="1512720"/>
          </a:xfrm>
          <a:prstGeom prst="cube">
            <a:avLst>
              <a:gd name="adj" fmla="val 25000"/>
            </a:avLst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МО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2997360"/>
            <a:ext cx="2590920" cy="1439640"/>
          </a:xfrm>
          <a:prstGeom prst="cube">
            <a:avLst>
              <a:gd name="adj" fmla="val 23194"/>
            </a:avLst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ХО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335772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Формула успешного выбора профессии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320" y="2935440"/>
            <a:ext cx="6589440" cy="316080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«ХОЧУ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фессиональные интерес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  склон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Формула успешного выбора профессии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66320" y="3009600"/>
            <a:ext cx="6515280" cy="308664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«МОГУ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стояние здоровь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фессиональная квалификац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фессиональные способ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66"/>
                </a:solidFill>
                <a:latin typeface="Tahoma"/>
              </a:rPr>
              <a:t>Данные центра социально-профессионального самоопределения</a:t>
            </a:r>
            <a:endParaRPr b="1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5% старшеклассников испытывают серьезные затруднения в принятии решения о выборе пути продолжения образования и трудоустройств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 % -вообще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не задумывались о своем профессиональном будущем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% - профиль дальнейшего обучения в старшей школе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выбирают за компанию со своими сверстникам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% -под влиянием таких факторов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где-то слышал; рассказали учителя, родител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Формула успешного выбора профессии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66320" y="3009600"/>
            <a:ext cx="6515280" cy="308664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«НАДО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прос на    рынке тру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 возможность трудоустрой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ahoma"/>
              </a:rPr>
              <a:t>3 группы ошибок, допускаемых при выборе профессии: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знание самого себ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знание мира професси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знание правил выбора професс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Рисунок 22" descr=""/>
          <p:cNvPicPr/>
          <p:nvPr/>
        </p:nvPicPr>
        <p:blipFill>
          <a:blip r:embed="rId1"/>
          <a:stretch/>
        </p:blipFill>
        <p:spPr>
          <a:xfrm>
            <a:off x="2916360" y="3789360"/>
            <a:ext cx="276516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Два способа выбора професии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етод проб и ошибок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учить свои особенности , ознакомиться с миром профессий, соотнести требования профессии со своими особенност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411280" y="4653000"/>
            <a:ext cx="5124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то осмысленный выбор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353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ahoma"/>
              </a:rPr>
              <a:t>Посещение занятий курса«Твоя профессиональная карьера» поможет</a:t>
            </a:r>
            <a:endParaRPr b="1" lang="en-US" sz="3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66680" y="4114440"/>
            <a:ext cx="3695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высить твой  уровень профессиональ-ной зрел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Узнать, какая профессия тебе подходи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Избежать ошибок и принять верное реш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Узнать профессии,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пользующиеся спросом на рынке тру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Рисунок 1" descr=""/>
          <p:cNvPicPr/>
          <p:nvPr/>
        </p:nvPicPr>
        <p:blipFill>
          <a:blip r:embed="rId1"/>
          <a:stretch/>
        </p:blipFill>
        <p:spPr>
          <a:xfrm>
            <a:off x="1763640" y="2106720"/>
            <a:ext cx="2016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ahoma"/>
              </a:rPr>
              <a:t>Отзывы о программе «Твоя профессиональная карьера»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Благодаря этому курсу я точно  выбрала професси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cc"/>
                </a:solidFill>
                <a:latin typeface="Tahoma"/>
              </a:rPr>
              <a:t>Я считаю, что этот факультатив очень помогает 9-классникам определиться со своей будущей професси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Думаю, что стоит проводить такие занятия для девятиклассни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cc"/>
                </a:solidFill>
                <a:latin typeface="Tahoma"/>
              </a:rPr>
              <a:t>Мне понравилось, что в нашей школе есть такой факультатив, который помогает определиться с профилем и будущей професси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Очень полезный факультатив для учеников 9 класса! Хочу продолжить заниматься дальше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2563920"/>
            <a:ext cx="6877080" cy="4294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26920" y="981000"/>
            <a:ext cx="7632720" cy="192240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Выбор профиля обучения – это выбор жизненного пути. Сделай правильный выбор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077920" cy="2658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97520" y="3213000"/>
            <a:ext cx="2178360" cy="3116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2521080" cy="2347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95280" y="2421000"/>
            <a:ext cx="67438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БОР ПРОФЕССИИ – ЭТО СЕРЬЁЗН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386892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нимать решение  о выборе профиля обуче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ез предпрофильной подготов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–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 равно,                                     что путешествовать без карты и компаса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.В.Резапки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1825560" cy="1461960"/>
          </a:xfrm>
          <a:prstGeom prst="rect">
            <a:avLst/>
          </a:prstGeom>
          <a:ln w="6480">
            <a:solidFill>
              <a:srgbClr val="3333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255680" cy="1971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076720" y="3213000"/>
            <a:ext cx="1795680" cy="1832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721560" y="1989000"/>
            <a:ext cx="2422440" cy="20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659640" y="3860640"/>
            <a:ext cx="2014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«Начиная своё поприще, не теряй, о юноша, драгоценного времени»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Козьма Прутк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813040" cy="18860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3" descr=""/>
          <p:cNvPicPr/>
          <p:nvPr/>
        </p:nvPicPr>
        <p:blipFill>
          <a:blip r:embed="rId2"/>
          <a:stretch/>
        </p:blipFill>
        <p:spPr>
          <a:xfrm>
            <a:off x="684360" y="5229360"/>
            <a:ext cx="1949400" cy="1296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2019240" cy="20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66"/>
                </a:solidFill>
                <a:latin typeface="Tahoma"/>
              </a:rPr>
              <a:t>Если ты хочешь</a:t>
            </a:r>
            <a:endParaRPr b="1" lang="en-US" sz="5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Получить информацию о мире профессий и профессиональной ориентации…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617840" y="3273480"/>
            <a:ext cx="3078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Если ты хочешь</a:t>
            </a:r>
            <a:endParaRPr b="1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Узнать свои   профессиональные интересы, склонности, способности…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Если ты хочешь</a:t>
            </a:r>
            <a:endParaRPr b="1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720072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1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Найти профессию, которая подходит к твоим индивидуально-психологическим  особенностям и возможностям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4465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Если ты </a:t>
            </a:r>
            <a:br>
              <a:rPr sz="6000"/>
            </a:br>
            <a:r>
              <a:rPr b="1" lang="en-US" sz="6000" spc="-1" strike="noStrike">
                <a:solidFill>
                  <a:srgbClr val="339966"/>
                </a:solidFill>
                <a:latin typeface="Tahoma"/>
              </a:rPr>
              <a:t>хочешь</a:t>
            </a:r>
            <a:endParaRPr b="1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77770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Научиться навыкам самопрезентации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и уверенного поведения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95280" y="393372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435640" y="4076640"/>
            <a:ext cx="3382920" cy="2540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580000" y="189000"/>
            <a:ext cx="331308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19:02Z</dcterms:created>
  <dc:creator>ooa</dc:creator>
  <dc:description/>
  <dc:language>en-US</dc:language>
  <cp:lastModifiedBy>Капуста</cp:lastModifiedBy>
  <dcterms:modified xsi:type="dcterms:W3CDTF">2009-09-16T12:57:26Z</dcterms:modified>
  <cp:revision>44</cp:revision>
  <dc:subject/>
  <dc:title>Проектная  и  научно-исследовательская  деятельность  в Лицее ИГУ</dc:title>
</cp:coreProperties>
</file>