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26.png" ContentType="image/png"/>
  <Override PartName="/ppt/media/image8.wmf" ContentType="image/x-wmf"/>
  <Override PartName="/ppt/media/image13.png" ContentType="image/png"/>
  <Override PartName="/ppt/media/image10.wmf" ContentType="image/x-wmf"/>
  <Override PartName="/ppt/media/image25.png" ContentType="image/png"/>
  <Override PartName="/ppt/media/image7.jpeg" ContentType="image/jpeg"/>
  <Override PartName="/ppt/media/image12.wmf" ContentType="image/x-wmf"/>
  <Override PartName="/ppt/media/image4.png" ContentType="image/png"/>
  <Override PartName="/ppt/media/image27.png" ContentType="image/png"/>
  <Override PartName="/ppt/media/image6.jpeg" ContentType="image/jpeg"/>
  <Override PartName="/ppt/media/image28.wmf" ContentType="image/x-wmf"/>
  <Override PartName="/ppt/media/image9.wmf" ContentType="image/x-wmf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F496-2AB1-41B8-A8DE-57A3FBC16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A8E5-2E25-46A4-934D-DF331FDD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C13D-FC73-4CB6-BFC6-E4ED3FE35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D388-2DFE-495B-8713-EC87C41DF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0966-E54F-4BB6-9221-264406276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D851-B4DD-4A92-BD37-B9B40DF2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1AEA-2E01-435C-A98C-15FBC352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D8B90-E893-48AB-89F3-394DBD9D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E2E9-0DEF-48C2-B175-F7F31F2A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2CD6-52ED-4D78-A730-94F991C6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11AE-AE01-4AFE-9659-7CDC04FC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D168-E278-4035-A22B-0A30A0DA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1CD4E-9AFC-42DD-B392-1D32A93D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0C70-FFFB-45BF-AFA7-A6A321FB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B8226-1CA1-4245-8158-54E76AB9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AB07-9A91-48CE-937A-0A9D007FB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D76C-1A39-491E-B266-4898C2372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7AB0-5C40-4E62-B78F-49924ADC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A17E-19A0-4A9C-A202-A82242C5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2C51-A699-44AB-84B9-745BB508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4E3B-3B09-44F7-9933-EE446331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986F-0137-4C85-A664-D1A9369C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7355-2F77-4AB5-8704-B0E39F30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24D3-3837-4AD4-9EAA-ED80E93F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effbf0"/>
                </a:gs>
                <a:gs pos="100000">
                  <a:srgbClr val="c4d6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2F7F-F40E-4775-B1AD-45919A30FFA1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50000">
                  <a:srgbClr val="009900"/>
                </a:gs>
                <a:gs pos="100000">
                  <a:srgbClr val="cc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effbf0"/>
                </a:gs>
                <a:gs pos="100000">
                  <a:srgbClr val="ccf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100000">
                  <a:srgbClr val="effbf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BC35-ADDF-46E8-A143-49B6DDD05F75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780000" y="2133360"/>
            <a:ext cx="5186160" cy="36716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fdfded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9966"/>
                </a:solidFill>
                <a:latin typeface="Tahoma"/>
              </a:rPr>
              <a:t>Твоя </a:t>
            </a:r>
            <a:r>
              <a:rPr b="0" lang="en-US" sz="4400" spc="-1" strike="noStrike">
                <a:solidFill>
                  <a:srgbClr val="339966"/>
                </a:solidFill>
                <a:latin typeface="Tahoma"/>
              </a:rPr>
              <a:t>профессиональная </a:t>
            </a:r>
            <a:r>
              <a:rPr b="0" lang="en-US" sz="5400" spc="-1" strike="noStrike">
                <a:solidFill>
                  <a:srgbClr val="339966"/>
                </a:solidFill>
                <a:latin typeface="Tahoma"/>
              </a:rPr>
              <a:t>карьера</a:t>
            </a:r>
            <a:endParaRPr b="1" lang="en-US" sz="5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1547640" y="189000"/>
            <a:ext cx="604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e1c14"/>
                </a:solidFill>
                <a:latin typeface="Tahoma"/>
              </a:rPr>
              <a:t>Откидач Г. 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e1c14"/>
                </a:solidFill>
                <a:latin typeface="Tahoma"/>
              </a:rPr>
              <a:t>педагог-психо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e1c14"/>
                </a:solidFill>
                <a:latin typeface="Tahoma"/>
              </a:rPr>
              <a:t>МОУ СОШ №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e1c14"/>
                </a:solidFill>
                <a:latin typeface="Tahoma"/>
              </a:rPr>
              <a:t>г. Усолье-Сибир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17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токарь1" descr=""/>
          <p:cNvPicPr/>
          <p:nvPr/>
        </p:nvPicPr>
        <p:blipFill>
          <a:blip r:embed="rId1"/>
          <a:stretch/>
        </p:blipFill>
        <p:spPr>
          <a:xfrm>
            <a:off x="108000" y="3789360"/>
            <a:ext cx="3598920" cy="2519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швея1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05240" cy="3276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doctor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1847880" cy="2764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0" y="177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3132000" y="1557360"/>
            <a:ext cx="231156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9966"/>
                </a:solidFill>
                <a:latin typeface="Tahoma"/>
              </a:rPr>
              <a:t>Если ты хочешь</a:t>
            </a:r>
            <a:endParaRPr b="1" lang="en-US" sz="6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43280" y="1981080"/>
            <a:ext cx="396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Получить помощь в выборе профиля дальнейшего обучения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24000" y="2185920"/>
            <a:ext cx="403200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9966"/>
                </a:solidFill>
                <a:latin typeface="Tahoma"/>
              </a:rPr>
              <a:t>Если ты хочешь</a:t>
            </a:r>
            <a:endParaRPr b="1" lang="en-US" sz="6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0708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Стать  участником деловой игры «Ярмарка вакансий» и узнать, как получить работу и для чего нужен портфолио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076720" y="3716280"/>
            <a:ext cx="3529080" cy="26431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826920" y="4005360"/>
            <a:ext cx="37911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8230027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3097080" cy="2322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932360" y="3789360"/>
            <a:ext cx="3403440" cy="2263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2987640" y="260280"/>
            <a:ext cx="568800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иход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 нам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ahoma"/>
              </a:rPr>
              <a:t>Факультативный курс</a:t>
            </a:r>
            <a:r>
              <a:rPr b="0" lang="en-US" sz="4800" spc="-1" strike="noStrike">
                <a:solidFill>
                  <a:srgbClr val="339966"/>
                </a:solidFill>
                <a:latin typeface="Tahoma"/>
              </a:rPr>
              <a:t> </a:t>
            </a:r>
            <a:br>
              <a:rPr sz="4800"/>
            </a:br>
            <a:r>
              <a:rPr b="0" lang="en-US" sz="3600" spc="-1" strike="noStrike">
                <a:solidFill>
                  <a:srgbClr val="339966"/>
                </a:solidFill>
                <a:latin typeface="Tahoma"/>
              </a:rPr>
              <a:t>«Твоя профессиональная карьера»</a:t>
            </a:r>
            <a:endParaRPr b="1" lang="en-US" sz="36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851280" y="3068640"/>
            <a:ext cx="4608360" cy="32796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900000" y="1773360"/>
            <a:ext cx="4581720" cy="26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ля вас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евятиклассники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9900"/>
                </a:solidFill>
                <a:latin typeface="Tahoma"/>
              </a:rPr>
              <a:t>Где можно получить информацию о профессиональном будущем?</a:t>
            </a:r>
            <a:endParaRPr b="1" lang="en-US" sz="36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195280" y="1989000"/>
            <a:ext cx="6948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справочниках для поступающих в учебные заведени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исковых программах  сет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рекламных объявлениях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библиотеках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центре занятости насел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Рисунок 31" descr=""/>
          <p:cNvPicPr/>
          <p:nvPr/>
        </p:nvPicPr>
        <p:blipFill>
          <a:blip r:embed="rId1"/>
          <a:stretch/>
        </p:blipFill>
        <p:spPr>
          <a:xfrm>
            <a:off x="250920" y="29242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500"/>
                            </p:stCondLst>
                            <p:childTnLst>
                              <p:par>
                                <p:cTn id="3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500"/>
                            </p:stCondLst>
                            <p:childTnLst>
                              <p:par>
                                <p:cTn id="4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500"/>
                            </p:stCondLst>
                            <p:childTnLst>
                              <p:par>
                                <p:cTn id="5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11280" y="836280"/>
            <a:ext cx="85327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ahoma"/>
              </a:rPr>
              <a:t>и на занятиях курса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Tahoma"/>
              </a:rPr>
              <a:t>«Твоя профессиональная карьера»!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340000" y="3284640"/>
            <a:ext cx="4175280" cy="312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На занятиях Вы: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42560" y="19162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видите свою дорогу, по которой Вам лучше всего следует идти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делаете обоснованный выбор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 нашей помощью выработаете свою стратегию поиска работы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знаете о таких профессиях, о которых раньше не знал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Формула успешного выбора профессии: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5867280" y="2924280"/>
            <a:ext cx="2592360" cy="1439640"/>
          </a:xfrm>
          <a:prstGeom prst="cube">
            <a:avLst>
              <a:gd name="adj" fmla="val 25000"/>
            </a:avLst>
          </a:pr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НАД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3640" y="3429000"/>
            <a:ext cx="2519280" cy="1512720"/>
          </a:xfrm>
          <a:prstGeom prst="cube">
            <a:avLst>
              <a:gd name="adj" fmla="val 25000"/>
            </a:avLst>
          </a:pr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МОГ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9640" y="2997360"/>
            <a:ext cx="2590920" cy="1439640"/>
          </a:xfrm>
          <a:prstGeom prst="cube">
            <a:avLst>
              <a:gd name="adj" fmla="val 23194"/>
            </a:avLst>
          </a:pr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ХОЧ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6000" y="3357720"/>
            <a:ext cx="176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Формула успешного выбора профессии: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066320" y="2935440"/>
            <a:ext cx="6589440" cy="316080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«ХОЧУ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офессиональные интересы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  склонн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Формула успешного выбора профессии: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066320" y="3009600"/>
            <a:ext cx="6515280" cy="308664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«МОГУ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остояние здоровь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офессиональная квалификац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офессиональные способнос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Tahoma"/>
              </a:rPr>
              <a:t>Данные центра социально-профессионального самоопределения</a:t>
            </a:r>
            <a:endParaRPr b="1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5% старшеклассников испытывают серьезные затруднения в принятии решения о выборе пути продолжения образования и трудоустройств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 % -вообще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не задумывались о своем профессиональном будущем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% - профиль дальнейшего обучения в старшей школе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выбирают за компанию со своими сверстникам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% -под влиянием таких факторов: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где-то слышал; рассказали учителя, родител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Формула успешного выбора профессии: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066320" y="3009600"/>
            <a:ext cx="6515280" cy="308664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«НАДО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прос на    рынке труд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 возможность трудоустройст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Tahoma"/>
              </a:rPr>
              <a:t>3 группы ошибок, допускаемых при выборе профессии:</a:t>
            </a:r>
            <a:endParaRPr b="1" lang="en-US" sz="4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знание самого себ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знание мира профессий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знание правил выбора професс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3" name="Рисунок 22" descr=""/>
          <p:cNvPicPr/>
          <p:nvPr/>
        </p:nvPicPr>
        <p:blipFill>
          <a:blip r:embed="rId1"/>
          <a:stretch/>
        </p:blipFill>
        <p:spPr>
          <a:xfrm>
            <a:off x="2916360" y="3789360"/>
            <a:ext cx="276516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66"/>
                </a:solidFill>
                <a:latin typeface="Tahoma"/>
              </a:rPr>
              <a:t>Два способа выбора професии: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етод проб и ошибок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зучить свои особенности , ознакомиться с миром профессий, соотнести требования профессии со своими особенностя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411280" y="4653000"/>
            <a:ext cx="51246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Это осмысленный выбор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1280" y="304560"/>
            <a:ext cx="8353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ahoma"/>
              </a:rPr>
              <a:t>Посещение занятий курса«Твоя профессиональная карьера» поможет</a:t>
            </a:r>
            <a:endParaRPr b="1" lang="en-US" sz="36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066680" y="4114440"/>
            <a:ext cx="3695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Повысить твой  уровень профессиональ-ной зрелос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Узнать, какая профессия тебе подходи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Избежать ошибок и принять верное реше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Узнать профессии,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пользующиеся спросом на рынке тру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" name="Рисунок 1" descr=""/>
          <p:cNvPicPr/>
          <p:nvPr/>
        </p:nvPicPr>
        <p:blipFill>
          <a:blip r:embed="rId1"/>
          <a:stretch/>
        </p:blipFill>
        <p:spPr>
          <a:xfrm>
            <a:off x="1763640" y="2106720"/>
            <a:ext cx="20163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Tahoma"/>
              </a:rPr>
              <a:t>Отзывы о программе «Твоя профессиональная карьера»</a:t>
            </a:r>
            <a:endParaRPr b="1" lang="en-US" sz="4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Благодаря этому курсу я точно  выбрала профессию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cc"/>
                </a:solidFill>
                <a:latin typeface="Tahoma"/>
              </a:rPr>
              <a:t>Я считаю, что этот факультатив очень помогает 9-классникам определиться со своей будущей професси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Думаю, что стоит проводить такие занятия для девятиклассник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cc"/>
                </a:solidFill>
                <a:latin typeface="Tahoma"/>
              </a:rPr>
              <a:t>Мне понравилось, что в нашей школе есть такой факультатив, который помогает определиться с профилем и будущей професси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Очень полезный факультатив для учеников 9 класса! Хочу продолжить заниматься дальше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2563920"/>
            <a:ext cx="6877080" cy="4294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826920" y="981000"/>
            <a:ext cx="7632720" cy="192240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Выбор профиля обучения – это выбор жизненного пути. Сделай правильный выбор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209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804000" y="260280"/>
            <a:ext cx="2077920" cy="26589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797520" y="3213000"/>
            <a:ext cx="2178360" cy="31165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95280" y="260280"/>
            <a:ext cx="2521080" cy="23479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395280" y="2421000"/>
            <a:ext cx="674388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ЫБОР ПРОФЕССИИ – ЭТО СЕРЬЁЗНО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99640" y="549000"/>
            <a:ext cx="386892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инимать решение  о выборе профиля обучени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без предпрофильной подготов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–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се равно,                                     что путешествовать без карты и компаса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.В.Резапки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219640" y="1484280"/>
            <a:ext cx="1825560" cy="1461960"/>
          </a:xfrm>
          <a:prstGeom prst="rect">
            <a:avLst/>
          </a:prstGeom>
          <a:ln w="6480">
            <a:solidFill>
              <a:srgbClr val="333300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451640" y="260280"/>
            <a:ext cx="1255680" cy="1971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5076720" y="3213000"/>
            <a:ext cx="1795680" cy="1832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6721560" y="1989000"/>
            <a:ext cx="2422440" cy="20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6659640" y="3860640"/>
            <a:ext cx="201456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99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«Начиная своё поприще, не теряй, о юноша, драгоценного времени»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Козьма Прутко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813040" cy="188604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13" descr=""/>
          <p:cNvPicPr/>
          <p:nvPr/>
        </p:nvPicPr>
        <p:blipFill>
          <a:blip r:embed="rId2"/>
          <a:stretch/>
        </p:blipFill>
        <p:spPr>
          <a:xfrm>
            <a:off x="684360" y="5229360"/>
            <a:ext cx="1949400" cy="1296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6877080" y="404640"/>
            <a:ext cx="2019240" cy="20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66"/>
                </a:solidFill>
                <a:latin typeface="Tahoma"/>
              </a:rPr>
              <a:t>Если ты хочешь</a:t>
            </a:r>
            <a:endParaRPr b="1" lang="en-US" sz="5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Получить информацию о мире профессий и профессиональной ориентации…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1617840" y="3273480"/>
            <a:ext cx="3078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9966"/>
                </a:solidFill>
                <a:latin typeface="Tahoma"/>
              </a:rPr>
              <a:t>Если ты хочешь</a:t>
            </a:r>
            <a:endParaRPr b="1" lang="en-US" sz="6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34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Узнать свои   профессиональные интересы, склонности, способности…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9966"/>
                </a:solidFill>
                <a:latin typeface="Tahoma"/>
              </a:rPr>
              <a:t>Если ты хочешь</a:t>
            </a:r>
            <a:endParaRPr b="1" lang="en-US" sz="6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1280" y="1981080"/>
            <a:ext cx="7200720" cy="36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11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Найти профессию, которая подходит к твоим индивидуально-психологическим  особенностям и возможностям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4465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9966"/>
                </a:solidFill>
                <a:latin typeface="Tahoma"/>
              </a:rPr>
              <a:t>Если ты </a:t>
            </a:r>
            <a:br>
              <a:rPr sz="6000"/>
            </a:br>
            <a:r>
              <a:rPr b="1" lang="en-US" sz="6000" spc="-1" strike="noStrike">
                <a:solidFill>
                  <a:srgbClr val="339966"/>
                </a:solidFill>
                <a:latin typeface="Tahoma"/>
              </a:rPr>
              <a:t>хочешь</a:t>
            </a:r>
            <a:endParaRPr b="1" lang="en-US" sz="6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777708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Научиться навыкам самопрезентации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и уверенного поведения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95280" y="393372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435640" y="4076640"/>
            <a:ext cx="3382920" cy="25401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580000" y="189000"/>
            <a:ext cx="3313080" cy="22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19:02Z</dcterms:created>
  <dc:creator>ooa</dc:creator>
  <dc:description/>
  <dc:language>en-US</dc:language>
  <cp:lastModifiedBy>Капуста</cp:lastModifiedBy>
  <dcterms:modified xsi:type="dcterms:W3CDTF">2009-09-16T12:57:26Z</dcterms:modified>
  <cp:revision>44</cp:revision>
  <dc:subject/>
  <dc:title>Проектная  и  научно-исследовательская  деятельность  в Лицее ИГУ</dc:title>
</cp:coreProperties>
</file>