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6.jpeg" ContentType="image/jpeg"/>
  <Override PartName="/ppt/media/image28.wmf" ContentType="image/x-wmf"/>
  <Override PartName="/ppt/media/image9.wmf" ContentType="image/x-wmf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0DE-85E1-4A3B-BCEF-595CFC30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369-4151-4887-8137-F259D1D7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0C2-4D87-440E-9B01-EF023348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DF2-600A-44DC-9297-29294D08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C2D4-B496-40B4-A3F1-A50DE1C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07A3-4762-494F-A7EC-8F7FA1F5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D9A0-9DA2-4995-AB3E-DFCD63C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0A08-3964-4B0F-BB0B-23FECAF8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915A-88CD-446E-A282-0EC52C9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DD3-85DA-4EC4-9A33-724BB0EB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7CC2-2908-4423-86E2-9F9AA5D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0C7-E13C-4E63-B7E4-ABA1B7C8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857B-5E7A-4B32-AEAC-6B9477F8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FDBC-212A-4327-B941-7C810AC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7CAB-40BF-4AEE-9538-D6FA7B12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4CA0-1767-4DF4-888D-0BCF4796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F77-5CE5-402D-A277-20DB7565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903-7183-40BE-B159-3DC67BD7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B58-F97F-4C1B-8883-83953BC3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352-8C3A-4408-AEA8-0C1A80C5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DA5-95AA-45DF-AB33-C13F8CE1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AF1-B32A-4FE3-9A2E-8A7653D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9CE-9C0E-4506-8A59-3C7328D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573-2A92-40D3-A75C-C7DFEC5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482-C9A9-4BB3-A084-7B3D0C3C08E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55B1-9CBC-44AD-BB1E-038B3E068E2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0" y="2133360"/>
            <a:ext cx="5186160" cy="3671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dfded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66"/>
                </a:solidFill>
                <a:latin typeface="Tahoma"/>
              </a:rPr>
              <a:t>Твоя </a:t>
            </a:r>
            <a:r>
              <a:rPr b="0" lang="en-US" sz="4400" spc="-1" strike="noStrike">
                <a:solidFill>
                  <a:srgbClr val="339966"/>
                </a:solidFill>
                <a:latin typeface="Tahoma"/>
              </a:rPr>
              <a:t>профессиональная </a:t>
            </a:r>
            <a:r>
              <a:rPr b="0" lang="en-US" sz="5400" spc="-1" strike="noStrike">
                <a:solidFill>
                  <a:srgbClr val="339966"/>
                </a:solidFill>
                <a:latin typeface="Tahoma"/>
              </a:rPr>
              <a:t>карьера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189000"/>
            <a:ext cx="60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Откидач Г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МОУ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г. Усолье-Сибир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токарь1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359892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швея1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05240" cy="32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doctor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47880" cy="276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132000" y="1557360"/>
            <a:ext cx="23115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лучить помощь в выборе профиля дальнейшего обучения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2185920"/>
            <a:ext cx="4032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70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ать  участником деловой игры «Ярмарка вакансий» и узнать, как получить работу и для чего нужен портфоли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791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8230027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403440" cy="226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987640" y="260280"/>
            <a:ext cx="5688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ход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на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Факультативный курс</a:t>
            </a:r>
            <a:r>
              <a:rPr b="0" lang="en-US" sz="4800" spc="-1" strike="noStrike">
                <a:solidFill>
                  <a:srgbClr val="339966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339966"/>
                </a:solidFill>
                <a:latin typeface="Tahoma"/>
              </a:rPr>
              <a:t>«Твоя профессиональная карьера»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608360" cy="3279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900000" y="1773360"/>
            <a:ext cx="4581720" cy="26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ля вас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вятиклассни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ahoma"/>
              </a:rPr>
              <a:t>Где можно получить информацию о профессиональном будущем?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95280" y="1989000"/>
            <a:ext cx="69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правочниках для поступающих в учебные за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исковых программах  се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кламных объявления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библиоте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центре занятости насе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31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532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и на занятиях курса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«Твоя профессиональная карьера»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417528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На занятиях Вы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идите свою дорогу, по которой Вам лучше всего следует идт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делаете обоснованный выбор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нашей помощью выработаете свою стратегию поиска работы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ете о таких профессиях, о которых раньше не зна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924280"/>
            <a:ext cx="2592360" cy="143964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3429000"/>
            <a:ext cx="2519280" cy="151272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997360"/>
            <a:ext cx="2590920" cy="1439640"/>
          </a:xfrm>
          <a:prstGeom prst="cube">
            <a:avLst>
              <a:gd name="adj" fmla="val 23194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3577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2935440"/>
            <a:ext cx="6589440" cy="31608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ХОЧУ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фессиональные интерес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 скло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3009600"/>
            <a:ext cx="6515280" cy="30866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«МОГ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стояние здоров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фессиональная квалифик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фессиональные способ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ahoma"/>
              </a:rPr>
              <a:t>Данные центра социально-профессионального самоопределения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% старшеклассников испытывают серьезные затруднения в принятии решения о выборе пути продолжения образования и трудоустройст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 % -вообщ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 задумывались о своем профессиональном будуще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% - профиль дальнейшего обучения в старшей школ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ыбирают за компанию со своими сверстникам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% -под влиянием таких факторов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де-то слышал; рассказали учителя, родите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3009600"/>
            <a:ext cx="6515280" cy="30866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НАД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рос на    рынке тру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возможность трудоустрой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3 группы ошибок, допускаемых при выборе профессии: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самого себ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мира професс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правил выбора профе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Рисунок 22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27651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Два способа выбора профе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од проб и ошиб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ить свои особенности , ознакомиться с миром профессий, соотнести требования профессии со своими особенност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11280" y="4653000"/>
            <a:ext cx="5124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о осмысленный выбор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353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Посещение занятий курса«Твоя профессиональная карьера» поможет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высить твой  уровень профессиональ-ной зрел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знать, какая профессия тебе подхо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Избежать ошибок и принять верное реш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знать профессии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пользующиеся спросом на рынке тру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1763640" y="2106720"/>
            <a:ext cx="201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Отзывы о программе «Твоя профессиональная карьера»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Благодаря этому курсу я точно  выбрала професс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Tahoma"/>
              </a:rPr>
              <a:t>Я считаю, что этот факультатив очень помогает 9-классникам определиться со своей будущей профес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Думаю, что стоит проводить такие занятия для девятикласс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Tahoma"/>
              </a:rPr>
              <a:t>Мне понравилось, что в нашей школе есть такой факультатив, который помогает определиться с профилем и будущей профес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чень полезный факультатив для учеников 9 класса! Хочу продолжить заниматься дальш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2563920"/>
            <a:ext cx="6877080" cy="4294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981000"/>
            <a:ext cx="7632720" cy="19224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Выбор профиля обучения – это выбор жизненного пути. Сделай правильный выбор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77920" cy="265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97520" y="3213000"/>
            <a:ext cx="2178360" cy="311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521080" cy="23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5280" y="2421000"/>
            <a:ext cx="6743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ПРОФЕССИИ – ЭТО СЕРЬЁЗ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38689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нимать решение  о выборе профиля обуч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з предпрофильной подгот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равно,                                     что путешествовать без карты и компас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В.Резапк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1795680" cy="183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«Начиная своё поприще, не теряй, о юноша, драгоценного времени»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озьма Прутк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813040" cy="1886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3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949400" cy="129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201924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Получить информацию о мире профессий и профессиональной ориентации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617840" y="3273480"/>
            <a:ext cx="307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Узнать свои   профессиональные интересы, склонности, способности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2007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айти профессию, которая подходит к твоим индивидуально-психологическим  особенностям и возможностя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465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</a:t>
            </a:r>
            <a:br>
              <a:rPr sz="6000"/>
            </a:b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777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учиться навыкам самопрезентаци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 уверенного поведения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3382920" cy="254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31308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19:02Z</dcterms:created>
  <dc:creator>ooa</dc:creator>
  <dc:description/>
  <dc:language>en-US</dc:language>
  <cp:lastModifiedBy>Капуста</cp:lastModifiedBy>
  <dcterms:modified xsi:type="dcterms:W3CDTF">2009-09-16T12:57:26Z</dcterms:modified>
  <cp:revision>44</cp:revision>
  <dc:subject/>
  <dc:title>Проектная  и  научно-исследовательская  деятельность  в Лицее ИГУ</dc:title>
</cp:coreProperties>
</file>