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008-510D-47FE-B8F8-362AE923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B67-650A-40EC-945B-F0CE1037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A26-760F-4E8F-A441-D891CC8F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A6F-FFB3-4552-8573-E8647DD3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0D57-06C3-47CE-ADC1-78EF3E60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BC1-EDF0-4EE9-B086-AAAB1C6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27BB-2004-4837-8876-4D02607A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4F10-28B5-477C-A333-C712364D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C231-2562-45F4-A42D-59AD47ED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982-470F-4D16-A8E2-00767A3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4E6-946D-4F73-A656-5573070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16A-3BB0-47F1-8D1D-97E22DE1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C8B-CB50-4206-94C3-47468B9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5673-28E2-4E23-B04D-B9C2CD2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7CF-9AFF-44B5-BFB9-DF0952A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9F4-29B1-4E90-B73D-953A85F4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F59D-D38F-4258-92F3-4F4639F0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9886-0601-4E05-A966-62E881A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CA8-8BA4-468A-97AD-E8534F7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CB1-6220-4C74-91E4-2373D747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B8C-17AB-4DBF-B38B-961CF88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919-7C1E-4763-8361-C8B4FC1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6F9-9EC6-4692-88CC-0695778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B66-F364-4E1B-AD59-0F51C2F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D26-5442-4F5F-B875-6732FFAFA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4626-3300-47D5-9505-65EF579D1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жары и взрывы на взрывопожароопасных объектах экономики и их возможные последствия.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                                                                                       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4581360"/>
            <a:ext cx="8209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Косенко П. И., преподаватель-организатор ОБЖ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У «Шебекинская школа-интернат для детей-сирот и детей, оставшихся без попечения родителе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город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ыво- и пожароопас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дствия аварий на взрыво- и пожароопасных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чины                     аварий на взрыво-                               и пожароопасных                    объ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635280"/>
            <a:ext cx="3167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30592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ывопожароопасные объект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это предприятия, на которых производят, хранят, транспортируют взрывоопасные продукты или продукты, приобретающие при определенных условиях способность к возгоранию или взры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16360" y="371628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229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31640" y="333000"/>
            <a:ext cx="57135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 взрывопожароопасным объекта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химической, нефтехимической и нефтеперерабатывающей п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фте- и газопро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, производящие порох, взрывчаты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ольные шах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риятия лесной и пищевой промышл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544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333360"/>
            <a:ext cx="5903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оражающим фактор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варий на взрывопожароопасных объектах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ушная ударная волна с образованием большого количества отлетающих оскол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кая темпер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грязнение воздуха продуктами горения, в том числе и углекислый г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385128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19640" y="333360"/>
            <a:ext cx="54259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ые последствия аварий на взрыво- и пожароопасных объек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ажение лю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ли частичное разрушение жилых или промышленны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нтрация химически опас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яжелые социальные и экономические послед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240" y="1197000"/>
            <a:ext cx="330660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последствия аварий на взрыво- и пожароопасных объекта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16360" y="3317760"/>
            <a:ext cx="4427640" cy="3322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7720" y="4076280"/>
            <a:ext cx="800748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4140000" cy="310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трольны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бъекты эконом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ятся к взрыво-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оопас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основные факторы определяют возникновение аварии на взрыво- и пожароопасном объек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поражающие факторы, возникающие при авариях на взрыво- и пожароопасных объектах, представляют высокую степень опасности для работающего персонала и насел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8720" y="272880"/>
            <a:ext cx="363528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50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.6 учеб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з различных информационных источников подберите несколько характерных примеров возникновения чрезвычайных ситуаций из-за аварий на взрыво- и пожароопасном объекте. Выпишите причины их возникнов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160200"/>
            <a:ext cx="374508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3:01:38Z</dcterms:created>
  <dc:creator>sh</dc:creator>
  <dc:description/>
  <dc:language>en-US</dc:language>
  <cp:lastModifiedBy>sh</cp:lastModifiedBy>
  <dcterms:modified xsi:type="dcterms:W3CDTF">2000-01-01T00:29:00Z</dcterms:modified>
  <cp:revision>8</cp:revision>
  <dc:subject/>
  <dc:title>Пожары и взрывы на взрывопожароопасных объектах экономики и их возможные последствия.                                                                                              </dc:title>
</cp:coreProperties>
</file>