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60F-B5DA-435D-A28B-7B81B24A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D6E-09FA-4263-A2FA-F7D3B457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F37-AF00-4AE3-A1DE-34C885A5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F51-DCFF-41C1-B7B4-BC767A33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715D-45F7-46E9-81D5-8FF6C018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DC20-6B9D-4576-B359-E9D4E83B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FBFF-8F3A-484F-999A-30EBBAE3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3A2A-FBFD-430C-AE1C-5A4ACB68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9F4D-3E40-4B64-951D-D174C662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D4F2-C94B-469E-BE83-60D32D15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7AE2-2E0B-4642-A593-01C14457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E8E-1FB0-4071-B300-05984324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B621-7111-4091-86AC-6E7ADEEE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A0C0-24C1-4DAA-9E93-5986851E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B5CE-244B-4736-A1C1-E92B7423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B841-FCBC-4489-A6B0-E66C2F0F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DC74-EF89-4FBE-A6B0-05156EDE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2B8-23C2-4DF9-BFD0-5123F95D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3C0-BD09-4FDC-8582-A4BECC81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8CF-0CB5-4CEC-83EB-3F28F40E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3C4-69BB-467E-A97F-0512F0AB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6FA-F32B-4F28-B58C-6793D586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0B7-D45C-40FF-8168-7558732A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3E37-68FE-4976-8D03-42E20B4F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D916-033C-43FF-B017-70AB834C7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5453-62BC-4648-AA6F-35FC4158A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ожары и взрывы на взрывопожароопасных объектах экономики и их возможные последствия.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                                                                                       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9280" y="4581360"/>
            <a:ext cx="8209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: Косенко П. И., преподаватель-организатор ОБЖ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У «Шебекинская школа-интернат для детей-сирот и детей, оставшихся без попечения родителе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город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ан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рыво- и пожароопасные объек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дствия аварий на взрыво- и пожароопасных объек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причины                     аварий на взрыво-                               и пожароопасных                    объек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0" y="3635280"/>
            <a:ext cx="31672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830592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зрывопожароопасные объект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это предприятия, на которых производят, хранят, транспортируют взрывоопасные продукты или продукты, приобретающие при определенных условиях способность к возгоранию или взры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16360" y="371628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3429000"/>
            <a:ext cx="229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31640" y="333000"/>
            <a:ext cx="57135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 взрывопожароопасным объектам относ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риятия химической, нефтехимической и нефтеперерабатывающей помышлен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фте- и газопро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риятия, производящие порох, взрывчатые ве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гольные шах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риятия лесной и пищевой промышлен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5448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333360"/>
            <a:ext cx="5903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оражающим фактора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варий на взрывопожароопасных объектах относ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душная ударная волна с образованием большого количества отлетающих оскол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окая темпера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грязнение воздуха продуктами горения, в том числе и углекислый га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292720" y="2637000"/>
            <a:ext cx="38512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19640" y="333360"/>
            <a:ext cx="54259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ые последствия аварий на взрыво- и пожароопасных объект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ажение люд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е или частичное разрушение жилых или промышленных зд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центрация химически опас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яжелые социальные и экономические послед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240" y="1197000"/>
            <a:ext cx="3306600" cy="41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Arial Black"/>
              </a:rPr>
              <a:t>последствия аварий на взрыво- и пожароопасных объектах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16360" y="3317760"/>
            <a:ext cx="4427640" cy="3322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37720" y="4076280"/>
            <a:ext cx="8007480" cy="2019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4140000" cy="3105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475920"/>
            <a:ext cx="84502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трольные 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объекты эконом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носятся к взрыво-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оопас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основные факторы определяют возникновение аварии на взрыво- и пожароопасном объек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поражающие факторы, возникающие при авариях на взрыво- и пожароопасных объектах, представляют высокую степень опасности для работающего персонала и насел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08720" y="272880"/>
            <a:ext cx="363528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450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.6 учеб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Из различных информационных источников подберите несколько характерных примеров возникновения чрезвычайных ситуаций из-за аварий на взрыво- и пожароопасном объекте. Выпишите причины их возникнов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160200"/>
            <a:ext cx="3745080" cy="2576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3:01:38Z</dcterms:created>
  <dc:creator>sh</dc:creator>
  <dc:description/>
  <dc:language>en-US</dc:language>
  <cp:lastModifiedBy>sh</cp:lastModifiedBy>
  <dcterms:modified xsi:type="dcterms:W3CDTF">2000-01-01T00:29:00Z</dcterms:modified>
  <cp:revision>8</cp:revision>
  <dc:subject/>
  <dc:title>Пожары и взрывы на взрывопожароопасных объектах экономики и их возможные последствия.                                                                                              </dc:title>
</cp:coreProperties>
</file>