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96-77CC-4ECF-A58F-FF914C70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D3A-597E-4597-83D9-0229FA0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998-83E3-45F9-831B-EE8F244C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A71-BF5B-47CE-9441-2CD0DE72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E5C8-F39E-4A7E-B51F-9B2D35E9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E1BC-696E-4096-AC9C-9CC9FC64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2C3A-C2BA-4044-A895-A1719D4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922C-8F6D-4E87-A255-BCC2EB43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D6D-030B-462B-9C65-F04A0B7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59B-AA58-4A9C-A518-B9C40BF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EFD4-4773-44A4-9707-9FEC4E4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4B1-F363-4DDF-A73C-6DFFE4B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46B5-A219-4456-AAB1-9694C8D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0A36-9065-482F-94C3-2EB48BE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D1A7-4381-48BE-9CBE-6812688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DE5C-7DBA-44B0-8AE3-549110CE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7AC5-57D8-40E8-AC85-AE6BE8D4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E62-E669-46B0-8D59-00200E37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159-296C-450B-BA55-755229B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54F-D56F-4D4F-8B72-9647D279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253-994C-4829-9827-39BF1B6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767-8DF8-42C2-8235-6F3DC17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FE4-B231-4C1F-8D90-DE00CD67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3C5-90C5-45FB-9221-C63BBD8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011-6D18-443C-BF33-E35E5B30B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D9E-02A2-4998-8ED1-B64B52E22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жары и взрывы на взрывопожароопасных объектах экономики и их возможные последствия.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                 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4581360"/>
            <a:ext cx="8209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Косенко П. И., преподаватель-организатор ОБЖ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У «Шебекинская школа-интернат для детей-сирот и детей, оставшихся без попечения родите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город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ыво- и пожароопас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ствия аварий на взрыво- и пожароопасных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чины                     аварий на взрыво-                               и пожароопасных                   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635280"/>
            <a:ext cx="3167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0592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ывопожароопасные объект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предприятия, на которых производят, хранят, транспортируют взрывоопасные продукты или продукты, приобретающие при определенных условиях способность к возгоранию или взры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22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31640" y="333000"/>
            <a:ext cx="5713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 взрывопожароопасным объект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химической, нефтехимической и нефтеперерабатывающей п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фте- и газопро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, производящие порох, взрывчат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ьные шах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лесной и пищевой пр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544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590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ражающим фактор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варий на взрывопожароопасных объектах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ушная ударная волна с образованием большого количества отлетающих оскол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ка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грязнение воздуха продуктами горения, в том числе и углекислый г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38512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19640" y="333360"/>
            <a:ext cx="54259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ые последствия аварий на взрыво- и пожароопасных объек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ажение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ли частичное разрушение жилых или промышленны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химически опас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яжелые социальные и экономические посл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240" y="1197000"/>
            <a:ext cx="330660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последствия аварий на взрыво- и пожароопасных объекта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3317760"/>
            <a:ext cx="4427640" cy="3322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7720" y="4076280"/>
            <a:ext cx="800748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бъекты эконом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ятся к взрыво-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оопас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сновные факторы определяют возникновение аварии на взрыво- и пожароопасном объек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поражающие факторы, возникающие при авариях на взрыво- и пожароопасных объектах, представляют высокую степень опасности для работающего персонала 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8720" y="272880"/>
            <a:ext cx="363528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50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.6 учеб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з различных информационных источников подберите несколько характерных примеров возникновения чрезвычайных ситуаций из-за аварий на взрыво- и пожароопасном объекте. Выпишите причины их возникнов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60200"/>
            <a:ext cx="374508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3:01:38Z</dcterms:created>
  <dc:creator>sh</dc:creator>
  <dc:description/>
  <dc:language>en-US</dc:language>
  <cp:lastModifiedBy>sh</cp:lastModifiedBy>
  <dcterms:modified xsi:type="dcterms:W3CDTF">2000-01-01T00:29:00Z</dcterms:modified>
  <cp:revision>8</cp:revision>
  <dc:subject/>
  <dc:title>Пожары и взрывы на взрывопожароопасных объектах экономики и их возможные последствия.                                                                                              </dc:title>
</cp:coreProperties>
</file>