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0C3-2FE5-4EB3-A7A3-A91DA0E8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720-ED62-40C3-9B4B-B8A64134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F0C-6F6B-435C-989F-E196305E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B43-13E8-413F-BD34-01500A59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3584-9D0F-4B58-B6E7-FE951261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0955-F187-4EA4-8A99-86A734C1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4D8B-1C48-455A-8410-3504A96D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C361-873C-4CC3-9737-5F85B1C3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4938-D162-4853-945C-DBB3BB33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9256-896F-427B-8997-D50FBC33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8A3B-493F-45C6-95DC-EE56ABB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2B8-5F44-454F-BFBB-5EDA6F45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66F1-1E77-4515-BBA4-AC93DED3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BBFD-EF55-455A-A466-B2BB3DF4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0466-153D-4480-BB38-53A31547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67D3-8C7E-4E92-8C47-A0F444DF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6421-B6BC-4A21-B232-0BB04084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89A6-4050-4DD8-90AF-DF205F1B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3080-3E5C-45B2-9CE1-346F24B5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DA27-3B2D-4DFD-A271-2E621EF7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818A-7661-4F7C-B78F-069F094B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D9C7-2E3D-4405-9C0F-A3809817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5F5-9EA6-4ECD-953B-B2F8B0D8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84AC-B2F6-4D31-A119-9DD24C7F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9433-1158-4851-898B-BE0CC04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A81C-DC58-48C9-AFB9-9609285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EE8C-8227-4422-9FA3-5805E229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72CD-A1AC-49DF-811E-B54544B9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0DB9-F06C-4E2A-8C18-C9BA418A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AF7B-C9B5-4B13-A593-BBB4E7D4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D701-1D9C-4F0D-8C53-24B70F82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031A-5A56-4CF9-8A19-D9F1A9D1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3314-9416-4334-8B4A-EB67F48F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1F3-9659-4639-A5B7-C4051826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E662-6182-47FE-B20B-4B562515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E3F04-2808-445B-9ED3-EC7E0A0D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E2095-4DC7-4F9A-9D60-4AB58A8C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AC2C-C619-495D-8B8A-162AC6F4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5C193-1DB1-4E23-BE5F-43CF975F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17FDD-6C19-44B6-A8A3-30F34EB7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989E-04A8-4D6F-87AA-6123427E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DD0D-8A72-498C-8442-A17E0412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88E3-A37A-4C29-B931-2E3498C9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DDE71-8CBE-49EC-9529-B0E1A0B6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FCF-310A-4BAA-BD05-A3153DCD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67CD1-0805-4CA3-A2EA-88CA1A79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DEDEE-026A-4FBB-8CCE-7327646D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D85A2-FFD0-4D87-A164-CE62F945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9C656-9A63-4EAC-8C27-6097FB5D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51855-892F-47A4-BBCD-E053C364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5041-194F-44BA-A4BC-08CB7D8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EFFA-B652-4164-8885-0167BA17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2E3AA-9566-4496-AE8B-9773C49F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DF786-D9AC-4132-98C3-D35CF0B8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2CBCD-0165-49AA-BAD4-2643EF23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4FC-5D4B-48AB-AC09-598EC098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4BAD4-7773-446F-ADEC-187EC7E8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6B0-7A61-4F73-BA30-CFF08C6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905-1AD7-4CDC-9A5D-16D89EC4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05F-0E2E-4292-8A9E-7D49FACE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EA37-616C-4C9B-91E7-2588E72D40F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36CC-C4E5-4237-9E6C-087FAC9DD1E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0A9-213E-4DE4-8187-F3555C31CBA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CCBB-7834-444D-BC79-D46E2E460A8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48A3-CD18-4DCE-A4BB-E3F1DA82122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. Ориентация на действия, на достижение успехов. Хотя компании могут подходить аналитически к принятию решений, данный факт их не парализует – у них богатый арсенал методов для сохранения «быстроты ног» и противодействия неповоротливости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. Лицом к потребителю. Компании учатся у людей, которых они обслуживают. Многие из них почерпнули идеи своих лучших продуктов от потребителей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. Самостоятельность и предприимчивость. Компании способствуют тому, чтобы в организации было много лидеров и новаторов, и следуют заповеди: «Удостоверьтесь, что вы совершаете приемлемое количество ошибок»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4. Производительность от человека. Не одобряются установки типа «мы и они» в трудовых отношениях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5. Связь с жизнью, ценностное руководство. Томас Уотсон-младший, президент IBM, говорил, что основная философия организации играет гораздо большую роль в ее достижениях, чем экономические ресурсы, оргструктура, нововведения и соблюдение сроков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6. Верность своему делу. Компания разумно делает то, что она знает и умеет лучше всего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7. Простота формы, скромный штат управления. Внутренние структурные формы образцовых компаний отличаются изящной простотой. Высший уровень управления немногочислен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8. Свобода и жесткость одновременно. Самостоятельность распространяется вплоть до цехов и групп разработчиков продуктов. Но компании являются фанатичными централистами в том, что касается их коренных ценностей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ом Питерс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берт Уотерма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горь Ансофф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тер Фердинанд Друке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3" descr=""/>
          <p:cNvPicPr/>
          <p:nvPr/>
        </p:nvPicPr>
        <p:blipFill>
          <a:blip r:embed="rId2"/>
          <a:stretch/>
        </p:blipFill>
        <p:spPr>
          <a:xfrm>
            <a:off x="2647800" y="1893960"/>
            <a:ext cx="28576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3" descr=""/>
          <p:cNvPicPr/>
          <p:nvPr/>
        </p:nvPicPr>
        <p:blipFill>
          <a:blip r:embed="rId2"/>
          <a:stretch/>
        </p:blipFill>
        <p:spPr>
          <a:xfrm>
            <a:off x="2460600" y="1609560"/>
            <a:ext cx="3232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Содержимое 3" descr=""/>
          <p:cNvPicPr/>
          <p:nvPr/>
        </p:nvPicPr>
        <p:blipFill>
          <a:blip r:embed="rId2"/>
          <a:stretch/>
        </p:blipFill>
        <p:spPr>
          <a:xfrm>
            <a:off x="2214720" y="1571760"/>
            <a:ext cx="3809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rcRect l="0" t="0" r="-50" b="-42"/>
          <a:stretch/>
        </p:blipFill>
        <p:spPr>
          <a:xfrm>
            <a:off x="214200" y="142920"/>
            <a:ext cx="85726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3" descr=""/>
          <p:cNvPicPr/>
          <p:nvPr/>
        </p:nvPicPr>
        <p:blipFill>
          <a:blip r:embed="rId2"/>
          <a:stretch/>
        </p:blipFill>
        <p:spPr>
          <a:xfrm>
            <a:off x="2857680" y="1357200"/>
            <a:ext cx="32860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аимодействие организации с окружающей средой и разработка стратегии развития организ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 Инновационность как основа конкурентоспособного развит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   Лидерство вместо менеджериз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работка стратегии как фактор конкурентоспособности и экономической устойчивости организ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новации и изменения в организ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дикальные изменения взаимоотношений между персоналом и руководств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50:44Z</dcterms:created>
  <dc:creator>Mary</dc:creator>
  <dc:description/>
  <dc:language>en-US</dc:language>
  <cp:lastModifiedBy>Кафеда</cp:lastModifiedBy>
  <dcterms:modified xsi:type="dcterms:W3CDTF">2008-10-07T10:51:01Z</dcterms:modified>
  <cp:revision>8</cp:revision>
  <dc:subject/>
  <dc:title>Теория Стратегий Инноваций и Лидерства</dc:title>
</cp:coreProperties>
</file>