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950-37ED-4A24-BCF4-D77143E5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0CC-7DC2-424A-904A-ACD1730B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5C8-60D4-4690-8A78-CE9DE11E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824-A609-4F4D-B316-5A0F1088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563D-0AC1-4569-8151-BB41450C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B3E0-ED5A-4829-915C-C2A23F3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DB2-5F39-4933-8E48-14BD54E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CC4B-2D4B-4135-A4A9-E4AD9238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7718-719F-4D4A-8AFA-42A7F2A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7F17-03F1-4BA0-96C9-1CA7FDC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A986-CBBE-4D83-9038-F378A72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AF2-24D5-4A8C-9CEF-2169500F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6AE-7F68-4081-B005-E1B3783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E96C-ADD2-4BFA-93E8-5B91C3F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4AA6-ED6C-4562-9EF8-19206D32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B5AF-FFF0-4704-9590-BE4D2009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92B-C616-4044-93D3-6D903056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5117-D458-4653-983A-64BD8124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220B-4969-42F5-A098-5D714BED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A9AE-BB02-4FD1-BA64-F38D752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4895-FB21-4263-B015-BCFE72D3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CCC5-B18D-4252-A8C3-01B97E70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EC1-1AC0-4AAC-8B9E-3FB3C53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F525-741B-4B50-8792-961C308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F70C-DABB-42C1-B126-1140832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367E-BDCD-47D3-B1F9-A08E199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2521-4012-4F3F-B42A-A459D8E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BF16-9C35-4FFF-944A-5E276044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FCC8-C462-4B7A-902D-EE4F502B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EF59-41C3-480E-A86D-2C198232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D328-2FF3-47F7-B117-FA66A27D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3554-A543-4D24-A949-C4668300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A492-C07F-47BB-8BA5-C364686B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BF9-4276-47A5-A36D-7EFB53E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F9EA-C6C0-4E80-BF10-23B426B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F71D-2E27-4373-AFB8-C640B62A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D728-4867-44F0-B934-58098B9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76FC-C005-45BA-A27B-A99AD48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DC39-0B70-4D93-AB0C-C77B08D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F901-3773-42DF-B2AE-133E7EA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61AB-F826-4FF3-B5FB-C6FD71A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66CE-4D67-4263-8F16-2C577702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C19B-E4B3-411A-8279-815FCC4D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9F40-E376-4974-BE4A-6F421179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DBD-C005-4172-A40D-E14360C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3A58-6272-4FE8-8882-EBACDB5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2C2A-6DD5-40B3-BF43-EA04EF2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09F6-EE6F-4F75-BD67-691BBB34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511B-05AA-4003-B5FC-FD1A680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D4AA-8FF9-4065-9A69-A7C118D6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ED5F-84C2-4A1F-815F-DA5E753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726E-94CC-48E7-B3DA-639EA539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4A92-E112-4F63-8C61-54919EB4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F24F-398B-44B6-B18C-A4EBF4A2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9645-56C2-4C28-9BC3-2FAC592F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E12-036F-4095-911E-D233A18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2D2F7-C105-480B-878B-4B96F812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A1B-E1E9-437E-812D-988F9C7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358-F08C-4882-A68F-98A9F77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0B3-BE1D-4625-B1D9-39D1312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4A3-3DB8-4D8B-8BAA-3244C790FCD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059-0706-4B28-83D2-0D84D342114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5A36-E8DB-4A9D-BB53-D9DC29ECBBF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F518-0668-4E06-B60D-C69120784BA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A0B-227D-4F49-B9E1-4B58612EE07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Ориентация на действия, на достижение успехов. Хотя компании могут подходить аналитически к принятию решений, данный факт их не парализует – у них богатый арсенал методов для сохранения «быстроты ног» и противодействия неповоротливости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Лицом к потребителю. Компании учатся у людей, которых они обслуживают. Многие из них почерпнули идеи своих лучших продуктов от потребителей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Самостоятельность и предприимчивость. Компании способствуют тому, чтобы в организации было много лидеров и новаторов, и следуют заповеди: «Удостоверьтесь, что вы совершаете приемлемое количество ошибок»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роизводительность от человека. Не одобряются установки типа «мы и они» в трудовых отношениях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Связь с жизнью, ценностное руководство. Томас Уотсон-младший, президент IBM, говорил, что основная философия организации играет гораздо большую роль в ее достижениях, чем экономические ресурсы, оргструктура, нововведения и соблюдение сроков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Верность своему делу. Компания разумно делает то, что она знает и умеет лучше всего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Простота формы, скромный штат управления. Внутренние структурные формы образцовых компаний отличаются изящной простотой. Высший уровень управления немногочислен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Свобода и жесткость одновременно. Самостоятельность распространяется вплоть до цехов и групп разработчиков продуктов. Но компании являются фанатичными централистами в том, что касается их коренных ценносте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м Питер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берт Уотерм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горь Ансоф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тер Фердинанд Друке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3" descr=""/>
          <p:cNvPicPr/>
          <p:nvPr/>
        </p:nvPicPr>
        <p:blipFill>
          <a:blip r:embed="rId2"/>
          <a:stretch/>
        </p:blipFill>
        <p:spPr>
          <a:xfrm>
            <a:off x="2647800" y="1893960"/>
            <a:ext cx="28576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3" descr=""/>
          <p:cNvPicPr/>
          <p:nvPr/>
        </p:nvPicPr>
        <p:blipFill>
          <a:blip r:embed="rId2"/>
          <a:stretch/>
        </p:blipFill>
        <p:spPr>
          <a:xfrm>
            <a:off x="2460600" y="1609560"/>
            <a:ext cx="3232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3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3809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rcRect l="0" t="0" r="-50" b="-42"/>
          <a:stretch/>
        </p:blipFill>
        <p:spPr>
          <a:xfrm>
            <a:off x="214200" y="142920"/>
            <a:ext cx="85726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3" descr=""/>
          <p:cNvPicPr/>
          <p:nvPr/>
        </p:nvPicPr>
        <p:blipFill>
          <a:blip r:embed="rId2"/>
          <a:stretch/>
        </p:blipFill>
        <p:spPr>
          <a:xfrm>
            <a:off x="2857680" y="1357200"/>
            <a:ext cx="3286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действие организации с окружающей средой и разработка стратегии развития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 Инновационность как основа конкурентоспособного развит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  Лидерство вместо менеджериз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работка стратегии как фактор конкурентоспособности и экономической устойчивости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новации и изменения в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икальные изменения взаимоотношений между персоналом и руководств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50:44Z</dcterms:created>
  <dc:creator>Mary</dc:creator>
  <dc:description/>
  <dc:language>en-US</dc:language>
  <cp:lastModifiedBy>Кафеда</cp:lastModifiedBy>
  <dcterms:modified xsi:type="dcterms:W3CDTF">2008-10-07T10:51:01Z</dcterms:modified>
  <cp:revision>8</cp:revision>
  <dc:subject/>
  <dc:title>Теория Стратегий Инноваций и Лидерства</dc:title>
</cp:coreProperties>
</file>