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0708-9EB7-4F25-A738-202DD0F7F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E775-0DBC-4B8C-A4E6-26EE4EC2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14B0-A96B-42E6-96F6-539539B2C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DF50-37EF-4EE2-9C5A-E06024BC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EFD0-3654-48E8-BB7F-545F5BD3C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0F15-911D-4F3D-80D3-C25AAC97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855C-7C16-4663-9053-2D6F3625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8852-7A11-4D2F-B0BC-E4DC4389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5E88-C8D2-47E1-AC0E-C850CE25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1F29-9201-4054-8D45-66130F26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6D99-E2E7-4C2E-8DA4-F2ADD0CC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30C6-7847-42C6-981D-15304091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C7FA-5AE9-48BD-A449-C2683977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5486-1F5D-400E-BF46-7ECDF757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005F-21B0-468B-9BA9-1B9C1E04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1E45-384A-447C-84EE-8D56DA300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A30E-C966-41EC-8CA4-940063A48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6C375-091E-4073-AC76-F8A8CC24E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297C9-B063-45B2-98F5-756C77E4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9DBFB-176B-48EE-976A-5B0BD3B7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D0BD0-E7BA-48C3-8DD1-99402E77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AA4D4-7999-4A92-AFAF-EFD3DAEC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CDFB-3938-4DD7-A421-BB2EBECE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7D5FA-C16C-4BFA-B9A3-49FFC13D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DACC9-EDE2-4730-8E60-1EDC12E7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50B9B-49BC-4DBA-9D7E-4E2DC75F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4EF76-F9CE-40EC-91FA-79297FFE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164C8-D2AC-4F04-ADE8-8A6FBCCB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B3F15-4418-473D-9FDB-00CFB90E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BA75D-6985-41E7-BA11-880CCCC3C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8EBBB-9929-4E5C-8EE4-34A4E1486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628DC-99B8-4661-94C2-09FD0BE5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892D7-F1D8-4577-AA88-95493708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D5A2-0D11-4653-B517-66AE38B8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A4A50-2C79-4C3E-BA96-C5C37143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78C95-9283-4D82-B022-DB75CF21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22D5C-9452-47CA-94F5-142E37EF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949B3-093F-4E7D-B48C-9166F490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D4E89-D643-4848-9B77-4E2418BC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57788-0677-409E-B42A-EFBA4A00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A1420-E345-4682-B7D2-109BF858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B30E4-5B68-44C0-AC94-F9D47C3E4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03720-E0E5-4EDE-BF0D-4DA2F5540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D7AA8-F7A4-4336-B9AC-ADB79EA3E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DD5D-2B13-495A-A488-1B2615E3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4D7EA-2141-436D-AA66-6BA996AF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2B22D-A6E4-4608-87E8-FDE50AE2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3E6A0-A501-4F6C-9F92-12286159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3E825-4EFB-4EF8-8238-3A6BA7EC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E661C-15B3-4D29-953A-F067D08E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A6B5F-C688-49C4-82A5-81413D59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CCF64-1512-4648-9863-83020F3A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38E0E-DB63-4BC3-BA50-551CF74C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C716A-C2C8-4D5A-87BF-DBEDFA85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4C8A9-19FB-4CD4-ADBC-06E843742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6351-E1BD-49FB-99AC-BA037E17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54739-775F-44FB-8FC7-8D0AA6A05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3DFD-EE67-45BC-9BFF-0D66FADA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0DBD-D78F-4BB6-82D0-4F32A021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5675-BDB9-4AD8-882E-CB9157F0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AB0D-0CBB-40CB-BE1C-810217762A4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F6D4-B9DA-4CEF-8888-1ABC3DC29662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4852-FC58-447A-A9C3-F75B0A02933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51BD-8271-417C-BB4D-A5196FB5A8B2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CA94-2164-4AAD-8DDA-4726372491C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55300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244440" y="-225360"/>
            <a:ext cx="7461360" cy="1693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1. Ориентация на действия, на достижение успехов. Хотя компании могут подходить аналитически к принятию решений, данный факт их не парализует – у них богатый арсенал методов для сохранения «быстроты ног» и противодействия неповоротливости.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2. Лицом к потребителю. Компании учатся у людей, которых они обслуживают. Многие из них почерпнули идеи своих лучших продуктов от потребителей.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3. Самостоятельность и предприимчивость. Компании способствуют тому, чтобы в организации было много лидеров и новаторов, и следуют заповеди: «Удостоверьтесь, что вы совершаете приемлемое количество ошибок».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4. Производительность от человека. Не одобряются установки типа «мы и они» в трудовых отношениях.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5. Связь с жизнью, ценностное руководство. Томас Уотсон-младший, президент IBM, говорил, что основная философия организации играет гораздо большую роль в ее достижениях, чем экономические ресурсы, оргструктура, нововведения и соблюдение сроков.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6. Верность своему делу. Компания разумно делает то, что она знает и умеет лучше всего.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7. Простота формы, скромный штат управления. Внутренние структурные формы образцовых компаний отличаются изящной простотой. Высший уровень управления немногочислен.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8. Свобода и жесткость одновременно. Самостоятельность распространяется вплоть до цехов и групп разработчиков продуктов. Но компании являются фанатичными централистами в том, что касается их коренных ценностей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Том Питерс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оберт Уотерман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горь Ансофф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итер Фердинанд Друкер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25" name="Содержимое 3" descr=""/>
          <p:cNvPicPr/>
          <p:nvPr/>
        </p:nvPicPr>
        <p:blipFill>
          <a:blip r:embed="rId2"/>
          <a:stretch/>
        </p:blipFill>
        <p:spPr>
          <a:xfrm>
            <a:off x="2647800" y="1893960"/>
            <a:ext cx="285768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27" name="Содержимое 3" descr=""/>
          <p:cNvPicPr/>
          <p:nvPr/>
        </p:nvPicPr>
        <p:blipFill>
          <a:blip r:embed="rId2"/>
          <a:stretch/>
        </p:blipFill>
        <p:spPr>
          <a:xfrm>
            <a:off x="2460600" y="1609560"/>
            <a:ext cx="32320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29" name="Содержимое 3" descr=""/>
          <p:cNvPicPr/>
          <p:nvPr/>
        </p:nvPicPr>
        <p:blipFill>
          <a:blip r:embed="rId2"/>
          <a:stretch/>
        </p:blipFill>
        <p:spPr>
          <a:xfrm>
            <a:off x="2214720" y="1571760"/>
            <a:ext cx="38098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Содержимое 3" descr=""/>
          <p:cNvPicPr/>
          <p:nvPr/>
        </p:nvPicPr>
        <p:blipFill>
          <a:blip r:embed="rId1"/>
          <a:srcRect l="0" t="0" r="-50" b="-42"/>
          <a:stretch/>
        </p:blipFill>
        <p:spPr>
          <a:xfrm>
            <a:off x="214200" y="142920"/>
            <a:ext cx="857268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pic>
        <p:nvPicPr>
          <p:cNvPr id="233" name="Содержимое 3" descr=""/>
          <p:cNvPicPr/>
          <p:nvPr/>
        </p:nvPicPr>
        <p:blipFill>
          <a:blip r:embed="rId2"/>
          <a:stretch/>
        </p:blipFill>
        <p:spPr>
          <a:xfrm>
            <a:off x="2857680" y="1357200"/>
            <a:ext cx="328608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заимодействие организации с окружающей средой и разработка стратегии развития организаци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  Инновационность как основа конкурентоспособного развит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   Лидерство вместо менеджеризм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244440" y="-225360"/>
            <a:ext cx="7461360" cy="1693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зработка стратегии как фактор конкурентоспособности и экономической устойчивости организаци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нновации и изменения в организаци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дикальные изменения взаимоотношений между персоналом и руководство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5:50:44Z</dcterms:created>
  <dc:creator>Mary</dc:creator>
  <dc:description/>
  <dc:language>en-US</dc:language>
  <cp:lastModifiedBy>Кафеда</cp:lastModifiedBy>
  <dcterms:modified xsi:type="dcterms:W3CDTF">2008-10-07T10:51:01Z</dcterms:modified>
  <cp:revision>8</cp:revision>
  <dc:subject/>
  <dc:title>Теория Стратегий Инноваций и Лидерства</dc:title>
</cp:coreProperties>
</file>