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DEF-2B37-4CAE-9BCD-F8C1C640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101-8489-4BB2-92AB-63663CB3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DF4-FCBF-4BBC-8149-C1B6CE18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332-074E-4807-BFFB-113A1626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AC5-9718-45D8-92B2-618006D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FEC-8139-46AC-B964-E9CE0FC9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A7E-9D9F-43DC-A400-1A9911ED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827-60B5-4C04-B1BE-1C72C9FE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A67-4C03-45EB-A883-EDB8B402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444-F56F-4DC0-9B17-8EF0AB72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E89-AFF2-4A0D-8ABB-710A4D7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02C-6366-44EB-83EE-96F3F85D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03C9-00BA-41FA-A322-A56E6EE6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6095880" cy="21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Здоровый образ жизни и его составля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760" y="59436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рок ОБЖ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_2"/>
          <p:cNvPicPr/>
          <p:nvPr/>
        </p:nvPicPr>
        <p:blipFill>
          <a:blip r:embed="rId2"/>
          <a:stretch/>
        </p:blipFill>
        <p:spPr>
          <a:xfrm>
            <a:off x="990720" y="3048120"/>
            <a:ext cx="284796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70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4876920" y="2819520"/>
            <a:ext cx="3504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9640" y="1268280"/>
            <a:ext cx="79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Духовность –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это способность пренебрегать потребностями материального и даже душевного характера, движимая любовью к людям, Отечеству и Богу.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Физически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работка твердой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жим жизне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зумная физическая активность, занятие спор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сключение вредных привы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оциальны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навыков коммуникативного общения (участие в общественной жизни школы, в ученическом самоуправлении, в детских объединениях, в конкурсах, в составлении совместных проектов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навыков владения современными средствами коммун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способностей ориентации в средствах массов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личие цели в жизни и развитие способностей для ее д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Духовны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совершать добрые дела (участие в акциях милосердия, оказание помощи престарелым, ветеранам, уход за больными и д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совершать самоотверженные поступки(соревнования и конкурсы в составе команды, дружба, товарищество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анализировать свою деятельность за день, неделю, месяц, г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признавать свои ошибки и недостатки и изменяться в лучшую сторо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Наличие твердого жизненного идеала, ведущей стержневой идеи, веры и следование этой идее (посещение храма, монастыря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Чтение художественной литературы, общение с уважаемыми людьми, ветеранами войны и тру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ериодические самоограничения, пост, выполнение действий, продиктованных интересами развития силы во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4419720" y="1447920"/>
            <a:ext cx="0" cy="350496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3276720" y="2590920"/>
            <a:ext cx="220968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3505320" y="380880"/>
            <a:ext cx="182880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ДУХОВНОЕ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124080" y="5715000"/>
            <a:ext cx="260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ФИЗИЧЕСКОЕ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666880" y="2362320"/>
            <a:ext cx="358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 flipV="1">
            <a:off x="4419720" y="609120"/>
            <a:ext cx="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4419720" y="5029200"/>
            <a:ext cx="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 flipH="1">
            <a:off x="2437920" y="259092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4"/>
          <p:cNvSpPr txBox="1"/>
          <p:nvPr/>
        </p:nvSpPr>
        <p:spPr>
          <a:xfrm rot="5400000">
            <a:off x="5614920" y="2386080"/>
            <a:ext cx="18669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СОЦИАЛЬНОЕ</a:t>
            </a:r>
            <a:endParaRPr b="1" lang="en-US" sz="20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7" name="WordArt 15"/>
          <p:cNvSpPr txBox="1"/>
          <p:nvPr/>
        </p:nvSpPr>
        <p:spPr>
          <a:xfrm rot="5400000">
            <a:off x="1347480" y="2462400"/>
            <a:ext cx="18669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СОЦИАЛЬНОЕ</a:t>
            </a:r>
            <a:endParaRPr b="1" lang="en-US" sz="20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ЧТО ТА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сутствие боле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мение приспосабливаться к постоянно меняющимся условиям существования в окружающе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ормальное функционирование организма в системе «человек – окружающая сре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олное физическое, духовное, умственное и социальное благополуч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пособность к выполнению основных социальн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56196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533520" y="2133720"/>
            <a:ext cx="31240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334120" y="2133720"/>
            <a:ext cx="28954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1905120" y="1219320"/>
            <a:ext cx="2286000" cy="914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4800600" y="1219320"/>
            <a:ext cx="2133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057400" y="3581280"/>
            <a:ext cx="198108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4800240" y="3581280"/>
            <a:ext cx="213372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114800" y="43434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2666880" y="5181480"/>
            <a:ext cx="3429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Times New Roman"/>
              </a:rPr>
              <a:t>ПРОТИВОРЕЧ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Times New Roman"/>
              <a:ea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213372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тория богата примерами, когда люди, имеющие физические дефекты достигают больше, чем здо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5800" y="21337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Хочу быть здоровым, потому что только здоровый человек может быть по-настоящему 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тношение разных людей к сохранению и укреплению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дни,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имея идеальные стартовые возможности, предаются лени, вредным привычкам, а то и вовсе совершают противоречащие здравой логике поступки – кончают жизнь самоубий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Другие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любят жизнь, ведут здоровый образ жизни, но в критической ситуации, спасая других людей, жертвуют своей жизнью ради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Третьи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, имея врожденные заболевания или увечья, прилагают огромные усилия, чтобы оставаться полезными членами семьи и общества и достигают в этом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Четвертые,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живут, как бы влекомые течением жизни. И имея хорошие возможности для достижения успеха, уповают на всевозможные чудеса, так и не дождавшись которых, всю оставшуюся жизнь пеняют на свою суд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пределение Всемирной организации здравоохра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8600" y="25146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Здоровье – это состояние физического, духовного и социального благополучия, а не только отсутствие болезней и физических деф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Что такое благополучие, счаст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2286000"/>
            <a:ext cx="80010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«Благополучие – это спокойное и счастливое состояние. Счастье – это чувство и состояние полного высшего удовлетвор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.И.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Физическ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остояние, при котором человек максимально удовлетворен возможностями своего тела, организ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Может преодолевать значительные физические и психические нагрузки и, при этом, сохранять работоспособ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Отсутствие хронических заболеваний, редкие проблемы с самочувст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Здоровья хватает, чтобы зарабатывать достаточное количество материальных средств, чтобы содержать себя и семью, оказывать помощь другим людям, выполнять гражданский до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Социальн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учебной и трудов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свободно ориентироваться в потоке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владения современными средствами коммуникаций (компьютером, Интернетом, телефоном, средствами транспорта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коммуникативного общения (умение обратиться, написать заявление, устроиться на работу, познакомиться с людьми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способности адаптироваться к требованиям общества и государства, при этом не утрачивая собственной индивидуа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Духовн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личие способности жить в полной гармонии со своей совестью, требованиями семьи, общества, государства, духовными, юридическими законами и традиционными представлениями о нрав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8-01-25T13:18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