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73B-6375-4754-BD13-EED5ED9C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CFD-9D51-48B3-A601-771FCD93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74D-0E0F-44EA-961B-7D3F4DE0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2F0-9AB3-4997-93EA-2C12168A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E9F-EFC0-4D43-B760-C27F1AAA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6DE-EA24-4BD7-A1A2-067901B1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FFC-98A6-47C6-A46F-E4AE6D5E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1A6-736B-4380-9886-39D0086A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627-6AE5-4A99-967D-47BC7739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EA5-322A-485F-ABFB-A5DE1CF7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874-68A3-4232-BDD6-79FE6AB7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F73-3553-4B97-A08A-AC4E3459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1B2F-3498-4701-9798-D4A976BA9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6095880" cy="21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Здоровый образ жизни и его составля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760" y="59436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Урок ОБЖ 10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_2"/>
          <p:cNvPicPr/>
          <p:nvPr/>
        </p:nvPicPr>
        <p:blipFill>
          <a:blip r:embed="rId2"/>
          <a:stretch/>
        </p:blipFill>
        <p:spPr>
          <a:xfrm>
            <a:off x="990720" y="3048120"/>
            <a:ext cx="284796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70"/>
          <p:cNvPicPr/>
          <p:nvPr/>
        </p:nvPicPr>
        <p:blipFill>
          <a:blip r:embed="rId3">
            <a:lum bright="4000"/>
          </a:blip>
          <a:stretch/>
        </p:blipFill>
        <p:spPr>
          <a:xfrm>
            <a:off x="4876920" y="2819520"/>
            <a:ext cx="3504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539640" y="1268280"/>
            <a:ext cx="7993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Духовность –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это способность пренебрегать потребностями материального и даже душевного характера, движимая любовью к людям, Отечеству и Богу.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Физические 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ыработка твердой 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ежим жизне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Личная гиги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зумная физическая активность, занятие спор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сключение вредных привы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Социальные 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звитие навыков коммуникативного общения (участие в общественной жизни школы, в ученическом самоуправлении, в детских объединениях, в конкурсах, в составлении совместных проектов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звитие навыков владения современными средствами коммун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азвитие способностей ориентации в средствах массов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личие цели в жизни и развитие способностей для ее д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Духовные составляющие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совершать добрые дела (участие в акциях милосердия, оказание помощи престарелым, ветеранам, уход за больными и д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совершать самоотверженные поступки(соревнования и конкурсы в составе команды, дружба, товарищество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анализировать свою деятельность за день, неделю, месяц, го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Развитие способности признавать свои ошибки и недостатки и изменяться в лучшую сторон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Наличие твердого жизненного идеала, ведущей стержневой идеи, веры и следование этой идее (посещение храма, монастыря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Чтение художественной литературы, общение с уважаемыми людьми, ветеранами войны и тру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ериодические самоограничения, пост, выполнение действий, продиктованных интересами развития силы во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4419720" y="1447920"/>
            <a:ext cx="0" cy="350496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3276720" y="2590920"/>
            <a:ext cx="220968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3505320" y="380880"/>
            <a:ext cx="182880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ДУХОВНОЕ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3124080" y="5715000"/>
            <a:ext cx="2600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ФИЗИЧЕСКОЕ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666880" y="2362320"/>
            <a:ext cx="358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 flipV="1">
            <a:off x="4419720" y="609120"/>
            <a:ext cx="0" cy="7621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4419720" y="5029200"/>
            <a:ext cx="0" cy="76212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5562720" y="2590920"/>
            <a:ext cx="6858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 flipH="1">
            <a:off x="2437920" y="2590920"/>
            <a:ext cx="6858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4"/>
          <p:cNvSpPr txBox="1"/>
          <p:nvPr/>
        </p:nvSpPr>
        <p:spPr>
          <a:xfrm rot="5400000">
            <a:off x="5614920" y="2386080"/>
            <a:ext cx="186696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СОЦИАЛЬНОЕ</a:t>
            </a:r>
            <a:endParaRPr b="1" lang="en-US" sz="20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  <p:sp>
        <p:nvSpPr>
          <p:cNvPr id="87" name="WordArt 15"/>
          <p:cNvSpPr txBox="1"/>
          <p:nvPr/>
        </p:nvSpPr>
        <p:spPr>
          <a:xfrm rot="5400000">
            <a:off x="1347480" y="2462400"/>
            <a:ext cx="186696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9999"/>
                </a:solidFill>
                <a:latin typeface="Georgia"/>
              </a:rPr>
              <a:t>СОЦИАЛЬНОЕ</a:t>
            </a:r>
            <a:endParaRPr b="1" lang="en-US" sz="2000" spc="1" strike="noStrike">
              <a:ln w="9360">
                <a:solidFill>
                  <a:srgbClr val="009999"/>
                </a:solidFill>
                <a:miter/>
              </a:ln>
              <a:solidFill>
                <a:srgbClr val="009999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ЧТО ТАКОЕ ЗДОРОВЬ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тсутствие боле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мение приспосабливаться к постоянно меняющимся условиям существования в окружающей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ормальное функционирование организма в системе «человек – окружающая сре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олное физическое, духовное, умственное и социальное благополуч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пособность к выполнению основных социальны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4191120" y="838080"/>
            <a:ext cx="56196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533520" y="2133720"/>
            <a:ext cx="312408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334120" y="2133720"/>
            <a:ext cx="2895480" cy="14475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1905120" y="1219320"/>
            <a:ext cx="2286000" cy="914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4800600" y="1219320"/>
            <a:ext cx="2133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2057400" y="3581280"/>
            <a:ext cx="198108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4800240" y="3581280"/>
            <a:ext cx="213372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114800" y="43434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2666880" y="5181480"/>
            <a:ext cx="3429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latin typeface="Times New Roman"/>
              </a:rPr>
              <a:t>ПРОТИВОРЕЧИ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bbe0e3"/>
              </a:solidFill>
              <a:latin typeface="Times New Roman"/>
              <a:ea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2133720"/>
            <a:ext cx="312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тория богата примерами, когда люди, имеющие физические дефекты достигают больше, чем здо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85800" y="213372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Хочу быть здоровым, потому что только здоровый человек может быть по-настоящему счаст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Отношение разных людей к сохранению и укреплению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Одни,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имея идеальные стартовые возможности, предаются лени, вредным привычкам, а то и вовсе совершают противоречащие здравой логике поступки – кончают жизнь самоубий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Другие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любят жизнь, ведут здоровый образ жизни, но в критической ситуации, спасая других людей, жертвуют своей жизнью ради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Третьи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, имея врожденные заболевания или увечья, прилагают огромные усилия, чтобы оставаться полезными членами семьи и общества и достигают в этом усп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Четвертые,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живут, как бы влекомые течением жизни. И имея хорошие возможности для достижения успеха, уповают на всевозможные чудеса, так и не дождавшись которых, всю оставшуюся жизнь пеняют на свою судь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Определение Всемирной организации здравоохра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8600" y="25146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Здоровье – это состояние физического, духовного и социального благополучия, а не только отсутствие болезней и физических дефе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Что такое благополучие, счасть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33520" y="2286000"/>
            <a:ext cx="80010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«Благополучие – это спокойное и счастливое состояние. Счастье – это чувство и состояние полного высшего удовлетвор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.И.Оже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Физическое благопол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Состояние, при котором человек максимально удовлетворен возможностями своего тела, организ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Может преодолевать значительные физические и психические нагрузки и, при этом, сохранять работоспособ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Отсутствие хронических заболеваний, редкие проблемы с самочувств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Здоровья хватает, чтобы зарабатывать достаточное количество материальных средств, чтобы содержать себя и семью, оказывать помощь другим людям, выполнять гражданский дол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Социальное благопол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учебной и трудов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свободно ориентироваться в потоке информ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владения современными средствами коммуникаций (компьютером, Интернетом, телефоном, средствами транспорта 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навыков коммуникативного общения (умение обратиться, написать заявление, устроиться на работу, познакомиться с людьми и т.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Наличие способности адаптироваться к требованиям общества и государства, при этом не утрачивая собственной индивидуа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Духовное благополу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личие способности жить в полной гармонии со своей совестью, требованиями семьи, общества, государства, духовными, юридическими законами и традиционными представлениями о нрав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8-01-25T13:18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