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5F5-8AEC-4D62-8BAA-B65AEE6D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D9D4-8361-4756-81A9-F651048C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5D2C-E07B-4EA5-8BE2-11B62522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1647-F894-4616-9366-B3EDFA44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165-9806-4F65-8F2E-7640B5EB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3A2F-7357-4338-AF63-AEE9EDE0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D976-066E-46B5-AB85-F351A309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BDC4-A1FD-4ACF-A630-107CBD80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406-961E-4E93-8E34-C5AF9F88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5C4B-CE39-4F2D-B938-E6BE6249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834D-5843-4C14-A2D8-4A0A6116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1E1B-DE8A-41C9-B8A9-9E230FD9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4242-E471-46C9-918A-4DCA91850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6095880" cy="21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Здоровый образ жизни и его составля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76760" y="5943600"/>
            <a:ext cx="23619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Урок ОБЖ 10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_2"/>
          <p:cNvPicPr/>
          <p:nvPr/>
        </p:nvPicPr>
        <p:blipFill>
          <a:blip r:embed="rId2"/>
          <a:stretch/>
        </p:blipFill>
        <p:spPr>
          <a:xfrm>
            <a:off x="990720" y="3048120"/>
            <a:ext cx="2847960" cy="3352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70"/>
          <p:cNvPicPr/>
          <p:nvPr/>
        </p:nvPicPr>
        <p:blipFill>
          <a:blip r:embed="rId3">
            <a:lum bright="4000"/>
          </a:blip>
          <a:stretch/>
        </p:blipFill>
        <p:spPr>
          <a:xfrm>
            <a:off x="4876920" y="2819520"/>
            <a:ext cx="35049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539640" y="1268280"/>
            <a:ext cx="7993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Духовность –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это способность пренебрегать потребностями материального и даже душевного характера, движимая любовью к людям, Отечеству и Богу.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Физические составляющие здорового образа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ыработка твердой мотив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ежим жизне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авильное 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ичная гиги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азумная физическая активность, занятие спор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сключение вредных привы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Социальные составляющие здорового образа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Развитие навыков коммуникативного общения (участие в общественной жизни школы, в ученическом самоуправлении, в детских объединениях, в конкурсах, в составлении совместных проектов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Развитие навыков владения современными средствами коммуник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Развитие способностей ориентации в средствах массов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аличие цели в жизни и развитие способностей для ее дост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Духовные составляющие здорового образа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Развитие способности совершать добрые дела (участие в акциях милосердия, оказание помощи престарелым, ветеранам, уход за больными и др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Развитие способности совершать самоотверженные поступки(соревнования и конкурсы в составе команды, дружба, товарищество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Развитие способности анализировать свою деятельность за день, неделю, месяц, го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Развитие способности признавать свои ошибки и недостатки и изменяться в лучшую сторон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Наличие твердого жизненного идеала, ведущей стержневой идеи, веры и следование этой идее (посещение храма, монастыря…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Чтение художественной литературы, общение с уважаемыми людьми, ветеранами войны и труд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Периодические самоограничения, пост, выполнение действий, продиктованных интересами развития силы вол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4"/>
          <p:cNvSpPr/>
          <p:nvPr/>
        </p:nvSpPr>
        <p:spPr>
          <a:xfrm>
            <a:off x="4419720" y="1447920"/>
            <a:ext cx="0" cy="3504960"/>
          </a:xfrm>
          <a:prstGeom prst="line">
            <a:avLst/>
          </a:prstGeom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3276720" y="2590920"/>
            <a:ext cx="220968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6"/>
          <p:cNvSpPr txBox="1"/>
          <p:nvPr/>
        </p:nvSpPr>
        <p:spPr>
          <a:xfrm>
            <a:off x="3505320" y="380880"/>
            <a:ext cx="1828800" cy="144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Georgia"/>
              </a:rPr>
              <a:t>ДУХОВНОЕ</a:t>
            </a:r>
            <a:endParaRPr b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Georgia"/>
              <a:ea typeface="Georgia"/>
            </a:endParaRPr>
          </a:p>
        </p:txBody>
      </p:sp>
      <p:sp>
        <p:nvSpPr>
          <p:cNvPr id="80" name="WordArt 7"/>
          <p:cNvSpPr txBox="1"/>
          <p:nvPr/>
        </p:nvSpPr>
        <p:spPr>
          <a:xfrm>
            <a:off x="3124080" y="5715000"/>
            <a:ext cx="2600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Georgia"/>
              </a:rPr>
              <a:t>ФИЗИЧЕСКОЕ</a:t>
            </a:r>
            <a:endParaRPr b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Georgia"/>
              <a:ea typeface="Georgia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2666880" y="2362320"/>
            <a:ext cx="358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 flipV="1">
            <a:off x="4419720" y="609120"/>
            <a:ext cx="0" cy="7621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1"/>
          <p:cNvSpPr/>
          <p:nvPr/>
        </p:nvSpPr>
        <p:spPr>
          <a:xfrm>
            <a:off x="4419720" y="5029200"/>
            <a:ext cx="0" cy="7621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2"/>
          <p:cNvSpPr/>
          <p:nvPr/>
        </p:nvSpPr>
        <p:spPr>
          <a:xfrm>
            <a:off x="5562720" y="2590920"/>
            <a:ext cx="68580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3"/>
          <p:cNvSpPr/>
          <p:nvPr/>
        </p:nvSpPr>
        <p:spPr>
          <a:xfrm flipH="1">
            <a:off x="2437920" y="2590920"/>
            <a:ext cx="68580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4"/>
          <p:cNvSpPr txBox="1"/>
          <p:nvPr/>
        </p:nvSpPr>
        <p:spPr>
          <a:xfrm rot="5400000">
            <a:off x="5614920" y="2386080"/>
            <a:ext cx="1866960" cy="29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Georgia"/>
              </a:rPr>
              <a:t>СОЦИАЛЬНОЕ</a:t>
            </a:r>
            <a:endParaRPr b="1" lang="en-US" sz="20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Georgia"/>
              <a:ea typeface="Georgia"/>
            </a:endParaRPr>
          </a:p>
        </p:txBody>
      </p:sp>
      <p:sp>
        <p:nvSpPr>
          <p:cNvPr id="87" name="WordArt 15"/>
          <p:cNvSpPr txBox="1"/>
          <p:nvPr/>
        </p:nvSpPr>
        <p:spPr>
          <a:xfrm rot="5400000">
            <a:off x="1347480" y="2462400"/>
            <a:ext cx="1866960" cy="29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Georgia"/>
              </a:rPr>
              <a:t>СОЦИАЛЬНОЕ</a:t>
            </a:r>
            <a:endParaRPr b="1" lang="en-US" sz="20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ЧТО ТАКОЕ ЗДОРОВЬ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Отсутствие боле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Умение приспосабливаться к постоянно меняющимся условиям существования в окружающей сре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ормальное функционирование организма в системе «человек – окружающая сре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Полное физическое, духовное, умственное и социальное благополуч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Способность к выполнению основных социальных фун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4191120" y="838080"/>
            <a:ext cx="561960" cy="5526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533520" y="2133720"/>
            <a:ext cx="3124080" cy="1447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5334120" y="2133720"/>
            <a:ext cx="2895480" cy="1447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 flipH="1">
            <a:off x="1905120" y="1219320"/>
            <a:ext cx="2286000" cy="9144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4800600" y="1219320"/>
            <a:ext cx="2133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2057400" y="3581280"/>
            <a:ext cx="1981080" cy="10670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 flipH="1">
            <a:off x="4800240" y="3581280"/>
            <a:ext cx="2133720" cy="10670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4114800" y="434340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16"/>
          <p:cNvSpPr txBox="1"/>
          <p:nvPr/>
        </p:nvSpPr>
        <p:spPr>
          <a:xfrm>
            <a:off x="2666880" y="5181480"/>
            <a:ext cx="34290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bbe0e3"/>
                </a:solidFill>
                <a:latin typeface="Times New Roman"/>
              </a:rPr>
              <a:t>ПРОТИВОРЕЧИ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bbe0e3"/>
              </a:solidFill>
              <a:latin typeface="Times New Roman"/>
              <a:ea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2133720"/>
            <a:ext cx="312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стория богата примерами, когда люди, имеющие физические дефекты достигают больше, чем здор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85800" y="21337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Хочу быть здоровым, потому что только здоровый человек может быть по-настоящему счастл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Отношение разных людей к сохранению и укреплению здоро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Одни,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имея идеальные стартовые возможности, предаются лени, вредным привычкам, а то и вовсе совершают противоречащие здравой логике поступки – кончают жизнь самоубий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Другие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любят жизнь, ведут здоровый образ жизни, но в критической ситуации, спасая других людей, жертвуют своей жизнью ради друг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Третьи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, имея врожденные заболевания или увечья, прилагают огромные усилия, чтобы оставаться полезными членами семьи и общества и достигают в этом успе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Четвертые,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живут, как бы влекомые течением жизни. И имея хорошие возможности для достижения успеха, уповают на всевозможные чудеса, так и не дождавшись которых, всю оставшуюся жизнь пеняют на свою судьб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Определение Всемирной организации здравоохра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28600" y="251460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Здоровье – это состояние физического, духовного и социального благополучия, а не только отсутствие болезней и физических дефек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Что такое благополучие, счасть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33520" y="2286000"/>
            <a:ext cx="8001000" cy="36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«Благополучие – это спокойное и счастливое состояние. Счастье – это чувство и состояние полного высшего удовлетворе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.И.Оже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Физическое благополуч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Состояние, при котором человек максимально удовлетворен возможностями своего тела, организ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Может преодолевать значительные физические и психические нагрузки и, при этом, сохранять работоспособ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Отсутствие хронических заболеваний, редкие проблемы с самочувстви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Здоровья хватает, чтобы зарабатывать достаточное количество материальных средств, чтобы содержать себя и семью, оказывать помощь другим людям, выполнять гражданский дол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Социальное благополуч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Наличие навыков учебной и трудовой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Наличие навыков свободно ориентироваться в потоке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Наличие навыков владения современными средствами коммуникаций (компьютером, Интернетом, телефоном, средствами транспорта и др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Наличие навыков коммуникативного общения (умение обратиться, написать заявление, устроиться на работу, познакомиться с людьми и т.д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Наличие способности адаптироваться к требованиям общества и государства, при этом не утрачивая собственной индивидуа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Духовное благополуч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аличие способности жить в полной гармонии со своей совестью, требованиями семьи, общества, государства, духовными, юридическими законами и традиционными представлениями о нравств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08-01-25T13:18:0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