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58F-2CF4-48D8-907D-E1668710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9D5-C9B2-4A8A-9291-C2C8F327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2B17-9890-4EDB-B0AC-AA4B1269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254-AE43-4102-A294-91D025F3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951C-3192-4A1C-9CFB-024250BB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5B72-8359-4124-9918-20F443C6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AE1B-36E9-4402-BE74-31D7EC91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EF24-0B38-4680-AA50-121CE62A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21F0-4755-4F02-9B2A-2408E2A4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039E-DEEA-4C8C-935E-9125E3CA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F229-9C20-4BB9-86D5-F74C946D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A45-AE5F-42A5-839E-1067927E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8293-F93E-4C9A-9CB8-8E55B695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7D4C-9C87-4E98-AD80-A9775E80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5072-C909-4ECC-B6DA-D6F3E3BD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C1AA-91FA-46F3-9F9A-9D9016EF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CBDB-FEED-4F75-8A72-82156C0B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E91-13B8-4A5D-AC5B-506A81DB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EA8-7ED9-4C1C-8DD1-515E43B5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D0A-511E-4C5A-9DA5-3EBAC6A8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D553-BB6C-4409-8ABF-91681EB7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58E-1AAC-4804-B2AA-11625D8A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FF9-CBB6-4032-A2FC-E0412CC7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F7F-C8E8-45B3-9566-5562570C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8B3D-02C5-43EA-B4BA-921FB42673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096F-1427-4452-82FE-4C4DBEA604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esenin.ru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sesenin.ru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esenin.ru/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Arial Black"/>
              </a:rPr>
              <a:t>Сергей Есенин</a:t>
            </a:r>
            <a:br>
              <a:rPr sz="5400"/>
            </a:br>
            <a:r>
              <a:rPr b="1" i="1" lang="ru-RU" sz="4000" spc="-1" strike="noStrike">
                <a:solidFill>
                  <a:srgbClr val="ffff66"/>
                </a:solidFill>
                <a:latin typeface="Arial Black"/>
              </a:rPr>
              <a:t>(</a:t>
            </a:r>
            <a:r>
              <a:rPr b="1" i="1" lang="ru-RU" sz="4400" spc="-1" strike="noStrike">
                <a:solidFill>
                  <a:srgbClr val="ffff66"/>
                </a:solidFill>
                <a:latin typeface="Arial Black"/>
              </a:rPr>
              <a:t>1895 – 1926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8360" y="270828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дерево роняет тихо листь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ак я роняю грустные с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esenin_pic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5013360"/>
            <a:ext cx="1733760" cy="1600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esenin"/>
          <p:cNvPicPr/>
          <p:nvPr/>
        </p:nvPicPr>
        <p:blipFill>
          <a:blip r:embed="rId3"/>
          <a:stretch/>
        </p:blipFill>
        <p:spPr>
          <a:xfrm>
            <a:off x="6156360" y="2276640"/>
            <a:ext cx="2724120" cy="3816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870480" y="4643280"/>
            <a:ext cx="291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риал к уро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биографии С.Есен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 Тараканова Н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СОШ №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Ксто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жегород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dunkan_a_3"/>
          <p:cNvPicPr/>
          <p:nvPr/>
        </p:nvPicPr>
        <p:blipFill>
          <a:blip r:embed="rId1"/>
          <a:stretch/>
        </p:blipFill>
        <p:spPr>
          <a:xfrm>
            <a:off x="395280" y="189000"/>
            <a:ext cx="3311640" cy="23619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3708720" y="404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Есенин и А. Дунка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dunkan"/>
          <p:cNvPicPr/>
          <p:nvPr/>
        </p:nvPicPr>
        <p:blipFill>
          <a:blip r:embed="rId2"/>
          <a:stretch/>
        </p:blipFill>
        <p:spPr>
          <a:xfrm>
            <a:off x="6588000" y="260280"/>
            <a:ext cx="2349720" cy="3241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8"/>
          <p:cNvSpPr/>
          <p:nvPr/>
        </p:nvSpPr>
        <p:spPr>
          <a:xfrm>
            <a:off x="6804000" y="3724200"/>
            <a:ext cx="23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Есенин и А. Дункан. Берлин. 1922г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0" descr="dunkan2"/>
          <p:cNvPicPr/>
          <p:nvPr/>
        </p:nvPicPr>
        <p:blipFill>
          <a:blip r:embed="rId3"/>
          <a:stretch/>
        </p:blipFill>
        <p:spPr>
          <a:xfrm>
            <a:off x="395280" y="2852640"/>
            <a:ext cx="1959120" cy="3068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250920" y="595008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.Есенин и 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А.Дункан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в Америке 1922 г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2" descr="dunkan2"/>
          <p:cNvPicPr/>
          <p:nvPr/>
        </p:nvPicPr>
        <p:blipFill>
          <a:blip r:embed="rId4"/>
          <a:stretch/>
        </p:blipFill>
        <p:spPr>
          <a:xfrm>
            <a:off x="4716360" y="3309840"/>
            <a:ext cx="2054160" cy="35481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3"/>
          <p:cNvSpPr/>
          <p:nvPr/>
        </p:nvSpPr>
        <p:spPr>
          <a:xfrm>
            <a:off x="6804000" y="5459400"/>
            <a:ext cx="216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Есенин и А.Дункан. Берлин. 1922г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 rot="20370600">
            <a:off x="3000960" y="2185560"/>
            <a:ext cx="37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Я покинул родимый д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олубую оставил Рус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esenin014"/>
          <p:cNvPicPr/>
          <p:nvPr/>
        </p:nvPicPr>
        <p:blipFill>
          <a:blip r:embed="rId1"/>
          <a:stretch/>
        </p:blipFill>
        <p:spPr>
          <a:xfrm>
            <a:off x="179280" y="765000"/>
            <a:ext cx="4751640" cy="2887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324000" y="3789360"/>
            <a:ext cx="621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ак забудь же про свою тревог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е грусти так шибко обо м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е ходи так часто на дорог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старомодном ветхом шушу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.Есенин «Письмо к матер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003640" y="2276640"/>
            <a:ext cx="43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 молиться не учи меня. Не над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 старому возврата больше н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ы одна мне помощь и отрад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ы одна мне несказанный св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7" descr="P1010240"/>
          <p:cNvPicPr/>
          <p:nvPr/>
        </p:nvPicPr>
        <p:blipFill>
          <a:blip r:embed="rId2"/>
          <a:stretch/>
        </p:blipFill>
        <p:spPr>
          <a:xfrm>
            <a:off x="6012000" y="3500280"/>
            <a:ext cx="23065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konst"/>
          <p:cNvPicPr/>
          <p:nvPr/>
        </p:nvPicPr>
        <p:blipFill>
          <a:blip r:embed="rId1"/>
          <a:stretch/>
        </p:blipFill>
        <p:spPr>
          <a:xfrm>
            <a:off x="3780000" y="2981160"/>
            <a:ext cx="5184720" cy="3600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 flipV="1">
            <a:off x="4859280" y="33300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95280" y="5445000"/>
            <a:ext cx="28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Дом-музей С.Есенина в с. Константин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250920" y="198360"/>
            <a:ext cx="54165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 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На необъятной карте России, где-то под Рязанью, затерялась едва приметная точка — старинное приокское село Константинове.</a:t>
            </a:r>
            <a:br>
              <a:rPr sz="1600"/>
            </a:b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   В тот памятный день (2 октября 1965 года) с утра шли и ехали в Константинове люди. Рязанцы и москвичи, южане и сибиряки, ленинградцы и горьковчане,— они собрались на родине Есенина со всех концов России, чтобы в простой деревенской избе открыть музей великого поэта.</a:t>
            </a:r>
            <a:br>
              <a:rPr sz="1600"/>
            </a:b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   Здесь, на рязанской земле, отшумело детство поэта, прошла его юность, здесь он написал свои первые стихи...</a:t>
            </a:r>
            <a:br>
              <a:rPr sz="1600"/>
            </a:b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   До позднего вечера шли люди к «низкому дому с голубыми ставнями», чтобы поклониться родному очагу поэта.</a:t>
            </a:r>
            <a:br>
              <a:rPr sz="1600"/>
            </a:b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   Они будут идти туда всегда, как идут в Михайловское к Пушкину, в Тарханы к Лермонтову, на Волгу к Некрасову..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828720" y="5445000"/>
            <a:ext cx="75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Московский государственный музей С.Есен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7" descr="esenin"/>
          <p:cNvPicPr/>
          <p:nvPr/>
        </p:nvPicPr>
        <p:blipFill>
          <a:blip r:embed="rId1"/>
          <a:stretch/>
        </p:blipFill>
        <p:spPr>
          <a:xfrm>
            <a:off x="2771640" y="692280"/>
            <a:ext cx="5472360" cy="3851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http://www.vladkurochkin.ru/img/1031382/1032997.jpg"/>
          <p:cNvPicPr/>
          <p:nvPr/>
        </p:nvPicPr>
        <p:blipFill>
          <a:blip r:embed="rId2"/>
          <a:stretch/>
        </p:blipFill>
        <p:spPr>
          <a:xfrm>
            <a:off x="611280" y="3068640"/>
            <a:ext cx="21891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bereza"/>
          <p:cNvPicPr/>
          <p:nvPr/>
        </p:nvPicPr>
        <p:blipFill>
          <a:blip r:embed="rId1"/>
          <a:stretch/>
        </p:blipFill>
        <p:spPr>
          <a:xfrm>
            <a:off x="324000" y="260280"/>
            <a:ext cx="2371680" cy="378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len2"/>
          <p:cNvPicPr/>
          <p:nvPr/>
        </p:nvPicPr>
        <p:blipFill>
          <a:blip r:embed="rId2"/>
          <a:stretch/>
        </p:blipFill>
        <p:spPr>
          <a:xfrm>
            <a:off x="2050920" y="1341360"/>
            <a:ext cx="2622600" cy="345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p112"/>
          <p:cNvPicPr/>
          <p:nvPr/>
        </p:nvPicPr>
        <p:blipFill>
          <a:blip r:embed="rId3"/>
          <a:stretch/>
        </p:blipFill>
        <p:spPr>
          <a:xfrm>
            <a:off x="3924360" y="2708280"/>
            <a:ext cx="3816360" cy="2671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27645"/>
          <p:cNvPicPr/>
          <p:nvPr/>
        </p:nvPicPr>
        <p:blipFill>
          <a:blip r:embed="rId4"/>
          <a:stretch/>
        </p:blipFill>
        <p:spPr>
          <a:xfrm>
            <a:off x="6372360" y="4508640"/>
            <a:ext cx="2592360" cy="19015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3471840" y="423720"/>
            <a:ext cx="39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рай любимый! Сердцу сня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кирды солнца в водах лонных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5148360" y="119700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 Русь, взмахни крыла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ставь иную крепь!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487840" y="2152800"/>
            <a:ext cx="304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435640" y="206064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Звени, звени, златая Рус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лнуйся, неуемный ветер!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468360" y="5068800"/>
            <a:ext cx="35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Я последний поэт деревн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.Есени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3635280" y="5650200"/>
            <a:ext cx="2808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оссия! Сердцу милый край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Душа сжимается от боли…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esenin6"/>
          <p:cNvPicPr/>
          <p:nvPr/>
        </p:nvPicPr>
        <p:blipFill>
          <a:blip r:embed="rId1"/>
          <a:stretch/>
        </p:blipFill>
        <p:spPr>
          <a:xfrm>
            <a:off x="684360" y="404640"/>
            <a:ext cx="5113080" cy="36147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132000" y="5084640"/>
            <a:ext cx="50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се встречаю, все приемлю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д и счастлив душу вын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Я пришел на эту землю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Чтоб скорей её покин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6" descr="esenin16"/>
          <p:cNvPicPr/>
          <p:nvPr/>
        </p:nvPicPr>
        <p:blipFill>
          <a:blip r:embed="rId2"/>
          <a:stretch/>
        </p:blipFill>
        <p:spPr>
          <a:xfrm>
            <a:off x="5378400" y="1052640"/>
            <a:ext cx="29750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5580000" y="3221640"/>
            <a:ext cx="281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Я думаю: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 Как прекрасна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 Земл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 И на ней человек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esenin2"/>
          <p:cNvPicPr/>
          <p:nvPr/>
        </p:nvPicPr>
        <p:blipFill>
          <a:blip r:embed="rId1"/>
          <a:stretch/>
        </p:blipFill>
        <p:spPr>
          <a:xfrm>
            <a:off x="1109520" y="1700280"/>
            <a:ext cx="3564000" cy="4538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27642"/>
          <p:cNvPicPr/>
          <p:nvPr/>
        </p:nvPicPr>
        <p:blipFill>
          <a:blip r:embed="rId2"/>
          <a:stretch/>
        </p:blipFill>
        <p:spPr>
          <a:xfrm>
            <a:off x="4067280" y="836640"/>
            <a:ext cx="360036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187280" y="955080"/>
            <a:ext cx="757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м крупнее художник, масштабнее его творчество, самобытнее талант, тем труднее порой современникам полностью оценить вклад его в духовную жизнь нации, глубоко и всесторонне раскрыть все грани его дарова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Лицом к лицу,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 Лица не увидать.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 Большое видится на расстоян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.Есенин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esenin5"/>
          <p:cNvPicPr/>
          <p:nvPr/>
        </p:nvPicPr>
        <p:blipFill>
          <a:blip r:embed="rId1"/>
          <a:stretch/>
        </p:blipFill>
        <p:spPr>
          <a:xfrm>
            <a:off x="1332000" y="2349360"/>
            <a:ext cx="29322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971640" y="2922840"/>
            <a:ext cx="741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ргей Есенин - самый национальный и задушевный поэт ХХ века, певец не избяной Руси, а многовековой земной и небесной России. Когда он, самородок, "Божья дудка", как сам себя называл, утверждал в столичных салонах: "Я последний поэт деревни", то имел в виду не столько свою родословную внука крестьянина и сына торговца из Замоскворечья, сколько глубинную связь с коренной, исконной, преобладающей Россией, которая подошла при нём не к обещанным вратам рая, а к "погибельному краю пропасти"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5" descr="esenin_pic_02"/>
          <p:cNvPicPr/>
          <p:nvPr/>
        </p:nvPicPr>
        <p:blipFill>
          <a:blip r:embed="rId1"/>
          <a:stretch/>
        </p:blipFill>
        <p:spPr>
          <a:xfrm>
            <a:off x="1187280" y="765000"/>
            <a:ext cx="6677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держ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ая родина поэ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мья Есен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зья, наставники и товарищи поэ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и Есен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йседора Дунк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ледие Сергея Есен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3927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3 октября 1895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12 лет наз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одился великий русский поэ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ерг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лександр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ЕНИН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1" descr="esenin001"/>
          <p:cNvPicPr/>
          <p:nvPr/>
        </p:nvPicPr>
        <p:blipFill>
          <a:blip r:embed="rId1"/>
          <a:stretch/>
        </p:blipFill>
        <p:spPr>
          <a:xfrm>
            <a:off x="4859280" y="333360"/>
            <a:ext cx="3811680" cy="5111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755640" y="43848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684360" y="4013280"/>
            <a:ext cx="3019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лся я с песн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равном одеял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Зори меня веш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адугу свивали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.Ес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4" descr="27642"/>
          <p:cNvPicPr/>
          <p:nvPr/>
        </p:nvPicPr>
        <p:blipFill>
          <a:blip r:embed="rId2"/>
          <a:stretch/>
        </p:blipFill>
        <p:spPr>
          <a:xfrm>
            <a:off x="3635280" y="4521240"/>
            <a:ext cx="302436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konst"/>
          <p:cNvPicPr/>
          <p:nvPr/>
        </p:nvPicPr>
        <p:blipFill>
          <a:blip r:embed="rId1"/>
          <a:stretch/>
        </p:blipFill>
        <p:spPr>
          <a:xfrm>
            <a:off x="755640" y="476280"/>
            <a:ext cx="5472000" cy="3800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1384200" y="4600440"/>
            <a:ext cx="462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756360" y="4580640"/>
            <a:ext cx="53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ом в с. Константиново, где родился С. Есени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500720" y="4941720"/>
            <a:ext cx="4268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Родился в 1895 году, 21 сентября, в Рязанской губернии, Рязанского уезда, Козьминской волости, в селе Константиново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2" descr="С.А. Есенин. 1924 год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981000"/>
            <a:ext cx="17830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Родители Сергея Есенина - Александр Никитич и &lt;br&gt;Татьяна Федоровна.  1905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1950840" cy="30686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2268360" y="508680"/>
            <a:ext cx="2951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Родители Сергея Есенина - Александр Никитич и </a:t>
            </a:r>
            <a:br>
              <a:rPr sz="1600"/>
            </a:b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Татьяна Федоровна. 1905г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042920" y="4005360"/>
            <a:ext cx="4195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С двух лет был отдан на воспитание довольно зажиточному деду по матери, у которого было трое взрослых неженатых сыновей, с которыми протекло почти все мое детство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9" descr="esenin007"/>
          <p:cNvPicPr/>
          <p:nvPr/>
        </p:nvPicPr>
        <p:blipFill>
          <a:blip r:embed="rId3"/>
          <a:stretch/>
        </p:blipFill>
        <p:spPr>
          <a:xfrm>
            <a:off x="6227640" y="2708280"/>
            <a:ext cx="2411640" cy="3672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0"/>
          <p:cNvSpPr/>
          <p:nvPr/>
        </p:nvSpPr>
        <p:spPr>
          <a:xfrm>
            <a:off x="5656320" y="630792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Родители С.Есенина. 1924 г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2" descr="esenin014"/>
          <p:cNvPicPr/>
          <p:nvPr/>
        </p:nvPicPr>
        <p:blipFill>
          <a:blip r:embed="rId4"/>
          <a:stretch/>
        </p:blipFill>
        <p:spPr>
          <a:xfrm>
            <a:off x="2916360" y="1557360"/>
            <a:ext cx="3457440" cy="2101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219640" y="1125360"/>
            <a:ext cx="30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Есенин с матерь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4"/>
          <p:cNvSpPr/>
          <p:nvPr/>
        </p:nvSpPr>
        <p:spPr>
          <a:xfrm>
            <a:off x="395280" y="4300560"/>
            <a:ext cx="26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Есенин с сестрами Катей и Шурой. 1912г</a:t>
            </a: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36" descr="esenin006"/>
          <p:cNvPicPr/>
          <p:nvPr/>
        </p:nvPicPr>
        <p:blipFill>
          <a:blip r:embed="rId1"/>
          <a:stretch/>
        </p:blipFill>
        <p:spPr>
          <a:xfrm>
            <a:off x="395280" y="260280"/>
            <a:ext cx="2522520" cy="4005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8" descr="esenin25"/>
          <p:cNvPicPr/>
          <p:nvPr/>
        </p:nvPicPr>
        <p:blipFill>
          <a:blip r:embed="rId2"/>
          <a:stretch/>
        </p:blipFill>
        <p:spPr>
          <a:xfrm>
            <a:off x="5940360" y="404640"/>
            <a:ext cx="2544840" cy="3816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39"/>
          <p:cNvSpPr/>
          <p:nvPr/>
        </p:nvSpPr>
        <p:spPr>
          <a:xfrm>
            <a:off x="6084720" y="4366080"/>
            <a:ext cx="258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А. Есенин с сестрой Е.А. Есениной на Пречистинском бульваре в Москве. 1925 год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40" descr="esenin005"/>
          <p:cNvPicPr/>
          <p:nvPr/>
        </p:nvPicPr>
        <p:blipFill>
          <a:blip r:embed="rId3"/>
          <a:stretch/>
        </p:blipFill>
        <p:spPr>
          <a:xfrm>
            <a:off x="3132000" y="2637000"/>
            <a:ext cx="2465640" cy="3456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41"/>
          <p:cNvSpPr/>
          <p:nvPr/>
        </p:nvSpPr>
        <p:spPr>
          <a:xfrm>
            <a:off x="2987640" y="169992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Есенин с отцом и дядей. 1913 г.</a:t>
            </a:r>
            <a:br>
              <a:rPr sz="1800"/>
            </a:b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y1"/>
          <p:cNvPicPr/>
          <p:nvPr/>
        </p:nvPicPr>
        <p:blipFill>
          <a:blip r:embed="rId1"/>
          <a:stretch/>
        </p:blipFill>
        <p:spPr>
          <a:xfrm>
            <a:off x="2195640" y="2276640"/>
            <a:ext cx="6408720" cy="3530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879480" y="423720"/>
            <a:ext cx="635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гда же я подрос, из меня очень захотели сделать сельского учителя и потому отдали в церковно-учительскую школу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771640" y="6020640"/>
            <a:ext cx="54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Школа, которую с отличием закончил С.Есени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esenin002"/>
          <p:cNvPicPr/>
          <p:nvPr/>
        </p:nvPicPr>
        <p:blipFill>
          <a:blip r:embed="rId1"/>
          <a:stretch/>
        </p:blipFill>
        <p:spPr>
          <a:xfrm>
            <a:off x="539640" y="260280"/>
            <a:ext cx="3456000" cy="23274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324000" y="2923560"/>
            <a:ext cx="40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 Есенин и Николай Клюев. Фотография 191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esenin8"/>
          <p:cNvPicPr/>
          <p:nvPr/>
        </p:nvPicPr>
        <p:blipFill>
          <a:blip r:embed="rId2"/>
          <a:stretch/>
        </p:blipFill>
        <p:spPr>
          <a:xfrm>
            <a:off x="5796000" y="549360"/>
            <a:ext cx="2835360" cy="37432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6588000" y="429876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А. Есенин и С.М. Городецкий. 1915 год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0" descr="esenin19"/>
          <p:cNvPicPr/>
          <p:nvPr/>
        </p:nvPicPr>
        <p:blipFill>
          <a:blip r:embed="rId3"/>
          <a:stretch/>
        </p:blipFill>
        <p:spPr>
          <a:xfrm>
            <a:off x="971640" y="3645000"/>
            <a:ext cx="2808360" cy="1873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1"/>
          <p:cNvSpPr/>
          <p:nvPr/>
        </p:nvSpPr>
        <p:spPr>
          <a:xfrm>
            <a:off x="900000" y="5589720"/>
            <a:ext cx="30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Н.А. Клюев, С.А. Есенин, Всеволод Иванов. 1924 год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2" descr="esenin18"/>
          <p:cNvPicPr/>
          <p:nvPr/>
        </p:nvPicPr>
        <p:blipFill>
          <a:blip r:embed="rId4"/>
          <a:stretch/>
        </p:blipFill>
        <p:spPr>
          <a:xfrm>
            <a:off x="4067280" y="3357720"/>
            <a:ext cx="2455920" cy="3095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3"/>
          <p:cNvSpPr/>
          <p:nvPr/>
        </p:nvSpPr>
        <p:spPr>
          <a:xfrm>
            <a:off x="6659640" y="5481360"/>
            <a:ext cx="23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С.А. Есенин и Л.М. Леонов. 1924 год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reih"/>
          <p:cNvPicPr/>
          <p:nvPr/>
        </p:nvPicPr>
        <p:blipFill>
          <a:blip r:embed="rId1"/>
          <a:stretch/>
        </p:blipFill>
        <p:spPr>
          <a:xfrm>
            <a:off x="3059280" y="1484280"/>
            <a:ext cx="2960640" cy="39862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1770120" y="5515920"/>
            <a:ext cx="6313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З.Райх с детьми - Таней и Костей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527120" y="496800"/>
            <a:ext cx="61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инаида Райх – актриса, вторая жена С.Есен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05:27:39Z</dcterms:created>
  <dc:creator>Дима</dc:creator>
  <dc:description/>
  <dc:language>en-US</dc:language>
  <cp:lastModifiedBy>Нафаня</cp:lastModifiedBy>
  <dcterms:modified xsi:type="dcterms:W3CDTF">2010-10-01T11:00:50Z</dcterms:modified>
  <cp:revision>9</cp:revision>
  <dc:subject/>
  <dc:title>Сергей Есенин (1895 – 1926)</dc:title>
</cp:coreProperties>
</file>