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CA7-569C-4D2E-A44F-7EE73C50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46C-0F85-4E2A-9FBA-1E86700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76C-672D-4FA5-83D1-6332399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CAA-8F8B-43C9-ABB1-E582251B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AD6D-E422-4259-8310-F11443DC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753A-3F05-4ED6-BCAB-013392E6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327-E1A7-4FF3-AFA1-72268930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2C6-226D-4BC0-B3C1-750B4D8F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0344-122E-4556-89E1-5291A0E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F83-C1DE-424F-8E67-DE66647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EA5-49CC-4E48-8FBE-F5832A94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6A1-1307-43A9-B07E-70C5888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DFC4-1AC5-45C8-9BEF-A227756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5E97-5CBD-45A0-854E-7D3BB88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875-B755-4A76-94B6-82BDE5F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CA9-120D-4E2B-98BB-EE7C4569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F444-5383-4080-AFAB-0BFCEFD7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1EF-040E-4818-90AB-05574E2C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742-A584-4863-B2E1-39E2DD76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3FB-DAD5-4F22-807B-E3862A4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AF9-CD89-418F-90D7-EC786ECC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44D-B524-462A-96BD-0E6AE54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E8C-6FB1-4454-8000-749F50C6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430-58EC-43E1-9D5C-F060D2D0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72D-4D68-495B-9761-4AD0408FD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5FBE-3A02-4906-82DA-7AD6F74385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esenin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Arial Black"/>
              </a:rPr>
              <a:t>Сергей Есенин</a:t>
            </a:r>
            <a:br>
              <a:rPr sz="5400"/>
            </a:b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(</a:t>
            </a:r>
            <a:r>
              <a:rPr b="1" i="1" lang="ru-RU" sz="4400" spc="-1" strike="noStrike">
                <a:solidFill>
                  <a:srgbClr val="ffff66"/>
                </a:solidFill>
                <a:latin typeface="Arial Black"/>
              </a:rPr>
              <a:t>1895 – 1926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дерево роняет тихо лист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 я роняю грустны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esenin_pic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501336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esenin"/>
          <p:cNvPicPr/>
          <p:nvPr/>
        </p:nvPicPr>
        <p:blipFill>
          <a:blip r:embed="rId3"/>
          <a:stretch/>
        </p:blipFill>
        <p:spPr>
          <a:xfrm>
            <a:off x="6156360" y="2276640"/>
            <a:ext cx="272412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870480" y="4643280"/>
            <a:ext cx="291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биографии С.Ес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Тараканова Н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жегоро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unkan_a_3"/>
          <p:cNvPicPr/>
          <p:nvPr/>
        </p:nvPicPr>
        <p:blipFill>
          <a:blip r:embed="rId1"/>
          <a:stretch/>
        </p:blipFill>
        <p:spPr>
          <a:xfrm>
            <a:off x="395280" y="189000"/>
            <a:ext cx="3311640" cy="2361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708720" y="404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dunkan"/>
          <p:cNvPicPr/>
          <p:nvPr/>
        </p:nvPicPr>
        <p:blipFill>
          <a:blip r:embed="rId2"/>
          <a:stretch/>
        </p:blipFill>
        <p:spPr>
          <a:xfrm>
            <a:off x="6588000" y="260280"/>
            <a:ext cx="2349720" cy="3241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6804000" y="37242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. Берлин. 1922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0" descr="dunkan2"/>
          <p:cNvPicPr/>
          <p:nvPr/>
        </p:nvPicPr>
        <p:blipFill>
          <a:blip r:embed="rId3"/>
          <a:stretch/>
        </p:blipFill>
        <p:spPr>
          <a:xfrm>
            <a:off x="395280" y="2852640"/>
            <a:ext cx="1959120" cy="306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250920" y="595008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.Есенин и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.Дункан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в Америке 1922 г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2" descr="dunkan2"/>
          <p:cNvPicPr/>
          <p:nvPr/>
        </p:nvPicPr>
        <p:blipFill>
          <a:blip r:embed="rId4"/>
          <a:stretch/>
        </p:blipFill>
        <p:spPr>
          <a:xfrm>
            <a:off x="4716360" y="3309840"/>
            <a:ext cx="2054160" cy="3548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6804000" y="5459400"/>
            <a:ext cx="216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Дункан. Берлин. 1922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 rot="20370600">
            <a:off x="3000960" y="2185560"/>
            <a:ext cx="37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 покинул родимый 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олубую оставил Ру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esenin014"/>
          <p:cNvPicPr/>
          <p:nvPr/>
        </p:nvPicPr>
        <p:blipFill>
          <a:blip r:embed="rId1"/>
          <a:stretch/>
        </p:blipFill>
        <p:spPr>
          <a:xfrm>
            <a:off x="179280" y="765000"/>
            <a:ext cx="4751640" cy="2887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4000" y="3789360"/>
            <a:ext cx="62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 забудь же про свою трево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грусти так шибко обо м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ходи так часто на доро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аромодном ветхом шушу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 «Письмо к мате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003640" y="227664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молиться не учи меня. Не на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 старому возврата больше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помощь и отра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несказанный с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P1010240"/>
          <p:cNvPicPr/>
          <p:nvPr/>
        </p:nvPicPr>
        <p:blipFill>
          <a:blip r:embed="rId2"/>
          <a:stretch/>
        </p:blipFill>
        <p:spPr>
          <a:xfrm>
            <a:off x="6012000" y="3500280"/>
            <a:ext cx="23065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konst"/>
          <p:cNvPicPr/>
          <p:nvPr/>
        </p:nvPicPr>
        <p:blipFill>
          <a:blip r:embed="rId1"/>
          <a:stretch/>
        </p:blipFill>
        <p:spPr>
          <a:xfrm>
            <a:off x="3780000" y="29811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 flipV="1">
            <a:off x="4859280" y="33300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95280" y="544500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-музей С.Есенина в с. Константи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50920" y="198360"/>
            <a:ext cx="5416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 необъятной карте России, где-то под Рязанью, затерялась едва приметная точка — старинное приокское село Константинове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В тот памятный день (2 октября 1965 года) с утра шли и ехали в Константинове люди. Рязанцы и москвичи, южане и сибиряки, ленинградцы и горьковчане,— они собрались на родине Есенина со всех концов России, чтобы в простой деревенской избе открыть музей великого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Здесь, на рязанской земле, отшумело детство поэта, прошла его юность, здесь он написал свои первые стихи..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До позднего вечера шли люди к «низкому дому с голубыми ставнями», чтобы поклониться родному очагу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Они будут идти туда всегда, как идут в Михайловское к Пушкину, в Тарханы к Лермонтову, на Волгу к Некрасову..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828720" y="544500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сковский государственный музей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esenin"/>
          <p:cNvPicPr/>
          <p:nvPr/>
        </p:nvPicPr>
        <p:blipFill>
          <a:blip r:embed="rId1"/>
          <a:stretch/>
        </p:blipFill>
        <p:spPr>
          <a:xfrm>
            <a:off x="2771640" y="692280"/>
            <a:ext cx="5472360" cy="385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vladkurochkin.ru/img/1031382/1032997.jpg"/>
          <p:cNvPicPr/>
          <p:nvPr/>
        </p:nvPicPr>
        <p:blipFill>
          <a:blip r:embed="rId2"/>
          <a:stretch/>
        </p:blipFill>
        <p:spPr>
          <a:xfrm>
            <a:off x="611280" y="3068640"/>
            <a:ext cx="21891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bereza"/>
          <p:cNvPicPr/>
          <p:nvPr/>
        </p:nvPicPr>
        <p:blipFill>
          <a:blip r:embed="rId1"/>
          <a:stretch/>
        </p:blipFill>
        <p:spPr>
          <a:xfrm>
            <a:off x="324000" y="260280"/>
            <a:ext cx="2371680" cy="37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len2"/>
          <p:cNvPicPr/>
          <p:nvPr/>
        </p:nvPicPr>
        <p:blipFill>
          <a:blip r:embed="rId2"/>
          <a:stretch/>
        </p:blipFill>
        <p:spPr>
          <a:xfrm>
            <a:off x="2050920" y="1341360"/>
            <a:ext cx="262260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112"/>
          <p:cNvPicPr/>
          <p:nvPr/>
        </p:nvPicPr>
        <p:blipFill>
          <a:blip r:embed="rId3"/>
          <a:stretch/>
        </p:blipFill>
        <p:spPr>
          <a:xfrm>
            <a:off x="3924360" y="270828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27645"/>
          <p:cNvPicPr/>
          <p:nvPr/>
        </p:nvPicPr>
        <p:blipFill>
          <a:blip r:embed="rId4"/>
          <a:stretch/>
        </p:blipFill>
        <p:spPr>
          <a:xfrm>
            <a:off x="6372360" y="4508640"/>
            <a:ext cx="2592360" cy="1901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471840" y="4237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ирды солнца в водах лонных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148360" y="11970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Русь, взмахни крыл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авь иную крепь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48784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35640" y="20606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вени, звени, златая Ру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лнуйся, неуемный ветер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68360" y="5068800"/>
            <a:ext cx="35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Я последний поэт дерев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.Есе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635280" y="5650200"/>
            <a:ext cx="28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я! Сердцу милый кра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уша сжимается от боли…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esenin6"/>
          <p:cNvPicPr/>
          <p:nvPr/>
        </p:nvPicPr>
        <p:blipFill>
          <a:blip r:embed="rId1"/>
          <a:stretch/>
        </p:blipFill>
        <p:spPr>
          <a:xfrm>
            <a:off x="684360" y="404640"/>
            <a:ext cx="5113080" cy="3614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132000" y="5084640"/>
            <a:ext cx="50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е встречаю, все при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д и счастлив душу вы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пришел на эту з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 скорей её поки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esenin16"/>
          <p:cNvPicPr/>
          <p:nvPr/>
        </p:nvPicPr>
        <p:blipFill>
          <a:blip r:embed="rId2"/>
          <a:stretch/>
        </p:blipFill>
        <p:spPr>
          <a:xfrm>
            <a:off x="5378400" y="1052640"/>
            <a:ext cx="2975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580000" y="3221640"/>
            <a:ext cx="281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думаю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Как прекрас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Земл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И на ней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esenin2"/>
          <p:cNvPicPr/>
          <p:nvPr/>
        </p:nvPicPr>
        <p:blipFill>
          <a:blip r:embed="rId1"/>
          <a:stretch/>
        </p:blipFill>
        <p:spPr>
          <a:xfrm>
            <a:off x="1109520" y="1700280"/>
            <a:ext cx="3564000" cy="453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7642"/>
          <p:cNvPicPr/>
          <p:nvPr/>
        </p:nvPicPr>
        <p:blipFill>
          <a:blip r:embed="rId2"/>
          <a:stretch/>
        </p:blipFill>
        <p:spPr>
          <a:xfrm>
            <a:off x="4067280" y="836640"/>
            <a:ext cx="3600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955080"/>
            <a:ext cx="75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крупнее художник, масштабнее его творчество, самобытнее талант, тем труднее порой современникам полностью оценить вклад его в духовную жизнь нации, глубоко и всесторонне раскрыть все грани его дарова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цом к лицу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Лица не увидать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Большое видится на расстоя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.Есенин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senin5"/>
          <p:cNvPicPr/>
          <p:nvPr/>
        </p:nvPicPr>
        <p:blipFill>
          <a:blip r:embed="rId1"/>
          <a:stretch/>
        </p:blipFill>
        <p:spPr>
          <a:xfrm>
            <a:off x="1332000" y="2349360"/>
            <a:ext cx="29322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971640" y="2922840"/>
            <a:ext cx="74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Есенин - самый национальный и задушевный поэт ХХ века, певец не избяной Руси, а многовековой земной и небесной России. Когда он, самородок, "Божья дудка", как сам себя называл, утверждал в столичных салонах: "Я последний поэт деревни", то имел в виду не столько свою родословную внука крестьянина и сына торговца из Замоскворечья, сколько глубинную связь с коренной, исконной, преобладающей Россией, которая подошла при нём не к обещанным вратам рая, а к "погибельному краю пропасти"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esenin_pic_02"/>
          <p:cNvPicPr/>
          <p:nvPr/>
        </p:nvPicPr>
        <p:blipFill>
          <a:blip r:embed="rId1"/>
          <a:stretch/>
        </p:blipFill>
        <p:spPr>
          <a:xfrm>
            <a:off x="1187280" y="765000"/>
            <a:ext cx="6677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ая родина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зья, наставники и товарищи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йседора Дунк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ледие Серге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927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 октября 1895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12 лет 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дился великий русский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ЕНИН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esenin001"/>
          <p:cNvPicPr/>
          <p:nvPr/>
        </p:nvPicPr>
        <p:blipFill>
          <a:blip r:embed="rId1"/>
          <a:stretch/>
        </p:blipFill>
        <p:spPr>
          <a:xfrm>
            <a:off x="4859280" y="333360"/>
            <a:ext cx="3811680" cy="5111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755640" y="43848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4360" y="4013280"/>
            <a:ext cx="30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я с песн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вном одеял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Зори меня в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дугу свивал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4" descr="27642"/>
          <p:cNvPicPr/>
          <p:nvPr/>
        </p:nvPicPr>
        <p:blipFill>
          <a:blip r:embed="rId2"/>
          <a:stretch/>
        </p:blipFill>
        <p:spPr>
          <a:xfrm>
            <a:off x="3635280" y="4521240"/>
            <a:ext cx="3024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konst"/>
          <p:cNvPicPr/>
          <p:nvPr/>
        </p:nvPicPr>
        <p:blipFill>
          <a:blip r:embed="rId1"/>
          <a:stretch/>
        </p:blipFill>
        <p:spPr>
          <a:xfrm>
            <a:off x="755640" y="476280"/>
            <a:ext cx="5472000" cy="3800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384200" y="4600440"/>
            <a:ext cx="46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56360" y="458064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ом в с. Константиново, где родился С. 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00720" y="4941720"/>
            <a:ext cx="42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одился в 1895 году, 21 сентября, в Рязанской губернии, Рязанского уезда, Козьминской волости, в селе Константино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2" descr="С.А. Есенин. 1924 год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981000"/>
            <a:ext cx="1783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одители Сергея Есенина - Александр Никитич и &lt;br&gt;Татьяна Федоровна.  1905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950840" cy="3068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268360" y="50868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ергея Есенина - Александр Никитич и </a:t>
            </a:r>
            <a:br>
              <a:rPr sz="1600"/>
            </a:b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Татьяна Федоровна. 1905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2920" y="4005360"/>
            <a:ext cx="419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С двух лет был отдан на воспитание довольно зажиточному деду по матери, у которого было трое взрослых неженатых сыновей, с которыми протекло почти все мое детст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esenin007"/>
          <p:cNvPicPr/>
          <p:nvPr/>
        </p:nvPicPr>
        <p:blipFill>
          <a:blip r:embed="rId3"/>
          <a:stretch/>
        </p:blipFill>
        <p:spPr>
          <a:xfrm>
            <a:off x="6227640" y="2708280"/>
            <a:ext cx="241164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5656320" y="6307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.Есенина. 1924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esenin014"/>
          <p:cNvPicPr/>
          <p:nvPr/>
        </p:nvPicPr>
        <p:blipFill>
          <a:blip r:embed="rId4"/>
          <a:stretch/>
        </p:blipFill>
        <p:spPr>
          <a:xfrm>
            <a:off x="2916360" y="1557360"/>
            <a:ext cx="3457440" cy="2101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219640" y="1125360"/>
            <a:ext cx="30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Есенин с матер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4"/>
          <p:cNvSpPr/>
          <p:nvPr/>
        </p:nvSpPr>
        <p:spPr>
          <a:xfrm>
            <a:off x="395280" y="43005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с сестрами Катей и Шурой. 1912г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36" descr="esenin006"/>
          <p:cNvPicPr/>
          <p:nvPr/>
        </p:nvPicPr>
        <p:blipFill>
          <a:blip r:embed="rId1"/>
          <a:stretch/>
        </p:blipFill>
        <p:spPr>
          <a:xfrm>
            <a:off x="395280" y="260280"/>
            <a:ext cx="252252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8" descr="esenin25"/>
          <p:cNvPicPr/>
          <p:nvPr/>
        </p:nvPicPr>
        <p:blipFill>
          <a:blip r:embed="rId2"/>
          <a:stretch/>
        </p:blipFill>
        <p:spPr>
          <a:xfrm>
            <a:off x="5940360" y="404640"/>
            <a:ext cx="254484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9"/>
          <p:cNvSpPr/>
          <p:nvPr/>
        </p:nvSpPr>
        <p:spPr>
          <a:xfrm>
            <a:off x="6084720" y="4366080"/>
            <a:ext cx="25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с сестрой Е.А. Есениной на Пречистинском бульваре в Москве. 1925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40" descr="esenin005"/>
          <p:cNvPicPr/>
          <p:nvPr/>
        </p:nvPicPr>
        <p:blipFill>
          <a:blip r:embed="rId3"/>
          <a:stretch/>
        </p:blipFill>
        <p:spPr>
          <a:xfrm>
            <a:off x="3132000" y="2637000"/>
            <a:ext cx="246564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1"/>
          <p:cNvSpPr/>
          <p:nvPr/>
        </p:nvSpPr>
        <p:spPr>
          <a:xfrm>
            <a:off x="2987640" y="169992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Есенин с отцом и дядей. 1913 г.</a:t>
            </a: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y1"/>
          <p:cNvPicPr/>
          <p:nvPr/>
        </p:nvPicPr>
        <p:blipFill>
          <a:blip r:embed="rId1"/>
          <a:stretch/>
        </p:blipFill>
        <p:spPr>
          <a:xfrm>
            <a:off x="2195640" y="2276640"/>
            <a:ext cx="6408720" cy="3530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79480" y="42372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же я подрос, из меня очень захотели сделать сельского учителя и потому отдали в церковно-учительскую школ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71640" y="60206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Школа, которую с отличием закончил С.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esenin002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4000" y="292356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 Есенин и Николай Клюев. Фотография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esenin8"/>
          <p:cNvPicPr/>
          <p:nvPr/>
        </p:nvPicPr>
        <p:blipFill>
          <a:blip r:embed="rId2"/>
          <a:stretch/>
        </p:blipFill>
        <p:spPr>
          <a:xfrm>
            <a:off x="5796000" y="549360"/>
            <a:ext cx="2835360" cy="3743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6588000" y="42987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С.М. Городецкий. 1915 год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0" descr="esenin19"/>
          <p:cNvPicPr/>
          <p:nvPr/>
        </p:nvPicPr>
        <p:blipFill>
          <a:blip r:embed="rId3"/>
          <a:stretch/>
        </p:blipFill>
        <p:spPr>
          <a:xfrm>
            <a:off x="971640" y="3645000"/>
            <a:ext cx="2808360" cy="1873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900000" y="5589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.А. Клюев, С.А. Есенин, Всеволод Ива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esenin18"/>
          <p:cNvPicPr/>
          <p:nvPr/>
        </p:nvPicPr>
        <p:blipFill>
          <a:blip r:embed="rId4"/>
          <a:stretch/>
        </p:blipFill>
        <p:spPr>
          <a:xfrm>
            <a:off x="4067280" y="3357720"/>
            <a:ext cx="2455920" cy="3095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3"/>
          <p:cNvSpPr/>
          <p:nvPr/>
        </p:nvSpPr>
        <p:spPr>
          <a:xfrm>
            <a:off x="6659640" y="548136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Л.М. Лео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reih"/>
          <p:cNvPicPr/>
          <p:nvPr/>
        </p:nvPicPr>
        <p:blipFill>
          <a:blip r:embed="rId1"/>
          <a:stretch/>
        </p:blipFill>
        <p:spPr>
          <a:xfrm>
            <a:off x="3059280" y="1484280"/>
            <a:ext cx="2960640" cy="3986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70120" y="5515920"/>
            <a:ext cx="6313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.Райх с детьми - Таней и Костей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527120" y="49680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инаида Райх – актриса, вторая жена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5:27:39Z</dcterms:created>
  <dc:creator>Дима</dc:creator>
  <dc:description/>
  <dc:language>en-US</dc:language>
  <cp:lastModifiedBy>Нафаня</cp:lastModifiedBy>
  <dcterms:modified xsi:type="dcterms:W3CDTF">2010-10-01T11:00:50Z</dcterms:modified>
  <cp:revision>9</cp:revision>
  <dc:subject/>
  <dc:title>Сергей Есенин (1895 – 1926)</dc:title>
</cp:coreProperties>
</file>