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A67-0126-45B2-A149-7CDCAF4D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6EF-9DD1-46CE-8859-38CF0769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3CE-C48E-492D-9E40-22C88BBB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8A3-CE2E-4EF1-BC88-84A075A0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258B-D4E5-4497-9926-26759FC7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D4F-A092-4153-B58A-F7941F63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5001-436C-4638-ABE8-3C988EED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D5A0-16F3-4D29-8B3D-EC380DA9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7788-B2ED-44D7-9C74-AFD02973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B854-8595-4622-86EF-A2062EC8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5DE5-D73E-489E-9D4A-1897C8D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5D8-FA54-4DEF-991D-6A94DDEA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5948-31D1-4F13-980E-0893613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4D6D-DB02-48C3-9874-0535182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2EA-D5B7-4E8F-A146-CAC66A31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38E9-542D-4574-BDF6-AB8EF26B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35FA-FE52-4305-ABE1-EAF82332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E35-BEC9-4C9A-945B-F8B235C3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FD4-7107-4044-991E-57C7D48D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15D-55F9-4034-8E90-14DD7C2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3B9-D6E8-4D6D-B42D-6483EBFE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AEF-81BC-42AD-B657-2A4035A9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BE1-6494-4DBD-8959-F373B01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773-6948-4C7A-8EC2-DE03AB6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F549-CD8E-45B7-AD45-01B76A7599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BAD5-6668-4A58-B85B-0372783CEB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esenin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esenin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esenin.ru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Arial Black"/>
              </a:rPr>
              <a:t>Сергей Есенин</a:t>
            </a:r>
            <a:br>
              <a:rPr sz="5400"/>
            </a:b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(</a:t>
            </a:r>
            <a:r>
              <a:rPr b="1" i="1" lang="ru-RU" sz="4400" spc="-1" strike="noStrike">
                <a:solidFill>
                  <a:srgbClr val="ffff66"/>
                </a:solidFill>
                <a:latin typeface="Arial Black"/>
              </a:rPr>
              <a:t>1895 – 1926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дерево роняет тихо лист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 я роняю грустны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esenin_pic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501336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esenin"/>
          <p:cNvPicPr/>
          <p:nvPr/>
        </p:nvPicPr>
        <p:blipFill>
          <a:blip r:embed="rId3"/>
          <a:stretch/>
        </p:blipFill>
        <p:spPr>
          <a:xfrm>
            <a:off x="6156360" y="2276640"/>
            <a:ext cx="2724120" cy="3816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870480" y="4643280"/>
            <a:ext cx="291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 к у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биографии С.Есен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Тараканова Н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Ксто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жегоро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unkan_a_3"/>
          <p:cNvPicPr/>
          <p:nvPr/>
        </p:nvPicPr>
        <p:blipFill>
          <a:blip r:embed="rId1"/>
          <a:stretch/>
        </p:blipFill>
        <p:spPr>
          <a:xfrm>
            <a:off x="395280" y="189000"/>
            <a:ext cx="3311640" cy="23619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708720" y="404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 Дунка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dunkan"/>
          <p:cNvPicPr/>
          <p:nvPr/>
        </p:nvPicPr>
        <p:blipFill>
          <a:blip r:embed="rId2"/>
          <a:stretch/>
        </p:blipFill>
        <p:spPr>
          <a:xfrm>
            <a:off x="6588000" y="260280"/>
            <a:ext cx="2349720" cy="3241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6804000" y="37242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 Дункан. Берлин. 1922г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0" descr="dunkan2"/>
          <p:cNvPicPr/>
          <p:nvPr/>
        </p:nvPicPr>
        <p:blipFill>
          <a:blip r:embed="rId3"/>
          <a:stretch/>
        </p:blipFill>
        <p:spPr>
          <a:xfrm>
            <a:off x="395280" y="2852640"/>
            <a:ext cx="1959120" cy="306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250920" y="595008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.Есенин и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.Дункан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в Америке 1922 г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2" descr="dunkan2"/>
          <p:cNvPicPr/>
          <p:nvPr/>
        </p:nvPicPr>
        <p:blipFill>
          <a:blip r:embed="rId4"/>
          <a:stretch/>
        </p:blipFill>
        <p:spPr>
          <a:xfrm>
            <a:off x="4716360" y="3309840"/>
            <a:ext cx="2054160" cy="3548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6804000" y="5459400"/>
            <a:ext cx="216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Дункан. Берлин. 1922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 rot="20370600">
            <a:off x="3000960" y="2185560"/>
            <a:ext cx="37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Я покинул родимый д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олубую оставил Рус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esenin014"/>
          <p:cNvPicPr/>
          <p:nvPr/>
        </p:nvPicPr>
        <p:blipFill>
          <a:blip r:embed="rId1"/>
          <a:stretch/>
        </p:blipFill>
        <p:spPr>
          <a:xfrm>
            <a:off x="179280" y="765000"/>
            <a:ext cx="4751640" cy="2887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24000" y="3789360"/>
            <a:ext cx="62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 забудь же про свою тревог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 грусти так шибко обо м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 ходи так часто на дорог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таромодном ветхом шушу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Есенин «Письмо к матер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003640" y="227664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молиться не учи меня. Не над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 старому возврата больше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одна мне помощь и отра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одна мне несказанный св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P1010240"/>
          <p:cNvPicPr/>
          <p:nvPr/>
        </p:nvPicPr>
        <p:blipFill>
          <a:blip r:embed="rId2"/>
          <a:stretch/>
        </p:blipFill>
        <p:spPr>
          <a:xfrm>
            <a:off x="6012000" y="3500280"/>
            <a:ext cx="23065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konst"/>
          <p:cNvPicPr/>
          <p:nvPr/>
        </p:nvPicPr>
        <p:blipFill>
          <a:blip r:embed="rId1"/>
          <a:stretch/>
        </p:blipFill>
        <p:spPr>
          <a:xfrm>
            <a:off x="3780000" y="298116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 flipV="1">
            <a:off x="4859280" y="33300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95280" y="544500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-музей С.Есенина в с. Константин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50920" y="198360"/>
            <a:ext cx="5416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 необъятной карте России, где-то под Рязанью, затерялась едва приметная точка — старинное приокское село Константинове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В тот памятный день (2 октября 1965 года) с утра шли и ехали в Константинове люди. Рязанцы и москвичи, южане и сибиряки, ленинградцы и горьковчане,— они собрались на родине Есенина со всех концов России, чтобы в простой деревенской избе открыть музей великого поэта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Здесь, на рязанской земле, отшумело детство поэта, прошла его юность, здесь он написал свои первые стихи..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До позднего вечера шли люди к «низкому дому с голубыми ставнями», чтобы поклониться родному очагу поэта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Они будут идти туда всегда, как идут в Михайловское к Пушкину, в Тарханы к Лермонтову, на Волгу к Некрасову..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828720" y="544500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осковский государственный музей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esenin"/>
          <p:cNvPicPr/>
          <p:nvPr/>
        </p:nvPicPr>
        <p:blipFill>
          <a:blip r:embed="rId1"/>
          <a:stretch/>
        </p:blipFill>
        <p:spPr>
          <a:xfrm>
            <a:off x="2771640" y="692280"/>
            <a:ext cx="5472360" cy="385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ttp://www.vladkurochkin.ru/img/1031382/1032997.jpg"/>
          <p:cNvPicPr/>
          <p:nvPr/>
        </p:nvPicPr>
        <p:blipFill>
          <a:blip r:embed="rId2"/>
          <a:stretch/>
        </p:blipFill>
        <p:spPr>
          <a:xfrm>
            <a:off x="611280" y="3068640"/>
            <a:ext cx="21891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bereza"/>
          <p:cNvPicPr/>
          <p:nvPr/>
        </p:nvPicPr>
        <p:blipFill>
          <a:blip r:embed="rId1"/>
          <a:stretch/>
        </p:blipFill>
        <p:spPr>
          <a:xfrm>
            <a:off x="324000" y="260280"/>
            <a:ext cx="2371680" cy="37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len2"/>
          <p:cNvPicPr/>
          <p:nvPr/>
        </p:nvPicPr>
        <p:blipFill>
          <a:blip r:embed="rId2"/>
          <a:stretch/>
        </p:blipFill>
        <p:spPr>
          <a:xfrm>
            <a:off x="2050920" y="1341360"/>
            <a:ext cx="2622600" cy="34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p112"/>
          <p:cNvPicPr/>
          <p:nvPr/>
        </p:nvPicPr>
        <p:blipFill>
          <a:blip r:embed="rId3"/>
          <a:stretch/>
        </p:blipFill>
        <p:spPr>
          <a:xfrm>
            <a:off x="3924360" y="270828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27645"/>
          <p:cNvPicPr/>
          <p:nvPr/>
        </p:nvPicPr>
        <p:blipFill>
          <a:blip r:embed="rId4"/>
          <a:stretch/>
        </p:blipFill>
        <p:spPr>
          <a:xfrm>
            <a:off x="6372360" y="4508640"/>
            <a:ext cx="2592360" cy="1901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471840" y="42372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ирды солнца в водах лонных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148360" y="119700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Русь, взмахни крыл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тавь иную крепь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487840" y="2152800"/>
            <a:ext cx="30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35640" y="206064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вени, звени, златая Рус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лнуйся, неуемный ветер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68360" y="5068800"/>
            <a:ext cx="35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Я последний поэт деревн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.Есен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635280" y="5650200"/>
            <a:ext cx="28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ссия! Сердцу милый кра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уша сжимается от боли…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esenin6"/>
          <p:cNvPicPr/>
          <p:nvPr/>
        </p:nvPicPr>
        <p:blipFill>
          <a:blip r:embed="rId1"/>
          <a:stretch/>
        </p:blipFill>
        <p:spPr>
          <a:xfrm>
            <a:off x="684360" y="404640"/>
            <a:ext cx="5113080" cy="3614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132000" y="5084640"/>
            <a:ext cx="50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се встречаю, все при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д и счастлив душу вы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пришел на эту з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тоб скорей её поки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esenin16"/>
          <p:cNvPicPr/>
          <p:nvPr/>
        </p:nvPicPr>
        <p:blipFill>
          <a:blip r:embed="rId2"/>
          <a:stretch/>
        </p:blipFill>
        <p:spPr>
          <a:xfrm>
            <a:off x="5378400" y="1052640"/>
            <a:ext cx="29750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580000" y="3221640"/>
            <a:ext cx="281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думаю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Как прекрасн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Земл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И на ней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esenin2"/>
          <p:cNvPicPr/>
          <p:nvPr/>
        </p:nvPicPr>
        <p:blipFill>
          <a:blip r:embed="rId1"/>
          <a:stretch/>
        </p:blipFill>
        <p:spPr>
          <a:xfrm>
            <a:off x="1109520" y="1700280"/>
            <a:ext cx="3564000" cy="4538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7642"/>
          <p:cNvPicPr/>
          <p:nvPr/>
        </p:nvPicPr>
        <p:blipFill>
          <a:blip r:embed="rId2"/>
          <a:stretch/>
        </p:blipFill>
        <p:spPr>
          <a:xfrm>
            <a:off x="4067280" y="836640"/>
            <a:ext cx="36003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955080"/>
            <a:ext cx="75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крупнее художник, масштабнее его творчество, самобытнее талант, тем труднее порой современникам полностью оценить вклад его в духовную жизнь нации, глубоко и всесторонне раскрыть все грани его дарова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цом к лицу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Лица не увидать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Большое видится на расстоя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.Есенин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senin5"/>
          <p:cNvPicPr/>
          <p:nvPr/>
        </p:nvPicPr>
        <p:blipFill>
          <a:blip r:embed="rId1"/>
          <a:stretch/>
        </p:blipFill>
        <p:spPr>
          <a:xfrm>
            <a:off x="1332000" y="2349360"/>
            <a:ext cx="29322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971640" y="2922840"/>
            <a:ext cx="74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гей Есенин - самый национальный и задушевный поэт ХХ века, певец не избяной Руси, а многовековой земной и небесной России. Когда он, самородок, "Божья дудка", как сам себя называл, утверждал в столичных салонах: "Я последний поэт деревни", то имел в виду не столько свою родословную внука крестьянина и сына торговца из Замоскворечья, сколько глубинную связь с коренной, исконной, преобладающей Россией, которая подошла при нём не к обещанным вратам рая, а к "погибельному краю пропасти"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esenin_pic_02"/>
          <p:cNvPicPr/>
          <p:nvPr/>
        </p:nvPicPr>
        <p:blipFill>
          <a:blip r:embed="rId1"/>
          <a:stretch/>
        </p:blipFill>
        <p:spPr>
          <a:xfrm>
            <a:off x="1187280" y="765000"/>
            <a:ext cx="6677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ая родина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зья, наставники и товарищи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йседора Дунк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ледие Сергея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3927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 октября 1895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12 лет 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дился великий русский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ерг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ександ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ЕНИН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esenin001"/>
          <p:cNvPicPr/>
          <p:nvPr/>
        </p:nvPicPr>
        <p:blipFill>
          <a:blip r:embed="rId1"/>
          <a:stretch/>
        </p:blipFill>
        <p:spPr>
          <a:xfrm>
            <a:off x="4859280" y="333360"/>
            <a:ext cx="3811680" cy="5111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755640" y="43848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84360" y="4013280"/>
            <a:ext cx="301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я с песн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авном одеял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Зори меня веш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дугу свивал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4" descr="27642"/>
          <p:cNvPicPr/>
          <p:nvPr/>
        </p:nvPicPr>
        <p:blipFill>
          <a:blip r:embed="rId2"/>
          <a:stretch/>
        </p:blipFill>
        <p:spPr>
          <a:xfrm>
            <a:off x="3635280" y="4521240"/>
            <a:ext cx="3024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konst"/>
          <p:cNvPicPr/>
          <p:nvPr/>
        </p:nvPicPr>
        <p:blipFill>
          <a:blip r:embed="rId1"/>
          <a:stretch/>
        </p:blipFill>
        <p:spPr>
          <a:xfrm>
            <a:off x="755640" y="476280"/>
            <a:ext cx="5472000" cy="3800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384200" y="4600440"/>
            <a:ext cx="46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56360" y="4580640"/>
            <a:ext cx="53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ом в с. Константиново, где родился С. Есен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500720" y="4941720"/>
            <a:ext cx="42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Родился в 1895 году, 21 сентября, в Рязанской губернии, Рязанского уезда, Козьминской волости, в селе Константино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2" descr="С.А. Есенин. 1924 год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981000"/>
            <a:ext cx="17830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одители Сергея Есенина - Александр Никитич и &lt;br&gt;Татьяна Федоровна.  1905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950840" cy="3068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268360" y="508680"/>
            <a:ext cx="295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ергея Есенина - Александр Никитич и </a:t>
            </a:r>
            <a:br>
              <a:rPr sz="1600"/>
            </a:b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Татьяна Федоровна. 1905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42920" y="4005360"/>
            <a:ext cx="419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С двух лет был отдан на воспитание довольно зажиточному деду по матери, у которого было трое взрослых неженатых сыновей, с которыми протекло почти все мое детст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esenin007"/>
          <p:cNvPicPr/>
          <p:nvPr/>
        </p:nvPicPr>
        <p:blipFill>
          <a:blip r:embed="rId3"/>
          <a:stretch/>
        </p:blipFill>
        <p:spPr>
          <a:xfrm>
            <a:off x="6227640" y="2708280"/>
            <a:ext cx="2411640" cy="367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5656320" y="63079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.Есенина. 1924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2" descr="esenin014"/>
          <p:cNvPicPr/>
          <p:nvPr/>
        </p:nvPicPr>
        <p:blipFill>
          <a:blip r:embed="rId4"/>
          <a:stretch/>
        </p:blipFill>
        <p:spPr>
          <a:xfrm>
            <a:off x="2916360" y="1557360"/>
            <a:ext cx="3457440" cy="2101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219640" y="1125360"/>
            <a:ext cx="30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Есенин с матер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4"/>
          <p:cNvSpPr/>
          <p:nvPr/>
        </p:nvSpPr>
        <p:spPr>
          <a:xfrm>
            <a:off x="395280" y="43005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с сестрами Катей и Шурой. 1912г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36" descr="esenin006"/>
          <p:cNvPicPr/>
          <p:nvPr/>
        </p:nvPicPr>
        <p:blipFill>
          <a:blip r:embed="rId1"/>
          <a:stretch/>
        </p:blipFill>
        <p:spPr>
          <a:xfrm>
            <a:off x="395280" y="260280"/>
            <a:ext cx="2522520" cy="400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8" descr="esenin25"/>
          <p:cNvPicPr/>
          <p:nvPr/>
        </p:nvPicPr>
        <p:blipFill>
          <a:blip r:embed="rId2"/>
          <a:stretch/>
        </p:blipFill>
        <p:spPr>
          <a:xfrm>
            <a:off x="5940360" y="404640"/>
            <a:ext cx="2544840" cy="3816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9"/>
          <p:cNvSpPr/>
          <p:nvPr/>
        </p:nvSpPr>
        <p:spPr>
          <a:xfrm>
            <a:off x="6084720" y="4366080"/>
            <a:ext cx="25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с сестрой Е.А. Есениной на Пречистинском бульваре в Москве. 1925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40" descr="esenin005"/>
          <p:cNvPicPr/>
          <p:nvPr/>
        </p:nvPicPr>
        <p:blipFill>
          <a:blip r:embed="rId3"/>
          <a:stretch/>
        </p:blipFill>
        <p:spPr>
          <a:xfrm>
            <a:off x="3132000" y="2637000"/>
            <a:ext cx="246564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41"/>
          <p:cNvSpPr/>
          <p:nvPr/>
        </p:nvSpPr>
        <p:spPr>
          <a:xfrm>
            <a:off x="2987640" y="169992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Есенин с отцом и дядей. 1913 г.</a:t>
            </a: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y1"/>
          <p:cNvPicPr/>
          <p:nvPr/>
        </p:nvPicPr>
        <p:blipFill>
          <a:blip r:embed="rId1"/>
          <a:stretch/>
        </p:blipFill>
        <p:spPr>
          <a:xfrm>
            <a:off x="2195640" y="2276640"/>
            <a:ext cx="6408720" cy="3530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879480" y="423720"/>
            <a:ext cx="63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гда же я подрос, из меня очень захотели сделать сельского учителя и потому отдали в церковно-учительскую школ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71640" y="602064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Школа, которую с отличием закончил С.Есен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esenin002"/>
          <p:cNvPicPr/>
          <p:nvPr/>
        </p:nvPicPr>
        <p:blipFill>
          <a:blip r:embed="rId1"/>
          <a:stretch/>
        </p:blipFill>
        <p:spPr>
          <a:xfrm>
            <a:off x="539640" y="26028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24000" y="2923560"/>
            <a:ext cx="40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 Есенин и Николай Клюев. Фотография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esenin8"/>
          <p:cNvPicPr/>
          <p:nvPr/>
        </p:nvPicPr>
        <p:blipFill>
          <a:blip r:embed="rId2"/>
          <a:stretch/>
        </p:blipFill>
        <p:spPr>
          <a:xfrm>
            <a:off x="5796000" y="549360"/>
            <a:ext cx="2835360" cy="3743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6588000" y="42987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С.М. Городецкий. 1915 год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0" descr="esenin19"/>
          <p:cNvPicPr/>
          <p:nvPr/>
        </p:nvPicPr>
        <p:blipFill>
          <a:blip r:embed="rId3"/>
          <a:stretch/>
        </p:blipFill>
        <p:spPr>
          <a:xfrm>
            <a:off x="971640" y="3645000"/>
            <a:ext cx="2808360" cy="1873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900000" y="558972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Н.А. Клюев, С.А. Есенин, Всеволод Ива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esenin18"/>
          <p:cNvPicPr/>
          <p:nvPr/>
        </p:nvPicPr>
        <p:blipFill>
          <a:blip r:embed="rId4"/>
          <a:stretch/>
        </p:blipFill>
        <p:spPr>
          <a:xfrm>
            <a:off x="4067280" y="3357720"/>
            <a:ext cx="2455920" cy="3095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3"/>
          <p:cNvSpPr/>
          <p:nvPr/>
        </p:nvSpPr>
        <p:spPr>
          <a:xfrm>
            <a:off x="6659640" y="5481360"/>
            <a:ext cx="23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Л.М. Лео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reih"/>
          <p:cNvPicPr/>
          <p:nvPr/>
        </p:nvPicPr>
        <p:blipFill>
          <a:blip r:embed="rId1"/>
          <a:stretch/>
        </p:blipFill>
        <p:spPr>
          <a:xfrm>
            <a:off x="3059280" y="1484280"/>
            <a:ext cx="2960640" cy="3986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770120" y="5515920"/>
            <a:ext cx="6313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З.Райх с детьми - Таней и Костей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527120" y="496800"/>
            <a:ext cx="61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инаида Райх – актриса, вторая жена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5:27:39Z</dcterms:created>
  <dc:creator>Дима</dc:creator>
  <dc:description/>
  <dc:language>en-US</dc:language>
  <cp:lastModifiedBy>Нафаня</cp:lastModifiedBy>
  <dcterms:modified xsi:type="dcterms:W3CDTF">2010-10-01T11:00:50Z</dcterms:modified>
  <cp:revision>9</cp:revision>
  <dc:subject/>
  <dc:title>Сергей Есенин (1895 – 1926)</dc:title>
</cp:coreProperties>
</file>