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3F6-50E1-4A57-A0D7-50A6DC02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664-10E4-49BC-9B1B-ECCA73C0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F45-A270-4A16-852E-EF43FC1D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BE2-B23F-4251-9CC0-95975D2E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BE3-A2A0-4272-B2EB-3494D0D8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645-727A-4DCF-B3A9-98E9EE0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3F6F-6C64-4045-B4F4-3CD3E473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1FC-89A1-4F62-8464-ED0F5E1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F4C5-ED36-412A-8474-1F50AED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77D-3D71-4B40-9130-AF6BC16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E8E0-0ECE-4F2B-9EFC-0CB2CF2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27BA-E49E-416A-9F99-8B31CC3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B3F6-0D59-4825-BDA5-F7B03FE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CA96-0569-4109-860B-5D617F8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5E7A-6F04-410E-B094-2E29028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B9E1-56D1-4AA4-8555-E3348307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CDFE-2E94-409E-AD09-4140C239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E3DE-546A-45B6-B9A9-302CE7E1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3021-DE6D-4B6A-989E-C2E14F3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0E58-1FD0-4A4A-B945-14CAEEC0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2DB4-7463-4A4C-AC32-B638675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7C11-00CF-440A-999B-32399E53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F41-21D7-47CD-9EC1-99049F91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8738-FAB2-4CC7-9622-8D74619D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C768E-F830-4ADB-A590-7D8C03B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F0D9-FAB4-4647-A0A9-5FDFD05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D086-1488-4BD6-BE65-F4200A41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00F8-BA28-42B0-B39B-33B33B4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E2E5-CE5E-4331-9FE7-95AD9A12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51DE-935E-4F34-9B96-094EFAC6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07FD-20AB-4E0C-BB59-193644F9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0275-9FC5-4B51-BF04-163386A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54EF-E07E-472D-B447-7489DE61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EA8-BF4B-4979-9AA1-0A525A7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01AE-6A4C-4D62-BD60-1724E1F0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91E7-CA5D-41C6-BCBE-2D77EB6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4F2A-4498-4D6B-ACEB-C0E2C95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023E-DB67-4AEF-A316-D0EAC13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6B44-6464-458D-8CB9-8D0041C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9F26-F819-40CF-BBDE-5D3F4EC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BA07-3A95-4F9E-9380-F320F3D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0F5D-FB22-49E6-A14D-428A4546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5F285-3606-42FF-AFF8-6B768220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965-ABE2-4AA2-8FDA-2B882C07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8AB-9A6E-4F4C-964F-B0CEB9A4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453-D76C-4266-88D3-BB8DA4B7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8CC-1BBE-45FA-97E5-8B39106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32B-585F-454D-96E9-A7CA28A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77F-40EA-4B6C-B643-10395F691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31DD-C175-4388-81F9-493BC438F2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AF5-9917-41BB-85BC-4D649267A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D46-365C-4274-87C3-A05F77D12A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10"/>
          <p:cNvSpPr txBox="1"/>
          <p:nvPr/>
        </p:nvSpPr>
        <p:spPr>
          <a:xfrm>
            <a:off x="324000" y="260280"/>
            <a:ext cx="842472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ональна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рьера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9054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Но очень часто, молодые люди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делают свой выбор  стихийно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, не вникая в тонкости будущей профессии.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И тем самым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совершают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ошибки при ее выборе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4137120" cy="424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24360" y="366480"/>
            <a:ext cx="436392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Monotype Corsiva"/>
              </a:rPr>
              <a:t>Ошибка № 1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00000" y="5084640"/>
            <a:ext cx="644364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Человека привлекает только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внешняя сторона 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профессии, без учета ее «мин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4319640" cy="4302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шибка №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10920" y="4868640"/>
            <a:ext cx="64278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знают ил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дооценивают медицинские противопоказа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существенные при выборе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3879720" y="1484280"/>
            <a:ext cx="38642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3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ечтают только о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сокой заработной пл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4825800" cy="4110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4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дут учить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 комп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друз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4896000" cy="3973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5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26920" y="4723920"/>
            <a:ext cx="621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едуют указания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ближайшего окружени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з учета собственных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370400" cy="4064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6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55640" y="4941360"/>
            <a:ext cx="62830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еносят позитивное отношение к человеку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представителю той или иной профессии – на саму проф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4679640" cy="37911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7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56000" y="4365360"/>
            <a:ext cx="640080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ыбирает профессию из соображений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ести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26920" y="2205000"/>
            <a:ext cx="6211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хотите быть успешными в жизни и проявить себя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работаем даль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228240"/>
            <a:ext cx="62118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 хотите быть успешными в жизни и проявить себя?!?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1280" y="134100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запомните, что для этого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195280" y="1773000"/>
            <a:ext cx="6761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Занятие, которое предполагает специальную подготовку и периодическую пере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граниченный вид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ло, выполняемое за определенное вознагр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бласть приложения духовных и физическ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ятельность, дающая человеку определенный социальный статус (популярные и непопулярные профе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Работа, которая направлена на пользу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897280" y="255600"/>
            <a:ext cx="57801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я 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6920" y="404640"/>
            <a:ext cx="62118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обладание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не поддавайтесь мелким тревогам и страха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ы можем позволить обстоятельствам управлять нашей жизнью, а можем сами управлять ею из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л Найтинге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Упорство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настойчивость, доведение начатого до конц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достойное достижение, незначительное или крупное, проходит свои стадии триумфа и тяжелого труда: начало, борьба и поб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хатма Га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Риско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готовность воспользоваться представившимся шансом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ьно забавно совершить невозмож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олт Ди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6354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Чувствительность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эмоциональный интеллект + интуиция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еряйте своим предчувствиям. Обычно они основываются на фактах, накопленных где-то в подс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йс  Бразе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Восприимчи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в первую очередь видеть светлую сторону в происходящем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получаете то, что вид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н Уотс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Коммуникабельн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талант устанавливать отношения с людьми)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отношение к тебе людей – всего лишь обратная сторона твоего хорошего отношени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орманн  Винсент 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сознание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знание своих сильных и слабых сторон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вы, мы дара лишены узреть себя с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берт Бер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 последний совет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что не все получится так, как запланируете. Но помните, то, что кажется невезением, зачастую оборачивается счастливым шансом. Как сказал Далай-лама: «Если вы не получили желаемое, это может оказаться удивительной удач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Удач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челов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людьми, их обслу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M3743"/>
          <p:cNvPicPr/>
          <p:nvPr/>
        </p:nvPicPr>
        <p:blipFill>
          <a:blip r:embed="rId1"/>
          <a:stretch/>
        </p:blipFill>
        <p:spPr>
          <a:xfrm>
            <a:off x="755640" y="1628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M3827"/>
          <p:cNvPicPr/>
          <p:nvPr/>
        </p:nvPicPr>
        <p:blipFill>
          <a:blip r:embed="rId2"/>
          <a:stretch/>
        </p:blipFill>
        <p:spPr>
          <a:xfrm>
            <a:off x="468360" y="4076640"/>
            <a:ext cx="238428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3839"/>
          <p:cNvPicPr/>
          <p:nvPr/>
        </p:nvPicPr>
        <p:blipFill>
          <a:blip r:embed="rId3"/>
          <a:stretch/>
        </p:blipFill>
        <p:spPr>
          <a:xfrm>
            <a:off x="3203640" y="4005360"/>
            <a:ext cx="2498760" cy="249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3806"/>
          <p:cNvPicPr/>
          <p:nvPr/>
        </p:nvPicPr>
        <p:blipFill>
          <a:blip r:embed="rId4"/>
          <a:stretch/>
        </p:blipFill>
        <p:spPr>
          <a:xfrm>
            <a:off x="3492360" y="16286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M3762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3759"/>
          <p:cNvPicPr/>
          <p:nvPr/>
        </p:nvPicPr>
        <p:blipFill>
          <a:blip r:embed="rId6"/>
          <a:stretch/>
        </p:blipFill>
        <p:spPr>
          <a:xfrm>
            <a:off x="6012000" y="398304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– тех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эксплуатация машин, мех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3750"/>
          <p:cNvPicPr/>
          <p:nvPr/>
        </p:nvPicPr>
        <p:blipFill>
          <a:blip r:embed="rId1"/>
          <a:stretch/>
        </p:blipFill>
        <p:spPr>
          <a:xfrm>
            <a:off x="468360" y="1989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M3756"/>
          <p:cNvPicPr/>
          <p:nvPr/>
        </p:nvPicPr>
        <p:blipFill>
          <a:blip r:embed="rId2"/>
          <a:stretch/>
        </p:blipFill>
        <p:spPr>
          <a:xfrm>
            <a:off x="2268360" y="429264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3765"/>
          <p:cNvPicPr/>
          <p:nvPr/>
        </p:nvPicPr>
        <p:blipFill>
          <a:blip r:embed="rId3"/>
          <a:stretch/>
        </p:blipFill>
        <p:spPr>
          <a:xfrm>
            <a:off x="3492360" y="1989000"/>
            <a:ext cx="2233800" cy="2233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3780"/>
          <p:cNvPicPr/>
          <p:nvPr/>
        </p:nvPicPr>
        <p:blipFill>
          <a:blip r:embed="rId4"/>
          <a:stretch/>
        </p:blipFill>
        <p:spPr>
          <a:xfrm>
            <a:off x="478800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M3841"/>
          <p:cNvPicPr/>
          <p:nvPr/>
        </p:nvPicPr>
        <p:blipFill>
          <a:blip r:embed="rId5"/>
          <a:stretch/>
        </p:blipFill>
        <p:spPr>
          <a:xfrm>
            <a:off x="6443640" y="19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 – знаковая система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цифр, формул,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M3821"/>
          <p:cNvPicPr/>
          <p:nvPr/>
        </p:nvPicPr>
        <p:blipFill>
          <a:blip r:embed="rId1"/>
          <a:stretch/>
        </p:blipFill>
        <p:spPr>
          <a:xfrm>
            <a:off x="468360" y="1628640"/>
            <a:ext cx="2519280" cy="229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3747"/>
          <p:cNvPicPr/>
          <p:nvPr/>
        </p:nvPicPr>
        <p:blipFill>
          <a:blip r:embed="rId2"/>
          <a:stretch/>
        </p:blipFill>
        <p:spPr>
          <a:xfrm>
            <a:off x="468360" y="3860640"/>
            <a:ext cx="25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3748"/>
          <p:cNvPicPr/>
          <p:nvPr/>
        </p:nvPicPr>
        <p:blipFill>
          <a:blip r:embed="rId3"/>
          <a:stretch/>
        </p:blipFill>
        <p:spPr>
          <a:xfrm>
            <a:off x="2987640" y="2133720"/>
            <a:ext cx="331164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M3742"/>
          <p:cNvPicPr/>
          <p:nvPr/>
        </p:nvPicPr>
        <p:blipFill>
          <a:blip r:embed="rId4"/>
          <a:stretch/>
        </p:blipFill>
        <p:spPr>
          <a:xfrm>
            <a:off x="6227640" y="1628640"/>
            <a:ext cx="2427480" cy="235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M3764"/>
          <p:cNvPicPr/>
          <p:nvPr/>
        </p:nvPicPr>
        <p:blipFill>
          <a:blip r:embed="rId5"/>
          <a:stretch/>
        </p:blipFill>
        <p:spPr>
          <a:xfrm>
            <a:off x="6300720" y="3933720"/>
            <a:ext cx="2352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440" y="0"/>
            <a:ext cx="9145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художественный образ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отображение действ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3744"/>
          <p:cNvPicPr/>
          <p:nvPr/>
        </p:nvPicPr>
        <p:blipFill>
          <a:blip r:embed="rId1"/>
          <a:stretch/>
        </p:blipFill>
        <p:spPr>
          <a:xfrm>
            <a:off x="3492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3754"/>
          <p:cNvPicPr/>
          <p:nvPr/>
        </p:nvPicPr>
        <p:blipFill>
          <a:blip r:embed="rId2"/>
          <a:stretch/>
        </p:blipFill>
        <p:spPr>
          <a:xfrm>
            <a:off x="1692360" y="4005360"/>
            <a:ext cx="2303280" cy="215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3788"/>
          <p:cNvPicPr/>
          <p:nvPr/>
        </p:nvPicPr>
        <p:blipFill>
          <a:blip r:embed="rId3"/>
          <a:stretch/>
        </p:blipFill>
        <p:spPr>
          <a:xfrm>
            <a:off x="6443640" y="1844640"/>
            <a:ext cx="2211480" cy="221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M3829"/>
          <p:cNvPicPr/>
          <p:nvPr/>
        </p:nvPicPr>
        <p:blipFill>
          <a:blip r:embed="rId4"/>
          <a:stretch/>
        </p:blipFill>
        <p:spPr>
          <a:xfrm>
            <a:off x="5219640" y="4005360"/>
            <a:ext cx="221148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3838"/>
          <p:cNvPicPr/>
          <p:nvPr/>
        </p:nvPicPr>
        <p:blipFill>
          <a:blip r:embed="rId5"/>
          <a:stretch/>
        </p:blipFill>
        <p:spPr>
          <a:xfrm>
            <a:off x="468360" y="1844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природа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M3834"/>
          <p:cNvPicPr/>
          <p:nvPr/>
        </p:nvPicPr>
        <p:blipFill>
          <a:blip r:embed="rId1"/>
          <a:stretch/>
        </p:blipFill>
        <p:spPr>
          <a:xfrm>
            <a:off x="46836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3799"/>
          <p:cNvPicPr/>
          <p:nvPr/>
        </p:nvPicPr>
        <p:blipFill>
          <a:blip r:embed="rId2"/>
          <a:stretch/>
        </p:blipFill>
        <p:spPr>
          <a:xfrm>
            <a:off x="6300720" y="1628640"/>
            <a:ext cx="2411640" cy="241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j0216724"/>
          <p:cNvPicPr/>
          <p:nvPr/>
        </p:nvPicPr>
        <p:blipFill>
          <a:blip r:embed="rId3"/>
          <a:stretch/>
        </p:blipFill>
        <p:spPr>
          <a:xfrm>
            <a:off x="3059280" y="2349360"/>
            <a:ext cx="3241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27280" y="692280"/>
            <a:ext cx="61214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У каждого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есть право получить любую профессию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, которая вам нравится. Однако это право, как показывает практика, порой очень трудно реализовать – не хватает знаний о самих профессиях, тех требованиях, которые она предъявляет к личности работающего.  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Как понять, подходит тебе выбранная профессия или нет?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Diagram 5"/>
          <p:cNvGrpSpPr/>
          <p:nvPr/>
        </p:nvGrpSpPr>
        <p:grpSpPr>
          <a:xfrm>
            <a:off x="978120" y="285480"/>
            <a:ext cx="6973560" cy="6162480"/>
            <a:chOff x="978120" y="285480"/>
            <a:chExt cx="6973560" cy="6162480"/>
          </a:xfrm>
        </p:grpSpPr>
        <p:sp>
          <p:nvSpPr>
            <p:cNvPr id="208" name="_s1028"/>
            <p:cNvSpPr/>
            <p:nvPr/>
          </p:nvSpPr>
          <p:spPr>
            <a:xfrm flipH="1" flipV="1">
              <a:off x="3071520" y="2488320"/>
              <a:ext cx="69912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29"/>
            <p:cNvSpPr/>
            <p:nvPr/>
          </p:nvSpPr>
          <p:spPr>
            <a:xfrm>
              <a:off x="1492200" y="119052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Информирова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30"/>
            <p:cNvSpPr/>
            <p:nvPr/>
          </p:nvSpPr>
          <p:spPr>
            <a:xfrm flipH="1">
              <a:off x="2731680" y="3662640"/>
              <a:ext cx="867600" cy="18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31"/>
            <p:cNvSpPr/>
            <p:nvPr/>
          </p:nvSpPr>
          <p:spPr>
            <a:xfrm>
              <a:off x="978120" y="322092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Уровен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ритяз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 flipH="1">
              <a:off x="3695400" y="4205160"/>
              <a:ext cx="383760" cy="72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3"/>
            <p:cNvSpPr/>
            <p:nvPr/>
          </p:nvSpPr>
          <p:spPr>
            <a:xfrm>
              <a:off x="241992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товарищей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>
              <a:off x="4848480" y="4205160"/>
              <a:ext cx="389160" cy="72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5"/>
            <p:cNvSpPr/>
            <p:nvPr/>
          </p:nvSpPr>
          <p:spPr>
            <a:xfrm>
              <a:off x="473436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одите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5328720" y="3662640"/>
              <a:ext cx="87048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7"/>
            <p:cNvSpPr/>
            <p:nvPr/>
          </p:nvSpPr>
          <p:spPr>
            <a:xfrm>
              <a:off x="6175440" y="3218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отре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ынк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8"/>
            <p:cNvSpPr/>
            <p:nvPr/>
          </p:nvSpPr>
          <p:spPr>
            <a:xfrm flipV="1">
              <a:off x="5157000" y="2486520"/>
              <a:ext cx="69588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9"/>
            <p:cNvSpPr/>
            <p:nvPr/>
          </p:nvSpPr>
          <p:spPr>
            <a:xfrm>
              <a:off x="5658480" y="118836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Способ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40"/>
            <p:cNvSpPr/>
            <p:nvPr/>
          </p:nvSpPr>
          <p:spPr>
            <a:xfrm flipV="1">
              <a:off x="4464000" y="188496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3575520" y="28548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Arial"/>
                </a:rPr>
                <a:t>Скло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42"/>
            <p:cNvSpPr/>
            <p:nvPr/>
          </p:nvSpPr>
          <p:spPr>
            <a:xfrm>
              <a:off x="3575520" y="2687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Что необходим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учитывать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9:46:18Z</dcterms:created>
  <dc:creator>Жанна Юрьева</dc:creator>
  <dc:description/>
  <dc:language>en-US</dc:language>
  <cp:lastModifiedBy>ZooM</cp:lastModifiedBy>
  <dcterms:modified xsi:type="dcterms:W3CDTF">2013-11-07T18:30:54Z</dcterms:modified>
  <cp:revision>20</cp:revision>
  <dc:subject/>
  <dc:title>Профессия -</dc:title>
</cp:coreProperties>
</file>