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493-2432-4A14-85EA-D65B5479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2DE-6958-4C77-A8C5-B1943C88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E79-E579-43B5-810F-B039DA88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273-8134-4002-B10A-312F2849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3291-005B-45F4-AEAA-AE775EAC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BDF5-1F9F-41B3-854C-EC59C5CF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A3DA-1F5D-40EC-BB15-C4B2699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EA19-6AA6-4673-B826-E9BE187B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4515-9D1F-4C43-9AAF-128E7F37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9D9A-E0B2-4A41-8361-A93A749A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7DA5-77AB-4011-8470-C9C9212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195-0E77-4406-960A-6A0544C4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F345-C8F8-42C7-B03D-EEE421C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98D4-A4BE-426C-B24E-BBCD3D08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EF93-C814-4141-B52F-7ADE0E95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5B41-6E7B-4FD8-87D7-A60F2A5E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6B57-8DD6-47AC-984E-0220B307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9435-8206-4D31-8FD2-49BBABA0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B222-79F9-41C2-B8D4-6BE8A535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7C42-8FA5-45E2-A931-823BACB4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7703-5866-4CC7-8698-57E0A931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B14F-C0A6-4734-8F25-CAE7AFD1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F24-516B-44BC-A68E-6E62562E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4C77-6CB3-438E-A340-AD9CF34D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56F9-1E9F-4F1C-A545-7F14EE44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E2BA-6481-4D20-99A3-0DD3ADE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0CC2-EBD2-407D-A8AA-15F3C91F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2DBC-AF1B-45A8-BDE9-0AA26C47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1F051-022A-4879-B0A2-9AA59F60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DE42-961E-468E-A7F8-755341C0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050F-A36C-45E5-8E1F-AD49ACB9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5B28A-D9BB-4AE9-93BC-37DE8933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B89F-6E38-4DF1-8E98-6E16D8C5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448-12CD-4FA1-8D92-0231A219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7C147-0AB2-443C-9713-346490BE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C6E8-9963-4E3B-ABFE-8593C6AB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65DBA-A6C3-4ED7-A771-C0E12E4A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829D4-B8B7-4528-AB24-DE717FE6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7DF2-BA4D-40A7-B4CC-A33BCA1D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17AB-2ECC-42BF-8F35-0AF6BAA5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1B9D-FCA6-4131-9F57-08949052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4E56-7F52-4F20-BD9D-B0749E93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08D2-8588-4CC4-B083-A0EED8A5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C3C-5000-4460-A127-AB9CED4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52A-4F0A-48A2-BD1B-893B074E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23A-6046-41D8-8AA1-D1DDED1E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7DE-BEFA-4BC0-ACFF-EBBA4066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540-DECA-4837-9F86-4D831263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9FCE-0D0C-4B6D-ACDC-43647098A3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BEA-AC25-402E-8777-35C39BB3DE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6F91-56DF-46EE-B6CE-384C3C5027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5120-B61F-4CF3-8DAA-60D7D3DFD7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10"/>
          <p:cNvSpPr txBox="1"/>
          <p:nvPr/>
        </p:nvSpPr>
        <p:spPr>
          <a:xfrm>
            <a:off x="324000" y="260280"/>
            <a:ext cx="8424720" cy="619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28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воя </a:t>
            </a:r>
            <a:endParaRPr b="0" lang="en-US" sz="5400" spc="1" strike="noStrike">
              <a:ln w="12600">
                <a:solidFill>
                  <a:srgbClr val="660033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фессиональная </a:t>
            </a:r>
            <a:endParaRPr b="0" lang="en-US" sz="5400" spc="1" strike="noStrike">
              <a:ln w="12600">
                <a:solidFill>
                  <a:srgbClr val="660033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cc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рьера</a:t>
            </a:r>
            <a:endParaRPr b="0" lang="en-US" sz="5400" spc="1" strike="noStrike">
              <a:ln w="12600">
                <a:solidFill>
                  <a:srgbClr val="660033"/>
                </a:solidFill>
                <a:miter/>
              </a:ln>
              <a:solidFill>
                <a:srgbClr val="cc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90544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Но очень часто, молодые люди </a:t>
            </a: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делают свой выбор  стихийно</a:t>
            </a: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, не вникая в тонкости будущей профессии. 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И тем самым </a:t>
            </a: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совершают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Monotype Corsiva"/>
              </a:rPr>
              <a:t>ошибки при ее выборе</a:t>
            </a:r>
            <a:r>
              <a:rPr b="0" i="1" lang="ru-RU" sz="3200" spc="-1" strike="noStrike">
                <a:solidFill>
                  <a:srgbClr val="0000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4137120" cy="4248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24360" y="366480"/>
            <a:ext cx="436392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Monotype Corsiva"/>
              </a:rPr>
              <a:t>Ошибка № 1 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700000" y="5084640"/>
            <a:ext cx="644364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Человека привлекает только </a:t>
            </a:r>
            <a:r>
              <a:rPr b="1" lang="ru-RU" sz="2800" spc="-1" strike="noStrike">
                <a:solidFill>
                  <a:srgbClr val="000099"/>
                </a:solidFill>
                <a:latin typeface="Monotype Corsiva"/>
              </a:rPr>
              <a:t>внешняя сторона </a:t>
            </a: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профессии, без учета ее «мин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4319640" cy="43023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Ошибка №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10920" y="4868640"/>
            <a:ext cx="64278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 знают или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дооценивают медицинские противопоказа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существенные при выборе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3879720" y="1484280"/>
            <a:ext cx="3864240" cy="3889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3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828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ечтают только о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ысокой заработной пл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4825800" cy="4110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4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5013360"/>
            <a:ext cx="64008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дут учитьс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а комп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 друзь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4896000" cy="3973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5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26920" y="4723920"/>
            <a:ext cx="6211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ледуют указания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ближайшего окружени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ез учета собственных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4370400" cy="4064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6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55640" y="4941360"/>
            <a:ext cx="628308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ереносят позитивное отношение к человеку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представителю той или иной профессии – на саму профе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4679640" cy="37911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Ошибка № 7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56000" y="4365360"/>
            <a:ext cx="6400800" cy="22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ыбирает профессию из соображений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ести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626920" y="2205000"/>
            <a:ext cx="6211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хотите быть успешными в жизни и проявить себя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работаем дальш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26920" y="228240"/>
            <a:ext cx="6211800" cy="204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 хотите быть успешными в жизни и проявить себя?!?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11280" y="134100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запомните, что для этого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195280" y="1773000"/>
            <a:ext cx="6761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Занятие, которое предполагает специальную подготовку и периодическую переподгот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Ограниченный вид труд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Дело, выполняемое за определенное вознагра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Область приложения духовных и физическ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Деятельность, дающая человеку определенный социальный статус (популярные и непопулярные професс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Работа, которая направлена на пользу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2897280" y="255600"/>
            <a:ext cx="578016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фессия 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6920" y="404640"/>
            <a:ext cx="62118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амообладание 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не поддавайтесь мелким тревогам и страхам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ы можем позволить обстоятельствам управлять нашей жизнью, а можем сами управлять ею изну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л Найтинге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Упорство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настойчивость, доведение начатого до конца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55640" y="1600200"/>
            <a:ext cx="628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достойное достижение, незначительное или крупное, проходит свои стадии триумфа и тяжелого труда: начало, борьба и побе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хатма Ган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Рисковость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готовность воспользоваться представившимся шансом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ольно забавно совершить невозмож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олт Ди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4360" y="620640"/>
            <a:ext cx="635472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Чувствительность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(эмоциональный интеллект + интуиция)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веряйте своим предчувствиям. Обычно они основываются на фактах, накопленных где-то в подсозн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ойс  Бразе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Восприимчивость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в первую очередь видеть светлую сторону в происходящем)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получаете то, что вид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н Уотс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Коммуникабельность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талант устанавливать отношения с людьми)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ее отношение к тебе людей – всего лишь обратная сторона твоего хорошего отношения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орманн  Винсент 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амосознание </a:t>
            </a:r>
            <a:br>
              <a:rPr sz="3200"/>
            </a:b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(знание своих сильных и слабых сторон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вы, мы дара лишены узреть себя со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оберт Бер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 последний совет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что не все получится так, как запланируете. Но помните, то, что кажется невезением, зачастую оборачивается счастливым шансом. Как сказал Далай-лама: «Если вы не получили желаемое, это может оказаться удивительной удач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Удач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 – челов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 с людьми, их обслуж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M3743"/>
          <p:cNvPicPr/>
          <p:nvPr/>
        </p:nvPicPr>
        <p:blipFill>
          <a:blip r:embed="rId1"/>
          <a:stretch/>
        </p:blipFill>
        <p:spPr>
          <a:xfrm>
            <a:off x="755640" y="1628640"/>
            <a:ext cx="2206800" cy="24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M3827"/>
          <p:cNvPicPr/>
          <p:nvPr/>
        </p:nvPicPr>
        <p:blipFill>
          <a:blip r:embed="rId2"/>
          <a:stretch/>
        </p:blipFill>
        <p:spPr>
          <a:xfrm>
            <a:off x="468360" y="4076640"/>
            <a:ext cx="2384280" cy="244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M3839"/>
          <p:cNvPicPr/>
          <p:nvPr/>
        </p:nvPicPr>
        <p:blipFill>
          <a:blip r:embed="rId3"/>
          <a:stretch/>
        </p:blipFill>
        <p:spPr>
          <a:xfrm>
            <a:off x="3203640" y="4005360"/>
            <a:ext cx="2498760" cy="2498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M3806"/>
          <p:cNvPicPr/>
          <p:nvPr/>
        </p:nvPicPr>
        <p:blipFill>
          <a:blip r:embed="rId4"/>
          <a:stretch/>
        </p:blipFill>
        <p:spPr>
          <a:xfrm>
            <a:off x="3492360" y="16286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M3762"/>
          <p:cNvPicPr/>
          <p:nvPr/>
        </p:nvPicPr>
        <p:blipFill>
          <a:blip r:embed="rId5"/>
          <a:stretch/>
        </p:blipFill>
        <p:spPr>
          <a:xfrm>
            <a:off x="6300720" y="1628640"/>
            <a:ext cx="237492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M3759"/>
          <p:cNvPicPr/>
          <p:nvPr/>
        </p:nvPicPr>
        <p:blipFill>
          <a:blip r:embed="rId6"/>
          <a:stretch/>
        </p:blipFill>
        <p:spPr>
          <a:xfrm>
            <a:off x="6012000" y="398304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– тех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эксплуатация машин, мех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M3750"/>
          <p:cNvPicPr/>
          <p:nvPr/>
        </p:nvPicPr>
        <p:blipFill>
          <a:blip r:embed="rId1"/>
          <a:stretch/>
        </p:blipFill>
        <p:spPr>
          <a:xfrm>
            <a:off x="468360" y="1989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M3756"/>
          <p:cNvPicPr/>
          <p:nvPr/>
        </p:nvPicPr>
        <p:blipFill>
          <a:blip r:embed="rId2"/>
          <a:stretch/>
        </p:blipFill>
        <p:spPr>
          <a:xfrm>
            <a:off x="2268360" y="4292640"/>
            <a:ext cx="22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M3765"/>
          <p:cNvPicPr/>
          <p:nvPr/>
        </p:nvPicPr>
        <p:blipFill>
          <a:blip r:embed="rId3"/>
          <a:stretch/>
        </p:blipFill>
        <p:spPr>
          <a:xfrm>
            <a:off x="3492360" y="1989000"/>
            <a:ext cx="2233800" cy="2233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M3780"/>
          <p:cNvPicPr/>
          <p:nvPr/>
        </p:nvPicPr>
        <p:blipFill>
          <a:blip r:embed="rId4"/>
          <a:stretch/>
        </p:blipFill>
        <p:spPr>
          <a:xfrm>
            <a:off x="4788000" y="4292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M3841"/>
          <p:cNvPicPr/>
          <p:nvPr/>
        </p:nvPicPr>
        <p:blipFill>
          <a:blip r:embed="rId5"/>
          <a:stretch/>
        </p:blipFill>
        <p:spPr>
          <a:xfrm>
            <a:off x="6443640" y="1989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еловек – знаковая система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цифр, формул, зн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M3821"/>
          <p:cNvPicPr/>
          <p:nvPr/>
        </p:nvPicPr>
        <p:blipFill>
          <a:blip r:embed="rId1"/>
          <a:stretch/>
        </p:blipFill>
        <p:spPr>
          <a:xfrm>
            <a:off x="468360" y="1628640"/>
            <a:ext cx="2519280" cy="2291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M3747"/>
          <p:cNvPicPr/>
          <p:nvPr/>
        </p:nvPicPr>
        <p:blipFill>
          <a:blip r:embed="rId2"/>
          <a:stretch/>
        </p:blipFill>
        <p:spPr>
          <a:xfrm>
            <a:off x="468360" y="3860640"/>
            <a:ext cx="2519280" cy="230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M3748"/>
          <p:cNvPicPr/>
          <p:nvPr/>
        </p:nvPicPr>
        <p:blipFill>
          <a:blip r:embed="rId3"/>
          <a:stretch/>
        </p:blipFill>
        <p:spPr>
          <a:xfrm>
            <a:off x="2987640" y="2133720"/>
            <a:ext cx="331164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M3742"/>
          <p:cNvPicPr/>
          <p:nvPr/>
        </p:nvPicPr>
        <p:blipFill>
          <a:blip r:embed="rId4"/>
          <a:stretch/>
        </p:blipFill>
        <p:spPr>
          <a:xfrm>
            <a:off x="6227640" y="1628640"/>
            <a:ext cx="2427480" cy="235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M3764"/>
          <p:cNvPicPr/>
          <p:nvPr/>
        </p:nvPicPr>
        <p:blipFill>
          <a:blip r:embed="rId5"/>
          <a:stretch/>
        </p:blipFill>
        <p:spPr>
          <a:xfrm>
            <a:off x="6300720" y="3933720"/>
            <a:ext cx="23526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440" y="0"/>
            <a:ext cx="9145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 – художественный образ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ественное отображение действи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M3744"/>
          <p:cNvPicPr/>
          <p:nvPr/>
        </p:nvPicPr>
        <p:blipFill>
          <a:blip r:embed="rId1"/>
          <a:stretch/>
        </p:blipFill>
        <p:spPr>
          <a:xfrm>
            <a:off x="3492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M3754"/>
          <p:cNvPicPr/>
          <p:nvPr/>
        </p:nvPicPr>
        <p:blipFill>
          <a:blip r:embed="rId2"/>
          <a:stretch/>
        </p:blipFill>
        <p:spPr>
          <a:xfrm>
            <a:off x="1692360" y="4005360"/>
            <a:ext cx="2303280" cy="2158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M3788"/>
          <p:cNvPicPr/>
          <p:nvPr/>
        </p:nvPicPr>
        <p:blipFill>
          <a:blip r:embed="rId3"/>
          <a:stretch/>
        </p:blipFill>
        <p:spPr>
          <a:xfrm>
            <a:off x="6443640" y="1844640"/>
            <a:ext cx="2211480" cy="2211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M3829"/>
          <p:cNvPicPr/>
          <p:nvPr/>
        </p:nvPicPr>
        <p:blipFill>
          <a:blip r:embed="rId4"/>
          <a:stretch/>
        </p:blipFill>
        <p:spPr>
          <a:xfrm>
            <a:off x="5219640" y="4005360"/>
            <a:ext cx="2211480" cy="21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M3838"/>
          <p:cNvPicPr/>
          <p:nvPr/>
        </p:nvPicPr>
        <p:blipFill>
          <a:blip r:embed="rId5"/>
          <a:stretch/>
        </p:blipFill>
        <p:spPr>
          <a:xfrm>
            <a:off x="468360" y="1844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Человек – природа 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M3834"/>
          <p:cNvPicPr/>
          <p:nvPr/>
        </p:nvPicPr>
        <p:blipFill>
          <a:blip r:embed="rId1"/>
          <a:stretch/>
        </p:blipFill>
        <p:spPr>
          <a:xfrm>
            <a:off x="468360" y="1628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M3799"/>
          <p:cNvPicPr/>
          <p:nvPr/>
        </p:nvPicPr>
        <p:blipFill>
          <a:blip r:embed="rId2"/>
          <a:stretch/>
        </p:blipFill>
        <p:spPr>
          <a:xfrm>
            <a:off x="6300720" y="1628640"/>
            <a:ext cx="2411640" cy="2411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j0216724"/>
          <p:cNvPicPr/>
          <p:nvPr/>
        </p:nvPicPr>
        <p:blipFill>
          <a:blip r:embed="rId3"/>
          <a:stretch/>
        </p:blipFill>
        <p:spPr>
          <a:xfrm>
            <a:off x="3059280" y="2349360"/>
            <a:ext cx="32414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27280" y="692280"/>
            <a:ext cx="612144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У каждого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есть право получить любую профессию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, которая вам нравится. Однако это право, как показывает практика, порой очень трудно реализовать – не хватает знаний о самих профессиях, тех требованиях, которые она предъявляет к личности работающего.  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Как понять, подходит тебе выбранная профессия или нет?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Diagram 5"/>
          <p:cNvGrpSpPr/>
          <p:nvPr/>
        </p:nvGrpSpPr>
        <p:grpSpPr>
          <a:xfrm>
            <a:off x="978120" y="285480"/>
            <a:ext cx="6973560" cy="6162480"/>
            <a:chOff x="978120" y="285480"/>
            <a:chExt cx="6973560" cy="6162480"/>
          </a:xfrm>
        </p:grpSpPr>
        <p:sp>
          <p:nvSpPr>
            <p:cNvPr id="208" name="_s1028"/>
            <p:cNvSpPr/>
            <p:nvPr/>
          </p:nvSpPr>
          <p:spPr>
            <a:xfrm flipH="1" flipV="1">
              <a:off x="3071520" y="2488320"/>
              <a:ext cx="699120" cy="49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029"/>
            <p:cNvSpPr/>
            <p:nvPr/>
          </p:nvSpPr>
          <p:spPr>
            <a:xfrm>
              <a:off x="1492200" y="1190520"/>
              <a:ext cx="177696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Информирова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30"/>
            <p:cNvSpPr/>
            <p:nvPr/>
          </p:nvSpPr>
          <p:spPr>
            <a:xfrm flipH="1">
              <a:off x="2731680" y="3662640"/>
              <a:ext cx="867600" cy="18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031"/>
            <p:cNvSpPr/>
            <p:nvPr/>
          </p:nvSpPr>
          <p:spPr>
            <a:xfrm>
              <a:off x="978120" y="3220920"/>
              <a:ext cx="177624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Уровен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притяза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2"/>
            <p:cNvSpPr/>
            <p:nvPr/>
          </p:nvSpPr>
          <p:spPr>
            <a:xfrm flipH="1">
              <a:off x="3695400" y="4205160"/>
              <a:ext cx="383760" cy="72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033"/>
            <p:cNvSpPr/>
            <p:nvPr/>
          </p:nvSpPr>
          <p:spPr>
            <a:xfrm>
              <a:off x="2419920" y="4848480"/>
              <a:ext cx="177624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Мн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товарищей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4"/>
            <p:cNvSpPr/>
            <p:nvPr/>
          </p:nvSpPr>
          <p:spPr>
            <a:xfrm>
              <a:off x="4848480" y="4205160"/>
              <a:ext cx="389160" cy="72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5"/>
            <p:cNvSpPr/>
            <p:nvPr/>
          </p:nvSpPr>
          <p:spPr>
            <a:xfrm>
              <a:off x="4734360" y="4848480"/>
              <a:ext cx="177624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М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родите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>
              <a:off x="5328720" y="3662640"/>
              <a:ext cx="870480" cy="17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37"/>
            <p:cNvSpPr/>
            <p:nvPr/>
          </p:nvSpPr>
          <p:spPr>
            <a:xfrm>
              <a:off x="6175440" y="3218400"/>
              <a:ext cx="1776240" cy="1599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Потреб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рынка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38"/>
            <p:cNvSpPr/>
            <p:nvPr/>
          </p:nvSpPr>
          <p:spPr>
            <a:xfrm flipV="1">
              <a:off x="5157000" y="2486520"/>
              <a:ext cx="695880" cy="5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9"/>
            <p:cNvSpPr/>
            <p:nvPr/>
          </p:nvSpPr>
          <p:spPr>
            <a:xfrm>
              <a:off x="5658480" y="1188360"/>
              <a:ext cx="1776960" cy="159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993366"/>
                  </a:solidFill>
                  <a:latin typeface="Arial"/>
                </a:rPr>
                <a:t>Способ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40"/>
            <p:cNvSpPr/>
            <p:nvPr/>
          </p:nvSpPr>
          <p:spPr>
            <a:xfrm flipV="1">
              <a:off x="4464000" y="188496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41"/>
            <p:cNvSpPr/>
            <p:nvPr/>
          </p:nvSpPr>
          <p:spPr>
            <a:xfrm>
              <a:off x="3575520" y="285480"/>
              <a:ext cx="1776240" cy="1599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Arial"/>
                </a:rPr>
                <a:t>Склон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42"/>
            <p:cNvSpPr/>
            <p:nvPr/>
          </p:nvSpPr>
          <p:spPr>
            <a:xfrm>
              <a:off x="3575520" y="2687400"/>
              <a:ext cx="1776240" cy="1599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0033"/>
                  </a:solidFill>
                  <a:latin typeface="Arial"/>
                </a:rPr>
                <a:t>Что необходим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60033"/>
                  </a:solidFill>
                  <a:latin typeface="Arial"/>
                </a:rPr>
                <a:t>учитывать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09:46:18Z</dcterms:created>
  <dc:creator>Жанна Юрьева</dc:creator>
  <dc:description/>
  <dc:language>en-US</dc:language>
  <cp:lastModifiedBy>ZooM</cp:lastModifiedBy>
  <dcterms:modified xsi:type="dcterms:W3CDTF">2013-11-07T18:30:54Z</dcterms:modified>
  <cp:revision>20</cp:revision>
  <dc:subject/>
  <dc:title>Профессия -</dc:title>
</cp:coreProperties>
</file>