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10A-B965-4A82-BF54-07C5776C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6DE-9FF5-4DCD-A77F-6EF12C1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FEE-A9C8-4569-B6F0-10EC10C8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4BB-225D-448E-9648-0EECD23E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99E-28A5-4237-AD61-AD8C2471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DB2-7FC6-4FC5-98FE-F67AB91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C6BA-B3A1-44E4-905F-62CE9515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8174-EB7B-4FBB-B5CE-25D16783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8FEF-735E-4C96-A8C3-66DD56D5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47C2-34A0-4C35-A04B-1A6F678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1E48-C414-4045-AB4F-04DC4B1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FD6-D0F6-4A85-9648-358FBFA0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7EC-61E5-4628-8FDC-81E95C8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468-85A8-4CD6-8F69-D625FDFC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F44A-F8AB-4E89-94DB-6656FB52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398-560A-420B-87B5-A300E13F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ECA-EEAD-4988-A4AA-4F4126B2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1B58-FE5B-4ED4-8B89-58794C2A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C19B-CCBA-4648-905C-B2E038AC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9E5D-A6C9-4AD1-A1C4-129F6513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9B91-A999-4A1F-BE91-311A666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03D5-3F5C-42D6-8CA1-6253002A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F34-9067-4800-B2D9-164086F4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AE88-4C31-4E45-89D4-343F1BD4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13A4A-5A14-4E66-94B9-D9801DB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84BA-602E-42EB-B6E4-85E6B20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82F1-DE8F-40CD-9CBA-6E6DCF4E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DB7C-DB9A-4EF8-BDB1-4EF66995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4DF0-C6B7-4635-9F07-93948A59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09FD-68B0-4F3D-8F1D-D8353445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6073-A7D3-48FC-8336-EE292A68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63E0-550D-4249-A56A-E905AA1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297C-9361-4808-8F08-D1BB4149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E36-0816-4C73-88B7-24DB6DB3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81AB-CEE4-47D2-924C-C32F504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3185-7E0F-4A64-B904-D6670402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B222-C3F4-46AE-98D1-925A3A57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A07A-B55A-4E15-880A-E27A6F9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90DB-28FD-4E10-AE3F-AF51F0F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F6C5-B637-43EE-BF8E-21512C3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F709-2320-433F-B6F6-877981E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2DA1-4151-428D-A2AE-5B56E44E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B78F-3B44-41B2-81C9-534FC86E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BDE-6A77-49B4-AEE8-1488A62F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6A4-2A96-4CBC-87BD-D8C1719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F55-668C-40A4-8F67-73DC80C0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0ED-588B-428A-88F7-D98A6E7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8EE-1B07-46A1-84DC-3BD0B3C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3785-DC43-47D9-8178-3898E9250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475-FE97-4B8F-A631-BE391C7BB2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2E2-5F9D-42DE-BFC4-58B4A0DA4B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A86-DEEA-4EC8-8C9E-F1D3C96AA8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10"/>
          <p:cNvSpPr txBox="1"/>
          <p:nvPr/>
        </p:nvSpPr>
        <p:spPr>
          <a:xfrm>
            <a:off x="324000" y="260280"/>
            <a:ext cx="842472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ональна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рьера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9054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Но очень часто, молодые люди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делают свой выбор  стихийно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, не вникая в тонкости будущей профессии.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И тем самым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совершают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ошибки при ее выборе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4137120" cy="424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24360" y="366480"/>
            <a:ext cx="436392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Monotype Corsiva"/>
              </a:rPr>
              <a:t>Ошибка № 1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00000" y="5084640"/>
            <a:ext cx="644364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Человека привлекает только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внешняя сторона 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профессии, без учета ее «мин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4319640" cy="4302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шибка №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10920" y="4868640"/>
            <a:ext cx="64278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знают ил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дооценивают медицинские противопоказа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существенные при выборе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3879720" y="1484280"/>
            <a:ext cx="38642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3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ечтают только о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сокой заработной пл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4825800" cy="4110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4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дут учить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 комп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друз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4896000" cy="3973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5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26920" y="4723920"/>
            <a:ext cx="621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едуют указания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ближайшего окружени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з учета собственных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370400" cy="4064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6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55640" y="4941360"/>
            <a:ext cx="62830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еносят позитивное отношение к человеку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представителю той или иной профессии – на саму проф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4679640" cy="37911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7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56000" y="4365360"/>
            <a:ext cx="640080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ыбирает профессию из соображений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ести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26920" y="2205000"/>
            <a:ext cx="6211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хотите быть успешными в жизни и проявить себя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работаем даль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228240"/>
            <a:ext cx="62118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 хотите быть успешными в жизни и проявить себя?!?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1280" y="134100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запомните, что для этого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195280" y="1773000"/>
            <a:ext cx="6761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Занятие, которое предполагает специальную подготовку и периодическую пере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граниченный вид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ло, выполняемое за определенное вознагр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бласть приложения духовных и физическ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ятельность, дающая человеку определенный социальный статус (популярные и непопулярные профе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Работа, которая направлена на пользу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897280" y="255600"/>
            <a:ext cx="57801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я 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6920" y="404640"/>
            <a:ext cx="62118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обладание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не поддавайтесь мелким тревогам и страха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ы можем позволить обстоятельствам управлять нашей жизнью, а можем сами управлять ею из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л Найтинге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Упорство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настойчивость, доведение начатого до конц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достойное достижение, незначительное или крупное, проходит свои стадии триумфа и тяжелого труда: начало, борьба и поб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хатма Га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Риско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готовность воспользоваться представившимся шансом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ьно забавно совершить невозмож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олт Ди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6354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Чувствительность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эмоциональный интеллект + интуиция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еряйте своим предчувствиям. Обычно они основываются на фактах, накопленных где-то в подс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йс  Бразе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Восприимчи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в первую очередь видеть светлую сторону в происходящем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получаете то, что вид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н Уотс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Коммуникабельн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талант устанавливать отношения с людьми)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отношение к тебе людей – всего лишь обратная сторона твоего хорошего отношени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орманн  Винсент 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сознание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знание своих сильных и слабых сторон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вы, мы дара лишены узреть себя с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берт Бер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 последний совет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что не все получится так, как запланируете. Но помните, то, что кажется невезением, зачастую оборачивается счастливым шансом. Как сказал Далай-лама: «Если вы не получили желаемое, это может оказаться удивительной удач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Удач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челов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людьми, их обслу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M3743"/>
          <p:cNvPicPr/>
          <p:nvPr/>
        </p:nvPicPr>
        <p:blipFill>
          <a:blip r:embed="rId1"/>
          <a:stretch/>
        </p:blipFill>
        <p:spPr>
          <a:xfrm>
            <a:off x="755640" y="1628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M3827"/>
          <p:cNvPicPr/>
          <p:nvPr/>
        </p:nvPicPr>
        <p:blipFill>
          <a:blip r:embed="rId2"/>
          <a:stretch/>
        </p:blipFill>
        <p:spPr>
          <a:xfrm>
            <a:off x="468360" y="4076640"/>
            <a:ext cx="238428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3839"/>
          <p:cNvPicPr/>
          <p:nvPr/>
        </p:nvPicPr>
        <p:blipFill>
          <a:blip r:embed="rId3"/>
          <a:stretch/>
        </p:blipFill>
        <p:spPr>
          <a:xfrm>
            <a:off x="3203640" y="4005360"/>
            <a:ext cx="2498760" cy="249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3806"/>
          <p:cNvPicPr/>
          <p:nvPr/>
        </p:nvPicPr>
        <p:blipFill>
          <a:blip r:embed="rId4"/>
          <a:stretch/>
        </p:blipFill>
        <p:spPr>
          <a:xfrm>
            <a:off x="3492360" y="16286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M3762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3759"/>
          <p:cNvPicPr/>
          <p:nvPr/>
        </p:nvPicPr>
        <p:blipFill>
          <a:blip r:embed="rId6"/>
          <a:stretch/>
        </p:blipFill>
        <p:spPr>
          <a:xfrm>
            <a:off x="6012000" y="398304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– тех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эксплуатация машин, мех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3750"/>
          <p:cNvPicPr/>
          <p:nvPr/>
        </p:nvPicPr>
        <p:blipFill>
          <a:blip r:embed="rId1"/>
          <a:stretch/>
        </p:blipFill>
        <p:spPr>
          <a:xfrm>
            <a:off x="468360" y="1989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M3756"/>
          <p:cNvPicPr/>
          <p:nvPr/>
        </p:nvPicPr>
        <p:blipFill>
          <a:blip r:embed="rId2"/>
          <a:stretch/>
        </p:blipFill>
        <p:spPr>
          <a:xfrm>
            <a:off x="2268360" y="429264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3765"/>
          <p:cNvPicPr/>
          <p:nvPr/>
        </p:nvPicPr>
        <p:blipFill>
          <a:blip r:embed="rId3"/>
          <a:stretch/>
        </p:blipFill>
        <p:spPr>
          <a:xfrm>
            <a:off x="3492360" y="1989000"/>
            <a:ext cx="2233800" cy="2233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3780"/>
          <p:cNvPicPr/>
          <p:nvPr/>
        </p:nvPicPr>
        <p:blipFill>
          <a:blip r:embed="rId4"/>
          <a:stretch/>
        </p:blipFill>
        <p:spPr>
          <a:xfrm>
            <a:off x="478800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M3841"/>
          <p:cNvPicPr/>
          <p:nvPr/>
        </p:nvPicPr>
        <p:blipFill>
          <a:blip r:embed="rId5"/>
          <a:stretch/>
        </p:blipFill>
        <p:spPr>
          <a:xfrm>
            <a:off x="6443640" y="19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 – знаковая система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цифр, формул,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M3821"/>
          <p:cNvPicPr/>
          <p:nvPr/>
        </p:nvPicPr>
        <p:blipFill>
          <a:blip r:embed="rId1"/>
          <a:stretch/>
        </p:blipFill>
        <p:spPr>
          <a:xfrm>
            <a:off x="468360" y="1628640"/>
            <a:ext cx="2519280" cy="229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3747"/>
          <p:cNvPicPr/>
          <p:nvPr/>
        </p:nvPicPr>
        <p:blipFill>
          <a:blip r:embed="rId2"/>
          <a:stretch/>
        </p:blipFill>
        <p:spPr>
          <a:xfrm>
            <a:off x="468360" y="3860640"/>
            <a:ext cx="25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3748"/>
          <p:cNvPicPr/>
          <p:nvPr/>
        </p:nvPicPr>
        <p:blipFill>
          <a:blip r:embed="rId3"/>
          <a:stretch/>
        </p:blipFill>
        <p:spPr>
          <a:xfrm>
            <a:off x="2987640" y="2133720"/>
            <a:ext cx="331164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M3742"/>
          <p:cNvPicPr/>
          <p:nvPr/>
        </p:nvPicPr>
        <p:blipFill>
          <a:blip r:embed="rId4"/>
          <a:stretch/>
        </p:blipFill>
        <p:spPr>
          <a:xfrm>
            <a:off x="6227640" y="1628640"/>
            <a:ext cx="2427480" cy="235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M3764"/>
          <p:cNvPicPr/>
          <p:nvPr/>
        </p:nvPicPr>
        <p:blipFill>
          <a:blip r:embed="rId5"/>
          <a:stretch/>
        </p:blipFill>
        <p:spPr>
          <a:xfrm>
            <a:off x="6300720" y="3933720"/>
            <a:ext cx="2352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440" y="0"/>
            <a:ext cx="9145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художественный образ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отображение действ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3744"/>
          <p:cNvPicPr/>
          <p:nvPr/>
        </p:nvPicPr>
        <p:blipFill>
          <a:blip r:embed="rId1"/>
          <a:stretch/>
        </p:blipFill>
        <p:spPr>
          <a:xfrm>
            <a:off x="3492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3754"/>
          <p:cNvPicPr/>
          <p:nvPr/>
        </p:nvPicPr>
        <p:blipFill>
          <a:blip r:embed="rId2"/>
          <a:stretch/>
        </p:blipFill>
        <p:spPr>
          <a:xfrm>
            <a:off x="1692360" y="4005360"/>
            <a:ext cx="2303280" cy="215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3788"/>
          <p:cNvPicPr/>
          <p:nvPr/>
        </p:nvPicPr>
        <p:blipFill>
          <a:blip r:embed="rId3"/>
          <a:stretch/>
        </p:blipFill>
        <p:spPr>
          <a:xfrm>
            <a:off x="6443640" y="1844640"/>
            <a:ext cx="2211480" cy="221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M3829"/>
          <p:cNvPicPr/>
          <p:nvPr/>
        </p:nvPicPr>
        <p:blipFill>
          <a:blip r:embed="rId4"/>
          <a:stretch/>
        </p:blipFill>
        <p:spPr>
          <a:xfrm>
            <a:off x="5219640" y="4005360"/>
            <a:ext cx="221148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3838"/>
          <p:cNvPicPr/>
          <p:nvPr/>
        </p:nvPicPr>
        <p:blipFill>
          <a:blip r:embed="rId5"/>
          <a:stretch/>
        </p:blipFill>
        <p:spPr>
          <a:xfrm>
            <a:off x="468360" y="1844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природа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M3834"/>
          <p:cNvPicPr/>
          <p:nvPr/>
        </p:nvPicPr>
        <p:blipFill>
          <a:blip r:embed="rId1"/>
          <a:stretch/>
        </p:blipFill>
        <p:spPr>
          <a:xfrm>
            <a:off x="46836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3799"/>
          <p:cNvPicPr/>
          <p:nvPr/>
        </p:nvPicPr>
        <p:blipFill>
          <a:blip r:embed="rId2"/>
          <a:stretch/>
        </p:blipFill>
        <p:spPr>
          <a:xfrm>
            <a:off x="6300720" y="1628640"/>
            <a:ext cx="2411640" cy="241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j0216724"/>
          <p:cNvPicPr/>
          <p:nvPr/>
        </p:nvPicPr>
        <p:blipFill>
          <a:blip r:embed="rId3"/>
          <a:stretch/>
        </p:blipFill>
        <p:spPr>
          <a:xfrm>
            <a:off x="3059280" y="2349360"/>
            <a:ext cx="3241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27280" y="692280"/>
            <a:ext cx="61214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У каждого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есть право получить любую профессию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, которая вам нравится. Однако это право, как показывает практика, порой очень трудно реализовать – не хватает знаний о самих профессиях, тех требованиях, которые она предъявляет к личности работающего.  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Как понять, подходит тебе выбранная профессия или нет?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Diagram 5"/>
          <p:cNvGrpSpPr/>
          <p:nvPr/>
        </p:nvGrpSpPr>
        <p:grpSpPr>
          <a:xfrm>
            <a:off x="978120" y="285480"/>
            <a:ext cx="6973560" cy="6162480"/>
            <a:chOff x="978120" y="285480"/>
            <a:chExt cx="6973560" cy="6162480"/>
          </a:xfrm>
        </p:grpSpPr>
        <p:sp>
          <p:nvSpPr>
            <p:cNvPr id="208" name="_s1028"/>
            <p:cNvSpPr/>
            <p:nvPr/>
          </p:nvSpPr>
          <p:spPr>
            <a:xfrm flipH="1" flipV="1">
              <a:off x="3071520" y="2488320"/>
              <a:ext cx="69912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29"/>
            <p:cNvSpPr/>
            <p:nvPr/>
          </p:nvSpPr>
          <p:spPr>
            <a:xfrm>
              <a:off x="1492200" y="119052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Информирова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30"/>
            <p:cNvSpPr/>
            <p:nvPr/>
          </p:nvSpPr>
          <p:spPr>
            <a:xfrm flipH="1">
              <a:off x="2731680" y="3662640"/>
              <a:ext cx="867600" cy="18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31"/>
            <p:cNvSpPr/>
            <p:nvPr/>
          </p:nvSpPr>
          <p:spPr>
            <a:xfrm>
              <a:off x="978120" y="322092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Уровен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ритяз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 flipH="1">
              <a:off x="3695400" y="4205160"/>
              <a:ext cx="383760" cy="72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3"/>
            <p:cNvSpPr/>
            <p:nvPr/>
          </p:nvSpPr>
          <p:spPr>
            <a:xfrm>
              <a:off x="241992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товарищей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>
              <a:off x="4848480" y="4205160"/>
              <a:ext cx="389160" cy="72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5"/>
            <p:cNvSpPr/>
            <p:nvPr/>
          </p:nvSpPr>
          <p:spPr>
            <a:xfrm>
              <a:off x="473436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одите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5328720" y="3662640"/>
              <a:ext cx="87048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7"/>
            <p:cNvSpPr/>
            <p:nvPr/>
          </p:nvSpPr>
          <p:spPr>
            <a:xfrm>
              <a:off x="6175440" y="3218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отре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ынк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8"/>
            <p:cNvSpPr/>
            <p:nvPr/>
          </p:nvSpPr>
          <p:spPr>
            <a:xfrm flipV="1">
              <a:off x="5157000" y="2486520"/>
              <a:ext cx="69588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9"/>
            <p:cNvSpPr/>
            <p:nvPr/>
          </p:nvSpPr>
          <p:spPr>
            <a:xfrm>
              <a:off x="5658480" y="118836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Способ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40"/>
            <p:cNvSpPr/>
            <p:nvPr/>
          </p:nvSpPr>
          <p:spPr>
            <a:xfrm flipV="1">
              <a:off x="4464000" y="188496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3575520" y="28548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Arial"/>
                </a:rPr>
                <a:t>Скло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42"/>
            <p:cNvSpPr/>
            <p:nvPr/>
          </p:nvSpPr>
          <p:spPr>
            <a:xfrm>
              <a:off x="3575520" y="2687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Что необходим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учитывать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9:46:18Z</dcterms:created>
  <dc:creator>Жанна Юрьева</dc:creator>
  <dc:description/>
  <dc:language>en-US</dc:language>
  <cp:lastModifiedBy>ZooM</cp:lastModifiedBy>
  <dcterms:modified xsi:type="dcterms:W3CDTF">2013-11-07T18:30:54Z</dcterms:modified>
  <cp:revision>20</cp:revision>
  <dc:subject/>
  <dc:title>Профессия -</dc:title>
</cp:coreProperties>
</file>